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033009-FEE4-4F8A-9D98-C3F5C931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not even implemented in re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easy to implement multi-level power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roposes 8 levels: only one is implemented (to our knowle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: proposes 3 levels only one is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modify everything is utopic defacto-standards/architectures (TCP/IP) are very difficul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structure networ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: Reduce infrastructure cos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Ad Hoc has limited application, pure infrastructure can be expensive (specially over high frequency band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is reasonable: RF transceiver can cover areas from few meters to 20 miles (at different data rat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: respond rapidly to network variations (topology, link quality, …) and minimize resource consumption. This is the general framework for all wireless networks. How does clustering answer this n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s try to impose a control structure on the network of mobile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ta come from the Pmax/Pmin or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remember the gain we had us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ps. In a two dimensional space if we want to have h hops =&gt; N = h^2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: [Baker 1981, Ephremides 1987, Gerla 1995, Lin 1997, Raj?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 do not use connectivity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interface nodes may allow to have two cluster of nodes operating over different frequencies (reducing collisions) an multi-interface node operating as a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t all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layer needs info on status of the channel to nodes to decide on one or multiple hop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ing is good but only if you use it when necessary. Otherwise you have useless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on we will see how we can adapt by implicitly estimating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-W02 – 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 Hoc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70F7-FE3D-48DD-960C-98DC442DC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Multihop Ad Hoc Network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s of Multi-Hop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up-to-date information on the network topology? Routing message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rmine number of 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stimate buffer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congestion on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sub-problems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ing TCP to be wireless 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g in multi-hop wireless ad hoc networks: DSDV, DSR, AODV, TORA,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power or resource aware. Single hop whenever possible (no interaction with the MAC of higher la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gmenting packets according to the channe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coding/modulation scheme to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transmission power to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need for a global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: transmission power, coding, and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edium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 perspective: what minimal subset of functionalities do we need to implement to achieve near optimal perform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inimal set of coding/modulation schemes? What power levels do we ne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ting Protocols: DSD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-Sequenced Distance Ve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maintains a routing table list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next-hop, metric, SeqNum&gt;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avored route is changed if a new route with higher SeqNum is received, or if the new route has equal SeqNum and lower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send advertisement with evenly increased Seq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node detects a broken link he sends an advertisement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tric and SeqNum=PrevSeqNum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mping fluctu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ctuations are due to out-of-order arrival of route adverti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solution: maintain a settling time estimation for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with a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tric are advertised without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ynamic Source Routing 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draft-ietf-manet-dsr-05.txt:2001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routing into discovering a path and maintaining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f a path for sending packets to a certain destination is needed and no path is currently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a 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ile the path is in use, one has to make sure that it can be used continu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iodic updates need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ource Routing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adcast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oute Reque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cket with destination address and unique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station receives a broadcast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packet has already been received earlier (identified via ID) then discard the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wise, append own address and broadcast p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receives packet with the current path (address l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 broadcasting if maximum diameter of the network is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ing of address lists (i.e. paths) from passing packets (overhear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s can use the cached information for path discovery (own paths or paths for other host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Source Routing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ing pa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ending a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for a layer 2 acknowledgement (if applic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en into the medium to detect if other stations forward the packet (if possi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 an explicit ac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station encounters problems it can inform the sender of a packet or look-up a new path lo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uting Protocols: DSR and FS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Source Routing has two mechanis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Discove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acket is flooded through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rep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nt back to the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tion: cache of source routes (learned or overhea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Mainten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discovery of a broken link (e.g., nodes moved out of range),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Err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sent to the source =&gt; use an alternate cached route or reru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oute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eye State 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ains link state information with a frequency that depends on the fisheye scope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do not need to have a very precise information on far awa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 of IEEE802.11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802.11 has three mechanisms that can be used to improve performance under dynamic chann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(also used to avoid 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ding/modulation schemes (8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oding/modulation schemes will be available with 802.11a products over 5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parameters are statically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rot="3663000">
            <a:off x="5905080" y="380016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747200">
            <a:off x="3695760" y="3519360"/>
            <a:ext cx="380880" cy="843120"/>
          </a:xfrm>
          <a:prstGeom prst="upDownArrow">
            <a:avLst>
              <a:gd name="adj1" fmla="val 38880"/>
              <a:gd name="adj2" fmla="val 6378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8572400">
            <a:off x="4630680" y="3330720"/>
            <a:ext cx="380880" cy="1279440"/>
          </a:xfrm>
          <a:prstGeom prst="upDownArrow">
            <a:avLst>
              <a:gd name="adj1" fmla="val 50000"/>
              <a:gd name="adj2" fmla="val 6687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7997600">
            <a:off x="7021440" y="3741480"/>
            <a:ext cx="380880" cy="914400"/>
          </a:xfrm>
          <a:prstGeom prst="upDownArrow">
            <a:avLst>
              <a:gd name="adj1" fmla="val 50000"/>
              <a:gd name="adj2" fmla="val 47793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7315200" y="1218960"/>
            <a:ext cx="380880" cy="1752480"/>
          </a:xfrm>
          <a:prstGeom prst="upDownArrow">
            <a:avLst>
              <a:gd name="adj1" fmla="val 50000"/>
              <a:gd name="adj2" fmla="val 9159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erence-Based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91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based on assumptions about interference between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307656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09880" y="30765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35337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08584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15000" y="22384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0120" y="269568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42958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00600" y="536256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52448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528624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551484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2" idx="6"/>
            <a:endCxn id="274" idx="2"/>
          </p:cNvCxnSpPr>
          <p:nvPr/>
        </p:nvCxnSpPr>
        <p:spPr>
          <a:xfrm>
            <a:off x="1981080" y="334296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86" name=""/>
          <p:cNvGrpSpPr/>
          <p:nvPr/>
        </p:nvGrpSpPr>
        <p:grpSpPr>
          <a:xfrm>
            <a:off x="1069920" y="5638680"/>
            <a:ext cx="2244240" cy="580680"/>
            <a:chOff x="1069920" y="5638680"/>
            <a:chExt cx="2244240" cy="580680"/>
          </a:xfrm>
        </p:grpSpPr>
        <p:sp>
          <p:nvSpPr>
            <p:cNvPr id="287" name=""/>
            <p:cNvSpPr/>
            <p:nvPr/>
          </p:nvSpPr>
          <p:spPr>
            <a:xfrm>
              <a:off x="1142640" y="5791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69920" y="563868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89" name=""/>
          <p:cNvCxnSpPr>
            <a:stCxn id="276" idx="4"/>
            <a:endCxn id="274" idx="1"/>
          </p:cNvCxnSpPr>
          <p:nvPr/>
        </p:nvCxnSpPr>
        <p:spPr>
          <a:xfrm>
            <a:off x="3771720" y="2619360"/>
            <a:ext cx="11628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0" name=""/>
          <p:cNvCxnSpPr>
            <a:stCxn id="274" idx="7"/>
            <a:endCxn id="277" idx="3"/>
          </p:cNvCxnSpPr>
          <p:nvPr/>
        </p:nvCxnSpPr>
        <p:spPr>
          <a:xfrm flipV="1">
            <a:off x="4265640" y="269316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1" name=""/>
          <p:cNvCxnSpPr>
            <a:stCxn id="274" idx="6"/>
            <a:endCxn id="275" idx="2"/>
          </p:cNvCxnSpPr>
          <p:nvPr/>
        </p:nvCxnSpPr>
        <p:spPr>
          <a:xfrm>
            <a:off x="4343040" y="3343320"/>
            <a:ext cx="1981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2" name=""/>
          <p:cNvCxnSpPr>
            <a:stCxn id="277" idx="6"/>
            <a:endCxn id="278" idx="1"/>
          </p:cNvCxnSpPr>
          <p:nvPr/>
        </p:nvCxnSpPr>
        <p:spPr>
          <a:xfrm>
            <a:off x="6248520" y="25048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3" name=""/>
          <p:cNvCxnSpPr>
            <a:stCxn id="276" idx="6"/>
            <a:endCxn id="277" idx="2"/>
          </p:cNvCxnSpPr>
          <p:nvPr/>
        </p:nvCxnSpPr>
        <p:spPr>
          <a:xfrm>
            <a:off x="4038120" y="2352600"/>
            <a:ext cx="167724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4" name=""/>
          <p:cNvCxnSpPr>
            <a:stCxn id="282" idx="6"/>
            <a:endCxn id="273" idx="2"/>
          </p:cNvCxnSpPr>
          <p:nvPr/>
        </p:nvCxnSpPr>
        <p:spPr>
          <a:xfrm flipV="1">
            <a:off x="2133720" y="45619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5" name=""/>
          <p:cNvCxnSpPr>
            <a:stCxn id="282" idx="5"/>
            <a:endCxn id="284" idx="1"/>
          </p:cNvCxnSpPr>
          <p:nvPr/>
        </p:nvCxnSpPr>
        <p:spPr>
          <a:xfrm>
            <a:off x="2055600" y="497988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6" name=""/>
          <p:cNvCxnSpPr>
            <a:stCxn id="284" idx="6"/>
            <a:endCxn id="281" idx="2"/>
          </p:cNvCxnSpPr>
          <p:nvPr/>
        </p:nvCxnSpPr>
        <p:spPr>
          <a:xfrm flipV="1">
            <a:off x="3809880" y="5628600"/>
            <a:ext cx="9914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"/>
          <p:cNvCxnSpPr>
            <a:stCxn id="273" idx="6"/>
            <a:endCxn id="280" idx="2"/>
          </p:cNvCxnSpPr>
          <p:nvPr/>
        </p:nvCxnSpPr>
        <p:spPr>
          <a:xfrm>
            <a:off x="3962520" y="45622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8" name=""/>
          <p:cNvCxnSpPr>
            <a:stCxn id="281" idx="6"/>
            <a:endCxn id="283" idx="2"/>
          </p:cNvCxnSpPr>
          <p:nvPr/>
        </p:nvCxnSpPr>
        <p:spPr>
          <a:xfrm flipV="1">
            <a:off x="5333760" y="555300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" name=""/>
          <p:cNvCxnSpPr>
            <a:stCxn id="280" idx="6"/>
            <a:endCxn id="279" idx="2"/>
          </p:cNvCxnSpPr>
          <p:nvPr/>
        </p:nvCxnSpPr>
        <p:spPr>
          <a:xfrm>
            <a:off x="5791320" y="4562280"/>
            <a:ext cx="167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" name=""/>
          <p:cNvCxnSpPr>
            <a:stCxn id="272" idx="7"/>
            <a:endCxn id="276" idx="2"/>
          </p:cNvCxnSpPr>
          <p:nvPr/>
        </p:nvCxnSpPr>
        <p:spPr>
          <a:xfrm flipV="1">
            <a:off x="1903320" y="2351880"/>
            <a:ext cx="160272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" name=""/>
          <p:cNvCxnSpPr>
            <a:stCxn id="283" idx="7"/>
            <a:endCxn id="279" idx="3"/>
          </p:cNvCxnSpPr>
          <p:nvPr/>
        </p:nvCxnSpPr>
        <p:spPr>
          <a:xfrm flipV="1">
            <a:off x="6856200" y="4750920"/>
            <a:ext cx="68940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" name=""/>
          <p:cNvCxnSpPr>
            <a:stCxn id="273" idx="0"/>
            <a:endCxn id="274" idx="4"/>
          </p:cNvCxnSpPr>
          <p:nvPr/>
        </p:nvCxnSpPr>
        <p:spPr>
          <a:xfrm flipV="1">
            <a:off x="3695760" y="3609360"/>
            <a:ext cx="3816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" name=""/>
          <p:cNvCxnSpPr>
            <a:stCxn id="274" idx="5"/>
            <a:endCxn id="280" idx="1"/>
          </p:cNvCxnSpPr>
          <p:nvPr/>
        </p:nvCxnSpPr>
        <p:spPr>
          <a:xfrm>
            <a:off x="4265640" y="35319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"/>
          <p:cNvCxnSpPr>
            <a:stCxn id="280" idx="7"/>
            <a:endCxn id="275" idx="3"/>
          </p:cNvCxnSpPr>
          <p:nvPr/>
        </p:nvCxnSpPr>
        <p:spPr>
          <a:xfrm flipV="1">
            <a:off x="5713200" y="3988800"/>
            <a:ext cx="68940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5" name=""/>
          <p:cNvCxnSpPr>
            <a:stCxn id="275" idx="5"/>
            <a:endCxn id="279" idx="1"/>
          </p:cNvCxnSpPr>
          <p:nvPr/>
        </p:nvCxnSpPr>
        <p:spPr>
          <a:xfrm>
            <a:off x="6779880" y="3989160"/>
            <a:ext cx="76572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" name=""/>
          <p:cNvCxnSpPr>
            <a:stCxn id="284" idx="0"/>
            <a:endCxn id="273" idx="4"/>
          </p:cNvCxnSpPr>
          <p:nvPr/>
        </p:nvCxnSpPr>
        <p:spPr>
          <a:xfrm flipV="1">
            <a:off x="3543120" y="482832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" name=""/>
          <p:cNvCxnSpPr>
            <a:stCxn id="280" idx="3"/>
            <a:endCxn id="281" idx="0"/>
          </p:cNvCxnSpPr>
          <p:nvPr/>
        </p:nvCxnSpPr>
        <p:spPr>
          <a:xfrm flipH="1">
            <a:off x="5066640" y="475128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" name=""/>
          <p:cNvCxnSpPr>
            <a:stCxn id="282" idx="0"/>
            <a:endCxn id="272" idx="4"/>
          </p:cNvCxnSpPr>
          <p:nvPr/>
        </p:nvCxnSpPr>
        <p:spPr>
          <a:xfrm flipH="1" flipV="1">
            <a:off x="1713960" y="36097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9" name=""/>
          <p:cNvCxnSpPr>
            <a:stCxn id="280" idx="5"/>
            <a:endCxn id="283" idx="1"/>
          </p:cNvCxnSpPr>
          <p:nvPr/>
        </p:nvCxnSpPr>
        <p:spPr>
          <a:xfrm>
            <a:off x="5713200" y="475128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0" name=""/>
          <p:cNvCxnSpPr>
            <a:stCxn id="277" idx="5"/>
            <a:endCxn id="275" idx="0"/>
          </p:cNvCxnSpPr>
          <p:nvPr/>
        </p:nvCxnSpPr>
        <p:spPr>
          <a:xfrm>
            <a:off x="6170760" y="2693520"/>
            <a:ext cx="42120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1828800" y="2952720"/>
            <a:ext cx="5854680" cy="73044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81080" y="4448160"/>
            <a:ext cx="563904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905120" y="4753080"/>
            <a:ext cx="5790960" cy="126972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2217600"/>
            <a:ext cx="610884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78" idx="3"/>
            <a:endCxn id="275" idx="6"/>
          </p:cNvCxnSpPr>
          <p:nvPr/>
        </p:nvCxnSpPr>
        <p:spPr>
          <a:xfrm flipH="1">
            <a:off x="6857280" y="315108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s for interference based rou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terference Routing (L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the number of stations that can receive 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-Min Residual Capacity Routing (MMRC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a probability function of successful transmissions and inter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Resistance Routing (L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ost of a path based on interference, jamming and other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R is very simple to implement, only information from direct neighbors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rastructure vs. Ad Hoc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several Access-Points (AP) connected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through the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ad hoc networks: all nodes can also act as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(nodes relay packets from AP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crease capacity, reduce power consumption, and guarantee a minimu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hannel cont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routing backbone to reduce network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network state to reduce its quantity and its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approaches to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in the 70s with Packet Radio Network (PRNet) sponsored by DAR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572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494240" y="2460600"/>
          <a:ext cx="39639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460600"/>
                    <a:ext cx="39639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oretical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of a wireless network [Gupta &amp; Kumar 20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entical randomly located nodes each capable of transmit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only achieve a throughpu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mally placed nodes with an optimal traffic pattern and an optimal transmission power can only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82800" y="3429000"/>
                <a:ext cx="2141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it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066680" y="5105520"/>
                <a:ext cx="273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W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bi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ter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edu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= clusterhead + gateways + ordinary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: schedules traffic, allocates resources (tokens, emits busy tone, etc.). Similar to the master in a Bluetooth pico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s: interconnec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nodes are 1-hop away from a clusterhead and 2-hops away from other member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ion of clust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on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/distributed algorith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identifier/degree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: (1) elect the highest ID node and create a corresponding cluster, repeat step (1) with nodes not already members of a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ode elects itself as cluster head if it has the highest ID among its neighb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elect a neighbor that is not member of anoth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disjoin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nected to &gt; 1 cluster =&gt; gateway cand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um_hops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 &amp; num_hops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=&gt;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ultiple candidates to connect two clusters, choose GW with highes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lgorithms do not adjust to mobility. They recompute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algorith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clusterhead status when two clusterheads become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rla-Lin 1995, 1997]: cluster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lusterhead congestion and improve robustness, routing is done over the fla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Backbon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multiphop networks have high end-to-end de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-layer ARQ, MAC delay, FEC/spreading, tx/rx switch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can reduce the end-to-end delay by allowing faster forwarding through the clusterheads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Term Digital Radio Network (NTDR) [Zavgren 19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Subnet Architecture [Sharony 19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ar-Term Digital Radio Network (NTD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mobile tactic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 clusterheads = gateways+single-hop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-hop packets go through the clusterheads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quencies: intra-cluster band + inter-cluster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s send a beacon (organization, members, TxPwrL, PL to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elect themselves if: (1) do not receive a beacon, (2) receives beacons with different parti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multiple clusterhead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a random amount of time before self-election as clust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f-election, immediately issue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superfluous clusterheads without partitioning 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TDR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affili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nd clusterhead are in the sam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ath loss (conserves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cluster has a sma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affil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 relinquishes it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n link (or low quality 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embership change all clusterheads 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link state protocol: Dijkstra’s Shortest Path Firs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ance metric: minimize interference experienced by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cale for high mobility networks because of flood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rtual Subnet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fault-tolerant connectivity and load bal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joint cluster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hysical subne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subnets are clustered in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irtual subn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subnets ideally span all physical subn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rtual subnets and neighboring subnets operate over different frequ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addresses: location dependent addresses (physical subnet, virtual subnet) + location independen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affiliation to a physical/virtual subnet, the node advertises its new address to the physical/virtual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the location dependent address of a n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 an address query to the physical subnet. Use the virtual subnets membership information of the physical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unsuccessful distribute the address query to the virtual sub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rtual Subnet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strate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rou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o a nod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at is both in the source physical subnet and destination virtual sub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the virtual subnet to reach the physical subnet of the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path routing (under high mobility): randomly distribute the routes over the space of possible ro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a virtual subnet represented by a node in the source physical subnet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ward the packet through the physical subnet of a node in the virtual subnet of the 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+Q-1 possible pa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14400" y="1600200"/>
          <a:ext cx="71658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1658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ustering for Routing Efficien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si-hierarchical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the next node to use to reach all level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 within it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ancestr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the amount of routing informa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distance-vector and link-state approa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d forwarding tables and optimal rou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of level-i clusters in each level-(i+1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e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l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si-hierarchical routing routes -&gt; optimum (under ideal assum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ct hierarchical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the nex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to use in order to reach ea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 within it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-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node learns which level-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usters lie on the boundary of its level-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)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page 109 (A Prototypical Sch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ilding a Clustering Hierarch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amount of rou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connectivity within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ize high-intensity traffic within on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number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ing the stability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difference between the hierarchical route and the optimal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/lower limit of the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n the diameter of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mitations of Current Clustering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lustering algorithms do not consider the flexibility/constraints of radio frequency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is not rigid but can be controlled through power-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consume more energy then ordinar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between MAC, power-control and co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enerates more time interference (collisions?), high power generates more space interference (SN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networks require to consider fairness more serious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in the vicinity of the AP would experience more traffic than nodes on the periph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adio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Medium (coll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power available at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QoS requirements (e.g., delay, packet lo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network connectivity (depends on the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opology (i.e., mobility of nodes, den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rovide a full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nforce 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coding/modul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packets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transmission power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mart antennas and MIMO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ultiple RF interfaces (multiple IF character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nd backbon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of the fixed nodes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schedul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dap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ity and Coopera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networking stacks have only minimum interaction between adjacen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wireless ad hoc networks require more cooperation between layer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variation and network topology changes affec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versus single hop communication considerably affects the medium access control (MAC)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 versus channel fading affects both the physical layer and the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power has implications on al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384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876920" y="1295280"/>
          <a:ext cx="3781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95280"/>
                    <a:ext cx="3781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e Co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½ rate convolutional code (K=5) versus uncode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with two states: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6.8 dB or 11.3 dB (AWGN), L=2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between congestions and a bad channe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Hybrid-AR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04920" y="2666880"/>
            <a:ext cx="7648200" cy="1924200"/>
            <a:chOff x="304920" y="2666880"/>
            <a:chExt cx="7648200" cy="1924200"/>
          </a:xfrm>
        </p:grpSpPr>
        <p:grpSp>
          <p:nvGrpSpPr>
            <p:cNvPr id="72" name=""/>
            <p:cNvGrpSpPr/>
            <p:nvPr/>
          </p:nvGrpSpPr>
          <p:grpSpPr>
            <a:xfrm>
              <a:off x="310320" y="2669760"/>
              <a:ext cx="7636680" cy="1917720"/>
              <a:chOff x="310320" y="2669760"/>
              <a:chExt cx="7636680" cy="191772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310320" y="2669760"/>
                <a:ext cx="897840" cy="839160"/>
                <a:chOff x="310320" y="2669760"/>
                <a:chExt cx="897840" cy="8391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89160" y="2669760"/>
                  <a:ext cx="740160" cy="83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10320" y="2669760"/>
                  <a:ext cx="897840" cy="83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208520" y="2669760"/>
                <a:ext cx="1603440" cy="419400"/>
                <a:chOff x="1208520" y="2669760"/>
                <a:chExt cx="1603440" cy="4194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1287360" y="2669760"/>
                  <a:ext cx="14454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208520" y="2669760"/>
                  <a:ext cx="16034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2812320" y="2669760"/>
                <a:ext cx="1805400" cy="419400"/>
                <a:chOff x="2812320" y="2669760"/>
                <a:chExt cx="1805400" cy="4194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891160" y="2669760"/>
                  <a:ext cx="16473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812320" y="2669760"/>
                  <a:ext cx="1805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4618440" y="2669760"/>
                <a:ext cx="1570320" cy="419400"/>
                <a:chOff x="4618440" y="2669760"/>
                <a:chExt cx="1570320" cy="4194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4696920" y="2669760"/>
                  <a:ext cx="14126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618440" y="2669760"/>
                  <a:ext cx="15703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189120" y="2669760"/>
                <a:ext cx="1757520" cy="419400"/>
                <a:chOff x="6189120" y="2669760"/>
                <a:chExt cx="1757520" cy="4194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6267960" y="2669760"/>
                  <a:ext cx="15998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189120" y="2669760"/>
                  <a:ext cx="17575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208520" y="3089160"/>
                <a:ext cx="819000" cy="419400"/>
                <a:chOff x="1208520" y="3089160"/>
                <a:chExt cx="819000" cy="4194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1287360" y="3089160"/>
                  <a:ext cx="6609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208520" y="3089160"/>
                  <a:ext cx="8190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2027880" y="3089160"/>
                <a:ext cx="784080" cy="419400"/>
                <a:chOff x="2027880" y="3089160"/>
                <a:chExt cx="784080" cy="4194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106720" y="3089160"/>
                  <a:ext cx="6260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027880" y="3089160"/>
                  <a:ext cx="78408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2812320" y="3089160"/>
                <a:ext cx="919800" cy="419400"/>
                <a:chOff x="2812320" y="3089160"/>
                <a:chExt cx="919800" cy="41940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891160" y="3089160"/>
                  <a:ext cx="7621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2320" y="3089160"/>
                  <a:ext cx="9198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732840" y="3089160"/>
                <a:ext cx="885240" cy="419400"/>
                <a:chOff x="3732840" y="3089160"/>
                <a:chExt cx="885240" cy="4194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811680" y="3089160"/>
                  <a:ext cx="7272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732840" y="3089160"/>
                  <a:ext cx="8852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618440" y="3089160"/>
                <a:ext cx="752760" cy="419400"/>
                <a:chOff x="4618440" y="3089160"/>
                <a:chExt cx="752760" cy="41940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696920" y="3089160"/>
                  <a:ext cx="59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18440" y="3089160"/>
                  <a:ext cx="75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5371920" y="3089160"/>
                <a:ext cx="816840" cy="419400"/>
                <a:chOff x="5371920" y="3089160"/>
                <a:chExt cx="816840" cy="41940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450400" y="3089160"/>
                  <a:ext cx="6591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371920" y="3089160"/>
                  <a:ext cx="8168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189120" y="3089160"/>
                <a:ext cx="932760" cy="419400"/>
                <a:chOff x="6189120" y="3089160"/>
                <a:chExt cx="932760" cy="41940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6267960" y="3089160"/>
                  <a:ext cx="77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189120" y="3089160"/>
                  <a:ext cx="93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7122600" y="3089160"/>
                <a:ext cx="824400" cy="419400"/>
                <a:chOff x="7122600" y="3089160"/>
                <a:chExt cx="824400" cy="41940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201440" y="3089160"/>
                  <a:ext cx="6667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2600" y="3089160"/>
                  <a:ext cx="824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310320" y="3508920"/>
                <a:ext cx="897840" cy="539280"/>
                <a:chOff x="310320" y="3508920"/>
                <a:chExt cx="897840" cy="53928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89160" y="350892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10320" y="350892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208520" y="3508920"/>
                <a:ext cx="819000" cy="539280"/>
                <a:chOff x="1208520" y="3508920"/>
                <a:chExt cx="819000" cy="5392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1287360" y="350892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08520" y="350892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2027880" y="3508920"/>
                <a:ext cx="784080" cy="539280"/>
                <a:chOff x="2027880" y="3508920"/>
                <a:chExt cx="784080" cy="5392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106720" y="350892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027880" y="350892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2812320" y="3508920"/>
                <a:ext cx="919800" cy="539280"/>
                <a:chOff x="2812320" y="3508920"/>
                <a:chExt cx="919800" cy="539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891160" y="350892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12320" y="350892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732840" y="3508920"/>
                <a:ext cx="885240" cy="539280"/>
                <a:chOff x="3732840" y="3508920"/>
                <a:chExt cx="885240" cy="53928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3811680" y="350892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732840" y="350892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618440" y="3508920"/>
                <a:ext cx="752760" cy="539280"/>
                <a:chOff x="4618440" y="3508920"/>
                <a:chExt cx="752760" cy="5392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4696920" y="350892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618440" y="350892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5371920" y="3508920"/>
                <a:ext cx="816840" cy="539280"/>
                <a:chOff x="5371920" y="3508920"/>
                <a:chExt cx="816840" cy="53928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450400" y="350892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371920" y="350892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189120" y="3508920"/>
                <a:ext cx="932760" cy="539280"/>
                <a:chOff x="6189120" y="3508920"/>
                <a:chExt cx="932760" cy="539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267960" y="350892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189120" y="350892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122600" y="3508920"/>
                <a:ext cx="824400" cy="539280"/>
                <a:chOff x="7122600" y="3508920"/>
                <a:chExt cx="824400" cy="5392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201440" y="350892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122600" y="350892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10320" y="4048200"/>
                <a:ext cx="897840" cy="539280"/>
                <a:chOff x="310320" y="4048200"/>
                <a:chExt cx="897840" cy="53928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89160" y="404820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10320" y="404820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208520" y="4048200"/>
                <a:ext cx="819000" cy="539280"/>
                <a:chOff x="1208520" y="4048200"/>
                <a:chExt cx="819000" cy="539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287360" y="404820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08520" y="404820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2027880" y="4048200"/>
                <a:ext cx="784080" cy="539280"/>
                <a:chOff x="2027880" y="4048200"/>
                <a:chExt cx="784080" cy="539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106720" y="404820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027880" y="404820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2812320" y="4048200"/>
                <a:ext cx="919800" cy="539280"/>
                <a:chOff x="2812320" y="4048200"/>
                <a:chExt cx="919800" cy="539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891160" y="404820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812320" y="404820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732840" y="4048200"/>
                <a:ext cx="885240" cy="539280"/>
                <a:chOff x="3732840" y="4048200"/>
                <a:chExt cx="885240" cy="5392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811680" y="404820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732840" y="404820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618440" y="4048200"/>
                <a:ext cx="752760" cy="539280"/>
                <a:chOff x="4618440" y="4048200"/>
                <a:chExt cx="752760" cy="53928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696920" y="404820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618440" y="404820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5371920" y="4048200"/>
                <a:ext cx="816840" cy="539280"/>
                <a:chOff x="5371920" y="4048200"/>
                <a:chExt cx="816840" cy="539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450400" y="404820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371920" y="404820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189120" y="4048200"/>
                <a:ext cx="932760" cy="539280"/>
                <a:chOff x="6189120" y="4048200"/>
                <a:chExt cx="932760" cy="53928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6267960" y="404820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189120" y="404820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122600" y="4048200"/>
                <a:ext cx="824400" cy="539280"/>
                <a:chOff x="7122600" y="4048200"/>
                <a:chExt cx="824400" cy="53928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201440" y="404820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2600" y="404820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304920" y="2666880"/>
              <a:ext cx="7648200" cy="192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aptive Frag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mit a frame of length 200 Bytes, we can fragment into 4 frames of length 50 Bytes (+ 10 Byte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57200" y="3048120"/>
            <a:ext cx="7924320" cy="2133360"/>
            <a:chOff x="457200" y="3048120"/>
            <a:chExt cx="7924320" cy="2133360"/>
          </a:xfrm>
        </p:grpSpPr>
        <p:grpSp>
          <p:nvGrpSpPr>
            <p:cNvPr id="170" name=""/>
            <p:cNvGrpSpPr/>
            <p:nvPr/>
          </p:nvGrpSpPr>
          <p:grpSpPr>
            <a:xfrm>
              <a:off x="463680" y="3051360"/>
              <a:ext cx="7909920" cy="2126160"/>
              <a:chOff x="463680" y="3051360"/>
              <a:chExt cx="7909920" cy="212616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463680" y="3051360"/>
                <a:ext cx="1048320" cy="1195560"/>
                <a:chOff x="463680" y="3051360"/>
                <a:chExt cx="1048320" cy="1195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63040" y="3051360"/>
                  <a:ext cx="84888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3680" y="3051360"/>
                  <a:ext cx="1048320" cy="119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512360" y="3051360"/>
                <a:ext cx="2231280" cy="597600"/>
                <a:chOff x="1512360" y="3051360"/>
                <a:chExt cx="2231280" cy="597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611360" y="3051360"/>
                  <a:ext cx="2032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512360" y="3051360"/>
                  <a:ext cx="22312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744000" y="3051360"/>
                <a:ext cx="2314080" cy="597600"/>
                <a:chOff x="3744000" y="3051360"/>
                <a:chExt cx="2314080" cy="5976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843000" y="3051360"/>
                  <a:ext cx="2115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744000" y="3051360"/>
                  <a:ext cx="23140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6058800" y="3051360"/>
                <a:ext cx="2314800" cy="597600"/>
                <a:chOff x="6058800" y="3051360"/>
                <a:chExt cx="2314800" cy="597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6158520" y="3051360"/>
                  <a:ext cx="211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incl. overhea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058800" y="3051360"/>
                  <a:ext cx="23148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512360" y="3648960"/>
                <a:ext cx="1114920" cy="597600"/>
                <a:chOff x="1512360" y="3648960"/>
                <a:chExt cx="1114920" cy="597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61136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512360" y="3648960"/>
                  <a:ext cx="1114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628000" y="3648960"/>
                <a:ext cx="1115640" cy="597600"/>
                <a:chOff x="2628000" y="3648960"/>
                <a:chExt cx="1115640" cy="597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27277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280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744000" y="3648960"/>
                <a:ext cx="1031760" cy="597600"/>
                <a:chOff x="3744000" y="3648960"/>
                <a:chExt cx="1031760" cy="59760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843000" y="3648960"/>
                  <a:ext cx="833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744000" y="3648960"/>
                  <a:ext cx="10317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4776120" y="3648960"/>
                <a:ext cx="1281960" cy="597600"/>
                <a:chOff x="4776120" y="3648960"/>
                <a:chExt cx="1281960" cy="597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4875480" y="3648960"/>
                  <a:ext cx="10832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776120" y="3648960"/>
                  <a:ext cx="12819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058800" y="3648960"/>
                <a:ext cx="1115640" cy="597600"/>
                <a:chOff x="6058800" y="3648960"/>
                <a:chExt cx="1115640" cy="597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1585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0588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174800" y="3648960"/>
                <a:ext cx="1198440" cy="597600"/>
                <a:chOff x="7174800" y="3648960"/>
                <a:chExt cx="1198440" cy="597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273800" y="3648960"/>
                  <a:ext cx="999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174800" y="3648960"/>
                  <a:ext cx="1198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3680" y="4246920"/>
                <a:ext cx="1048320" cy="465480"/>
                <a:chOff x="463680" y="4246920"/>
                <a:chExt cx="1048320" cy="465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63040" y="4246920"/>
                  <a:ext cx="84888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3680" y="4246920"/>
                  <a:ext cx="10483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512360" y="4246920"/>
                <a:ext cx="1114920" cy="465480"/>
                <a:chOff x="1512360" y="4246920"/>
                <a:chExt cx="1114920" cy="4654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61136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512360" y="4246920"/>
                  <a:ext cx="11149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2628000" y="4246920"/>
                <a:ext cx="1115640" cy="465480"/>
                <a:chOff x="2628000" y="4246920"/>
                <a:chExt cx="1115640" cy="4654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27277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6280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744000" y="4246920"/>
                <a:ext cx="1031760" cy="465480"/>
                <a:chOff x="3744000" y="4246920"/>
                <a:chExt cx="1031760" cy="465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843000" y="4246920"/>
                  <a:ext cx="8334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744000" y="4246920"/>
                  <a:ext cx="10317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76120" y="4246920"/>
                <a:ext cx="1281960" cy="465480"/>
                <a:chOff x="4776120" y="4246920"/>
                <a:chExt cx="1281960" cy="4654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875480" y="4246920"/>
                  <a:ext cx="108324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76120" y="4246920"/>
                  <a:ext cx="12819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58800" y="4246920"/>
                <a:ext cx="1115640" cy="465480"/>
                <a:chOff x="6058800" y="4246920"/>
                <a:chExt cx="1115640" cy="4654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585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588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174800" y="4246920"/>
                <a:ext cx="1198440" cy="465480"/>
                <a:chOff x="7174800" y="4246920"/>
                <a:chExt cx="1198440" cy="465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273800" y="4246920"/>
                  <a:ext cx="99972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174800" y="4246920"/>
                  <a:ext cx="11984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3680" y="4712400"/>
                <a:ext cx="1048320" cy="465120"/>
                <a:chOff x="463680" y="4712400"/>
                <a:chExt cx="1048320" cy="465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63040" y="4712400"/>
                  <a:ext cx="848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3680" y="4712400"/>
                  <a:ext cx="10483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512360" y="4712400"/>
                <a:ext cx="1114920" cy="465120"/>
                <a:chOff x="1512360" y="4712400"/>
                <a:chExt cx="1114920" cy="465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61136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512360" y="4712400"/>
                  <a:ext cx="1114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628000" y="4712400"/>
                <a:ext cx="1115640" cy="465120"/>
                <a:chOff x="2628000" y="4712400"/>
                <a:chExt cx="1115640" cy="4651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7277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6280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744000" y="4712400"/>
                <a:ext cx="1031760" cy="465120"/>
                <a:chOff x="3744000" y="4712400"/>
                <a:chExt cx="1031760" cy="465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843000" y="4712400"/>
                  <a:ext cx="8334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744000" y="4712400"/>
                  <a:ext cx="10317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776120" y="4712400"/>
                <a:ext cx="1281960" cy="465120"/>
                <a:chOff x="4776120" y="4712400"/>
                <a:chExt cx="1281960" cy="4651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875480" y="4712400"/>
                  <a:ext cx="108324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76120" y="4712400"/>
                  <a:ext cx="12819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058800" y="4712400"/>
                <a:ext cx="1115640" cy="465120"/>
                <a:chOff x="6058800" y="4712400"/>
                <a:chExt cx="1115640" cy="4651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1585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588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174800" y="4712400"/>
                <a:ext cx="1198440" cy="465120"/>
                <a:chOff x="7174800" y="4712400"/>
                <a:chExt cx="1198440" cy="4651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273800" y="4712400"/>
                  <a:ext cx="999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174800" y="4712400"/>
                  <a:ext cx="1198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57200" y="3048120"/>
              <a:ext cx="7924320" cy="2133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ple Power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ulti-hop transmiss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ps) and reducing the transmission power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apacity (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all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symmetr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node can enco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mit it at lo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nodes can decode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ransmissi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95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181480" y="2052720"/>
          <a:ext cx="4002120" cy="40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2720"/>
                    <a:ext cx="400212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3-07T22:46:06Z</dcterms:modified>
  <cp:revision>838</cp:revision>
  <dc:subject/>
  <dc:title>Computer Networks: Theory, Modeling, and Analysis</dc:title>
</cp:coreProperties>
</file>