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0404-3637-4266-A040-C062ECBF6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1055520" y="662040"/>
            <a:ext cx="4713480" cy="353520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1160" y="4417560"/>
            <a:ext cx="5006880" cy="419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ot duration: 625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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n’t we transmit during all the slo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8F65-F127-457C-B53F-7314F5FF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6E2-66C8-41BE-BA1A-EB16F7D1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A64E-7D65-430A-B0E9-3BF6C815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4CD2-DB91-4CFC-A1C9-9400043B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A682-7C7C-46D2-A936-55D4E36C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D314-3475-497F-A47E-F82261EB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B99-5DD3-423C-9350-53D0A1A0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B16D-7D26-4BD7-94A2-EA463F41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526-0BEB-43E9-8618-15D22D66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C74-2BD4-4FC7-8E4E-EFEBCE0B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80-7FA6-4C4B-9DAC-B59E311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552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3702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05E-7CF8-4763-ABC1-960E67C3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3702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552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3702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85320" y="6553080"/>
            <a:ext cx="46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3525: Wireless Networks - 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145360" y="62802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64F8-1087-4423-B990-41A1302DE2BF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5110-B95D-458B-897F-6BCDD1B33E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luetooth.com/" TargetMode="Externa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Network Configu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7816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411444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iconet = set of Bluetooth nodes synchronized to a mast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piconet hopping sequence is derived from the master MAC address (BD_ADDR IEEE802 48 bits compatible addre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atternet = set of picone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-Slaves can switch ro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node can only be master of one piconet. Wh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1720800"/>
            <a:ext cx="3048120" cy="18288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56040" y="2276640"/>
            <a:ext cx="136080" cy="488160"/>
            <a:chOff x="3056040" y="2276640"/>
            <a:chExt cx="136080" cy="488160"/>
          </a:xfrm>
        </p:grpSpPr>
        <p:sp>
          <p:nvSpPr>
            <p:cNvPr id="199" name=""/>
            <p:cNvSpPr/>
            <p:nvPr/>
          </p:nvSpPr>
          <p:spPr>
            <a:xfrm flipV="1">
              <a:off x="3056040" y="2276640"/>
              <a:ext cx="5832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3133800" y="2428920"/>
              <a:ext cx="57960" cy="33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056400" y="2428560"/>
              <a:ext cx="13572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66520" y="2863440"/>
            <a:ext cx="381600" cy="305280"/>
            <a:chOff x="2666520" y="2863440"/>
            <a:chExt cx="381600" cy="305280"/>
          </a:xfrm>
        </p:grpSpPr>
        <p:sp>
          <p:nvSpPr>
            <p:cNvPr id="203" name=""/>
            <p:cNvSpPr/>
            <p:nvPr/>
          </p:nvSpPr>
          <p:spPr>
            <a:xfrm flipH="1" flipV="1">
              <a:off x="2666520" y="286344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43200" y="301608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742840" y="3016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981080" y="2330280"/>
            <a:ext cx="469800" cy="685800"/>
            <a:chOff x="1981080" y="2330280"/>
            <a:chExt cx="469800" cy="685800"/>
          </a:xfrm>
        </p:grpSpPr>
        <p:sp>
          <p:nvSpPr>
            <p:cNvPr id="207" name=""/>
            <p:cNvSpPr/>
            <p:nvPr/>
          </p:nvSpPr>
          <p:spPr>
            <a:xfrm>
              <a:off x="2035080" y="276516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28680" y="300672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12840" y="297972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35080" y="276696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31840" y="275580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49120" y="245556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20680" y="236376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312640" y="244476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09520" y="242244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81080" y="23302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81080" y="233028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81080" y="233028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33028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81080" y="233028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81080" y="233028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81080" y="233028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5760" y="239364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03040" y="239364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01600" y="253332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1880" y="241128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8080" y="241128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6280" y="255240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93680" y="256032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92240" y="256032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3040" y="240948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73040" y="240948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85840" y="252072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5840" y="251604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95200" y="252396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06360" y="246528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11040" y="246996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18960" y="246672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18960" y="24685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24000" y="247140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44520" y="244944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245412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7760" y="245088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47760" y="245268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52440" y="245556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84120" y="243828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74680" y="250020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8736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77920" y="250344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97000" y="241272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98440" y="241452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98440" y="241596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18960" y="242244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18960" y="242244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20760" y="242388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20760" y="242388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22200" y="242388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22200" y="242388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9600" y="243972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11040" y="243360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07800" y="243036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104920" y="243180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244296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12840" y="244152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11040" y="244620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11040" y="244152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11040" y="243504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9600" y="24318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04920" y="243360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06360" y="244296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14280" y="244152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2840" y="244620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41200" y="267336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7160" y="264312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27160" y="263520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27160" y="264132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039760" y="266220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33280" y="264780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33280" y="264456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33280" y="264780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03280" y="248760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03280" y="248760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12640" y="251136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312640" y="251136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03280" y="24955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04720" y="249552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09400" y="250812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09400" y="250632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5360" y="276840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25360" y="276840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27160" y="276984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7160" y="276984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27160" y="277164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7160" y="277164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25360" y="276516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22120" y="275724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022120" y="275724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23920" y="275724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023920" y="275724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23920" y="275724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25360" y="275724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22120" y="275904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095200" y="297792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95200" y="297972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95200" y="297972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97000" y="298116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97000" y="298260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97000" y="298260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98440" y="298440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109600" y="300492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730600" y="1720800"/>
            <a:ext cx="469800" cy="685800"/>
            <a:chOff x="2730600" y="1720800"/>
            <a:chExt cx="469800" cy="685800"/>
          </a:xfrm>
        </p:grpSpPr>
        <p:sp>
          <p:nvSpPr>
            <p:cNvPr id="312" name=""/>
            <p:cNvSpPr/>
            <p:nvPr/>
          </p:nvSpPr>
          <p:spPr>
            <a:xfrm>
              <a:off x="2784600" y="215568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8200" y="239724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62360" y="237024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84600" y="215748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81360" y="214632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98640" y="184608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70200" y="17542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062160" y="183528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759040" y="181296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30600" y="17208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0600" y="172080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30600" y="172080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30600" y="172080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30600" y="172080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30600" y="172080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30600" y="172080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05280" y="178416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52560" y="178416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51120" y="192384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11400" y="180180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7600" y="180180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5800" y="194292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43200" y="19508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1760" y="19508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2560" y="180000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2560" y="180000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35360" y="191124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35360" y="190656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44720" y="191448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55880" y="185580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60560" y="186048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68480" y="185724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68480" y="185904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73520" y="186192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94040" y="183996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97280" y="184464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97280" y="184140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97280" y="184320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01960" y="184608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933640" y="182880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4200" y="189072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36880" y="183204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7440" y="189396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46520" y="180324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47960" y="180504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47960" y="180648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68480" y="181296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68480" y="181296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70280" y="181440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70280" y="181440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71720" y="181440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1720" y="181440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59120" y="183024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60560" y="182412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57320" y="182088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854440" y="182232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54440" y="18334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862360" y="183204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60560" y="183672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860560" y="183204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860560" y="182556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9120" y="182232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54440" y="182412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55880" y="18334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63800" y="183204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62360" y="183672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90720" y="206388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776680" y="203364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76680" y="202572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76680" y="203184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9280" y="205272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82800" y="203832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82800" y="203508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82800" y="203832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52800" y="18781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52800" y="187812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62160" y="190188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62160" y="190188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52800" y="18860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4240" y="188604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58920" y="189864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058920" y="189684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74880" y="215892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74880" y="215892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76680" y="216036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776680" y="216036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76680" y="216216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76680" y="216216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774880" y="215568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71640" y="214776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71640" y="214776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73440" y="214776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73440" y="214776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73440" y="214776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74880" y="214776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71640" y="214956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844720" y="236844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4720" y="237024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237024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46520" y="237168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46520" y="237312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46520" y="237312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47960" y="237492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59120" y="239544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035160" y="2711520"/>
            <a:ext cx="469800" cy="685800"/>
            <a:chOff x="3035160" y="2711520"/>
            <a:chExt cx="469800" cy="685800"/>
          </a:xfrm>
        </p:grpSpPr>
        <p:sp>
          <p:nvSpPr>
            <p:cNvPr id="417" name=""/>
            <p:cNvSpPr/>
            <p:nvPr/>
          </p:nvSpPr>
          <p:spPr>
            <a:xfrm>
              <a:off x="3089160" y="31464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2760" y="33879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66920" y="33609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89160" y="31482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085920" y="31370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03200" y="28368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74760" y="27450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66720" y="28260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63600" y="28036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35160" y="27115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35160" y="27115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35160" y="27115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35160" y="27115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35160" y="27115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35160" y="27115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35160" y="27115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09840" y="27748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57120" y="27748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55680" y="29145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15960" y="27925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062160" y="27925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0360" y="29336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7760" y="29415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6320" y="29415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27120" y="27907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27120" y="27907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39920" y="29019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9920" y="28972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49280" y="29052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60440" y="28465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65120" y="28512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73040" y="28479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173040" y="28497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78080" y="28526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98600" y="28306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01840" y="28353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01840" y="28321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01840" y="28339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520" y="28368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38200" y="28195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28760" y="28814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41440" y="28227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32000" y="28846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51080" y="27939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52520" y="27957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52520" y="27972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73040" y="28036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73040" y="28036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74840" y="28051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74840" y="28051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76280" y="28051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76280" y="28051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63680" y="28209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65120" y="28148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61880" y="28116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59000" y="28130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59000" y="28242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6920" y="28227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65120" y="28274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65120" y="28227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65120" y="28162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63680" y="28130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59000" y="28148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60440" y="28242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68360" y="28227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6920" y="28274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95280" y="30546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81240" y="30243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81240" y="30164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81240" y="30225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93840" y="30434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87360" y="30290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87360" y="30258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87360" y="30290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57360" y="28688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7360" y="28688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66720" y="28926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366720" y="28926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357360" y="28767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8800" y="28767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63480" y="28893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363480" y="28875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79440" y="31496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79440" y="31496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81240" y="31510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81240" y="31510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81240" y="31528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81240" y="31528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79440" y="31464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76200" y="31384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6200" y="31384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78000" y="31384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78000" y="31384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78000" y="31384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79440" y="31384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76200" y="31402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9280" y="33591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9280" y="33609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9280" y="33609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51080" y="33624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51080" y="33638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51080" y="33638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52520" y="33656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63680" y="33861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3429000" y="2711520"/>
            <a:ext cx="380520" cy="304200"/>
            <a:chOff x="3429000" y="2711520"/>
            <a:chExt cx="380520" cy="304200"/>
          </a:xfrm>
        </p:grpSpPr>
        <p:sp>
          <p:nvSpPr>
            <p:cNvPr id="522" name=""/>
            <p:cNvSpPr/>
            <p:nvPr/>
          </p:nvSpPr>
          <p:spPr>
            <a:xfrm flipV="1">
              <a:off x="3504960" y="2711520"/>
              <a:ext cx="3045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429000" y="286344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04960" y="28634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3809880" y="1644480"/>
            <a:ext cx="3048120" cy="1828800"/>
          </a:xfrm>
          <a:prstGeom prst="ellipse">
            <a:avLst/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4723920" y="2101320"/>
            <a:ext cx="381600" cy="305280"/>
            <a:chOff x="4723920" y="2101320"/>
            <a:chExt cx="381600" cy="305280"/>
          </a:xfrm>
        </p:grpSpPr>
        <p:sp>
          <p:nvSpPr>
            <p:cNvPr id="527" name=""/>
            <p:cNvSpPr/>
            <p:nvPr/>
          </p:nvSpPr>
          <p:spPr>
            <a:xfrm flipV="1">
              <a:off x="4800600" y="2101320"/>
              <a:ext cx="3049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723920" y="225396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00600" y="2253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800960" y="2787120"/>
            <a:ext cx="380520" cy="305280"/>
            <a:chOff x="4800960" y="2787120"/>
            <a:chExt cx="380520" cy="305280"/>
          </a:xfrm>
        </p:grpSpPr>
        <p:sp>
          <p:nvSpPr>
            <p:cNvPr id="531" name=""/>
            <p:cNvSpPr/>
            <p:nvPr/>
          </p:nvSpPr>
          <p:spPr>
            <a:xfrm flipH="1" flipV="1">
              <a:off x="4800960" y="2787120"/>
              <a:ext cx="304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76920" y="2939760"/>
              <a:ext cx="304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877280" y="293976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949560" y="2254320"/>
            <a:ext cx="469800" cy="685800"/>
            <a:chOff x="3949560" y="2254320"/>
            <a:chExt cx="469800" cy="685800"/>
          </a:xfrm>
        </p:grpSpPr>
        <p:sp>
          <p:nvSpPr>
            <p:cNvPr id="535" name=""/>
            <p:cNvSpPr/>
            <p:nvPr/>
          </p:nvSpPr>
          <p:spPr>
            <a:xfrm>
              <a:off x="4003560" y="26892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97160" y="29307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81320" y="29037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03560" y="26910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00320" y="26798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17600" y="23796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989160" y="22878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81120" y="23688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978000" y="23464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49560" y="22543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49560" y="22543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49560" y="22543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49560" y="22543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49560" y="22543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49560" y="22543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49560" y="22543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24240" y="23176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71520" y="23176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0080" y="24573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0360" y="23353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976560" y="23353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74760" y="24764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62160" y="24843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60720" y="24843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41520" y="23335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241520" y="23335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4320" y="24447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54320" y="24400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063680" y="24480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74840" y="23893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079520" y="23940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87440" y="23907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87440" y="23925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092480" y="23954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113000" y="23734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116240" y="23781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116240" y="23749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16240" y="23767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20920" y="23796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52600" y="23623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43160" y="24242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5840" y="23655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46400" y="24274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065480" y="23367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066920" y="23385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6920" y="23400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87440" y="23464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087440" y="23464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089240" y="23479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89240" y="23479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90680" y="23479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90680" y="23479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078080" y="23637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79520" y="23576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076280" y="23544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73400" y="23558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73400" y="23670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81320" y="23655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79520" y="23702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79520" y="23655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79520" y="23590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078080" y="23558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73400" y="23576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74840" y="23670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82760" y="23655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81320" y="23702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09680" y="25974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995640" y="25671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995640" y="25592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95640" y="25653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08240" y="25862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01760" y="25718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1760" y="25686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01760" y="25718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71760" y="24116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271760" y="24116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281120" y="24354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281120" y="24354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71760" y="24195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73200" y="24195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77880" y="24321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277880" y="24303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993840" y="26924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993840" y="26924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995640" y="26938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995640" y="26938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95640" y="26956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95640" y="26956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93840" y="26892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90600" y="26812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90600" y="26812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92400" y="26812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2400" y="26812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992400" y="26812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993840" y="26812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990600" y="26830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63680" y="29019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3680" y="29037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63680" y="29037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065480" y="29052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65480" y="29066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65480" y="29066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66920" y="29084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78080" y="29289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257800" y="1797120"/>
            <a:ext cx="469800" cy="685800"/>
            <a:chOff x="5257800" y="1797120"/>
            <a:chExt cx="469800" cy="685800"/>
          </a:xfrm>
        </p:grpSpPr>
        <p:sp>
          <p:nvSpPr>
            <p:cNvPr id="640" name=""/>
            <p:cNvSpPr/>
            <p:nvPr/>
          </p:nvSpPr>
          <p:spPr>
            <a:xfrm>
              <a:off x="5311800" y="223200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05400" y="247356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389560" y="244656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311800" y="223380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08560" y="222264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25840" y="192240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97400" y="18306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89360" y="191160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286240" y="188928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57800" y="179712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7800" y="179712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57800" y="179712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57800" y="179712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79712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57800" y="179712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57800" y="179712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32480" y="186048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79760" y="186048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278320" y="200016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38600" y="187812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84800" y="187812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83000" y="201924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70400" y="20271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68960" y="202716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49760" y="187632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49760" y="187632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362560" y="198756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2560" y="198288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71920" y="199080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383080" y="193212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387760" y="193680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395680" y="193356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395680" y="193536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00720" y="193824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1240" y="191628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24480" y="192096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24480" y="191772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4480" y="191952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429160" y="192240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460840" y="190512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51400" y="196704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464080" y="190836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4640" y="197028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73720" y="187956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75160" y="188136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375160" y="188280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395680" y="188928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395680" y="188928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97480" y="189072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397480" y="189072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398920" y="189072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98920" y="189072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86320" y="190656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387760" y="190044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84520" y="189720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381640" y="189864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81640" y="19098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389560" y="190836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87760" y="191304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7760" y="190836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87760" y="190188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86320" y="189864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381640" y="190044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383080" y="190980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391000" y="190836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389560" y="191304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17920" y="214020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303880" y="210996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303880" y="210204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303880" y="210816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16480" y="212904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10000" y="211464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0000" y="211140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10000" y="211464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580000" y="19544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0000" y="195444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589360" y="197820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89360" y="197820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580000" y="196236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81440" y="196236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586120" y="197496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86120" y="197316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02080" y="223524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02080" y="223524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303880" y="223668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03880" y="223668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03880" y="223848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303880" y="223848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302080" y="223200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98840" y="222408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298840" y="222408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00640" y="222408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00640" y="222408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300640" y="222408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02080" y="222408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298840" y="222588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1920" y="244476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71920" y="244656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371920" y="244656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373720" y="244800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373720" y="244944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73720" y="244944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375160" y="245124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86320" y="247176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5257800" y="2635200"/>
            <a:ext cx="469800" cy="685800"/>
            <a:chOff x="5257800" y="2635200"/>
            <a:chExt cx="469800" cy="685800"/>
          </a:xfrm>
        </p:grpSpPr>
        <p:sp>
          <p:nvSpPr>
            <p:cNvPr id="745" name=""/>
            <p:cNvSpPr/>
            <p:nvPr/>
          </p:nvSpPr>
          <p:spPr>
            <a:xfrm>
              <a:off x="5311800" y="3070080"/>
              <a:ext cx="14040" cy="79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0" y="67"/>
                  </a:moveTo>
                  <a:lnTo>
                    <a:pt x="199" y="0"/>
                  </a:lnTo>
                  <a:lnTo>
                    <a:pt x="206" y="17"/>
                  </a:lnTo>
                  <a:lnTo>
                    <a:pt x="7" y="8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405400" y="3311640"/>
              <a:ext cx="4680" cy="936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45" y="0"/>
                  </a:moveTo>
                  <a:lnTo>
                    <a:pt x="80" y="77"/>
                  </a:lnTo>
                  <a:lnTo>
                    <a:pt x="82" y="87"/>
                  </a:lnTo>
                  <a:lnTo>
                    <a:pt x="80" y="95"/>
                  </a:lnTo>
                  <a:lnTo>
                    <a:pt x="74" y="102"/>
                  </a:lnTo>
                  <a:lnTo>
                    <a:pt x="66" y="106"/>
                  </a:lnTo>
                  <a:lnTo>
                    <a:pt x="57" y="108"/>
                  </a:lnTo>
                  <a:lnTo>
                    <a:pt x="49" y="106"/>
                  </a:lnTo>
                  <a:lnTo>
                    <a:pt x="41" y="102"/>
                  </a:lnTo>
                  <a:lnTo>
                    <a:pt x="35" y="93"/>
                  </a:lnTo>
                  <a:lnTo>
                    <a:pt x="0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89560" y="3284640"/>
              <a:ext cx="20520" cy="28440"/>
            </a:xfrm>
            <a:custGeom>
              <a:avLst/>
              <a:gdLst/>
              <a:ahLst/>
              <a:rect l="l" t="t" r="r" b="b"/>
              <a:pathLst>
                <a:path w="293" h="319">
                  <a:moveTo>
                    <a:pt x="247" y="317"/>
                  </a:moveTo>
                  <a:lnTo>
                    <a:pt x="261" y="307"/>
                  </a:lnTo>
                  <a:lnTo>
                    <a:pt x="275" y="287"/>
                  </a:lnTo>
                  <a:lnTo>
                    <a:pt x="285" y="256"/>
                  </a:lnTo>
                  <a:lnTo>
                    <a:pt x="292" y="218"/>
                  </a:lnTo>
                  <a:lnTo>
                    <a:pt x="293" y="173"/>
                  </a:lnTo>
                  <a:lnTo>
                    <a:pt x="288" y="120"/>
                  </a:lnTo>
                  <a:lnTo>
                    <a:pt x="274" y="62"/>
                  </a:lnTo>
                  <a:lnTo>
                    <a:pt x="251" y="0"/>
                  </a:lnTo>
                  <a:lnTo>
                    <a:pt x="235" y="5"/>
                  </a:lnTo>
                  <a:lnTo>
                    <a:pt x="219" y="10"/>
                  </a:lnTo>
                  <a:lnTo>
                    <a:pt x="204" y="17"/>
                  </a:lnTo>
                  <a:lnTo>
                    <a:pt x="188" y="22"/>
                  </a:lnTo>
                  <a:lnTo>
                    <a:pt x="172" y="28"/>
                  </a:lnTo>
                  <a:lnTo>
                    <a:pt x="157" y="34"/>
                  </a:lnTo>
                  <a:lnTo>
                    <a:pt x="140" y="40"/>
                  </a:lnTo>
                  <a:lnTo>
                    <a:pt x="125" y="45"/>
                  </a:lnTo>
                  <a:lnTo>
                    <a:pt x="110" y="52"/>
                  </a:lnTo>
                  <a:lnTo>
                    <a:pt x="94" y="58"/>
                  </a:lnTo>
                  <a:lnTo>
                    <a:pt x="78" y="63"/>
                  </a:lnTo>
                  <a:lnTo>
                    <a:pt x="63" y="69"/>
                  </a:lnTo>
                  <a:lnTo>
                    <a:pt x="47" y="75"/>
                  </a:lnTo>
                  <a:lnTo>
                    <a:pt x="31" y="81"/>
                  </a:lnTo>
                  <a:lnTo>
                    <a:pt x="15" y="86"/>
                  </a:lnTo>
                  <a:lnTo>
                    <a:pt x="0" y="92"/>
                  </a:lnTo>
                  <a:lnTo>
                    <a:pt x="15" y="122"/>
                  </a:lnTo>
                  <a:lnTo>
                    <a:pt x="30" y="152"/>
                  </a:lnTo>
                  <a:lnTo>
                    <a:pt x="48" y="177"/>
                  </a:lnTo>
                  <a:lnTo>
                    <a:pt x="65" y="201"/>
                  </a:lnTo>
                  <a:lnTo>
                    <a:pt x="82" y="222"/>
                  </a:lnTo>
                  <a:lnTo>
                    <a:pt x="101" y="242"/>
                  </a:lnTo>
                  <a:lnTo>
                    <a:pt x="119" y="259"/>
                  </a:lnTo>
                  <a:lnTo>
                    <a:pt x="136" y="274"/>
                  </a:lnTo>
                  <a:lnTo>
                    <a:pt x="154" y="287"/>
                  </a:lnTo>
                  <a:lnTo>
                    <a:pt x="171" y="297"/>
                  </a:lnTo>
                  <a:lnTo>
                    <a:pt x="186" y="306"/>
                  </a:lnTo>
                  <a:lnTo>
                    <a:pt x="202" y="312"/>
                  </a:lnTo>
                  <a:lnTo>
                    <a:pt x="215" y="316"/>
                  </a:lnTo>
                  <a:lnTo>
                    <a:pt x="227" y="318"/>
                  </a:lnTo>
                  <a:lnTo>
                    <a:pt x="238" y="319"/>
                  </a:lnTo>
                  <a:lnTo>
                    <a:pt x="247" y="31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11800" y="3071880"/>
              <a:ext cx="95040" cy="220680"/>
            </a:xfrm>
            <a:custGeom>
              <a:avLst/>
              <a:gdLst/>
              <a:ahLst/>
              <a:rect l="l" t="t" r="r" b="b"/>
              <a:pathLst>
                <a:path w="1314" h="2506">
                  <a:moveTo>
                    <a:pt x="198" y="0"/>
                  </a:moveTo>
                  <a:lnTo>
                    <a:pt x="0" y="66"/>
                  </a:lnTo>
                  <a:lnTo>
                    <a:pt x="1064" y="2506"/>
                  </a:lnTo>
                  <a:lnTo>
                    <a:pt x="1314" y="2421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08560" y="3060720"/>
              <a:ext cx="17280" cy="15840"/>
            </a:xfrm>
            <a:custGeom>
              <a:avLst/>
              <a:gdLst/>
              <a:ahLst/>
              <a:rect l="l" t="t" r="r" b="b"/>
              <a:pathLst>
                <a:path w="235" h="179">
                  <a:moveTo>
                    <a:pt x="235" y="111"/>
                  </a:moveTo>
                  <a:lnTo>
                    <a:pt x="36" y="179"/>
                  </a:lnTo>
                  <a:lnTo>
                    <a:pt x="0" y="97"/>
                  </a:lnTo>
                  <a:lnTo>
                    <a:pt x="70" y="0"/>
                  </a:lnTo>
                  <a:lnTo>
                    <a:pt x="199" y="30"/>
                  </a:lnTo>
                  <a:lnTo>
                    <a:pt x="235" y="11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325840" y="2760480"/>
              <a:ext cx="3304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6"/>
                  </a:moveTo>
                  <a:lnTo>
                    <a:pt x="3650" y="0"/>
                  </a:lnTo>
                  <a:lnTo>
                    <a:pt x="4569" y="1998"/>
                  </a:lnTo>
                  <a:lnTo>
                    <a:pt x="873" y="3641"/>
                  </a:lnTo>
                  <a:lnTo>
                    <a:pt x="0" y="162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97400" y="266868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6">
                  <a:moveTo>
                    <a:pt x="2496" y="7056"/>
                  </a:moveTo>
                  <a:lnTo>
                    <a:pt x="5894" y="5433"/>
                  </a:lnTo>
                  <a:lnTo>
                    <a:pt x="5912" y="5421"/>
                  </a:lnTo>
                  <a:lnTo>
                    <a:pt x="5927" y="5407"/>
                  </a:lnTo>
                  <a:lnTo>
                    <a:pt x="5941" y="5389"/>
                  </a:lnTo>
                  <a:lnTo>
                    <a:pt x="5950" y="5369"/>
                  </a:lnTo>
                  <a:lnTo>
                    <a:pt x="5955" y="5348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5"/>
                  </a:lnTo>
                  <a:lnTo>
                    <a:pt x="3492" y="47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9"/>
                  </a:lnTo>
                  <a:lnTo>
                    <a:pt x="3420" y="3"/>
                  </a:lnTo>
                  <a:lnTo>
                    <a:pt x="3399" y="0"/>
                  </a:lnTo>
                  <a:lnTo>
                    <a:pt x="3377" y="3"/>
                  </a:lnTo>
                  <a:lnTo>
                    <a:pt x="3357" y="9"/>
                  </a:lnTo>
                  <a:lnTo>
                    <a:pt x="63" y="1487"/>
                  </a:lnTo>
                  <a:lnTo>
                    <a:pt x="45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6"/>
                  </a:lnTo>
                  <a:lnTo>
                    <a:pt x="9" y="1637"/>
                  </a:lnTo>
                  <a:lnTo>
                    <a:pt x="2350" y="7000"/>
                  </a:lnTo>
                  <a:lnTo>
                    <a:pt x="2361" y="7018"/>
                  </a:lnTo>
                  <a:lnTo>
                    <a:pt x="2376" y="7034"/>
                  </a:lnTo>
                  <a:lnTo>
                    <a:pt x="2393" y="7048"/>
                  </a:lnTo>
                  <a:lnTo>
                    <a:pt x="2412" y="7057"/>
                  </a:lnTo>
                  <a:lnTo>
                    <a:pt x="2433" y="7064"/>
                  </a:lnTo>
                  <a:lnTo>
                    <a:pt x="2454" y="7066"/>
                  </a:lnTo>
                  <a:lnTo>
                    <a:pt x="2476" y="7064"/>
                  </a:lnTo>
                  <a:lnTo>
                    <a:pt x="2496" y="7056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89360" y="2749680"/>
              <a:ext cx="81000" cy="1918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7" y="2127"/>
                  </a:moveTo>
                  <a:lnTo>
                    <a:pt x="0" y="131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6" y="29"/>
                  </a:lnTo>
                  <a:lnTo>
                    <a:pt x="143" y="44"/>
                  </a:lnTo>
                  <a:lnTo>
                    <a:pt x="180" y="61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8" y="159"/>
                  </a:lnTo>
                  <a:lnTo>
                    <a:pt x="393" y="181"/>
                  </a:lnTo>
                  <a:lnTo>
                    <a:pt x="428" y="204"/>
                  </a:lnTo>
                  <a:lnTo>
                    <a:pt x="461" y="228"/>
                  </a:lnTo>
                  <a:lnTo>
                    <a:pt x="495" y="252"/>
                  </a:lnTo>
                  <a:lnTo>
                    <a:pt x="528" y="279"/>
                  </a:lnTo>
                  <a:lnTo>
                    <a:pt x="560" y="305"/>
                  </a:lnTo>
                  <a:lnTo>
                    <a:pt x="592" y="333"/>
                  </a:lnTo>
                  <a:lnTo>
                    <a:pt x="624" y="361"/>
                  </a:lnTo>
                  <a:lnTo>
                    <a:pt x="654" y="389"/>
                  </a:lnTo>
                  <a:lnTo>
                    <a:pt x="684" y="419"/>
                  </a:lnTo>
                  <a:lnTo>
                    <a:pt x="713" y="450"/>
                  </a:lnTo>
                  <a:lnTo>
                    <a:pt x="742" y="481"/>
                  </a:lnTo>
                  <a:lnTo>
                    <a:pt x="769" y="513"/>
                  </a:lnTo>
                  <a:lnTo>
                    <a:pt x="796" y="545"/>
                  </a:lnTo>
                  <a:lnTo>
                    <a:pt x="822" y="578"/>
                  </a:lnTo>
                  <a:lnTo>
                    <a:pt x="847" y="612"/>
                  </a:lnTo>
                  <a:lnTo>
                    <a:pt x="871" y="647"/>
                  </a:lnTo>
                  <a:lnTo>
                    <a:pt x="895" y="681"/>
                  </a:lnTo>
                  <a:lnTo>
                    <a:pt x="917" y="717"/>
                  </a:lnTo>
                  <a:lnTo>
                    <a:pt x="939" y="754"/>
                  </a:lnTo>
                  <a:lnTo>
                    <a:pt x="959" y="791"/>
                  </a:lnTo>
                  <a:lnTo>
                    <a:pt x="979" y="828"/>
                  </a:lnTo>
                  <a:lnTo>
                    <a:pt x="997" y="866"/>
                  </a:lnTo>
                  <a:lnTo>
                    <a:pt x="1026" y="938"/>
                  </a:lnTo>
                  <a:lnTo>
                    <a:pt x="1053" y="1015"/>
                  </a:lnTo>
                  <a:lnTo>
                    <a:pt x="1075" y="1096"/>
                  </a:lnTo>
                  <a:lnTo>
                    <a:pt x="1095" y="1180"/>
                  </a:lnTo>
                  <a:lnTo>
                    <a:pt x="1110" y="1267"/>
                  </a:lnTo>
                  <a:lnTo>
                    <a:pt x="1121" y="1356"/>
                  </a:lnTo>
                  <a:lnTo>
                    <a:pt x="1130" y="1446"/>
                  </a:lnTo>
                  <a:lnTo>
                    <a:pt x="1134" y="1536"/>
                  </a:lnTo>
                  <a:lnTo>
                    <a:pt x="1134" y="1626"/>
                  </a:lnTo>
                  <a:lnTo>
                    <a:pt x="1131" y="1716"/>
                  </a:lnTo>
                  <a:lnTo>
                    <a:pt x="1122" y="1802"/>
                  </a:lnTo>
                  <a:lnTo>
                    <a:pt x="1111" y="1886"/>
                  </a:lnTo>
                  <a:lnTo>
                    <a:pt x="1096" y="1967"/>
                  </a:lnTo>
                  <a:lnTo>
                    <a:pt x="1076" y="2044"/>
                  </a:lnTo>
                  <a:lnTo>
                    <a:pt x="1053" y="2115"/>
                  </a:lnTo>
                  <a:lnTo>
                    <a:pt x="1025" y="2180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86240" y="2727360"/>
              <a:ext cx="328680" cy="320760"/>
            </a:xfrm>
            <a:custGeom>
              <a:avLst/>
              <a:gdLst/>
              <a:ahLst/>
              <a:rect l="l" t="t" r="r" b="b"/>
              <a:pathLst>
                <a:path w="4569" h="3641">
                  <a:moveTo>
                    <a:pt x="0" y="1625"/>
                  </a:moveTo>
                  <a:lnTo>
                    <a:pt x="3650" y="0"/>
                  </a:lnTo>
                  <a:lnTo>
                    <a:pt x="4569" y="1997"/>
                  </a:lnTo>
                  <a:lnTo>
                    <a:pt x="873" y="3641"/>
                  </a:lnTo>
                  <a:lnTo>
                    <a:pt x="0" y="162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57800" y="2635200"/>
              <a:ext cx="430200" cy="623880"/>
            </a:xfrm>
            <a:custGeom>
              <a:avLst/>
              <a:gdLst/>
              <a:ahLst/>
              <a:rect l="l" t="t" r="r" b="b"/>
              <a:pathLst>
                <a:path w="5957" h="7065">
                  <a:moveTo>
                    <a:pt x="2497" y="7056"/>
                  </a:moveTo>
                  <a:lnTo>
                    <a:pt x="5894" y="5432"/>
                  </a:lnTo>
                  <a:lnTo>
                    <a:pt x="5912" y="5421"/>
                  </a:lnTo>
                  <a:lnTo>
                    <a:pt x="5928" y="5406"/>
                  </a:lnTo>
                  <a:lnTo>
                    <a:pt x="5941" y="5388"/>
                  </a:lnTo>
                  <a:lnTo>
                    <a:pt x="5950" y="5368"/>
                  </a:lnTo>
                  <a:lnTo>
                    <a:pt x="5955" y="5347"/>
                  </a:lnTo>
                  <a:lnTo>
                    <a:pt x="5957" y="5325"/>
                  </a:lnTo>
                  <a:lnTo>
                    <a:pt x="5955" y="5303"/>
                  </a:lnTo>
                  <a:lnTo>
                    <a:pt x="5948" y="5282"/>
                  </a:lnTo>
                  <a:lnTo>
                    <a:pt x="3503" y="64"/>
                  </a:lnTo>
                  <a:lnTo>
                    <a:pt x="3492" y="46"/>
                  </a:lnTo>
                  <a:lnTo>
                    <a:pt x="3477" y="31"/>
                  </a:lnTo>
                  <a:lnTo>
                    <a:pt x="3460" y="18"/>
                  </a:lnTo>
                  <a:lnTo>
                    <a:pt x="3441" y="8"/>
                  </a:lnTo>
                  <a:lnTo>
                    <a:pt x="3420" y="2"/>
                  </a:lnTo>
                  <a:lnTo>
                    <a:pt x="3399" y="0"/>
                  </a:lnTo>
                  <a:lnTo>
                    <a:pt x="3377" y="2"/>
                  </a:lnTo>
                  <a:lnTo>
                    <a:pt x="3357" y="8"/>
                  </a:lnTo>
                  <a:lnTo>
                    <a:pt x="63" y="1486"/>
                  </a:lnTo>
                  <a:lnTo>
                    <a:pt x="45" y="1497"/>
                  </a:lnTo>
                  <a:lnTo>
                    <a:pt x="30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3" y="1615"/>
                  </a:lnTo>
                  <a:lnTo>
                    <a:pt x="9" y="1636"/>
                  </a:lnTo>
                  <a:lnTo>
                    <a:pt x="2351" y="6999"/>
                  </a:lnTo>
                  <a:lnTo>
                    <a:pt x="2362" y="7018"/>
                  </a:lnTo>
                  <a:lnTo>
                    <a:pt x="2377" y="7034"/>
                  </a:lnTo>
                  <a:lnTo>
                    <a:pt x="2394" y="7048"/>
                  </a:lnTo>
                  <a:lnTo>
                    <a:pt x="2413" y="7057"/>
                  </a:lnTo>
                  <a:lnTo>
                    <a:pt x="2434" y="7063"/>
                  </a:lnTo>
                  <a:lnTo>
                    <a:pt x="2455" y="7065"/>
                  </a:lnTo>
                  <a:lnTo>
                    <a:pt x="2477" y="7063"/>
                  </a:lnTo>
                  <a:lnTo>
                    <a:pt x="2497" y="70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57800" y="2635200"/>
              <a:ext cx="257040" cy="157320"/>
            </a:xfrm>
            <a:custGeom>
              <a:avLst/>
              <a:gdLst/>
              <a:ahLst/>
              <a:rect l="l" t="t" r="r" b="b"/>
              <a:pathLst>
                <a:path w="3562" h="1773">
                  <a:moveTo>
                    <a:pt x="3562" y="1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68" y="1773"/>
                  </a:lnTo>
                  <a:lnTo>
                    <a:pt x="3562" y="183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57800" y="2635200"/>
              <a:ext cx="255600" cy="154080"/>
            </a:xfrm>
            <a:custGeom>
              <a:avLst/>
              <a:gdLst/>
              <a:ahLst/>
              <a:rect l="l" t="t" r="r" b="b"/>
              <a:pathLst>
                <a:path w="3550" h="1748">
                  <a:moveTo>
                    <a:pt x="3550" y="163"/>
                  </a:moveTo>
                  <a:lnTo>
                    <a:pt x="3545" y="153"/>
                  </a:lnTo>
                  <a:lnTo>
                    <a:pt x="3541" y="144"/>
                  </a:lnTo>
                  <a:lnTo>
                    <a:pt x="3538" y="137"/>
                  </a:lnTo>
                  <a:lnTo>
                    <a:pt x="3533" y="130"/>
                  </a:lnTo>
                  <a:lnTo>
                    <a:pt x="3529" y="120"/>
                  </a:lnTo>
                  <a:lnTo>
                    <a:pt x="3523" y="108"/>
                  </a:lnTo>
                  <a:lnTo>
                    <a:pt x="3514" y="90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1" y="1665"/>
                  </a:lnTo>
                  <a:lnTo>
                    <a:pt x="26" y="1673"/>
                  </a:lnTo>
                  <a:lnTo>
                    <a:pt x="31" y="1685"/>
                  </a:lnTo>
                  <a:lnTo>
                    <a:pt x="37" y="1699"/>
                  </a:lnTo>
                  <a:lnTo>
                    <a:pt x="46" y="1719"/>
                  </a:lnTo>
                  <a:lnTo>
                    <a:pt x="57" y="1748"/>
                  </a:lnTo>
                  <a:lnTo>
                    <a:pt x="162" y="1700"/>
                  </a:lnTo>
                  <a:lnTo>
                    <a:pt x="259" y="1656"/>
                  </a:lnTo>
                  <a:lnTo>
                    <a:pt x="348" y="1616"/>
                  </a:lnTo>
                  <a:lnTo>
                    <a:pt x="430" y="1579"/>
                  </a:lnTo>
                  <a:lnTo>
                    <a:pt x="508" y="1543"/>
                  </a:lnTo>
                  <a:lnTo>
                    <a:pt x="579" y="1511"/>
                  </a:lnTo>
                  <a:lnTo>
                    <a:pt x="648" y="1480"/>
                  </a:lnTo>
                  <a:lnTo>
                    <a:pt x="713" y="1451"/>
                  </a:lnTo>
                  <a:lnTo>
                    <a:pt x="776" y="1422"/>
                  </a:lnTo>
                  <a:lnTo>
                    <a:pt x="837" y="1395"/>
                  </a:lnTo>
                  <a:lnTo>
                    <a:pt x="898" y="1367"/>
                  </a:lnTo>
                  <a:lnTo>
                    <a:pt x="959" y="1340"/>
                  </a:lnTo>
                  <a:lnTo>
                    <a:pt x="1021" y="1311"/>
                  </a:lnTo>
                  <a:lnTo>
                    <a:pt x="1085" y="1282"/>
                  </a:lnTo>
                  <a:lnTo>
                    <a:pt x="1153" y="1251"/>
                  </a:lnTo>
                  <a:lnTo>
                    <a:pt x="1223" y="1220"/>
                  </a:lnTo>
                  <a:lnTo>
                    <a:pt x="1299" y="1186"/>
                  </a:lnTo>
                  <a:lnTo>
                    <a:pt x="1379" y="1149"/>
                  </a:lnTo>
                  <a:lnTo>
                    <a:pt x="1466" y="1110"/>
                  </a:lnTo>
                  <a:lnTo>
                    <a:pt x="1560" y="1067"/>
                  </a:lnTo>
                  <a:lnTo>
                    <a:pt x="1662" y="1020"/>
                  </a:lnTo>
                  <a:lnTo>
                    <a:pt x="1772" y="971"/>
                  </a:lnTo>
                  <a:lnTo>
                    <a:pt x="1892" y="916"/>
                  </a:lnTo>
                  <a:lnTo>
                    <a:pt x="2024" y="857"/>
                  </a:lnTo>
                  <a:lnTo>
                    <a:pt x="2166" y="792"/>
                  </a:lnTo>
                  <a:lnTo>
                    <a:pt x="2320" y="722"/>
                  </a:lnTo>
                  <a:lnTo>
                    <a:pt x="2488" y="646"/>
                  </a:lnTo>
                  <a:lnTo>
                    <a:pt x="2668" y="564"/>
                  </a:lnTo>
                  <a:lnTo>
                    <a:pt x="2864" y="474"/>
                  </a:lnTo>
                  <a:lnTo>
                    <a:pt x="3075" y="378"/>
                  </a:lnTo>
                  <a:lnTo>
                    <a:pt x="3304" y="275"/>
                  </a:lnTo>
                  <a:lnTo>
                    <a:pt x="3550" y="163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57800" y="2635200"/>
              <a:ext cx="255600" cy="152280"/>
            </a:xfrm>
            <a:custGeom>
              <a:avLst/>
              <a:gdLst/>
              <a:ahLst/>
              <a:rect l="l" t="t" r="r" b="b"/>
              <a:pathLst>
                <a:path w="3539" h="1724">
                  <a:moveTo>
                    <a:pt x="3539" y="143"/>
                  </a:moveTo>
                  <a:lnTo>
                    <a:pt x="3534" y="135"/>
                  </a:lnTo>
                  <a:lnTo>
                    <a:pt x="3531" y="129"/>
                  </a:lnTo>
                  <a:lnTo>
                    <a:pt x="3529" y="123"/>
                  </a:lnTo>
                  <a:lnTo>
                    <a:pt x="3526" y="117"/>
                  </a:lnTo>
                  <a:lnTo>
                    <a:pt x="3523" y="110"/>
                  </a:lnTo>
                  <a:lnTo>
                    <a:pt x="3518" y="99"/>
                  </a:lnTo>
                  <a:lnTo>
                    <a:pt x="3511" y="84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6"/>
                  </a:lnTo>
                  <a:lnTo>
                    <a:pt x="16" y="1652"/>
                  </a:lnTo>
                  <a:lnTo>
                    <a:pt x="19" y="1658"/>
                  </a:lnTo>
                  <a:lnTo>
                    <a:pt x="22" y="1666"/>
                  </a:lnTo>
                  <a:lnTo>
                    <a:pt x="26" y="1674"/>
                  </a:lnTo>
                  <a:lnTo>
                    <a:pt x="31" y="1686"/>
                  </a:lnTo>
                  <a:lnTo>
                    <a:pt x="37" y="1702"/>
                  </a:lnTo>
                  <a:lnTo>
                    <a:pt x="46" y="1724"/>
                  </a:lnTo>
                  <a:lnTo>
                    <a:pt x="151" y="1676"/>
                  </a:lnTo>
                  <a:lnTo>
                    <a:pt x="248" y="1633"/>
                  </a:lnTo>
                  <a:lnTo>
                    <a:pt x="337" y="1592"/>
                  </a:lnTo>
                  <a:lnTo>
                    <a:pt x="419" y="1555"/>
                  </a:lnTo>
                  <a:lnTo>
                    <a:pt x="497" y="1520"/>
                  </a:lnTo>
                  <a:lnTo>
                    <a:pt x="568" y="1488"/>
                  </a:lnTo>
                  <a:lnTo>
                    <a:pt x="637" y="1457"/>
                  </a:lnTo>
                  <a:lnTo>
                    <a:pt x="702" y="1427"/>
                  </a:lnTo>
                  <a:lnTo>
                    <a:pt x="765" y="1399"/>
                  </a:lnTo>
                  <a:lnTo>
                    <a:pt x="826" y="1372"/>
                  </a:lnTo>
                  <a:lnTo>
                    <a:pt x="886" y="1344"/>
                  </a:lnTo>
                  <a:lnTo>
                    <a:pt x="948" y="1316"/>
                  </a:lnTo>
                  <a:lnTo>
                    <a:pt x="1010" y="1288"/>
                  </a:lnTo>
                  <a:lnTo>
                    <a:pt x="1074" y="1259"/>
                  </a:lnTo>
                  <a:lnTo>
                    <a:pt x="1141" y="1229"/>
                  </a:lnTo>
                  <a:lnTo>
                    <a:pt x="1212" y="1197"/>
                  </a:lnTo>
                  <a:lnTo>
                    <a:pt x="1287" y="1163"/>
                  </a:lnTo>
                  <a:lnTo>
                    <a:pt x="1368" y="1126"/>
                  </a:lnTo>
                  <a:lnTo>
                    <a:pt x="1455" y="1087"/>
                  </a:lnTo>
                  <a:lnTo>
                    <a:pt x="1548" y="1045"/>
                  </a:lnTo>
                  <a:lnTo>
                    <a:pt x="1650" y="998"/>
                  </a:lnTo>
                  <a:lnTo>
                    <a:pt x="1761" y="949"/>
                  </a:lnTo>
                  <a:lnTo>
                    <a:pt x="1881" y="894"/>
                  </a:lnTo>
                  <a:lnTo>
                    <a:pt x="2013" y="835"/>
                  </a:lnTo>
                  <a:lnTo>
                    <a:pt x="2154" y="771"/>
                  </a:lnTo>
                  <a:lnTo>
                    <a:pt x="2308" y="700"/>
                  </a:lnTo>
                  <a:lnTo>
                    <a:pt x="2477" y="625"/>
                  </a:lnTo>
                  <a:lnTo>
                    <a:pt x="2657" y="543"/>
                  </a:lnTo>
                  <a:lnTo>
                    <a:pt x="2853" y="453"/>
                  </a:lnTo>
                  <a:lnTo>
                    <a:pt x="3064" y="357"/>
                  </a:lnTo>
                  <a:lnTo>
                    <a:pt x="3293" y="254"/>
                  </a:lnTo>
                  <a:lnTo>
                    <a:pt x="3539" y="143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57800" y="2635200"/>
              <a:ext cx="253800" cy="149400"/>
            </a:xfrm>
            <a:custGeom>
              <a:avLst/>
              <a:gdLst/>
              <a:ahLst/>
              <a:rect l="l" t="t" r="r" b="b"/>
              <a:pathLst>
                <a:path w="3526" h="1698">
                  <a:moveTo>
                    <a:pt x="3526" y="123"/>
                  </a:moveTo>
                  <a:lnTo>
                    <a:pt x="3522" y="112"/>
                  </a:lnTo>
                  <a:lnTo>
                    <a:pt x="3518" y="103"/>
                  </a:lnTo>
                  <a:lnTo>
                    <a:pt x="3513" y="9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4" y="1648"/>
                  </a:lnTo>
                  <a:lnTo>
                    <a:pt x="18" y="1657"/>
                  </a:lnTo>
                  <a:lnTo>
                    <a:pt x="25" y="1671"/>
                  </a:lnTo>
                  <a:lnTo>
                    <a:pt x="36" y="1698"/>
                  </a:lnTo>
                  <a:lnTo>
                    <a:pt x="141" y="1651"/>
                  </a:lnTo>
                  <a:lnTo>
                    <a:pt x="237" y="1608"/>
                  </a:lnTo>
                  <a:lnTo>
                    <a:pt x="326" y="1568"/>
                  </a:lnTo>
                  <a:lnTo>
                    <a:pt x="409" y="1530"/>
                  </a:lnTo>
                  <a:lnTo>
                    <a:pt x="486" y="1496"/>
                  </a:lnTo>
                  <a:lnTo>
                    <a:pt x="558" y="1463"/>
                  </a:lnTo>
                  <a:lnTo>
                    <a:pt x="626" y="1433"/>
                  </a:lnTo>
                  <a:lnTo>
                    <a:pt x="691" y="1403"/>
                  </a:lnTo>
                  <a:lnTo>
                    <a:pt x="754" y="1375"/>
                  </a:lnTo>
                  <a:lnTo>
                    <a:pt x="815" y="1347"/>
                  </a:lnTo>
                  <a:lnTo>
                    <a:pt x="875" y="1320"/>
                  </a:lnTo>
                  <a:lnTo>
                    <a:pt x="936" y="1292"/>
                  </a:lnTo>
                  <a:lnTo>
                    <a:pt x="999" y="1264"/>
                  </a:lnTo>
                  <a:lnTo>
                    <a:pt x="1063" y="1236"/>
                  </a:lnTo>
                  <a:lnTo>
                    <a:pt x="1130" y="1205"/>
                  </a:lnTo>
                  <a:lnTo>
                    <a:pt x="1201" y="1173"/>
                  </a:lnTo>
                  <a:lnTo>
                    <a:pt x="1276" y="1140"/>
                  </a:lnTo>
                  <a:lnTo>
                    <a:pt x="1357" y="1103"/>
                  </a:lnTo>
                  <a:lnTo>
                    <a:pt x="1443" y="1064"/>
                  </a:lnTo>
                  <a:lnTo>
                    <a:pt x="1537" y="1022"/>
                  </a:lnTo>
                  <a:lnTo>
                    <a:pt x="1639" y="975"/>
                  </a:lnTo>
                  <a:lnTo>
                    <a:pt x="1749" y="926"/>
                  </a:lnTo>
                  <a:lnTo>
                    <a:pt x="1870" y="872"/>
                  </a:lnTo>
                  <a:lnTo>
                    <a:pt x="2000" y="813"/>
                  </a:lnTo>
                  <a:lnTo>
                    <a:pt x="2143" y="749"/>
                  </a:lnTo>
                  <a:lnTo>
                    <a:pt x="2297" y="679"/>
                  </a:lnTo>
                  <a:lnTo>
                    <a:pt x="2464" y="603"/>
                  </a:lnTo>
                  <a:lnTo>
                    <a:pt x="2646" y="521"/>
                  </a:lnTo>
                  <a:lnTo>
                    <a:pt x="2841" y="432"/>
                  </a:lnTo>
                  <a:lnTo>
                    <a:pt x="3053" y="337"/>
                  </a:lnTo>
                  <a:lnTo>
                    <a:pt x="3281" y="234"/>
                  </a:lnTo>
                  <a:lnTo>
                    <a:pt x="3526" y="123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257800" y="2635200"/>
              <a:ext cx="253800" cy="147600"/>
            </a:xfrm>
            <a:custGeom>
              <a:avLst/>
              <a:gdLst/>
              <a:ahLst/>
              <a:rect l="l" t="t" r="r" b="b"/>
              <a:pathLst>
                <a:path w="3515" h="1674">
                  <a:moveTo>
                    <a:pt x="3515" y="103"/>
                  </a:moveTo>
                  <a:lnTo>
                    <a:pt x="3513" y="96"/>
                  </a:lnTo>
                  <a:lnTo>
                    <a:pt x="3511" y="91"/>
                  </a:lnTo>
                  <a:lnTo>
                    <a:pt x="3508" y="81"/>
                  </a:ln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3257" y="53"/>
                  </a:lnTo>
                  <a:lnTo>
                    <a:pt x="3166" y="94"/>
                  </a:lnTo>
                  <a:lnTo>
                    <a:pt x="3083" y="131"/>
                  </a:lnTo>
                  <a:lnTo>
                    <a:pt x="3004" y="167"/>
                  </a:lnTo>
                  <a:lnTo>
                    <a:pt x="2932" y="198"/>
                  </a:lnTo>
                  <a:lnTo>
                    <a:pt x="2864" y="229"/>
                  </a:lnTo>
                  <a:lnTo>
                    <a:pt x="2800" y="258"/>
                  </a:lnTo>
                  <a:lnTo>
                    <a:pt x="2740" y="286"/>
                  </a:lnTo>
                  <a:lnTo>
                    <a:pt x="2681" y="312"/>
                  </a:lnTo>
                  <a:lnTo>
                    <a:pt x="2623" y="337"/>
                  </a:lnTo>
                  <a:lnTo>
                    <a:pt x="2565" y="364"/>
                  </a:lnTo>
                  <a:lnTo>
                    <a:pt x="2508" y="389"/>
                  </a:lnTo>
                  <a:lnTo>
                    <a:pt x="2450" y="415"/>
                  </a:lnTo>
                  <a:lnTo>
                    <a:pt x="2389" y="443"/>
                  </a:lnTo>
                  <a:lnTo>
                    <a:pt x="2327" y="471"/>
                  </a:lnTo>
                  <a:lnTo>
                    <a:pt x="2259" y="501"/>
                  </a:lnTo>
                  <a:lnTo>
                    <a:pt x="2189" y="532"/>
                  </a:lnTo>
                  <a:lnTo>
                    <a:pt x="2113" y="567"/>
                  </a:lnTo>
                  <a:lnTo>
                    <a:pt x="2031" y="603"/>
                  </a:lnTo>
                  <a:lnTo>
                    <a:pt x="1942" y="643"/>
                  </a:lnTo>
                  <a:lnTo>
                    <a:pt x="1846" y="686"/>
                  </a:lnTo>
                  <a:lnTo>
                    <a:pt x="1741" y="733"/>
                  </a:lnTo>
                  <a:lnTo>
                    <a:pt x="1628" y="784"/>
                  </a:lnTo>
                  <a:lnTo>
                    <a:pt x="1505" y="839"/>
                  </a:lnTo>
                  <a:lnTo>
                    <a:pt x="1370" y="899"/>
                  </a:lnTo>
                  <a:lnTo>
                    <a:pt x="1224" y="966"/>
                  </a:lnTo>
                  <a:lnTo>
                    <a:pt x="1066" y="1036"/>
                  </a:lnTo>
                  <a:lnTo>
                    <a:pt x="895" y="1113"/>
                  </a:lnTo>
                  <a:lnTo>
                    <a:pt x="710" y="1195"/>
                  </a:lnTo>
                  <a:lnTo>
                    <a:pt x="510" y="1286"/>
                  </a:lnTo>
                  <a:lnTo>
                    <a:pt x="294" y="1382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2" y="1644"/>
                  </a:lnTo>
                  <a:lnTo>
                    <a:pt x="15" y="1649"/>
                  </a:lnTo>
                  <a:lnTo>
                    <a:pt x="18" y="1657"/>
                  </a:lnTo>
                  <a:lnTo>
                    <a:pt x="25" y="1674"/>
                  </a:lnTo>
                  <a:lnTo>
                    <a:pt x="130" y="1627"/>
                  </a:lnTo>
                  <a:lnTo>
                    <a:pt x="225" y="1583"/>
                  </a:lnTo>
                  <a:lnTo>
                    <a:pt x="315" y="1543"/>
                  </a:lnTo>
                  <a:lnTo>
                    <a:pt x="398" y="1506"/>
                  </a:lnTo>
                  <a:lnTo>
                    <a:pt x="474" y="1472"/>
                  </a:lnTo>
                  <a:lnTo>
                    <a:pt x="547" y="1439"/>
                  </a:lnTo>
                  <a:lnTo>
                    <a:pt x="615" y="1408"/>
                  </a:lnTo>
                  <a:lnTo>
                    <a:pt x="679" y="1379"/>
                  </a:lnTo>
                  <a:lnTo>
                    <a:pt x="743" y="1352"/>
                  </a:lnTo>
                  <a:lnTo>
                    <a:pt x="804" y="1324"/>
                  </a:lnTo>
                  <a:lnTo>
                    <a:pt x="864" y="1297"/>
                  </a:lnTo>
                  <a:lnTo>
                    <a:pt x="925" y="1269"/>
                  </a:lnTo>
                  <a:lnTo>
                    <a:pt x="987" y="1241"/>
                  </a:lnTo>
                  <a:lnTo>
                    <a:pt x="1052" y="1212"/>
                  </a:lnTo>
                  <a:lnTo>
                    <a:pt x="1119" y="1182"/>
                  </a:lnTo>
                  <a:lnTo>
                    <a:pt x="1189" y="1150"/>
                  </a:lnTo>
                  <a:lnTo>
                    <a:pt x="1265" y="1116"/>
                  </a:lnTo>
                  <a:lnTo>
                    <a:pt x="1345" y="1081"/>
                  </a:lnTo>
                  <a:lnTo>
                    <a:pt x="1432" y="1042"/>
                  </a:lnTo>
                  <a:lnTo>
                    <a:pt x="1526" y="999"/>
                  </a:lnTo>
                  <a:lnTo>
                    <a:pt x="1628" y="953"/>
                  </a:lnTo>
                  <a:lnTo>
                    <a:pt x="1738" y="903"/>
                  </a:lnTo>
                  <a:lnTo>
                    <a:pt x="1859" y="850"/>
                  </a:lnTo>
                  <a:lnTo>
                    <a:pt x="1989" y="791"/>
                  </a:lnTo>
                  <a:lnTo>
                    <a:pt x="2132" y="726"/>
                  </a:lnTo>
                  <a:lnTo>
                    <a:pt x="2286" y="657"/>
                  </a:lnTo>
                  <a:lnTo>
                    <a:pt x="2453" y="582"/>
                  </a:lnTo>
                  <a:lnTo>
                    <a:pt x="2635" y="500"/>
                  </a:lnTo>
                  <a:lnTo>
                    <a:pt x="2830" y="412"/>
                  </a:lnTo>
                  <a:lnTo>
                    <a:pt x="3042" y="316"/>
                  </a:lnTo>
                  <a:lnTo>
                    <a:pt x="3269" y="214"/>
                  </a:lnTo>
                  <a:lnTo>
                    <a:pt x="3515" y="103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257800" y="2635200"/>
              <a:ext cx="252360" cy="146160"/>
            </a:xfrm>
            <a:custGeom>
              <a:avLst/>
              <a:gdLst/>
              <a:ahLst/>
              <a:rect l="l" t="t" r="r" b="b"/>
              <a:pathLst>
                <a:path w="3503" h="1649">
                  <a:moveTo>
                    <a:pt x="3503" y="83"/>
                  </a:moveTo>
                  <a:lnTo>
                    <a:pt x="3502" y="64"/>
                  </a:lnTo>
                  <a:lnTo>
                    <a:pt x="3491" y="46"/>
                  </a:lnTo>
                  <a:lnTo>
                    <a:pt x="3476" y="31"/>
                  </a:lnTo>
                  <a:lnTo>
                    <a:pt x="3459" y="18"/>
                  </a:lnTo>
                  <a:lnTo>
                    <a:pt x="3440" y="8"/>
                  </a:lnTo>
                  <a:lnTo>
                    <a:pt x="3418" y="2"/>
                  </a:lnTo>
                  <a:lnTo>
                    <a:pt x="3397" y="0"/>
                  </a:lnTo>
                  <a:lnTo>
                    <a:pt x="3376" y="2"/>
                  </a:lnTo>
                  <a:lnTo>
                    <a:pt x="3356" y="8"/>
                  </a:lnTo>
                  <a:lnTo>
                    <a:pt x="62" y="1486"/>
                  </a:lnTo>
                  <a:lnTo>
                    <a:pt x="44" y="1497"/>
                  </a:lnTo>
                  <a:lnTo>
                    <a:pt x="29" y="1512"/>
                  </a:lnTo>
                  <a:lnTo>
                    <a:pt x="16" y="1530"/>
                  </a:lnTo>
                  <a:lnTo>
                    <a:pt x="7" y="1550"/>
                  </a:lnTo>
                  <a:lnTo>
                    <a:pt x="2" y="1572"/>
                  </a:lnTo>
                  <a:lnTo>
                    <a:pt x="0" y="1594"/>
                  </a:lnTo>
                  <a:lnTo>
                    <a:pt x="2" y="1615"/>
                  </a:lnTo>
                  <a:lnTo>
                    <a:pt x="8" y="1636"/>
                  </a:lnTo>
                  <a:lnTo>
                    <a:pt x="13" y="1649"/>
                  </a:lnTo>
                  <a:lnTo>
                    <a:pt x="3503" y="8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532480" y="2698560"/>
              <a:ext cx="2880" cy="50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279760" y="2698560"/>
              <a:ext cx="254160" cy="142920"/>
            </a:xfrm>
            <a:custGeom>
              <a:avLst/>
              <a:gdLst/>
              <a:ahLst/>
              <a:rect l="l" t="t" r="r" b="b"/>
              <a:pathLst>
                <a:path w="3529" h="1614">
                  <a:moveTo>
                    <a:pt x="8" y="1596"/>
                  </a:moveTo>
                  <a:lnTo>
                    <a:pt x="0" y="1577"/>
                  </a:lnTo>
                  <a:lnTo>
                    <a:pt x="3513" y="0"/>
                  </a:lnTo>
                  <a:lnTo>
                    <a:pt x="3529" y="38"/>
                  </a:lnTo>
                  <a:lnTo>
                    <a:pt x="16" y="1614"/>
                  </a:lnTo>
                  <a:lnTo>
                    <a:pt x="8" y="159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278320" y="2838240"/>
              <a:ext cx="14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7"/>
                  </a:moveTo>
                  <a:lnTo>
                    <a:pt x="19" y="40"/>
                  </a:lnTo>
                  <a:lnTo>
                    <a:pt x="12" y="37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38600" y="2716200"/>
              <a:ext cx="3240" cy="324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6"/>
                  </a:lnTo>
                  <a:lnTo>
                    <a:pt x="26" y="13"/>
                  </a:lnTo>
                  <a:lnTo>
                    <a:pt x="28" y="21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84800" y="2716200"/>
              <a:ext cx="255600" cy="144360"/>
            </a:xfrm>
            <a:custGeom>
              <a:avLst/>
              <a:gdLst/>
              <a:ahLst/>
              <a:rect l="l" t="t" r="r" b="b"/>
              <a:pathLst>
                <a:path w="3547" h="1633">
                  <a:moveTo>
                    <a:pt x="8" y="1614"/>
                  </a:moveTo>
                  <a:lnTo>
                    <a:pt x="0" y="1595"/>
                  </a:lnTo>
                  <a:lnTo>
                    <a:pt x="3531" y="0"/>
                  </a:lnTo>
                  <a:lnTo>
                    <a:pt x="3547" y="38"/>
                  </a:lnTo>
                  <a:lnTo>
                    <a:pt x="17" y="1633"/>
                  </a:lnTo>
                  <a:lnTo>
                    <a:pt x="8" y="161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83000" y="2857320"/>
              <a:ext cx="3240" cy="324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270400" y="28652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1">
                  <a:moveTo>
                    <a:pt x="230" y="56"/>
                  </a:moveTo>
                  <a:lnTo>
                    <a:pt x="1103" y="2072"/>
                  </a:lnTo>
                  <a:lnTo>
                    <a:pt x="1067" y="2201"/>
                  </a:lnTo>
                  <a:lnTo>
                    <a:pt x="1031" y="2186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80" y="2058"/>
                  </a:lnTo>
                  <a:lnTo>
                    <a:pt x="745" y="2036"/>
                  </a:lnTo>
                  <a:lnTo>
                    <a:pt x="711" y="2012"/>
                  </a:lnTo>
                  <a:lnTo>
                    <a:pt x="677" y="1988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9" y="1911"/>
                  </a:lnTo>
                  <a:lnTo>
                    <a:pt x="547" y="1884"/>
                  </a:lnTo>
                  <a:lnTo>
                    <a:pt x="515" y="1856"/>
                  </a:lnTo>
                  <a:lnTo>
                    <a:pt x="485" y="1827"/>
                  </a:lnTo>
                  <a:lnTo>
                    <a:pt x="455" y="1797"/>
                  </a:lnTo>
                  <a:lnTo>
                    <a:pt x="426" y="1767"/>
                  </a:lnTo>
                  <a:lnTo>
                    <a:pt x="397" y="1736"/>
                  </a:lnTo>
                  <a:lnTo>
                    <a:pt x="370" y="1705"/>
                  </a:lnTo>
                  <a:lnTo>
                    <a:pt x="342" y="1672"/>
                  </a:lnTo>
                  <a:lnTo>
                    <a:pt x="316" y="1638"/>
                  </a:lnTo>
                  <a:lnTo>
                    <a:pt x="291" y="1604"/>
                  </a:lnTo>
                  <a:lnTo>
                    <a:pt x="267" y="1571"/>
                  </a:lnTo>
                  <a:lnTo>
                    <a:pt x="243" y="1536"/>
                  </a:lnTo>
                  <a:lnTo>
                    <a:pt x="221" y="1500"/>
                  </a:lnTo>
                  <a:lnTo>
                    <a:pt x="199" y="1463"/>
                  </a:lnTo>
                  <a:lnTo>
                    <a:pt x="178" y="1427"/>
                  </a:lnTo>
                  <a:lnTo>
                    <a:pt x="158" y="1389"/>
                  </a:lnTo>
                  <a:lnTo>
                    <a:pt x="140" y="1351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70" y="1164"/>
                  </a:lnTo>
                  <a:lnTo>
                    <a:pt x="49" y="1083"/>
                  </a:lnTo>
                  <a:lnTo>
                    <a:pt x="32" y="997"/>
                  </a:lnTo>
                  <a:lnTo>
                    <a:pt x="19" y="910"/>
                  </a:lnTo>
                  <a:lnTo>
                    <a:pt x="8" y="822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1"/>
                  </a:lnTo>
                  <a:lnTo>
                    <a:pt x="8" y="463"/>
                  </a:lnTo>
                  <a:lnTo>
                    <a:pt x="18" y="375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9" y="136"/>
                  </a:lnTo>
                  <a:lnTo>
                    <a:pt x="94" y="65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268960" y="2865240"/>
              <a:ext cx="79200" cy="193680"/>
            </a:xfrm>
            <a:custGeom>
              <a:avLst/>
              <a:gdLst/>
              <a:ahLst/>
              <a:rect l="l" t="t" r="r" b="b"/>
              <a:pathLst>
                <a:path w="1103" h="2202">
                  <a:moveTo>
                    <a:pt x="230" y="56"/>
                  </a:moveTo>
                  <a:lnTo>
                    <a:pt x="1103" y="2072"/>
                  </a:lnTo>
                  <a:lnTo>
                    <a:pt x="1067" y="2202"/>
                  </a:lnTo>
                  <a:lnTo>
                    <a:pt x="1030" y="2187"/>
                  </a:lnTo>
                  <a:lnTo>
                    <a:pt x="994" y="2172"/>
                  </a:lnTo>
                  <a:lnTo>
                    <a:pt x="958" y="2155"/>
                  </a:lnTo>
                  <a:lnTo>
                    <a:pt x="921" y="2138"/>
                  </a:lnTo>
                  <a:lnTo>
                    <a:pt x="886" y="2119"/>
                  </a:lnTo>
                  <a:lnTo>
                    <a:pt x="850" y="2100"/>
                  </a:lnTo>
                  <a:lnTo>
                    <a:pt x="814" y="2079"/>
                  </a:lnTo>
                  <a:lnTo>
                    <a:pt x="779" y="2058"/>
                  </a:lnTo>
                  <a:lnTo>
                    <a:pt x="745" y="2036"/>
                  </a:lnTo>
                  <a:lnTo>
                    <a:pt x="711" y="2013"/>
                  </a:lnTo>
                  <a:lnTo>
                    <a:pt x="676" y="1989"/>
                  </a:lnTo>
                  <a:lnTo>
                    <a:pt x="644" y="1964"/>
                  </a:lnTo>
                  <a:lnTo>
                    <a:pt x="610" y="1939"/>
                  </a:lnTo>
                  <a:lnTo>
                    <a:pt x="578" y="1912"/>
                  </a:lnTo>
                  <a:lnTo>
                    <a:pt x="547" y="1884"/>
                  </a:lnTo>
                  <a:lnTo>
                    <a:pt x="515" y="1857"/>
                  </a:lnTo>
                  <a:lnTo>
                    <a:pt x="485" y="1827"/>
                  </a:lnTo>
                  <a:lnTo>
                    <a:pt x="455" y="1798"/>
                  </a:lnTo>
                  <a:lnTo>
                    <a:pt x="425" y="1767"/>
                  </a:lnTo>
                  <a:lnTo>
                    <a:pt x="397" y="1737"/>
                  </a:lnTo>
                  <a:lnTo>
                    <a:pt x="369" y="1705"/>
                  </a:lnTo>
                  <a:lnTo>
                    <a:pt x="342" y="1672"/>
                  </a:lnTo>
                  <a:lnTo>
                    <a:pt x="316" y="1639"/>
                  </a:lnTo>
                  <a:lnTo>
                    <a:pt x="291" y="1605"/>
                  </a:lnTo>
                  <a:lnTo>
                    <a:pt x="266" y="1571"/>
                  </a:lnTo>
                  <a:lnTo>
                    <a:pt x="243" y="1536"/>
                  </a:lnTo>
                  <a:lnTo>
                    <a:pt x="220" y="1500"/>
                  </a:lnTo>
                  <a:lnTo>
                    <a:pt x="199" y="1464"/>
                  </a:lnTo>
                  <a:lnTo>
                    <a:pt x="178" y="1428"/>
                  </a:lnTo>
                  <a:lnTo>
                    <a:pt x="158" y="1390"/>
                  </a:lnTo>
                  <a:lnTo>
                    <a:pt x="140" y="1352"/>
                  </a:lnTo>
                  <a:lnTo>
                    <a:pt x="123" y="1314"/>
                  </a:lnTo>
                  <a:lnTo>
                    <a:pt x="94" y="1241"/>
                  </a:lnTo>
                  <a:lnTo>
                    <a:pt x="69" y="1164"/>
                  </a:lnTo>
                  <a:lnTo>
                    <a:pt x="49" y="1083"/>
                  </a:lnTo>
                  <a:lnTo>
                    <a:pt x="32" y="998"/>
                  </a:lnTo>
                  <a:lnTo>
                    <a:pt x="18" y="910"/>
                  </a:lnTo>
                  <a:lnTo>
                    <a:pt x="8" y="823"/>
                  </a:lnTo>
                  <a:lnTo>
                    <a:pt x="2" y="732"/>
                  </a:lnTo>
                  <a:lnTo>
                    <a:pt x="0" y="641"/>
                  </a:lnTo>
                  <a:lnTo>
                    <a:pt x="2" y="552"/>
                  </a:lnTo>
                  <a:lnTo>
                    <a:pt x="8" y="463"/>
                  </a:lnTo>
                  <a:lnTo>
                    <a:pt x="17" y="376"/>
                  </a:lnTo>
                  <a:lnTo>
                    <a:pt x="31" y="292"/>
                  </a:lnTo>
                  <a:lnTo>
                    <a:pt x="48" y="212"/>
                  </a:lnTo>
                  <a:lnTo>
                    <a:pt x="68" y="136"/>
                  </a:lnTo>
                  <a:lnTo>
                    <a:pt x="94" y="66"/>
                  </a:lnTo>
                  <a:lnTo>
                    <a:pt x="123" y="0"/>
                  </a:lnTo>
                  <a:lnTo>
                    <a:pt x="230" y="5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49760" y="2714400"/>
              <a:ext cx="82440" cy="192240"/>
            </a:xfrm>
            <a:custGeom>
              <a:avLst/>
              <a:gdLst/>
              <a:ahLst/>
              <a:rect l="l" t="t" r="r" b="b"/>
              <a:pathLst>
                <a:path w="1133" h="2181">
                  <a:moveTo>
                    <a:pt x="917" y="2127"/>
                  </a:moveTo>
                  <a:lnTo>
                    <a:pt x="0" y="131"/>
                  </a:lnTo>
                  <a:lnTo>
                    <a:pt x="32" y="0"/>
                  </a:lnTo>
                  <a:lnTo>
                    <a:pt x="69" y="14"/>
                  </a:lnTo>
                  <a:lnTo>
                    <a:pt x="106" y="29"/>
                  </a:lnTo>
                  <a:lnTo>
                    <a:pt x="142" y="44"/>
                  </a:lnTo>
                  <a:lnTo>
                    <a:pt x="179" y="60"/>
                  </a:lnTo>
                  <a:lnTo>
                    <a:pt x="216" y="78"/>
                  </a:lnTo>
                  <a:lnTo>
                    <a:pt x="252" y="96"/>
                  </a:lnTo>
                  <a:lnTo>
                    <a:pt x="287" y="116"/>
                  </a:lnTo>
                  <a:lnTo>
                    <a:pt x="323" y="136"/>
                  </a:lnTo>
                  <a:lnTo>
                    <a:pt x="358" y="159"/>
                  </a:lnTo>
                  <a:lnTo>
                    <a:pt x="392" y="181"/>
                  </a:lnTo>
                  <a:lnTo>
                    <a:pt x="427" y="204"/>
                  </a:lnTo>
                  <a:lnTo>
                    <a:pt x="461" y="228"/>
                  </a:lnTo>
                  <a:lnTo>
                    <a:pt x="494" y="252"/>
                  </a:lnTo>
                  <a:lnTo>
                    <a:pt x="527" y="279"/>
                  </a:lnTo>
                  <a:lnTo>
                    <a:pt x="560" y="305"/>
                  </a:lnTo>
                  <a:lnTo>
                    <a:pt x="591" y="332"/>
                  </a:lnTo>
                  <a:lnTo>
                    <a:pt x="623" y="361"/>
                  </a:lnTo>
                  <a:lnTo>
                    <a:pt x="653" y="389"/>
                  </a:lnTo>
                  <a:lnTo>
                    <a:pt x="683" y="419"/>
                  </a:lnTo>
                  <a:lnTo>
                    <a:pt x="713" y="449"/>
                  </a:lnTo>
                  <a:lnTo>
                    <a:pt x="741" y="481"/>
                  </a:lnTo>
                  <a:lnTo>
                    <a:pt x="769" y="513"/>
                  </a:lnTo>
                  <a:lnTo>
                    <a:pt x="795" y="545"/>
                  </a:lnTo>
                  <a:lnTo>
                    <a:pt x="822" y="578"/>
                  </a:lnTo>
                  <a:lnTo>
                    <a:pt x="846" y="612"/>
                  </a:lnTo>
                  <a:lnTo>
                    <a:pt x="871" y="647"/>
                  </a:lnTo>
                  <a:lnTo>
                    <a:pt x="894" y="681"/>
                  </a:lnTo>
                  <a:lnTo>
                    <a:pt x="917" y="717"/>
                  </a:lnTo>
                  <a:lnTo>
                    <a:pt x="938" y="754"/>
                  </a:lnTo>
                  <a:lnTo>
                    <a:pt x="958" y="791"/>
                  </a:lnTo>
                  <a:lnTo>
                    <a:pt x="978" y="828"/>
                  </a:lnTo>
                  <a:lnTo>
                    <a:pt x="996" y="866"/>
                  </a:lnTo>
                  <a:lnTo>
                    <a:pt x="1026" y="938"/>
                  </a:lnTo>
                  <a:lnTo>
                    <a:pt x="1052" y="1015"/>
                  </a:lnTo>
                  <a:lnTo>
                    <a:pt x="1075" y="1096"/>
                  </a:lnTo>
                  <a:lnTo>
                    <a:pt x="1094" y="1180"/>
                  </a:lnTo>
                  <a:lnTo>
                    <a:pt x="1109" y="1266"/>
                  </a:lnTo>
                  <a:lnTo>
                    <a:pt x="1121" y="1356"/>
                  </a:lnTo>
                  <a:lnTo>
                    <a:pt x="1129" y="1446"/>
                  </a:lnTo>
                  <a:lnTo>
                    <a:pt x="1133" y="1536"/>
                  </a:lnTo>
                  <a:lnTo>
                    <a:pt x="1133" y="1626"/>
                  </a:lnTo>
                  <a:lnTo>
                    <a:pt x="1130" y="1716"/>
                  </a:lnTo>
                  <a:lnTo>
                    <a:pt x="1122" y="1802"/>
                  </a:lnTo>
                  <a:lnTo>
                    <a:pt x="1110" y="1886"/>
                  </a:lnTo>
                  <a:lnTo>
                    <a:pt x="1095" y="1967"/>
                  </a:lnTo>
                  <a:lnTo>
                    <a:pt x="1076" y="2043"/>
                  </a:lnTo>
                  <a:lnTo>
                    <a:pt x="1052" y="2115"/>
                  </a:lnTo>
                  <a:lnTo>
                    <a:pt x="1025" y="2181"/>
                  </a:lnTo>
                  <a:lnTo>
                    <a:pt x="917" y="2127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49760" y="2714400"/>
              <a:ext cx="81000" cy="193680"/>
            </a:xfrm>
            <a:custGeom>
              <a:avLst/>
              <a:gdLst/>
              <a:ahLst/>
              <a:rect l="l" t="t" r="r" b="b"/>
              <a:pathLst>
                <a:path w="1134" h="2180">
                  <a:moveTo>
                    <a:pt x="918" y="2126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3" y="43"/>
                  </a:lnTo>
                  <a:lnTo>
                    <a:pt x="180" y="60"/>
                  </a:lnTo>
                  <a:lnTo>
                    <a:pt x="217" y="78"/>
                  </a:lnTo>
                  <a:lnTo>
                    <a:pt x="252" y="96"/>
                  </a:lnTo>
                  <a:lnTo>
                    <a:pt x="288" y="116"/>
                  </a:lnTo>
                  <a:lnTo>
                    <a:pt x="324" y="136"/>
                  </a:lnTo>
                  <a:lnTo>
                    <a:pt x="359" y="158"/>
                  </a:lnTo>
                  <a:lnTo>
                    <a:pt x="393" y="180"/>
                  </a:lnTo>
                  <a:lnTo>
                    <a:pt x="428" y="203"/>
                  </a:lnTo>
                  <a:lnTo>
                    <a:pt x="462" y="227"/>
                  </a:lnTo>
                  <a:lnTo>
                    <a:pt x="495" y="252"/>
                  </a:lnTo>
                  <a:lnTo>
                    <a:pt x="528" y="278"/>
                  </a:lnTo>
                  <a:lnTo>
                    <a:pt x="561" y="304"/>
                  </a:lnTo>
                  <a:lnTo>
                    <a:pt x="592" y="332"/>
                  </a:lnTo>
                  <a:lnTo>
                    <a:pt x="624" y="360"/>
                  </a:lnTo>
                  <a:lnTo>
                    <a:pt x="654" y="389"/>
                  </a:lnTo>
                  <a:lnTo>
                    <a:pt x="684" y="418"/>
                  </a:lnTo>
                  <a:lnTo>
                    <a:pt x="714" y="449"/>
                  </a:lnTo>
                  <a:lnTo>
                    <a:pt x="742" y="480"/>
                  </a:lnTo>
                  <a:lnTo>
                    <a:pt x="770" y="512"/>
                  </a:lnTo>
                  <a:lnTo>
                    <a:pt x="796" y="545"/>
                  </a:lnTo>
                  <a:lnTo>
                    <a:pt x="823" y="577"/>
                  </a:lnTo>
                  <a:lnTo>
                    <a:pt x="847" y="611"/>
                  </a:lnTo>
                  <a:lnTo>
                    <a:pt x="872" y="646"/>
                  </a:lnTo>
                  <a:lnTo>
                    <a:pt x="895" y="681"/>
                  </a:lnTo>
                  <a:lnTo>
                    <a:pt x="918" y="717"/>
                  </a:lnTo>
                  <a:lnTo>
                    <a:pt x="939" y="754"/>
                  </a:lnTo>
                  <a:lnTo>
                    <a:pt x="959" y="790"/>
                  </a:lnTo>
                  <a:lnTo>
                    <a:pt x="979" y="827"/>
                  </a:lnTo>
                  <a:lnTo>
                    <a:pt x="997" y="865"/>
                  </a:lnTo>
                  <a:lnTo>
                    <a:pt x="1027" y="937"/>
                  </a:lnTo>
                  <a:lnTo>
                    <a:pt x="1053" y="1014"/>
                  </a:lnTo>
                  <a:lnTo>
                    <a:pt x="1076" y="1095"/>
                  </a:lnTo>
                  <a:lnTo>
                    <a:pt x="1095" y="1179"/>
                  </a:lnTo>
                  <a:lnTo>
                    <a:pt x="1110" y="1266"/>
                  </a:lnTo>
                  <a:lnTo>
                    <a:pt x="1122" y="1355"/>
                  </a:lnTo>
                  <a:lnTo>
                    <a:pt x="1130" y="1445"/>
                  </a:lnTo>
                  <a:lnTo>
                    <a:pt x="1134" y="1536"/>
                  </a:lnTo>
                  <a:lnTo>
                    <a:pt x="1134" y="1625"/>
                  </a:lnTo>
                  <a:lnTo>
                    <a:pt x="1131" y="1715"/>
                  </a:lnTo>
                  <a:lnTo>
                    <a:pt x="1123" y="1801"/>
                  </a:lnTo>
                  <a:lnTo>
                    <a:pt x="1111" y="1886"/>
                  </a:lnTo>
                  <a:lnTo>
                    <a:pt x="1096" y="1966"/>
                  </a:lnTo>
                  <a:lnTo>
                    <a:pt x="1077" y="2043"/>
                  </a:lnTo>
                  <a:lnTo>
                    <a:pt x="1053" y="2115"/>
                  </a:lnTo>
                  <a:lnTo>
                    <a:pt x="1026" y="2180"/>
                  </a:lnTo>
                  <a:lnTo>
                    <a:pt x="918" y="2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62560" y="2825640"/>
              <a:ext cx="260280" cy="362160"/>
            </a:xfrm>
            <a:custGeom>
              <a:avLst/>
              <a:gdLst/>
              <a:ahLst/>
              <a:rect l="l" t="t" r="r" b="b"/>
              <a:pathLst>
                <a:path w="3622" h="4112">
                  <a:moveTo>
                    <a:pt x="1404" y="4112"/>
                  </a:moveTo>
                  <a:lnTo>
                    <a:pt x="3622" y="3023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62560" y="2820960"/>
              <a:ext cx="260280" cy="361800"/>
            </a:xfrm>
            <a:custGeom>
              <a:avLst/>
              <a:gdLst/>
              <a:ahLst/>
              <a:rect l="l" t="t" r="r" b="b"/>
              <a:pathLst>
                <a:path w="3622" h="4113">
                  <a:moveTo>
                    <a:pt x="1404" y="4113"/>
                  </a:moveTo>
                  <a:lnTo>
                    <a:pt x="3622" y="3024"/>
                  </a:lnTo>
                  <a:lnTo>
                    <a:pt x="2218" y="0"/>
                  </a:lnTo>
                  <a:lnTo>
                    <a:pt x="0" y="989"/>
                  </a:lnTo>
                  <a:lnTo>
                    <a:pt x="1404" y="4113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371920" y="2828880"/>
              <a:ext cx="249120" cy="345960"/>
            </a:xfrm>
            <a:custGeom>
              <a:avLst/>
              <a:gdLst/>
              <a:ahLst/>
              <a:rect l="l" t="t" r="r" b="b"/>
              <a:pathLst>
                <a:path w="3446" h="3913">
                  <a:moveTo>
                    <a:pt x="1335" y="3913"/>
                  </a:moveTo>
                  <a:lnTo>
                    <a:pt x="3446" y="2878"/>
                  </a:lnTo>
                  <a:lnTo>
                    <a:pt x="2111" y="0"/>
                  </a:lnTo>
                  <a:lnTo>
                    <a:pt x="0" y="942"/>
                  </a:lnTo>
                  <a:lnTo>
                    <a:pt x="1335" y="3913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83080" y="2770200"/>
              <a:ext cx="30240" cy="30240"/>
            </a:xfrm>
            <a:custGeom>
              <a:avLst/>
              <a:gdLst/>
              <a:ahLst/>
              <a:rect l="l" t="t" r="r" b="b"/>
              <a:pathLst>
                <a:path w="431" h="343">
                  <a:moveTo>
                    <a:pt x="431" y="186"/>
                  </a:moveTo>
                  <a:lnTo>
                    <a:pt x="79" y="343"/>
                  </a:lnTo>
                  <a:lnTo>
                    <a:pt x="0" y="157"/>
                  </a:lnTo>
                  <a:lnTo>
                    <a:pt x="352" y="0"/>
                  </a:lnTo>
                  <a:lnTo>
                    <a:pt x="431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87760" y="2774880"/>
              <a:ext cx="25560" cy="23760"/>
            </a:xfrm>
            <a:custGeom>
              <a:avLst/>
              <a:gdLst/>
              <a:ahLst/>
              <a:rect l="l" t="t" r="r" b="b"/>
              <a:pathLst>
                <a:path w="347" h="257">
                  <a:moveTo>
                    <a:pt x="347" y="126"/>
                  </a:moveTo>
                  <a:lnTo>
                    <a:pt x="53" y="257"/>
                  </a:lnTo>
                  <a:lnTo>
                    <a:pt x="0" y="132"/>
                  </a:lnTo>
                  <a:lnTo>
                    <a:pt x="294" y="0"/>
                  </a:lnTo>
                  <a:lnTo>
                    <a:pt x="347" y="126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395680" y="2771640"/>
              <a:ext cx="15840" cy="2088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5" y="73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3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4" y="232"/>
                  </a:lnTo>
                  <a:lnTo>
                    <a:pt x="60" y="228"/>
                  </a:lnTo>
                  <a:lnTo>
                    <a:pt x="56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5" y="7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395680" y="277344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2" y="0"/>
                  </a:lnTo>
                  <a:lnTo>
                    <a:pt x="146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400720" y="2776320"/>
              <a:ext cx="9360" cy="12960"/>
            </a:xfrm>
            <a:custGeom>
              <a:avLst/>
              <a:gdLst/>
              <a:ahLst/>
              <a:rect l="l" t="t" r="r" b="b"/>
              <a:pathLst>
                <a:path w="118" h="154">
                  <a:moveTo>
                    <a:pt x="88" y="6"/>
                  </a:moveTo>
                  <a:lnTo>
                    <a:pt x="116" y="77"/>
                  </a:lnTo>
                  <a:lnTo>
                    <a:pt x="118" y="85"/>
                  </a:lnTo>
                  <a:lnTo>
                    <a:pt x="118" y="95"/>
                  </a:lnTo>
                  <a:lnTo>
                    <a:pt x="116" y="103"/>
                  </a:lnTo>
                  <a:lnTo>
                    <a:pt x="112" y="108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7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421240" y="2754360"/>
              <a:ext cx="20520" cy="25200"/>
            </a:xfrm>
            <a:custGeom>
              <a:avLst/>
              <a:gdLst/>
              <a:ahLst/>
              <a:rect l="l" t="t" r="r" b="b"/>
              <a:pathLst>
                <a:path w="287" h="280">
                  <a:moveTo>
                    <a:pt x="287" y="186"/>
                  </a:moveTo>
                  <a:lnTo>
                    <a:pt x="78" y="280"/>
                  </a:lnTo>
                  <a:lnTo>
                    <a:pt x="0" y="93"/>
                  </a:lnTo>
                  <a:lnTo>
                    <a:pt x="210" y="0"/>
                  </a:lnTo>
                  <a:lnTo>
                    <a:pt x="287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24480" y="2759040"/>
              <a:ext cx="17280" cy="19080"/>
            </a:xfrm>
            <a:custGeom>
              <a:avLst/>
              <a:gdLst/>
              <a:ahLst/>
              <a:rect l="l" t="t" r="r" b="b"/>
              <a:pathLst>
                <a:path w="227" h="203">
                  <a:moveTo>
                    <a:pt x="227" y="125"/>
                  </a:moveTo>
                  <a:lnTo>
                    <a:pt x="53" y="203"/>
                  </a:lnTo>
                  <a:lnTo>
                    <a:pt x="0" y="78"/>
                  </a:lnTo>
                  <a:lnTo>
                    <a:pt x="175" y="0"/>
                  </a:lnTo>
                  <a:lnTo>
                    <a:pt x="227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424480" y="2755800"/>
              <a:ext cx="15840" cy="20520"/>
            </a:xfrm>
            <a:custGeom>
              <a:avLst/>
              <a:gdLst/>
              <a:ahLst/>
              <a:rect l="l" t="t" r="r" b="b"/>
              <a:pathLst>
                <a:path w="238" h="234">
                  <a:moveTo>
                    <a:pt x="4" y="72"/>
                  </a:moveTo>
                  <a:lnTo>
                    <a:pt x="167" y="0"/>
                  </a:lnTo>
                  <a:lnTo>
                    <a:pt x="171" y="0"/>
                  </a:lnTo>
                  <a:lnTo>
                    <a:pt x="175" y="2"/>
                  </a:lnTo>
                  <a:lnTo>
                    <a:pt x="180" y="6"/>
                  </a:lnTo>
                  <a:lnTo>
                    <a:pt x="183" y="12"/>
                  </a:lnTo>
                  <a:lnTo>
                    <a:pt x="236" y="141"/>
                  </a:lnTo>
                  <a:lnTo>
                    <a:pt x="238" y="147"/>
                  </a:lnTo>
                  <a:lnTo>
                    <a:pt x="238" y="154"/>
                  </a:lnTo>
                  <a:lnTo>
                    <a:pt x="237" y="159"/>
                  </a:lnTo>
                  <a:lnTo>
                    <a:pt x="234" y="162"/>
                  </a:lnTo>
                  <a:lnTo>
                    <a:pt x="73" y="234"/>
                  </a:lnTo>
                  <a:lnTo>
                    <a:pt x="69" y="234"/>
                  </a:lnTo>
                  <a:lnTo>
                    <a:pt x="63" y="232"/>
                  </a:lnTo>
                  <a:lnTo>
                    <a:pt x="59" y="227"/>
                  </a:lnTo>
                  <a:lnTo>
                    <a:pt x="55" y="221"/>
                  </a:lnTo>
                  <a:lnTo>
                    <a:pt x="2" y="94"/>
                  </a:lnTo>
                  <a:lnTo>
                    <a:pt x="0" y="86"/>
                  </a:lnTo>
                  <a:lnTo>
                    <a:pt x="0" y="80"/>
                  </a:lnTo>
                  <a:lnTo>
                    <a:pt x="1" y="76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424480" y="2757600"/>
              <a:ext cx="15840" cy="17280"/>
            </a:xfrm>
            <a:custGeom>
              <a:avLst/>
              <a:gdLst/>
              <a:ahLst/>
              <a:rect l="l" t="t" r="r" b="b"/>
              <a:pathLst>
                <a:path w="204" h="199">
                  <a:moveTo>
                    <a:pt x="4" y="62"/>
                  </a:moveTo>
                  <a:lnTo>
                    <a:pt x="141" y="0"/>
                  </a:lnTo>
                  <a:lnTo>
                    <a:pt x="145" y="0"/>
                  </a:lnTo>
                  <a:lnTo>
                    <a:pt x="150" y="2"/>
                  </a:lnTo>
                  <a:lnTo>
                    <a:pt x="153" y="5"/>
                  </a:lnTo>
                  <a:lnTo>
                    <a:pt x="156" y="10"/>
                  </a:lnTo>
                  <a:lnTo>
                    <a:pt x="202" y="120"/>
                  </a:lnTo>
                  <a:lnTo>
                    <a:pt x="204" y="125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200" y="138"/>
                  </a:lnTo>
                  <a:lnTo>
                    <a:pt x="62" y="199"/>
                  </a:lnTo>
                  <a:lnTo>
                    <a:pt x="58" y="199"/>
                  </a:lnTo>
                  <a:lnTo>
                    <a:pt x="54" y="198"/>
                  </a:lnTo>
                  <a:lnTo>
                    <a:pt x="51" y="194"/>
                  </a:lnTo>
                  <a:lnTo>
                    <a:pt x="48" y="188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29160" y="2760480"/>
              <a:ext cx="9360" cy="12960"/>
            </a:xfrm>
            <a:custGeom>
              <a:avLst/>
              <a:gdLst/>
              <a:ahLst/>
              <a:rect l="l" t="t" r="r" b="b"/>
              <a:pathLst>
                <a:path w="119" h="154">
                  <a:moveTo>
                    <a:pt x="88" y="6"/>
                  </a:moveTo>
                  <a:lnTo>
                    <a:pt x="116" y="78"/>
                  </a:lnTo>
                  <a:lnTo>
                    <a:pt x="118" y="86"/>
                  </a:lnTo>
                  <a:lnTo>
                    <a:pt x="119" y="95"/>
                  </a:lnTo>
                  <a:lnTo>
                    <a:pt x="117" y="103"/>
                  </a:lnTo>
                  <a:lnTo>
                    <a:pt x="112" y="109"/>
                  </a:lnTo>
                  <a:lnTo>
                    <a:pt x="14" y="152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0" y="140"/>
                  </a:lnTo>
                  <a:lnTo>
                    <a:pt x="1" y="128"/>
                  </a:lnTo>
                  <a:lnTo>
                    <a:pt x="4" y="112"/>
                  </a:lnTo>
                  <a:lnTo>
                    <a:pt x="9" y="95"/>
                  </a:lnTo>
                  <a:lnTo>
                    <a:pt x="14" y="78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8" y="12"/>
                  </a:lnTo>
                  <a:lnTo>
                    <a:pt x="67" y="4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0840" y="2743200"/>
              <a:ext cx="6480" cy="9360"/>
            </a:xfrm>
            <a:custGeom>
              <a:avLst/>
              <a:gdLst/>
              <a:ahLst/>
              <a:rect l="l" t="t" r="r" b="b"/>
              <a:pathLst>
                <a:path w="100" h="104">
                  <a:moveTo>
                    <a:pt x="50" y="104"/>
                  </a:moveTo>
                  <a:lnTo>
                    <a:pt x="40" y="103"/>
                  </a:lnTo>
                  <a:lnTo>
                    <a:pt x="31" y="99"/>
                  </a:lnTo>
                  <a:lnTo>
                    <a:pt x="23" y="95"/>
                  </a:lnTo>
                  <a:lnTo>
                    <a:pt x="15" y="89"/>
                  </a:lnTo>
                  <a:lnTo>
                    <a:pt x="8" y="80"/>
                  </a:lnTo>
                  <a:lnTo>
                    <a:pt x="4" y="72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4" y="32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6" y="32"/>
                  </a:lnTo>
                  <a:lnTo>
                    <a:pt x="99" y="41"/>
                  </a:lnTo>
                  <a:lnTo>
                    <a:pt x="100" y="52"/>
                  </a:lnTo>
                  <a:lnTo>
                    <a:pt x="99" y="62"/>
                  </a:lnTo>
                  <a:lnTo>
                    <a:pt x="96" y="72"/>
                  </a:lnTo>
                  <a:lnTo>
                    <a:pt x="92" y="80"/>
                  </a:lnTo>
                  <a:lnTo>
                    <a:pt x="86" y="89"/>
                  </a:lnTo>
                  <a:lnTo>
                    <a:pt x="78" y="95"/>
                  </a:lnTo>
                  <a:lnTo>
                    <a:pt x="70" y="99"/>
                  </a:lnTo>
                  <a:lnTo>
                    <a:pt x="60" y="103"/>
                  </a:lnTo>
                  <a:lnTo>
                    <a:pt x="50" y="104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51400" y="2805120"/>
              <a:ext cx="7920" cy="792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0" y="103"/>
                  </a:moveTo>
                  <a:lnTo>
                    <a:pt x="39" y="102"/>
                  </a:lnTo>
                  <a:lnTo>
                    <a:pt x="30" y="99"/>
                  </a:lnTo>
                  <a:lnTo>
                    <a:pt x="22" y="95"/>
                  </a:lnTo>
                  <a:lnTo>
                    <a:pt x="14" y="88"/>
                  </a:lnTo>
                  <a:lnTo>
                    <a:pt x="8" y="80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0" y="4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5" y="15"/>
                  </a:lnTo>
                  <a:lnTo>
                    <a:pt x="91" y="23"/>
                  </a:lnTo>
                  <a:lnTo>
                    <a:pt x="96" y="31"/>
                  </a:lnTo>
                  <a:lnTo>
                    <a:pt x="99" y="41"/>
                  </a:lnTo>
                  <a:lnTo>
                    <a:pt x="100" y="51"/>
                  </a:lnTo>
                  <a:lnTo>
                    <a:pt x="99" y="62"/>
                  </a:lnTo>
                  <a:lnTo>
                    <a:pt x="96" y="71"/>
                  </a:lnTo>
                  <a:lnTo>
                    <a:pt x="91" y="80"/>
                  </a:lnTo>
                  <a:lnTo>
                    <a:pt x="85" y="88"/>
                  </a:lnTo>
                  <a:lnTo>
                    <a:pt x="77" y="95"/>
                  </a:lnTo>
                  <a:lnTo>
                    <a:pt x="69" y="99"/>
                  </a:lnTo>
                  <a:lnTo>
                    <a:pt x="60" y="102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64080" y="2746440"/>
              <a:ext cx="3240" cy="468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9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7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9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54640" y="2808360"/>
              <a:ext cx="2880" cy="468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56"/>
                  </a:moveTo>
                  <a:lnTo>
                    <a:pt x="17" y="54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9" y="8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8"/>
                  </a:lnTo>
                  <a:lnTo>
                    <a:pt x="53" y="16"/>
                  </a:lnTo>
                  <a:lnTo>
                    <a:pt x="55" y="28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4"/>
                  </a:lnTo>
                  <a:lnTo>
                    <a:pt x="28" y="56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373720" y="2717640"/>
              <a:ext cx="45720" cy="46080"/>
            </a:xfrm>
            <a:custGeom>
              <a:avLst/>
              <a:gdLst/>
              <a:ahLst/>
              <a:rect l="l" t="t" r="r" b="b"/>
              <a:pathLst>
                <a:path w="624" h="522">
                  <a:moveTo>
                    <a:pt x="498" y="0"/>
                  </a:moveTo>
                  <a:lnTo>
                    <a:pt x="0" y="222"/>
                  </a:lnTo>
                  <a:lnTo>
                    <a:pt x="125" y="522"/>
                  </a:lnTo>
                  <a:lnTo>
                    <a:pt x="624" y="301"/>
                  </a:lnTo>
                  <a:lnTo>
                    <a:pt x="498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75160" y="2719440"/>
              <a:ext cx="42840" cy="42840"/>
            </a:xfrm>
            <a:custGeom>
              <a:avLst/>
              <a:gdLst/>
              <a:ahLst/>
              <a:rect l="l" t="t" r="r" b="b"/>
              <a:pathLst>
                <a:path w="589" h="484">
                  <a:moveTo>
                    <a:pt x="474" y="0"/>
                  </a:moveTo>
                  <a:lnTo>
                    <a:pt x="0" y="211"/>
                  </a:lnTo>
                  <a:lnTo>
                    <a:pt x="114" y="484"/>
                  </a:lnTo>
                  <a:lnTo>
                    <a:pt x="589" y="273"/>
                  </a:lnTo>
                  <a:lnTo>
                    <a:pt x="474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75160" y="2720880"/>
              <a:ext cx="42840" cy="41400"/>
            </a:xfrm>
            <a:custGeom>
              <a:avLst/>
              <a:gdLst/>
              <a:ahLst/>
              <a:rect l="l" t="t" r="r" b="b"/>
              <a:pathLst>
                <a:path w="583" h="471">
                  <a:moveTo>
                    <a:pt x="473" y="0"/>
                  </a:moveTo>
                  <a:lnTo>
                    <a:pt x="0" y="211"/>
                  </a:lnTo>
                  <a:lnTo>
                    <a:pt x="108" y="471"/>
                  </a:lnTo>
                  <a:lnTo>
                    <a:pt x="583" y="26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95680" y="2727360"/>
              <a:ext cx="15840" cy="2052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159" y="223"/>
                  </a:moveTo>
                  <a:lnTo>
                    <a:pt x="137" y="231"/>
                  </a:lnTo>
                  <a:lnTo>
                    <a:pt x="115" y="234"/>
                  </a:lnTo>
                  <a:lnTo>
                    <a:pt x="93" y="232"/>
                  </a:lnTo>
                  <a:lnTo>
                    <a:pt x="73" y="225"/>
                  </a:lnTo>
                  <a:lnTo>
                    <a:pt x="54" y="215"/>
                  </a:lnTo>
                  <a:lnTo>
                    <a:pt x="36" y="201"/>
                  </a:lnTo>
                  <a:lnTo>
                    <a:pt x="22" y="184"/>
                  </a:lnTo>
                  <a:lnTo>
                    <a:pt x="11" y="163"/>
                  </a:lnTo>
                  <a:lnTo>
                    <a:pt x="4" y="141"/>
                  </a:lnTo>
                  <a:lnTo>
                    <a:pt x="0" y="118"/>
                  </a:lnTo>
                  <a:lnTo>
                    <a:pt x="3" y="96"/>
                  </a:lnTo>
                  <a:lnTo>
                    <a:pt x="9" y="74"/>
                  </a:lnTo>
                  <a:lnTo>
                    <a:pt x="19" y="55"/>
                  </a:lnTo>
                  <a:lnTo>
                    <a:pt x="32" y="37"/>
                  </a:lnTo>
                  <a:lnTo>
                    <a:pt x="48" y="22"/>
                  </a:lnTo>
                  <a:lnTo>
                    <a:pt x="69" y="10"/>
                  </a:lnTo>
                  <a:lnTo>
                    <a:pt x="90" y="3"/>
                  </a:lnTo>
                  <a:lnTo>
                    <a:pt x="113" y="0"/>
                  </a:lnTo>
                  <a:lnTo>
                    <a:pt x="134" y="2"/>
                  </a:lnTo>
                  <a:lnTo>
                    <a:pt x="156" y="8"/>
                  </a:lnTo>
                  <a:lnTo>
                    <a:pt x="174" y="19"/>
                  </a:lnTo>
                  <a:lnTo>
                    <a:pt x="191" y="32"/>
                  </a:lnTo>
                  <a:lnTo>
                    <a:pt x="206" y="49"/>
                  </a:lnTo>
                  <a:lnTo>
                    <a:pt x="217" y="70"/>
                  </a:lnTo>
                  <a:lnTo>
                    <a:pt x="224" y="93"/>
                  </a:lnTo>
                  <a:lnTo>
                    <a:pt x="227" y="116"/>
                  </a:lnTo>
                  <a:lnTo>
                    <a:pt x="225" y="138"/>
                  </a:lnTo>
                  <a:lnTo>
                    <a:pt x="219" y="159"/>
                  </a:lnTo>
                  <a:lnTo>
                    <a:pt x="209" y="179"/>
                  </a:lnTo>
                  <a:lnTo>
                    <a:pt x="195" y="197"/>
                  </a:lnTo>
                  <a:lnTo>
                    <a:pt x="179" y="212"/>
                  </a:lnTo>
                  <a:lnTo>
                    <a:pt x="159" y="223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395680" y="2727360"/>
              <a:ext cx="15840" cy="19080"/>
            </a:xfrm>
            <a:custGeom>
              <a:avLst/>
              <a:gdLst/>
              <a:ahLst/>
              <a:rect l="l" t="t" r="r" b="b"/>
              <a:pathLst>
                <a:path w="208" h="214">
                  <a:moveTo>
                    <a:pt x="146" y="206"/>
                  </a:moveTo>
                  <a:lnTo>
                    <a:pt x="125" y="212"/>
                  </a:lnTo>
                  <a:lnTo>
                    <a:pt x="105" y="214"/>
                  </a:lnTo>
                  <a:lnTo>
                    <a:pt x="84" y="212"/>
                  </a:lnTo>
                  <a:lnTo>
                    <a:pt x="66" y="206"/>
                  </a:lnTo>
                  <a:lnTo>
                    <a:pt x="48" y="196"/>
                  </a:lnTo>
                  <a:lnTo>
                    <a:pt x="31" y="183"/>
                  </a:lnTo>
                  <a:lnTo>
                    <a:pt x="18" y="168"/>
                  </a:lnTo>
                  <a:lnTo>
                    <a:pt x="8" y="149"/>
                  </a:lnTo>
                  <a:lnTo>
                    <a:pt x="2" y="129"/>
                  </a:lnTo>
                  <a:lnTo>
                    <a:pt x="0" y="108"/>
                  </a:lnTo>
                  <a:lnTo>
                    <a:pt x="2" y="86"/>
                  </a:lnTo>
                  <a:lnTo>
                    <a:pt x="8" y="67"/>
                  </a:lnTo>
                  <a:lnTo>
                    <a:pt x="17" y="49"/>
                  </a:lnTo>
                  <a:lnTo>
                    <a:pt x="29" y="33"/>
                  </a:lnTo>
                  <a:lnTo>
                    <a:pt x="45" y="19"/>
                  </a:lnTo>
                  <a:lnTo>
                    <a:pt x="63" y="8"/>
                  </a:lnTo>
                  <a:lnTo>
                    <a:pt x="83" y="2"/>
                  </a:lnTo>
                  <a:lnTo>
                    <a:pt x="104" y="0"/>
                  </a:lnTo>
                  <a:lnTo>
                    <a:pt x="123" y="2"/>
                  </a:lnTo>
                  <a:lnTo>
                    <a:pt x="142" y="7"/>
                  </a:lnTo>
                  <a:lnTo>
                    <a:pt x="161" y="17"/>
                  </a:lnTo>
                  <a:lnTo>
                    <a:pt x="176" y="30"/>
                  </a:lnTo>
                  <a:lnTo>
                    <a:pt x="189" y="45"/>
                  </a:lnTo>
                  <a:lnTo>
                    <a:pt x="200" y="63"/>
                  </a:lnTo>
                  <a:lnTo>
                    <a:pt x="206" y="84"/>
                  </a:lnTo>
                  <a:lnTo>
                    <a:pt x="208" y="105"/>
                  </a:lnTo>
                  <a:lnTo>
                    <a:pt x="206" y="127"/>
                  </a:lnTo>
                  <a:lnTo>
                    <a:pt x="201" y="147"/>
                  </a:lnTo>
                  <a:lnTo>
                    <a:pt x="191" y="164"/>
                  </a:lnTo>
                  <a:lnTo>
                    <a:pt x="179" y="181"/>
                  </a:lnTo>
                  <a:lnTo>
                    <a:pt x="164" y="195"/>
                  </a:lnTo>
                  <a:lnTo>
                    <a:pt x="146" y="206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397480" y="2728800"/>
              <a:ext cx="12600" cy="15840"/>
            </a:xfrm>
            <a:custGeom>
              <a:avLst/>
              <a:gdLst/>
              <a:ahLst/>
              <a:rect l="l" t="t" r="r" b="b"/>
              <a:pathLst>
                <a:path w="189" h="194">
                  <a:moveTo>
                    <a:pt x="131" y="187"/>
                  </a:moveTo>
                  <a:lnTo>
                    <a:pt x="113" y="193"/>
                  </a:lnTo>
                  <a:lnTo>
                    <a:pt x="95" y="194"/>
                  </a:lnTo>
                  <a:lnTo>
                    <a:pt x="76" y="192"/>
                  </a:lnTo>
                  <a:lnTo>
                    <a:pt x="59" y="187"/>
                  </a:lnTo>
                  <a:lnTo>
                    <a:pt x="44" y="178"/>
                  </a:lnTo>
                  <a:lnTo>
                    <a:pt x="29" y="167"/>
                  </a:lnTo>
                  <a:lnTo>
                    <a:pt x="17" y="152"/>
                  </a:lnTo>
                  <a:lnTo>
                    <a:pt x="8" y="135"/>
                  </a:lnTo>
                  <a:lnTo>
                    <a:pt x="2" y="116"/>
                  </a:lnTo>
                  <a:lnTo>
                    <a:pt x="0" y="97"/>
                  </a:lnTo>
                  <a:lnTo>
                    <a:pt x="2" y="79"/>
                  </a:lnTo>
                  <a:lnTo>
                    <a:pt x="7" y="61"/>
                  </a:lnTo>
                  <a:lnTo>
                    <a:pt x="15" y="45"/>
                  </a:lnTo>
                  <a:lnTo>
                    <a:pt x="26" y="30"/>
                  </a:lnTo>
                  <a:lnTo>
                    <a:pt x="41" y="17"/>
                  </a:lnTo>
                  <a:lnTo>
                    <a:pt x="57" y="8"/>
                  </a:lnTo>
                  <a:lnTo>
                    <a:pt x="75" y="1"/>
                  </a:lnTo>
                  <a:lnTo>
                    <a:pt x="95" y="0"/>
                  </a:lnTo>
                  <a:lnTo>
                    <a:pt x="112" y="1"/>
                  </a:lnTo>
                  <a:lnTo>
                    <a:pt x="130" y="7"/>
                  </a:lnTo>
                  <a:lnTo>
                    <a:pt x="146" y="15"/>
                  </a:lnTo>
                  <a:lnTo>
                    <a:pt x="160" y="27"/>
                  </a:lnTo>
                  <a:lnTo>
                    <a:pt x="172" y="41"/>
                  </a:lnTo>
                  <a:lnTo>
                    <a:pt x="181" y="58"/>
                  </a:lnTo>
                  <a:lnTo>
                    <a:pt x="187" y="77"/>
                  </a:lnTo>
                  <a:lnTo>
                    <a:pt x="189" y="96"/>
                  </a:lnTo>
                  <a:lnTo>
                    <a:pt x="188" y="114"/>
                  </a:lnTo>
                  <a:lnTo>
                    <a:pt x="182" y="132"/>
                  </a:lnTo>
                  <a:lnTo>
                    <a:pt x="174" y="149"/>
                  </a:lnTo>
                  <a:lnTo>
                    <a:pt x="163" y="165"/>
                  </a:lnTo>
                  <a:lnTo>
                    <a:pt x="149" y="177"/>
                  </a:lnTo>
                  <a:lnTo>
                    <a:pt x="131" y="187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97480" y="2728800"/>
              <a:ext cx="12600" cy="15840"/>
            </a:xfrm>
            <a:custGeom>
              <a:avLst/>
              <a:gdLst/>
              <a:ahLst/>
              <a:rect l="l" t="t" r="r" b="b"/>
              <a:pathLst>
                <a:path w="171" h="177">
                  <a:moveTo>
                    <a:pt x="120" y="170"/>
                  </a:moveTo>
                  <a:lnTo>
                    <a:pt x="104" y="175"/>
                  </a:lnTo>
                  <a:lnTo>
                    <a:pt x="87" y="177"/>
                  </a:lnTo>
                  <a:lnTo>
                    <a:pt x="70" y="176"/>
                  </a:lnTo>
                  <a:lnTo>
                    <a:pt x="54" y="171"/>
                  </a:lnTo>
                  <a:lnTo>
                    <a:pt x="40" y="163"/>
                  </a:lnTo>
                  <a:lnTo>
                    <a:pt x="27" y="152"/>
                  </a:lnTo>
                  <a:lnTo>
                    <a:pt x="15" y="139"/>
                  </a:lnTo>
                  <a:lnTo>
                    <a:pt x="7" y="124"/>
                  </a:lnTo>
                  <a:lnTo>
                    <a:pt x="2" y="107"/>
                  </a:lnTo>
                  <a:lnTo>
                    <a:pt x="0" y="90"/>
                  </a:lnTo>
                  <a:lnTo>
                    <a:pt x="2" y="72"/>
                  </a:lnTo>
                  <a:lnTo>
                    <a:pt x="7" y="56"/>
                  </a:lnTo>
                  <a:lnTo>
                    <a:pt x="14" y="41"/>
                  </a:lnTo>
                  <a:lnTo>
                    <a:pt x="25" y="28"/>
                  </a:lnTo>
                  <a:lnTo>
                    <a:pt x="37" y="16"/>
                  </a:lnTo>
                  <a:lnTo>
                    <a:pt x="52" y="8"/>
                  </a:lnTo>
                  <a:lnTo>
                    <a:pt x="68" y="2"/>
                  </a:lnTo>
                  <a:lnTo>
                    <a:pt x="85" y="0"/>
                  </a:lnTo>
                  <a:lnTo>
                    <a:pt x="102" y="2"/>
                  </a:lnTo>
                  <a:lnTo>
                    <a:pt x="117" y="7"/>
                  </a:lnTo>
                  <a:lnTo>
                    <a:pt x="132" y="15"/>
                  </a:lnTo>
                  <a:lnTo>
                    <a:pt x="145" y="25"/>
                  </a:lnTo>
                  <a:lnTo>
                    <a:pt x="156" y="38"/>
                  </a:lnTo>
                  <a:lnTo>
                    <a:pt x="164" y="53"/>
                  </a:lnTo>
                  <a:lnTo>
                    <a:pt x="169" y="70"/>
                  </a:lnTo>
                  <a:lnTo>
                    <a:pt x="171" y="88"/>
                  </a:lnTo>
                  <a:lnTo>
                    <a:pt x="169" y="105"/>
                  </a:lnTo>
                  <a:lnTo>
                    <a:pt x="165" y="121"/>
                  </a:lnTo>
                  <a:lnTo>
                    <a:pt x="158" y="136"/>
                  </a:lnTo>
                  <a:lnTo>
                    <a:pt x="148" y="150"/>
                  </a:lnTo>
                  <a:lnTo>
                    <a:pt x="136" y="162"/>
                  </a:lnTo>
                  <a:lnTo>
                    <a:pt x="120" y="170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98920" y="2728800"/>
              <a:ext cx="11160" cy="1440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106" y="149"/>
                  </a:moveTo>
                  <a:lnTo>
                    <a:pt x="92" y="155"/>
                  </a:lnTo>
                  <a:lnTo>
                    <a:pt x="77" y="156"/>
                  </a:lnTo>
                  <a:lnTo>
                    <a:pt x="63" y="155"/>
                  </a:lnTo>
                  <a:lnTo>
                    <a:pt x="48" y="150"/>
                  </a:lnTo>
                  <a:lnTo>
                    <a:pt x="35" y="143"/>
                  </a:lnTo>
                  <a:lnTo>
                    <a:pt x="24" y="133"/>
                  </a:lnTo>
                  <a:lnTo>
                    <a:pt x="14" y="122"/>
                  </a:lnTo>
                  <a:lnTo>
                    <a:pt x="6" y="108"/>
                  </a:lnTo>
                  <a:lnTo>
                    <a:pt x="2" y="93"/>
                  </a:lnTo>
                  <a:lnTo>
                    <a:pt x="0" y="78"/>
                  </a:lnTo>
                  <a:lnTo>
                    <a:pt x="1" y="63"/>
                  </a:lnTo>
                  <a:lnTo>
                    <a:pt x="5" y="49"/>
                  </a:lnTo>
                  <a:lnTo>
                    <a:pt x="13" y="35"/>
                  </a:lnTo>
                  <a:lnTo>
                    <a:pt x="22" y="24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4" y="5"/>
                  </a:lnTo>
                  <a:lnTo>
                    <a:pt x="118" y="11"/>
                  </a:lnTo>
                  <a:lnTo>
                    <a:pt x="129" y="21"/>
                  </a:lnTo>
                  <a:lnTo>
                    <a:pt x="139" y="32"/>
                  </a:lnTo>
                  <a:lnTo>
                    <a:pt x="146" y="46"/>
                  </a:lnTo>
                  <a:lnTo>
                    <a:pt x="150" y="61"/>
                  </a:lnTo>
                  <a:lnTo>
                    <a:pt x="152" y="77"/>
                  </a:lnTo>
                  <a:lnTo>
                    <a:pt x="151" y="91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31" y="131"/>
                  </a:lnTo>
                  <a:lnTo>
                    <a:pt x="120" y="142"/>
                  </a:lnTo>
                  <a:lnTo>
                    <a:pt x="106" y="149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398920" y="2728800"/>
              <a:ext cx="9720" cy="12600"/>
            </a:xfrm>
            <a:custGeom>
              <a:avLst/>
              <a:gdLst/>
              <a:ahLst/>
              <a:rect l="l" t="t" r="r" b="b"/>
              <a:pathLst>
                <a:path w="134" h="139">
                  <a:moveTo>
                    <a:pt x="93" y="134"/>
                  </a:moveTo>
                  <a:lnTo>
                    <a:pt x="80" y="138"/>
                  </a:lnTo>
                  <a:lnTo>
                    <a:pt x="68" y="139"/>
                  </a:lnTo>
                  <a:lnTo>
                    <a:pt x="55" y="138"/>
                  </a:lnTo>
                  <a:lnTo>
                    <a:pt x="42" y="134"/>
                  </a:lnTo>
                  <a:lnTo>
                    <a:pt x="30" y="127"/>
                  </a:lnTo>
                  <a:lnTo>
                    <a:pt x="20" y="119"/>
                  </a:lnTo>
                  <a:lnTo>
                    <a:pt x="12" y="109"/>
                  </a:lnTo>
                  <a:lnTo>
                    <a:pt x="5" y="97"/>
                  </a:lnTo>
                  <a:lnTo>
                    <a:pt x="1" y="83"/>
                  </a:lnTo>
                  <a:lnTo>
                    <a:pt x="0" y="70"/>
                  </a:lnTo>
                  <a:lnTo>
                    <a:pt x="1" y="57"/>
                  </a:lnTo>
                  <a:lnTo>
                    <a:pt x="5" y="44"/>
                  </a:lnTo>
                  <a:lnTo>
                    <a:pt x="11" y="31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5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9" y="1"/>
                  </a:lnTo>
                  <a:lnTo>
                    <a:pt x="91" y="5"/>
                  </a:lnTo>
                  <a:lnTo>
                    <a:pt x="104" y="11"/>
                  </a:lnTo>
                  <a:lnTo>
                    <a:pt x="114" y="20"/>
                  </a:lnTo>
                  <a:lnTo>
                    <a:pt x="122" y="29"/>
                  </a:lnTo>
                  <a:lnTo>
                    <a:pt x="129" y="42"/>
                  </a:lnTo>
                  <a:lnTo>
                    <a:pt x="133" y="56"/>
                  </a:lnTo>
                  <a:lnTo>
                    <a:pt x="134" y="68"/>
                  </a:lnTo>
                  <a:lnTo>
                    <a:pt x="133" y="82"/>
                  </a:lnTo>
                  <a:lnTo>
                    <a:pt x="129" y="95"/>
                  </a:lnTo>
                  <a:lnTo>
                    <a:pt x="123" y="107"/>
                  </a:lnTo>
                  <a:lnTo>
                    <a:pt x="115" y="118"/>
                  </a:lnTo>
                  <a:lnTo>
                    <a:pt x="106" y="126"/>
                  </a:lnTo>
                  <a:lnTo>
                    <a:pt x="93" y="1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386320" y="2744640"/>
              <a:ext cx="1440" cy="3240"/>
            </a:xfrm>
            <a:custGeom>
              <a:avLst/>
              <a:gdLst/>
              <a:ahLst/>
              <a:rect l="l" t="t" r="r" b="b"/>
              <a:pathLst>
                <a:path w="21" h="33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3"/>
                  </a:lnTo>
                  <a:lnTo>
                    <a:pt x="21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87760" y="2738520"/>
              <a:ext cx="4680" cy="936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2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7"/>
                  </a:lnTo>
                  <a:lnTo>
                    <a:pt x="12" y="61"/>
                  </a:lnTo>
                  <a:lnTo>
                    <a:pt x="0" y="66"/>
                  </a:lnTo>
                  <a:lnTo>
                    <a:pt x="10" y="98"/>
                  </a:lnTo>
                  <a:lnTo>
                    <a:pt x="26" y="92"/>
                  </a:lnTo>
                  <a:lnTo>
                    <a:pt x="39" y="84"/>
                  </a:lnTo>
                  <a:lnTo>
                    <a:pt x="50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4520" y="2735280"/>
              <a:ext cx="7920" cy="468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20" y="43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6" y="35"/>
                  </a:lnTo>
                  <a:lnTo>
                    <a:pt x="45" y="33"/>
                  </a:lnTo>
                  <a:lnTo>
                    <a:pt x="54" y="33"/>
                  </a:lnTo>
                  <a:lnTo>
                    <a:pt x="62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49"/>
                  </a:lnTo>
                  <a:lnTo>
                    <a:pt x="108" y="37"/>
                  </a:lnTo>
                  <a:lnTo>
                    <a:pt x="98" y="22"/>
                  </a:lnTo>
                  <a:lnTo>
                    <a:pt x="87" y="11"/>
                  </a:lnTo>
                  <a:lnTo>
                    <a:pt x="74" y="4"/>
                  </a:lnTo>
                  <a:lnTo>
                    <a:pt x="58" y="0"/>
                  </a:lnTo>
                  <a:lnTo>
                    <a:pt x="41" y="0"/>
                  </a:lnTo>
                  <a:lnTo>
                    <a:pt x="26" y="3"/>
                  </a:lnTo>
                  <a:lnTo>
                    <a:pt x="13" y="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81640" y="2736720"/>
              <a:ext cx="4680" cy="12960"/>
            </a:xfrm>
            <a:custGeom>
              <a:avLst/>
              <a:gdLst/>
              <a:ahLst/>
              <a:rect l="l" t="t" r="r" b="b"/>
              <a:pathLst>
                <a:path w="69" h="129">
                  <a:moveTo>
                    <a:pt x="36" y="112"/>
                  </a:moveTo>
                  <a:lnTo>
                    <a:pt x="36" y="112"/>
                  </a:lnTo>
                  <a:lnTo>
                    <a:pt x="33" y="104"/>
                  </a:lnTo>
                  <a:lnTo>
                    <a:pt x="32" y="95"/>
                  </a:lnTo>
                  <a:lnTo>
                    <a:pt x="34" y="83"/>
                  </a:lnTo>
                  <a:lnTo>
                    <a:pt x="38" y="69"/>
                  </a:lnTo>
                  <a:lnTo>
                    <a:pt x="44" y="58"/>
                  </a:lnTo>
                  <a:lnTo>
                    <a:pt x="52" y="44"/>
                  </a:lnTo>
                  <a:lnTo>
                    <a:pt x="60" y="34"/>
                  </a:lnTo>
                  <a:lnTo>
                    <a:pt x="69" y="25"/>
                  </a:lnTo>
                  <a:lnTo>
                    <a:pt x="49" y="0"/>
                  </a:lnTo>
                  <a:lnTo>
                    <a:pt x="37" y="11"/>
                  </a:lnTo>
                  <a:lnTo>
                    <a:pt x="25" y="25"/>
                  </a:lnTo>
                  <a:lnTo>
                    <a:pt x="16" y="41"/>
                  </a:lnTo>
                  <a:lnTo>
                    <a:pt x="8" y="57"/>
                  </a:lnTo>
                  <a:lnTo>
                    <a:pt x="2" y="75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8" y="129"/>
                  </a:lnTo>
                  <a:lnTo>
                    <a:pt x="8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381640" y="27478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6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3" y="43"/>
                  </a:lnTo>
                  <a:lnTo>
                    <a:pt x="72" y="42"/>
                  </a:lnTo>
                  <a:lnTo>
                    <a:pt x="62" y="36"/>
                  </a:lnTo>
                  <a:lnTo>
                    <a:pt x="52" y="30"/>
                  </a:lnTo>
                  <a:lnTo>
                    <a:pt x="43" y="23"/>
                  </a:lnTo>
                  <a:lnTo>
                    <a:pt x="35" y="13"/>
                  </a:lnTo>
                  <a:lnTo>
                    <a:pt x="28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0" y="46"/>
                  </a:lnTo>
                  <a:lnTo>
                    <a:pt x="33" y="57"/>
                  </a:lnTo>
                  <a:lnTo>
                    <a:pt x="48" y="66"/>
                  </a:lnTo>
                  <a:lnTo>
                    <a:pt x="64" y="73"/>
                  </a:lnTo>
                  <a:lnTo>
                    <a:pt x="81" y="76"/>
                  </a:lnTo>
                  <a:lnTo>
                    <a:pt x="98" y="76"/>
                  </a:lnTo>
                  <a:lnTo>
                    <a:pt x="117" y="72"/>
                  </a:lnTo>
                  <a:lnTo>
                    <a:pt x="117" y="72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389560" y="2746440"/>
              <a:ext cx="6120" cy="792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47" y="0"/>
                  </a:moveTo>
                  <a:lnTo>
                    <a:pt x="46" y="8"/>
                  </a:lnTo>
                  <a:lnTo>
                    <a:pt x="44" y="15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8" y="39"/>
                  </a:lnTo>
                  <a:lnTo>
                    <a:pt x="21" y="46"/>
                  </a:lnTo>
                  <a:lnTo>
                    <a:pt x="11" y="52"/>
                  </a:lnTo>
                  <a:lnTo>
                    <a:pt x="0" y="57"/>
                  </a:lnTo>
                  <a:lnTo>
                    <a:pt x="10" y="88"/>
                  </a:lnTo>
                  <a:lnTo>
                    <a:pt x="25" y="82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1" y="53"/>
                  </a:lnTo>
                  <a:lnTo>
                    <a:pt x="68" y="41"/>
                  </a:lnTo>
                  <a:lnTo>
                    <a:pt x="74" y="28"/>
                  </a:lnTo>
                  <a:lnTo>
                    <a:pt x="78" y="14"/>
                  </a:lnTo>
                  <a:lnTo>
                    <a:pt x="79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87760" y="2751120"/>
              <a:ext cx="3240" cy="1440"/>
            </a:xfrm>
            <a:custGeom>
              <a:avLst/>
              <a:gdLst/>
              <a:ahLst/>
              <a:rect l="l" t="t" r="r" b="b"/>
              <a:pathLst>
                <a:path w="32" h="18">
                  <a:moveTo>
                    <a:pt x="32" y="18"/>
                  </a:moveTo>
                  <a:lnTo>
                    <a:pt x="31" y="11"/>
                  </a:lnTo>
                  <a:lnTo>
                    <a:pt x="28" y="6"/>
                  </a:lnTo>
                  <a:lnTo>
                    <a:pt x="23" y="3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2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87760" y="2746440"/>
              <a:ext cx="1800" cy="324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9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87760" y="2739960"/>
              <a:ext cx="6480" cy="7920"/>
            </a:xfrm>
            <a:custGeom>
              <a:avLst/>
              <a:gdLst/>
              <a:ahLst/>
              <a:rect l="l" t="t" r="r" b="b"/>
              <a:pathLst>
                <a:path w="74" h="99">
                  <a:moveTo>
                    <a:pt x="39" y="13"/>
                  </a:moveTo>
                  <a:lnTo>
                    <a:pt x="39" y="12"/>
                  </a:lnTo>
                  <a:lnTo>
                    <a:pt x="41" y="22"/>
                  </a:lnTo>
                  <a:lnTo>
                    <a:pt x="41" y="30"/>
                  </a:lnTo>
                  <a:lnTo>
                    <a:pt x="38" y="37"/>
                  </a:lnTo>
                  <a:lnTo>
                    <a:pt x="35" y="43"/>
                  </a:lnTo>
                  <a:lnTo>
                    <a:pt x="28" y="51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8"/>
                  </a:lnTo>
                  <a:lnTo>
                    <a:pt x="10" y="99"/>
                  </a:lnTo>
                  <a:lnTo>
                    <a:pt x="25" y="94"/>
                  </a:lnTo>
                  <a:lnTo>
                    <a:pt x="38" y="85"/>
                  </a:lnTo>
                  <a:lnTo>
                    <a:pt x="51" y="76"/>
                  </a:lnTo>
                  <a:lnTo>
                    <a:pt x="62" y="64"/>
                  </a:lnTo>
                  <a:lnTo>
                    <a:pt x="69" y="52"/>
                  </a:lnTo>
                  <a:lnTo>
                    <a:pt x="74" y="36"/>
                  </a:lnTo>
                  <a:lnTo>
                    <a:pt x="74" y="18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39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86320" y="2736720"/>
              <a:ext cx="7920" cy="468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20" y="44"/>
                  </a:moveTo>
                  <a:lnTo>
                    <a:pt x="20" y="43"/>
                  </a:lnTo>
                  <a:lnTo>
                    <a:pt x="27" y="39"/>
                  </a:lnTo>
                  <a:lnTo>
                    <a:pt x="37" y="35"/>
                  </a:lnTo>
                  <a:lnTo>
                    <a:pt x="46" y="34"/>
                  </a:lnTo>
                  <a:lnTo>
                    <a:pt x="54" y="34"/>
                  </a:lnTo>
                  <a:lnTo>
                    <a:pt x="61" y="36"/>
                  </a:lnTo>
                  <a:lnTo>
                    <a:pt x="69" y="39"/>
                  </a:lnTo>
                  <a:lnTo>
                    <a:pt x="74" y="43"/>
                  </a:lnTo>
                  <a:lnTo>
                    <a:pt x="77" y="50"/>
                  </a:lnTo>
                  <a:lnTo>
                    <a:pt x="108" y="37"/>
                  </a:lnTo>
                  <a:lnTo>
                    <a:pt x="99" y="22"/>
                  </a:lnTo>
                  <a:lnTo>
                    <a:pt x="88" y="12"/>
                  </a:lnTo>
                  <a:lnTo>
                    <a:pt x="73" y="4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3" y="1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0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81640" y="2738520"/>
              <a:ext cx="6120" cy="11160"/>
            </a:xfrm>
            <a:custGeom>
              <a:avLst/>
              <a:gdLst/>
              <a:ahLst/>
              <a:rect l="l" t="t" r="r" b="b"/>
              <a:pathLst>
                <a:path w="69" h="131">
                  <a:moveTo>
                    <a:pt x="36" y="114"/>
                  </a:moveTo>
                  <a:lnTo>
                    <a:pt x="36" y="114"/>
                  </a:lnTo>
                  <a:lnTo>
                    <a:pt x="34" y="107"/>
                  </a:lnTo>
                  <a:lnTo>
                    <a:pt x="33" y="96"/>
                  </a:lnTo>
                  <a:lnTo>
                    <a:pt x="35" y="83"/>
                  </a:lnTo>
                  <a:lnTo>
                    <a:pt x="38" y="72"/>
                  </a:lnTo>
                  <a:lnTo>
                    <a:pt x="44" y="59"/>
                  </a:lnTo>
                  <a:lnTo>
                    <a:pt x="52" y="46"/>
                  </a:lnTo>
                  <a:lnTo>
                    <a:pt x="60" y="36"/>
                  </a:lnTo>
                  <a:lnTo>
                    <a:pt x="69" y="27"/>
                  </a:lnTo>
                  <a:lnTo>
                    <a:pt x="49" y="0"/>
                  </a:lnTo>
                  <a:lnTo>
                    <a:pt x="36" y="13"/>
                  </a:lnTo>
                  <a:lnTo>
                    <a:pt x="25" y="27"/>
                  </a:lnTo>
                  <a:lnTo>
                    <a:pt x="15" y="42"/>
                  </a:lnTo>
                  <a:lnTo>
                    <a:pt x="7" y="59"/>
                  </a:lnTo>
                  <a:lnTo>
                    <a:pt x="2" y="77"/>
                  </a:lnTo>
                  <a:lnTo>
                    <a:pt x="0" y="94"/>
                  </a:lnTo>
                  <a:lnTo>
                    <a:pt x="1" y="113"/>
                  </a:lnTo>
                  <a:lnTo>
                    <a:pt x="7" y="131"/>
                  </a:lnTo>
                  <a:lnTo>
                    <a:pt x="7" y="131"/>
                  </a:lnTo>
                  <a:lnTo>
                    <a:pt x="36" y="11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83080" y="2747880"/>
              <a:ext cx="7920" cy="6480"/>
            </a:xfrm>
            <a:custGeom>
              <a:avLst/>
              <a:gdLst/>
              <a:ahLst/>
              <a:rect l="l" t="t" r="r" b="b"/>
              <a:pathLst>
                <a:path w="117" h="77">
                  <a:moveTo>
                    <a:pt x="107" y="41"/>
                  </a:moveTo>
                  <a:lnTo>
                    <a:pt x="107" y="41"/>
                  </a:lnTo>
                  <a:lnTo>
                    <a:pt x="96" y="43"/>
                  </a:lnTo>
                  <a:lnTo>
                    <a:pt x="85" y="43"/>
                  </a:lnTo>
                  <a:lnTo>
                    <a:pt x="75" y="41"/>
                  </a:lnTo>
                  <a:lnTo>
                    <a:pt x="63" y="37"/>
                  </a:lnTo>
                  <a:lnTo>
                    <a:pt x="54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21" y="45"/>
                  </a:lnTo>
                  <a:lnTo>
                    <a:pt x="34" y="57"/>
                  </a:lnTo>
                  <a:lnTo>
                    <a:pt x="49" y="66"/>
                  </a:lnTo>
                  <a:lnTo>
                    <a:pt x="64" y="73"/>
                  </a:lnTo>
                  <a:lnTo>
                    <a:pt x="81" y="77"/>
                  </a:lnTo>
                  <a:lnTo>
                    <a:pt x="98" y="77"/>
                  </a:lnTo>
                  <a:lnTo>
                    <a:pt x="117" y="73"/>
                  </a:lnTo>
                  <a:lnTo>
                    <a:pt x="117" y="73"/>
                  </a:lnTo>
                  <a:lnTo>
                    <a:pt x="107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391000" y="2746440"/>
              <a:ext cx="4680" cy="7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48" y="0"/>
                  </a:moveTo>
                  <a:lnTo>
                    <a:pt x="47" y="8"/>
                  </a:lnTo>
                  <a:lnTo>
                    <a:pt x="44" y="18"/>
                  </a:lnTo>
                  <a:lnTo>
                    <a:pt x="41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2" y="54"/>
                  </a:lnTo>
                  <a:lnTo>
                    <a:pt x="0" y="58"/>
                  </a:lnTo>
                  <a:lnTo>
                    <a:pt x="10" y="90"/>
                  </a:lnTo>
                  <a:lnTo>
                    <a:pt x="27" y="83"/>
                  </a:lnTo>
                  <a:lnTo>
                    <a:pt x="40" y="75"/>
                  </a:lnTo>
                  <a:lnTo>
                    <a:pt x="51" y="65"/>
                  </a:lnTo>
                  <a:lnTo>
                    <a:pt x="62" y="55"/>
                  </a:lnTo>
                  <a:lnTo>
                    <a:pt x="70" y="41"/>
                  </a:lnTo>
                  <a:lnTo>
                    <a:pt x="75" y="28"/>
                  </a:lnTo>
                  <a:lnTo>
                    <a:pt x="78" y="17"/>
                  </a:lnTo>
                  <a:lnTo>
                    <a:pt x="81" y="4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389560" y="2751120"/>
              <a:ext cx="2880" cy="14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33" y="19"/>
                  </a:moveTo>
                  <a:lnTo>
                    <a:pt x="32" y="12"/>
                  </a:lnTo>
                  <a:lnTo>
                    <a:pt x="28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5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17920" y="2978280"/>
              <a:ext cx="1800" cy="144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03880" y="2948040"/>
              <a:ext cx="15840" cy="31680"/>
            </a:xfrm>
            <a:custGeom>
              <a:avLst/>
              <a:gdLst/>
              <a:ahLst/>
              <a:rect l="l" t="t" r="r" b="b"/>
              <a:pathLst>
                <a:path w="218" h="365">
                  <a:moveTo>
                    <a:pt x="0" y="0"/>
                  </a:moveTo>
                  <a:lnTo>
                    <a:pt x="0" y="0"/>
                  </a:lnTo>
                  <a:lnTo>
                    <a:pt x="1" y="29"/>
                  </a:lnTo>
                  <a:lnTo>
                    <a:pt x="3" y="56"/>
                  </a:lnTo>
                  <a:lnTo>
                    <a:pt x="8" y="84"/>
                  </a:lnTo>
                  <a:lnTo>
                    <a:pt x="15" y="110"/>
                  </a:lnTo>
                  <a:lnTo>
                    <a:pt x="22" y="135"/>
                  </a:lnTo>
                  <a:lnTo>
                    <a:pt x="31" y="162"/>
                  </a:lnTo>
                  <a:lnTo>
                    <a:pt x="41" y="187"/>
                  </a:lnTo>
                  <a:lnTo>
                    <a:pt x="55" y="211"/>
                  </a:lnTo>
                  <a:lnTo>
                    <a:pt x="68" y="235"/>
                  </a:lnTo>
                  <a:lnTo>
                    <a:pt x="84" y="258"/>
                  </a:lnTo>
                  <a:lnTo>
                    <a:pt x="102" y="278"/>
                  </a:lnTo>
                  <a:lnTo>
                    <a:pt x="119" y="298"/>
                  </a:lnTo>
                  <a:lnTo>
                    <a:pt x="138" y="317"/>
                  </a:lnTo>
                  <a:lnTo>
                    <a:pt x="159" y="335"/>
                  </a:lnTo>
                  <a:lnTo>
                    <a:pt x="180" y="352"/>
                  </a:lnTo>
                  <a:lnTo>
                    <a:pt x="204" y="365"/>
                  </a:lnTo>
                  <a:lnTo>
                    <a:pt x="218" y="340"/>
                  </a:lnTo>
                  <a:lnTo>
                    <a:pt x="196" y="326"/>
                  </a:lnTo>
                  <a:lnTo>
                    <a:pt x="177" y="311"/>
                  </a:lnTo>
                  <a:lnTo>
                    <a:pt x="157" y="296"/>
                  </a:lnTo>
                  <a:lnTo>
                    <a:pt x="139" y="277"/>
                  </a:lnTo>
                  <a:lnTo>
                    <a:pt x="122" y="259"/>
                  </a:lnTo>
                  <a:lnTo>
                    <a:pt x="107" y="239"/>
                  </a:lnTo>
                  <a:lnTo>
                    <a:pt x="92" y="218"/>
                  </a:lnTo>
                  <a:lnTo>
                    <a:pt x="79" y="197"/>
                  </a:lnTo>
                  <a:lnTo>
                    <a:pt x="68" y="174"/>
                  </a:lnTo>
                  <a:lnTo>
                    <a:pt x="58" y="151"/>
                  </a:lnTo>
                  <a:lnTo>
                    <a:pt x="49" y="127"/>
                  </a:lnTo>
                  <a:lnTo>
                    <a:pt x="41" y="102"/>
                  </a:lnTo>
                  <a:lnTo>
                    <a:pt x="36" y="77"/>
                  </a:lnTo>
                  <a:lnTo>
                    <a:pt x="31" y="52"/>
                  </a:lnTo>
                  <a:lnTo>
                    <a:pt x="29" y="27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03880" y="2940120"/>
              <a:ext cx="2880" cy="7920"/>
            </a:xfrm>
            <a:custGeom>
              <a:avLst/>
              <a:gdLst/>
              <a:ahLst/>
              <a:rect l="l" t="t" r="r" b="b"/>
              <a:pathLst>
                <a:path w="37" h="92">
                  <a:moveTo>
                    <a:pt x="9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28" y="92"/>
                  </a:lnTo>
                  <a:lnTo>
                    <a:pt x="28" y="82"/>
                  </a:lnTo>
                  <a:lnTo>
                    <a:pt x="29" y="71"/>
                  </a:lnTo>
                  <a:lnTo>
                    <a:pt x="29" y="60"/>
                  </a:lnTo>
                  <a:lnTo>
                    <a:pt x="30" y="49"/>
                  </a:lnTo>
                  <a:lnTo>
                    <a:pt x="32" y="38"/>
                  </a:lnTo>
                  <a:lnTo>
                    <a:pt x="33" y="27"/>
                  </a:lnTo>
                  <a:lnTo>
                    <a:pt x="35" y="17"/>
                  </a:lnTo>
                  <a:lnTo>
                    <a:pt x="37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03880" y="2946240"/>
              <a:ext cx="1440" cy="1800"/>
            </a:xfrm>
            <a:custGeom>
              <a:avLst/>
              <a:gdLst/>
              <a:ahLst/>
              <a:rect l="l" t="t" r="r" b="b"/>
              <a:pathLst>
                <a:path w="28" h="18">
                  <a:moveTo>
                    <a:pt x="28" y="18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316480" y="2967120"/>
              <a:ext cx="1440" cy="288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4"/>
                  </a:lnTo>
                  <a:lnTo>
                    <a:pt x="21" y="9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310000" y="2952720"/>
              <a:ext cx="7920" cy="1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0"/>
                  </a:lnTo>
                  <a:lnTo>
                    <a:pt x="0" y="13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80"/>
                  </a:lnTo>
                  <a:lnTo>
                    <a:pt x="21" y="92"/>
                  </a:lnTo>
                  <a:lnTo>
                    <a:pt x="28" y="104"/>
                  </a:lnTo>
                  <a:lnTo>
                    <a:pt x="34" y="116"/>
                  </a:lnTo>
                  <a:lnTo>
                    <a:pt x="42" y="126"/>
                  </a:lnTo>
                  <a:lnTo>
                    <a:pt x="50" y="138"/>
                  </a:lnTo>
                  <a:lnTo>
                    <a:pt x="59" y="147"/>
                  </a:lnTo>
                  <a:lnTo>
                    <a:pt x="68" y="157"/>
                  </a:lnTo>
                  <a:lnTo>
                    <a:pt x="80" y="165"/>
                  </a:lnTo>
                  <a:lnTo>
                    <a:pt x="90" y="173"/>
                  </a:lnTo>
                  <a:lnTo>
                    <a:pt x="101" y="181"/>
                  </a:lnTo>
                  <a:lnTo>
                    <a:pt x="115" y="156"/>
                  </a:lnTo>
                  <a:lnTo>
                    <a:pt x="106" y="149"/>
                  </a:lnTo>
                  <a:lnTo>
                    <a:pt x="96" y="142"/>
                  </a:lnTo>
                  <a:lnTo>
                    <a:pt x="87" y="136"/>
                  </a:lnTo>
                  <a:lnTo>
                    <a:pt x="80" y="126"/>
                  </a:lnTo>
                  <a:lnTo>
                    <a:pt x="70" y="119"/>
                  </a:lnTo>
                  <a:lnTo>
                    <a:pt x="64" y="109"/>
                  </a:lnTo>
                  <a:lnTo>
                    <a:pt x="58" y="101"/>
                  </a:lnTo>
                  <a:lnTo>
                    <a:pt x="52" y="89"/>
                  </a:lnTo>
                  <a:lnTo>
                    <a:pt x="46" y="80"/>
                  </a:lnTo>
                  <a:lnTo>
                    <a:pt x="42" y="69"/>
                  </a:lnTo>
                  <a:lnTo>
                    <a:pt x="38" y="58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1" y="23"/>
                  </a:lnTo>
                  <a:lnTo>
                    <a:pt x="29" y="11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310000" y="2949480"/>
              <a:ext cx="1800" cy="3240"/>
            </a:xfrm>
            <a:custGeom>
              <a:avLst/>
              <a:gdLst/>
              <a:ahLst/>
              <a:rect l="l" t="t" r="r" b="b"/>
              <a:pathLst>
                <a:path w="33" h="47">
                  <a:moveTo>
                    <a:pt x="4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9" y="47"/>
                  </a:lnTo>
                  <a:lnTo>
                    <a:pt x="29" y="41"/>
                  </a:lnTo>
                  <a:lnTo>
                    <a:pt x="29" y="36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0" y="20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310000" y="2952720"/>
              <a:ext cx="1800" cy="14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1"/>
                  </a:lnTo>
                  <a:lnTo>
                    <a:pt x="27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80000" y="279252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0000" y="2792520"/>
              <a:ext cx="11160" cy="23760"/>
            </a:xfrm>
            <a:custGeom>
              <a:avLst/>
              <a:gdLst/>
              <a:ahLst/>
              <a:rect l="l" t="t" r="r" b="b"/>
              <a:pathLst>
                <a:path w="164" h="274">
                  <a:moveTo>
                    <a:pt x="164" y="274"/>
                  </a:moveTo>
                  <a:lnTo>
                    <a:pt x="164" y="274"/>
                  </a:lnTo>
                  <a:lnTo>
                    <a:pt x="162" y="253"/>
                  </a:lnTo>
                  <a:lnTo>
                    <a:pt x="160" y="233"/>
                  </a:lnTo>
                  <a:lnTo>
                    <a:pt x="157" y="211"/>
                  </a:lnTo>
                  <a:lnTo>
                    <a:pt x="153" y="190"/>
                  </a:lnTo>
                  <a:lnTo>
                    <a:pt x="147" y="170"/>
                  </a:lnTo>
                  <a:lnTo>
                    <a:pt x="139" y="152"/>
                  </a:lnTo>
                  <a:lnTo>
                    <a:pt x="130" y="135"/>
                  </a:lnTo>
                  <a:lnTo>
                    <a:pt x="122" y="116"/>
                  </a:lnTo>
                  <a:lnTo>
                    <a:pt x="112" y="98"/>
                  </a:lnTo>
                  <a:lnTo>
                    <a:pt x="100" y="82"/>
                  </a:lnTo>
                  <a:lnTo>
                    <a:pt x="87" y="65"/>
                  </a:lnTo>
                  <a:lnTo>
                    <a:pt x="73" y="50"/>
                  </a:lnTo>
                  <a:lnTo>
                    <a:pt x="59" y="35"/>
                  </a:lnTo>
                  <a:lnTo>
                    <a:pt x="43" y="23"/>
                  </a:lnTo>
                  <a:lnTo>
                    <a:pt x="27" y="10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5" y="29"/>
                  </a:lnTo>
                  <a:lnTo>
                    <a:pt x="30" y="40"/>
                  </a:lnTo>
                  <a:lnTo>
                    <a:pt x="45" y="52"/>
                  </a:lnTo>
                  <a:lnTo>
                    <a:pt x="59" y="65"/>
                  </a:lnTo>
                  <a:lnTo>
                    <a:pt x="71" y="80"/>
                  </a:lnTo>
                  <a:lnTo>
                    <a:pt x="83" y="94"/>
                  </a:lnTo>
                  <a:lnTo>
                    <a:pt x="94" y="110"/>
                  </a:lnTo>
                  <a:lnTo>
                    <a:pt x="104" y="126"/>
                  </a:lnTo>
                  <a:lnTo>
                    <a:pt x="112" y="143"/>
                  </a:lnTo>
                  <a:lnTo>
                    <a:pt x="119" y="161"/>
                  </a:lnTo>
                  <a:lnTo>
                    <a:pt x="126" y="179"/>
                  </a:lnTo>
                  <a:lnTo>
                    <a:pt x="132" y="197"/>
                  </a:lnTo>
                  <a:lnTo>
                    <a:pt x="136" y="216"/>
                  </a:lnTo>
                  <a:lnTo>
                    <a:pt x="139" y="235"/>
                  </a:lnTo>
                  <a:lnTo>
                    <a:pt x="141" y="255"/>
                  </a:lnTo>
                  <a:lnTo>
                    <a:pt x="141" y="274"/>
                  </a:lnTo>
                  <a:lnTo>
                    <a:pt x="141" y="274"/>
                  </a:lnTo>
                  <a:lnTo>
                    <a:pt x="164" y="2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89360" y="2816280"/>
              <a:ext cx="1800" cy="612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4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8"/>
                  </a:lnTo>
                  <a:lnTo>
                    <a:pt x="29" y="0"/>
                  </a:lnTo>
                  <a:lnTo>
                    <a:pt x="6" y="0"/>
                  </a:lnTo>
                  <a:lnTo>
                    <a:pt x="6" y="8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589360" y="2816280"/>
              <a:ext cx="1800" cy="14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3" y="8"/>
                  </a:lnTo>
                  <a:lnTo>
                    <a:pt x="10" y="12"/>
                  </a:lnTo>
                  <a:lnTo>
                    <a:pt x="17" y="11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80000" y="2800440"/>
              <a:ext cx="14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581440" y="2800440"/>
              <a:ext cx="6480" cy="126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6" y="136"/>
                  </a:moveTo>
                  <a:lnTo>
                    <a:pt x="86" y="136"/>
                  </a:lnTo>
                  <a:lnTo>
                    <a:pt x="85" y="116"/>
                  </a:lnTo>
                  <a:lnTo>
                    <a:pt x="81" y="95"/>
                  </a:lnTo>
                  <a:lnTo>
                    <a:pt x="76" y="76"/>
                  </a:lnTo>
                  <a:lnTo>
                    <a:pt x="66" y="58"/>
                  </a:lnTo>
                  <a:lnTo>
                    <a:pt x="55" y="41"/>
                  </a:lnTo>
                  <a:lnTo>
                    <a:pt x="42" y="26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9"/>
                  </a:lnTo>
                  <a:lnTo>
                    <a:pt x="28" y="40"/>
                  </a:lnTo>
                  <a:lnTo>
                    <a:pt x="39" y="54"/>
                  </a:lnTo>
                  <a:lnTo>
                    <a:pt x="48" y="69"/>
                  </a:lnTo>
                  <a:lnTo>
                    <a:pt x="55" y="85"/>
                  </a:lnTo>
                  <a:lnTo>
                    <a:pt x="60" y="102"/>
                  </a:lnTo>
                  <a:lnTo>
                    <a:pt x="64" y="118"/>
                  </a:lnTo>
                  <a:lnTo>
                    <a:pt x="65" y="136"/>
                  </a:lnTo>
                  <a:lnTo>
                    <a:pt x="65" y="136"/>
                  </a:lnTo>
                  <a:lnTo>
                    <a:pt x="86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586120" y="2813040"/>
              <a:ext cx="1800" cy="3240"/>
            </a:xfrm>
            <a:custGeom>
              <a:avLst/>
              <a:gdLst/>
              <a:ahLst/>
              <a:rect l="l" t="t" r="r" b="b"/>
              <a:pathLst>
                <a:path w="24" h="35">
                  <a:moveTo>
                    <a:pt x="21" y="35"/>
                  </a:moveTo>
                  <a:lnTo>
                    <a:pt x="22" y="30"/>
                  </a:lnTo>
                  <a:lnTo>
                    <a:pt x="22" y="26"/>
                  </a:lnTo>
                  <a:lnTo>
                    <a:pt x="23" y="21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24" y="9"/>
                  </a:lnTo>
                  <a:lnTo>
                    <a:pt x="24" y="5"/>
                  </a:lnTo>
                  <a:lnTo>
                    <a:pt x="24" y="0"/>
                  </a:lnTo>
                  <a:lnTo>
                    <a:pt x="3" y="0"/>
                  </a:lnTo>
                  <a:lnTo>
                    <a:pt x="3" y="5"/>
                  </a:lnTo>
                  <a:lnTo>
                    <a:pt x="3" y="9"/>
                  </a:lnTo>
                  <a:lnTo>
                    <a:pt x="3" y="11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86120" y="2811240"/>
              <a:ext cx="1800" cy="18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0"/>
                  </a:moveTo>
                  <a:lnTo>
                    <a:pt x="2" y="9"/>
                  </a:lnTo>
                  <a:lnTo>
                    <a:pt x="10" y="13"/>
                  </a:lnTo>
                  <a:lnTo>
                    <a:pt x="17" y="12"/>
                  </a:lnTo>
                  <a:lnTo>
                    <a:pt x="2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302080" y="3073320"/>
              <a:ext cx="84240" cy="217440"/>
            </a:xfrm>
            <a:custGeom>
              <a:avLst/>
              <a:gdLst/>
              <a:ahLst/>
              <a:rect l="l" t="t" r="r" b="b"/>
              <a:pathLst>
                <a:path w="1169" h="2481">
                  <a:moveTo>
                    <a:pt x="166" y="0"/>
                  </a:moveTo>
                  <a:lnTo>
                    <a:pt x="0" y="73"/>
                  </a:lnTo>
                  <a:lnTo>
                    <a:pt x="959" y="2481"/>
                  </a:lnTo>
                  <a:lnTo>
                    <a:pt x="1169" y="2389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02080" y="3073320"/>
              <a:ext cx="82440" cy="217440"/>
            </a:xfrm>
            <a:custGeom>
              <a:avLst/>
              <a:gdLst/>
              <a:ahLst/>
              <a:rect l="l" t="t" r="r" b="b"/>
              <a:pathLst>
                <a:path w="1140" h="2467">
                  <a:moveTo>
                    <a:pt x="140" y="0"/>
                  </a:moveTo>
                  <a:lnTo>
                    <a:pt x="126" y="6"/>
                  </a:lnTo>
                  <a:lnTo>
                    <a:pt x="114" y="10"/>
                  </a:lnTo>
                  <a:lnTo>
                    <a:pt x="104" y="14"/>
                  </a:lnTo>
                  <a:lnTo>
                    <a:pt x="94" y="19"/>
                  </a:lnTo>
                  <a:lnTo>
                    <a:pt x="81" y="24"/>
                  </a:lnTo>
                  <a:lnTo>
                    <a:pt x="61" y="32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2"/>
                  </a:lnTo>
                  <a:lnTo>
                    <a:pt x="55" y="199"/>
                  </a:lnTo>
                  <a:lnTo>
                    <a:pt x="81" y="260"/>
                  </a:lnTo>
                  <a:lnTo>
                    <a:pt x="103" y="317"/>
                  </a:lnTo>
                  <a:lnTo>
                    <a:pt x="125" y="370"/>
                  </a:lnTo>
                  <a:lnTo>
                    <a:pt x="144" y="419"/>
                  </a:lnTo>
                  <a:lnTo>
                    <a:pt x="163" y="467"/>
                  </a:lnTo>
                  <a:lnTo>
                    <a:pt x="181" y="511"/>
                  </a:lnTo>
                  <a:lnTo>
                    <a:pt x="198" y="554"/>
                  </a:lnTo>
                  <a:lnTo>
                    <a:pt x="215" y="596"/>
                  </a:lnTo>
                  <a:lnTo>
                    <a:pt x="232" y="637"/>
                  </a:lnTo>
                  <a:lnTo>
                    <a:pt x="249" y="680"/>
                  </a:lnTo>
                  <a:lnTo>
                    <a:pt x="265" y="723"/>
                  </a:lnTo>
                  <a:lnTo>
                    <a:pt x="284" y="766"/>
                  </a:lnTo>
                  <a:lnTo>
                    <a:pt x="302" y="812"/>
                  </a:lnTo>
                  <a:lnTo>
                    <a:pt x="322" y="861"/>
                  </a:lnTo>
                  <a:lnTo>
                    <a:pt x="342" y="913"/>
                  </a:lnTo>
                  <a:lnTo>
                    <a:pt x="364" y="968"/>
                  </a:lnTo>
                  <a:lnTo>
                    <a:pt x="388" y="1029"/>
                  </a:lnTo>
                  <a:lnTo>
                    <a:pt x="414" y="1093"/>
                  </a:lnTo>
                  <a:lnTo>
                    <a:pt x="442" y="1164"/>
                  </a:lnTo>
                  <a:lnTo>
                    <a:pt x="473" y="1239"/>
                  </a:lnTo>
                  <a:lnTo>
                    <a:pt x="505" y="1323"/>
                  </a:lnTo>
                  <a:lnTo>
                    <a:pt x="542" y="1412"/>
                  </a:lnTo>
                  <a:lnTo>
                    <a:pt x="581" y="1511"/>
                  </a:lnTo>
                  <a:lnTo>
                    <a:pt x="623" y="1618"/>
                  </a:lnTo>
                  <a:lnTo>
                    <a:pt x="669" y="1733"/>
                  </a:lnTo>
                  <a:lnTo>
                    <a:pt x="719" y="1858"/>
                  </a:lnTo>
                  <a:lnTo>
                    <a:pt x="773" y="1993"/>
                  </a:lnTo>
                  <a:lnTo>
                    <a:pt x="832" y="2140"/>
                  </a:lnTo>
                  <a:lnTo>
                    <a:pt x="895" y="2297"/>
                  </a:lnTo>
                  <a:lnTo>
                    <a:pt x="962" y="2467"/>
                  </a:lnTo>
                  <a:lnTo>
                    <a:pt x="972" y="2462"/>
                  </a:lnTo>
                  <a:lnTo>
                    <a:pt x="982" y="2458"/>
                  </a:lnTo>
                  <a:lnTo>
                    <a:pt x="989" y="2455"/>
                  </a:lnTo>
                  <a:lnTo>
                    <a:pt x="996" y="2452"/>
                  </a:lnTo>
                  <a:lnTo>
                    <a:pt x="1003" y="2449"/>
                  </a:lnTo>
                  <a:lnTo>
                    <a:pt x="1009" y="2445"/>
                  </a:lnTo>
                  <a:lnTo>
                    <a:pt x="1015" y="2442"/>
                  </a:lnTo>
                  <a:lnTo>
                    <a:pt x="1022" y="2439"/>
                  </a:lnTo>
                  <a:lnTo>
                    <a:pt x="1030" y="2436"/>
                  </a:lnTo>
                  <a:lnTo>
                    <a:pt x="1040" y="2432"/>
                  </a:lnTo>
                  <a:lnTo>
                    <a:pt x="1050" y="2428"/>
                  </a:lnTo>
                  <a:lnTo>
                    <a:pt x="1063" y="2422"/>
                  </a:lnTo>
                  <a:lnTo>
                    <a:pt x="1077" y="2416"/>
                  </a:lnTo>
                  <a:lnTo>
                    <a:pt x="1095" y="2409"/>
                  </a:lnTo>
                  <a:lnTo>
                    <a:pt x="1116" y="2399"/>
                  </a:lnTo>
                  <a:lnTo>
                    <a:pt x="1140" y="2390"/>
                  </a:lnTo>
                  <a:lnTo>
                    <a:pt x="1110" y="2318"/>
                  </a:lnTo>
                  <a:lnTo>
                    <a:pt x="1081" y="2251"/>
                  </a:lnTo>
                  <a:lnTo>
                    <a:pt x="1056" y="2190"/>
                  </a:lnTo>
                  <a:lnTo>
                    <a:pt x="1033" y="2134"/>
                  </a:lnTo>
                  <a:lnTo>
                    <a:pt x="1011" y="2082"/>
                  </a:lnTo>
                  <a:lnTo>
                    <a:pt x="991" y="2032"/>
                  </a:lnTo>
                  <a:lnTo>
                    <a:pt x="970" y="1985"/>
                  </a:lnTo>
                  <a:lnTo>
                    <a:pt x="952" y="1940"/>
                  </a:lnTo>
                  <a:lnTo>
                    <a:pt x="935" y="1897"/>
                  </a:lnTo>
                  <a:lnTo>
                    <a:pt x="916" y="1856"/>
                  </a:lnTo>
                  <a:lnTo>
                    <a:pt x="899" y="1814"/>
                  </a:lnTo>
                  <a:lnTo>
                    <a:pt x="882" y="1773"/>
                  </a:lnTo>
                  <a:lnTo>
                    <a:pt x="864" y="1730"/>
                  </a:lnTo>
                  <a:lnTo>
                    <a:pt x="846" y="1686"/>
                  </a:lnTo>
                  <a:lnTo>
                    <a:pt x="826" y="1640"/>
                  </a:lnTo>
                  <a:lnTo>
                    <a:pt x="807" y="1592"/>
                  </a:lnTo>
                  <a:lnTo>
                    <a:pt x="785" y="1541"/>
                  </a:lnTo>
                  <a:lnTo>
                    <a:pt x="762" y="1485"/>
                  </a:lnTo>
                  <a:lnTo>
                    <a:pt x="738" y="1426"/>
                  </a:lnTo>
                  <a:lnTo>
                    <a:pt x="710" y="1362"/>
                  </a:lnTo>
                  <a:lnTo>
                    <a:pt x="682" y="1292"/>
                  </a:lnTo>
                  <a:lnTo>
                    <a:pt x="650" y="1216"/>
                  </a:lnTo>
                  <a:lnTo>
                    <a:pt x="615" y="1134"/>
                  </a:lnTo>
                  <a:lnTo>
                    <a:pt x="578" y="1044"/>
                  </a:lnTo>
                  <a:lnTo>
                    <a:pt x="537" y="947"/>
                  </a:lnTo>
                  <a:lnTo>
                    <a:pt x="493" y="842"/>
                  </a:lnTo>
                  <a:lnTo>
                    <a:pt x="445" y="727"/>
                  </a:lnTo>
                  <a:lnTo>
                    <a:pt x="393" y="603"/>
                  </a:lnTo>
                  <a:lnTo>
                    <a:pt x="337" y="469"/>
                  </a:lnTo>
                  <a:lnTo>
                    <a:pt x="276" y="324"/>
                  </a:lnTo>
                  <a:lnTo>
                    <a:pt x="210" y="167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03880" y="3074760"/>
              <a:ext cx="79200" cy="216000"/>
            </a:xfrm>
            <a:custGeom>
              <a:avLst/>
              <a:gdLst/>
              <a:ahLst/>
              <a:rect l="l" t="t" r="r" b="b"/>
              <a:pathLst>
                <a:path w="1109" h="2454">
                  <a:moveTo>
                    <a:pt x="113" y="0"/>
                  </a:moveTo>
                  <a:lnTo>
                    <a:pt x="100" y="4"/>
                  </a:lnTo>
                  <a:lnTo>
                    <a:pt x="92" y="9"/>
                  </a:lnTo>
                  <a:lnTo>
                    <a:pt x="84" y="12"/>
                  </a:lnTo>
                  <a:lnTo>
                    <a:pt x="76" y="15"/>
                  </a:lnTo>
                  <a:lnTo>
                    <a:pt x="65" y="19"/>
                  </a:lnTo>
                  <a:lnTo>
                    <a:pt x="49" y="26"/>
                  </a:lnTo>
                  <a:lnTo>
                    <a:pt x="29" y="36"/>
                  </a:lnTo>
                  <a:lnTo>
                    <a:pt x="0" y="49"/>
                  </a:lnTo>
                  <a:lnTo>
                    <a:pt x="29" y="120"/>
                  </a:lnTo>
                  <a:lnTo>
                    <a:pt x="56" y="187"/>
                  </a:lnTo>
                  <a:lnTo>
                    <a:pt x="81" y="248"/>
                  </a:lnTo>
                  <a:lnTo>
                    <a:pt x="103" y="305"/>
                  </a:lnTo>
                  <a:lnTo>
                    <a:pt x="125" y="358"/>
                  </a:lnTo>
                  <a:lnTo>
                    <a:pt x="145" y="407"/>
                  </a:lnTo>
                  <a:lnTo>
                    <a:pt x="164" y="455"/>
                  </a:lnTo>
                  <a:lnTo>
                    <a:pt x="182" y="499"/>
                  </a:lnTo>
                  <a:lnTo>
                    <a:pt x="199" y="542"/>
                  </a:lnTo>
                  <a:lnTo>
                    <a:pt x="216" y="584"/>
                  </a:lnTo>
                  <a:lnTo>
                    <a:pt x="233" y="625"/>
                  </a:lnTo>
                  <a:lnTo>
                    <a:pt x="249" y="667"/>
                  </a:lnTo>
                  <a:lnTo>
                    <a:pt x="267" y="711"/>
                  </a:lnTo>
                  <a:lnTo>
                    <a:pt x="284" y="754"/>
                  </a:lnTo>
                  <a:lnTo>
                    <a:pt x="302" y="800"/>
                  </a:lnTo>
                  <a:lnTo>
                    <a:pt x="323" y="849"/>
                  </a:lnTo>
                  <a:lnTo>
                    <a:pt x="343" y="900"/>
                  </a:lnTo>
                  <a:lnTo>
                    <a:pt x="366" y="956"/>
                  </a:lnTo>
                  <a:lnTo>
                    <a:pt x="389" y="1016"/>
                  </a:lnTo>
                  <a:lnTo>
                    <a:pt x="415" y="1081"/>
                  </a:lnTo>
                  <a:lnTo>
                    <a:pt x="443" y="1151"/>
                  </a:lnTo>
                  <a:lnTo>
                    <a:pt x="474" y="1227"/>
                  </a:lnTo>
                  <a:lnTo>
                    <a:pt x="507" y="1311"/>
                  </a:lnTo>
                  <a:lnTo>
                    <a:pt x="544" y="1400"/>
                  </a:lnTo>
                  <a:lnTo>
                    <a:pt x="583" y="1499"/>
                  </a:lnTo>
                  <a:lnTo>
                    <a:pt x="626" y="1606"/>
                  </a:lnTo>
                  <a:lnTo>
                    <a:pt x="672" y="1721"/>
                  </a:lnTo>
                  <a:lnTo>
                    <a:pt x="723" y="1846"/>
                  </a:lnTo>
                  <a:lnTo>
                    <a:pt x="777" y="1981"/>
                  </a:lnTo>
                  <a:lnTo>
                    <a:pt x="835" y="2128"/>
                  </a:lnTo>
                  <a:lnTo>
                    <a:pt x="898" y="2285"/>
                  </a:lnTo>
                  <a:lnTo>
                    <a:pt x="966" y="2454"/>
                  </a:lnTo>
                  <a:lnTo>
                    <a:pt x="982" y="2447"/>
                  </a:lnTo>
                  <a:lnTo>
                    <a:pt x="994" y="2442"/>
                  </a:lnTo>
                  <a:lnTo>
                    <a:pt x="1003" y="2436"/>
                  </a:lnTo>
                  <a:lnTo>
                    <a:pt x="1014" y="2432"/>
                  </a:lnTo>
                  <a:lnTo>
                    <a:pt x="1029" y="2426"/>
                  </a:lnTo>
                  <a:lnTo>
                    <a:pt x="1047" y="2417"/>
                  </a:lnTo>
                  <a:lnTo>
                    <a:pt x="1073" y="2407"/>
                  </a:lnTo>
                  <a:lnTo>
                    <a:pt x="1109" y="2392"/>
                  </a:lnTo>
                  <a:lnTo>
                    <a:pt x="1080" y="2320"/>
                  </a:lnTo>
                  <a:lnTo>
                    <a:pt x="1052" y="2254"/>
                  </a:lnTo>
                  <a:lnTo>
                    <a:pt x="1027" y="2193"/>
                  </a:lnTo>
                  <a:lnTo>
                    <a:pt x="1003" y="2136"/>
                  </a:lnTo>
                  <a:lnTo>
                    <a:pt x="981" y="2083"/>
                  </a:lnTo>
                  <a:lnTo>
                    <a:pt x="960" y="2035"/>
                  </a:lnTo>
                  <a:lnTo>
                    <a:pt x="941" y="1987"/>
                  </a:lnTo>
                  <a:lnTo>
                    <a:pt x="922" y="1943"/>
                  </a:lnTo>
                  <a:lnTo>
                    <a:pt x="905" y="1900"/>
                  </a:lnTo>
                  <a:lnTo>
                    <a:pt x="887" y="1858"/>
                  </a:lnTo>
                  <a:lnTo>
                    <a:pt x="869" y="1817"/>
                  </a:lnTo>
                  <a:lnTo>
                    <a:pt x="852" y="1774"/>
                  </a:lnTo>
                  <a:lnTo>
                    <a:pt x="835" y="1732"/>
                  </a:lnTo>
                  <a:lnTo>
                    <a:pt x="816" y="1688"/>
                  </a:lnTo>
                  <a:lnTo>
                    <a:pt x="797" y="1643"/>
                  </a:lnTo>
                  <a:lnTo>
                    <a:pt x="778" y="1594"/>
                  </a:lnTo>
                  <a:lnTo>
                    <a:pt x="756" y="1542"/>
                  </a:lnTo>
                  <a:lnTo>
                    <a:pt x="733" y="1488"/>
                  </a:lnTo>
                  <a:lnTo>
                    <a:pt x="708" y="1428"/>
                  </a:lnTo>
                  <a:lnTo>
                    <a:pt x="681" y="1363"/>
                  </a:lnTo>
                  <a:lnTo>
                    <a:pt x="652" y="1294"/>
                  </a:lnTo>
                  <a:lnTo>
                    <a:pt x="621" y="1218"/>
                  </a:lnTo>
                  <a:lnTo>
                    <a:pt x="586" y="1136"/>
                  </a:lnTo>
                  <a:lnTo>
                    <a:pt x="549" y="1046"/>
                  </a:lnTo>
                  <a:lnTo>
                    <a:pt x="508" y="948"/>
                  </a:lnTo>
                  <a:lnTo>
                    <a:pt x="464" y="842"/>
                  </a:lnTo>
                  <a:lnTo>
                    <a:pt x="417" y="728"/>
                  </a:lnTo>
                  <a:lnTo>
                    <a:pt x="364" y="604"/>
                  </a:lnTo>
                  <a:lnTo>
                    <a:pt x="308" y="469"/>
                  </a:lnTo>
                  <a:lnTo>
                    <a:pt x="248" y="325"/>
                  </a:lnTo>
                  <a:lnTo>
                    <a:pt x="183" y="168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03880" y="3074760"/>
              <a:ext cx="77760" cy="216000"/>
            </a:xfrm>
            <a:custGeom>
              <a:avLst/>
              <a:gdLst/>
              <a:ahLst/>
              <a:rect l="l" t="t" r="r" b="b"/>
              <a:pathLst>
                <a:path w="1078" h="2440">
                  <a:moveTo>
                    <a:pt x="86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9" y="14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7"/>
                  </a:lnTo>
                  <a:lnTo>
                    <a:pt x="30" y="108"/>
                  </a:lnTo>
                  <a:lnTo>
                    <a:pt x="57" y="175"/>
                  </a:lnTo>
                  <a:lnTo>
                    <a:pt x="81" y="236"/>
                  </a:lnTo>
                  <a:lnTo>
                    <a:pt x="104" y="293"/>
                  </a:lnTo>
                  <a:lnTo>
                    <a:pt x="126" y="345"/>
                  </a:lnTo>
                  <a:lnTo>
                    <a:pt x="145" y="395"/>
                  </a:lnTo>
                  <a:lnTo>
                    <a:pt x="165" y="442"/>
                  </a:lnTo>
                  <a:lnTo>
                    <a:pt x="182" y="487"/>
                  </a:lnTo>
                  <a:lnTo>
                    <a:pt x="199" y="530"/>
                  </a:lnTo>
                  <a:lnTo>
                    <a:pt x="217" y="572"/>
                  </a:lnTo>
                  <a:lnTo>
                    <a:pt x="234" y="613"/>
                  </a:lnTo>
                  <a:lnTo>
                    <a:pt x="250" y="655"/>
                  </a:lnTo>
                  <a:lnTo>
                    <a:pt x="268" y="698"/>
                  </a:lnTo>
                  <a:lnTo>
                    <a:pt x="286" y="742"/>
                  </a:lnTo>
                  <a:lnTo>
                    <a:pt x="304" y="788"/>
                  </a:lnTo>
                  <a:lnTo>
                    <a:pt x="324" y="837"/>
                  </a:lnTo>
                  <a:lnTo>
                    <a:pt x="345" y="888"/>
                  </a:lnTo>
                  <a:lnTo>
                    <a:pt x="368" y="944"/>
                  </a:lnTo>
                  <a:lnTo>
                    <a:pt x="391" y="1003"/>
                  </a:lnTo>
                  <a:lnTo>
                    <a:pt x="418" y="1069"/>
                  </a:lnTo>
                  <a:lnTo>
                    <a:pt x="445" y="1138"/>
                  </a:lnTo>
                  <a:lnTo>
                    <a:pt x="476" y="1215"/>
                  </a:lnTo>
                  <a:lnTo>
                    <a:pt x="509" y="1297"/>
                  </a:lnTo>
                  <a:lnTo>
                    <a:pt x="546" y="1388"/>
                  </a:lnTo>
                  <a:lnTo>
                    <a:pt x="585" y="1486"/>
                  </a:lnTo>
                  <a:lnTo>
                    <a:pt x="628" y="1593"/>
                  </a:lnTo>
                  <a:lnTo>
                    <a:pt x="675" y="1707"/>
                  </a:lnTo>
                  <a:lnTo>
                    <a:pt x="725" y="1833"/>
                  </a:lnTo>
                  <a:lnTo>
                    <a:pt x="780" y="1968"/>
                  </a:lnTo>
                  <a:lnTo>
                    <a:pt x="838" y="2113"/>
                  </a:lnTo>
                  <a:lnTo>
                    <a:pt x="901" y="2270"/>
                  </a:lnTo>
                  <a:lnTo>
                    <a:pt x="969" y="2440"/>
                  </a:lnTo>
                  <a:lnTo>
                    <a:pt x="982" y="2435"/>
                  </a:lnTo>
                  <a:lnTo>
                    <a:pt x="990" y="2431"/>
                  </a:lnTo>
                  <a:lnTo>
                    <a:pt x="998" y="2426"/>
                  </a:lnTo>
                  <a:lnTo>
                    <a:pt x="1006" y="2423"/>
                  </a:lnTo>
                  <a:lnTo>
                    <a:pt x="1016" y="2419"/>
                  </a:lnTo>
                  <a:lnTo>
                    <a:pt x="1031" y="2413"/>
                  </a:lnTo>
                  <a:lnTo>
                    <a:pt x="1050" y="2404"/>
                  </a:lnTo>
                  <a:lnTo>
                    <a:pt x="1078" y="2394"/>
                  </a:lnTo>
                  <a:lnTo>
                    <a:pt x="1048" y="2322"/>
                  </a:lnTo>
                  <a:lnTo>
                    <a:pt x="1020" y="2256"/>
                  </a:lnTo>
                  <a:lnTo>
                    <a:pt x="995" y="2195"/>
                  </a:lnTo>
                  <a:lnTo>
                    <a:pt x="973" y="2138"/>
                  </a:lnTo>
                  <a:lnTo>
                    <a:pt x="950" y="2085"/>
                  </a:lnTo>
                  <a:lnTo>
                    <a:pt x="930" y="2035"/>
                  </a:lnTo>
                  <a:lnTo>
                    <a:pt x="910" y="1989"/>
                  </a:lnTo>
                  <a:lnTo>
                    <a:pt x="892" y="1944"/>
                  </a:lnTo>
                  <a:lnTo>
                    <a:pt x="875" y="1901"/>
                  </a:lnTo>
                  <a:lnTo>
                    <a:pt x="857" y="1859"/>
                  </a:lnTo>
                  <a:lnTo>
                    <a:pt x="840" y="1817"/>
                  </a:lnTo>
                  <a:lnTo>
                    <a:pt x="823" y="1775"/>
                  </a:lnTo>
                  <a:lnTo>
                    <a:pt x="805" y="1733"/>
                  </a:lnTo>
                  <a:lnTo>
                    <a:pt x="787" y="1688"/>
                  </a:lnTo>
                  <a:lnTo>
                    <a:pt x="768" y="1643"/>
                  </a:lnTo>
                  <a:lnTo>
                    <a:pt x="748" y="1595"/>
                  </a:lnTo>
                  <a:lnTo>
                    <a:pt x="727" y="1543"/>
                  </a:lnTo>
                  <a:lnTo>
                    <a:pt x="703" y="1487"/>
                  </a:lnTo>
                  <a:lnTo>
                    <a:pt x="679" y="1428"/>
                  </a:lnTo>
                  <a:lnTo>
                    <a:pt x="652" y="1364"/>
                  </a:lnTo>
                  <a:lnTo>
                    <a:pt x="624" y="1294"/>
                  </a:lnTo>
                  <a:lnTo>
                    <a:pt x="592" y="1218"/>
                  </a:lnTo>
                  <a:lnTo>
                    <a:pt x="557" y="1135"/>
                  </a:lnTo>
                  <a:lnTo>
                    <a:pt x="521" y="1045"/>
                  </a:lnTo>
                  <a:lnTo>
                    <a:pt x="480" y="948"/>
                  </a:lnTo>
                  <a:lnTo>
                    <a:pt x="436" y="843"/>
                  </a:lnTo>
                  <a:lnTo>
                    <a:pt x="388" y="728"/>
                  </a:lnTo>
                  <a:lnTo>
                    <a:pt x="337" y="604"/>
                  </a:lnTo>
                  <a:lnTo>
                    <a:pt x="281" y="469"/>
                  </a:lnTo>
                  <a:lnTo>
                    <a:pt x="221" y="324"/>
                  </a:lnTo>
                  <a:lnTo>
                    <a:pt x="155" y="168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03880" y="3076560"/>
              <a:ext cx="75960" cy="214200"/>
            </a:xfrm>
            <a:custGeom>
              <a:avLst/>
              <a:gdLst/>
              <a:ahLst/>
              <a:rect l="l" t="t" r="r" b="b"/>
              <a:pathLst>
                <a:path w="1046" h="2428">
                  <a:moveTo>
                    <a:pt x="58" y="0"/>
                  </a:moveTo>
                  <a:lnTo>
                    <a:pt x="52" y="2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0" y="25"/>
                  </a:lnTo>
                  <a:lnTo>
                    <a:pt x="29" y="97"/>
                  </a:lnTo>
                  <a:lnTo>
                    <a:pt x="56" y="164"/>
                  </a:lnTo>
                  <a:lnTo>
                    <a:pt x="80" y="225"/>
                  </a:lnTo>
                  <a:lnTo>
                    <a:pt x="104" y="282"/>
                  </a:lnTo>
                  <a:lnTo>
                    <a:pt x="125" y="334"/>
                  </a:lnTo>
                  <a:lnTo>
                    <a:pt x="145" y="384"/>
                  </a:lnTo>
                  <a:lnTo>
                    <a:pt x="164" y="430"/>
                  </a:lnTo>
                  <a:lnTo>
                    <a:pt x="182" y="475"/>
                  </a:lnTo>
                  <a:lnTo>
                    <a:pt x="199" y="518"/>
                  </a:lnTo>
                  <a:lnTo>
                    <a:pt x="217" y="560"/>
                  </a:lnTo>
                  <a:lnTo>
                    <a:pt x="233" y="601"/>
                  </a:lnTo>
                  <a:lnTo>
                    <a:pt x="250" y="643"/>
                  </a:lnTo>
                  <a:lnTo>
                    <a:pt x="268" y="686"/>
                  </a:lnTo>
                  <a:lnTo>
                    <a:pt x="285" y="730"/>
                  </a:lnTo>
                  <a:lnTo>
                    <a:pt x="305" y="776"/>
                  </a:lnTo>
                  <a:lnTo>
                    <a:pt x="324" y="825"/>
                  </a:lnTo>
                  <a:lnTo>
                    <a:pt x="344" y="876"/>
                  </a:lnTo>
                  <a:lnTo>
                    <a:pt x="367" y="932"/>
                  </a:lnTo>
                  <a:lnTo>
                    <a:pt x="391" y="991"/>
                  </a:lnTo>
                  <a:lnTo>
                    <a:pt x="418" y="1056"/>
                  </a:lnTo>
                  <a:lnTo>
                    <a:pt x="445" y="1126"/>
                  </a:lnTo>
                  <a:lnTo>
                    <a:pt x="477" y="1203"/>
                  </a:lnTo>
                  <a:lnTo>
                    <a:pt x="511" y="1285"/>
                  </a:lnTo>
                  <a:lnTo>
                    <a:pt x="546" y="1376"/>
                  </a:lnTo>
                  <a:lnTo>
                    <a:pt x="586" y="1474"/>
                  </a:lnTo>
                  <a:lnTo>
                    <a:pt x="629" y="1580"/>
                  </a:lnTo>
                  <a:lnTo>
                    <a:pt x="676" y="1695"/>
                  </a:lnTo>
                  <a:lnTo>
                    <a:pt x="726" y="1821"/>
                  </a:lnTo>
                  <a:lnTo>
                    <a:pt x="781" y="1956"/>
                  </a:lnTo>
                  <a:lnTo>
                    <a:pt x="840" y="2101"/>
                  </a:lnTo>
                  <a:lnTo>
                    <a:pt x="903" y="2258"/>
                  </a:lnTo>
                  <a:lnTo>
                    <a:pt x="972" y="2428"/>
                  </a:lnTo>
                  <a:lnTo>
                    <a:pt x="980" y="2424"/>
                  </a:lnTo>
                  <a:lnTo>
                    <a:pt x="986" y="2421"/>
                  </a:lnTo>
                  <a:lnTo>
                    <a:pt x="991" y="2419"/>
                  </a:lnTo>
                  <a:lnTo>
                    <a:pt x="997" y="2415"/>
                  </a:lnTo>
                  <a:lnTo>
                    <a:pt x="1004" y="2412"/>
                  </a:lnTo>
                  <a:lnTo>
                    <a:pt x="1013" y="2408"/>
                  </a:lnTo>
                  <a:lnTo>
                    <a:pt x="1028" y="2403"/>
                  </a:lnTo>
                  <a:lnTo>
                    <a:pt x="1046" y="2395"/>
                  </a:lnTo>
                  <a:lnTo>
                    <a:pt x="1017" y="2324"/>
                  </a:lnTo>
                  <a:lnTo>
                    <a:pt x="989" y="2257"/>
                  </a:lnTo>
                  <a:lnTo>
                    <a:pt x="964" y="2196"/>
                  </a:lnTo>
                  <a:lnTo>
                    <a:pt x="941" y="2139"/>
                  </a:lnTo>
                  <a:lnTo>
                    <a:pt x="920" y="2086"/>
                  </a:lnTo>
                  <a:lnTo>
                    <a:pt x="899" y="2037"/>
                  </a:lnTo>
                  <a:lnTo>
                    <a:pt x="880" y="1990"/>
                  </a:lnTo>
                  <a:lnTo>
                    <a:pt x="861" y="1946"/>
                  </a:lnTo>
                  <a:lnTo>
                    <a:pt x="843" y="1903"/>
                  </a:lnTo>
                  <a:lnTo>
                    <a:pt x="826" y="1861"/>
                  </a:lnTo>
                  <a:lnTo>
                    <a:pt x="809" y="1819"/>
                  </a:lnTo>
                  <a:lnTo>
                    <a:pt x="792" y="1778"/>
                  </a:lnTo>
                  <a:lnTo>
                    <a:pt x="774" y="1734"/>
                  </a:lnTo>
                  <a:lnTo>
                    <a:pt x="756" y="1691"/>
                  </a:lnTo>
                  <a:lnTo>
                    <a:pt x="737" y="1645"/>
                  </a:lnTo>
                  <a:lnTo>
                    <a:pt x="718" y="1596"/>
                  </a:lnTo>
                  <a:lnTo>
                    <a:pt x="696" y="1545"/>
                  </a:lnTo>
                  <a:lnTo>
                    <a:pt x="673" y="1490"/>
                  </a:lnTo>
                  <a:lnTo>
                    <a:pt x="648" y="1430"/>
                  </a:lnTo>
                  <a:lnTo>
                    <a:pt x="622" y="1365"/>
                  </a:lnTo>
                  <a:lnTo>
                    <a:pt x="593" y="1296"/>
                  </a:lnTo>
                  <a:lnTo>
                    <a:pt x="562" y="1220"/>
                  </a:lnTo>
                  <a:lnTo>
                    <a:pt x="528" y="1138"/>
                  </a:lnTo>
                  <a:lnTo>
                    <a:pt x="490" y="1047"/>
                  </a:lnTo>
                  <a:lnTo>
                    <a:pt x="450" y="950"/>
                  </a:lnTo>
                  <a:lnTo>
                    <a:pt x="407" y="843"/>
                  </a:lnTo>
                  <a:lnTo>
                    <a:pt x="359" y="730"/>
                  </a:lnTo>
                  <a:lnTo>
                    <a:pt x="308" y="605"/>
                  </a:lnTo>
                  <a:lnTo>
                    <a:pt x="251" y="470"/>
                  </a:lnTo>
                  <a:lnTo>
                    <a:pt x="192" y="325"/>
                  </a:lnTo>
                  <a:lnTo>
                    <a:pt x="127" y="16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03880" y="3076560"/>
              <a:ext cx="72720" cy="212760"/>
            </a:xfrm>
            <a:custGeom>
              <a:avLst/>
              <a:gdLst/>
              <a:ahLst/>
              <a:rect l="l" t="t" r="r" b="b"/>
              <a:pathLst>
                <a:path w="1017" h="2414">
                  <a:moveTo>
                    <a:pt x="32" y="0"/>
                  </a:moveTo>
                  <a:lnTo>
                    <a:pt x="0" y="13"/>
                  </a:lnTo>
                  <a:lnTo>
                    <a:pt x="977" y="2414"/>
                  </a:lnTo>
                  <a:lnTo>
                    <a:pt x="1017" y="2396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302080" y="3070080"/>
              <a:ext cx="12600" cy="9720"/>
            </a:xfrm>
            <a:custGeom>
              <a:avLst/>
              <a:gdLst/>
              <a:ahLst/>
              <a:rect l="l" t="t" r="r" b="b"/>
              <a:pathLst>
                <a:path w="173" h="95">
                  <a:moveTo>
                    <a:pt x="173" y="20"/>
                  </a:moveTo>
                  <a:lnTo>
                    <a:pt x="7" y="95"/>
                  </a:lnTo>
                  <a:lnTo>
                    <a:pt x="0" y="75"/>
                  </a:lnTo>
                  <a:lnTo>
                    <a:pt x="166" y="0"/>
                  </a:lnTo>
                  <a:lnTo>
                    <a:pt x="173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98840" y="3062160"/>
              <a:ext cx="14400" cy="1584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06"/>
                  </a:moveTo>
                  <a:lnTo>
                    <a:pt x="33" y="179"/>
                  </a:lnTo>
                  <a:lnTo>
                    <a:pt x="0" y="100"/>
                  </a:lnTo>
                  <a:lnTo>
                    <a:pt x="58" y="0"/>
                  </a:lnTo>
                  <a:lnTo>
                    <a:pt x="168" y="26"/>
                  </a:lnTo>
                  <a:lnTo>
                    <a:pt x="200" y="106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8840" y="3062160"/>
              <a:ext cx="12960" cy="15840"/>
            </a:xfrm>
            <a:custGeom>
              <a:avLst/>
              <a:gdLst/>
              <a:ahLst/>
              <a:rect l="l" t="t" r="r" b="b"/>
              <a:pathLst>
                <a:path w="173" h="177">
                  <a:moveTo>
                    <a:pt x="173" y="116"/>
                  </a:moveTo>
                  <a:lnTo>
                    <a:pt x="159" y="122"/>
                  </a:lnTo>
                  <a:lnTo>
                    <a:pt x="147" y="126"/>
                  </a:lnTo>
                  <a:lnTo>
                    <a:pt x="137" y="131"/>
                  </a:lnTo>
                  <a:lnTo>
                    <a:pt x="127" y="135"/>
                  </a:lnTo>
                  <a:lnTo>
                    <a:pt x="114" y="141"/>
                  </a:lnTo>
                  <a:lnTo>
                    <a:pt x="94" y="150"/>
                  </a:lnTo>
                  <a:lnTo>
                    <a:pt x="69" y="161"/>
                  </a:lnTo>
                  <a:lnTo>
                    <a:pt x="33" y="177"/>
                  </a:lnTo>
                  <a:lnTo>
                    <a:pt x="30" y="168"/>
                  </a:lnTo>
                  <a:lnTo>
                    <a:pt x="27" y="161"/>
                  </a:lnTo>
                  <a:lnTo>
                    <a:pt x="25" y="156"/>
                  </a:lnTo>
                  <a:lnTo>
                    <a:pt x="23" y="150"/>
                  </a:lnTo>
                  <a:lnTo>
                    <a:pt x="20" y="141"/>
                  </a:lnTo>
                  <a:lnTo>
                    <a:pt x="16" y="131"/>
                  </a:lnTo>
                  <a:lnTo>
                    <a:pt x="9" y="117"/>
                  </a:lnTo>
                  <a:lnTo>
                    <a:pt x="0" y="97"/>
                  </a:lnTo>
                  <a:lnTo>
                    <a:pt x="7" y="86"/>
                  </a:lnTo>
                  <a:lnTo>
                    <a:pt x="11" y="78"/>
                  </a:lnTo>
                  <a:lnTo>
                    <a:pt x="15" y="70"/>
                  </a:lnTo>
                  <a:lnTo>
                    <a:pt x="19" y="63"/>
                  </a:lnTo>
                  <a:lnTo>
                    <a:pt x="24" y="54"/>
                  </a:lnTo>
                  <a:lnTo>
                    <a:pt x="31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1"/>
                  </a:lnTo>
                  <a:lnTo>
                    <a:pt x="91" y="15"/>
                  </a:lnTo>
                  <a:lnTo>
                    <a:pt x="102" y="20"/>
                  </a:lnTo>
                  <a:lnTo>
                    <a:pt x="119" y="27"/>
                  </a:lnTo>
                  <a:lnTo>
                    <a:pt x="140" y="37"/>
                  </a:lnTo>
                  <a:lnTo>
                    <a:pt x="144" y="44"/>
                  </a:lnTo>
                  <a:lnTo>
                    <a:pt x="146" y="50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4" y="69"/>
                  </a:lnTo>
                  <a:lnTo>
                    <a:pt x="159" y="80"/>
                  </a:lnTo>
                  <a:lnTo>
                    <a:pt x="165" y="95"/>
                  </a:lnTo>
                  <a:lnTo>
                    <a:pt x="173" y="116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300640" y="3062160"/>
              <a:ext cx="9360" cy="1440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142" y="126"/>
                  </a:moveTo>
                  <a:lnTo>
                    <a:pt x="131" y="131"/>
                  </a:lnTo>
                  <a:lnTo>
                    <a:pt x="122" y="135"/>
                  </a:lnTo>
                  <a:lnTo>
                    <a:pt x="115" y="137"/>
                  </a:lnTo>
                  <a:lnTo>
                    <a:pt x="107" y="141"/>
                  </a:lnTo>
                  <a:lnTo>
                    <a:pt x="96" y="145"/>
                  </a:lnTo>
                  <a:lnTo>
                    <a:pt x="81" y="152"/>
                  </a:lnTo>
                  <a:lnTo>
                    <a:pt x="61" y="161"/>
                  </a:lnTo>
                  <a:lnTo>
                    <a:pt x="32" y="175"/>
                  </a:lnTo>
                  <a:lnTo>
                    <a:pt x="29" y="165"/>
                  </a:lnTo>
                  <a:lnTo>
                    <a:pt x="26" y="159"/>
                  </a:lnTo>
                  <a:lnTo>
                    <a:pt x="24" y="153"/>
                  </a:lnTo>
                  <a:lnTo>
                    <a:pt x="22" y="146"/>
                  </a:lnTo>
                  <a:lnTo>
                    <a:pt x="19" y="139"/>
                  </a:lnTo>
                  <a:lnTo>
                    <a:pt x="15" y="128"/>
                  </a:lnTo>
                  <a:lnTo>
                    <a:pt x="8" y="114"/>
                  </a:lnTo>
                  <a:lnTo>
                    <a:pt x="0" y="95"/>
                  </a:lnTo>
                  <a:lnTo>
                    <a:pt x="5" y="84"/>
                  </a:lnTo>
                  <a:lnTo>
                    <a:pt x="9" y="76"/>
                  </a:lnTo>
                  <a:lnTo>
                    <a:pt x="12" y="68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6" y="40"/>
                  </a:lnTo>
                  <a:lnTo>
                    <a:pt x="34" y="23"/>
                  </a:lnTo>
                  <a:lnTo>
                    <a:pt x="45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3" y="11"/>
                  </a:lnTo>
                  <a:lnTo>
                    <a:pt x="68" y="15"/>
                  </a:lnTo>
                  <a:lnTo>
                    <a:pt x="74" y="19"/>
                  </a:lnTo>
                  <a:lnTo>
                    <a:pt x="83" y="25"/>
                  </a:lnTo>
                  <a:lnTo>
                    <a:pt x="94" y="34"/>
                  </a:lnTo>
                  <a:lnTo>
                    <a:pt x="111" y="46"/>
                  </a:lnTo>
                  <a:lnTo>
                    <a:pt x="115" y="55"/>
                  </a:lnTo>
                  <a:lnTo>
                    <a:pt x="117" y="60"/>
                  </a:lnTo>
                  <a:lnTo>
                    <a:pt x="120" y="65"/>
                  </a:lnTo>
                  <a:lnTo>
                    <a:pt x="122" y="71"/>
                  </a:lnTo>
                  <a:lnTo>
                    <a:pt x="125" y="79"/>
                  </a:lnTo>
                  <a:lnTo>
                    <a:pt x="129" y="89"/>
                  </a:lnTo>
                  <a:lnTo>
                    <a:pt x="135" y="105"/>
                  </a:lnTo>
                  <a:lnTo>
                    <a:pt x="142" y="126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300640" y="3062160"/>
              <a:ext cx="7920" cy="1440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136"/>
                  </a:moveTo>
                  <a:lnTo>
                    <a:pt x="107" y="139"/>
                  </a:lnTo>
                  <a:lnTo>
                    <a:pt x="101" y="141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50"/>
                  </a:lnTo>
                  <a:lnTo>
                    <a:pt x="69" y="155"/>
                  </a:lnTo>
                  <a:lnTo>
                    <a:pt x="54" y="162"/>
                  </a:lnTo>
                  <a:lnTo>
                    <a:pt x="32" y="172"/>
                  </a:lnTo>
                  <a:lnTo>
                    <a:pt x="29" y="163"/>
                  </a:lnTo>
                  <a:lnTo>
                    <a:pt x="26" y="156"/>
                  </a:lnTo>
                  <a:lnTo>
                    <a:pt x="24" y="151"/>
                  </a:lnTo>
                  <a:lnTo>
                    <a:pt x="22" y="144"/>
                  </a:lnTo>
                  <a:lnTo>
                    <a:pt x="19" y="136"/>
                  </a:lnTo>
                  <a:lnTo>
                    <a:pt x="15" y="126"/>
                  </a:lnTo>
                  <a:lnTo>
                    <a:pt x="8" y="112"/>
                  </a:lnTo>
                  <a:lnTo>
                    <a:pt x="0" y="93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1" y="67"/>
                  </a:lnTo>
                  <a:lnTo>
                    <a:pt x="14" y="60"/>
                  </a:lnTo>
                  <a:lnTo>
                    <a:pt x="18" y="51"/>
                  </a:lnTo>
                  <a:lnTo>
                    <a:pt x="23" y="39"/>
                  </a:lnTo>
                  <a:lnTo>
                    <a:pt x="31" y="22"/>
                  </a:lnTo>
                  <a:lnTo>
                    <a:pt x="40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73" y="41"/>
                  </a:lnTo>
                  <a:lnTo>
                    <a:pt x="83" y="56"/>
                  </a:lnTo>
                  <a:lnTo>
                    <a:pt x="87" y="64"/>
                  </a:lnTo>
                  <a:lnTo>
                    <a:pt x="89" y="69"/>
                  </a:lnTo>
                  <a:lnTo>
                    <a:pt x="92" y="75"/>
                  </a:lnTo>
                  <a:lnTo>
                    <a:pt x="95" y="81"/>
                  </a:lnTo>
                  <a:lnTo>
                    <a:pt x="98" y="88"/>
                  </a:lnTo>
                  <a:lnTo>
                    <a:pt x="102" y="99"/>
                  </a:lnTo>
                  <a:lnTo>
                    <a:pt x="108" y="115"/>
                  </a:lnTo>
                  <a:lnTo>
                    <a:pt x="116" y="136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300640" y="3062160"/>
              <a:ext cx="6120" cy="14400"/>
            </a:xfrm>
            <a:custGeom>
              <a:avLst/>
              <a:gdLst/>
              <a:ahLst/>
              <a:rect l="l" t="t" r="r" b="b"/>
              <a:pathLst>
                <a:path w="88" h="170">
                  <a:moveTo>
                    <a:pt x="88" y="145"/>
                  </a:moveTo>
                  <a:lnTo>
                    <a:pt x="81" y="147"/>
                  </a:lnTo>
                  <a:lnTo>
                    <a:pt x="77" y="150"/>
                  </a:lnTo>
                  <a:lnTo>
                    <a:pt x="73" y="151"/>
                  </a:lnTo>
                  <a:lnTo>
                    <a:pt x="69" y="153"/>
                  </a:lnTo>
                  <a:lnTo>
                    <a:pt x="64" y="155"/>
                  </a:lnTo>
                  <a:lnTo>
                    <a:pt x="57" y="158"/>
                  </a:lnTo>
                  <a:lnTo>
                    <a:pt x="47" y="163"/>
                  </a:lnTo>
                  <a:lnTo>
                    <a:pt x="32" y="170"/>
                  </a:lnTo>
                  <a:lnTo>
                    <a:pt x="29" y="161"/>
                  </a:lnTo>
                  <a:lnTo>
                    <a:pt x="26" y="154"/>
                  </a:lnTo>
                  <a:lnTo>
                    <a:pt x="24" y="148"/>
                  </a:lnTo>
                  <a:lnTo>
                    <a:pt x="22" y="142"/>
                  </a:lnTo>
                  <a:lnTo>
                    <a:pt x="19" y="134"/>
                  </a:lnTo>
                  <a:lnTo>
                    <a:pt x="15" y="123"/>
                  </a:lnTo>
                  <a:lnTo>
                    <a:pt x="8" y="109"/>
                  </a:lnTo>
                  <a:lnTo>
                    <a:pt x="0" y="89"/>
                  </a:lnTo>
                  <a:lnTo>
                    <a:pt x="4" y="79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8"/>
                  </a:lnTo>
                  <a:lnTo>
                    <a:pt x="15" y="49"/>
                  </a:lnTo>
                  <a:lnTo>
                    <a:pt x="19" y="38"/>
                  </a:lnTo>
                  <a:lnTo>
                    <a:pt x="26" y="22"/>
                  </a:lnTo>
                  <a:lnTo>
                    <a:pt x="34" y="0"/>
                  </a:lnTo>
                  <a:lnTo>
                    <a:pt x="40" y="11"/>
                  </a:lnTo>
                  <a:lnTo>
                    <a:pt x="43" y="21"/>
                  </a:lnTo>
                  <a:lnTo>
                    <a:pt x="47" y="36"/>
                  </a:lnTo>
                  <a:lnTo>
                    <a:pt x="55" y="65"/>
                  </a:lnTo>
                  <a:lnTo>
                    <a:pt x="59" y="74"/>
                  </a:lnTo>
                  <a:lnTo>
                    <a:pt x="61" y="79"/>
                  </a:lnTo>
                  <a:lnTo>
                    <a:pt x="64" y="84"/>
                  </a:lnTo>
                  <a:lnTo>
                    <a:pt x="66" y="90"/>
                  </a:lnTo>
                  <a:lnTo>
                    <a:pt x="69" y="98"/>
                  </a:lnTo>
                  <a:lnTo>
                    <a:pt x="73" y="108"/>
                  </a:lnTo>
                  <a:lnTo>
                    <a:pt x="79" y="124"/>
                  </a:lnTo>
                  <a:lnTo>
                    <a:pt x="88" y="145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302080" y="3062160"/>
              <a:ext cx="3240" cy="14400"/>
            </a:xfrm>
            <a:custGeom>
              <a:avLst/>
              <a:gdLst/>
              <a:ahLst/>
              <a:rect l="l" t="t" r="r" b="b"/>
              <a:pathLst>
                <a:path w="59" h="167">
                  <a:moveTo>
                    <a:pt x="59" y="155"/>
                  </a:moveTo>
                  <a:lnTo>
                    <a:pt x="33" y="167"/>
                  </a:lnTo>
                  <a:lnTo>
                    <a:pt x="0" y="87"/>
                  </a:lnTo>
                  <a:lnTo>
                    <a:pt x="29" y="0"/>
                  </a:lnTo>
                  <a:lnTo>
                    <a:pt x="26" y="76"/>
                  </a:lnTo>
                  <a:lnTo>
                    <a:pt x="59" y="155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98840" y="3063960"/>
              <a:ext cx="12960" cy="6120"/>
            </a:xfrm>
            <a:custGeom>
              <a:avLst/>
              <a:gdLst/>
              <a:ahLst/>
              <a:rect l="l" t="t" r="r" b="b"/>
              <a:pathLst>
                <a:path w="172" h="81">
                  <a:moveTo>
                    <a:pt x="170" y="4"/>
                  </a:moveTo>
                  <a:lnTo>
                    <a:pt x="168" y="0"/>
                  </a:lnTo>
                  <a:lnTo>
                    <a:pt x="0" y="73"/>
                  </a:lnTo>
                  <a:lnTo>
                    <a:pt x="4" y="81"/>
                  </a:lnTo>
                  <a:lnTo>
                    <a:pt x="172" y="8"/>
                  </a:lnTo>
                  <a:lnTo>
                    <a:pt x="170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371920" y="3282840"/>
              <a:ext cx="15840" cy="9720"/>
            </a:xfrm>
            <a:custGeom>
              <a:avLst/>
              <a:gdLst/>
              <a:ahLst/>
              <a:rect l="l" t="t" r="r" b="b"/>
              <a:pathLst>
                <a:path w="216" h="103">
                  <a:moveTo>
                    <a:pt x="216" y="12"/>
                  </a:moveTo>
                  <a:lnTo>
                    <a:pt x="4" y="103"/>
                  </a:lnTo>
                  <a:lnTo>
                    <a:pt x="0" y="93"/>
                  </a:lnTo>
                  <a:lnTo>
                    <a:pt x="211" y="0"/>
                  </a:lnTo>
                  <a:lnTo>
                    <a:pt x="216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71920" y="3284640"/>
              <a:ext cx="17640" cy="25200"/>
            </a:xfrm>
            <a:custGeom>
              <a:avLst/>
              <a:gdLst/>
              <a:ahLst/>
              <a:rect l="l" t="t" r="r" b="b"/>
              <a:pathLst>
                <a:path w="250" h="298">
                  <a:moveTo>
                    <a:pt x="207" y="296"/>
                  </a:moveTo>
                  <a:lnTo>
                    <a:pt x="219" y="286"/>
                  </a:lnTo>
                  <a:lnTo>
                    <a:pt x="232" y="267"/>
                  </a:lnTo>
                  <a:lnTo>
                    <a:pt x="242" y="241"/>
                  </a:lnTo>
                  <a:lnTo>
                    <a:pt x="248" y="206"/>
                  </a:lnTo>
                  <a:lnTo>
                    <a:pt x="250" y="165"/>
                  </a:lnTo>
                  <a:lnTo>
                    <a:pt x="245" y="116"/>
                  </a:lnTo>
                  <a:lnTo>
                    <a:pt x="233" y="62"/>
                  </a:lnTo>
                  <a:lnTo>
                    <a:pt x="211" y="0"/>
                  </a:lnTo>
                  <a:lnTo>
                    <a:pt x="198" y="6"/>
                  </a:lnTo>
                  <a:lnTo>
                    <a:pt x="185" y="12"/>
                  </a:lnTo>
                  <a:lnTo>
                    <a:pt x="171" y="17"/>
                  </a:lnTo>
                  <a:lnTo>
                    <a:pt x="158" y="24"/>
                  </a:lnTo>
                  <a:lnTo>
                    <a:pt x="145" y="29"/>
                  </a:lnTo>
                  <a:lnTo>
                    <a:pt x="132" y="35"/>
                  </a:lnTo>
                  <a:lnTo>
                    <a:pt x="118" y="41"/>
                  </a:lnTo>
                  <a:lnTo>
                    <a:pt x="106" y="46"/>
                  </a:lnTo>
                  <a:lnTo>
                    <a:pt x="93" y="52"/>
                  </a:lnTo>
                  <a:lnTo>
                    <a:pt x="80" y="57"/>
                  </a:lnTo>
                  <a:lnTo>
                    <a:pt x="66" y="64"/>
                  </a:lnTo>
                  <a:lnTo>
                    <a:pt x="53" y="69"/>
                  </a:lnTo>
                  <a:lnTo>
                    <a:pt x="40" y="75"/>
                  </a:lnTo>
                  <a:lnTo>
                    <a:pt x="27" y="81"/>
                  </a:lnTo>
                  <a:lnTo>
                    <a:pt x="13" y="87"/>
                  </a:lnTo>
                  <a:lnTo>
                    <a:pt x="0" y="92"/>
                  </a:lnTo>
                  <a:lnTo>
                    <a:pt x="13" y="123"/>
                  </a:lnTo>
                  <a:lnTo>
                    <a:pt x="28" y="150"/>
                  </a:lnTo>
                  <a:lnTo>
                    <a:pt x="42" y="175"/>
                  </a:lnTo>
                  <a:lnTo>
                    <a:pt x="57" y="198"/>
                  </a:lnTo>
                  <a:lnTo>
                    <a:pt x="73" y="218"/>
                  </a:lnTo>
                  <a:lnTo>
                    <a:pt x="87" y="236"/>
                  </a:lnTo>
                  <a:lnTo>
                    <a:pt x="102" y="250"/>
                  </a:lnTo>
                  <a:lnTo>
                    <a:pt x="117" y="263"/>
                  </a:lnTo>
                  <a:lnTo>
                    <a:pt x="132" y="274"/>
                  </a:lnTo>
                  <a:lnTo>
                    <a:pt x="145" y="283"/>
                  </a:lnTo>
                  <a:lnTo>
                    <a:pt x="158" y="289"/>
                  </a:lnTo>
                  <a:lnTo>
                    <a:pt x="170" y="294"/>
                  </a:lnTo>
                  <a:lnTo>
                    <a:pt x="182" y="297"/>
                  </a:lnTo>
                  <a:lnTo>
                    <a:pt x="192" y="298"/>
                  </a:lnTo>
                  <a:lnTo>
                    <a:pt x="200" y="298"/>
                  </a:lnTo>
                  <a:lnTo>
                    <a:pt x="207" y="296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371920" y="3284640"/>
              <a:ext cx="15840" cy="25200"/>
            </a:xfrm>
            <a:custGeom>
              <a:avLst/>
              <a:gdLst/>
              <a:ahLst/>
              <a:rect l="l" t="t" r="r" b="b"/>
              <a:pathLst>
                <a:path w="226" h="287">
                  <a:moveTo>
                    <a:pt x="199" y="285"/>
                  </a:moveTo>
                  <a:lnTo>
                    <a:pt x="209" y="276"/>
                  </a:lnTo>
                  <a:lnTo>
                    <a:pt x="217" y="259"/>
                  </a:lnTo>
                  <a:lnTo>
                    <a:pt x="224" y="234"/>
                  </a:lnTo>
                  <a:lnTo>
                    <a:pt x="226" y="202"/>
                  </a:lnTo>
                  <a:lnTo>
                    <a:pt x="223" y="162"/>
                  </a:lnTo>
                  <a:lnTo>
                    <a:pt x="214" y="115"/>
                  </a:lnTo>
                  <a:lnTo>
                    <a:pt x="200" y="61"/>
                  </a:lnTo>
                  <a:lnTo>
                    <a:pt x="178" y="0"/>
                  </a:lnTo>
                  <a:lnTo>
                    <a:pt x="166" y="5"/>
                  </a:lnTo>
                  <a:lnTo>
                    <a:pt x="155" y="10"/>
                  </a:lnTo>
                  <a:lnTo>
                    <a:pt x="144" y="15"/>
                  </a:lnTo>
                  <a:lnTo>
                    <a:pt x="134" y="20"/>
                  </a:lnTo>
                  <a:lnTo>
                    <a:pt x="123" y="24"/>
                  </a:lnTo>
                  <a:lnTo>
                    <a:pt x="111" y="30"/>
                  </a:lnTo>
                  <a:lnTo>
                    <a:pt x="100" y="34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9"/>
                  </a:lnTo>
                  <a:lnTo>
                    <a:pt x="55" y="54"/>
                  </a:lnTo>
                  <a:lnTo>
                    <a:pt x="45" y="58"/>
                  </a:lnTo>
                  <a:lnTo>
                    <a:pt x="34" y="63"/>
                  </a:lnTo>
                  <a:lnTo>
                    <a:pt x="23" y="69"/>
                  </a:lnTo>
                  <a:lnTo>
                    <a:pt x="11" y="73"/>
                  </a:lnTo>
                  <a:lnTo>
                    <a:pt x="0" y="78"/>
                  </a:lnTo>
                  <a:lnTo>
                    <a:pt x="13" y="109"/>
                  </a:lnTo>
                  <a:lnTo>
                    <a:pt x="28" y="136"/>
                  </a:lnTo>
                  <a:lnTo>
                    <a:pt x="42" y="161"/>
                  </a:lnTo>
                  <a:lnTo>
                    <a:pt x="56" y="184"/>
                  </a:lnTo>
                  <a:lnTo>
                    <a:pt x="72" y="204"/>
                  </a:lnTo>
                  <a:lnTo>
                    <a:pt x="86" y="221"/>
                  </a:lnTo>
                  <a:lnTo>
                    <a:pt x="101" y="236"/>
                  </a:lnTo>
                  <a:lnTo>
                    <a:pt x="115" y="250"/>
                  </a:lnTo>
                  <a:lnTo>
                    <a:pt x="129" y="260"/>
                  </a:lnTo>
                  <a:lnTo>
                    <a:pt x="142" y="270"/>
                  </a:lnTo>
                  <a:lnTo>
                    <a:pt x="155" y="276"/>
                  </a:lnTo>
                  <a:lnTo>
                    <a:pt x="166" y="282"/>
                  </a:lnTo>
                  <a:lnTo>
                    <a:pt x="177" y="285"/>
                  </a:lnTo>
                  <a:lnTo>
                    <a:pt x="186" y="287"/>
                  </a:lnTo>
                  <a:lnTo>
                    <a:pt x="193" y="287"/>
                  </a:lnTo>
                  <a:lnTo>
                    <a:pt x="199" y="285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373720" y="3286080"/>
              <a:ext cx="14040" cy="23760"/>
            </a:xfrm>
            <a:custGeom>
              <a:avLst/>
              <a:gdLst/>
              <a:ahLst/>
              <a:rect l="l" t="t" r="r" b="b"/>
              <a:pathLst>
                <a:path w="202" h="274">
                  <a:moveTo>
                    <a:pt x="189" y="273"/>
                  </a:moveTo>
                  <a:lnTo>
                    <a:pt x="196" y="265"/>
                  </a:lnTo>
                  <a:lnTo>
                    <a:pt x="201" y="251"/>
                  </a:lnTo>
                  <a:lnTo>
                    <a:pt x="202" y="227"/>
                  </a:lnTo>
                  <a:lnTo>
                    <a:pt x="200" y="197"/>
                  </a:lnTo>
                  <a:lnTo>
                    <a:pt x="193" y="159"/>
                  </a:lnTo>
                  <a:lnTo>
                    <a:pt x="182" y="114"/>
                  </a:lnTo>
                  <a:lnTo>
                    <a:pt x="165" y="60"/>
                  </a:lnTo>
                  <a:lnTo>
                    <a:pt x="142" y="0"/>
                  </a:lnTo>
                  <a:lnTo>
                    <a:pt x="125" y="7"/>
                  </a:lnTo>
                  <a:lnTo>
                    <a:pt x="107" y="14"/>
                  </a:lnTo>
                  <a:lnTo>
                    <a:pt x="89" y="23"/>
                  </a:lnTo>
                  <a:lnTo>
                    <a:pt x="72" y="30"/>
                  </a:lnTo>
                  <a:lnTo>
                    <a:pt x="53" y="39"/>
                  </a:lnTo>
                  <a:lnTo>
                    <a:pt x="36" y="46"/>
                  </a:lnTo>
                  <a:lnTo>
                    <a:pt x="18" y="54"/>
                  </a:lnTo>
                  <a:lnTo>
                    <a:pt x="0" y="62"/>
                  </a:lnTo>
                  <a:lnTo>
                    <a:pt x="14" y="92"/>
                  </a:lnTo>
                  <a:lnTo>
                    <a:pt x="28" y="120"/>
                  </a:lnTo>
                  <a:lnTo>
                    <a:pt x="41" y="145"/>
                  </a:lnTo>
                  <a:lnTo>
                    <a:pt x="57" y="168"/>
                  </a:lnTo>
                  <a:lnTo>
                    <a:pt x="71" y="188"/>
                  </a:lnTo>
                  <a:lnTo>
                    <a:pt x="85" y="206"/>
                  </a:lnTo>
                  <a:lnTo>
                    <a:pt x="98" y="221"/>
                  </a:lnTo>
                  <a:lnTo>
                    <a:pt x="113" y="235"/>
                  </a:lnTo>
                  <a:lnTo>
                    <a:pt x="126" y="246"/>
                  </a:lnTo>
                  <a:lnTo>
                    <a:pt x="138" y="256"/>
                  </a:lnTo>
                  <a:lnTo>
                    <a:pt x="149" y="262"/>
                  </a:lnTo>
                  <a:lnTo>
                    <a:pt x="160" y="268"/>
                  </a:lnTo>
                  <a:lnTo>
                    <a:pt x="170" y="272"/>
                  </a:lnTo>
                  <a:lnTo>
                    <a:pt x="178" y="274"/>
                  </a:lnTo>
                  <a:lnTo>
                    <a:pt x="184" y="274"/>
                  </a:lnTo>
                  <a:lnTo>
                    <a:pt x="189" y="273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73720" y="3287520"/>
              <a:ext cx="14040" cy="22320"/>
            </a:xfrm>
            <a:custGeom>
              <a:avLst/>
              <a:gdLst/>
              <a:ahLst/>
              <a:rect l="l" t="t" r="r" b="b"/>
              <a:pathLst>
                <a:path w="186" h="264">
                  <a:moveTo>
                    <a:pt x="180" y="263"/>
                  </a:moveTo>
                  <a:lnTo>
                    <a:pt x="185" y="256"/>
                  </a:lnTo>
                  <a:lnTo>
                    <a:pt x="186" y="243"/>
                  </a:lnTo>
                  <a:lnTo>
                    <a:pt x="183" y="222"/>
                  </a:lnTo>
                  <a:lnTo>
                    <a:pt x="177" y="193"/>
                  </a:lnTo>
                  <a:lnTo>
                    <a:pt x="166" y="157"/>
                  </a:lnTo>
                  <a:lnTo>
                    <a:pt x="151" y="113"/>
                  </a:lnTo>
                  <a:lnTo>
                    <a:pt x="131" y="60"/>
                  </a:lnTo>
                  <a:lnTo>
                    <a:pt x="108" y="0"/>
                  </a:lnTo>
                  <a:lnTo>
                    <a:pt x="94" y="7"/>
                  </a:lnTo>
                  <a:lnTo>
                    <a:pt x="80" y="13"/>
                  </a:lnTo>
                  <a:lnTo>
                    <a:pt x="67" y="18"/>
                  </a:lnTo>
                  <a:lnTo>
                    <a:pt x="54" y="24"/>
                  </a:lnTo>
                  <a:lnTo>
                    <a:pt x="40" y="30"/>
                  </a:lnTo>
                  <a:lnTo>
                    <a:pt x="27" y="36"/>
                  </a:lnTo>
                  <a:lnTo>
                    <a:pt x="13" y="41"/>
                  </a:lnTo>
                  <a:lnTo>
                    <a:pt x="0" y="48"/>
                  </a:lnTo>
                  <a:lnTo>
                    <a:pt x="13" y="78"/>
                  </a:lnTo>
                  <a:lnTo>
                    <a:pt x="26" y="106"/>
                  </a:lnTo>
                  <a:lnTo>
                    <a:pt x="40" y="131"/>
                  </a:lnTo>
                  <a:lnTo>
                    <a:pt x="55" y="154"/>
                  </a:lnTo>
                  <a:lnTo>
                    <a:pt x="69" y="174"/>
                  </a:lnTo>
                  <a:lnTo>
                    <a:pt x="83" y="192"/>
                  </a:lnTo>
                  <a:lnTo>
                    <a:pt x="96" y="208"/>
                  </a:lnTo>
                  <a:lnTo>
                    <a:pt x="110" y="222"/>
                  </a:lnTo>
                  <a:lnTo>
                    <a:pt x="122" y="233"/>
                  </a:lnTo>
                  <a:lnTo>
                    <a:pt x="134" y="243"/>
                  </a:lnTo>
                  <a:lnTo>
                    <a:pt x="145" y="250"/>
                  </a:lnTo>
                  <a:lnTo>
                    <a:pt x="155" y="256"/>
                  </a:lnTo>
                  <a:lnTo>
                    <a:pt x="164" y="261"/>
                  </a:lnTo>
                  <a:lnTo>
                    <a:pt x="171" y="263"/>
                  </a:lnTo>
                  <a:lnTo>
                    <a:pt x="176" y="264"/>
                  </a:lnTo>
                  <a:lnTo>
                    <a:pt x="180" y="263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373720" y="3287520"/>
              <a:ext cx="12600" cy="223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1" y="251"/>
                  </a:moveTo>
                  <a:lnTo>
                    <a:pt x="173" y="245"/>
                  </a:lnTo>
                  <a:lnTo>
                    <a:pt x="170" y="233"/>
                  </a:lnTo>
                  <a:lnTo>
                    <a:pt x="164" y="214"/>
                  </a:lnTo>
                  <a:lnTo>
                    <a:pt x="153" y="187"/>
                  </a:lnTo>
                  <a:lnTo>
                    <a:pt x="137" y="153"/>
                  </a:lnTo>
                  <a:lnTo>
                    <a:pt x="119" y="110"/>
                  </a:lnTo>
                  <a:lnTo>
                    <a:pt x="97" y="60"/>
                  </a:lnTo>
                  <a:lnTo>
                    <a:pt x="72" y="0"/>
                  </a:lnTo>
                  <a:lnTo>
                    <a:pt x="63" y="4"/>
                  </a:lnTo>
                  <a:lnTo>
                    <a:pt x="54" y="7"/>
                  </a:lnTo>
                  <a:lnTo>
                    <a:pt x="45" y="11"/>
                  </a:lnTo>
                  <a:lnTo>
                    <a:pt x="36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1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5"/>
                  </a:lnTo>
                  <a:lnTo>
                    <a:pt x="54" y="138"/>
                  </a:lnTo>
                  <a:lnTo>
                    <a:pt x="68" y="159"/>
                  </a:lnTo>
                  <a:lnTo>
                    <a:pt x="81" y="177"/>
                  </a:lnTo>
                  <a:lnTo>
                    <a:pt x="95" y="193"/>
                  </a:lnTo>
                  <a:lnTo>
                    <a:pt x="107" y="206"/>
                  </a:lnTo>
                  <a:lnTo>
                    <a:pt x="119" y="218"/>
                  </a:lnTo>
                  <a:lnTo>
                    <a:pt x="130" y="229"/>
                  </a:lnTo>
                  <a:lnTo>
                    <a:pt x="141" y="236"/>
                  </a:lnTo>
                  <a:lnTo>
                    <a:pt x="150" y="242"/>
                  </a:lnTo>
                  <a:lnTo>
                    <a:pt x="157" y="246"/>
                  </a:lnTo>
                  <a:lnTo>
                    <a:pt x="163" y="250"/>
                  </a:lnTo>
                  <a:lnTo>
                    <a:pt x="168" y="251"/>
                  </a:lnTo>
                  <a:lnTo>
                    <a:pt x="171" y="251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75160" y="3289320"/>
              <a:ext cx="11160" cy="20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163" y="240"/>
                  </a:moveTo>
                  <a:lnTo>
                    <a:pt x="162" y="235"/>
                  </a:lnTo>
                  <a:lnTo>
                    <a:pt x="156" y="225"/>
                  </a:lnTo>
                  <a:lnTo>
                    <a:pt x="145" y="208"/>
                  </a:lnTo>
                  <a:lnTo>
                    <a:pt x="129" y="183"/>
                  </a:lnTo>
                  <a:lnTo>
                    <a:pt x="110" y="150"/>
                  </a:lnTo>
                  <a:lnTo>
                    <a:pt x="89" y="110"/>
                  </a:lnTo>
                  <a:lnTo>
                    <a:pt x="64" y="59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0" y="17"/>
                  </a:lnTo>
                  <a:lnTo>
                    <a:pt x="13" y="48"/>
                  </a:lnTo>
                  <a:lnTo>
                    <a:pt x="26" y="75"/>
                  </a:lnTo>
                  <a:lnTo>
                    <a:pt x="41" y="102"/>
                  </a:lnTo>
                  <a:lnTo>
                    <a:pt x="54" y="124"/>
                  </a:lnTo>
                  <a:lnTo>
                    <a:pt x="68" y="145"/>
                  </a:lnTo>
                  <a:lnTo>
                    <a:pt x="82" y="163"/>
                  </a:lnTo>
                  <a:lnTo>
                    <a:pt x="94" y="180"/>
                  </a:lnTo>
                  <a:lnTo>
                    <a:pt x="106" y="193"/>
                  </a:lnTo>
                  <a:lnTo>
                    <a:pt x="117" y="205"/>
                  </a:lnTo>
                  <a:lnTo>
                    <a:pt x="127" y="215"/>
                  </a:lnTo>
                  <a:lnTo>
                    <a:pt x="138" y="224"/>
                  </a:lnTo>
                  <a:lnTo>
                    <a:pt x="146" y="230"/>
                  </a:lnTo>
                  <a:lnTo>
                    <a:pt x="152" y="234"/>
                  </a:lnTo>
                  <a:lnTo>
                    <a:pt x="158" y="238"/>
                  </a:lnTo>
                  <a:lnTo>
                    <a:pt x="161" y="240"/>
                  </a:lnTo>
                  <a:lnTo>
                    <a:pt x="163" y="240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386320" y="3309840"/>
              <a:ext cx="3240" cy="7920"/>
            </a:xfrm>
            <a:custGeom>
              <a:avLst/>
              <a:gdLst/>
              <a:ahLst/>
              <a:rect l="l" t="t" r="r" b="b"/>
              <a:pathLst>
                <a:path w="48" h="99">
                  <a:moveTo>
                    <a:pt x="13" y="0"/>
                  </a:moveTo>
                  <a:lnTo>
                    <a:pt x="44" y="76"/>
                  </a:lnTo>
                  <a:lnTo>
                    <a:pt x="48" y="92"/>
                  </a:lnTo>
                  <a:lnTo>
                    <a:pt x="46" y="99"/>
                  </a:lnTo>
                  <a:lnTo>
                    <a:pt x="39" y="96"/>
                  </a:lnTo>
                  <a:lnTo>
                    <a:pt x="31" y="83"/>
                  </a:lnTo>
                  <a:lnTo>
                    <a:pt x="0" y="7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365200" y="14158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one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439360" y="321300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115880" y="2374920"/>
            <a:ext cx="83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51200" y="14158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cone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5400000">
            <a:off x="4114440" y="1034640"/>
            <a:ext cx="228600" cy="5410440"/>
          </a:xfrm>
          <a:custGeom>
            <a:avLst/>
            <a:gdLst>
              <a:gd name="textAreaLeft" fmla="*/ 0 w 228600"/>
              <a:gd name="textAreaRight" fmla="*/ 82440 w 228600"/>
              <a:gd name="textAreaTop" fmla="*/ 140760 h 5410440"/>
              <a:gd name="textAreaBottom" fmla="*/ 5269680 h 541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660840" y="377820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78320" y="23302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catter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607160" y="4133880"/>
            <a:ext cx="146160" cy="390240"/>
            <a:chOff x="7607160" y="4133880"/>
            <a:chExt cx="146160" cy="390240"/>
          </a:xfrm>
        </p:grpSpPr>
        <p:grpSp>
          <p:nvGrpSpPr>
            <p:cNvPr id="858" name=""/>
            <p:cNvGrpSpPr/>
            <p:nvPr/>
          </p:nvGrpSpPr>
          <p:grpSpPr>
            <a:xfrm>
              <a:off x="7607160" y="4268880"/>
              <a:ext cx="144720" cy="255240"/>
              <a:chOff x="7607160" y="4268880"/>
              <a:chExt cx="144720" cy="255240"/>
            </a:xfrm>
          </p:grpSpPr>
          <p:grpSp>
            <p:nvGrpSpPr>
              <p:cNvPr id="859" name=""/>
              <p:cNvGrpSpPr/>
              <p:nvPr/>
            </p:nvGrpSpPr>
            <p:grpSpPr>
              <a:xfrm>
                <a:off x="7658280" y="4275000"/>
                <a:ext cx="93600" cy="247680"/>
                <a:chOff x="7658280" y="4275000"/>
                <a:chExt cx="93600" cy="247680"/>
              </a:xfrm>
            </p:grpSpPr>
            <p:sp>
              <p:nvSpPr>
                <p:cNvPr id="860" name=""/>
                <p:cNvSpPr/>
                <p:nvPr/>
              </p:nvSpPr>
              <p:spPr>
                <a:xfrm flipH="1">
                  <a:off x="7680240" y="4275000"/>
                  <a:ext cx="33480" cy="1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flipV="1">
                  <a:off x="7682040" y="4276440"/>
                  <a:ext cx="42840" cy="52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7666200" y="4329000"/>
                  <a:ext cx="58680" cy="111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flipV="1">
                  <a:off x="7667640" y="4437000"/>
                  <a:ext cx="84240" cy="84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7658280" y="4438800"/>
                  <a:ext cx="80640" cy="838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7675560" y="4328640"/>
                  <a:ext cx="65160" cy="1098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7675560" y="4275000"/>
                  <a:ext cx="38160" cy="572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7" name=""/>
              <p:cNvSpPr/>
              <p:nvPr/>
            </p:nvSpPr>
            <p:spPr>
              <a:xfrm flipH="1" flipV="1">
                <a:off x="7626240" y="4420800"/>
                <a:ext cx="34920" cy="1033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7626240" y="4330800"/>
                <a:ext cx="47880" cy="9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7662960" y="4268880"/>
                <a:ext cx="11160" cy="63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7659720" y="4268880"/>
                <a:ext cx="19080" cy="7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7648560" y="4275000"/>
                <a:ext cx="30240" cy="446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7651800" y="4320720"/>
                <a:ext cx="12600" cy="117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7607160" y="4437000"/>
                <a:ext cx="57240" cy="54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7610400" y="4146480"/>
              <a:ext cx="142920" cy="374760"/>
              <a:chOff x="7610400" y="4146480"/>
              <a:chExt cx="142920" cy="374760"/>
            </a:xfrm>
          </p:grpSpPr>
          <p:sp>
            <p:nvSpPr>
              <p:cNvPr id="875" name=""/>
              <p:cNvSpPr/>
              <p:nvPr/>
            </p:nvSpPr>
            <p:spPr>
              <a:xfrm flipH="1" flipV="1">
                <a:off x="7697880" y="4146480"/>
                <a:ext cx="55440" cy="37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7661160" y="4156200"/>
                <a:ext cx="3492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7610400" y="4489560"/>
                <a:ext cx="49320" cy="30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>
                <a:off x="7612200" y="4154400"/>
                <a:ext cx="75960" cy="33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7658280" y="4518000"/>
                <a:ext cx="93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 flipH="1">
              <a:off x="7670880" y="4133880"/>
              <a:ext cx="39600" cy="44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7086240" y="3849120"/>
            <a:ext cx="642240" cy="569520"/>
            <a:chOff x="7086240" y="3849120"/>
            <a:chExt cx="642240" cy="569520"/>
          </a:xfrm>
        </p:grpSpPr>
        <p:sp>
          <p:nvSpPr>
            <p:cNvPr id="882" name=""/>
            <p:cNvSpPr/>
            <p:nvPr/>
          </p:nvSpPr>
          <p:spPr>
            <a:xfrm flipH="1">
              <a:off x="7085880" y="3849120"/>
              <a:ext cx="345960" cy="56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54" y="217"/>
                  </a:moveTo>
                  <a:arcTo wR="10800" hR="10800" stAng="-4709724" swAng="9188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54" y="217"/>
                  </a:moveTo>
                  <a:arcTo wR="10800" hR="10800" stAng="-4709724" swAng="9188860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159680" y="3886200"/>
              <a:ext cx="297360" cy="489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60" y="218"/>
                  </a:moveTo>
                  <a:arcTo wR="10800" hR="10800" stAng="-4707831" swAng="91827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60" y="218"/>
                  </a:moveTo>
                  <a:arcTo wR="10800" hR="10800" stAng="-4707831" swAng="9182780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227000" y="3927240"/>
              <a:ext cx="279720" cy="41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75" y="201"/>
                  </a:moveTo>
                  <a:arcTo wR="10800" hR="10800" stAng="-4735325" swAng="92249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75" y="201"/>
                  </a:moveTo>
                  <a:arcTo wR="10800" hR="10800" stAng="-4735325" swAng="922490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"/>
            <p:cNvGrpSpPr/>
            <p:nvPr/>
          </p:nvGrpSpPr>
          <p:grpSpPr>
            <a:xfrm>
              <a:off x="7291800" y="3954240"/>
              <a:ext cx="354240" cy="377640"/>
              <a:chOff x="7291800" y="3954240"/>
              <a:chExt cx="354240" cy="377640"/>
            </a:xfrm>
          </p:grpSpPr>
          <p:sp>
            <p:nvSpPr>
              <p:cNvPr id="886" name=""/>
              <p:cNvSpPr/>
              <p:nvPr/>
            </p:nvSpPr>
            <p:spPr>
              <a:xfrm flipH="1">
                <a:off x="7291440" y="3954240"/>
                <a:ext cx="291240" cy="37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08" y="208"/>
                    </a:moveTo>
                    <a:arcTo wR="10800" hR="10800" stAng="-4724722" swAng="92257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08" y="208"/>
                    </a:moveTo>
                    <a:arcTo wR="10800" hR="10800" stAng="-4724722" swAng="922579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7353360" y="3980520"/>
                <a:ext cx="2502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4" y="193"/>
                    </a:moveTo>
                    <a:arcTo wR="10800" hR="10800" stAng="-4748707" swAng="92799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4" y="193"/>
                    </a:moveTo>
                    <a:arcTo wR="10800" hR="10800" stAng="-4748707" swAng="927996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7412040" y="4007880"/>
                <a:ext cx="233640" cy="273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58" y="218"/>
                    </a:moveTo>
                    <a:arcTo wR="10800" hR="10800" stAng="-4708585" swAng="917542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58" y="218"/>
                    </a:moveTo>
                    <a:arcTo wR="10800" hR="10800" stAng="-4708585" swAng="917542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 flipH="1">
              <a:off x="7462080" y="4030560"/>
              <a:ext cx="212760" cy="238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43" y="176"/>
                  </a:moveTo>
                  <a:arcTo wR="10800" hR="10800" stAng="-4778145" swAng="93450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43" y="176"/>
                  </a:moveTo>
                  <a:arcTo wR="10800" hR="10800" stAng="-4778145" swAng="9345057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520760" y="4048200"/>
              <a:ext cx="183960" cy="204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14" y="189"/>
                  </a:moveTo>
                  <a:arcTo wR="10800" hR="10800" stAng="-4755077" swAng="93022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14" y="189"/>
                  </a:moveTo>
                  <a:arcTo wR="10800" hR="10800" stAng="-4755077" swAng="9302247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570080" y="4073760"/>
              <a:ext cx="158040" cy="15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918" y="210"/>
                  </a:moveTo>
                  <a:arcTo wR="10800" hR="10800" stAng="-4721273" swAng="921256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918" y="210"/>
                  </a:moveTo>
                  <a:arcTo wR="10800" hR="10800" stAng="-4721273" swAng="921256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616160" y="4098240"/>
              <a:ext cx="94680" cy="119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05" y="152"/>
                  </a:moveTo>
                  <a:arcTo wR="10800" hR="10800" stAng="-4822817" swAng="94010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05" y="152"/>
                  </a:moveTo>
                  <a:arcTo wR="10800" hR="10800" stAng="-4822817" swAng="940105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3" name="" descr=""/>
          <p:cNvPicPr/>
          <p:nvPr/>
        </p:nvPicPr>
        <p:blipFill>
          <a:blip r:embed="rId1"/>
          <a:stretch/>
        </p:blipFill>
        <p:spPr>
          <a:xfrm>
            <a:off x="3962520" y="4159080"/>
            <a:ext cx="469800" cy="68580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6019920" y="4235400"/>
            <a:ext cx="212760" cy="762120"/>
          </a:xfrm>
          <a:prstGeom prst="rect">
            <a:avLst/>
          </a:prstGeom>
          <a:ln w="0">
            <a:noFill/>
          </a:ln>
        </p:spPr>
      </p:pic>
      <p:cxnSp>
        <p:nvCxnSpPr>
          <p:cNvPr id="895" name=""/>
          <p:cNvCxnSpPr>
            <a:stCxn id="893" idx="3"/>
            <a:endCxn id="896" idx="2"/>
          </p:cNvCxnSpPr>
          <p:nvPr/>
        </p:nvCxnSpPr>
        <p:spPr>
          <a:xfrm flipV="1">
            <a:off x="4431960" y="4158360"/>
            <a:ext cx="85644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7" name=""/>
          <p:cNvCxnSpPr>
            <a:stCxn id="896" idx="2"/>
            <a:endCxn id="894" idx="1"/>
          </p:cNvCxnSpPr>
          <p:nvPr/>
        </p:nvCxnSpPr>
        <p:spPr>
          <a:xfrm>
            <a:off x="5287680" y="4159080"/>
            <a:ext cx="732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8" name=""/>
          <p:cNvCxnSpPr>
            <a:stCxn id="894" idx="3"/>
          </p:cNvCxnSpPr>
          <p:nvPr/>
        </p:nvCxnSpPr>
        <p:spPr>
          <a:xfrm flipV="1">
            <a:off x="6232680" y="4133520"/>
            <a:ext cx="854640" cy="48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3200400" y="3397320"/>
            <a:ext cx="469800" cy="68580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3352680" y="5073480"/>
            <a:ext cx="470160" cy="685800"/>
          </a:xfrm>
          <a:prstGeom prst="rect">
            <a:avLst/>
          </a:prstGeom>
          <a:ln w="0">
            <a:noFill/>
          </a:ln>
        </p:spPr>
      </p:pic>
      <p:cxnSp>
        <p:nvCxnSpPr>
          <p:cNvPr id="901" name=""/>
          <p:cNvCxnSpPr>
            <a:stCxn id="899" idx="2"/>
            <a:endCxn id="893" idx="1"/>
          </p:cNvCxnSpPr>
          <p:nvPr/>
        </p:nvCxnSpPr>
        <p:spPr>
          <a:xfrm>
            <a:off x="3435480" y="4083120"/>
            <a:ext cx="5277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2" name=""/>
          <p:cNvCxnSpPr>
            <a:stCxn id="900" idx="0"/>
            <a:endCxn id="893" idx="1"/>
          </p:cNvCxnSpPr>
          <p:nvPr/>
        </p:nvCxnSpPr>
        <p:spPr>
          <a:xfrm flipV="1">
            <a:off x="3587400" y="4501440"/>
            <a:ext cx="3754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3" name=""/>
          <p:cNvCxnSpPr>
            <a:stCxn id="900" idx="0"/>
            <a:endCxn id="899" idx="2"/>
          </p:cNvCxnSpPr>
          <p:nvPr/>
        </p:nvCxnSpPr>
        <p:spPr>
          <a:xfrm flipH="1" flipV="1">
            <a:off x="3434760" y="4082400"/>
            <a:ext cx="15300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4" name=""/>
          <p:cNvSpPr/>
          <p:nvPr/>
        </p:nvSpPr>
        <p:spPr>
          <a:xfrm>
            <a:off x="2819520" y="3168720"/>
            <a:ext cx="1752480" cy="297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72720" y="59878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icon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809880" y="3244680"/>
            <a:ext cx="198144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24280" y="3321000"/>
            <a:ext cx="1981440" cy="1905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8" name=""/>
          <p:cNvCxnSpPr>
            <a:stCxn id="905" idx="0"/>
            <a:endCxn id="907" idx="4"/>
          </p:cNvCxnSpPr>
          <p:nvPr/>
        </p:nvCxnSpPr>
        <p:spPr>
          <a:xfrm flipV="1">
            <a:off x="5041800" y="5225760"/>
            <a:ext cx="67392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905" idx="0"/>
            <a:endCxn id="906" idx="4"/>
          </p:cNvCxnSpPr>
          <p:nvPr/>
        </p:nvCxnSpPr>
        <p:spPr>
          <a:xfrm flipH="1" flipV="1">
            <a:off x="4800240" y="5149440"/>
            <a:ext cx="241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0" name=""/>
          <p:cNvCxnSpPr>
            <a:stCxn id="905" idx="0"/>
            <a:endCxn id="904" idx="5"/>
          </p:cNvCxnSpPr>
          <p:nvPr/>
        </p:nvCxnSpPr>
        <p:spPr>
          <a:xfrm flipH="1" flipV="1">
            <a:off x="4314240" y="5705280"/>
            <a:ext cx="727560" cy="28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911" name="" descr=""/>
          <p:cNvPicPr/>
          <p:nvPr/>
        </p:nvPicPr>
        <p:blipFill>
          <a:blip r:embed="rId5"/>
          <a:stretch/>
        </p:blipFill>
        <p:spPr>
          <a:xfrm>
            <a:off x="5181480" y="3397320"/>
            <a:ext cx="212760" cy="76176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piconet has one master and up to 7 sl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 determines hopping sequence, slaves have to synchroniz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ticipation in a piconet = synchronization to hopping seq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 between piconets = devices jumping back and forth between the picon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o Specif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es of transmit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1: Outputs 100 mW for maximum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trol manda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greates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2: Outputs 2.4 mW at maxi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trol op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3: Nominal output is 1 m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 in Bluetoo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resistance to interference and multipath eff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a form of multiple access among co-located devices in different picon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bandwidth divided into 1MHz physic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 occurs by jumping from one channel to another in pseudorandom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ping sequence shared with all devices on 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net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devices use time division duplex (T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technique is T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-TDD-TD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p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2296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ysical Links between Master and Sla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ous connection oriented (SC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s fixed bandwidth between point-to-point connection of master and sl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maintains link using reserved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can support three simultaneous li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connectionless (AC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-to-multipoint link between master and all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ingle ACL link can ex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Packe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code –  used for timing synchronization, offset compensation, paging, and inqui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er – used to identify packet type and carry protocol control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– contains user voice or data and payload header, if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066680" y="-1526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Piconet MA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5960" y="14475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ch node has a Bluetooth Device Address (BD_ADDR). The master BD_ADDR determines the sequence of frequency hop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 of connections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Connection-Oriented link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C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 (symmetrical, circuit switched, point-to-poin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hronous Connectionless Link (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C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: (packet switched, point-2-multipoint, master-poll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cket Format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708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cess code: synchronization, when piconet active derived from mast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9708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acket header (for ACL): 1/3-FEC, MAC address (1 master, 7 slaves), link type, alternating bit ARQ/SEQ, checksum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20" y="1905120"/>
            <a:ext cx="8457480" cy="1600200"/>
            <a:chOff x="720" y="1905120"/>
            <a:chExt cx="8457480" cy="1600200"/>
          </a:xfrm>
        </p:grpSpPr>
        <p:sp>
          <p:nvSpPr>
            <p:cNvPr id="928" name=""/>
            <p:cNvSpPr/>
            <p:nvPr/>
          </p:nvSpPr>
          <p:spPr>
            <a:xfrm>
              <a:off x="609480" y="239724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21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480" y="288936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480" y="3381480"/>
              <a:ext cx="784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762120" y="2212920"/>
              <a:ext cx="609480" cy="184320"/>
              <a:chOff x="762120" y="2212920"/>
              <a:chExt cx="609480" cy="184320"/>
            </a:xfrm>
          </p:grpSpPr>
          <p:sp>
            <p:nvSpPr>
              <p:cNvPr id="933" name=""/>
              <p:cNvSpPr/>
              <p:nvPr/>
            </p:nvSpPr>
            <p:spPr>
              <a:xfrm>
                <a:off x="7621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384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14400" y="221292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>
              <a:off x="819000" y="19414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6765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5909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053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557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701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845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485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4197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1629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3341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77320" y="2151000"/>
              <a:ext cx="0" cy="135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49892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46408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378480" y="19414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42120" y="1905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(k+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4200" y="2149560"/>
              <a:ext cx="80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400" y="261612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av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0" y="3135240"/>
              <a:ext cx="85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lav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5" name=""/>
            <p:cNvGrpSpPr/>
            <p:nvPr/>
          </p:nvGrpSpPr>
          <p:grpSpPr>
            <a:xfrm>
              <a:off x="1676520" y="3197160"/>
              <a:ext cx="609480" cy="184320"/>
              <a:chOff x="1676520" y="3197160"/>
              <a:chExt cx="609480" cy="184320"/>
            </a:xfrm>
          </p:grpSpPr>
          <p:sp>
            <p:nvSpPr>
              <p:cNvPr id="956" name=""/>
              <p:cNvSpPr/>
              <p:nvPr/>
            </p:nvSpPr>
            <p:spPr>
              <a:xfrm>
                <a:off x="1676520" y="319716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752840" y="319716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828800" y="319716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2590920" y="2212920"/>
              <a:ext cx="609480" cy="184320"/>
              <a:chOff x="2590920" y="2212920"/>
              <a:chExt cx="609480" cy="184320"/>
            </a:xfrm>
          </p:grpSpPr>
          <p:sp>
            <p:nvSpPr>
              <p:cNvPr id="960" name=""/>
              <p:cNvSpPr/>
              <p:nvPr/>
            </p:nvSpPr>
            <p:spPr>
              <a:xfrm>
                <a:off x="25909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6672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743200" y="221292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3505320" y="2705040"/>
              <a:ext cx="609480" cy="184320"/>
              <a:chOff x="3505320" y="2705040"/>
              <a:chExt cx="609480" cy="184320"/>
            </a:xfrm>
          </p:grpSpPr>
          <p:sp>
            <p:nvSpPr>
              <p:cNvPr id="964" name=""/>
              <p:cNvSpPr/>
              <p:nvPr/>
            </p:nvSpPr>
            <p:spPr>
              <a:xfrm>
                <a:off x="3505320" y="270504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581640" y="270504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657600" y="270504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4419720" y="2212920"/>
              <a:ext cx="2209680" cy="184320"/>
              <a:chOff x="4419720" y="2212920"/>
              <a:chExt cx="2209680" cy="184320"/>
            </a:xfrm>
          </p:grpSpPr>
          <p:sp>
            <p:nvSpPr>
              <p:cNvPr id="968" name=""/>
              <p:cNvSpPr/>
              <p:nvPr/>
            </p:nvSpPr>
            <p:spPr>
              <a:xfrm>
                <a:off x="4419720" y="221292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96040" y="221292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72000" y="2212920"/>
                <a:ext cx="20574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1066680" y="23972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1981080" y="227484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895480" y="23972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09880" y="227484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162920" y="3197160"/>
              <a:ext cx="609480" cy="184320"/>
              <a:chOff x="7162920" y="3197160"/>
              <a:chExt cx="609480" cy="184320"/>
            </a:xfrm>
          </p:grpSpPr>
          <p:sp>
            <p:nvSpPr>
              <p:cNvPr id="976" name=""/>
              <p:cNvSpPr/>
              <p:nvPr/>
            </p:nvSpPr>
            <p:spPr>
              <a:xfrm>
                <a:off x="7162920" y="3197160"/>
                <a:ext cx="7632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39240" y="3197160"/>
                <a:ext cx="7596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15200" y="3197160"/>
                <a:ext cx="457200" cy="18432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4800600" y="239724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7467480" y="2274840"/>
              <a:ext cx="0" cy="9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8535600" y="5715000"/>
            <a:ext cx="49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5105520"/>
            <a:ext cx="5562720" cy="1495440"/>
            <a:chOff x="3200400" y="5105520"/>
            <a:chExt cx="5562720" cy="1495440"/>
          </a:xfrm>
        </p:grpSpPr>
        <p:sp>
          <p:nvSpPr>
            <p:cNvPr id="983" name=""/>
            <p:cNvSpPr/>
            <p:nvPr/>
          </p:nvSpPr>
          <p:spPr>
            <a:xfrm>
              <a:off x="3809880" y="5457960"/>
              <a:ext cx="121932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ccess c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029200" y="5457960"/>
              <a:ext cx="144792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77120" y="5457960"/>
              <a:ext cx="1447560" cy="38124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ylo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329000" y="51375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564160" y="51534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5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31560" y="51534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0-27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73480" y="5105520"/>
              <a:ext cx="49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200400" y="6220080"/>
              <a:ext cx="13716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AC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57200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410080" y="6220080"/>
              <a:ext cx="8384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4852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RQ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086600" y="6220080"/>
              <a:ext cx="8380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Q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924680" y="6220080"/>
              <a:ext cx="8384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1168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87836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71680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55488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39296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231400" y="5915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3200400" y="5839200"/>
              <a:ext cx="182880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924320" y="5839200"/>
              <a:ext cx="838440" cy="380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Bluetoot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ortium: Ericsson, Intel, IBM, Nokia, Toshiba - many other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ena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 of peripheral devic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udspeaker, joystick, head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 of ad-hoc net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mall devices, low-co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idging of net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.g., GSM via mobile phone - Bluetooth - lapto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e, cheap, replacement of IrDA, low range, lower data rates, low-pow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operation: 2.4 GHz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istance to jamming and selective frequency fading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HSS over 79 channels (of 1MHz each), 1600hops/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existence of multiple piconets: CDM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s: synchronous connections SCO (e.g., voice) and asynchronous connectionless A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operability: protocol stack supporting TCP/IP, OBEX, SD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nge: 10 meters, can be extended to 100 me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: over 1000 pages specification: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bluetooth.c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362480" y="1676520"/>
            <a:ext cx="3790080" cy="1523880"/>
            <a:chOff x="4362480" y="1676520"/>
            <a:chExt cx="3790080" cy="1523880"/>
          </a:xfrm>
        </p:grpSpPr>
        <p:grpSp>
          <p:nvGrpSpPr>
            <p:cNvPr id="110" name=""/>
            <p:cNvGrpSpPr/>
            <p:nvPr/>
          </p:nvGrpSpPr>
          <p:grpSpPr>
            <a:xfrm>
              <a:off x="8007480" y="2336760"/>
              <a:ext cx="145080" cy="390240"/>
              <a:chOff x="8007480" y="2336760"/>
              <a:chExt cx="145080" cy="3902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8007480" y="2471760"/>
                <a:ext cx="144000" cy="255240"/>
                <a:chOff x="8007480" y="2471760"/>
                <a:chExt cx="144000" cy="25524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8058600" y="2477880"/>
                  <a:ext cx="92880" cy="247680"/>
                  <a:chOff x="8058600" y="2477880"/>
                  <a:chExt cx="92880" cy="24768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 flipH="1">
                    <a:off x="8080560" y="2477880"/>
                    <a:ext cx="33120" cy="1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 flipH="1" flipV="1">
                    <a:off x="8082360" y="2479320"/>
                    <a:ext cx="42480" cy="522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>
                    <a:off x="8066520" y="2531880"/>
                    <a:ext cx="58320" cy="111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flipH="1" flipV="1">
                    <a:off x="8067600" y="2639880"/>
                    <a:ext cx="83880" cy="84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 flipH="1">
                    <a:off x="8058600" y="2641680"/>
                    <a:ext cx="80280" cy="838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flipH="1" flipV="1">
                    <a:off x="8075880" y="2531520"/>
                    <a:ext cx="64800" cy="1098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>
                    <a:off x="8075880" y="2477880"/>
                    <a:ext cx="37800" cy="5724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 flipH="1" flipV="1">
                  <a:off x="8026560" y="2623680"/>
                  <a:ext cx="34560" cy="1033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>
                  <a:off x="8026560" y="2533680"/>
                  <a:ext cx="47520" cy="92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 flipV="1">
                  <a:off x="8063280" y="2471760"/>
                  <a:ext cx="10800" cy="633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H="1" flipV="1">
                  <a:off x="8060040" y="2471760"/>
                  <a:ext cx="18720" cy="79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8048880" y="2477880"/>
                  <a:ext cx="29880" cy="446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8052120" y="2523600"/>
                  <a:ext cx="12240" cy="11772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8007480" y="2639880"/>
                  <a:ext cx="56880" cy="540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8010360" y="2349360"/>
                <a:ext cx="142200" cy="374760"/>
                <a:chOff x="8010360" y="2349360"/>
                <a:chExt cx="142200" cy="374760"/>
              </a:xfrm>
            </p:grpSpPr>
            <p:sp>
              <p:nvSpPr>
                <p:cNvPr id="128" name=""/>
                <p:cNvSpPr/>
                <p:nvPr/>
              </p:nvSpPr>
              <p:spPr>
                <a:xfrm flipH="1" flipV="1">
                  <a:off x="8097480" y="2349360"/>
                  <a:ext cx="55080" cy="371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8061120" y="2359080"/>
                  <a:ext cx="34560" cy="36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 flipV="1">
                  <a:off x="8010360" y="2692440"/>
                  <a:ext cx="48960" cy="3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8012160" y="2357280"/>
                  <a:ext cx="75600" cy="338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8058240" y="2720880"/>
                  <a:ext cx="932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" name=""/>
              <p:cNvSpPr/>
              <p:nvPr/>
            </p:nvSpPr>
            <p:spPr>
              <a:xfrm flipH="1">
                <a:off x="8070480" y="2336760"/>
                <a:ext cx="39240" cy="44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486200" y="2052000"/>
              <a:ext cx="641160" cy="569520"/>
              <a:chOff x="7486200" y="2052000"/>
              <a:chExt cx="641160" cy="56952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7485840" y="2052000"/>
                <a:ext cx="345240" cy="56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54" y="217"/>
                    </a:moveTo>
                    <a:arcTo wR="10800" hR="10800" stAng="-4709724" swAng="91888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54" y="217"/>
                    </a:moveTo>
                    <a:arcTo wR="10800" hR="10800" stAng="-4709724" swAng="918886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7558560" y="2089080"/>
                <a:ext cx="297000" cy="489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0" y="218"/>
                    </a:moveTo>
                    <a:arcTo wR="10800" hR="10800" stAng="-4707831" swAng="91827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0" y="218"/>
                    </a:moveTo>
                    <a:arcTo wR="10800" hR="10800" stAng="-4707831" swAng="918278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7626600" y="2130120"/>
                <a:ext cx="279000" cy="411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75" y="201"/>
                    </a:moveTo>
                    <a:arcTo wR="10800" hR="10800" stAng="-4735325" swAng="922490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75" y="201"/>
                    </a:moveTo>
                    <a:arcTo wR="10800" hR="10800" stAng="-4735325" swAng="9224901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691760" y="2157120"/>
                <a:ext cx="353880" cy="377640"/>
                <a:chOff x="7691760" y="2157120"/>
                <a:chExt cx="353880" cy="377640"/>
              </a:xfrm>
            </p:grpSpPr>
            <p:sp>
              <p:nvSpPr>
                <p:cNvPr id="139" name=""/>
                <p:cNvSpPr/>
                <p:nvPr/>
              </p:nvSpPr>
              <p:spPr>
                <a:xfrm flipH="1">
                  <a:off x="7691400" y="2157120"/>
                  <a:ext cx="290520" cy="37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753320" y="2183400"/>
                  <a:ext cx="249480" cy="32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811640" y="2210760"/>
                  <a:ext cx="233640" cy="273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4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7861680" y="2233440"/>
                <a:ext cx="212040" cy="23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920360" y="2251080"/>
                <a:ext cx="183240" cy="20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7969680" y="2276640"/>
                <a:ext cx="157320" cy="15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8015760" y="2301120"/>
                <a:ext cx="93960" cy="11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6" name="" descr=""/>
            <p:cNvPicPr/>
            <p:nvPr/>
          </p:nvPicPr>
          <p:blipFill>
            <a:blip r:embed="rId2"/>
            <a:stretch/>
          </p:blipFill>
          <p:spPr>
            <a:xfrm>
              <a:off x="4362480" y="2362320"/>
              <a:ext cx="469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3"/>
            <a:stretch/>
          </p:blipFill>
          <p:spPr>
            <a:xfrm>
              <a:off x="6419520" y="2438280"/>
              <a:ext cx="212400" cy="762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48" name=""/>
            <p:cNvCxnSpPr>
              <a:stCxn id="146" idx="3"/>
              <a:endCxn id="149" idx="2"/>
            </p:cNvCxnSpPr>
            <p:nvPr/>
          </p:nvCxnSpPr>
          <p:spPr>
            <a:xfrm flipV="1">
              <a:off x="4831920" y="2361960"/>
              <a:ext cx="83196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49" idx="2"/>
              <a:endCxn id="147" idx="1"/>
            </p:cNvCxnSpPr>
            <p:nvPr/>
          </p:nvCxnSpPr>
          <p:spPr>
            <a:xfrm>
              <a:off x="5663880" y="2362320"/>
              <a:ext cx="7560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1" name=""/>
            <p:cNvCxnSpPr>
              <a:stCxn id="146" idx="3"/>
              <a:endCxn id="147" idx="1"/>
            </p:cNvCxnSpPr>
            <p:nvPr/>
          </p:nvCxnSpPr>
          <p:spPr>
            <a:xfrm>
              <a:off x="4832280" y="2705040"/>
              <a:ext cx="1587600" cy="11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2" name=""/>
            <p:cNvCxnSpPr>
              <a:stCxn id="147" idx="3"/>
            </p:cNvCxnSpPr>
            <p:nvPr/>
          </p:nvCxnSpPr>
          <p:spPr>
            <a:xfrm flipV="1">
              <a:off x="6632280" y="2336040"/>
              <a:ext cx="854640" cy="483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153" name="" descr=""/>
            <p:cNvPicPr/>
            <p:nvPr/>
          </p:nvPicPr>
          <p:blipFill>
            <a:blip r:embed="rId4"/>
            <a:stretch/>
          </p:blipFill>
          <p:spPr>
            <a:xfrm>
              <a:off x="5429160" y="1676520"/>
              <a:ext cx="46944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ccess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access code (CAC) – identifies a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ce access code (DAC) – used for paging and subsequent respo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quiry access code (IAC) – used for inquiry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ess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mble – used for DC compen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 if LSB of sync word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f LSB of synch word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 word – 64-bits, derived fro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bit Bark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r address part (L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noise (PN)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101 if MSB of sync word is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f MSB of sync word is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cket Header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_ADDR – contains “active mode” address of one of the s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– identifies type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– 1-bit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N – 1-bit acknowle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N – 1-bit sequential numbering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error control (HEC) – 8-bit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yload Forma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hea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_CH field – identifies logical channel (i.e., LMP msg, L2CAP msg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ow field – used to control flow at L2CAP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field – number of bytes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yload body – contains user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C – 16-bit CRC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rrection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3 rate FEC (forward error correc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on 18-bit packet header, voice field in HV1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/3 rate FE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DM packets, data fields of DV packet, FHS packet and HV2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ith DM and DH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RQ Scheme El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– destination detects errors, discards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ment – destination returns positive acknowle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 – source retransmits if packet un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ment and retransmission – destination returns negative acknowledgement for packets with errors, source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pack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153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 pack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 have a CRC (except for the data part of DV) and are never retransmitted. Intended for High-quality Voice (HV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L packets: Data Medium-rate (DM) and Data High-rate (D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352680" y="2133720"/>
            <a:ext cx="4303800" cy="1695240"/>
            <a:chOff x="3352680" y="2133720"/>
            <a:chExt cx="4303800" cy="1695240"/>
          </a:xfrm>
        </p:grpSpPr>
        <p:grpSp>
          <p:nvGrpSpPr>
            <p:cNvPr id="1019" name=""/>
            <p:cNvGrpSpPr/>
            <p:nvPr/>
          </p:nvGrpSpPr>
          <p:grpSpPr>
            <a:xfrm>
              <a:off x="3357360" y="2135880"/>
              <a:ext cx="4294080" cy="1690560"/>
              <a:chOff x="3357360" y="2135880"/>
              <a:chExt cx="4294080" cy="1690560"/>
            </a:xfrm>
          </p:grpSpPr>
          <p:grpSp>
            <p:nvGrpSpPr>
              <p:cNvPr id="1020" name=""/>
              <p:cNvGrpSpPr/>
              <p:nvPr/>
            </p:nvGrpSpPr>
            <p:grpSpPr>
              <a:xfrm>
                <a:off x="3357360" y="2135880"/>
                <a:ext cx="650880" cy="411120"/>
                <a:chOff x="3357360" y="2135880"/>
                <a:chExt cx="650880" cy="41112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3425760" y="2135880"/>
                  <a:ext cx="51408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357360" y="2135880"/>
                  <a:ext cx="65088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4008240" y="2135880"/>
                <a:ext cx="1049400" cy="411120"/>
                <a:chOff x="4008240" y="2135880"/>
                <a:chExt cx="1049400" cy="41112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4076640" y="2135880"/>
                  <a:ext cx="91260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yloa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y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008240" y="2135880"/>
                  <a:ext cx="10494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5057640" y="2135880"/>
                <a:ext cx="625320" cy="411120"/>
                <a:chOff x="5057640" y="2135880"/>
                <a:chExt cx="625320" cy="4111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125680" y="2135880"/>
                  <a:ext cx="4892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057640" y="2135880"/>
                  <a:ext cx="62532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82960" y="2135880"/>
                <a:ext cx="704880" cy="411120"/>
                <a:chOff x="5682960" y="2135880"/>
                <a:chExt cx="704880" cy="41112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1360" y="2135880"/>
                  <a:ext cx="56844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82960" y="2135880"/>
                  <a:ext cx="70488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387840" y="2135880"/>
                <a:ext cx="1263600" cy="411120"/>
                <a:chOff x="6387840" y="2135880"/>
                <a:chExt cx="1263600" cy="41112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456240" y="2135880"/>
                  <a:ext cx="1127160" cy="41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k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387840" y="2135880"/>
                  <a:ext cx="1263600" cy="411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3357360" y="2547000"/>
                <a:ext cx="650880" cy="319680"/>
                <a:chOff x="3357360" y="2547000"/>
                <a:chExt cx="650880" cy="31968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3425760" y="254700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3357360" y="254700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4008240" y="2547000"/>
                <a:ext cx="1049400" cy="319680"/>
                <a:chOff x="4008240" y="2547000"/>
                <a:chExt cx="1049400" cy="31968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076640" y="254700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008240" y="254700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5057640" y="2547000"/>
                <a:ext cx="625320" cy="319680"/>
                <a:chOff x="5057640" y="2547000"/>
                <a:chExt cx="625320" cy="31968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5125680" y="254700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057640" y="254700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5682960" y="2547000"/>
                <a:ext cx="704880" cy="319680"/>
                <a:chOff x="5682960" y="2547000"/>
                <a:chExt cx="704880" cy="31968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751360" y="254700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682960" y="254700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6387840" y="2547000"/>
                <a:ext cx="1263600" cy="319680"/>
                <a:chOff x="6387840" y="2547000"/>
                <a:chExt cx="1263600" cy="31968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6456240" y="254700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387840" y="254700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3357360" y="2866680"/>
                <a:ext cx="650880" cy="319680"/>
                <a:chOff x="3357360" y="2866680"/>
                <a:chExt cx="650880" cy="3196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3425760" y="286668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3357360" y="286668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4008240" y="2866680"/>
                <a:ext cx="1049400" cy="319680"/>
                <a:chOff x="4008240" y="2866680"/>
                <a:chExt cx="1049400" cy="31968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4076640" y="286668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08240" y="286668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5057640" y="2866680"/>
                <a:ext cx="625320" cy="319680"/>
                <a:chOff x="5057640" y="2866680"/>
                <a:chExt cx="625320" cy="31968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5125680" y="286668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5057640" y="286668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5682960" y="2866680"/>
                <a:ext cx="704880" cy="319680"/>
                <a:chOff x="5682960" y="2866680"/>
                <a:chExt cx="704880" cy="31968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5751360" y="286668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682960" y="286668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6387840" y="2866680"/>
                <a:ext cx="1263600" cy="319680"/>
                <a:chOff x="6387840" y="2866680"/>
                <a:chExt cx="1263600" cy="31968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6456240" y="286668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387840" y="286668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3357360" y="3186720"/>
                <a:ext cx="650880" cy="320040"/>
                <a:chOff x="3357360" y="3186720"/>
                <a:chExt cx="650880" cy="3200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3425760" y="3186720"/>
                  <a:ext cx="51408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V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3357360" y="3186720"/>
                  <a:ext cx="65088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4008240" y="3186720"/>
                <a:ext cx="1049400" cy="320040"/>
                <a:chOff x="4008240" y="3186720"/>
                <a:chExt cx="1049400" cy="32004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4076640" y="3186720"/>
                  <a:ext cx="91260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008240" y="3186720"/>
                  <a:ext cx="10494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5057640" y="3186720"/>
                <a:ext cx="625320" cy="320040"/>
                <a:chOff x="5057640" y="3186720"/>
                <a:chExt cx="625320" cy="32004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5125680" y="3186720"/>
                  <a:ext cx="48924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5057640" y="3186720"/>
                  <a:ext cx="62532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5682960" y="3186720"/>
                <a:ext cx="704880" cy="320040"/>
                <a:chOff x="5682960" y="3186720"/>
                <a:chExt cx="704880" cy="32004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5751360" y="3186720"/>
                  <a:ext cx="56844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5682960" y="3186720"/>
                  <a:ext cx="70488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6387840" y="3186720"/>
                <a:ext cx="1263600" cy="320040"/>
                <a:chOff x="6387840" y="3186720"/>
                <a:chExt cx="1263600" cy="32004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6456240" y="3186720"/>
                  <a:ext cx="1127160" cy="32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387840" y="3186720"/>
                  <a:ext cx="1263600" cy="320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3357360" y="3506760"/>
                <a:ext cx="650880" cy="319680"/>
                <a:chOff x="3357360" y="3506760"/>
                <a:chExt cx="650880" cy="31968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3425760" y="3506760"/>
                  <a:ext cx="51408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357360" y="3506760"/>
                  <a:ext cx="650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4008240" y="3506760"/>
                <a:ext cx="1049400" cy="319680"/>
                <a:chOff x="4008240" y="3506760"/>
                <a:chExt cx="1049400" cy="319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4076640" y="3506760"/>
                  <a:ext cx="9126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+(1-10)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008240" y="3506760"/>
                  <a:ext cx="10494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5057640" y="3506760"/>
                <a:ext cx="625320" cy="319680"/>
                <a:chOff x="5057640" y="3506760"/>
                <a:chExt cx="625320" cy="31968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5125680" y="3506760"/>
                  <a:ext cx="4892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057640" y="3506760"/>
                  <a:ext cx="6253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5682960" y="3506760"/>
                <a:ext cx="704880" cy="319680"/>
                <a:chOff x="5682960" y="3506760"/>
                <a:chExt cx="704880" cy="319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5751360" y="3506760"/>
                  <a:ext cx="56844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 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682960" y="3506760"/>
                  <a:ext cx="70488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6387840" y="3506760"/>
                <a:ext cx="1263600" cy="319680"/>
                <a:chOff x="6387840" y="3506760"/>
                <a:chExt cx="1263600" cy="31968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6456240" y="3506760"/>
                  <a:ext cx="112716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+57.6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6387840" y="3506760"/>
                  <a:ext cx="126360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5" name=""/>
            <p:cNvSpPr/>
            <p:nvPr/>
          </p:nvSpPr>
          <p:spPr>
            <a:xfrm>
              <a:off x="3352680" y="2133720"/>
              <a:ext cx="4303800" cy="16952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1771560" y="4191120"/>
            <a:ext cx="5602320" cy="2209680"/>
            <a:chOff x="1771560" y="4191120"/>
            <a:chExt cx="5602320" cy="2209680"/>
          </a:xfrm>
        </p:grpSpPr>
        <p:grpSp>
          <p:nvGrpSpPr>
            <p:cNvPr id="1097" name=""/>
            <p:cNvGrpSpPr/>
            <p:nvPr/>
          </p:nvGrpSpPr>
          <p:grpSpPr>
            <a:xfrm>
              <a:off x="1776240" y="4193280"/>
              <a:ext cx="5592600" cy="2205000"/>
              <a:chOff x="1776240" y="4193280"/>
              <a:chExt cx="5592600" cy="2205000"/>
            </a:xfrm>
          </p:grpSpPr>
          <p:grpSp>
            <p:nvGrpSpPr>
              <p:cNvPr id="1098" name=""/>
              <p:cNvGrpSpPr/>
              <p:nvPr/>
            </p:nvGrpSpPr>
            <p:grpSpPr>
              <a:xfrm>
                <a:off x="1776240" y="4193280"/>
                <a:ext cx="650880" cy="388800"/>
                <a:chOff x="1776240" y="4193280"/>
                <a:chExt cx="650880" cy="3888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1844640" y="4193280"/>
                  <a:ext cx="51408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yp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1776240" y="4193280"/>
                  <a:ext cx="6508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427120" y="4193280"/>
                <a:ext cx="884160" cy="388800"/>
                <a:chOff x="2427120" y="4193280"/>
                <a:chExt cx="884160" cy="3888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2495520" y="4193280"/>
                  <a:ext cx="74772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yload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yte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2427120" y="4193280"/>
                  <a:ext cx="88416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3311280" y="4193280"/>
                <a:ext cx="625680" cy="388800"/>
                <a:chOff x="3311280" y="4193280"/>
                <a:chExt cx="625680" cy="3888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3379680" y="4193280"/>
                  <a:ext cx="48888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311280" y="4193280"/>
                  <a:ext cx="6256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3936960" y="4193280"/>
                <a:ext cx="649080" cy="388800"/>
                <a:chOff x="3936960" y="4193280"/>
                <a:chExt cx="649080" cy="3888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005000" y="4193280"/>
                  <a:ext cx="51300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R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936960" y="4193280"/>
                  <a:ext cx="64908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4586040" y="4193280"/>
                <a:ext cx="1263600" cy="388800"/>
                <a:chOff x="4586040" y="4193280"/>
                <a:chExt cx="1263600" cy="3888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654440" y="4193280"/>
                  <a:ext cx="112716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k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586040" y="4193280"/>
                  <a:ext cx="126360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5849640" y="4193280"/>
                <a:ext cx="1519200" cy="388800"/>
                <a:chOff x="5849640" y="4193280"/>
                <a:chExt cx="1519200" cy="3888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5918040" y="4193280"/>
                  <a:ext cx="1382760" cy="3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ymm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x-rate (DL/UL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849640" y="4193280"/>
                  <a:ext cx="1519200" cy="38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1776240" y="4582080"/>
                <a:ext cx="650880" cy="302400"/>
                <a:chOff x="1776240" y="4582080"/>
                <a:chExt cx="650880" cy="3024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1844640" y="458208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1776240" y="458208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2427120" y="4582080"/>
                <a:ext cx="884160" cy="302400"/>
                <a:chOff x="2427120" y="4582080"/>
                <a:chExt cx="884160" cy="3024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2495520" y="458208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427120" y="458208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3311280" y="4582080"/>
                <a:ext cx="625680" cy="302400"/>
                <a:chOff x="3311280" y="4582080"/>
                <a:chExt cx="625680" cy="3024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3379680" y="458208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3311280" y="458208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3936960" y="4582080"/>
                <a:ext cx="649080" cy="302400"/>
                <a:chOff x="3936960" y="4582080"/>
                <a:chExt cx="649080" cy="3024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005000" y="458208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3936960" y="458208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586040" y="4582080"/>
                <a:ext cx="1263600" cy="302400"/>
                <a:chOff x="4586040" y="4582080"/>
                <a:chExt cx="1263600" cy="3024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654440" y="458208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586040" y="458208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849640" y="4582080"/>
                <a:ext cx="1519200" cy="302400"/>
                <a:chOff x="5849640" y="4582080"/>
                <a:chExt cx="1519200" cy="3024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918040" y="458208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8.8/108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849640" y="458208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1776240" y="4884840"/>
                <a:ext cx="650880" cy="302400"/>
                <a:chOff x="1776240" y="4884840"/>
                <a:chExt cx="650880" cy="3024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1844640" y="488484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1776240" y="488484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2427120" y="4884840"/>
                <a:ext cx="884160" cy="302400"/>
                <a:chOff x="2427120" y="4884840"/>
                <a:chExt cx="884160" cy="3024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2495520" y="488484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2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427120" y="488484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3311280" y="4884840"/>
                <a:ext cx="625680" cy="302400"/>
                <a:chOff x="3311280" y="4884840"/>
                <a:chExt cx="625680" cy="3024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3379680" y="488484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311280" y="488484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936960" y="4884840"/>
                <a:ext cx="649080" cy="302400"/>
                <a:chOff x="3936960" y="4884840"/>
                <a:chExt cx="649080" cy="3024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4005000" y="488484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936960" y="488484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586040" y="4884840"/>
                <a:ext cx="1263600" cy="302400"/>
                <a:chOff x="4586040" y="4884840"/>
                <a:chExt cx="1263600" cy="3024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654440" y="488484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58.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586040" y="488484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5849640" y="4884840"/>
                <a:ext cx="1519200" cy="302400"/>
                <a:chOff x="5849640" y="4884840"/>
                <a:chExt cx="1519200" cy="3024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918040" y="488484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7.2/54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849640" y="488484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1776240" y="5187600"/>
                <a:ext cx="650880" cy="302760"/>
                <a:chOff x="1776240" y="5187600"/>
                <a:chExt cx="650880" cy="30276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1844640" y="5187600"/>
                  <a:ext cx="514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M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1776240" y="5187600"/>
                  <a:ext cx="650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2427120" y="5187600"/>
                <a:ext cx="884160" cy="302760"/>
                <a:chOff x="2427120" y="5187600"/>
                <a:chExt cx="884160" cy="30276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2495520" y="5187600"/>
                  <a:ext cx="74772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2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2427120" y="5187600"/>
                  <a:ext cx="88416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3311280" y="5187600"/>
                <a:ext cx="625680" cy="302760"/>
                <a:chOff x="3311280" y="5187600"/>
                <a:chExt cx="625680" cy="30276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3379680" y="5187600"/>
                  <a:ext cx="4888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/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311280" y="5187600"/>
                  <a:ext cx="6256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936960" y="5187600"/>
                <a:ext cx="649080" cy="302760"/>
                <a:chOff x="3936960" y="5187600"/>
                <a:chExt cx="649080" cy="30276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4005000" y="5187600"/>
                  <a:ext cx="51300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936960" y="5187600"/>
                  <a:ext cx="6490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586040" y="5187600"/>
                <a:ext cx="1263600" cy="302760"/>
                <a:chOff x="4586040" y="5187600"/>
                <a:chExt cx="1263600" cy="30276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654440" y="5187600"/>
                  <a:ext cx="11271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6.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586040" y="5187600"/>
                  <a:ext cx="12636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5849640" y="5187600"/>
                <a:ext cx="1519200" cy="302760"/>
                <a:chOff x="5849640" y="5187600"/>
                <a:chExt cx="1519200" cy="3027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5918040" y="5187600"/>
                  <a:ext cx="13827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77.8/36.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849640" y="5187600"/>
                  <a:ext cx="15192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1776240" y="5490360"/>
                <a:ext cx="650880" cy="302400"/>
                <a:chOff x="1776240" y="5490360"/>
                <a:chExt cx="650880" cy="30240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1844640" y="549036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1776240" y="549036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2427120" y="5490360"/>
                <a:ext cx="884160" cy="302400"/>
                <a:chOff x="2427120" y="5490360"/>
                <a:chExt cx="884160" cy="3024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495520" y="549036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2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427120" y="549036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311280" y="5490360"/>
                <a:ext cx="625680" cy="302400"/>
                <a:chOff x="3311280" y="5490360"/>
                <a:chExt cx="625680" cy="3024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379680" y="549036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311280" y="549036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3936960" y="5490360"/>
                <a:ext cx="649080" cy="302400"/>
                <a:chOff x="3936960" y="5490360"/>
                <a:chExt cx="649080" cy="3024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4005000" y="549036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936960" y="549036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4586040" y="5490360"/>
                <a:ext cx="1263600" cy="302400"/>
                <a:chOff x="4586040" y="5490360"/>
                <a:chExt cx="1263600" cy="3024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4654440" y="549036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586040" y="549036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5849640" y="5490360"/>
                <a:ext cx="1519200" cy="302400"/>
                <a:chOff x="5849640" y="5490360"/>
                <a:chExt cx="1519200" cy="3024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5918040" y="549036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72.8/172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5849640" y="549036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1776240" y="5793120"/>
                <a:ext cx="650880" cy="302400"/>
                <a:chOff x="1776240" y="5793120"/>
                <a:chExt cx="650880" cy="3024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1844640" y="579312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776240" y="579312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1" name=""/>
              <p:cNvGrpSpPr/>
              <p:nvPr/>
            </p:nvGrpSpPr>
            <p:grpSpPr>
              <a:xfrm>
                <a:off x="2427120" y="5793120"/>
                <a:ext cx="884160" cy="302400"/>
                <a:chOff x="2427120" y="5793120"/>
                <a:chExt cx="884160" cy="3024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2495520" y="579312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18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2427120" y="579312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3311280" y="5793120"/>
                <a:ext cx="625680" cy="302400"/>
                <a:chOff x="3311280" y="5793120"/>
                <a:chExt cx="625680" cy="30240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3379680" y="579312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11280" y="579312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3936960" y="5793120"/>
                <a:ext cx="649080" cy="302400"/>
                <a:chOff x="3936960" y="5793120"/>
                <a:chExt cx="649080" cy="302400"/>
              </a:xfrm>
            </p:grpSpPr>
            <p:sp>
              <p:nvSpPr>
                <p:cNvPr id="1198" name=""/>
                <p:cNvSpPr/>
                <p:nvPr/>
              </p:nvSpPr>
              <p:spPr>
                <a:xfrm>
                  <a:off x="4005000" y="579312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936960" y="579312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0" name=""/>
              <p:cNvGrpSpPr/>
              <p:nvPr/>
            </p:nvGrpSpPr>
            <p:grpSpPr>
              <a:xfrm>
                <a:off x="4586040" y="5793120"/>
                <a:ext cx="1263600" cy="302400"/>
                <a:chOff x="4586040" y="5793120"/>
                <a:chExt cx="1263600" cy="30240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4654440" y="579312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90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4586040" y="579312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5849640" y="5793120"/>
                <a:ext cx="1519200" cy="302400"/>
                <a:chOff x="5849640" y="5793120"/>
                <a:chExt cx="1519200" cy="3024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918040" y="579312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85.6/86.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849640" y="579312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1776240" y="6095880"/>
                <a:ext cx="650880" cy="302400"/>
                <a:chOff x="1776240" y="6095880"/>
                <a:chExt cx="650880" cy="302400"/>
              </a:xfrm>
            </p:grpSpPr>
            <p:sp>
              <p:nvSpPr>
                <p:cNvPr id="1207" name=""/>
                <p:cNvSpPr/>
                <p:nvPr/>
              </p:nvSpPr>
              <p:spPr>
                <a:xfrm>
                  <a:off x="1844640" y="6095880"/>
                  <a:ext cx="5140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H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1776240" y="6095880"/>
                  <a:ext cx="6508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"/>
              <p:cNvGrpSpPr/>
              <p:nvPr/>
            </p:nvGrpSpPr>
            <p:grpSpPr>
              <a:xfrm>
                <a:off x="2427120" y="6095880"/>
                <a:ext cx="884160" cy="302400"/>
                <a:chOff x="2427120" y="6095880"/>
                <a:chExt cx="884160" cy="30240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2495520" y="6095880"/>
                  <a:ext cx="74772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-33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427120" y="6095880"/>
                  <a:ext cx="88416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2" name=""/>
              <p:cNvGrpSpPr/>
              <p:nvPr/>
            </p:nvGrpSpPr>
            <p:grpSpPr>
              <a:xfrm>
                <a:off x="3311280" y="6095880"/>
                <a:ext cx="625680" cy="302400"/>
                <a:chOff x="3311280" y="6095880"/>
                <a:chExt cx="625680" cy="302400"/>
              </a:xfrm>
            </p:grpSpPr>
            <p:sp>
              <p:nvSpPr>
                <p:cNvPr id="1213" name=""/>
                <p:cNvSpPr/>
                <p:nvPr/>
              </p:nvSpPr>
              <p:spPr>
                <a:xfrm>
                  <a:off x="3379680" y="6095880"/>
                  <a:ext cx="48888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311280" y="6095880"/>
                  <a:ext cx="6256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5" name=""/>
              <p:cNvGrpSpPr/>
              <p:nvPr/>
            </p:nvGrpSpPr>
            <p:grpSpPr>
              <a:xfrm>
                <a:off x="3936960" y="6095880"/>
                <a:ext cx="649080" cy="302400"/>
                <a:chOff x="3936960" y="6095880"/>
                <a:chExt cx="649080" cy="30240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4005000" y="6095880"/>
                  <a:ext cx="51300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936960" y="6095880"/>
                  <a:ext cx="64908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8" name=""/>
              <p:cNvGrpSpPr/>
              <p:nvPr/>
            </p:nvGrpSpPr>
            <p:grpSpPr>
              <a:xfrm>
                <a:off x="4586040" y="6095880"/>
                <a:ext cx="1263600" cy="302400"/>
                <a:chOff x="4586040" y="6095880"/>
                <a:chExt cx="1263600" cy="302400"/>
              </a:xfrm>
            </p:grpSpPr>
            <p:sp>
              <p:nvSpPr>
                <p:cNvPr id="1219" name=""/>
                <p:cNvSpPr/>
                <p:nvPr/>
              </p:nvSpPr>
              <p:spPr>
                <a:xfrm>
                  <a:off x="4654440" y="6095880"/>
                  <a:ext cx="11271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3.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4586040" y="6095880"/>
                  <a:ext cx="12636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1" name=""/>
              <p:cNvGrpSpPr/>
              <p:nvPr/>
            </p:nvGrpSpPr>
            <p:grpSpPr>
              <a:xfrm>
                <a:off x="5849640" y="6095880"/>
                <a:ext cx="1519200" cy="302400"/>
                <a:chOff x="5849640" y="6095880"/>
                <a:chExt cx="1519200" cy="302400"/>
              </a:xfrm>
            </p:grpSpPr>
            <p:sp>
              <p:nvSpPr>
                <p:cNvPr id="1222" name=""/>
                <p:cNvSpPr/>
                <p:nvPr/>
              </p:nvSpPr>
              <p:spPr>
                <a:xfrm>
                  <a:off x="5918040" y="6095880"/>
                  <a:ext cx="1382760" cy="30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3.2/185.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849640" y="6095880"/>
                  <a:ext cx="1519200" cy="30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4" name=""/>
            <p:cNvSpPr/>
            <p:nvPr/>
          </p:nvSpPr>
          <p:spPr>
            <a:xfrm>
              <a:off x="1771560" y="4191120"/>
              <a:ext cx="5602320" cy="2209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gical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control (L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manager (L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synchronous (U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sochronous (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ynchronous (U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nel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of operation of a piconet during link establishment and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by – defaul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– device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nel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im substates for adding new sl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– device issued a page (used by mas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scan – device is listening for a 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response – master receives a page response from sl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 response – slave responds to a page from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– device has issued an inquiry for identity of devices within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scan – device is listening for an inqui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quiry response – device receives an inquiry respo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Application Ar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voice acc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-time voice and data 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need for numerous cable attachments for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ost &lt; $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with Bluetooth radio can establish connection with another when in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State Transition Diagra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2" name="" descr=""/>
          <p:cNvPicPr/>
          <p:nvPr/>
        </p:nvPicPr>
        <p:blipFill>
          <a:blip r:embed="rId1"/>
          <a:stretch/>
        </p:blipFill>
        <p:spPr>
          <a:xfrm>
            <a:off x="457200" y="1174680"/>
            <a:ext cx="830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quiry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master identifies devices in range that wish to particip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s ID packet with inquiry access code  (I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in Inquiry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ice receives inqui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Inquiry Response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 FHS (Frequency Hop Synchrnonization) packet with address and tim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s to page scan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ge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uses devices address to calculate a page frequency-hopping sequ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pages with ID packet and device access code (DAC) of specific sl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responds with DAC ID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ter responds with its FHS pac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 confirms receipt with DAC 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aves moves to Connection st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lave Connection State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– participates in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ens, transmits and receives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niff – only listens on specified slo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 – does not support ACL pack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power stat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till participate in SCO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k – does not participate on pico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retained as part of 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tates of a Bluetooth Device (PHY layer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3733920" y="2976480"/>
            <a:ext cx="5036400" cy="2358000"/>
            <a:chOff x="3733920" y="2976480"/>
            <a:chExt cx="5036400" cy="2358000"/>
          </a:xfrm>
        </p:grpSpPr>
        <p:sp>
          <p:nvSpPr>
            <p:cNvPr id="1241" name=""/>
            <p:cNvSpPr/>
            <p:nvPr/>
          </p:nvSpPr>
          <p:spPr>
            <a:xfrm>
              <a:off x="3733920" y="297648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ANDB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02880" y="364968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qui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180480" y="364968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180480" y="42714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733920" y="427140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ransm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4944600"/>
              <a:ext cx="97848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A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22280" y="49446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180480" y="4944600"/>
              <a:ext cx="978120" cy="310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NI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426800" y="3017520"/>
              <a:ext cx="134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425720" y="364968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conn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426440" y="4322880"/>
              <a:ext cx="71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c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426440" y="499716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low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53" name=""/>
            <p:cNvCxnSpPr>
              <a:stCxn id="1241" idx="3"/>
              <a:endCxn id="1243" idx="0"/>
            </p:cNvCxnSpPr>
            <p:nvPr/>
          </p:nvCxnSpPr>
          <p:spPr>
            <a:xfrm>
              <a:off x="4712040" y="3131280"/>
              <a:ext cx="1957320" cy="51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4" name=""/>
            <p:cNvCxnSpPr>
              <a:stCxn id="1241" idx="3"/>
              <a:endCxn id="1242" idx="0"/>
            </p:cNvCxnSpPr>
            <p:nvPr/>
          </p:nvCxnSpPr>
          <p:spPr>
            <a:xfrm>
              <a:off x="4712400" y="3131280"/>
              <a:ext cx="280080" cy="51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5" name=""/>
            <p:cNvCxnSpPr>
              <a:stCxn id="1242" idx="3"/>
              <a:endCxn id="1243" idx="1"/>
            </p:cNvCxnSpPr>
            <p:nvPr/>
          </p:nvCxnSpPr>
          <p:spPr>
            <a:xfrm>
              <a:off x="5481000" y="3804840"/>
              <a:ext cx="699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6" name=""/>
            <p:cNvCxnSpPr>
              <a:stCxn id="1243" idx="2"/>
              <a:endCxn id="1244" idx="0"/>
            </p:cNvCxnSpPr>
            <p:nvPr/>
          </p:nvCxnSpPr>
          <p:spPr>
            <a:xfrm>
              <a:off x="6669000" y="3960000"/>
              <a:ext cx="1080" cy="31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7" name=""/>
            <p:cNvCxnSpPr>
              <a:stCxn id="1245" idx="0"/>
              <a:endCxn id="1241" idx="2"/>
            </p:cNvCxnSpPr>
            <p:nvPr/>
          </p:nvCxnSpPr>
          <p:spPr>
            <a:xfrm flipV="1">
              <a:off x="4222800" y="3286800"/>
              <a:ext cx="1080" cy="98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8" name=""/>
            <p:cNvCxnSpPr>
              <a:stCxn id="1246" idx="0"/>
              <a:endCxn id="1244" idx="2"/>
            </p:cNvCxnSpPr>
            <p:nvPr/>
          </p:nvCxnSpPr>
          <p:spPr>
            <a:xfrm flipV="1">
              <a:off x="4222800" y="4582080"/>
              <a:ext cx="244692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9" name=""/>
            <p:cNvCxnSpPr>
              <a:stCxn id="1247" idx="0"/>
              <a:endCxn id="1244" idx="2"/>
            </p:cNvCxnSpPr>
            <p:nvPr/>
          </p:nvCxnSpPr>
          <p:spPr>
            <a:xfrm flipV="1">
              <a:off x="5411160" y="4582080"/>
              <a:ext cx="125856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0" name=""/>
            <p:cNvCxnSpPr>
              <a:stCxn id="1248" idx="0"/>
              <a:endCxn id="1244" idx="2"/>
            </p:cNvCxnSpPr>
            <p:nvPr/>
          </p:nvCxnSpPr>
          <p:spPr>
            <a:xfrm flipV="1">
              <a:off x="6669000" y="4582080"/>
              <a:ext cx="1080" cy="36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61" name=""/>
            <p:cNvCxnSpPr>
              <a:stCxn id="1245" idx="3"/>
              <a:endCxn id="1244" idx="1"/>
            </p:cNvCxnSpPr>
            <p:nvPr/>
          </p:nvCxnSpPr>
          <p:spPr>
            <a:xfrm>
              <a:off x="4712040" y="4426200"/>
              <a:ext cx="1468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262" name=""/>
          <p:cNvSpPr/>
          <p:nvPr/>
        </p:nvSpPr>
        <p:spPr>
          <a:xfrm>
            <a:off x="222120" y="4842000"/>
            <a:ext cx="88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 device addressing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_ADDR (48 bi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 ( 3bits): ACTIVE, HOLD, or SNI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M_ADDR (8 bits): PARK Mode address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d with the AM_ADDR when entering PARK 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_ADDR (8 bits): not unique used to come back from PARK to ACTIVE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53720" y="1581120"/>
            <a:ext cx="8174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 (connected/transmit): the device is uniquely identified by a 3bits AM_ADDR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fully particip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IFF state: participates in the piconet only within the SNIFF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state: keeps only the SCO lin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K state (low-power): releases AM_ADDR but stays synchronized with m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Device Operation [Page 105 of 1084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y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: aims at discovering other neighboring devic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quiring nod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s an inquiry message (packet with only the access code: General Inquiry Access Code: GIAC or Dedicated IAC: DIAC). This message is sent over a subset of all possible frequenc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inquiry frequencies are divided into two hopping sets of 16 frequencies each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nquiry state the node will send upto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NQUI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equences on one set of 16 frequencies before switching to the other set of 16 frequencies. Upto 3 switches can be executed. Thus the inquiry may last upto 10.24 second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be discovered n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ters an inquiry_scan mode: listens over one frequency 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w_inquiry_sc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hearing the inquiry_message (and after a backoff procedure) enter an inquiry_response mode: send a Frequency Hop Sync (FHS) packet (BD_ADDR, native clo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discovering the neighbors and collecting information on their address and clock, the inquiring node can start a page routine to setup a pico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uetooth Device Operation (Cont’d) [Page 102 of 1084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g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: e.g., setup a piconet after an inqui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ing node (mas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s a page message (i.e., packet with only Device Access Code of paged node) over 32 frequency hops (from DAC and split into 2*16 freq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ed until a response is rece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response is received send a FHS message to allow the paged node to synchron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ged node (slav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ens on its hopping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receiving a page message, send a page_response and wait for the FHS of the pa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Aud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ice encoding schem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ly variable slope delta (CVSD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oice of scheme made by link mana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s most appropriate scheme fo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Link Secur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– verify claimed id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–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 and u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algorithm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 authentication key (128 bits k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 privacy key (4-128 bits secret k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respon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link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 current link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uetooth Standards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e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various layers of Bluetooth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e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Bluetooth technology to support various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/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offse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t offse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ing accuracy inform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cap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MP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ed fea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 master/slave ro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iff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k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MP PD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 control (cont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quality-driven change between DM and 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of multislot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scheme (1 mandatory + option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supervision (max time before declaring the failure of a lin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link-layer protocol between entities with a number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es on lower layer for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use of ACL links, does not support SC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two alternative services to upper-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mod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Logical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connectionless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annel i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rom master to multiple sla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connection-oriented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hannel is b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or exchange of signaling messages between L2CAP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Packet Fields for Connectionless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– length of information payload, PSM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ID – 2, indicating connectionless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/service multiplexer (PSM) – identifies higher-layer recipient for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included in connection-oriented pack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payload – higher-layer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ing Packet Payloa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s of one or more L2CAP commands, each with four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– identifies type of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 – used to match request with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ngth – length of data field for this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– additional data for command, if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1219320" y="1378080"/>
            <a:ext cx="754380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reject comm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 to reject any com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ion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ablish new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gure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establish a logical link transmission contract between two L2CAP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2CAP Signaling Comman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onnection comma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terminate logic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ho comm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olicit response from remote L2CAP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comma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solicit implementation-specific information from remote L2CAP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tooth is a layered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e replacement and telephony control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ed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e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manager protocol (L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link control and adaptation protocol (L2C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discovery protocol (SD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Specification Paramet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ate (bytes/seco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bucket size (byt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k bandwidth (bytes/seco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ncy (microsecon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ay variation (microsecon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le replac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O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y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phony control specification – binary (TCS B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UD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E/W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T 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adio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(2.4 GHZ Freq. Band)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Modulation: Gaussian Frequency Shift Keying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FH-SS (79 carriers), CDMA (hopping sequence from the node MAC address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Audio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interfaces directly with the baseband. Each voice connection is over a 64Kbps SCO link. The voice coding scheme is the Continuous Variable Slope Delta (CVSD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nk Manager Protocol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LM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link setup and control, authentication and encryp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Host Controller Interface: provides a uniform method of access to the baseband, control registers, etc through USB, PCI, or UART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ogical Link Control and Adaptation Layer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L2CA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higher protocols multiplexing, packet segmentation/reassembly, Qo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ervice Discover Protocol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SDP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protocol of locating services provided by a Bluetooth device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Telephony Control Specification (</a:t>
            </a: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TCS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): defines the call control signaling for the establishment of speech and data calls between Bluetooth device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RFCOMM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 provides emulation of serial links (RS232). Upto 60 connec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37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08440" y="1371600"/>
            <a:ext cx="4359240" cy="3974400"/>
            <a:chOff x="4708440" y="1371600"/>
            <a:chExt cx="4359240" cy="3974400"/>
          </a:xfrm>
        </p:grpSpPr>
        <p:sp>
          <p:nvSpPr>
            <p:cNvPr id="165" name=""/>
            <p:cNvSpPr/>
            <p:nvPr/>
          </p:nvSpPr>
          <p:spPr>
            <a:xfrm>
              <a:off x="5259240" y="3886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08440" y="5038920"/>
              <a:ext cx="4359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luetooth 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08440" y="4616640"/>
              <a:ext cx="435924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4280" y="42004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38680" y="4200480"/>
              <a:ext cx="342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Manager (LM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38680" y="3591000"/>
              <a:ext cx="3429000" cy="307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38680" y="3124440"/>
              <a:ext cx="2057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56560" y="3124440"/>
              <a:ext cx="625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42360" y="3124440"/>
              <a:ext cx="6253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4048200"/>
              <a:ext cx="342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95880" y="183852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CP/U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286000"/>
              <a:ext cx="9907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6858000" y="2149920"/>
              <a:ext cx="1143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341680" y="2142000"/>
              <a:ext cx="9144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29400" y="26002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90960" y="27529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7480" y="298152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1371600"/>
              <a:ext cx="342900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9096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2940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91160" y="1685880"/>
              <a:ext cx="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24680" y="1685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86800" y="1685880"/>
              <a:ext cx="0" cy="144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110200" y="583560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E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OBject EXchange (e.g., vCar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Usage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bri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-in-one ph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iconets and Scattern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5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unit of Bluetooth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and one to seven slav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 determines channel and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t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 in one piconet may exist as master or slave in another pic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many devices to share same ar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efficient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3-01T21:06:47Z</dcterms:modified>
  <cp:revision>72</cp:revision>
  <dc:subject/>
  <dc:title>Wireless Communications and Networks</dc:title>
</cp:coreProperties>
</file>