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3C2A-B32B-4713-9454-6B8BCF3A8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9C0-18BF-4FF5-A46F-92A0B4EC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C2B-F0B9-4B8B-ACCB-55C90765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CF5-7D40-4988-AEA6-995E461D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E270-E99C-49DB-BF9D-84BE396F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572-B9B6-4F6F-89D8-19DD18C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4821-038A-4448-A161-378ECA59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5DD3-9933-41F8-9A9F-5D50841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1C7-0178-4F2C-8D88-8E5CE522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2BD3-7E05-46F1-82BB-8D2B4556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4C08-B0A4-43E8-A0C5-CF232BC6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F8A-6912-465B-9089-DC625AB3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C6C-1A95-4CF4-B4E5-018D71E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289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5760" y="6450120"/>
            <a:ext cx="48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3525: Wireless Networks, Coding an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6960" y="635652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D598-42E3-433B-8485-B43ADC7345A7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8A57-912E-48A6-BBA0-5371CC2690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hyperlink" Target="mailto:noubir@ccs.neu.edu" TargetMode="External"/><Relationship Id="rId4" Type="http://schemas.openxmlformats.org/officeDocument/2006/relationships/hyperlink" Target="mailto:noubir@ccs.neu.edu" TargetMode="External"/><Relationship Id="rId5" Type="http://schemas.openxmlformats.org/officeDocument/2006/relationships/hyperlink" Target="mailto:noubir@ccs.neu.edu" TargetMode="External"/><Relationship Id="rId6" Type="http://schemas.openxmlformats.org/officeDocument/2006/relationships/hyperlink" Target="mailto:noubir@ccs.neu.edu" TargetMode="External"/><Relationship Id="rId7" Type="http://schemas.openxmlformats.org/officeDocument/2006/relationships/hyperlink" Target="mailto:noubir@ccs.neu.edu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ing and 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cc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neu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8, “Wireless Communications and Networks”, William Stallings, Prentice H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have no remainder, start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quotient  and remai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mainder as 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2286000"/>
                <a:ext cx="28195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124080" y="3962520"/>
                <a:ext cx="3276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76720" y="5638680"/>
                <a:ext cx="2781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rema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mainder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act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2133720"/>
                <a:ext cx="4495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3962520"/>
                <a:ext cx="5040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alues expressed as polynom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binary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048120" y="2971800"/>
                <a:ext cx="4114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 versions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CCIT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Digital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ircuit consisting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of a gate corresponds to the presence of a term in the divisor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f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of 1-bit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, equal to the length of the F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gital Logic CR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2100240"/>
            <a:ext cx="85345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requires re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 inadequate for wireles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rate on wireless link can be high, results in a large number of re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propagation delay compared to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Error Correcti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 (FEC) encoder maps each k-bit block into an n-bit block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is transmitted; analog for wireles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signal is demodu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passed through an FEC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95280" y="1285920"/>
            <a:ext cx="5867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EC Decoder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rrors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produced by decoder matches original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and corrects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but cannot correct bit errors; reports uncorrectable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no bit errors, though errors are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ping with Data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s the presence of an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repeat request (ARQ)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of data with error is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retransmits that block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on codes, or forward correction codes (F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detect and correc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Code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ing distance – for 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binary sequences, the number of different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11011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10001; d(v1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– ratio of redundant bits to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ate – ratio of data bits to total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mming distanc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Block code is the minimum distance between two code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Corr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CodeSpheres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90920" y="4800600"/>
                <a:ext cx="66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ing gain is the amount of additional SNR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362320" y="5410080"/>
                <a:ext cx="3516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correct single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f (n, k) block error-correcting codes with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ata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error-correcting (SEC)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double-error-detecting (SEC-DED)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Binary Block Code (7, 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600200" y="218268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8268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5228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bits 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eck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: compares receiv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with calculat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using X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drome 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drome range is between 0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t of syndrome indicates a match (0) or conflict (1) in that bit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B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 code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de word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nea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t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de words form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imensional subspace of the vector space of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tuples over the field GF(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l Meaning: linear combinations of codewords are also code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near code is completely specifi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ependent codeword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generator matr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coder needs only to store the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Linear code (7, 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encod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1 1 0 1):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257800" y="4800600"/>
                <a:ext cx="2965320" cy="14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ity-Check Matrix (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or matri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th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linearly independent rows), there exists 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atrix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with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linearly independent rows)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arity check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ch that: any vector in the row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orthogonal to any row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ny vector that is orthogonal to all the row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in the row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binations of the rows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 an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-dimensional subspace. It is the null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, 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code generat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It is called the dual space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not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have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v w =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666880" y="4343400"/>
                <a:ext cx="279396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atic 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block code is called systematic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code words can be divided into two parts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ssage par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), an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undancy checking p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atic code generator matrix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-k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866960" y="4532400"/>
                <a:ext cx="4228920" cy="17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mming Codes (2</a:t>
            </a:r>
            <a:r>
              <a:rPr b="0" i="1" lang="en-US" sz="44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1, 2</a:t>
            </a:r>
            <a:r>
              <a:rPr b="0" i="1" lang="en-US" sz="44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m-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of Hamming code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length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information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arity check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: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-correcting capabil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-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ty check matrix of a Hamming code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dent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lumns which are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f weight 2 or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583000" y="4813200"/>
                <a:ext cx="3352680" cy="131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of single bit error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that a frame arrives with no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undetecte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detected bit errors but no undetected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nimum Distance of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lock code is the minimum distance between any two code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+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(be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ctor sub-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Minimum Distance of Hamming Cod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encoded and decoded using linear feedback shift registers (LFS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yclic codes,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hifted right one bit, is also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fixed-lengt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produces fixed-length check cod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CRC error-detecting code accepts arbitrary length input for fixed-length check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yclic Hamming code of length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 is generated by a primitive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f degre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ming code (31, 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ay Cod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ic code (23, 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polynomials: eith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518148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C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ositive pair of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CH code has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combina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in choice of parame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, cod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se Chaudhuri and Hocquenghem (BCH)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positive integ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2)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&lt;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re exists a BCH c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length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ity bit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distan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or polynomial is th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owest-degree polynomi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er GF(2) such that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its roots.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the primitive root of unity in the extension field GF(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a BCH code is capable of correcting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tor polynomial i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(becau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conjugates), th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any minimal polynomial has degre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less, then degre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- 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t mos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 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rimitive polynomial and we have a Hamming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ed-Solom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of nonbinary BCH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ed in chunk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, called symb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S code has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per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check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ritten to and read from memory in different o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nd corresponding check bits are interspersed with bits from oth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data are deinterleaved to recover original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rst error that may occur is spread out over a number of blocks, making error correc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915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redundant bits continuous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hecking and correcting carried ou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roce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at a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for eve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nstraint fa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lly very sm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output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block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block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no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Number of bits per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2209680"/>
                <a:ext cx="3200400" cy="254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Enco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72388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llis diagram – expanded encoder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code – error correction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received sequence with all possible transmitted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hooses path through trellis whose coded sequence differs from received sequence in the fewest number of pl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valid path is selected as the correct path, the decoder can recover the input data bits from the output cod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280" y="152280"/>
            <a:ext cx="8661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presentations of Convolutional Co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llis repres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2" idx="6"/>
            <a:endCxn id="213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1" name=""/>
          <p:cNvCxnSpPr>
            <a:stCxn id="212" idx="4"/>
            <a:endCxn id="215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2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2" idx="6"/>
            <a:endCxn id="223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222" idx="4"/>
            <a:endCxn id="225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2" name=""/>
          <p:cNvCxnSpPr>
            <a:stCxn id="213" idx="6"/>
            <a:endCxn id="222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13" idx="5"/>
            <a:endCxn id="224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4" name=""/>
          <p:cNvCxnSpPr>
            <a:stCxn id="215" idx="5"/>
            <a:endCxn id="226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15" idx="5"/>
            <a:endCxn id="228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6" name=""/>
          <p:cNvCxnSpPr>
            <a:stCxn id="224" idx="5"/>
            <a:endCxn id="227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4" idx="5"/>
            <a:endCxn id="229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" name=""/>
          <p:cNvCxnSpPr>
            <a:stCxn id="226" idx="7"/>
            <a:endCxn id="223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28" idx="6"/>
            <a:endCxn id="227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0" name=""/>
          <p:cNvCxnSpPr>
            <a:stCxn id="228" idx="6"/>
            <a:endCxn id="229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1" name=""/>
          <p:cNvCxnSpPr>
            <a:stCxn id="226" idx="6"/>
            <a:endCxn id="225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2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2" idx="6"/>
            <a:endCxn id="243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2" idx="4"/>
            <a:endCxn id="245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2" name=""/>
          <p:cNvCxnSpPr>
            <a:stCxn id="244" idx="5"/>
            <a:endCxn id="247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4" idx="5"/>
            <a:endCxn id="249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4" name=""/>
          <p:cNvCxnSpPr>
            <a:stCxn id="246" idx="7"/>
            <a:endCxn id="243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" name=""/>
          <p:cNvCxnSpPr>
            <a:stCxn id="248" idx="6"/>
            <a:endCxn id="247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6" name=""/>
          <p:cNvCxnSpPr>
            <a:stCxn id="248" idx="6"/>
            <a:endCxn id="249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7" name=""/>
          <p:cNvCxnSpPr>
            <a:stCxn id="246" idx="6"/>
            <a:endCxn id="245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8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6"/>
            <a:endCxn id="259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8" idx="4"/>
            <a:endCxn id="261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8" name=""/>
          <p:cNvCxnSpPr>
            <a:stCxn id="260" idx="5"/>
            <a:endCxn id="263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" name=""/>
          <p:cNvCxnSpPr>
            <a:stCxn id="260" idx="5"/>
            <a:endCxn id="265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0" name=""/>
          <p:cNvCxnSpPr>
            <a:stCxn id="262" idx="7"/>
            <a:endCxn id="259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4" idx="6"/>
            <a:endCxn id="263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4" idx="6"/>
            <a:endCxn id="265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3" name=""/>
          <p:cNvCxnSpPr>
            <a:stCxn id="262" idx="6"/>
            <a:endCxn id="261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4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4" idx="6"/>
            <a:endCxn id="275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74" idx="4"/>
            <a:endCxn id="277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" name=""/>
          <p:cNvCxnSpPr>
            <a:stCxn id="276" idx="5"/>
            <a:endCxn id="279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76" idx="5"/>
            <a:endCxn id="281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6" name=""/>
          <p:cNvCxnSpPr>
            <a:stCxn id="278" idx="7"/>
            <a:endCxn id="275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80" idx="6"/>
            <a:endCxn id="279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9" name=""/>
          <p:cNvCxnSpPr>
            <a:stCxn id="278" idx="6"/>
            <a:endCxn id="277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0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0" idx="6"/>
            <a:endCxn id="291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90" idx="4"/>
            <a:endCxn id="293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0" name=""/>
          <p:cNvCxnSpPr>
            <a:stCxn id="292" idx="5"/>
            <a:endCxn id="295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92" idx="5"/>
            <a:endCxn id="297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" name=""/>
          <p:cNvCxnSpPr>
            <a:stCxn id="294" idx="7"/>
            <a:endCxn id="291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96" idx="6"/>
            <a:endCxn id="295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6" idx="6"/>
            <a:endCxn id="297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5" name=""/>
          <p:cNvCxnSpPr>
            <a:stCxn id="294" idx="6"/>
            <a:endCxn id="293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06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321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330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339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348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0" idx="6"/>
            <a:endCxn id="361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9" name=""/>
          <p:cNvCxnSpPr>
            <a:stCxn id="360" idx="4"/>
            <a:endCxn id="363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0" name=""/>
          <p:cNvCxnSpPr>
            <a:stCxn id="362" idx="5"/>
            <a:endCxn id="365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stCxn id="362" idx="5"/>
            <a:endCxn id="367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2" name=""/>
          <p:cNvCxnSpPr>
            <a:stCxn id="364" idx="7"/>
            <a:endCxn id="361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3" name=""/>
          <p:cNvCxnSpPr>
            <a:stCxn id="366" idx="6"/>
            <a:endCxn id="365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4" name=""/>
          <p:cNvCxnSpPr>
            <a:stCxn id="366" idx="6"/>
            <a:endCxn id="367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5" name=""/>
          <p:cNvCxnSpPr>
            <a:stCxn id="364" idx="6"/>
            <a:endCxn id="363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76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377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endCxn id="385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endCxn id="386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1" name=""/>
          <p:cNvCxnSpPr>
            <a:endCxn id="387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2" name=""/>
          <p:cNvCxnSpPr>
            <a:endCxn id="388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3" name=""/>
          <p:cNvCxnSpPr>
            <a:endCxn id="385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4" name=""/>
          <p:cNvCxnSpPr>
            <a:endCxn id="387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5" name=""/>
          <p:cNvCxnSpPr>
            <a:endCxn id="388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6" name=""/>
          <p:cNvCxnSpPr>
            <a:endCxn id="386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97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398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0" idx="6"/>
            <a:endCxn id="411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410" idx="4"/>
            <a:endCxn id="413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0" name=""/>
          <p:cNvCxnSpPr>
            <a:stCxn id="412" idx="5"/>
            <a:endCxn id="415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412" idx="5"/>
            <a:endCxn id="417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2" name=""/>
          <p:cNvCxnSpPr>
            <a:stCxn id="414" idx="7"/>
            <a:endCxn id="411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416" idx="6"/>
            <a:endCxn id="415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416" idx="6"/>
            <a:endCxn id="417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5" name=""/>
          <p:cNvCxnSpPr>
            <a:stCxn id="414" idx="6"/>
            <a:endCxn id="413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26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427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endCxn id="435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endCxn id="436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1" name=""/>
          <p:cNvCxnSpPr>
            <a:endCxn id="437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endCxn id="438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3" name=""/>
          <p:cNvCxnSpPr>
            <a:endCxn id="435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4" name=""/>
          <p:cNvCxnSpPr>
            <a:endCxn id="437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5" name=""/>
          <p:cNvCxnSpPr>
            <a:endCxn id="438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6" name=""/>
          <p:cNvCxnSpPr>
            <a:endCxn id="436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47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448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0" idx="6"/>
            <a:endCxn id="461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0" idx="4"/>
            <a:endCxn id="463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0" name=""/>
          <p:cNvCxnSpPr>
            <a:stCxn id="462" idx="5"/>
            <a:endCxn id="465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2" idx="5"/>
            <a:endCxn id="467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2" name=""/>
          <p:cNvCxnSpPr>
            <a:stCxn id="464" idx="7"/>
            <a:endCxn id="461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6" idx="6"/>
            <a:endCxn id="465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66" idx="6"/>
            <a:endCxn id="467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5" name=""/>
          <p:cNvCxnSpPr>
            <a:stCxn id="464" idx="6"/>
            <a:endCxn id="463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76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477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0110110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90" idx="6"/>
            <a:endCxn id="491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0" idx="4"/>
            <a:endCxn id="493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00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0" idx="6"/>
            <a:endCxn id="501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0" idx="4"/>
            <a:endCxn id="503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0" name=""/>
          <p:cNvCxnSpPr>
            <a:stCxn id="491" idx="6"/>
            <a:endCxn id="500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91" idx="5"/>
            <a:endCxn id="502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2" name=""/>
          <p:cNvCxnSpPr>
            <a:stCxn id="493" idx="5"/>
            <a:endCxn id="504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stCxn id="493" idx="5"/>
            <a:endCxn id="506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4" name=""/>
          <p:cNvCxnSpPr>
            <a:stCxn id="502" idx="5"/>
            <a:endCxn id="505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2" idx="5"/>
            <a:endCxn id="507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6" name=""/>
          <p:cNvCxnSpPr>
            <a:stCxn id="504" idx="7"/>
            <a:endCxn id="501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506" idx="6"/>
            <a:endCxn id="505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506" idx="6"/>
            <a:endCxn id="507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9" name=""/>
          <p:cNvCxnSpPr>
            <a:stCxn id="504" idx="6"/>
            <a:endCxn id="503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20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6"/>
            <a:endCxn id="521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4"/>
            <a:endCxn id="523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0" name=""/>
          <p:cNvCxnSpPr>
            <a:stCxn id="522" idx="5"/>
            <a:endCxn id="525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1" name=""/>
          <p:cNvCxnSpPr>
            <a:stCxn id="522" idx="5"/>
            <a:endCxn id="527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2" name=""/>
          <p:cNvCxnSpPr>
            <a:stCxn id="524" idx="7"/>
            <a:endCxn id="521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6"/>
            <a:endCxn id="525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6"/>
            <a:endCxn id="527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5" name=""/>
          <p:cNvCxnSpPr>
            <a:stCxn id="524" idx="6"/>
            <a:endCxn id="523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36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6" idx="6"/>
            <a:endCxn id="537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36" idx="4"/>
            <a:endCxn id="539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6" name=""/>
          <p:cNvCxnSpPr>
            <a:stCxn id="538" idx="5"/>
            <a:endCxn id="541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38" idx="5"/>
            <a:endCxn id="543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8" name=""/>
          <p:cNvCxnSpPr>
            <a:stCxn id="540" idx="7"/>
            <a:endCxn id="537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"/>
          <p:cNvCxnSpPr>
            <a:stCxn id="542" idx="6"/>
            <a:endCxn id="541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0" name=""/>
          <p:cNvCxnSpPr>
            <a:stCxn id="542" idx="6"/>
            <a:endCxn id="543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1" name=""/>
          <p:cNvCxnSpPr>
            <a:stCxn id="540" idx="6"/>
            <a:endCxn id="539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2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0" name=""/>
          <p:cNvCxnSpPr>
            <a:stCxn id="552" idx="6"/>
            <a:endCxn id="553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2" idx="4"/>
            <a:endCxn id="555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2" name=""/>
          <p:cNvCxnSpPr>
            <a:stCxn id="554" idx="5"/>
            <a:endCxn id="557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54" idx="5"/>
            <a:endCxn id="559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4" name=""/>
          <p:cNvCxnSpPr>
            <a:stCxn id="556" idx="7"/>
            <a:endCxn id="553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5" name=""/>
          <p:cNvCxnSpPr>
            <a:stCxn id="558" idx="6"/>
            <a:endCxn id="557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8" idx="6"/>
            <a:endCxn id="559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7" name=""/>
          <p:cNvCxnSpPr>
            <a:stCxn id="556" idx="6"/>
            <a:endCxn id="555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68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stCxn id="568" idx="6"/>
            <a:endCxn id="569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68" idx="4"/>
            <a:endCxn id="571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8" name=""/>
          <p:cNvCxnSpPr>
            <a:stCxn id="570" idx="5"/>
            <a:endCxn id="573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70" idx="5"/>
            <a:endCxn id="575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0" name=""/>
          <p:cNvCxnSpPr>
            <a:stCxn id="572" idx="7"/>
            <a:endCxn id="569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74" idx="6"/>
            <a:endCxn id="573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74" idx="6"/>
            <a:endCxn id="575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3" name=""/>
          <p:cNvCxnSpPr>
            <a:stCxn id="572" idx="6"/>
            <a:endCxn id="571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84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599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608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617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739760" y="2689200"/>
            <a:ext cx="592920" cy="2100960"/>
            <a:chOff x="4739760" y="2689200"/>
            <a:chExt cx="592920" cy="2100960"/>
          </a:xfrm>
        </p:grpSpPr>
        <p:sp>
          <p:nvSpPr>
            <p:cNvPr id="626" name=""/>
            <p:cNvSpPr/>
            <p:nvPr/>
          </p:nvSpPr>
          <p:spPr>
            <a:xfrm>
              <a:off x="47905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541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9478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8794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9287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366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8286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976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>
            <a:stCxn id="638" idx="6"/>
            <a:endCxn id="63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7" name=""/>
          <p:cNvCxnSpPr>
            <a:stCxn id="638" idx="4"/>
            <a:endCxn id="64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48" name=""/>
          <p:cNvCxnSpPr>
            <a:stCxn id="640" idx="5"/>
            <a:endCxn id="64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9" name=""/>
          <p:cNvCxnSpPr>
            <a:stCxn id="640" idx="5"/>
            <a:endCxn id="64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0" name=""/>
          <p:cNvCxnSpPr>
            <a:stCxn id="642" idx="7"/>
            <a:endCxn id="63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44" idx="6"/>
            <a:endCxn id="64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44" idx="6"/>
            <a:endCxn id="64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3" name=""/>
          <p:cNvCxnSpPr>
            <a:stCxn id="642" idx="6"/>
            <a:endCxn id="64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5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65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7" name=""/>
          <p:cNvCxnSpPr>
            <a:endCxn id="66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endCxn id="66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69" name=""/>
          <p:cNvCxnSpPr>
            <a:endCxn id="66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endCxn id="66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1" name=""/>
          <p:cNvCxnSpPr>
            <a:endCxn id="66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endCxn id="66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endCxn id="66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4" name=""/>
          <p:cNvCxnSpPr>
            <a:endCxn id="66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7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67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88" idx="6"/>
            <a:endCxn id="68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7" name=""/>
          <p:cNvCxnSpPr>
            <a:stCxn id="688" idx="4"/>
            <a:endCxn id="69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98" name=""/>
          <p:cNvCxnSpPr>
            <a:stCxn id="690" idx="5"/>
            <a:endCxn id="69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0" idx="5"/>
            <a:endCxn id="69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0" name=""/>
          <p:cNvCxnSpPr>
            <a:stCxn id="692" idx="7"/>
            <a:endCxn id="68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1" name=""/>
          <p:cNvCxnSpPr>
            <a:stCxn id="694" idx="6"/>
            <a:endCxn id="69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94" idx="6"/>
            <a:endCxn id="69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3" name=""/>
          <p:cNvCxnSpPr>
            <a:stCxn id="692" idx="6"/>
            <a:endCxn id="69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0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70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7" name=""/>
          <p:cNvCxnSpPr>
            <a:endCxn id="71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8" name=""/>
          <p:cNvCxnSpPr>
            <a:endCxn id="71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19" name=""/>
          <p:cNvCxnSpPr>
            <a:endCxn id="71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0" name=""/>
          <p:cNvCxnSpPr>
            <a:endCxn id="71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1" name=""/>
          <p:cNvCxnSpPr>
            <a:endCxn id="71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2" name=""/>
          <p:cNvCxnSpPr>
            <a:endCxn id="71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endCxn id="71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4" name=""/>
          <p:cNvCxnSpPr>
            <a:endCxn id="71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25" name=""/>
          <p:cNvGrpSpPr/>
          <p:nvPr/>
        </p:nvGrpSpPr>
        <p:grpSpPr>
          <a:xfrm>
            <a:off x="7160760" y="2674800"/>
            <a:ext cx="592560" cy="2100960"/>
            <a:chOff x="7160760" y="2674800"/>
            <a:chExt cx="592560" cy="2100960"/>
          </a:xfrm>
        </p:grpSpPr>
        <p:sp>
          <p:nvSpPr>
            <p:cNvPr id="726" name=""/>
            <p:cNvSpPr/>
            <p:nvPr/>
          </p:nvSpPr>
          <p:spPr>
            <a:xfrm>
              <a:off x="721116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7480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6848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0008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940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5724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4932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16076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38" idx="6"/>
            <a:endCxn id="739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7" name=""/>
          <p:cNvCxnSpPr>
            <a:stCxn id="738" idx="4"/>
            <a:endCxn id="741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48" name=""/>
          <p:cNvCxnSpPr>
            <a:stCxn id="740" idx="5"/>
            <a:endCxn id="743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0" idx="5"/>
            <a:endCxn id="745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0" name=""/>
          <p:cNvCxnSpPr>
            <a:stCxn id="742" idx="7"/>
            <a:endCxn id="739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4" idx="6"/>
            <a:endCxn id="743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2" name=""/>
          <p:cNvCxnSpPr>
            <a:stCxn id="744" idx="6"/>
            <a:endCxn id="745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3" name=""/>
          <p:cNvCxnSpPr>
            <a:stCxn id="742" idx="6"/>
            <a:endCxn id="741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4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755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54160" y="1865160"/>
            <a:ext cx="6981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   01   01    01    01    01    00    01    01   00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utomatic Repeat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used in data link control and transport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s on use of an error detection code (such as C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s that transmitting entity does not overwhelm a receiving entity with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with flow control mechanism allow multiple PDUs in transit at the sam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Us arrive in same order they’re 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-window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maintains list (window) of sequence numbers allowed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aintains list allowed to rece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breaking up a block of data before transmit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uffer size of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of PDU due to error requires smaller amounts of data to b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hared medium, larger PDUs occupy medium for extended period, causing delays at other sending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7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9343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o detect and correct transmiss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err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DU : a PDU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PDU : PDU arrives with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frame, an error-detecting code (check bits) is calculated from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its are appended to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incoming frame into data bits an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check bits from received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calculated check bits against receive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 error occurs if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detects errors and discards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acknowledgment of  received, error-free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etransmits unacknowledged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negative acknowledgment to PDUs in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6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rity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 bit appended to a block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bit ensures an even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nsures an odd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7-bit character [111000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parity [1110001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parity [1110001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Redundancy Check (CR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lock, transmitter generates 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bit frame check sequence (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am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 is exactly divisibl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incoming fram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mainder, assumes n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ve-OR (XOR)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frame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block of data;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bit FCS; the la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atter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bits; this is the predetermined di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uot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ma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25T13:54:58Z</dcterms:modified>
  <cp:revision>86</cp:revision>
  <dc:subject/>
  <dc:title>Wireless Communications and Networks</dc:title>
</cp:coreProperties>
</file>