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C5C-C400-4302-AABA-E3102306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858-FBC9-4077-8D22-545467F8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B0EF-AAA7-4554-900E-7E5DBE5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DB6-F492-43C4-A818-DA04ED3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191B-3274-4BD3-BEE8-B2362126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DE9-87E5-4F13-ACB1-BD3C7F4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DA8C-EEB6-4B09-9808-4EB17187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889-A7E4-4BEE-9374-3264172F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ABE-8A18-49D2-B604-394F0C5E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748-ABE8-4CC1-AEF1-20A9CBC1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918-8372-4272-A82C-361C669D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CE6A-7F25-4F45-A2AC-2DA84B086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-72360" y="6477120"/>
            <a:ext cx="613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3525 – Wireless Network (W02): Cellular Wirel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132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D24E-93CB-43CA-9BEC-237EADE2B360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CD4-30B6-4E8F-AB98-DDE85D0FBE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Wireless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ditional Functions in an MTSO Controll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b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/from fixed and remote mobile subscr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Radio Propagation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strong enough between base station and mobile unit to maintain signal quality at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so strong as to create too much cochannel interference with channels in another cell using the sam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pagation effects may disrupt the signal and cause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locking probability – probability of a new call being blo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ping probability – probability that a call is terminated due to a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completion probability – probability that an admitted call is not dropped before it termin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unsuccessful handoff – probability that a handoff is executed while the reception conditions are inadeq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blocking probability – probability that a handoff cannot be successfully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probability – probability that a handoff occurs before cal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handoff – number of handoffs per un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ion duration – duration of time during a handoff in which a mobile is not connected to either bas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delay – distance the mobile moves from the point at which the handoff should occur to the point at which it doe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Strategies Used to Determine Insta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 and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sues making it desirable to include dynamic power control in a cellu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 must be sufficiently above the background noise for 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minimize power in the transmitted signal from the mo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channel interference, alleviate health concerns, save battery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S systems using CDMA, it’s desirable to equalize the received power level from all mobile units at the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solely on mobi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edback from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s accurate as closed-loop, but can react quicker to fluctuations in signal strengt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signal strength in reverse channel based on metric of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 makes power adjustment decision and communicates to mobile on contro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available channels would equal number of subscribers active at on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not feasible to have capacity handle all possible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ultaneous user capacity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cr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n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ing System Performance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hat call request is block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upper bound on probability of bloc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Inten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presented to a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n rate of calls attempted per un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holding time per successful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verage number of calls arriving during average hold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886200" y="2362320"/>
                <a:ext cx="16002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Network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low-power transmitters (100 W or l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divided into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d by its ow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by base station consisting of transmitter, receiver, and 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 of frequencies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set up such that antennas of all neighbors are equidistant (hexagonal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y in Cellul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Probability (Grade Of Service)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rlang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lls arrival rate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lls average duration (service time: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41640" y="2438280"/>
                <a:ext cx="2890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that Determine the Nature of the Traffic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ner in which blocked calls are hand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calls delayed (LCD) – blocked calls put in a queue awaiting a fre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ed calls rejected and dr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cleared (LCC) – user waits before another attem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held (LCH) – user repeatedly attempts c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traffic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number of users is assumed to be finite or in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irst-Generation An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Mobile Phone Service (AM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orth America, two 25-MHz bands allocated to AM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base to mobil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mobile unit to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and split in two to encourage competition (12.5MHz per oper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of 30 KHz: 21 CtrlCh (FSK), 395 TrafficChannels (FM voice) per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use exploited (R =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S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initiates call by keying in phone number and presses sen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verifies number and authorizes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issues message to user’s cell phone indicating send and receive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sends ringing signal to call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answers; MTSO establishes circuit and initiates bill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party hangs up; MTSO releases circuit, frees channels, completes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fferences Between First and Second Gener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traffic channels – first-generation systems are almost purely analog; second-generation systems are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– all second generation systems provide encryption to prevent eavesdr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and correction – second-generation digital traffic allows for detection and correction, giving clear voice 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ccess – second-generation systems allow channels to be dynamically shared by a number of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T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ogical channels (number of time slots in TDMA frame):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ell radius (R): 35 k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 region around 90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ehicle spe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250 km/h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oding delay: approx. 20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elay spread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: Not to exceed 200 kHz (25 kHz per channe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Design of TDMA Timesl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344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Network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304920" y="1208160"/>
            <a:ext cx="79246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the GS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SM is a PLMN (Public Land Mobile 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providers setup mobile networks following the GSM standard within each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(mobil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 (bas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C (mobile switching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R (location regi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S (radio subsystem): covers all radio a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S (network and switching subsystem): call forwarding, handover, swit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 (operation subsystem): management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0920" y="1905120"/>
            <a:ext cx="6932520" cy="3962160"/>
            <a:chOff x="610920" y="1905120"/>
            <a:chExt cx="6932520" cy="3962160"/>
          </a:xfrm>
        </p:grpSpPr>
        <p:sp>
          <p:nvSpPr>
            <p:cNvPr id="878" name=""/>
            <p:cNvSpPr/>
            <p:nvPr/>
          </p:nvSpPr>
          <p:spPr>
            <a:xfrm>
              <a:off x="610920" y="2508480"/>
              <a:ext cx="102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th 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908640" y="1905120"/>
              <a:ext cx="6634800" cy="3962160"/>
              <a:chOff x="908640" y="1905120"/>
              <a:chExt cx="6634800" cy="3962160"/>
            </a:xfrm>
          </p:grpSpPr>
          <p:sp>
            <p:nvSpPr>
              <p:cNvPr id="880" name=""/>
              <p:cNvSpPr/>
              <p:nvPr/>
            </p:nvSpPr>
            <p:spPr>
              <a:xfrm>
                <a:off x="1815120" y="2023200"/>
                <a:ext cx="3617640" cy="153756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8902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9620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606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2544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25440" y="373824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493240" y="2082240"/>
                <a:ext cx="1748520" cy="1005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fixed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7" name=""/>
              <p:cNvCxnSpPr>
                <a:stCxn id="886" idx="6"/>
              </p:cNvCxnSpPr>
              <p:nvPr/>
            </p:nvCxnSpPr>
            <p:spPr>
              <a:xfrm flipV="1">
                <a:off x="7241760" y="2554920"/>
                <a:ext cx="302040" cy="3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8" name=""/>
              <p:cNvCxnSpPr>
                <a:stCxn id="886" idx="5"/>
              </p:cNvCxnSpPr>
              <p:nvPr/>
            </p:nvCxnSpPr>
            <p:spPr>
              <a:xfrm>
                <a:off x="6985080" y="2940840"/>
                <a:ext cx="49788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9" name=""/>
              <p:cNvCxnSpPr>
                <a:stCxn id="886" idx="7"/>
              </p:cNvCxnSpPr>
              <p:nvPr/>
            </p:nvCxnSpPr>
            <p:spPr>
              <a:xfrm flipV="1">
                <a:off x="6985440" y="2140920"/>
                <a:ext cx="43776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0" name=""/>
              <p:cNvSpPr/>
              <p:nvPr/>
            </p:nvSpPr>
            <p:spPr>
              <a:xfrm>
                <a:off x="2176920" y="40928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252040" y="37382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2" name=""/>
              <p:cNvCxnSpPr>
                <a:stCxn id="890" idx="2"/>
                <a:endCxn id="893" idx="0"/>
              </p:cNvCxnSpPr>
              <p:nvPr/>
            </p:nvCxnSpPr>
            <p:spPr>
              <a:xfrm>
                <a:off x="2508480" y="4447440"/>
                <a:ext cx="39600" cy="131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4" name=""/>
              <p:cNvCxnSpPr>
                <a:stCxn id="890" idx="2"/>
                <a:endCxn id="895" idx="0"/>
              </p:cNvCxnSpPr>
              <p:nvPr/>
            </p:nvCxnSpPr>
            <p:spPr>
              <a:xfrm>
                <a:off x="2508120" y="4447440"/>
                <a:ext cx="100368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"/>
              <p:cNvCxnSpPr>
                <a:stCxn id="890" idx="2"/>
              </p:cNvCxnSpPr>
              <p:nvPr/>
            </p:nvCxnSpPr>
            <p:spPr>
              <a:xfrm flipH="1">
                <a:off x="1874520" y="4447800"/>
                <a:ext cx="633960" cy="47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7" name=""/>
              <p:cNvCxnSpPr>
                <a:stCxn id="891" idx="1"/>
                <a:endCxn id="898" idx="0"/>
              </p:cNvCxnSpPr>
              <p:nvPr/>
            </p:nvCxnSpPr>
            <p:spPr>
              <a:xfrm flipH="1">
                <a:off x="4541400" y="3915000"/>
                <a:ext cx="710280" cy="78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9" name=""/>
              <p:cNvCxnSpPr>
                <a:stCxn id="891" idx="2"/>
                <a:endCxn id="900" idx="0"/>
              </p:cNvCxnSpPr>
              <p:nvPr/>
            </p:nvCxnSpPr>
            <p:spPr>
              <a:xfrm>
                <a:off x="5583600" y="4092840"/>
                <a:ext cx="48240" cy="110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"/>
              <p:cNvCxnSpPr>
                <a:stCxn id="902" idx="2"/>
                <a:endCxn id="890" idx="0"/>
              </p:cNvCxnSpPr>
              <p:nvPr/>
            </p:nvCxnSpPr>
            <p:spPr>
              <a:xfrm flipH="1">
                <a:off x="2508120" y="3382920"/>
                <a:ext cx="422640" cy="710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2" name=""/>
              <p:cNvSpPr/>
              <p:nvPr/>
            </p:nvSpPr>
            <p:spPr>
              <a:xfrm>
                <a:off x="25988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490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46040" y="231876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G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5" name=""/>
              <p:cNvCxnSpPr>
                <a:stCxn id="904" idx="2"/>
                <a:endCxn id="902" idx="0"/>
              </p:cNvCxnSpPr>
              <p:nvPr/>
            </p:nvCxnSpPr>
            <p:spPr>
              <a:xfrm flipH="1">
                <a:off x="2930040" y="2673360"/>
                <a:ext cx="14475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"/>
              <p:cNvCxnSpPr>
                <a:stCxn id="904" idx="3"/>
                <a:endCxn id="886" idx="2"/>
              </p:cNvCxnSpPr>
              <p:nvPr/>
            </p:nvCxnSpPr>
            <p:spPr>
              <a:xfrm>
                <a:off x="4709520" y="2496240"/>
                <a:ext cx="7840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7" name=""/>
              <p:cNvCxnSpPr>
                <a:stCxn id="904" idx="2"/>
                <a:endCxn id="903" idx="0"/>
              </p:cNvCxnSpPr>
              <p:nvPr/>
            </p:nvCxnSpPr>
            <p:spPr>
              <a:xfrm>
                <a:off x="4377960" y="2673360"/>
                <a:ext cx="6033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8" name=""/>
              <p:cNvSpPr/>
              <p:nvPr/>
            </p:nvSpPr>
            <p:spPr>
              <a:xfrm>
                <a:off x="1573920" y="1905120"/>
                <a:ext cx="964800" cy="4726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OMC, EIR, 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AU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3"/>
                <a:endCxn id="902" idx="0"/>
              </p:cNvCxnSpPr>
              <p:nvPr/>
            </p:nvCxnSpPr>
            <p:spPr>
              <a:xfrm flipH="1">
                <a:off x="2930400" y="2614320"/>
                <a:ext cx="9072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1" name=""/>
              <p:cNvCxnSpPr>
                <a:stCxn id="910" idx="3"/>
                <a:endCxn id="903" idx="0"/>
              </p:cNvCxnSpPr>
              <p:nvPr/>
            </p:nvCxnSpPr>
            <p:spPr>
              <a:xfrm>
                <a:off x="3020760" y="2614320"/>
                <a:ext cx="196020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2" name=""/>
              <p:cNvCxnSpPr>
                <a:stCxn id="904" idx="1"/>
                <a:endCxn id="910" idx="3"/>
              </p:cNvCxnSpPr>
              <p:nvPr/>
            </p:nvCxnSpPr>
            <p:spPr>
              <a:xfrm flipH="1">
                <a:off x="3020400" y="2495880"/>
                <a:ext cx="102564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3" name=""/>
              <p:cNvCxnSpPr>
                <a:stCxn id="902" idx="1"/>
                <a:endCxn id="914" idx="4"/>
              </p:cNvCxnSpPr>
              <p:nvPr/>
            </p:nvCxnSpPr>
            <p:spPr>
              <a:xfrm flipH="1" flipV="1">
                <a:off x="2356920" y="3146040"/>
                <a:ext cx="24156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4" name=""/>
              <p:cNvSpPr/>
              <p:nvPr/>
            </p:nvSpPr>
            <p:spPr>
              <a:xfrm>
                <a:off x="1875240" y="2910240"/>
                <a:ext cx="482400" cy="47268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779560" y="2141280"/>
                <a:ext cx="48240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H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2109240" y="4729320"/>
                <a:ext cx="999720" cy="1027800"/>
                <a:chOff x="2109240" y="4729320"/>
                <a:chExt cx="999720" cy="102780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547360" y="5242320"/>
                  <a:ext cx="194040" cy="514800"/>
                  <a:chOff x="2547360" y="5242320"/>
                  <a:chExt cx="194040" cy="514800"/>
                </a:xfrm>
              </p:grpSpPr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2548440" y="5419440"/>
                    <a:ext cx="192960" cy="337680"/>
                    <a:chOff x="2548440" y="5419440"/>
                    <a:chExt cx="192960" cy="337680"/>
                  </a:xfrm>
                </p:grpSpPr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2548440" y="5428080"/>
                      <a:ext cx="123840" cy="326880"/>
                      <a:chOff x="2548440" y="5428080"/>
                      <a:chExt cx="123840" cy="3268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2598480" y="54291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flipV="1">
                        <a:off x="2583360" y="54313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2582280" y="55004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flipV="1">
                        <a:off x="2548440" y="56440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2563200" y="56444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V="1">
                        <a:off x="2562120" y="55011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2598480" y="54280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6" name=""/>
                    <p:cNvSpPr/>
                    <p:nvPr/>
                  </p:nvSpPr>
                  <p:spPr>
                    <a:xfrm flipV="1">
                      <a:off x="2670120" y="56221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652480" y="55040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flipV="1">
                      <a:off x="2651400" y="54205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V="1">
                      <a:off x="2643840" y="54194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2645280" y="54306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V="1">
                      <a:off x="2664000" y="54907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664000" y="56444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547360" y="5259600"/>
                    <a:ext cx="190080" cy="496080"/>
                    <a:chOff x="2547360" y="5259600"/>
                    <a:chExt cx="190080" cy="49608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V="1">
                      <a:off x="2547360" y="52596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2622240" y="52718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V="1">
                      <a:off x="2671200" y="57132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632320" y="52693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547360" y="57520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2602440" y="52423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109240" y="4729320"/>
                  <a:ext cx="999720" cy="992520"/>
                  <a:chOff x="2109240" y="4729320"/>
                  <a:chExt cx="999720" cy="99252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3712200">
                    <a:off x="2245320" y="48531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3712200">
                    <a:off x="2391120" y="50148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3712200">
                    <a:off x="2499120" y="51458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4" name=""/>
              <p:cNvGrpSpPr/>
              <p:nvPr/>
            </p:nvGrpSpPr>
            <p:grpSpPr>
              <a:xfrm>
                <a:off x="3074040" y="4197240"/>
                <a:ext cx="999720" cy="1027800"/>
                <a:chOff x="3074040" y="4197240"/>
                <a:chExt cx="999720" cy="102780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3512160" y="4710240"/>
                  <a:ext cx="194040" cy="514800"/>
                  <a:chOff x="3512160" y="4710240"/>
                  <a:chExt cx="194040" cy="514800"/>
                </a:xfrm>
              </p:grpSpPr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3513240" y="4887360"/>
                    <a:ext cx="192960" cy="337680"/>
                    <a:chOff x="3513240" y="4887360"/>
                    <a:chExt cx="192960" cy="337680"/>
                  </a:xfrm>
                </p:grpSpPr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3513240" y="4896000"/>
                      <a:ext cx="123840" cy="326880"/>
                      <a:chOff x="3513240" y="4896000"/>
                      <a:chExt cx="123840" cy="32688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35632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flipV="1">
                        <a:off x="35481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35470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 flipV="1">
                        <a:off x="35132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35280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 flipV="1">
                        <a:off x="35269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35632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36349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6172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V="1">
                      <a:off x="36162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6086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6100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36288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88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3512160" y="4727520"/>
                    <a:ext cx="190080" cy="496080"/>
                    <a:chOff x="3512160" y="4727520"/>
                    <a:chExt cx="190080" cy="4960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V="1">
                      <a:off x="35121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5870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V="1">
                      <a:off x="36360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5971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5121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"/>
                  <p:cNvSpPr/>
                  <p:nvPr/>
                </p:nvSpPr>
                <p:spPr>
                  <a:xfrm>
                    <a:off x="35672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074040" y="4197240"/>
                  <a:ext cx="999720" cy="992520"/>
                  <a:chOff x="3074040" y="4197240"/>
                  <a:chExt cx="999720" cy="99252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rot="3712200">
                    <a:off x="32101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rot="3712200">
                    <a:off x="33559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3712200">
                    <a:off x="34639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5003640" y="4197240"/>
                <a:ext cx="999720" cy="1027800"/>
                <a:chOff x="5003640" y="4197240"/>
                <a:chExt cx="999720" cy="102780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5441760" y="4710240"/>
                  <a:ext cx="194040" cy="514800"/>
                  <a:chOff x="5441760" y="4710240"/>
                  <a:chExt cx="194040" cy="5148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442840" y="4887360"/>
                    <a:ext cx="192960" cy="337680"/>
                    <a:chOff x="5442840" y="4887360"/>
                    <a:chExt cx="192960" cy="33768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5442840" y="4896000"/>
                      <a:ext cx="123840" cy="326880"/>
                      <a:chOff x="5442840" y="4896000"/>
                      <a:chExt cx="123840" cy="32688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4928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 flipV="1">
                        <a:off x="54777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4766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 flipV="1">
                        <a:off x="54428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4576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 flipV="1">
                        <a:off x="54565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54928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4" name=""/>
                    <p:cNvSpPr/>
                    <p:nvPr/>
                  </p:nvSpPr>
                  <p:spPr>
                    <a:xfrm flipV="1">
                      <a:off x="55645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55468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55458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V="1">
                      <a:off x="55382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55396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55584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55584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441760" y="4727520"/>
                    <a:ext cx="190080" cy="496080"/>
                    <a:chOff x="5441760" y="4727520"/>
                    <a:chExt cx="190080" cy="49608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54417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55166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55656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55267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4417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>
                    <a:off x="54968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5003640" y="4197240"/>
                  <a:ext cx="999720" cy="992520"/>
                  <a:chOff x="5003640" y="4197240"/>
                  <a:chExt cx="999720" cy="992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3712200">
                    <a:off x="51397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3712200">
                    <a:off x="52855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rot="3712200">
                    <a:off x="53935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3978720" y="4788720"/>
                <a:ext cx="999720" cy="1027800"/>
                <a:chOff x="3978720" y="4788720"/>
                <a:chExt cx="999720" cy="102780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4416840" y="5301720"/>
                  <a:ext cx="194040" cy="514800"/>
                  <a:chOff x="4416840" y="5301720"/>
                  <a:chExt cx="194040" cy="51480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417920" y="5478840"/>
                    <a:ext cx="192960" cy="337680"/>
                    <a:chOff x="4417920" y="5478840"/>
                    <a:chExt cx="192960" cy="33768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4417920" y="5487480"/>
                      <a:ext cx="123840" cy="326880"/>
                      <a:chOff x="4417920" y="5487480"/>
                      <a:chExt cx="123840" cy="326880"/>
                    </a:xfrm>
                  </p:grpSpPr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4467960" y="54885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 flipV="1">
                        <a:off x="4452840" y="54907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4451760" y="55598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 flipV="1">
                        <a:off x="4417920" y="57034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4432680" y="57038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 flipV="1">
                        <a:off x="4431600" y="55605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467960" y="54874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3" name=""/>
                    <p:cNvSpPr/>
                    <p:nvPr/>
                  </p:nvSpPr>
                  <p:spPr>
                    <a:xfrm flipV="1">
                      <a:off x="4539600" y="56815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4521960" y="55634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4520880" y="54799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V="1">
                      <a:off x="4513320" y="54788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514760" y="54900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4533480" y="55501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4533480" y="57038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416840" y="5319000"/>
                    <a:ext cx="190080" cy="496080"/>
                    <a:chOff x="4416840" y="5319000"/>
                    <a:chExt cx="190080" cy="49608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4416840" y="53190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491720" y="53312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V="1">
                      <a:off x="4540680" y="57726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4501800" y="53287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4416840" y="58114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4471920" y="53017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978720" y="4788720"/>
                  <a:ext cx="999720" cy="992520"/>
                  <a:chOff x="3978720" y="4788720"/>
                  <a:chExt cx="999720" cy="99252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3712200">
                    <a:off x="4114800" y="49125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3712200">
                    <a:off x="4260600" y="50742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rot="3712200">
                    <a:off x="4368600" y="52052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3978720" y="3664800"/>
                <a:ext cx="999720" cy="1027800"/>
                <a:chOff x="3978720" y="3664800"/>
                <a:chExt cx="999720" cy="1027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4416840" y="4177800"/>
                  <a:ext cx="194040" cy="514800"/>
                  <a:chOff x="4416840" y="4177800"/>
                  <a:chExt cx="194040" cy="51480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4417920" y="4354920"/>
                    <a:ext cx="192960" cy="337680"/>
                    <a:chOff x="4417920" y="4354920"/>
                    <a:chExt cx="192960" cy="337680"/>
                  </a:xfrm>
                </p:grpSpPr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4417920" y="4363560"/>
                      <a:ext cx="123840" cy="326880"/>
                      <a:chOff x="4417920" y="4363560"/>
                      <a:chExt cx="123840" cy="32688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4467960" y="436464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 flipV="1">
                        <a:off x="4452840" y="436680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4451760" y="443592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 flipV="1">
                        <a:off x="4417920" y="457956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4432680" y="457992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 flipV="1">
                        <a:off x="4431600" y="443664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4467960" y="436356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4539600" y="455760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521960" y="443952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V="1">
                      <a:off x="4520880" y="435600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V="1">
                      <a:off x="4513320" y="435492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4514760" y="436608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V="1">
                      <a:off x="4533480" y="442620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4533480" y="457992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416840" y="4195080"/>
                    <a:ext cx="190080" cy="496080"/>
                    <a:chOff x="4416840" y="4195080"/>
                    <a:chExt cx="190080" cy="49608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4416840" y="419508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4491720" y="420732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4540680" y="464868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4501800" y="420480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4416840" y="468756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4471920" y="417780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3978720" y="3664800"/>
                  <a:ext cx="999720" cy="992520"/>
                  <a:chOff x="3978720" y="3664800"/>
                  <a:chExt cx="999720" cy="9925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3712200">
                    <a:off x="4114800" y="378864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3712200">
                    <a:off x="4260600" y="395028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3712200">
                    <a:off x="4368600" y="408132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1060" name=""/>
              <p:cNvCxnSpPr>
                <a:stCxn id="903" idx="2"/>
                <a:endCxn id="891" idx="0"/>
              </p:cNvCxnSpPr>
              <p:nvPr/>
            </p:nvCxnSpPr>
            <p:spPr>
              <a:xfrm>
                <a:off x="4980240" y="3382920"/>
                <a:ext cx="603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1" name=""/>
              <p:cNvSpPr/>
              <p:nvPr/>
            </p:nvSpPr>
            <p:spPr>
              <a:xfrm>
                <a:off x="908640" y="46436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R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392840" y="3679200"/>
                <a:ext cx="180720" cy="218772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56880 h 2187720"/>
                  <a:gd name="textAreaBottom" fmla="*/ 2130840 h 218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392840" y="1905120"/>
                <a:ext cx="180720" cy="165564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42840 h 1655640"/>
                  <a:gd name="textAreaBottom" fmla="*/ 1612800 h 165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4" name=""/>
              <p:cNvCxnSpPr>
                <a:stCxn id="903" idx="1"/>
                <a:endCxn id="1065" idx="4"/>
              </p:cNvCxnSpPr>
              <p:nvPr/>
            </p:nvCxnSpPr>
            <p:spPr>
              <a:xfrm flipH="1">
                <a:off x="4407480" y="3205800"/>
                <a:ext cx="2419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5" name=""/>
              <p:cNvSpPr/>
              <p:nvPr/>
            </p:nvSpPr>
            <p:spPr>
              <a:xfrm>
                <a:off x="3925440" y="3028320"/>
                <a:ext cx="48204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Re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cells assigned different frequencies to avoid interference or 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reuse frequency in nearby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to 50 frequencies assigned to each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ower controlled to limit power at that frequency escaping to adjac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sue is to determine how many cells must intervene between two cells using the same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elements and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1601640" y="1752480"/>
            <a:ext cx="3877920" cy="4267080"/>
            <a:chOff x="1601640" y="1752480"/>
            <a:chExt cx="3877920" cy="4267080"/>
          </a:xfrm>
        </p:grpSpPr>
        <p:sp>
          <p:nvSpPr>
            <p:cNvPr id="1068" name=""/>
            <p:cNvSpPr/>
            <p:nvPr/>
          </p:nvSpPr>
          <p:spPr>
            <a:xfrm>
              <a:off x="3619080" y="2623680"/>
              <a:ext cx="1334160" cy="1099080"/>
            </a:xfrm>
            <a:prstGeom prst="hexagon">
              <a:avLst>
                <a:gd name="adj" fmla="val 30347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616840" y="2075400"/>
              <a:ext cx="1334160" cy="1099080"/>
            </a:xfrm>
            <a:prstGeom prst="hexagon">
              <a:avLst>
                <a:gd name="adj" fmla="val 30347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489400" y="1752480"/>
              <a:ext cx="2541600" cy="2456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02000" y="47912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934360" y="2269440"/>
              <a:ext cx="25416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79320" y="2269440"/>
              <a:ext cx="25380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2994480" y="2658240"/>
              <a:ext cx="3877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125160" y="291600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489400" y="3950640"/>
              <a:ext cx="31788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8440" y="50500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268880" y="524376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79320" y="56962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5400000">
              <a:off x="3184920" y="2658240"/>
              <a:ext cx="3877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141800" y="343332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506400" y="395064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71000" y="4467960"/>
              <a:ext cx="31788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8440" y="446796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5" name=""/>
            <p:cNvCxnSpPr>
              <a:stCxn id="1075" idx="2"/>
              <a:endCxn id="1082" idx="0"/>
            </p:cNvCxnSpPr>
            <p:nvPr/>
          </p:nvCxnSpPr>
          <p:spPr>
            <a:xfrm>
              <a:off x="3283560" y="3110040"/>
              <a:ext cx="381960" cy="840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6" name=""/>
            <p:cNvCxnSpPr>
              <a:stCxn id="1081" idx="2"/>
              <a:endCxn id="1082" idx="3"/>
            </p:cNvCxnSpPr>
            <p:nvPr/>
          </p:nvCxnSpPr>
          <p:spPr>
            <a:xfrm flipH="1">
              <a:off x="3823560" y="3627000"/>
              <a:ext cx="477360" cy="420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7" name=""/>
            <p:cNvCxnSpPr>
              <a:stCxn id="1082" idx="2"/>
              <a:endCxn id="1083" idx="0"/>
            </p:cNvCxnSpPr>
            <p:nvPr/>
          </p:nvCxnSpPr>
          <p:spPr>
            <a:xfrm flipH="1">
              <a:off x="3029760" y="4144320"/>
              <a:ext cx="635760" cy="324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8" name=""/>
            <p:cNvCxnSpPr>
              <a:stCxn id="1076" idx="3"/>
              <a:endCxn id="1083" idx="0"/>
            </p:cNvCxnSpPr>
            <p:nvPr/>
          </p:nvCxnSpPr>
          <p:spPr>
            <a:xfrm>
              <a:off x="2807280" y="4047120"/>
              <a:ext cx="222840" cy="420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9" name=""/>
            <p:cNvCxnSpPr>
              <a:stCxn id="1076" idx="0"/>
            </p:cNvCxnSpPr>
            <p:nvPr/>
          </p:nvCxnSpPr>
          <p:spPr>
            <a:xfrm flipH="1" flipV="1">
              <a:off x="2488680" y="3626640"/>
              <a:ext cx="159480" cy="32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0" name=""/>
            <p:cNvSpPr/>
            <p:nvPr/>
          </p:nvSpPr>
          <p:spPr>
            <a:xfrm flipH="1" rot="5400000">
              <a:off x="4170600" y="3207600"/>
              <a:ext cx="322920" cy="1267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84" idx="0"/>
            </p:cNvCxnSpPr>
            <p:nvPr/>
          </p:nvCxnSpPr>
          <p:spPr>
            <a:xfrm flipV="1">
              <a:off x="4236840" y="4020480"/>
              <a:ext cx="519480" cy="447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92" name=""/>
            <p:cNvSpPr/>
            <p:nvPr/>
          </p:nvSpPr>
          <p:spPr>
            <a:xfrm flipH="1">
              <a:off x="2362680" y="3821400"/>
              <a:ext cx="292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55960" y="3690720"/>
              <a:ext cx="358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34360" y="272232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626560" y="2591280"/>
              <a:ext cx="333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362680" y="5631840"/>
              <a:ext cx="339840" cy="280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34360" y="4985280"/>
              <a:ext cx="339840" cy="280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426040" y="4791240"/>
              <a:ext cx="339840" cy="278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33480" y="4791240"/>
              <a:ext cx="340200" cy="278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362680" y="4273920"/>
              <a:ext cx="292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35160" y="41432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084" idx="1"/>
              <a:endCxn id="1083" idx="3"/>
            </p:cNvCxnSpPr>
            <p:nvPr/>
          </p:nvCxnSpPr>
          <p:spPr>
            <a:xfrm flipH="1">
              <a:off x="3188520" y="4564440"/>
              <a:ext cx="889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3" name=""/>
            <p:cNvCxnSpPr>
              <a:stCxn id="1084" idx="2"/>
              <a:endCxn id="1077" idx="0"/>
            </p:cNvCxnSpPr>
            <p:nvPr/>
          </p:nvCxnSpPr>
          <p:spPr>
            <a:xfrm>
              <a:off x="4236840" y="4661640"/>
              <a:ext cx="1080" cy="388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4" name=""/>
            <p:cNvCxnSpPr>
              <a:stCxn id="1083" idx="1"/>
              <a:endCxn id="1098" idx="1"/>
            </p:cNvCxnSpPr>
            <p:nvPr/>
          </p:nvCxnSpPr>
          <p:spPr>
            <a:xfrm flipH="1">
              <a:off x="2596680" y="4564800"/>
              <a:ext cx="274320" cy="2268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5" name=""/>
            <p:cNvSpPr/>
            <p:nvPr/>
          </p:nvSpPr>
          <p:spPr>
            <a:xfrm>
              <a:off x="4175280" y="220356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843800" y="51804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90000" y="498528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SDN, 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665720" y="291456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000960" y="20743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016880" y="259128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68880" y="2851560"/>
              <a:ext cx="254160" cy="25848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2" name=""/>
            <p:cNvCxnSpPr>
              <a:stCxn id="1082" idx="1"/>
            </p:cNvCxnSpPr>
            <p:nvPr/>
          </p:nvCxnSpPr>
          <p:spPr>
            <a:xfrm flipH="1" flipV="1">
              <a:off x="3251880" y="3691440"/>
              <a:ext cx="254880" cy="356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13" name=""/>
            <p:cNvSpPr/>
            <p:nvPr/>
          </p:nvSpPr>
          <p:spPr>
            <a:xfrm>
              <a:off x="1981440" y="1752480"/>
              <a:ext cx="126720" cy="252144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65520 h 2521440"/>
                <a:gd name="textAreaBottom" fmla="*/ 2455920 h 25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81440" y="4273920"/>
              <a:ext cx="126720" cy="122796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31680 h 1227960"/>
                <a:gd name="textAreaBottom" fmla="*/ 1196280 h 122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077" idx="3"/>
              <a:endCxn id="1107" idx="1"/>
            </p:cNvCxnSpPr>
            <p:nvPr/>
          </p:nvCxnSpPr>
          <p:spPr>
            <a:xfrm flipV="1">
              <a:off x="4395600" y="5088600"/>
              <a:ext cx="191160" cy="5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6" name=""/>
            <p:cNvCxnSpPr>
              <a:stCxn id="1078" idx="3"/>
              <a:endCxn id="1106" idx="1"/>
            </p:cNvCxnSpPr>
            <p:nvPr/>
          </p:nvCxnSpPr>
          <p:spPr>
            <a:xfrm flipV="1">
              <a:off x="4586760" y="5282640"/>
              <a:ext cx="254880" cy="58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7" name=""/>
            <p:cNvSpPr/>
            <p:nvPr/>
          </p:nvSpPr>
          <p:spPr>
            <a:xfrm>
              <a:off x="2934360" y="5696280"/>
              <a:ext cx="317520" cy="1936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8" name=""/>
            <p:cNvCxnSpPr>
              <a:stCxn id="1079" idx="0"/>
              <a:endCxn id="1082" idx="2"/>
            </p:cNvCxnSpPr>
            <p:nvPr/>
          </p:nvCxnSpPr>
          <p:spPr>
            <a:xfrm flipH="1" flipV="1" rot="5400000">
              <a:off x="2825280" y="4856400"/>
              <a:ext cx="1552320" cy="127440"/>
            </a:xfrm>
            <a:prstGeom prst="curvedConnector5">
              <a:avLst>
                <a:gd name="adj1" fmla="val 64231"/>
                <a:gd name="adj2" fmla="val 49858"/>
                <a:gd name="adj3" fmla="val 6423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19" name=""/>
            <p:cNvSpPr/>
            <p:nvPr/>
          </p:nvSpPr>
          <p:spPr>
            <a:xfrm>
              <a:off x="1981440" y="5502240"/>
              <a:ext cx="126720" cy="517320"/>
            </a:xfrm>
            <a:custGeom>
              <a:avLst/>
              <a:gdLst>
                <a:gd name="textAreaLeft" fmla="*/ 81000 w 126720"/>
                <a:gd name="textAreaRight" fmla="*/ 127080 w 126720"/>
                <a:gd name="textAreaTop" fmla="*/ 13320 h 517320"/>
                <a:gd name="textAreaBottom" fmla="*/ 50400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01640" y="56318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084" idx="0"/>
            </p:cNvCxnSpPr>
            <p:nvPr/>
          </p:nvCxnSpPr>
          <p:spPr>
            <a:xfrm flipV="1">
              <a:off x="4236840" y="4057560"/>
              <a:ext cx="937800" cy="41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2" name=""/>
            <p:cNvCxnSpPr>
              <a:stCxn id="1084" idx="1"/>
              <a:endCxn id="1099" idx="1"/>
            </p:cNvCxnSpPr>
            <p:nvPr/>
          </p:nvCxnSpPr>
          <p:spPr>
            <a:xfrm flipH="1">
              <a:off x="3803400" y="4564800"/>
              <a:ext cx="274680" cy="2268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3" name=""/>
            <p:cNvCxnSpPr>
              <a:stCxn id="1083" idx="2"/>
              <a:endCxn id="1097" idx="1"/>
            </p:cNvCxnSpPr>
            <p:nvPr/>
          </p:nvCxnSpPr>
          <p:spPr>
            <a:xfrm>
              <a:off x="3029760" y="4661640"/>
              <a:ext cx="75960" cy="323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4" name=""/>
            <p:cNvCxnSpPr>
              <a:stCxn id="1083" idx="2"/>
              <a:endCxn id="1096" idx="1"/>
            </p:cNvCxnSpPr>
            <p:nvPr/>
          </p:nvCxnSpPr>
          <p:spPr>
            <a:xfrm flipH="1">
              <a:off x="2532600" y="4662000"/>
              <a:ext cx="497160" cy="9705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5" name=""/>
            <p:cNvCxnSpPr>
              <a:stCxn id="1097" idx="3"/>
              <a:endCxn id="1117" idx="0"/>
            </p:cNvCxnSpPr>
            <p:nvPr/>
          </p:nvCxnSpPr>
          <p:spPr>
            <a:xfrm flipH="1">
              <a:off x="3092760" y="5265000"/>
              <a:ext cx="12600" cy="4316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6" name=""/>
            <p:cNvCxnSpPr>
              <a:stCxn id="1084" idx="2"/>
              <a:endCxn id="1079" idx="0"/>
            </p:cNvCxnSpPr>
            <p:nvPr/>
          </p:nvCxnSpPr>
          <p:spPr>
            <a:xfrm flipH="1">
              <a:off x="3537360" y="4661640"/>
              <a:ext cx="699480" cy="10350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7" name=""/>
            <p:cNvCxnSpPr>
              <a:stCxn id="1083" idx="2"/>
              <a:endCxn id="1079" idx="0"/>
            </p:cNvCxnSpPr>
            <p:nvPr/>
          </p:nvCxnSpPr>
          <p:spPr>
            <a:xfrm flipH="1" rot="16200000">
              <a:off x="2765880" y="4924800"/>
              <a:ext cx="1035000" cy="508680"/>
            </a:xfrm>
            <a:prstGeom prst="curvedConnector5">
              <a:avLst>
                <a:gd name="adj1" fmla="val 26931"/>
                <a:gd name="adj2" fmla="val 50000"/>
                <a:gd name="adj3" fmla="val 2693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8" name=""/>
            <p:cNvCxnSpPr>
              <a:stCxn id="1079" idx="0"/>
              <a:endCxn id="1076" idx="3"/>
            </p:cNvCxnSpPr>
            <p:nvPr/>
          </p:nvCxnSpPr>
          <p:spPr>
            <a:xfrm flipV="1" rot="16200000">
              <a:off x="2347920" y="4505760"/>
              <a:ext cx="1649160" cy="731160"/>
            </a:xfrm>
            <a:prstGeom prst="curvedConnector2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9" name=""/>
            <p:cNvCxnSpPr>
              <a:stCxn id="1077" idx="2"/>
              <a:endCxn id="1079" idx="0"/>
            </p:cNvCxnSpPr>
            <p:nvPr/>
          </p:nvCxnSpPr>
          <p:spPr>
            <a:xfrm flipH="1">
              <a:off x="3537360" y="5243760"/>
              <a:ext cx="699480" cy="4528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0" name=""/>
            <p:cNvSpPr/>
            <p:nvPr/>
          </p:nvSpPr>
          <p:spPr>
            <a:xfrm>
              <a:off x="4589640" y="479124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1" name=""/>
            <p:cNvCxnSpPr>
              <a:stCxn id="1130" idx="1"/>
              <a:endCxn id="1077" idx="3"/>
            </p:cNvCxnSpPr>
            <p:nvPr/>
          </p:nvCxnSpPr>
          <p:spPr>
            <a:xfrm flipH="1">
              <a:off x="4395240" y="4894560"/>
              <a:ext cx="191160" cy="2523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2" name=""/>
            <p:cNvSpPr/>
            <p:nvPr/>
          </p:nvSpPr>
          <p:spPr>
            <a:xfrm flipH="1">
              <a:off x="3379320" y="5502240"/>
              <a:ext cx="762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142800" y="53730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1768320" y="1828800"/>
            <a:ext cx="4784400" cy="4887000"/>
            <a:chOff x="1768320" y="1828800"/>
            <a:chExt cx="4784400" cy="4887000"/>
          </a:xfrm>
        </p:grpSpPr>
        <p:sp>
          <p:nvSpPr>
            <p:cNvPr id="1135" name=""/>
            <p:cNvSpPr/>
            <p:nvPr/>
          </p:nvSpPr>
          <p:spPr>
            <a:xfrm>
              <a:off x="3313080" y="1872720"/>
              <a:ext cx="0" cy="4178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79040" y="2955600"/>
              <a:ext cx="52416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490840" y="3256920"/>
              <a:ext cx="52308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77640" y="5413680"/>
              <a:ext cx="2948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3640" y="5577840"/>
              <a:ext cx="4698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887480" y="1828800"/>
              <a:ext cx="10486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165760" y="3039480"/>
              <a:ext cx="189000" cy="3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165400" y="3039480"/>
              <a:ext cx="18900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172240" y="2744280"/>
              <a:ext cx="2404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68840" y="3080880"/>
              <a:ext cx="672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373120" y="3481920"/>
              <a:ext cx="26784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373120" y="3683520"/>
              <a:ext cx="26784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08360" y="241488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44040" y="241488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74240" y="3353760"/>
              <a:ext cx="393480" cy="19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646000" y="355464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974240" y="3689280"/>
              <a:ext cx="393480" cy="19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773360" y="4830120"/>
              <a:ext cx="1332360" cy="994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165760" y="4716360"/>
              <a:ext cx="189000" cy="30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165400" y="4716360"/>
              <a:ext cx="189000" cy="19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172240" y="4420800"/>
              <a:ext cx="240480" cy="47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73120" y="5159880"/>
              <a:ext cx="2678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373120" y="5361120"/>
              <a:ext cx="2678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974240" y="50320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46000" y="5231160"/>
              <a:ext cx="39204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974240" y="53668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440440" y="3481920"/>
              <a:ext cx="133200" cy="200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043800" y="3080880"/>
              <a:ext cx="459360" cy="60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043800" y="5293440"/>
              <a:ext cx="459360" cy="20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177000" y="5159880"/>
              <a:ext cx="0" cy="267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110760" y="3080880"/>
              <a:ext cx="392040" cy="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2908800" y="4421160"/>
              <a:ext cx="592920" cy="107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768320" y="2276280"/>
              <a:ext cx="2820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86880" y="1872720"/>
              <a:ext cx="0" cy="4178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495600" y="1828800"/>
              <a:ext cx="15537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 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512520" y="2951640"/>
              <a:ext cx="39348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12520" y="5366880"/>
              <a:ext cx="3934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10520" y="3148200"/>
              <a:ext cx="0" cy="221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41240" y="2276280"/>
              <a:ext cx="2820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234760" y="1828800"/>
              <a:ext cx="13179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artner 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710520" y="2478240"/>
              <a:ext cx="0" cy="46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710520" y="5560920"/>
              <a:ext cx="0" cy="49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80720" y="5565960"/>
              <a:ext cx="394920" cy="191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911400" y="5427720"/>
              <a:ext cx="174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516200" y="5964480"/>
              <a:ext cx="11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594760" y="5225760"/>
              <a:ext cx="657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594760" y="5761440"/>
              <a:ext cx="726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0720" y="3623040"/>
              <a:ext cx="461880" cy="132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776760" y="3148200"/>
              <a:ext cx="66960" cy="6699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3776760" y="4690440"/>
              <a:ext cx="66960" cy="671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3756960" y="4050000"/>
              <a:ext cx="5378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22120" y="3421440"/>
              <a:ext cx="39348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653360" y="3488400"/>
              <a:ext cx="39492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87120" y="355464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21600" y="3623040"/>
              <a:ext cx="39204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722120" y="4024080"/>
              <a:ext cx="39348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53360" y="4091400"/>
              <a:ext cx="39492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87120" y="415872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21600" y="4226040"/>
              <a:ext cx="39204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653360" y="4762800"/>
              <a:ext cx="394920" cy="190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587120" y="4830120"/>
              <a:ext cx="39240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521600" y="4896000"/>
              <a:ext cx="392040" cy="19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452840" y="4963320"/>
              <a:ext cx="394920" cy="19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79240" y="5696640"/>
              <a:ext cx="336600" cy="26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4246920" y="3749760"/>
              <a:ext cx="269280" cy="267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246920" y="4287960"/>
              <a:ext cx="2692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80680" y="4757760"/>
              <a:ext cx="266400" cy="334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044960" y="2745720"/>
              <a:ext cx="201960" cy="87156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46920" y="2746080"/>
              <a:ext cx="1410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594760" y="2544120"/>
              <a:ext cx="59148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syste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Mobile St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Base Station Subsystem)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ing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Transceiver Station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S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Station Controller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ing several transceiv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4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914400" y="1752480"/>
            <a:ext cx="3276720" cy="4228920"/>
            <a:chOff x="914400" y="1752480"/>
            <a:chExt cx="3276720" cy="4228920"/>
          </a:xfrm>
        </p:grpSpPr>
        <p:sp>
          <p:nvSpPr>
            <p:cNvPr id="1209" name=""/>
            <p:cNvSpPr/>
            <p:nvPr/>
          </p:nvSpPr>
          <p:spPr>
            <a:xfrm>
              <a:off x="2336040" y="1846440"/>
              <a:ext cx="0" cy="4134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662480" y="2856600"/>
              <a:ext cx="481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578600" y="3138480"/>
              <a:ext cx="4831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122200" y="4653000"/>
              <a:ext cx="270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326240" y="5307840"/>
              <a:ext cx="5151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24920" y="1752480"/>
              <a:ext cx="939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61320" y="1752480"/>
              <a:ext cx="17298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279800" y="2936160"/>
              <a:ext cx="17496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279800" y="2936160"/>
              <a:ext cx="1749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1286280" y="2659680"/>
              <a:ext cx="221400" cy="44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099800" y="2974320"/>
              <a:ext cx="6181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470600" y="3350160"/>
              <a:ext cx="24732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470600" y="3537720"/>
              <a:ext cx="2473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42920" y="23529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537560" y="23529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104840" y="322992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22960" y="341784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53200" y="3384000"/>
              <a:ext cx="48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1160" y="3417840"/>
              <a:ext cx="36180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104840" y="354312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919440" y="4608360"/>
              <a:ext cx="1226160" cy="9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279800" y="4502880"/>
              <a:ext cx="174960" cy="28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79800" y="4502880"/>
              <a:ext cx="17496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286280" y="4225680"/>
              <a:ext cx="22140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470600" y="4916520"/>
              <a:ext cx="247320" cy="18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1470600" y="5104080"/>
              <a:ext cx="2473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104840" y="479628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722960" y="4984560"/>
              <a:ext cx="36072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104840" y="5109480"/>
              <a:ext cx="36036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1532520" y="3350160"/>
              <a:ext cx="123480" cy="18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089080" y="3538080"/>
              <a:ext cx="6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089080" y="5041800"/>
              <a:ext cx="6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53200" y="4887720"/>
              <a:ext cx="480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711160" y="4921560"/>
              <a:ext cx="361800" cy="17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92600" y="3600720"/>
              <a:ext cx="0" cy="131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212560" y="4916160"/>
              <a:ext cx="0" cy="250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150280" y="3036600"/>
              <a:ext cx="556200" cy="43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1965240" y="4227120"/>
              <a:ext cx="741600" cy="75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914400" y="2222280"/>
              <a:ext cx="25966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network and switching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4290840" y="169704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14400" y="1600200"/>
            <a:ext cx="3200040" cy="4381920"/>
            <a:chOff x="914400" y="1600200"/>
            <a:chExt cx="3200040" cy="4381920"/>
          </a:xfrm>
        </p:grpSpPr>
        <p:sp>
          <p:nvSpPr>
            <p:cNvPr id="1251" name=""/>
            <p:cNvSpPr/>
            <p:nvPr/>
          </p:nvSpPr>
          <p:spPr>
            <a:xfrm>
              <a:off x="2853720" y="1684440"/>
              <a:ext cx="0" cy="4297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87000" y="1600200"/>
              <a:ext cx="1299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5040" y="273168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95040" y="507600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2840" y="2921760"/>
              <a:ext cx="0" cy="21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4400" y="2075040"/>
              <a:ext cx="31330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5840" y="1600200"/>
              <a:ext cx="121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 partn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12840" y="2270520"/>
              <a:ext cx="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212840" y="5266080"/>
              <a:ext cx="0" cy="5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93480" y="527112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36400" y="5135760"/>
              <a:ext cx="19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08160" y="5656680"/>
              <a:ext cx="12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07680" y="4940280"/>
              <a:ext cx="731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07680" y="54615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93480" y="3382920"/>
              <a:ext cx="509400" cy="129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7000" y="2921760"/>
              <a:ext cx="74520" cy="65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1287000" y="4419000"/>
              <a:ext cx="74520" cy="65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1277640" y="3760920"/>
              <a:ext cx="61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37840" y="31874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63320" y="325260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88800" y="331776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13920" y="33829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37840" y="37735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63320" y="383868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88800" y="39038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13920" y="396900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63320" y="448992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8800" y="45550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920" y="46198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9760" y="468504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34840" y="5396040"/>
              <a:ext cx="3729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809360" y="3507840"/>
              <a:ext cx="298440" cy="25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09360" y="402876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34840" y="4484520"/>
              <a:ext cx="298440" cy="32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585800" y="2531160"/>
              <a:ext cx="2235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09360" y="2531160"/>
              <a:ext cx="156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07680" y="2335680"/>
              <a:ext cx="657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dio Subsystem (RSS) comprises the cellular mobile network up to the 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Station Subsystem (BS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Transceiver Station (BTS): radio components including sender, receiver, antenna - if directed antennas are used one BTS can cover several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Station Controller (BSC): switching between BTSs, controlling BTSs, managing of network resources, mapping of radio channels (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nto terrestrial channels (A interf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S = BSC + sum(BTS) + interconn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Stations (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station communicates across Um interface (air interface) with base station transceiver in same cell as mobile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equipment (ME) – physical terminal, such as a telephone or P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includes radio transceiver, digital signal processors and subscriber identity module (S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subscriber units are generic until SIM is inse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s roam, not necessarily the subscriber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e Station Subsystem (B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S consists of base station controller and one or more base transceiver stations (B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TS defines a single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radio antenna, radio transceiver and a link to a base station controller (BS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C reserves radio frequencies, manages handoff of mobile unit from one cell to another within BSS, and controls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etwork Subsystem (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provides link between cellular network and public switched telecommunication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handoffs between cells in different B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s users and validates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worldwide roaming of mobile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element of NS is the mobile switching center (M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witching Center (MSC) Data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location register (HLR) database – stores information about each subscriber that belongs to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or location register (VLR) database – maintains information about subscribers currently physically in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center database (AuC) – used for authentication activities, holds encryption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identity register database (EIR) – keeps track of the type of equipment that exists at the mobil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DMA Format – Time Slo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l bits – allow synchronization of transmissions from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ed bits – encryp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ling bit - indicates whether block contains data or is "stole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sequence – used to adapt parameters of receiver to the current path propagation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est signal selected in case of multipath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ard bits – used to avoid overlapping with other bur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47160" y="1415520"/>
            <a:ext cx="5376240" cy="3074400"/>
            <a:chOff x="2747160" y="1415520"/>
            <a:chExt cx="5376240" cy="3074400"/>
          </a:xfrm>
        </p:grpSpPr>
        <p:grpSp>
          <p:nvGrpSpPr>
            <p:cNvPr id="107" name=""/>
            <p:cNvGrpSpPr/>
            <p:nvPr/>
          </p:nvGrpSpPr>
          <p:grpSpPr>
            <a:xfrm>
              <a:off x="4039920" y="3923280"/>
              <a:ext cx="886320" cy="554040"/>
              <a:chOff x="4039920" y="3923280"/>
              <a:chExt cx="886320" cy="554040"/>
            </a:xfrm>
          </p:grpSpPr>
          <p:sp>
            <p:nvSpPr>
              <p:cNvPr id="108" name=""/>
              <p:cNvSpPr/>
              <p:nvPr/>
            </p:nvSpPr>
            <p:spPr>
              <a:xfrm>
                <a:off x="4295160" y="3923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880" y="4477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680000" y="3926520"/>
                <a:ext cx="246240" cy="547200"/>
                <a:chOff x="4680000" y="3926520"/>
                <a:chExt cx="246240" cy="54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80000" y="3926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4680000" y="4200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039920" y="3929400"/>
                <a:ext cx="246240" cy="547200"/>
                <a:chOff x="4039920" y="3929400"/>
                <a:chExt cx="246240" cy="5472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4040280" y="3929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4039920" y="4203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" name=""/>
            <p:cNvGrpSpPr/>
            <p:nvPr/>
          </p:nvGrpSpPr>
          <p:grpSpPr>
            <a:xfrm>
              <a:off x="4677120" y="3642120"/>
              <a:ext cx="886320" cy="553680"/>
              <a:chOff x="4677120" y="3642120"/>
              <a:chExt cx="886320" cy="553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32360" y="3642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24080" y="4195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17200" y="3645360"/>
                <a:ext cx="246240" cy="547200"/>
                <a:chOff x="5317200" y="3645360"/>
                <a:chExt cx="246240" cy="547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17200" y="3645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5317200" y="3919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77120" y="3648240"/>
                <a:ext cx="246240" cy="547200"/>
                <a:chOff x="4677120" y="3648240"/>
                <a:chExt cx="246240" cy="54720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4677480" y="364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4677120" y="392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4035960" y="3371400"/>
              <a:ext cx="886680" cy="554040"/>
              <a:chOff x="4035960" y="3371400"/>
              <a:chExt cx="886680" cy="55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4291200" y="3371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83280" y="3925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676400" y="3374640"/>
                <a:ext cx="246240" cy="547200"/>
                <a:chOff x="4676400" y="3374640"/>
                <a:chExt cx="246240" cy="547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76400" y="3374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4676400" y="3648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035960" y="3377520"/>
                <a:ext cx="246240" cy="547200"/>
                <a:chOff x="4035960" y="3377520"/>
                <a:chExt cx="246240" cy="54720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4036320" y="3377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4035960" y="3651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673520" y="3090240"/>
              <a:ext cx="886320" cy="554040"/>
              <a:chOff x="4673520" y="3090240"/>
              <a:chExt cx="886320" cy="5540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28760" y="3090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0480" y="3644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313600" y="3093480"/>
                <a:ext cx="246240" cy="547200"/>
                <a:chOff x="5313600" y="3093480"/>
                <a:chExt cx="246240" cy="54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313600" y="3093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313600" y="3367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3096360"/>
                <a:ext cx="246240" cy="547200"/>
                <a:chOff x="4673520" y="3096360"/>
                <a:chExt cx="246240" cy="547200"/>
              </a:xfrm>
            </p:grpSpPr>
            <p:sp>
              <p:nvSpPr>
                <p:cNvPr id="141" name=""/>
                <p:cNvSpPr/>
                <p:nvPr/>
              </p:nvSpPr>
              <p:spPr>
                <a:xfrm flipH="1">
                  <a:off x="4673880" y="3096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4673520" y="3370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757600" y="3935880"/>
              <a:ext cx="886680" cy="554040"/>
              <a:chOff x="2757600" y="3935880"/>
              <a:chExt cx="886680" cy="554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12840" y="3935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04920" y="44899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98040" y="3939120"/>
                <a:ext cx="246240" cy="547200"/>
                <a:chOff x="3398040" y="3939120"/>
                <a:chExt cx="246240" cy="547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98040" y="3939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398040" y="4213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57600" y="3942000"/>
                <a:ext cx="246240" cy="547200"/>
                <a:chOff x="2757600" y="3942000"/>
                <a:chExt cx="246240" cy="5472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2757960" y="3942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757600" y="4215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3395160" y="3654720"/>
              <a:ext cx="886320" cy="553680"/>
              <a:chOff x="3395160" y="3654720"/>
              <a:chExt cx="886320" cy="553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0400" y="3654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2120" y="4208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035240" y="3657960"/>
                <a:ext cx="246240" cy="547200"/>
                <a:chOff x="4035240" y="3657960"/>
                <a:chExt cx="246240" cy="547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035240" y="3657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35240" y="3931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95160" y="3660840"/>
                <a:ext cx="246240" cy="547200"/>
                <a:chOff x="3395160" y="3660840"/>
                <a:chExt cx="246240" cy="5472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395520" y="3660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395160" y="3934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754000" y="3383640"/>
              <a:ext cx="886680" cy="554040"/>
              <a:chOff x="2754000" y="3383640"/>
              <a:chExt cx="886680" cy="554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09240" y="3383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01320" y="3937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394440" y="3386880"/>
                <a:ext cx="246240" cy="547200"/>
                <a:chOff x="3394440" y="3386880"/>
                <a:chExt cx="246240" cy="54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394440" y="3386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394440" y="3660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54000" y="3389760"/>
                <a:ext cx="246240" cy="547200"/>
                <a:chOff x="2754000" y="3389760"/>
                <a:chExt cx="246240" cy="5472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2754360" y="3389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754000" y="3663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3391200" y="3102480"/>
              <a:ext cx="886680" cy="553680"/>
              <a:chOff x="3391200" y="3102480"/>
              <a:chExt cx="886680" cy="55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46440" y="3102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8520" y="36561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031640" y="3105720"/>
                <a:ext cx="246240" cy="547200"/>
                <a:chOff x="4031640" y="3105720"/>
                <a:chExt cx="246240" cy="54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31640" y="3105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4031640" y="3379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391200" y="3108600"/>
                <a:ext cx="246240" cy="547200"/>
                <a:chOff x="3391200" y="3108600"/>
                <a:chExt cx="246240" cy="54720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391560" y="3108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391200" y="3382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4035960" y="2822400"/>
              <a:ext cx="886680" cy="553680"/>
              <a:chOff x="4035960" y="2822400"/>
              <a:chExt cx="886680" cy="553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291200" y="2822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83280" y="3376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676400" y="2825640"/>
                <a:ext cx="246240" cy="547200"/>
                <a:chOff x="4676400" y="2825640"/>
                <a:chExt cx="246240" cy="54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676400" y="2825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676400" y="3099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035960" y="2828520"/>
                <a:ext cx="246240" cy="547200"/>
                <a:chOff x="4035960" y="2828520"/>
                <a:chExt cx="246240" cy="5472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036320" y="2828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4035960" y="3102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4673520" y="2541240"/>
              <a:ext cx="886320" cy="554040"/>
              <a:chOff x="4673520" y="2541240"/>
              <a:chExt cx="886320" cy="554040"/>
            </a:xfrm>
          </p:grpSpPr>
          <p:sp>
            <p:nvSpPr>
              <p:cNvPr id="189" name=""/>
              <p:cNvSpPr/>
              <p:nvPr/>
            </p:nvSpPr>
            <p:spPr>
              <a:xfrm>
                <a:off x="4928760" y="2541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20480" y="3095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313600" y="2544480"/>
                <a:ext cx="246240" cy="547200"/>
                <a:chOff x="5313600" y="2544480"/>
                <a:chExt cx="246240" cy="547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313600" y="2544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5313600" y="2818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2547360"/>
                <a:ext cx="246240" cy="547200"/>
                <a:chOff x="4673520" y="2547360"/>
                <a:chExt cx="246240" cy="547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4673880" y="2547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4673520" y="2821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4032360" y="2270160"/>
              <a:ext cx="886680" cy="554040"/>
              <a:chOff x="4032360" y="2270160"/>
              <a:chExt cx="886680" cy="554040"/>
            </a:xfrm>
          </p:grpSpPr>
          <p:sp>
            <p:nvSpPr>
              <p:cNvPr id="198" name=""/>
              <p:cNvSpPr/>
              <p:nvPr/>
            </p:nvSpPr>
            <p:spPr>
              <a:xfrm>
                <a:off x="4287600" y="22701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79680" y="28242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672800" y="2273400"/>
                <a:ext cx="246240" cy="547200"/>
                <a:chOff x="4672800" y="2273400"/>
                <a:chExt cx="246240" cy="54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72800" y="2273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4672800" y="2547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032360" y="2276280"/>
                <a:ext cx="246240" cy="547200"/>
                <a:chOff x="4032360" y="2276280"/>
                <a:chExt cx="246240" cy="5472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4032720" y="227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4032360" y="255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669560" y="1989360"/>
              <a:ext cx="886680" cy="553680"/>
              <a:chOff x="4669560" y="1989360"/>
              <a:chExt cx="886680" cy="553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924800" y="1989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16880" y="2543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310000" y="1992600"/>
                <a:ext cx="246240" cy="547200"/>
                <a:chOff x="5310000" y="1992600"/>
                <a:chExt cx="246240" cy="54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10000" y="1992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5310000" y="2266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69560" y="1995480"/>
                <a:ext cx="246240" cy="547200"/>
                <a:chOff x="4669560" y="1995480"/>
                <a:chExt cx="246240" cy="54720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4669920" y="1995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4669560" y="2269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2754000" y="2835000"/>
              <a:ext cx="886680" cy="553680"/>
              <a:chOff x="2754000" y="2835000"/>
              <a:chExt cx="886680" cy="553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009240" y="2835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01320" y="3388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94440" y="2838240"/>
                <a:ext cx="246240" cy="547200"/>
                <a:chOff x="3394440" y="2838240"/>
                <a:chExt cx="246240" cy="54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94440" y="283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3394440" y="311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754000" y="2841120"/>
                <a:ext cx="246240" cy="547200"/>
                <a:chOff x="2754000" y="2841120"/>
                <a:chExt cx="246240" cy="54720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2754360" y="2841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2754000" y="3115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391200" y="2553480"/>
              <a:ext cx="886680" cy="554040"/>
              <a:chOff x="3391200" y="2553480"/>
              <a:chExt cx="886680" cy="554040"/>
            </a:xfrm>
          </p:grpSpPr>
          <p:sp>
            <p:nvSpPr>
              <p:cNvPr id="225" name=""/>
              <p:cNvSpPr/>
              <p:nvPr/>
            </p:nvSpPr>
            <p:spPr>
              <a:xfrm>
                <a:off x="3646440" y="2553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8520" y="31075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031640" y="2556720"/>
                <a:ext cx="246240" cy="547200"/>
                <a:chOff x="4031640" y="2556720"/>
                <a:chExt cx="246240" cy="54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31640" y="2556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031640" y="2830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391200" y="2559600"/>
                <a:ext cx="246240" cy="547200"/>
                <a:chOff x="3391200" y="2559600"/>
                <a:chExt cx="246240" cy="5472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3391560" y="2559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3391200" y="2833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2750400" y="2282760"/>
              <a:ext cx="886320" cy="554040"/>
              <a:chOff x="2750400" y="2282760"/>
              <a:chExt cx="886320" cy="554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005640" y="228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97360" y="283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390480" y="2286000"/>
                <a:ext cx="246240" cy="547200"/>
                <a:chOff x="3390480" y="2286000"/>
                <a:chExt cx="246240" cy="547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90480" y="228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3390480" y="255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50400" y="2288880"/>
                <a:ext cx="246240" cy="547200"/>
                <a:chOff x="2750400" y="2288880"/>
                <a:chExt cx="246240" cy="5472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750760" y="228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750400" y="256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3387600" y="2001600"/>
              <a:ext cx="886680" cy="554040"/>
              <a:chOff x="3387600" y="2001600"/>
              <a:chExt cx="886680" cy="55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3642840" y="2001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34920" y="25556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028040" y="2004840"/>
                <a:ext cx="246240" cy="547200"/>
                <a:chOff x="4028040" y="2004840"/>
                <a:chExt cx="246240" cy="547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8040" y="2004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028040" y="2278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387600" y="2007720"/>
                <a:ext cx="246240" cy="547200"/>
                <a:chOff x="3387600" y="2007720"/>
                <a:chExt cx="246240" cy="5472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387960" y="2007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3387600" y="2281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99880" y="3901680"/>
              <a:ext cx="886320" cy="553680"/>
              <a:chOff x="6599880" y="3901680"/>
              <a:chExt cx="886320" cy="553680"/>
            </a:xfrm>
          </p:grpSpPr>
          <p:sp>
            <p:nvSpPr>
              <p:cNvPr id="252" name=""/>
              <p:cNvSpPr/>
              <p:nvPr/>
            </p:nvSpPr>
            <p:spPr>
              <a:xfrm>
                <a:off x="6855120" y="3901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46840" y="4455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239960" y="3904920"/>
                <a:ext cx="246240" cy="547200"/>
                <a:chOff x="7239960" y="3904920"/>
                <a:chExt cx="246240" cy="54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9960" y="3904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239960" y="4178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599880" y="3907800"/>
                <a:ext cx="246240" cy="547200"/>
                <a:chOff x="6599880" y="3907800"/>
                <a:chExt cx="246240" cy="5472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6600240" y="3907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6599880" y="4181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7237080" y="3620520"/>
              <a:ext cx="886320" cy="554040"/>
              <a:chOff x="7237080" y="3620520"/>
              <a:chExt cx="886320" cy="5540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92320" y="362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84040" y="417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7877160" y="3623760"/>
                <a:ext cx="246240" cy="547200"/>
                <a:chOff x="7877160" y="3623760"/>
                <a:chExt cx="246240" cy="54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877160" y="362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7877160" y="389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237080" y="3626640"/>
                <a:ext cx="246240" cy="547200"/>
                <a:chOff x="7237080" y="3626640"/>
                <a:chExt cx="246240" cy="54720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7237440" y="362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7237080" y="390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6595920" y="3349800"/>
              <a:ext cx="886680" cy="553680"/>
              <a:chOff x="6595920" y="3349800"/>
              <a:chExt cx="886680" cy="55368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1160" y="3349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3240" y="39034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7236360" y="3353040"/>
                <a:ext cx="246240" cy="547200"/>
                <a:chOff x="7236360" y="3353040"/>
                <a:chExt cx="246240" cy="54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236360" y="3353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236360" y="3627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95920" y="3355920"/>
                <a:ext cx="246240" cy="547200"/>
                <a:chOff x="6595920" y="3355920"/>
                <a:chExt cx="246240" cy="54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6596280" y="3355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6595920" y="3629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7233480" y="3068280"/>
              <a:ext cx="886320" cy="554040"/>
              <a:chOff x="7233480" y="3068280"/>
              <a:chExt cx="886320" cy="554040"/>
            </a:xfrm>
          </p:grpSpPr>
          <p:sp>
            <p:nvSpPr>
              <p:cNvPr id="279" name=""/>
              <p:cNvSpPr/>
              <p:nvPr/>
            </p:nvSpPr>
            <p:spPr>
              <a:xfrm>
                <a:off x="7488720" y="306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80440" y="362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873560" y="3071520"/>
                <a:ext cx="246240" cy="547200"/>
                <a:chOff x="7873560" y="3071520"/>
                <a:chExt cx="246240" cy="547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873560" y="307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7873560" y="334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233480" y="3074400"/>
                <a:ext cx="246240" cy="547200"/>
                <a:chOff x="7233480" y="3074400"/>
                <a:chExt cx="246240" cy="54720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7233840" y="307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7233480" y="334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5317560" y="3913920"/>
              <a:ext cx="886680" cy="554040"/>
              <a:chOff x="5317560" y="3913920"/>
              <a:chExt cx="886680" cy="55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572800" y="3913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4880" y="44679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958000" y="3917160"/>
                <a:ext cx="246240" cy="547200"/>
                <a:chOff x="5958000" y="3917160"/>
                <a:chExt cx="246240" cy="547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958000" y="3917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958000" y="4191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317560" y="3920040"/>
                <a:ext cx="246240" cy="547200"/>
                <a:chOff x="5317560" y="3920040"/>
                <a:chExt cx="246240" cy="5472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5317920" y="3920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5317560" y="4194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55120" y="3632760"/>
              <a:ext cx="886320" cy="554040"/>
              <a:chOff x="5955120" y="3632760"/>
              <a:chExt cx="886320" cy="554040"/>
            </a:xfrm>
          </p:grpSpPr>
          <p:sp>
            <p:nvSpPr>
              <p:cNvPr id="297" name=""/>
              <p:cNvSpPr/>
              <p:nvPr/>
            </p:nvSpPr>
            <p:spPr>
              <a:xfrm>
                <a:off x="6210360" y="363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02080" y="418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595200" y="3636000"/>
                <a:ext cx="246240" cy="547200"/>
                <a:chOff x="6595200" y="3636000"/>
                <a:chExt cx="246240" cy="547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95200" y="363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595200" y="390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955120" y="3638880"/>
                <a:ext cx="246240" cy="547200"/>
                <a:chOff x="5955120" y="3638880"/>
                <a:chExt cx="246240" cy="5472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5955480" y="363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5955120" y="391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5314320" y="3362040"/>
              <a:ext cx="886680" cy="553680"/>
              <a:chOff x="5314320" y="3362040"/>
              <a:chExt cx="886680" cy="553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569560" y="3362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61640" y="39157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954760" y="3365280"/>
                <a:ext cx="246240" cy="547200"/>
                <a:chOff x="5954760" y="3365280"/>
                <a:chExt cx="246240" cy="547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954760" y="3365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954760" y="3639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314320" y="3368160"/>
                <a:ext cx="246240" cy="547200"/>
                <a:chOff x="5314320" y="3368160"/>
                <a:chExt cx="246240" cy="5472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5314680" y="3368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5314320" y="3642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5951520" y="3080880"/>
              <a:ext cx="886320" cy="554040"/>
              <a:chOff x="5951520" y="3080880"/>
              <a:chExt cx="886320" cy="554040"/>
            </a:xfrm>
          </p:grpSpPr>
          <p:sp>
            <p:nvSpPr>
              <p:cNvPr id="315" name=""/>
              <p:cNvSpPr/>
              <p:nvPr/>
            </p:nvSpPr>
            <p:spPr>
              <a:xfrm>
                <a:off x="6206760" y="3080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8480" y="3634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6591600" y="3084120"/>
                <a:ext cx="246240" cy="547200"/>
                <a:chOff x="6591600" y="3084120"/>
                <a:chExt cx="246240" cy="5472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591600" y="3084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6591600" y="3358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951520" y="3087000"/>
                <a:ext cx="246240" cy="547200"/>
                <a:chOff x="5951520" y="3087000"/>
                <a:chExt cx="246240" cy="54720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5951880" y="3087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5951520" y="3360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6595920" y="2800800"/>
              <a:ext cx="886680" cy="554040"/>
              <a:chOff x="6595920" y="2800800"/>
              <a:chExt cx="886680" cy="5540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1160" y="280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43240" y="335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236360" y="2804040"/>
                <a:ext cx="246240" cy="547200"/>
                <a:chOff x="7236360" y="2804040"/>
                <a:chExt cx="246240" cy="547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236360" y="280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7236360" y="307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95920" y="2806920"/>
                <a:ext cx="246240" cy="547200"/>
                <a:chOff x="6595920" y="2806920"/>
                <a:chExt cx="246240" cy="54720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6596280" y="280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6595920" y="308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233480" y="2519640"/>
              <a:ext cx="886320" cy="553680"/>
              <a:chOff x="7233480" y="2519640"/>
              <a:chExt cx="886320" cy="553680"/>
            </a:xfrm>
          </p:grpSpPr>
          <p:sp>
            <p:nvSpPr>
              <p:cNvPr id="333" name=""/>
              <p:cNvSpPr/>
              <p:nvPr/>
            </p:nvSpPr>
            <p:spPr>
              <a:xfrm>
                <a:off x="7488720" y="2519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0440" y="3073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7873560" y="2522880"/>
                <a:ext cx="246240" cy="547200"/>
                <a:chOff x="7873560" y="2522880"/>
                <a:chExt cx="246240" cy="547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873560" y="2522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873560" y="2796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3480" y="2525760"/>
                <a:ext cx="246240" cy="547200"/>
                <a:chOff x="7233480" y="2525760"/>
                <a:chExt cx="246240" cy="54720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7233840" y="2525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7233480" y="2799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6592320" y="2248560"/>
              <a:ext cx="886680" cy="554040"/>
              <a:chOff x="6592320" y="2248560"/>
              <a:chExt cx="886680" cy="55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847560" y="2248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39640" y="28026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32760" y="2251800"/>
                <a:ext cx="246240" cy="547200"/>
                <a:chOff x="7232760" y="2251800"/>
                <a:chExt cx="246240" cy="5472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232760" y="2251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7232760" y="2525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92320" y="2254680"/>
                <a:ext cx="246240" cy="547200"/>
                <a:chOff x="6592320" y="2254680"/>
                <a:chExt cx="246240" cy="547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592680" y="22546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6592320" y="25286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29520" y="1967400"/>
              <a:ext cx="886680" cy="554040"/>
              <a:chOff x="7229520" y="1967400"/>
              <a:chExt cx="886680" cy="554040"/>
            </a:xfrm>
          </p:grpSpPr>
          <p:sp>
            <p:nvSpPr>
              <p:cNvPr id="351" name=""/>
              <p:cNvSpPr/>
              <p:nvPr/>
            </p:nvSpPr>
            <p:spPr>
              <a:xfrm>
                <a:off x="7484760" y="1967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76840" y="2521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869960" y="1970640"/>
                <a:ext cx="246240" cy="547200"/>
                <a:chOff x="7869960" y="1970640"/>
                <a:chExt cx="246240" cy="547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869960" y="1970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869960" y="2244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229520" y="1973520"/>
                <a:ext cx="246240" cy="547200"/>
                <a:chOff x="7229520" y="1973520"/>
                <a:chExt cx="246240" cy="5472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229880" y="1973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7229520" y="2247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314320" y="2813040"/>
              <a:ext cx="886680" cy="554040"/>
              <a:chOff x="5314320" y="2813040"/>
              <a:chExt cx="886680" cy="554040"/>
            </a:xfrm>
          </p:grpSpPr>
          <p:sp>
            <p:nvSpPr>
              <p:cNvPr id="360" name=""/>
              <p:cNvSpPr/>
              <p:nvPr/>
            </p:nvSpPr>
            <p:spPr>
              <a:xfrm>
                <a:off x="5569560" y="2813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61640" y="3367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954760" y="2816280"/>
                <a:ext cx="246240" cy="547200"/>
                <a:chOff x="5954760" y="2816280"/>
                <a:chExt cx="246240" cy="547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54760" y="281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954760" y="309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314320" y="2819160"/>
                <a:ext cx="246240" cy="547200"/>
                <a:chOff x="5314320" y="2819160"/>
                <a:chExt cx="246240" cy="54720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5314680" y="2819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5314320" y="3093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5951520" y="2531880"/>
              <a:ext cx="886320" cy="553680"/>
              <a:chOff x="5951520" y="2531880"/>
              <a:chExt cx="886320" cy="55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6206760" y="2531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98480" y="3085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591600" y="2535120"/>
                <a:ext cx="246240" cy="547200"/>
                <a:chOff x="6591600" y="2535120"/>
                <a:chExt cx="246240" cy="547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91600" y="2535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591600" y="2809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951520" y="2538000"/>
                <a:ext cx="246240" cy="547200"/>
                <a:chOff x="5951520" y="2538000"/>
                <a:chExt cx="246240" cy="5472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5951880" y="2538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951520" y="2811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5310720" y="2260800"/>
              <a:ext cx="886680" cy="554040"/>
              <a:chOff x="5310720" y="2260800"/>
              <a:chExt cx="886680" cy="554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5960" y="226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8040" y="281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5951160" y="2264040"/>
                <a:ext cx="246240" cy="547200"/>
                <a:chOff x="5951160" y="2264040"/>
                <a:chExt cx="246240" cy="547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951160" y="226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5951160" y="253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310720" y="2266920"/>
                <a:ext cx="246240" cy="547200"/>
                <a:chOff x="5310720" y="2266920"/>
                <a:chExt cx="246240" cy="547200"/>
              </a:xfrm>
            </p:grpSpPr>
            <p:sp>
              <p:nvSpPr>
                <p:cNvPr id="384" name=""/>
                <p:cNvSpPr/>
                <p:nvPr/>
              </p:nvSpPr>
              <p:spPr>
                <a:xfrm flipH="1">
                  <a:off x="5311080" y="226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5310720" y="254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5947920" y="1980000"/>
              <a:ext cx="886680" cy="554040"/>
              <a:chOff x="5947920" y="1980000"/>
              <a:chExt cx="886680" cy="554040"/>
            </a:xfrm>
          </p:grpSpPr>
          <p:sp>
            <p:nvSpPr>
              <p:cNvPr id="387" name=""/>
              <p:cNvSpPr/>
              <p:nvPr/>
            </p:nvSpPr>
            <p:spPr>
              <a:xfrm>
                <a:off x="6203160" y="1980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95240" y="2534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6588360" y="1983240"/>
                <a:ext cx="246240" cy="547200"/>
                <a:chOff x="6588360" y="1983240"/>
                <a:chExt cx="246240" cy="547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588360" y="198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588360" y="225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947920" y="1986120"/>
                <a:ext cx="246240" cy="547200"/>
                <a:chOff x="5947920" y="1986120"/>
                <a:chExt cx="246240" cy="54720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5948280" y="1986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5947920" y="2260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028760" y="1718280"/>
              <a:ext cx="886320" cy="554040"/>
              <a:chOff x="4028760" y="1718280"/>
              <a:chExt cx="886320" cy="55404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4000" y="171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75720" y="227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4668840" y="1721520"/>
                <a:ext cx="246240" cy="547200"/>
                <a:chOff x="4668840" y="1721520"/>
                <a:chExt cx="246240" cy="547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668840" y="172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4668840" y="199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028760" y="1724400"/>
                <a:ext cx="246240" cy="547200"/>
                <a:chOff x="4028760" y="1724400"/>
                <a:chExt cx="246240" cy="54720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4029120" y="172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028760" y="199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665960" y="1437120"/>
              <a:ext cx="886680" cy="553680"/>
              <a:chOff x="4665960" y="1437120"/>
              <a:chExt cx="886680" cy="55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921200" y="1437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13280" y="1990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5306400" y="1440360"/>
                <a:ext cx="246240" cy="547200"/>
                <a:chOff x="5306400" y="1440360"/>
                <a:chExt cx="246240" cy="547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06400" y="1440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5306400" y="1714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665960" y="1443240"/>
                <a:ext cx="246240" cy="547200"/>
                <a:chOff x="4665960" y="1443240"/>
                <a:chExt cx="246240" cy="5472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4666320" y="144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665960" y="171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2747160" y="1730520"/>
              <a:ext cx="886320" cy="554040"/>
              <a:chOff x="2747160" y="1730520"/>
              <a:chExt cx="886320" cy="554040"/>
            </a:xfrm>
          </p:grpSpPr>
          <p:sp>
            <p:nvSpPr>
              <p:cNvPr id="414" name=""/>
              <p:cNvSpPr/>
              <p:nvPr/>
            </p:nvSpPr>
            <p:spPr>
              <a:xfrm>
                <a:off x="3002400" y="173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94120" y="228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387240" y="1733760"/>
                <a:ext cx="246240" cy="547200"/>
                <a:chOff x="3387240" y="1733760"/>
                <a:chExt cx="246240" cy="547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387240" y="173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3387240" y="200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47160" y="1736640"/>
                <a:ext cx="246240" cy="547200"/>
                <a:chOff x="2747160" y="1736640"/>
                <a:chExt cx="246240" cy="5472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2747520" y="173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2747160" y="201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3384360" y="1449720"/>
              <a:ext cx="886680" cy="553680"/>
              <a:chOff x="3384360" y="1449720"/>
              <a:chExt cx="886680" cy="55368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9600" y="1449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1680" y="20034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024800" y="1452960"/>
                <a:ext cx="246240" cy="547200"/>
                <a:chOff x="4024800" y="1452960"/>
                <a:chExt cx="246240" cy="547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4800" y="1452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4800" y="1726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384360" y="1455840"/>
                <a:ext cx="246240" cy="547200"/>
                <a:chOff x="3384360" y="1455840"/>
                <a:chExt cx="246240" cy="5472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3384720" y="1455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3384360" y="1729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6588720" y="1696680"/>
              <a:ext cx="886320" cy="553680"/>
              <a:chOff x="6588720" y="1696680"/>
              <a:chExt cx="886320" cy="553680"/>
            </a:xfrm>
          </p:grpSpPr>
          <p:sp>
            <p:nvSpPr>
              <p:cNvPr id="432" name=""/>
              <p:cNvSpPr/>
              <p:nvPr/>
            </p:nvSpPr>
            <p:spPr>
              <a:xfrm>
                <a:off x="6843960" y="1696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35680" y="2250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228800" y="1699920"/>
                <a:ext cx="246240" cy="547200"/>
                <a:chOff x="7228800" y="1699920"/>
                <a:chExt cx="246240" cy="547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228800" y="1699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7228800" y="1973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88720" y="1702800"/>
                <a:ext cx="246240" cy="547200"/>
                <a:chOff x="6588720" y="1702800"/>
                <a:chExt cx="246240" cy="54720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6589080" y="1702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6588720" y="1976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7225920" y="1415520"/>
              <a:ext cx="886680" cy="554040"/>
              <a:chOff x="7225920" y="1415520"/>
              <a:chExt cx="886680" cy="554040"/>
            </a:xfrm>
          </p:grpSpPr>
          <p:sp>
            <p:nvSpPr>
              <p:cNvPr id="441" name=""/>
              <p:cNvSpPr/>
              <p:nvPr/>
            </p:nvSpPr>
            <p:spPr>
              <a:xfrm>
                <a:off x="7481160" y="1415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73240" y="19695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7866360" y="1418760"/>
                <a:ext cx="246240" cy="547200"/>
                <a:chOff x="7866360" y="1418760"/>
                <a:chExt cx="246240" cy="54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866360" y="1418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7866360" y="1692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25920" y="1421640"/>
                <a:ext cx="246240" cy="547200"/>
                <a:chOff x="7225920" y="1421640"/>
                <a:chExt cx="246240" cy="54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7226280" y="1421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7225920" y="1695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5307120" y="1708920"/>
              <a:ext cx="886320" cy="553680"/>
              <a:chOff x="5307120" y="1708920"/>
              <a:chExt cx="886320" cy="553680"/>
            </a:xfrm>
          </p:grpSpPr>
          <p:sp>
            <p:nvSpPr>
              <p:cNvPr id="450" name=""/>
              <p:cNvSpPr/>
              <p:nvPr/>
            </p:nvSpPr>
            <p:spPr>
              <a:xfrm>
                <a:off x="5562360" y="1708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54080" y="2262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947200" y="1712160"/>
                <a:ext cx="246240" cy="547200"/>
                <a:chOff x="5947200" y="1712160"/>
                <a:chExt cx="246240" cy="547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947200" y="1712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5947200" y="1986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307120" y="1715040"/>
                <a:ext cx="246240" cy="547200"/>
                <a:chOff x="5307120" y="1715040"/>
                <a:chExt cx="246240" cy="5472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5307480" y="1715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307120" y="1989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944320" y="1427760"/>
              <a:ext cx="886680" cy="554040"/>
              <a:chOff x="5944320" y="1427760"/>
              <a:chExt cx="886680" cy="554040"/>
            </a:xfrm>
          </p:grpSpPr>
          <p:sp>
            <p:nvSpPr>
              <p:cNvPr id="459" name=""/>
              <p:cNvSpPr/>
              <p:nvPr/>
            </p:nvSpPr>
            <p:spPr>
              <a:xfrm>
                <a:off x="6199560" y="1427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640" y="1981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584760" y="1431000"/>
                <a:ext cx="246240" cy="547200"/>
                <a:chOff x="6584760" y="1431000"/>
                <a:chExt cx="246240" cy="547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584760" y="1431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6584760" y="1704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944320" y="1433880"/>
                <a:ext cx="246240" cy="547200"/>
                <a:chOff x="5944320" y="1433880"/>
                <a:chExt cx="246240" cy="54720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5944680" y="1433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944320" y="1707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peech Signal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1219320" y="1733400"/>
            <a:ext cx="5638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ignaling 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914400" y="1368360"/>
            <a:ext cx="7315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unctions Provided by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bove the link layer of the GSM signaling protocol architecture provide specific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pplication part (M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protocol layers for sign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1" name=""/>
          <p:cNvCxnSpPr>
            <a:stCxn id="1313" idx="2"/>
            <a:endCxn id="1315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2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"/>
          <p:cNvCxnSpPr>
            <a:stCxn id="1317" idx="2"/>
            <a:endCxn id="1324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6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2"/>
            <a:endCxn id="1337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39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Term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4697280" y="3187800"/>
            <a:ext cx="1365480" cy="763560"/>
            <a:chOff x="4697280" y="3187800"/>
            <a:chExt cx="1365480" cy="763560"/>
          </a:xfrm>
        </p:grpSpPr>
        <p:graphicFrame>
          <p:nvGraphicFramePr>
            <p:cNvPr id="1348" name=""/>
            <p:cNvGraphicFramePr/>
            <p:nvPr/>
          </p:nvGraphicFramePr>
          <p:xfrm>
            <a:off x="4697280" y="318780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318780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0" name=""/>
            <p:cNvSpPr/>
            <p:nvPr/>
          </p:nvSpPr>
          <p:spPr>
            <a:xfrm>
              <a:off x="5002200" y="341640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82880" y="335268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297480" y="341640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297480" y="24256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64520" y="242568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8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1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068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364520" y="341640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8355600" y="4493160"/>
            <a:ext cx="609120" cy="606960"/>
            <a:chOff x="8355600" y="4493160"/>
            <a:chExt cx="609120" cy="606960"/>
          </a:xfrm>
        </p:grpSpPr>
        <p:sp>
          <p:nvSpPr>
            <p:cNvPr id="1360" name=""/>
            <p:cNvSpPr/>
            <p:nvPr/>
          </p:nvSpPr>
          <p:spPr>
            <a:xfrm rot="5400000">
              <a:off x="8356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8429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8504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288200" y="570240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1" idx="3"/>
          </p:cNvCxnSpPr>
          <p:nvPr/>
        </p:nvCxnSpPr>
        <p:spPr>
          <a:xfrm flipH="1">
            <a:off x="4479480" y="3570120"/>
            <a:ext cx="2181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65" name=""/>
          <p:cNvCxnSpPr>
            <a:endCxn id="1352" idx="1"/>
          </p:cNvCxnSpPr>
          <p:nvPr/>
        </p:nvCxnSpPr>
        <p:spPr>
          <a:xfrm>
            <a:off x="6062760" y="3570120"/>
            <a:ext cx="235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2"/>
            <a:endCxn id="1357" idx="0"/>
          </p:cNvCxnSpPr>
          <p:nvPr/>
        </p:nvCxnSpPr>
        <p:spPr>
          <a:xfrm flipH="1">
            <a:off x="6346080" y="3733560"/>
            <a:ext cx="132300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7" name=""/>
          <p:cNvCxnSpPr>
            <a:stCxn id="1358" idx="2"/>
            <a:endCxn id="1355" idx="0"/>
          </p:cNvCxnSpPr>
          <p:nvPr/>
        </p:nvCxnSpPr>
        <p:spPr>
          <a:xfrm>
            <a:off x="7669080" y="3733560"/>
            <a:ext cx="99144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8" name=""/>
          <p:cNvCxnSpPr>
            <a:stCxn id="1358" idx="2"/>
            <a:endCxn id="1356" idx="0"/>
          </p:cNvCxnSpPr>
          <p:nvPr/>
        </p:nvCxnSpPr>
        <p:spPr>
          <a:xfrm flipH="1">
            <a:off x="7489440" y="3733560"/>
            <a:ext cx="18000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9" name=""/>
          <p:cNvCxnSpPr>
            <a:stCxn id="1354" idx="2"/>
            <a:endCxn id="1358" idx="0"/>
          </p:cNvCxnSpPr>
          <p:nvPr/>
        </p:nvCxnSpPr>
        <p:spPr>
          <a:xfrm>
            <a:off x="7668720" y="27302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0" name=""/>
          <p:cNvCxnSpPr>
            <a:stCxn id="1352" idx="3"/>
            <a:endCxn id="1358" idx="1"/>
          </p:cNvCxnSpPr>
          <p:nvPr/>
        </p:nvCxnSpPr>
        <p:spPr>
          <a:xfrm>
            <a:off x="6982920" y="35748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352" idx="0"/>
            <a:endCxn id="1353" idx="2"/>
          </p:cNvCxnSpPr>
          <p:nvPr/>
        </p:nvCxnSpPr>
        <p:spPr>
          <a:xfrm flipV="1">
            <a:off x="6640200" y="2742840"/>
            <a:ext cx="108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2" name=""/>
          <p:cNvCxnSpPr>
            <a:stCxn id="1353" idx="3"/>
            <a:endCxn id="1354" idx="1"/>
          </p:cNvCxnSpPr>
          <p:nvPr/>
        </p:nvCxnSpPr>
        <p:spPr>
          <a:xfrm flipV="1">
            <a:off x="6982920" y="257760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373" name=""/>
          <p:cNvGrpSpPr/>
          <p:nvPr/>
        </p:nvGrpSpPr>
        <p:grpSpPr>
          <a:xfrm>
            <a:off x="7212600" y="4493160"/>
            <a:ext cx="609120" cy="606960"/>
            <a:chOff x="7212600" y="4493160"/>
            <a:chExt cx="609120" cy="606960"/>
          </a:xfrm>
        </p:grpSpPr>
        <p:sp>
          <p:nvSpPr>
            <p:cNvPr id="1374" name=""/>
            <p:cNvSpPr/>
            <p:nvPr/>
          </p:nvSpPr>
          <p:spPr>
            <a:xfrm rot="5400000">
              <a:off x="7213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400000">
              <a:off x="7286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7361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69600" y="4493160"/>
            <a:ext cx="609120" cy="606960"/>
            <a:chOff x="6069600" y="4493160"/>
            <a:chExt cx="609120" cy="606960"/>
          </a:xfrm>
        </p:grpSpPr>
        <p:sp>
          <p:nvSpPr>
            <p:cNvPr id="1378" name=""/>
            <p:cNvSpPr/>
            <p:nvPr/>
          </p:nvSpPr>
          <p:spPr>
            <a:xfrm rot="5400000">
              <a:off x="6070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5400000">
              <a:off x="6143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5400000">
              <a:off x="6218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1" name=""/>
          <p:cNvCxnSpPr>
            <a:stCxn id="1363" idx="0"/>
          </p:cNvCxnSpPr>
          <p:nvPr/>
        </p:nvCxnSpPr>
        <p:spPr>
          <a:xfrm flipV="1">
            <a:off x="7519680" y="510156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2" name=""/>
          <p:cNvSpPr/>
          <p:nvPr/>
        </p:nvSpPr>
        <p:spPr>
          <a:xfrm>
            <a:off x="447048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99436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756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61400" y="227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061400" y="257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042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85080" y="326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659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67088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6038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3736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1824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182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18240" y="4102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213320" y="394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12772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46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289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32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8964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7052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18240" y="539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3978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 calling a GS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: forwarding call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: signal call setup to H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 5: request MSRN from V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: forward responsi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MSC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: forward call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, 9: get current status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 11: paging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 13: MS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, 15: security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 17: set u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Orig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407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9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endCxn id="1410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6" name=""/>
          <p:cNvCxnSpPr>
            <a:stCxn id="1413" idx="2"/>
            <a:endCxn id="1412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7" name=""/>
          <p:cNvCxnSpPr>
            <a:stCxn id="1411" idx="2"/>
            <a:endCxn id="1413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18" name=""/>
          <p:cNvCxnSpPr>
            <a:stCxn id="1410" idx="3"/>
            <a:endCxn id="1413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9" name=""/>
          <p:cNvCxnSpPr>
            <a:stCxn id="1414" idx="3"/>
            <a:endCxn id="1412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0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2: connec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4: security ch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: check resources (free circu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-10: set up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7628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C/M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1595160" y="1371600"/>
            <a:ext cx="5573880" cy="5105160"/>
            <a:chOff x="1595160" y="1371600"/>
            <a:chExt cx="5573880" cy="5105160"/>
          </a:xfrm>
        </p:grpSpPr>
        <p:sp>
          <p:nvSpPr>
            <p:cNvPr id="1434" name=""/>
            <p:cNvSpPr/>
            <p:nvPr/>
          </p:nvSpPr>
          <p:spPr>
            <a:xfrm>
              <a:off x="361440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216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9516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21600" y="1946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92520" y="16588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898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60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89180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160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9144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82160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892160" y="25218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2160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8928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2160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889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2160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9180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82160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918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2160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946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2160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9288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82160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9108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2160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9108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82160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946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2160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9432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2160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89108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2160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892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64236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4992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2384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1848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4992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2084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4992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2012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4992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0480" y="25218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4992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1832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4992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9183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992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2156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4992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212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4992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240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4992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192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4992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2084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4992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1976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4992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240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4992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300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4992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1976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4992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186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87960" y="13716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91160" y="13716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 types of hand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6" name=""/>
          <p:cNvCxnSpPr>
            <a:stCxn id="1507" idx="3"/>
            <a:endCxn id="1508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7" name=""/>
          <p:cNvCxnSpPr>
            <a:stCxn id="1507" idx="0"/>
            <a:endCxn id="1509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stCxn id="1507" idx="1"/>
            <a:endCxn id="1511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stCxn id="1511" idx="1"/>
            <a:endCxn id="1515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0" name=""/>
          <p:cNvCxnSpPr>
            <a:stCxn id="1511" idx="0"/>
            <a:endCxn id="1512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1" name=""/>
          <p:cNvCxnSpPr>
            <a:stCxn id="1509" idx="0"/>
            <a:endCxn id="1513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2" name=""/>
          <p:cNvCxnSpPr>
            <a:stCxn id="1510" idx="0"/>
            <a:endCxn id="1514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3" name=""/>
          <p:cNvCxnSpPr>
            <a:stCxn id="1508" idx="0"/>
            <a:endCxn id="1510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4" name=""/>
          <p:cNvCxnSpPr>
            <a:stCxn id="1508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5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"/>
          <p:cNvCxnSpPr>
            <a:stCxn id="1515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"/>
          <p:cNvCxnSpPr>
            <a:stCxn id="1512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1" name=""/>
          <p:cNvCxnSpPr>
            <a:stCxn id="1513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2" name=""/>
          <p:cNvCxnSpPr>
            <a:stCxn id="1514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3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7" name=""/>
          <p:cNvCxnSpPr>
            <a:stCxn id="1533" idx="0"/>
            <a:endCxn id="1534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8" name=""/>
          <p:cNvCxnSpPr>
            <a:stCxn id="1533" idx="0"/>
            <a:endCxn id="1535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9" name=""/>
          <p:cNvCxnSpPr>
            <a:stCxn id="1533" idx="0"/>
            <a:endCxn id="1536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40" name=""/>
          <p:cNvCxnSpPr>
            <a:stCxn id="1533" idx="0"/>
            <a:endCxn id="1533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3" name=""/>
          <p:cNvCxnSpPr>
            <a:stCxn id="1551" idx="6"/>
            <a:endCxn id="1552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54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11680" y="44956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59840" y="193212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39360" y="193212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14400" y="5105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6576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84200" y="22096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314160" y="193212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292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96440" y="48006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789800" y="19051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14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6320" y="1932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914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2600" y="21337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95480" y="28195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5760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732840" y="304812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72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421760" y="193212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0292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04080" y="31240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8680" y="35053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0080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97560" y="373392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00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440" y="403848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292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025960" y="41148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6576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33200" y="41911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600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361600" y="42670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9144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90000" y="43434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008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476040" y="51055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29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104440" y="51814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576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55440" y="5257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3840" y="5334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3480" y="56386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6576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5080" y="57150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97400" y="5458680"/>
            <a:ext cx="1220040" cy="850680"/>
            <a:chOff x="2597400" y="5458680"/>
            <a:chExt cx="1220040" cy="850680"/>
          </a:xfrm>
        </p:grpSpPr>
        <p:sp>
          <p:nvSpPr>
            <p:cNvPr id="469" name=""/>
            <p:cNvSpPr/>
            <p:nvPr/>
          </p:nvSpPr>
          <p:spPr>
            <a:xfrm>
              <a:off x="2959920" y="545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49480" y="63093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38720" y="5463360"/>
              <a:ext cx="378720" cy="841320"/>
              <a:chOff x="3438720" y="5463360"/>
              <a:chExt cx="378720" cy="841320"/>
            </a:xfrm>
          </p:grpSpPr>
          <p:sp>
            <p:nvSpPr>
              <p:cNvPr id="472" name=""/>
              <p:cNvSpPr/>
              <p:nvPr/>
            </p:nvSpPr>
            <p:spPr>
              <a:xfrm>
                <a:off x="3438720" y="546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439440" y="588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97400" y="5467680"/>
              <a:ext cx="378720" cy="841320"/>
              <a:chOff x="2597400" y="5467680"/>
              <a:chExt cx="378720" cy="84132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598120" y="546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597400" y="588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3435480" y="5027040"/>
            <a:ext cx="1220040" cy="850680"/>
            <a:chOff x="3435480" y="5027040"/>
            <a:chExt cx="1220040" cy="850680"/>
          </a:xfrm>
        </p:grpSpPr>
        <p:sp>
          <p:nvSpPr>
            <p:cNvPr id="478" name=""/>
            <p:cNvSpPr/>
            <p:nvPr/>
          </p:nvSpPr>
          <p:spPr>
            <a:xfrm>
              <a:off x="3798000" y="502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7560" y="587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276800" y="5031720"/>
              <a:ext cx="378720" cy="841320"/>
              <a:chOff x="4276800" y="5031720"/>
              <a:chExt cx="378720" cy="841320"/>
            </a:xfrm>
          </p:grpSpPr>
          <p:sp>
            <p:nvSpPr>
              <p:cNvPr id="481" name=""/>
              <p:cNvSpPr/>
              <p:nvPr/>
            </p:nvSpPr>
            <p:spPr>
              <a:xfrm>
                <a:off x="4276800" y="503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77520" y="545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435480" y="5036040"/>
              <a:ext cx="378720" cy="841320"/>
              <a:chOff x="3435480" y="5036040"/>
              <a:chExt cx="378720" cy="84132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3436200" y="503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3435480" y="545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2592720" y="4611240"/>
            <a:ext cx="1219680" cy="850320"/>
            <a:chOff x="2592720" y="4611240"/>
            <a:chExt cx="1219680" cy="850320"/>
          </a:xfrm>
        </p:grpSpPr>
        <p:sp>
          <p:nvSpPr>
            <p:cNvPr id="487" name=""/>
            <p:cNvSpPr/>
            <p:nvPr/>
          </p:nvSpPr>
          <p:spPr>
            <a:xfrm>
              <a:off x="2955240" y="4611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44440" y="546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34040" y="4615920"/>
              <a:ext cx="378360" cy="840240"/>
              <a:chOff x="3434040" y="4615920"/>
              <a:chExt cx="378360" cy="840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34040" y="4615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434760" y="503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592720" y="4620240"/>
              <a:ext cx="378360" cy="840240"/>
              <a:chOff x="2592720" y="4620240"/>
              <a:chExt cx="378360" cy="84024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2593440" y="462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2592720" y="504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430800" y="4179240"/>
            <a:ext cx="1220040" cy="850680"/>
            <a:chOff x="3430800" y="4179240"/>
            <a:chExt cx="1220040" cy="850680"/>
          </a:xfrm>
        </p:grpSpPr>
        <p:sp>
          <p:nvSpPr>
            <p:cNvPr id="496" name=""/>
            <p:cNvSpPr/>
            <p:nvPr/>
          </p:nvSpPr>
          <p:spPr>
            <a:xfrm>
              <a:off x="3793320" y="41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82880" y="50299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272120" y="4183920"/>
              <a:ext cx="378720" cy="841320"/>
              <a:chOff x="4272120" y="4183920"/>
              <a:chExt cx="378720" cy="841320"/>
            </a:xfrm>
          </p:grpSpPr>
          <p:sp>
            <p:nvSpPr>
              <p:cNvPr id="499" name=""/>
              <p:cNvSpPr/>
              <p:nvPr/>
            </p:nvSpPr>
            <p:spPr>
              <a:xfrm>
                <a:off x="4272120" y="41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272840" y="46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430800" y="4188240"/>
              <a:ext cx="378720" cy="841320"/>
              <a:chOff x="3430800" y="4188240"/>
              <a:chExt cx="378720" cy="84132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3431520" y="41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3430800" y="46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11520" y="5477760"/>
            <a:ext cx="1220040" cy="850680"/>
            <a:chOff x="911520" y="5477760"/>
            <a:chExt cx="1220040" cy="850680"/>
          </a:xfrm>
        </p:grpSpPr>
        <p:sp>
          <p:nvSpPr>
            <p:cNvPr id="505" name=""/>
            <p:cNvSpPr/>
            <p:nvPr/>
          </p:nvSpPr>
          <p:spPr>
            <a:xfrm>
              <a:off x="1274040" y="54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63600" y="6328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52840" y="5482440"/>
              <a:ext cx="378720" cy="841320"/>
              <a:chOff x="1752840" y="5482440"/>
              <a:chExt cx="378720" cy="841320"/>
            </a:xfrm>
          </p:grpSpPr>
          <p:sp>
            <p:nvSpPr>
              <p:cNvPr id="508" name=""/>
              <p:cNvSpPr/>
              <p:nvPr/>
            </p:nvSpPr>
            <p:spPr>
              <a:xfrm>
                <a:off x="1752840" y="54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53560" y="59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1520" y="5486760"/>
              <a:ext cx="378720" cy="841320"/>
              <a:chOff x="911520" y="5486760"/>
              <a:chExt cx="378720" cy="841320"/>
            </a:xfrm>
          </p:grpSpPr>
          <p:sp>
            <p:nvSpPr>
              <p:cNvPr id="511" name=""/>
              <p:cNvSpPr/>
              <p:nvPr/>
            </p:nvSpPr>
            <p:spPr>
              <a:xfrm flipH="1">
                <a:off x="912240" y="54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911520" y="59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749600" y="5046120"/>
            <a:ext cx="1220040" cy="850680"/>
            <a:chOff x="1749600" y="5046120"/>
            <a:chExt cx="1220040" cy="850680"/>
          </a:xfrm>
        </p:grpSpPr>
        <p:sp>
          <p:nvSpPr>
            <p:cNvPr id="514" name=""/>
            <p:cNvSpPr/>
            <p:nvPr/>
          </p:nvSpPr>
          <p:spPr>
            <a:xfrm>
              <a:off x="2112120" y="50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01680" y="589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590920" y="5050800"/>
              <a:ext cx="378720" cy="841320"/>
              <a:chOff x="2590920" y="5050800"/>
              <a:chExt cx="378720" cy="841320"/>
            </a:xfrm>
          </p:grpSpPr>
          <p:sp>
            <p:nvSpPr>
              <p:cNvPr id="517" name=""/>
              <p:cNvSpPr/>
              <p:nvPr/>
            </p:nvSpPr>
            <p:spPr>
              <a:xfrm>
                <a:off x="2590920" y="505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591640" y="547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749600" y="5055120"/>
              <a:ext cx="378720" cy="841320"/>
              <a:chOff x="1749600" y="5055120"/>
              <a:chExt cx="378720" cy="841320"/>
            </a:xfrm>
          </p:grpSpPr>
          <p:sp>
            <p:nvSpPr>
              <p:cNvPr id="520" name=""/>
              <p:cNvSpPr/>
              <p:nvPr/>
            </p:nvSpPr>
            <p:spPr>
              <a:xfrm flipH="1">
                <a:off x="1750320" y="505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1749600" y="5476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906840" y="4630320"/>
            <a:ext cx="1219680" cy="850320"/>
            <a:chOff x="906840" y="4630320"/>
            <a:chExt cx="1219680" cy="850320"/>
          </a:xfrm>
        </p:grpSpPr>
        <p:sp>
          <p:nvSpPr>
            <p:cNvPr id="523" name=""/>
            <p:cNvSpPr/>
            <p:nvPr/>
          </p:nvSpPr>
          <p:spPr>
            <a:xfrm>
              <a:off x="1269360" y="463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58560" y="548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748160" y="4635000"/>
              <a:ext cx="378360" cy="840240"/>
              <a:chOff x="1748160" y="4635000"/>
              <a:chExt cx="378360" cy="840240"/>
            </a:xfrm>
          </p:grpSpPr>
          <p:sp>
            <p:nvSpPr>
              <p:cNvPr id="526" name=""/>
              <p:cNvSpPr/>
              <p:nvPr/>
            </p:nvSpPr>
            <p:spPr>
              <a:xfrm>
                <a:off x="1748160" y="4635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748880" y="5055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906840" y="4639320"/>
              <a:ext cx="378360" cy="840240"/>
              <a:chOff x="906840" y="4639320"/>
              <a:chExt cx="378360" cy="84024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907560" y="463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906840" y="506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1744920" y="4198320"/>
            <a:ext cx="1220040" cy="850680"/>
            <a:chOff x="1744920" y="4198320"/>
            <a:chExt cx="1220040" cy="850680"/>
          </a:xfrm>
        </p:grpSpPr>
        <p:sp>
          <p:nvSpPr>
            <p:cNvPr id="532" name=""/>
            <p:cNvSpPr/>
            <p:nvPr/>
          </p:nvSpPr>
          <p:spPr>
            <a:xfrm>
              <a:off x="2107440" y="4198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97000" y="504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86240" y="4203000"/>
              <a:ext cx="378720" cy="841320"/>
              <a:chOff x="2586240" y="4203000"/>
              <a:chExt cx="378720" cy="841320"/>
            </a:xfrm>
          </p:grpSpPr>
          <p:sp>
            <p:nvSpPr>
              <p:cNvPr id="535" name=""/>
              <p:cNvSpPr/>
              <p:nvPr/>
            </p:nvSpPr>
            <p:spPr>
              <a:xfrm>
                <a:off x="2586240" y="420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586960" y="4624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744920" y="4207320"/>
              <a:ext cx="378720" cy="841320"/>
              <a:chOff x="1744920" y="4207320"/>
              <a:chExt cx="378720" cy="84132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745640" y="420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744920" y="462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2592720" y="3768120"/>
            <a:ext cx="1219680" cy="850680"/>
            <a:chOff x="2592720" y="3768120"/>
            <a:chExt cx="1219680" cy="850680"/>
          </a:xfrm>
        </p:grpSpPr>
        <p:sp>
          <p:nvSpPr>
            <p:cNvPr id="541" name=""/>
            <p:cNvSpPr/>
            <p:nvPr/>
          </p:nvSpPr>
          <p:spPr>
            <a:xfrm>
              <a:off x="2955240" y="3768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44440" y="4618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33680" y="3772800"/>
              <a:ext cx="378720" cy="841320"/>
              <a:chOff x="3433680" y="3772800"/>
              <a:chExt cx="378720" cy="841320"/>
            </a:xfrm>
          </p:grpSpPr>
          <p:sp>
            <p:nvSpPr>
              <p:cNvPr id="544" name=""/>
              <p:cNvSpPr/>
              <p:nvPr/>
            </p:nvSpPr>
            <p:spPr>
              <a:xfrm>
                <a:off x="3433680" y="3772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434400" y="4194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592720" y="3777120"/>
              <a:ext cx="378720" cy="841320"/>
              <a:chOff x="2592720" y="3777120"/>
              <a:chExt cx="378720" cy="84132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2593440" y="377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2592720" y="4198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3430800" y="3336480"/>
            <a:ext cx="1220040" cy="850320"/>
            <a:chOff x="3430800" y="3336480"/>
            <a:chExt cx="1220040" cy="850320"/>
          </a:xfrm>
        </p:grpSpPr>
        <p:sp>
          <p:nvSpPr>
            <p:cNvPr id="550" name=""/>
            <p:cNvSpPr/>
            <p:nvPr/>
          </p:nvSpPr>
          <p:spPr>
            <a:xfrm>
              <a:off x="3793320" y="333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82880" y="418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272480" y="3341160"/>
              <a:ext cx="378360" cy="840240"/>
              <a:chOff x="4272480" y="3341160"/>
              <a:chExt cx="378360" cy="840240"/>
            </a:xfrm>
          </p:grpSpPr>
          <p:sp>
            <p:nvSpPr>
              <p:cNvPr id="553" name=""/>
              <p:cNvSpPr/>
              <p:nvPr/>
            </p:nvSpPr>
            <p:spPr>
              <a:xfrm>
                <a:off x="4272480" y="334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273200" y="376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30800" y="3345480"/>
              <a:ext cx="378360" cy="840240"/>
              <a:chOff x="3430800" y="3345480"/>
              <a:chExt cx="378360" cy="84024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3431520" y="334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430800" y="3766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2588040" y="2920320"/>
            <a:ext cx="1219680" cy="850680"/>
            <a:chOff x="2588040" y="2920320"/>
            <a:chExt cx="1219680" cy="850680"/>
          </a:xfrm>
        </p:grpSpPr>
        <p:sp>
          <p:nvSpPr>
            <p:cNvPr id="559" name=""/>
            <p:cNvSpPr/>
            <p:nvPr/>
          </p:nvSpPr>
          <p:spPr>
            <a:xfrm>
              <a:off x="2950560" y="292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9760" y="3771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429000" y="2925000"/>
              <a:ext cx="378720" cy="841320"/>
              <a:chOff x="3429000" y="2925000"/>
              <a:chExt cx="378720" cy="841320"/>
            </a:xfrm>
          </p:grpSpPr>
          <p:sp>
            <p:nvSpPr>
              <p:cNvPr id="562" name=""/>
              <p:cNvSpPr/>
              <p:nvPr/>
            </p:nvSpPr>
            <p:spPr>
              <a:xfrm>
                <a:off x="3429000" y="292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429720" y="3346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588040" y="2929320"/>
              <a:ext cx="378720" cy="841320"/>
              <a:chOff x="2588040" y="2929320"/>
              <a:chExt cx="378720" cy="84132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2588760" y="292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2588040" y="335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3426120" y="2488680"/>
            <a:ext cx="1220040" cy="850320"/>
            <a:chOff x="3426120" y="2488680"/>
            <a:chExt cx="1220040" cy="850320"/>
          </a:xfrm>
        </p:grpSpPr>
        <p:sp>
          <p:nvSpPr>
            <p:cNvPr id="568" name=""/>
            <p:cNvSpPr/>
            <p:nvPr/>
          </p:nvSpPr>
          <p:spPr>
            <a:xfrm>
              <a:off x="3788640" y="248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8200" y="333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267800" y="2493360"/>
              <a:ext cx="378360" cy="840240"/>
              <a:chOff x="4267800" y="2493360"/>
              <a:chExt cx="378360" cy="840240"/>
            </a:xfrm>
          </p:grpSpPr>
          <p:sp>
            <p:nvSpPr>
              <p:cNvPr id="571" name=""/>
              <p:cNvSpPr/>
              <p:nvPr/>
            </p:nvSpPr>
            <p:spPr>
              <a:xfrm>
                <a:off x="4267800" y="2493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268520" y="2914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426120" y="2497680"/>
              <a:ext cx="378360" cy="840240"/>
              <a:chOff x="3426120" y="2497680"/>
              <a:chExt cx="378360" cy="840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426840" y="249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26120" y="2918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906840" y="3787200"/>
            <a:ext cx="1219680" cy="850680"/>
            <a:chOff x="906840" y="3787200"/>
            <a:chExt cx="1219680" cy="850680"/>
          </a:xfrm>
        </p:grpSpPr>
        <p:sp>
          <p:nvSpPr>
            <p:cNvPr id="577" name=""/>
            <p:cNvSpPr/>
            <p:nvPr/>
          </p:nvSpPr>
          <p:spPr>
            <a:xfrm>
              <a:off x="1269360" y="37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58560" y="4637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1747800" y="3791880"/>
              <a:ext cx="378720" cy="841320"/>
              <a:chOff x="1747800" y="3791880"/>
              <a:chExt cx="378720" cy="841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747800" y="3791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1748520" y="421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906840" y="3796200"/>
              <a:ext cx="378720" cy="841320"/>
              <a:chOff x="906840" y="3796200"/>
              <a:chExt cx="378720" cy="841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907560" y="379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906840" y="421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1744920" y="3355560"/>
            <a:ext cx="1220040" cy="850320"/>
            <a:chOff x="1744920" y="3355560"/>
            <a:chExt cx="1220040" cy="850320"/>
          </a:xfrm>
        </p:grpSpPr>
        <p:sp>
          <p:nvSpPr>
            <p:cNvPr id="586" name=""/>
            <p:cNvSpPr/>
            <p:nvPr/>
          </p:nvSpPr>
          <p:spPr>
            <a:xfrm>
              <a:off x="2107440" y="335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7000" y="42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586600" y="3360240"/>
              <a:ext cx="378360" cy="840240"/>
              <a:chOff x="2586600" y="3360240"/>
              <a:chExt cx="378360" cy="840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586600" y="336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587320" y="378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744920" y="3364560"/>
              <a:ext cx="378360" cy="840240"/>
              <a:chOff x="1744920" y="3364560"/>
              <a:chExt cx="378360" cy="84024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1745640" y="336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744920" y="378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901800" y="2939400"/>
            <a:ext cx="1220040" cy="850680"/>
            <a:chOff x="901800" y="2939400"/>
            <a:chExt cx="1220040" cy="850680"/>
          </a:xfrm>
        </p:grpSpPr>
        <p:sp>
          <p:nvSpPr>
            <p:cNvPr id="595" name=""/>
            <p:cNvSpPr/>
            <p:nvPr/>
          </p:nvSpPr>
          <p:spPr>
            <a:xfrm>
              <a:off x="1264320" y="29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3880" y="37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743120" y="2944080"/>
              <a:ext cx="378720" cy="841320"/>
              <a:chOff x="1743120" y="2944080"/>
              <a:chExt cx="378720" cy="841320"/>
            </a:xfrm>
          </p:grpSpPr>
          <p:sp>
            <p:nvSpPr>
              <p:cNvPr id="598" name=""/>
              <p:cNvSpPr/>
              <p:nvPr/>
            </p:nvSpPr>
            <p:spPr>
              <a:xfrm>
                <a:off x="1743120" y="29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743840" y="33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01800" y="2948400"/>
              <a:ext cx="378720" cy="841320"/>
              <a:chOff x="901800" y="2948400"/>
              <a:chExt cx="378720" cy="84132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902520" y="29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901800" y="33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740240" y="2507760"/>
            <a:ext cx="1219680" cy="850320"/>
            <a:chOff x="1740240" y="2507760"/>
            <a:chExt cx="1219680" cy="850320"/>
          </a:xfrm>
        </p:grpSpPr>
        <p:sp>
          <p:nvSpPr>
            <p:cNvPr id="604" name=""/>
            <p:cNvSpPr/>
            <p:nvPr/>
          </p:nvSpPr>
          <p:spPr>
            <a:xfrm>
              <a:off x="2102760" y="250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1960" y="33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581560" y="2512440"/>
              <a:ext cx="378360" cy="840240"/>
              <a:chOff x="2581560" y="2512440"/>
              <a:chExt cx="378360" cy="840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581560" y="2512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582280" y="2933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740240" y="2516760"/>
              <a:ext cx="378360" cy="840240"/>
              <a:chOff x="1740240" y="2516760"/>
              <a:chExt cx="378360" cy="84024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1740960" y="251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1740240" y="293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964480" y="5425560"/>
            <a:ext cx="1220040" cy="850320"/>
            <a:chOff x="5964480" y="5425560"/>
            <a:chExt cx="1220040" cy="850320"/>
          </a:xfrm>
        </p:grpSpPr>
        <p:sp>
          <p:nvSpPr>
            <p:cNvPr id="613" name=""/>
            <p:cNvSpPr/>
            <p:nvPr/>
          </p:nvSpPr>
          <p:spPr>
            <a:xfrm>
              <a:off x="6327000" y="542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6560" y="627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806160" y="5430240"/>
              <a:ext cx="378360" cy="840240"/>
              <a:chOff x="6806160" y="5430240"/>
              <a:chExt cx="378360" cy="840240"/>
            </a:xfrm>
          </p:grpSpPr>
          <p:sp>
            <p:nvSpPr>
              <p:cNvPr id="616" name=""/>
              <p:cNvSpPr/>
              <p:nvPr/>
            </p:nvSpPr>
            <p:spPr>
              <a:xfrm>
                <a:off x="6806160" y="543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806880" y="585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964480" y="5434560"/>
              <a:ext cx="378360" cy="840240"/>
              <a:chOff x="5964480" y="5434560"/>
              <a:chExt cx="378360" cy="84024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5965200" y="543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5964480" y="585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6802560" y="4993560"/>
            <a:ext cx="1220040" cy="850680"/>
            <a:chOff x="6802560" y="4993560"/>
            <a:chExt cx="1220040" cy="850680"/>
          </a:xfrm>
        </p:grpSpPr>
        <p:sp>
          <p:nvSpPr>
            <p:cNvPr id="622" name=""/>
            <p:cNvSpPr/>
            <p:nvPr/>
          </p:nvSpPr>
          <p:spPr>
            <a:xfrm>
              <a:off x="7165080" y="4993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54640" y="5844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643880" y="4998240"/>
              <a:ext cx="378720" cy="841320"/>
              <a:chOff x="7643880" y="4998240"/>
              <a:chExt cx="378720" cy="8413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43880" y="499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44600" y="541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802560" y="5002560"/>
              <a:ext cx="378720" cy="841320"/>
              <a:chOff x="6802560" y="5002560"/>
              <a:chExt cx="378720" cy="84132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6803280" y="500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6802560" y="5424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5959800" y="4577760"/>
            <a:ext cx="1219680" cy="850680"/>
            <a:chOff x="5959800" y="4577760"/>
            <a:chExt cx="1219680" cy="850680"/>
          </a:xfrm>
        </p:grpSpPr>
        <p:sp>
          <p:nvSpPr>
            <p:cNvPr id="631" name=""/>
            <p:cNvSpPr/>
            <p:nvPr/>
          </p:nvSpPr>
          <p:spPr>
            <a:xfrm>
              <a:off x="6322320" y="45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11520" y="5428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800760" y="4582440"/>
              <a:ext cx="378720" cy="841320"/>
              <a:chOff x="6800760" y="4582440"/>
              <a:chExt cx="378720" cy="841320"/>
            </a:xfrm>
          </p:grpSpPr>
          <p:sp>
            <p:nvSpPr>
              <p:cNvPr id="634" name=""/>
              <p:cNvSpPr/>
              <p:nvPr/>
            </p:nvSpPr>
            <p:spPr>
              <a:xfrm>
                <a:off x="6800760" y="45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801480" y="50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959800" y="4586760"/>
              <a:ext cx="378720" cy="841320"/>
              <a:chOff x="5959800" y="4586760"/>
              <a:chExt cx="378720" cy="841320"/>
            </a:xfrm>
          </p:grpSpPr>
          <p:sp>
            <p:nvSpPr>
              <p:cNvPr id="637" name=""/>
              <p:cNvSpPr/>
              <p:nvPr/>
            </p:nvSpPr>
            <p:spPr>
              <a:xfrm flipH="1">
                <a:off x="5960520" y="45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5959800" y="50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6797880" y="4146120"/>
            <a:ext cx="1220040" cy="850320"/>
            <a:chOff x="6797880" y="4146120"/>
            <a:chExt cx="1220040" cy="850320"/>
          </a:xfrm>
        </p:grpSpPr>
        <p:sp>
          <p:nvSpPr>
            <p:cNvPr id="640" name=""/>
            <p:cNvSpPr/>
            <p:nvPr/>
          </p:nvSpPr>
          <p:spPr>
            <a:xfrm>
              <a:off x="7160400" y="41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49960" y="4996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639560" y="4150800"/>
              <a:ext cx="378360" cy="840240"/>
              <a:chOff x="7639560" y="4150800"/>
              <a:chExt cx="378360" cy="840240"/>
            </a:xfrm>
          </p:grpSpPr>
          <p:sp>
            <p:nvSpPr>
              <p:cNvPr id="643" name=""/>
              <p:cNvSpPr/>
              <p:nvPr/>
            </p:nvSpPr>
            <p:spPr>
              <a:xfrm>
                <a:off x="7639560" y="4150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40280" y="4571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97880" y="4155120"/>
              <a:ext cx="378360" cy="840240"/>
              <a:chOff x="6797880" y="4155120"/>
              <a:chExt cx="378360" cy="8402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6798600" y="415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6797880" y="4575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4278600" y="5444640"/>
            <a:ext cx="1220040" cy="850320"/>
            <a:chOff x="4278600" y="5444640"/>
            <a:chExt cx="1220040" cy="850320"/>
          </a:xfrm>
        </p:grpSpPr>
        <p:sp>
          <p:nvSpPr>
            <p:cNvPr id="649" name=""/>
            <p:cNvSpPr/>
            <p:nvPr/>
          </p:nvSpPr>
          <p:spPr>
            <a:xfrm>
              <a:off x="4641120" y="544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30680" y="6294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120280" y="5449320"/>
              <a:ext cx="378360" cy="840240"/>
              <a:chOff x="5120280" y="5449320"/>
              <a:chExt cx="378360" cy="840240"/>
            </a:xfrm>
          </p:grpSpPr>
          <p:sp>
            <p:nvSpPr>
              <p:cNvPr id="652" name=""/>
              <p:cNvSpPr/>
              <p:nvPr/>
            </p:nvSpPr>
            <p:spPr>
              <a:xfrm>
                <a:off x="5120280" y="544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121000" y="587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78600" y="5453640"/>
              <a:ext cx="378360" cy="840240"/>
              <a:chOff x="4278600" y="5453640"/>
              <a:chExt cx="378360" cy="8402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4279320" y="5453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4278600" y="587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7" name=""/>
          <p:cNvGrpSpPr/>
          <p:nvPr/>
        </p:nvGrpSpPr>
        <p:grpSpPr>
          <a:xfrm>
            <a:off x="5116680" y="5012640"/>
            <a:ext cx="1220040" cy="850680"/>
            <a:chOff x="5116680" y="5012640"/>
            <a:chExt cx="1220040" cy="850680"/>
          </a:xfrm>
        </p:grpSpPr>
        <p:sp>
          <p:nvSpPr>
            <p:cNvPr id="658" name=""/>
            <p:cNvSpPr/>
            <p:nvPr/>
          </p:nvSpPr>
          <p:spPr>
            <a:xfrm>
              <a:off x="5479200" y="5012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68760" y="5863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958000" y="5017320"/>
              <a:ext cx="378720" cy="841320"/>
              <a:chOff x="5958000" y="5017320"/>
              <a:chExt cx="378720" cy="841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958000" y="501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958720" y="543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116680" y="5021640"/>
              <a:ext cx="378720" cy="841320"/>
              <a:chOff x="5116680" y="5021640"/>
              <a:chExt cx="378720" cy="841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5117400" y="502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5116680" y="544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4273920" y="4596840"/>
            <a:ext cx="1219680" cy="850680"/>
            <a:chOff x="4273920" y="4596840"/>
            <a:chExt cx="1219680" cy="850680"/>
          </a:xfrm>
        </p:grpSpPr>
        <p:sp>
          <p:nvSpPr>
            <p:cNvPr id="667" name=""/>
            <p:cNvSpPr/>
            <p:nvPr/>
          </p:nvSpPr>
          <p:spPr>
            <a:xfrm>
              <a:off x="4636440" y="4596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25640" y="544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114880" y="4601520"/>
              <a:ext cx="378720" cy="841320"/>
              <a:chOff x="5114880" y="4601520"/>
              <a:chExt cx="378720" cy="84132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4880" y="460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115600" y="502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273920" y="4605840"/>
              <a:ext cx="378720" cy="841320"/>
              <a:chOff x="4273920" y="4605840"/>
              <a:chExt cx="378720" cy="8413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4274640" y="460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273920" y="502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5112000" y="4164840"/>
            <a:ext cx="1220040" cy="850680"/>
            <a:chOff x="5112000" y="4164840"/>
            <a:chExt cx="1220040" cy="850680"/>
          </a:xfrm>
        </p:grpSpPr>
        <p:sp>
          <p:nvSpPr>
            <p:cNvPr id="676" name=""/>
            <p:cNvSpPr/>
            <p:nvPr/>
          </p:nvSpPr>
          <p:spPr>
            <a:xfrm>
              <a:off x="5474520" y="416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64080" y="5015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953320" y="4169520"/>
              <a:ext cx="378720" cy="841320"/>
              <a:chOff x="5953320" y="4169520"/>
              <a:chExt cx="378720" cy="841320"/>
            </a:xfrm>
          </p:grpSpPr>
          <p:sp>
            <p:nvSpPr>
              <p:cNvPr id="679" name=""/>
              <p:cNvSpPr/>
              <p:nvPr/>
            </p:nvSpPr>
            <p:spPr>
              <a:xfrm>
                <a:off x="5953320" y="416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54040" y="459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112000" y="4173840"/>
              <a:ext cx="378720" cy="841320"/>
              <a:chOff x="5112000" y="4173840"/>
              <a:chExt cx="378720" cy="84132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5112720" y="417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5112000" y="4595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959800" y="3734640"/>
            <a:ext cx="1219680" cy="850680"/>
            <a:chOff x="5959800" y="3734640"/>
            <a:chExt cx="1219680" cy="850680"/>
          </a:xfrm>
        </p:grpSpPr>
        <p:sp>
          <p:nvSpPr>
            <p:cNvPr id="685" name=""/>
            <p:cNvSpPr/>
            <p:nvPr/>
          </p:nvSpPr>
          <p:spPr>
            <a:xfrm>
              <a:off x="6322320" y="373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11520" y="4585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800760" y="3739320"/>
              <a:ext cx="378720" cy="841320"/>
              <a:chOff x="6800760" y="3739320"/>
              <a:chExt cx="378720" cy="841320"/>
            </a:xfrm>
          </p:grpSpPr>
          <p:sp>
            <p:nvSpPr>
              <p:cNvPr id="688" name=""/>
              <p:cNvSpPr/>
              <p:nvPr/>
            </p:nvSpPr>
            <p:spPr>
              <a:xfrm>
                <a:off x="6800760" y="373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801480" y="416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959800" y="3743640"/>
              <a:ext cx="378720" cy="841320"/>
              <a:chOff x="5959800" y="3743640"/>
              <a:chExt cx="378720" cy="84132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5960520" y="374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959800" y="416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6797880" y="3303000"/>
            <a:ext cx="1220040" cy="850680"/>
            <a:chOff x="6797880" y="3303000"/>
            <a:chExt cx="1220040" cy="850680"/>
          </a:xfrm>
        </p:grpSpPr>
        <p:sp>
          <p:nvSpPr>
            <p:cNvPr id="694" name=""/>
            <p:cNvSpPr/>
            <p:nvPr/>
          </p:nvSpPr>
          <p:spPr>
            <a:xfrm>
              <a:off x="7160400" y="3303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9960" y="41536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639200" y="3307680"/>
              <a:ext cx="378720" cy="841320"/>
              <a:chOff x="7639200" y="3307680"/>
              <a:chExt cx="378720" cy="841320"/>
            </a:xfrm>
          </p:grpSpPr>
          <p:sp>
            <p:nvSpPr>
              <p:cNvPr id="697" name=""/>
              <p:cNvSpPr/>
              <p:nvPr/>
            </p:nvSpPr>
            <p:spPr>
              <a:xfrm>
                <a:off x="7639200" y="330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639920" y="372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797880" y="3312000"/>
              <a:ext cx="378720" cy="841320"/>
              <a:chOff x="6797880" y="3312000"/>
              <a:chExt cx="378720" cy="8413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6798600" y="331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6797880" y="373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5955120" y="2887200"/>
            <a:ext cx="1219680" cy="850320"/>
            <a:chOff x="5955120" y="2887200"/>
            <a:chExt cx="1219680" cy="850320"/>
          </a:xfrm>
        </p:grpSpPr>
        <p:sp>
          <p:nvSpPr>
            <p:cNvPr id="703" name=""/>
            <p:cNvSpPr/>
            <p:nvPr/>
          </p:nvSpPr>
          <p:spPr>
            <a:xfrm>
              <a:off x="6317640" y="28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06840" y="373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796440" y="2891880"/>
              <a:ext cx="378360" cy="840240"/>
              <a:chOff x="6796440" y="2891880"/>
              <a:chExt cx="378360" cy="840240"/>
            </a:xfrm>
          </p:grpSpPr>
          <p:sp>
            <p:nvSpPr>
              <p:cNvPr id="706" name=""/>
              <p:cNvSpPr/>
              <p:nvPr/>
            </p:nvSpPr>
            <p:spPr>
              <a:xfrm>
                <a:off x="6796440" y="2891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97160" y="3312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955120" y="2896200"/>
              <a:ext cx="378360" cy="840240"/>
              <a:chOff x="5955120" y="2896200"/>
              <a:chExt cx="378360" cy="840240"/>
            </a:xfrm>
          </p:grpSpPr>
          <p:sp>
            <p:nvSpPr>
              <p:cNvPr id="709" name=""/>
              <p:cNvSpPr/>
              <p:nvPr/>
            </p:nvSpPr>
            <p:spPr>
              <a:xfrm flipH="1">
                <a:off x="5955840" y="2896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5955120" y="3317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6793200" y="2455200"/>
            <a:ext cx="1220040" cy="850680"/>
            <a:chOff x="6793200" y="2455200"/>
            <a:chExt cx="1220040" cy="850680"/>
          </a:xfrm>
        </p:grpSpPr>
        <p:sp>
          <p:nvSpPr>
            <p:cNvPr id="712" name=""/>
            <p:cNvSpPr/>
            <p:nvPr/>
          </p:nvSpPr>
          <p:spPr>
            <a:xfrm>
              <a:off x="7155720" y="2455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5280" y="33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634520" y="2459880"/>
              <a:ext cx="378720" cy="841320"/>
              <a:chOff x="7634520" y="2459880"/>
              <a:chExt cx="378720" cy="841320"/>
            </a:xfrm>
          </p:grpSpPr>
          <p:sp>
            <p:nvSpPr>
              <p:cNvPr id="715" name=""/>
              <p:cNvSpPr/>
              <p:nvPr/>
            </p:nvSpPr>
            <p:spPr>
              <a:xfrm>
                <a:off x="7634520" y="245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35240" y="288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793200" y="2464200"/>
              <a:ext cx="378720" cy="841320"/>
              <a:chOff x="6793200" y="2464200"/>
              <a:chExt cx="378720" cy="841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6793920" y="24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6793200" y="288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273920" y="3753720"/>
            <a:ext cx="1219680" cy="850680"/>
            <a:chOff x="4273920" y="3753720"/>
            <a:chExt cx="1219680" cy="850680"/>
          </a:xfrm>
        </p:grpSpPr>
        <p:sp>
          <p:nvSpPr>
            <p:cNvPr id="721" name=""/>
            <p:cNvSpPr/>
            <p:nvPr/>
          </p:nvSpPr>
          <p:spPr>
            <a:xfrm>
              <a:off x="4636440" y="3753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25640" y="4604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114880" y="3758400"/>
              <a:ext cx="378720" cy="841320"/>
              <a:chOff x="5114880" y="3758400"/>
              <a:chExt cx="378720" cy="841320"/>
            </a:xfrm>
          </p:grpSpPr>
          <p:sp>
            <p:nvSpPr>
              <p:cNvPr id="724" name=""/>
              <p:cNvSpPr/>
              <p:nvPr/>
            </p:nvSpPr>
            <p:spPr>
              <a:xfrm>
                <a:off x="5114880" y="375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15600" y="417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273920" y="3762720"/>
              <a:ext cx="378720" cy="841320"/>
              <a:chOff x="4273920" y="3762720"/>
              <a:chExt cx="378720" cy="8413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4274640" y="376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4273920" y="418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5112000" y="3322080"/>
            <a:ext cx="1220040" cy="850680"/>
            <a:chOff x="5112000" y="3322080"/>
            <a:chExt cx="1220040" cy="850680"/>
          </a:xfrm>
        </p:grpSpPr>
        <p:sp>
          <p:nvSpPr>
            <p:cNvPr id="730" name=""/>
            <p:cNvSpPr/>
            <p:nvPr/>
          </p:nvSpPr>
          <p:spPr>
            <a:xfrm>
              <a:off x="5474520" y="3322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64080" y="4172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953320" y="3326760"/>
              <a:ext cx="378720" cy="841320"/>
              <a:chOff x="5953320" y="3326760"/>
              <a:chExt cx="378720" cy="841320"/>
            </a:xfrm>
          </p:grpSpPr>
          <p:sp>
            <p:nvSpPr>
              <p:cNvPr id="733" name=""/>
              <p:cNvSpPr/>
              <p:nvPr/>
            </p:nvSpPr>
            <p:spPr>
              <a:xfrm>
                <a:off x="5953320" y="332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54040" y="374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112000" y="3331080"/>
              <a:ext cx="378720" cy="841320"/>
              <a:chOff x="5112000" y="3331080"/>
              <a:chExt cx="378720" cy="84132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5112720" y="333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5112000" y="375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4269240" y="2906280"/>
            <a:ext cx="1219680" cy="850320"/>
            <a:chOff x="4269240" y="2906280"/>
            <a:chExt cx="1219680" cy="850320"/>
          </a:xfrm>
        </p:grpSpPr>
        <p:sp>
          <p:nvSpPr>
            <p:cNvPr id="739" name=""/>
            <p:cNvSpPr/>
            <p:nvPr/>
          </p:nvSpPr>
          <p:spPr>
            <a:xfrm>
              <a:off x="4631760" y="2906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20960" y="3756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110560" y="2910960"/>
              <a:ext cx="378360" cy="840240"/>
              <a:chOff x="5110560" y="2910960"/>
              <a:chExt cx="378360" cy="840240"/>
            </a:xfrm>
          </p:grpSpPr>
          <p:sp>
            <p:nvSpPr>
              <p:cNvPr id="742" name=""/>
              <p:cNvSpPr/>
              <p:nvPr/>
            </p:nvSpPr>
            <p:spPr>
              <a:xfrm>
                <a:off x="5110560" y="2910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111280" y="3331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269240" y="2915280"/>
              <a:ext cx="378360" cy="840240"/>
              <a:chOff x="4269240" y="2915280"/>
              <a:chExt cx="378360" cy="84024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4269960" y="2915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4269240" y="3336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5107320" y="2474280"/>
            <a:ext cx="1219680" cy="850680"/>
            <a:chOff x="5107320" y="2474280"/>
            <a:chExt cx="1219680" cy="850680"/>
          </a:xfrm>
        </p:grpSpPr>
        <p:sp>
          <p:nvSpPr>
            <p:cNvPr id="748" name=""/>
            <p:cNvSpPr/>
            <p:nvPr/>
          </p:nvSpPr>
          <p:spPr>
            <a:xfrm>
              <a:off x="5469840" y="2474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9040" y="3324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948280" y="2478960"/>
              <a:ext cx="378720" cy="841320"/>
              <a:chOff x="5948280" y="2478960"/>
              <a:chExt cx="378720" cy="841320"/>
            </a:xfrm>
          </p:grpSpPr>
          <p:sp>
            <p:nvSpPr>
              <p:cNvPr id="751" name=""/>
              <p:cNvSpPr/>
              <p:nvPr/>
            </p:nvSpPr>
            <p:spPr>
              <a:xfrm>
                <a:off x="5948280" y="247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949000" y="290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107320" y="2483280"/>
              <a:ext cx="378720" cy="841320"/>
              <a:chOff x="5107320" y="2483280"/>
              <a:chExt cx="378720" cy="841320"/>
            </a:xfrm>
          </p:grpSpPr>
          <p:sp>
            <p:nvSpPr>
              <p:cNvPr id="754" name=""/>
              <p:cNvSpPr/>
              <p:nvPr/>
            </p:nvSpPr>
            <p:spPr>
              <a:xfrm flipH="1">
                <a:off x="5108040" y="24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5107320" y="290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2583000" y="2072520"/>
            <a:ext cx="1220040" cy="850680"/>
            <a:chOff x="2583000" y="2072520"/>
            <a:chExt cx="1220040" cy="850680"/>
          </a:xfrm>
        </p:grpSpPr>
        <p:sp>
          <p:nvSpPr>
            <p:cNvPr id="757" name=""/>
            <p:cNvSpPr/>
            <p:nvPr/>
          </p:nvSpPr>
          <p:spPr>
            <a:xfrm>
              <a:off x="2945520" y="2072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35080" y="2923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424320" y="2077200"/>
              <a:ext cx="378720" cy="841320"/>
              <a:chOff x="3424320" y="2077200"/>
              <a:chExt cx="378720" cy="841320"/>
            </a:xfrm>
          </p:grpSpPr>
          <p:sp>
            <p:nvSpPr>
              <p:cNvPr id="760" name=""/>
              <p:cNvSpPr/>
              <p:nvPr/>
            </p:nvSpPr>
            <p:spPr>
              <a:xfrm>
                <a:off x="3424320" y="2077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425040" y="2498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83000" y="2081520"/>
              <a:ext cx="378720" cy="841320"/>
              <a:chOff x="2583000" y="2081520"/>
              <a:chExt cx="378720" cy="84132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583720" y="208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2583000" y="250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3421440" y="1640880"/>
            <a:ext cx="1219680" cy="850680"/>
            <a:chOff x="3421440" y="1640880"/>
            <a:chExt cx="1219680" cy="850680"/>
          </a:xfrm>
        </p:grpSpPr>
        <p:sp>
          <p:nvSpPr>
            <p:cNvPr id="766" name=""/>
            <p:cNvSpPr/>
            <p:nvPr/>
          </p:nvSpPr>
          <p:spPr>
            <a:xfrm>
              <a:off x="3783960" y="164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73160" y="249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262400" y="1645560"/>
              <a:ext cx="378720" cy="841320"/>
              <a:chOff x="4262400" y="1645560"/>
              <a:chExt cx="378720" cy="841320"/>
            </a:xfrm>
          </p:grpSpPr>
          <p:sp>
            <p:nvSpPr>
              <p:cNvPr id="769" name=""/>
              <p:cNvSpPr/>
              <p:nvPr/>
            </p:nvSpPr>
            <p:spPr>
              <a:xfrm>
                <a:off x="4262400" y="164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263120" y="206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421440" y="1649880"/>
              <a:ext cx="378720" cy="841320"/>
              <a:chOff x="3421440" y="1649880"/>
              <a:chExt cx="378720" cy="84132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3422160" y="16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421440" y="207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897120" y="2091600"/>
            <a:ext cx="1220040" cy="850680"/>
            <a:chOff x="897120" y="2091600"/>
            <a:chExt cx="1220040" cy="850680"/>
          </a:xfrm>
        </p:grpSpPr>
        <p:sp>
          <p:nvSpPr>
            <p:cNvPr id="775" name=""/>
            <p:cNvSpPr/>
            <p:nvPr/>
          </p:nvSpPr>
          <p:spPr>
            <a:xfrm>
              <a:off x="1259640" y="2091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49200" y="2942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1738440" y="2096280"/>
              <a:ext cx="378720" cy="841320"/>
              <a:chOff x="1738440" y="2096280"/>
              <a:chExt cx="378720" cy="841320"/>
            </a:xfrm>
          </p:grpSpPr>
          <p:sp>
            <p:nvSpPr>
              <p:cNvPr id="778" name=""/>
              <p:cNvSpPr/>
              <p:nvPr/>
            </p:nvSpPr>
            <p:spPr>
              <a:xfrm>
                <a:off x="1738440" y="2096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1739160" y="2517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897120" y="2100600"/>
              <a:ext cx="378720" cy="841320"/>
              <a:chOff x="897120" y="2100600"/>
              <a:chExt cx="378720" cy="841320"/>
            </a:xfrm>
          </p:grpSpPr>
          <p:sp>
            <p:nvSpPr>
              <p:cNvPr id="781" name=""/>
              <p:cNvSpPr/>
              <p:nvPr/>
            </p:nvSpPr>
            <p:spPr>
              <a:xfrm flipH="1">
                <a:off x="897840" y="210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897120" y="2522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1735560" y="1659960"/>
            <a:ext cx="1219680" cy="850680"/>
            <a:chOff x="1735560" y="1659960"/>
            <a:chExt cx="1219680" cy="850680"/>
          </a:xfrm>
        </p:grpSpPr>
        <p:sp>
          <p:nvSpPr>
            <p:cNvPr id="784" name=""/>
            <p:cNvSpPr/>
            <p:nvPr/>
          </p:nvSpPr>
          <p:spPr>
            <a:xfrm>
              <a:off x="2098080" y="165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87280" y="251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76520" y="1664640"/>
              <a:ext cx="378720" cy="841320"/>
              <a:chOff x="2576520" y="1664640"/>
              <a:chExt cx="378720" cy="841320"/>
            </a:xfrm>
          </p:grpSpPr>
          <p:sp>
            <p:nvSpPr>
              <p:cNvPr id="787" name=""/>
              <p:cNvSpPr/>
              <p:nvPr/>
            </p:nvSpPr>
            <p:spPr>
              <a:xfrm>
                <a:off x="2576520" y="1664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577240" y="208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735560" y="1668960"/>
              <a:ext cx="378720" cy="841320"/>
              <a:chOff x="1735560" y="1668960"/>
              <a:chExt cx="378720" cy="841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1736280" y="16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1735560" y="209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5950080" y="2039400"/>
            <a:ext cx="1220040" cy="850680"/>
            <a:chOff x="5950080" y="2039400"/>
            <a:chExt cx="1220040" cy="850680"/>
          </a:xfrm>
        </p:grpSpPr>
        <p:sp>
          <p:nvSpPr>
            <p:cNvPr id="793" name=""/>
            <p:cNvSpPr/>
            <p:nvPr/>
          </p:nvSpPr>
          <p:spPr>
            <a:xfrm>
              <a:off x="6312600" y="20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2160" y="28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6791400" y="2044080"/>
              <a:ext cx="378720" cy="841320"/>
              <a:chOff x="6791400" y="2044080"/>
              <a:chExt cx="378720" cy="841320"/>
            </a:xfrm>
          </p:grpSpPr>
          <p:sp>
            <p:nvSpPr>
              <p:cNvPr id="796" name=""/>
              <p:cNvSpPr/>
              <p:nvPr/>
            </p:nvSpPr>
            <p:spPr>
              <a:xfrm>
                <a:off x="6791400" y="20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792120" y="24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950080" y="2048400"/>
              <a:ext cx="378720" cy="841320"/>
              <a:chOff x="5950080" y="2048400"/>
              <a:chExt cx="378720" cy="84132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5950800" y="20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5950080" y="24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6788520" y="1607400"/>
            <a:ext cx="1219680" cy="850680"/>
            <a:chOff x="6788520" y="1607400"/>
            <a:chExt cx="1219680" cy="850680"/>
          </a:xfrm>
        </p:grpSpPr>
        <p:sp>
          <p:nvSpPr>
            <p:cNvPr id="802" name=""/>
            <p:cNvSpPr/>
            <p:nvPr/>
          </p:nvSpPr>
          <p:spPr>
            <a:xfrm>
              <a:off x="7151040" y="160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40240" y="24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7629480" y="1612080"/>
              <a:ext cx="378720" cy="841320"/>
              <a:chOff x="7629480" y="1612080"/>
              <a:chExt cx="378720" cy="841320"/>
            </a:xfrm>
          </p:grpSpPr>
          <p:sp>
            <p:nvSpPr>
              <p:cNvPr id="805" name=""/>
              <p:cNvSpPr/>
              <p:nvPr/>
            </p:nvSpPr>
            <p:spPr>
              <a:xfrm>
                <a:off x="7629480" y="161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630200" y="203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788520" y="1616400"/>
              <a:ext cx="378720" cy="841320"/>
              <a:chOff x="6788520" y="1616400"/>
              <a:chExt cx="378720" cy="84132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6789240" y="161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788520" y="203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"/>
          <p:cNvGrpSpPr/>
          <p:nvPr/>
        </p:nvGrpSpPr>
        <p:grpSpPr>
          <a:xfrm>
            <a:off x="4264200" y="2058480"/>
            <a:ext cx="1220040" cy="850320"/>
            <a:chOff x="4264200" y="2058480"/>
            <a:chExt cx="1220040" cy="850320"/>
          </a:xfrm>
        </p:grpSpPr>
        <p:sp>
          <p:nvSpPr>
            <p:cNvPr id="811" name=""/>
            <p:cNvSpPr/>
            <p:nvPr/>
          </p:nvSpPr>
          <p:spPr>
            <a:xfrm>
              <a:off x="4626720" y="2058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16280" y="2908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105880" y="2063160"/>
              <a:ext cx="378360" cy="840240"/>
              <a:chOff x="5105880" y="2063160"/>
              <a:chExt cx="378360" cy="840240"/>
            </a:xfrm>
          </p:grpSpPr>
          <p:sp>
            <p:nvSpPr>
              <p:cNvPr id="814" name=""/>
              <p:cNvSpPr/>
              <p:nvPr/>
            </p:nvSpPr>
            <p:spPr>
              <a:xfrm>
                <a:off x="5105880" y="2063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106600" y="2484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264200" y="2067480"/>
              <a:ext cx="378360" cy="840240"/>
              <a:chOff x="4264200" y="2067480"/>
              <a:chExt cx="378360" cy="8402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4264920" y="2067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4264200" y="248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102640" y="1626480"/>
            <a:ext cx="1219680" cy="850680"/>
            <a:chOff x="5102640" y="1626480"/>
            <a:chExt cx="1219680" cy="850680"/>
          </a:xfrm>
        </p:grpSpPr>
        <p:sp>
          <p:nvSpPr>
            <p:cNvPr id="820" name=""/>
            <p:cNvSpPr/>
            <p:nvPr/>
          </p:nvSpPr>
          <p:spPr>
            <a:xfrm>
              <a:off x="5465160" y="162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4360" y="247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943600" y="1631160"/>
              <a:ext cx="378720" cy="841320"/>
              <a:chOff x="5943600" y="1631160"/>
              <a:chExt cx="378720" cy="841320"/>
            </a:xfrm>
          </p:grpSpPr>
          <p:sp>
            <p:nvSpPr>
              <p:cNvPr id="823" name=""/>
              <p:cNvSpPr/>
              <p:nvPr/>
            </p:nvSpPr>
            <p:spPr>
              <a:xfrm>
                <a:off x="5943600" y="163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944320" y="205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102640" y="1635480"/>
              <a:ext cx="378720" cy="841320"/>
              <a:chOff x="5102640" y="1635480"/>
              <a:chExt cx="378720" cy="841320"/>
            </a:xfrm>
          </p:grpSpPr>
          <p:sp>
            <p:nvSpPr>
              <p:cNvPr id="826" name=""/>
              <p:cNvSpPr/>
              <p:nvPr/>
            </p:nvSpPr>
            <p:spPr>
              <a:xfrm flipH="1">
                <a:off x="5103360" y="163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5102640" y="20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in G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7010280" y="38098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authent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188040" y="1477800"/>
            <a:ext cx="405000" cy="487440"/>
            <a:chOff x="6188040" y="1477800"/>
            <a:chExt cx="405000" cy="487440"/>
          </a:xfrm>
        </p:grpSpPr>
        <p:sp>
          <p:nvSpPr>
            <p:cNvPr id="1619" name=""/>
            <p:cNvSpPr/>
            <p:nvPr/>
          </p:nvSpPr>
          <p:spPr>
            <a:xfrm>
              <a:off x="6188040" y="147780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216480" y="1611360"/>
              <a:ext cx="339840" cy="110880"/>
              <a:chOff x="6216480" y="1611360"/>
              <a:chExt cx="339840" cy="110880"/>
            </a:xfrm>
          </p:grpSpPr>
          <p:sp>
            <p:nvSpPr>
              <p:cNvPr id="1621" name=""/>
              <p:cNvSpPr/>
              <p:nvPr/>
            </p:nvSpPr>
            <p:spPr>
              <a:xfrm>
                <a:off x="6518160" y="1703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16480" y="16761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520" y="1616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259680" y="161136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6253200" y="1589040"/>
              <a:ext cx="233280" cy="225360"/>
              <a:chOff x="6253200" y="1589040"/>
              <a:chExt cx="233280" cy="225360"/>
            </a:xfrm>
          </p:grpSpPr>
          <p:sp>
            <p:nvSpPr>
              <p:cNvPr id="1626" name=""/>
              <p:cNvSpPr/>
              <p:nvPr/>
            </p:nvSpPr>
            <p:spPr>
              <a:xfrm>
                <a:off x="6269040" y="163008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53200" y="16873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07200" y="158904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6311880" y="1335240"/>
            <a:ext cx="344520" cy="680400"/>
            <a:chOff x="6311880" y="1335240"/>
            <a:chExt cx="344520" cy="680400"/>
          </a:xfrm>
        </p:grpSpPr>
        <p:sp>
          <p:nvSpPr>
            <p:cNvPr id="1630" name=""/>
            <p:cNvSpPr/>
            <p:nvPr/>
          </p:nvSpPr>
          <p:spPr>
            <a:xfrm>
              <a:off x="6335640" y="1822320"/>
              <a:ext cx="314280" cy="15516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45080" y="1906560"/>
              <a:ext cx="211320" cy="10908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11880" y="1335240"/>
              <a:ext cx="303120" cy="60768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32480" y="1346040"/>
              <a:ext cx="190440" cy="26964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34200" y="1527120"/>
              <a:ext cx="249120" cy="35208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473880" y="1403280"/>
              <a:ext cx="128520" cy="147240"/>
              <a:chOff x="6473880" y="1403280"/>
              <a:chExt cx="128520" cy="147240"/>
            </a:xfrm>
          </p:grpSpPr>
          <p:sp>
            <p:nvSpPr>
              <p:cNvPr id="1636" name=""/>
              <p:cNvSpPr/>
              <p:nvPr/>
            </p:nvSpPr>
            <p:spPr>
              <a:xfrm>
                <a:off x="6473880" y="1403280"/>
                <a:ext cx="128520" cy="14724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6505560" y="1428120"/>
                <a:ext cx="69840" cy="96120"/>
                <a:chOff x="6505560" y="1428120"/>
                <a:chExt cx="69840" cy="961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6537240" y="1470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56100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05560" y="149760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529320" y="15073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54880" y="1516680"/>
                  <a:ext cx="61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651996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543720" y="149292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6518160" y="14281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543720" y="14374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5674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510240" y="14626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5260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551640" y="145800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1" name=""/>
            <p:cNvGrpSpPr/>
            <p:nvPr/>
          </p:nvGrpSpPr>
          <p:grpSpPr>
            <a:xfrm>
              <a:off x="6373800" y="1579320"/>
              <a:ext cx="168120" cy="273960"/>
              <a:chOff x="6373800" y="1579320"/>
              <a:chExt cx="168120" cy="273960"/>
            </a:xfrm>
          </p:grpSpPr>
          <p:sp>
            <p:nvSpPr>
              <p:cNvPr id="1652" name=""/>
              <p:cNvSpPr/>
              <p:nvPr/>
            </p:nvSpPr>
            <p:spPr>
              <a:xfrm>
                <a:off x="6458040" y="18140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424560" y="157932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465960" y="15966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507000" y="16156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413400" y="162036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456240" y="16362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97640" y="165528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402240" y="165852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445080" y="1675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486480" y="16948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392880" y="1699560"/>
                <a:ext cx="3348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35720" y="171576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5320" y="17344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383160" y="1739520"/>
                <a:ext cx="352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24560" y="17568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5960" y="17744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73800" y="177912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16640" y="179496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0" name=""/>
          <p:cNvGrpSpPr/>
          <p:nvPr/>
        </p:nvGrpSpPr>
        <p:grpSpPr>
          <a:xfrm>
            <a:off x="6208560" y="1477800"/>
            <a:ext cx="198720" cy="227160"/>
            <a:chOff x="6208560" y="1477800"/>
            <a:chExt cx="198720" cy="227160"/>
          </a:xfrm>
        </p:grpSpPr>
        <p:grpSp>
          <p:nvGrpSpPr>
            <p:cNvPr id="1671" name=""/>
            <p:cNvGrpSpPr/>
            <p:nvPr/>
          </p:nvGrpSpPr>
          <p:grpSpPr>
            <a:xfrm>
              <a:off x="6272280" y="1549440"/>
              <a:ext cx="96840" cy="102960"/>
              <a:chOff x="6272280" y="1549440"/>
              <a:chExt cx="96840" cy="102960"/>
            </a:xfrm>
          </p:grpSpPr>
          <p:sp>
            <p:nvSpPr>
              <p:cNvPr id="1672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23040" y="1503360"/>
              <a:ext cx="71280" cy="81000"/>
              <a:chOff x="6323040" y="1503360"/>
              <a:chExt cx="71280" cy="81000"/>
            </a:xfrm>
          </p:grpSpPr>
          <p:sp>
            <p:nvSpPr>
              <p:cNvPr id="1675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6208560" y="1616040"/>
              <a:ext cx="152640" cy="88920"/>
              <a:chOff x="6208560" y="1616040"/>
              <a:chExt cx="152640" cy="88920"/>
            </a:xfrm>
          </p:grpSpPr>
          <p:sp>
            <p:nvSpPr>
              <p:cNvPr id="1678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6323040" y="147780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24829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2843280" y="1449360"/>
            <a:ext cx="183960" cy="493200"/>
            <a:chOff x="2843280" y="1449360"/>
            <a:chExt cx="183960" cy="493200"/>
          </a:xfrm>
        </p:grpSpPr>
        <p:grpSp>
          <p:nvGrpSpPr>
            <p:cNvPr id="1683" name=""/>
            <p:cNvGrpSpPr/>
            <p:nvPr/>
          </p:nvGrpSpPr>
          <p:grpSpPr>
            <a:xfrm>
              <a:off x="2846520" y="1619280"/>
              <a:ext cx="180720" cy="323280"/>
              <a:chOff x="2846520" y="1619280"/>
              <a:chExt cx="180720" cy="323280"/>
            </a:xfrm>
          </p:grpSpPr>
          <p:grpSp>
            <p:nvGrpSpPr>
              <p:cNvPr id="1684" name=""/>
              <p:cNvGrpSpPr/>
              <p:nvPr/>
            </p:nvGrpSpPr>
            <p:grpSpPr>
              <a:xfrm>
                <a:off x="2846520" y="1628640"/>
                <a:ext cx="115920" cy="311040"/>
                <a:chOff x="2846520" y="1628640"/>
                <a:chExt cx="115920" cy="3110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2892600" y="162864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2879640" y="163152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878200" y="169704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V="1">
                  <a:off x="2846520" y="183312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860560" y="183492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2859120" y="169668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894040" y="162864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"/>
              <p:cNvSpPr/>
              <p:nvPr/>
            </p:nvSpPr>
            <p:spPr>
              <a:xfrm flipV="1">
                <a:off x="2960640" y="181404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43360" y="169992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2943360" y="162072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935440" y="161928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936880" y="162864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2954160" y="168732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955960" y="183492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2843280" y="1465200"/>
              <a:ext cx="177840" cy="474480"/>
              <a:chOff x="2843280" y="1465200"/>
              <a:chExt cx="177840" cy="474480"/>
            </a:xfrm>
          </p:grpSpPr>
          <p:sp>
            <p:nvSpPr>
              <p:cNvPr id="1700" name=""/>
              <p:cNvSpPr/>
              <p:nvPr/>
            </p:nvSpPr>
            <p:spPr>
              <a:xfrm flipV="1">
                <a:off x="2843280" y="146520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916360" y="147960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960640" y="190008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924280" y="147456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44720" y="193680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2897280" y="144936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884320" y="1145520"/>
            <a:ext cx="812520" cy="721080"/>
            <a:chOff x="2884320" y="1145520"/>
            <a:chExt cx="812520" cy="721080"/>
          </a:xfrm>
        </p:grpSpPr>
        <p:grpSp>
          <p:nvGrpSpPr>
            <p:cNvPr id="1707" name=""/>
            <p:cNvGrpSpPr/>
            <p:nvPr/>
          </p:nvGrpSpPr>
          <p:grpSpPr>
            <a:xfrm>
              <a:off x="3165120" y="1145520"/>
              <a:ext cx="531720" cy="721080"/>
              <a:chOff x="3165120" y="1145520"/>
              <a:chExt cx="531720" cy="721080"/>
            </a:xfrm>
          </p:grpSpPr>
          <p:sp>
            <p:nvSpPr>
              <p:cNvPr id="1708" name=""/>
              <p:cNvSpPr/>
              <p:nvPr/>
            </p:nvSpPr>
            <p:spPr>
              <a:xfrm>
                <a:off x="3259440" y="114552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227760" y="119088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165120" y="124452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989080" y="1279440"/>
              <a:ext cx="447480" cy="479520"/>
              <a:chOff x="2989080" y="1279440"/>
              <a:chExt cx="447480" cy="479520"/>
            </a:xfrm>
          </p:grpSpPr>
          <p:sp>
            <p:nvSpPr>
              <p:cNvPr id="1712" name=""/>
              <p:cNvSpPr/>
              <p:nvPr/>
            </p:nvSpPr>
            <p:spPr>
              <a:xfrm>
                <a:off x="3069000" y="127944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41280" y="130932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89080" y="134640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951640" y="137700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14560" y="139644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84320" y="142992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07000" y="146124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76520" y="274320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209680" y="37339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438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66796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21400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700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97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70504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06560" y="4419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486400" y="274320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19920" y="373392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7816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485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9204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3372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510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707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51528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17160" y="44197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3526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905120" y="518148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560" y="53020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58092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52320" y="2651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440" y="5149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268880" y="54100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11120" y="2209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250680" y="21337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39520" y="33526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95160" y="5257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622280" y="41148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39040" y="609588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key generation and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6188040" y="1630440"/>
            <a:ext cx="405000" cy="487440"/>
            <a:chOff x="6188040" y="1630440"/>
            <a:chExt cx="405000" cy="487440"/>
          </a:xfrm>
        </p:grpSpPr>
        <p:sp>
          <p:nvSpPr>
            <p:cNvPr id="1755" name=""/>
            <p:cNvSpPr/>
            <p:nvPr/>
          </p:nvSpPr>
          <p:spPr>
            <a:xfrm>
              <a:off x="6188040" y="163044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6216480" y="1764000"/>
              <a:ext cx="339840" cy="110880"/>
              <a:chOff x="6216480" y="1764000"/>
              <a:chExt cx="339840" cy="110880"/>
            </a:xfrm>
          </p:grpSpPr>
          <p:sp>
            <p:nvSpPr>
              <p:cNvPr id="1757" name=""/>
              <p:cNvSpPr/>
              <p:nvPr/>
            </p:nvSpPr>
            <p:spPr>
              <a:xfrm>
                <a:off x="6518160" y="1855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216480" y="1828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275520" y="1768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59680" y="17640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6253200" y="1741680"/>
              <a:ext cx="233280" cy="225360"/>
              <a:chOff x="6253200" y="1741680"/>
              <a:chExt cx="233280" cy="225360"/>
            </a:xfrm>
          </p:grpSpPr>
          <p:sp>
            <p:nvSpPr>
              <p:cNvPr id="1762" name=""/>
              <p:cNvSpPr/>
              <p:nvPr/>
            </p:nvSpPr>
            <p:spPr>
              <a:xfrm>
                <a:off x="6269040" y="178272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53200" y="1839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07200" y="174168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6311880" y="1487520"/>
            <a:ext cx="344520" cy="681120"/>
            <a:chOff x="6311880" y="1487520"/>
            <a:chExt cx="344520" cy="681120"/>
          </a:xfrm>
        </p:grpSpPr>
        <p:sp>
          <p:nvSpPr>
            <p:cNvPr id="1766" name=""/>
            <p:cNvSpPr/>
            <p:nvPr/>
          </p:nvSpPr>
          <p:spPr>
            <a:xfrm>
              <a:off x="6335640" y="197496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45080" y="205920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1880" y="148752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32480" y="149868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34200" y="167976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473880" y="1555920"/>
              <a:ext cx="128520" cy="147600"/>
              <a:chOff x="6473880" y="1555920"/>
              <a:chExt cx="128520" cy="147600"/>
            </a:xfrm>
          </p:grpSpPr>
          <p:sp>
            <p:nvSpPr>
              <p:cNvPr id="1772" name=""/>
              <p:cNvSpPr/>
              <p:nvPr/>
            </p:nvSpPr>
            <p:spPr>
              <a:xfrm>
                <a:off x="6473880" y="155592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6505560" y="1581120"/>
                <a:ext cx="69840" cy="96840"/>
                <a:chOff x="6505560" y="1581120"/>
                <a:chExt cx="69840" cy="9684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537240" y="162396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56100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505560" y="16509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529320" y="166068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6554880" y="167004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51996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543720" y="16462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518160" y="15811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543720" y="15908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5674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510240" y="16160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5260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551640" y="16113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6373800" y="1731960"/>
              <a:ext cx="168120" cy="274680"/>
              <a:chOff x="6373800" y="1731960"/>
              <a:chExt cx="168120" cy="274680"/>
            </a:xfrm>
          </p:grpSpPr>
          <p:sp>
            <p:nvSpPr>
              <p:cNvPr id="1788" name=""/>
              <p:cNvSpPr/>
              <p:nvPr/>
            </p:nvSpPr>
            <p:spPr>
              <a:xfrm>
                <a:off x="6458040" y="19670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4560" y="173196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65960" y="17496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507000" y="1768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13400" y="177336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56240" y="17892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97640" y="180828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02240" y="1811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45080" y="182880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86480" y="18478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92880" y="185256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720" y="1868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75320" y="18874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383160" y="189252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24560" y="1909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65960" y="1927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73800" y="193212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16640" y="19479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6" name=""/>
          <p:cNvGrpSpPr/>
          <p:nvPr/>
        </p:nvGrpSpPr>
        <p:grpSpPr>
          <a:xfrm>
            <a:off x="6208560" y="1630440"/>
            <a:ext cx="198720" cy="226440"/>
            <a:chOff x="6208560" y="1630440"/>
            <a:chExt cx="198720" cy="226440"/>
          </a:xfrm>
        </p:grpSpPr>
        <p:grpSp>
          <p:nvGrpSpPr>
            <p:cNvPr id="1807" name=""/>
            <p:cNvGrpSpPr/>
            <p:nvPr/>
          </p:nvGrpSpPr>
          <p:grpSpPr>
            <a:xfrm>
              <a:off x="6272280" y="1701720"/>
              <a:ext cx="96840" cy="102600"/>
              <a:chOff x="6272280" y="1701720"/>
              <a:chExt cx="96840" cy="102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6323040" y="1655640"/>
              <a:ext cx="71280" cy="80640"/>
              <a:chOff x="6323040" y="1655640"/>
              <a:chExt cx="71280" cy="80640"/>
            </a:xfrm>
          </p:grpSpPr>
          <p:sp>
            <p:nvSpPr>
              <p:cNvPr id="1811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6208560" y="1768320"/>
              <a:ext cx="152640" cy="88560"/>
              <a:chOff x="6208560" y="1768320"/>
              <a:chExt cx="152640" cy="88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"/>
            <p:cNvSpPr/>
            <p:nvPr/>
          </p:nvSpPr>
          <p:spPr>
            <a:xfrm>
              <a:off x="6323040" y="1630440"/>
              <a:ext cx="84240" cy="5364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2209680" y="1676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2570040" y="1601640"/>
            <a:ext cx="184320" cy="493200"/>
            <a:chOff x="2570040" y="1601640"/>
            <a:chExt cx="184320" cy="493200"/>
          </a:xfrm>
        </p:grpSpPr>
        <p:grpSp>
          <p:nvGrpSpPr>
            <p:cNvPr id="1819" name=""/>
            <p:cNvGrpSpPr/>
            <p:nvPr/>
          </p:nvGrpSpPr>
          <p:grpSpPr>
            <a:xfrm>
              <a:off x="2573280" y="1771560"/>
              <a:ext cx="181080" cy="323280"/>
              <a:chOff x="2573280" y="1771560"/>
              <a:chExt cx="181080" cy="3232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2573280" y="1780920"/>
                <a:ext cx="115920" cy="311040"/>
                <a:chOff x="2573280" y="1780920"/>
                <a:chExt cx="115920" cy="3110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2619360" y="178092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V="1">
                  <a:off x="2606760" y="178380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604960" y="184932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2573280" y="198540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87680" y="198720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2585880" y="184896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620800" y="178092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"/>
              <p:cNvSpPr/>
              <p:nvPr/>
            </p:nvSpPr>
            <p:spPr>
              <a:xfrm flipV="1">
                <a:off x="2687760" y="196632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670120" y="185220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2670120" y="177300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62200" y="177156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664000" y="178092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2681280" y="183960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82720" y="198720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2570040" y="1617480"/>
              <a:ext cx="177840" cy="474480"/>
              <a:chOff x="2570040" y="1617480"/>
              <a:chExt cx="177840" cy="47448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2570040" y="161748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43120" y="163188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2687760" y="205236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51040" y="162684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71840" y="208908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2624040" y="160164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2611440" y="1298160"/>
            <a:ext cx="812520" cy="721080"/>
            <a:chOff x="2611440" y="1298160"/>
            <a:chExt cx="812520" cy="721080"/>
          </a:xfrm>
        </p:grpSpPr>
        <p:grpSp>
          <p:nvGrpSpPr>
            <p:cNvPr id="1843" name=""/>
            <p:cNvGrpSpPr/>
            <p:nvPr/>
          </p:nvGrpSpPr>
          <p:grpSpPr>
            <a:xfrm>
              <a:off x="2892600" y="1298160"/>
              <a:ext cx="531360" cy="721080"/>
              <a:chOff x="2892600" y="1298160"/>
              <a:chExt cx="531360" cy="721080"/>
            </a:xfrm>
          </p:grpSpPr>
          <p:sp>
            <p:nvSpPr>
              <p:cNvPr id="1844" name=""/>
              <p:cNvSpPr/>
              <p:nvPr/>
            </p:nvSpPr>
            <p:spPr>
              <a:xfrm>
                <a:off x="2985840" y="129816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54160" y="134352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92600" y="139716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716920" y="1432080"/>
              <a:ext cx="446760" cy="479520"/>
              <a:chOff x="2716920" y="1432080"/>
              <a:chExt cx="446760" cy="479520"/>
            </a:xfrm>
          </p:grpSpPr>
          <p:sp>
            <p:nvSpPr>
              <p:cNvPr id="1848" name=""/>
              <p:cNvSpPr/>
              <p:nvPr/>
            </p:nvSpPr>
            <p:spPr>
              <a:xfrm>
                <a:off x="2795400" y="143208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69120" y="146196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716920" y="149904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78040" y="152964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41680" y="154908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1440" y="158256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33400" y="161388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167652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676520" y="289548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09680" y="388620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718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4382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66796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1400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00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97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40048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52480" y="467676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2895480"/>
            <a:ext cx="2057400" cy="198144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7816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2485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79204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63372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10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707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526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560" y="5454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52320" y="28036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040280" y="5486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2160" y="233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869440" y="22860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65080" y="33368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95160" y="5607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622280" y="33368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48640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8176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487692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1036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17188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276720" y="606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76720" y="62960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773840" y="5715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66904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909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0296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008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0560" y="464832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523880" y="4638600"/>
          <a:ext cx="6526440" cy="20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38600"/>
                    <a:ext cx="652644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PRS 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3" name=""/>
          <p:cNvGraphicFramePr/>
          <p:nvPr/>
        </p:nvGraphicFramePr>
        <p:xfrm>
          <a:off x="793800" y="192888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92888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609480" y="4191120"/>
          <a:ext cx="7923240" cy="1904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91120"/>
                    <a:ext cx="79232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-95 (CdmaOne): [TIA/EIA IS-95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es of 800MHz and 1900MHz b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lot channel (code 0), synchronization channel (code 32), 7 paging channels, upto 63 traffic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frequency-dependent transmission impairments have less effect 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ath resistance – chipping codes used for CDMA exhibit low cross correlation and low autocor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– privacy is inherent since spread spectrum is obtained by use of noise-like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ceful degradation – system only gradually degrades as more users access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rawback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jamming – arriving transmissions from multiple users not aligned on chip boundaries unless users are perfectly 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-far problem – signals closer to the receiver are received with less attenuation than signals farther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requires that the mobile acquires the new cell before it relinquishes the old; this is more complex than hard handoff used in FDMA and TDMA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KE receiver – when multiple versions of a signal arrive more than one chip interval apart, RAKE receiver attempts to recover signals from multiple paths and combin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achieves better performance than simply recovering dominant signal and treating remaining signals a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mobile station temporarily connected to more than one base station simultane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roaches to Cope with Increasing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borrowing – frequencies are taken from adjacent cells by conges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plitting – cells in areas of high usage can be split into smaller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ectoring – cells are divided into a number of wedge-shaped sectors, each with their own set of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cells – antennas move to buildings, hills, and lamp p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inciple of RAKE Rece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64771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Channels Supported by Forward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(channel 0) - allows the mobile unit to acquire timing information, provides phase reference and provides means for signal strength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ation (channel 32) - used by mobile station to obtain identification information about cellul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(channels 1 to 7) - contain messages for one or more mobil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(channels 8 to 31 and 33 to 63) – the forward channel supports 55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is encoded at a rate of 855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for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mitted in 2-ms blocks with forward error correction provided by a convolutional en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rleaved in blocks to reduce effects of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re scrambled, serving as a privacy m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 information inserted into traffic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-SS function spreads the 19.2 kbps to a rate of 1.2288 Mbps using one row of 64 x 64 Walsh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it stream modulated onto the carrier using QPSK modulat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quality comparable to the public switched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 kbps data rate available to users in high-speed motor vehicles over larg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4 kbps available to pedestrians standing or moving slowly over small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2.048 Mbps for offic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al / asymmetrical data transmission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packet switched and circuit switched data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ive interface to the Internet to reflect efficiently the common asymmetry between inbound and outbound traf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use of the available spectrum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 wide variety of mobile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to allow the introduction of new services and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lternative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– limit channel usage to 5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 rate – depends on desired data rate, need for error control, and bandwidth limitations; 3 Mcps or more is reaso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rate – advantage is that the system can flexibly support multiple simultaneous applications from a given user and can efficiently use available capacity by only providing the capacity required for each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s 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tation (BS) – includes an antenna, a controller, and a 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telecommunications switching office (MTSO) – connects calls between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hannels available between mobile unit and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hannels – used to exchange information having to do with setting up and maintaining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hannels – carry voice or data connection betwee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an MTSO Controlled Call between Mobile U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unit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-originated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ccep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uevara Noubir</cp:lastModifiedBy>
  <dcterms:modified xsi:type="dcterms:W3CDTF">2002-03-07T20:55:03Z</dcterms:modified>
  <cp:revision>81</cp:revision>
  <dc:subject/>
  <dc:title>Wireless Communications and Networks</dc:title>
</cp:coreProperties>
</file>