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8030-308C-45FA-A467-5F5E76F5C7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od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a digital sequence of information bits into an analog signal suitable for transmission over the communication medium (chann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during which the amplitude, frequency, or the phase of a carrier changes in accordance with the information to be trans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tion associates eac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its to a signa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chosen amo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nd transmission versus carrier modulation transm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nd: signal within [0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 (e.g., c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r modulation: signal within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modulation sche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modulation, Phase modulation, Frequency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eaver transform non awgn into aw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ma^2 =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200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628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3E6-39E7-47F3-B4E0-11C132F3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029-9A3D-46C8-B016-112F6DFF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849-7671-4232-AA23-DD815FA0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7D6-2FBE-4E88-9B23-4373925E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BA7-A605-4125-A44C-05F0622E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E8D6-E2A1-4DC7-9056-AE8BB6CF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DF5-CFA6-48D4-9EFB-43F92F7B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5365-47C6-450D-AFD0-E1E84C68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B26-40F4-48BB-A679-62389CDD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8AC-B2DA-44F9-8546-25E4DB1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A1A-C166-451C-AEF1-610804A0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8200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2628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64E-1B13-4FF7-BEE8-503C2EEA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8560" y="6354720"/>
            <a:ext cx="68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3525 Wireless Networks: Signal Encoding – Spread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976880" y="640080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5C08-12CC-409E-A139-128550318DD7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C7E5-0709-40F8-9775-1174EA0F90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bir@ccs.ne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-Shift Ke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ceptible to sudden gai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modul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voice-grade lines, used up to 1200 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ansmit digital data over optical f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inary Frequency-Shift Keying (B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ary digits represented by two different frequencies near the carrier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fset from carrier frequenc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equal but opposite amou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03440" y="3429000"/>
                <a:ext cx="17017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00600" y="3497400"/>
                <a:ext cx="182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86200" y="3954600"/>
                <a:ext cx="1859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67600" y="352728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262560" y="3954600"/>
                <a:ext cx="1332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inary Frequency-Shift Keying (B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usceptible to error than 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voice-grade lines, used up to 1200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high-frequency (3 to 30 MHz) radio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at higher frequencies on LANs that use coaxial c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two frequencies ar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andwidth efficient but more susceptible to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1 – M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he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he difference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ber of different signal elements = 2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ber of bits per signal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3276720"/>
                <a:ext cx="3106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72200" y="3352680"/>
                <a:ext cx="1738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tch data rate of input bit stream, each output signal element is held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the bit period (data rate =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one signal element encod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bandwidth requir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requency separation required 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modulator requires a bandwidth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9917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level PSK (B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wo phases to represent binary dig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09680" y="2895480"/>
                <a:ext cx="17020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505320" y="2971800"/>
                <a:ext cx="185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505320" y="3429000"/>
                <a:ext cx="2417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943600" y="299412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43600" y="342900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41560" y="4245120"/>
                <a:ext cx="99864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05320" y="4267080"/>
                <a:ext cx="1858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505320" y="4800600"/>
                <a:ext cx="2106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943600" y="428940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943600" y="480060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PSK (D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shift with reference to previous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0 – signal burst of same phase as previous signal bu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1 – signal burst of opposite phase to previous signal bu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3237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-level PSK (Q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represents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2428920"/>
                <a:ext cx="243828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>
                                <m:limLow>
                                  <m:e>
                                    <m:limUpp>
                                      <m:e/>
                                      <m:lim/>
                                    </m:limUpp>
                                  </m:e>
                                  <m:lim/>
                                </m:limLow>
                              </m:lim>
                            </m:limUpp>
                          </m:e>
                          <m:lim>
                            <m:limLow>
                              <m:e>
                                <m:limUpp>
                                  <m:e/>
                                  <m:lim/>
                                </m:limUpp>
                              </m:e>
                              <m:lim/>
                            </m:limLow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962520" y="2276640"/>
                <a:ext cx="24382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467480" y="258120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962520" y="3191040"/>
                <a:ext cx="2666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62520" y="4181400"/>
                <a:ext cx="266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62520" y="5095800"/>
                <a:ext cx="2666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467480" y="3481560"/>
                <a:ext cx="4651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467480" y="4395960"/>
                <a:ext cx="495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467480" y="5234040"/>
                <a:ext cx="435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Choosing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,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less complex and expensive than digital-to-analog modulatio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,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s use of modern digital transmission and switching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leve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ultiple phase angles with each angle having more than one amplitude, multiple signals elements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dulation rate, bau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ata rate, b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different signal elements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bits per signal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048120"/>
                <a:ext cx="2666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of modulated signa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, P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1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&lt; r &lt; 1; related to how signal is fi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of modulated signa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bits encoded per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different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57600" y="2133720"/>
                <a:ext cx="43434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57600" y="3352680"/>
                <a:ext cx="27432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Quadrature 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AM is a combination of ASK and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fferent signals sent simultaneously on the same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0" y="3429000"/>
                <a:ext cx="58737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Quadrature 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ve White Gaussian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previously seen, noise has several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mal noise source is the motion of electrons in amplifiers and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statistics were determined using quantum mechani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flat for all frequencies up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generally call it: Additive White Gaussian Noise (AW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probability density function (pdf) (zero mean noise voltage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9880" y="5486400"/>
                <a:ext cx="2714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 Error Rate [Sklar1988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or coherently detected BPS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or coherently detected BFS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198520" y="2014560"/>
                <a:ext cx="38419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38440" y="4352760"/>
                <a:ext cx="37368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Analog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of digital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nly analog transmission facilities are available, digital to analog conversion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of analog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gher frequency may be needed for effectiv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tion permits 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 to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modulation (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e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modulation (F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modulation (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035080" y="2357280"/>
                <a:ext cx="5126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pu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io of amplitude of input signal to carr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k.a double sideband transmitted carrier (DSB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Choosing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,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ransmission media will only propagate analog signa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optical fiber and 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,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 data in electrical form can be transmitted easily and chea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with voice transmission over voice-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ectrum of AM sig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5867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d p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otal transmitted power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ransmitted power in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48120" y="2133720"/>
                <a:ext cx="29718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ngle Sideband (SS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t of AM is single sideband (SS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only one side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other sideband and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half the bandwidth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power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ressed carrier can’t be used for synchronization purpo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s proportional to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hase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971800" y="2209680"/>
                <a:ext cx="4114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9880" y="4495680"/>
                <a:ext cx="22129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of the phase is proportional to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requency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3505320"/>
                <a:ext cx="235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d to AM, FM and PM result in a signal whose bandwidt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centered at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has a magnitude that is much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modulation includes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which produces a wide range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FM and PM require greater bandwidth than 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son’s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ula for FM be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733920" y="2590920"/>
                <a:ext cx="2376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33920" y="5486400"/>
                <a:ext cx="2441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819520" y="3048120"/>
                <a:ext cx="44971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ΔF</m:t>
                                  </m:r>
                                </m:num>
                                <m:den>
                                  <m:r>
                                    <m:t xml:space="preserve">B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B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m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for PM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for F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 to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e code modulation (P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modulation (D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alog Data to Digital Sig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nalog data have been converted to digital signals, the digital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ansmitted using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encoded as a digital signal using a code other than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verted to an analog signal, using previously discussed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sampling the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nalog sample is assigned a binary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 samples are referred to as pulse amplitude modulation (PAM) s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gital signal consists of block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, where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number is the amplitude of a PCM pu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 Encoding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etermines how successful a receiver will be in interpreting an incoming sign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data rate increases bit erro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SNR decreases bit erro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bandwidth allows an increase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5715000" cy="4849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0" y="6435720"/>
            <a:ext cx="44956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quantizing the PAM pulse, original signal is only approxi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s to quantizing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-to-noise ratio for quantizing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each additional bit increases SNR by 6 dB, or a factor of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3809880"/>
                <a:ext cx="66294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input is approximated by staircase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s up or down by one quantization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each sampling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t stream approximates derivative of analog signal (rather than amplitu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is generated if function goes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other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629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mportant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step assigned to each binary digi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 improved by increasing sampling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is increases the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 of DM over PCM is the simplicity of its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Growth of Digital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in popularity of digital techniques for sending analog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rs are used instead of ampl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dditiv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M is used instead of 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modulation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to digital signaling allows use of more efficient digital switching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s fed into a channel encod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nalog signal with narrow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is further modulated using sequence of digi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code or spread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by pseudonoise, or pseudo-random number gen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of modulation is to increase bandwidth of signal to be transmit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receiving end, digit sequence is used to demodulate the spread spectrum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s fed into a channel decoder to recov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Used to Compar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ncoding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lack of high-frequency components, less bandwidth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dc component, ac coupling via transformer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of a channel is worse near band ed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e of determining beginning and end of each bit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be gained from apparent waste of spectru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ity from various kinds of noise and multipath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hiding and encrypting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users can independently use the same higher bandwidth with very little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 (FH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s broadcast over seemingly random series of radio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of channels allocated for the FH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th of each channel corresponds to bandwidth of inpu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hops from frequency to frequency at fixed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 operates in one channel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are transmitted using some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successive interval, a new carrier frequency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sequence dictated by spreading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, hopping between frequencies in synchronization with transmitter, picks up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vesdroppers hear only unintelligible bl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s to jam signal on one frequency succeed only at knocking out a few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HSS Using MF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FSK signal is translated to a new frequency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s by modulating the MFSK signal with the FHSS carrier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ata r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a bi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signal eleme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-frequency-hop spre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fast-frequency-hop spre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HSS Performance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number of frequencie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a system that is quite resistant to j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mer must jam all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fixed power, this reduces the jamming power in any one frequency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rect Sequence Spread Spectrum (DS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t in original signal is represented by multiple bits in the transmitted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ing code spreads signal across a wider frequency b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is in direct proportion to number of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technique combines digital information stream with the spreading code bit stream using exclusive-OR (Figure 7.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rect Sequence Spread Spectrum (DS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SSS Using BP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BPSK sig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takes values +1, -1] to 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mplitud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 = discrete function [+1, -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ceiver, incoming signal multipli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incoming signal is reco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SSS Using BP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4104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Used to Compar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ncoding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in the presence of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er the signal rate to achieve a given data rate, the greater the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de-Division Multiple Access (CDM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rinciples of CD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ate of data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each bit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ps are a user-specific fixed 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 data rate of new channel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 and code is a sequence of 1s and -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‘1’ bit, A sends code as chip 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1, c2, c3, c4, c5, c6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‘0’ bit, A sends complement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c1, -c2, -c3, -c4, -c5, -c6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knows sender’s code and performs electronic decod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, d2, d3, d4, d5, d6&gt; = received chip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, c2, c3, c4, c5, c6&gt; = sender’s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447920" y="4495680"/>
                <a:ext cx="7238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A code = &lt;1, –1, –1, 1, –1, 1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1 bit = &lt;1, –1, –1, 1, –1, 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0 bit = &lt;–1, 1, 1, –1, 1, –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B code = &lt;1, 1, –1, – 1, 1, 1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1 bit = &lt;1, 1, –1, –1, 1, 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receiving with A’s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’s code) x (received chip patt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‘1’ bit: 6 -&gt;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‘0’ bit: -6 -&gt;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 ‘1’ bit: 0 -&gt; unwanted signal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for Direct Sequence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553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Spreading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Sequence Categor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FH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 most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SSS systems not employing CD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 most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SSS CDMA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N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 generator produces periodic sequence that appears to be 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 Sequ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d by an algorithm using initial s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isn’t statistically random but will pass many test of random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s referred to as pseudorandom numbers or pseudonoise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ess algorithm and seed are known, the sequence is impractical to predi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t PN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proper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ar Feedback Shift Register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2103480"/>
            <a:ext cx="87631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erties of M-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1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s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z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2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indow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id along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=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 shifts,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uple appears once, except for the all zeros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tains one run of one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run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run of ones and one run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uns of ones and two runs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ones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zeros, length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erties of M-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4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iodic autocorrelation of a ±1         m-sequenc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286000" y="3276720"/>
                <a:ext cx="5486400" cy="16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         </m:t>
                          </m:r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N, 2N,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 to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-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difference of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difference near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-shift keying (P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of carrier signal shif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determining how much similarity one set of data has with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between –1 and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The second sequence matches the first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There is no relation at all between the two 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The two sequences are mirror im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corre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arison between two sequences from different sources rather than a shifted copy of a sequence with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vantages of Cross Cor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 correlation between an m-sequence and noise is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perty is useful to the receiver in filtering out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 correlation between two different m-sequences is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perty is useful for CDMA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 receiver to discriminate among spread spectrum signals generated by different m-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 sequences constructed by the XOR of two m-sequences with the same c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s have well-defined cross correlation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imple circuitry needed to generate large number of unique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ollowing example (Figure 7.16a) two shift registers generate the two m-sequences and these are then bitwise X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096240" cy="35701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752480" y="5486400"/>
            <a:ext cx="38862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rthogonal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thogonal cod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airwise cross correlations are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- and variable-length codes used in CDMA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DMA application, each mobile user uses one sequence in the set as a spread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zero cross correlation among all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sh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Length 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alsh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Walsh codes of leng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the n rows of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sh matri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imension of the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row is orthogonal to every other row and to the logical not of every other r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ight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correlation between different shifts of Walsh sequences is not z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987720" y="2819520"/>
                <a:ext cx="307332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ical Multiple Spreading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 data rate by an orthogonal code (channelization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tual orthogonality among all users in the sam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spread result by a PN sequence (scrambling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tual randomness (low cross correlation) between users in differe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199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-Shift Ke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inary digit represented by presence of carrier, at constant amplitu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binary digit represented by absence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the carrier signal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(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793960" y="3505320"/>
                <a:ext cx="170172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176720" y="3559320"/>
                <a:ext cx="1859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1440" y="4076640"/>
                <a:ext cx="309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58120" y="360360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553080" y="403056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1-24T22:15:43Z</dcterms:modified>
  <cp:revision>63</cp:revision>
  <dc:subject/>
  <dc:title>Wireless Communications and Networks</dc:title>
</cp:coreProperties>
</file>