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B9C0ED9-8570-4842-A699-4BCC4A3EF5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nduced on eart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with water and a running 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2.734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distance between two anten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1 = 100m, h2 = 0 =&gt; 41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h2 = 10m =&gt; h1 = 46.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dB loss every time the distance is doub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ce: A transmitter produces 50W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 in dBm: 47dBm, in dBW: 17dB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 at 100m: -24.5dBm, at 10km: -64.5dBm? (40dB diffe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factors in communic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 signal level, external noise, internal noise (tx/rx eq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nel capacity depends on Signal Noise Ratio S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HF (upto 30MHz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ise in the propagation medium predom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VHF (from 30MHz - abov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 and Rx noise (amplification at receiver) predomin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external noise: galactic, atmospheric,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ssive load induces noi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 kT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k = 1.38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emperature (290K), B: bandwid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antenn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)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k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 = 290K =&gt; N0 = 4 10^-21W/H = -204dbW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 a + 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: Occurs when a radio wave propagating in one medium impinges upon another medium: partial reflection + partial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all incident energy is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electr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partial reflection and partial transmission in the second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: Occurs when the radio path is obstructed with a surface that has sharp irregularities (ed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s: knife-edge and multiple knife-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ttering: Occurs when the medium consists of small objects (vs.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energy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ug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rfaces is spread out (diffused) in all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face is rough if: protuberance &gt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 sin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fadin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leigh: no distinct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ian: LOS + 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wer in dominant path/power in the scattered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actice values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computed from meas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 in Tokyo area by Okum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se models use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s on building height, number of 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F single floor, MF: multiple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b/N0 required to achieve  6bps/H =&gt; (1/6)(2^6-1) = 10.5 = 10.21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 that propagates without moving it’s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don’t need matter to propa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waves: from 30KHz to 3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c/f =&gt; 10Km, 1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ic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is it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parabolic reflective antenna with a diameter of 2m operating at 12GHz. What is the effective area and antenna 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pi r^2 = 3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 = 0.56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bda = c/f = 0.02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7A/l^2 =&gt; G = 35.186 = 45.46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531-4A49-493F-884E-E2BF6AC4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590D-DD8A-4757-B965-33957558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051-DF36-474D-AD48-B4E0A8BE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CAB-F067-400B-B58E-D33E5304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784E-96C1-4A76-A57F-E1030073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9D6-9A08-4D94-866E-4674F85C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CBB1-9B05-46BE-9FD9-8068B2AC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CCB7-A02A-4A9F-BCB0-254EBE46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756-DC76-4658-B615-A03560D4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DFF-E84B-4BDF-BC82-058B478B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DC8-2CEC-471E-8F4A-972C6613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610F-FD32-496C-B5F3-6E23E214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134640" y="6281640"/>
            <a:ext cx="41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3525, Winter 2002: lecture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47720" y="637380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5A6B-510E-42CA-A4E7-3D2BDF9C9133}" type="slidenum">
              <a:rPr b="0" lang="en-US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2D2E-ED98-48F2-B043-2F37785EE7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s and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noubir@ccs.ne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Wireless Communications and Networks, William Stallings, Prentice H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agation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-of-sigh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447920" cy="141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4852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ntour of the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pagate considerable di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ies up to 2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reflected from ionized layer of atmosphere back down to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can travel a number of hops, back and forth between ionosphere and earth’s su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 effect caused by re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ateur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933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ing and receiving antennas must be within 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 communication – signal above 30 MHz not reflected by ionosp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communication – antennas with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of site due to re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ion – bending of microwaves by the atmosp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of electromagnetic wave is a function of the density of the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ve changes medium, speed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bends at the boundary between medi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, or radio,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istance between antenna and horizon (k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ntenna height (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adjustment factor to account for refraction, rule of thumb K = 4/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00400" y="1905120"/>
                <a:ext cx="2438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00400" y="3200400"/>
                <a:ext cx="2809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istance between two antennas for LOS propag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14600" y="2895480"/>
                <a:ext cx="3965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OS Wireless Transmission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and attenuation disto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552320"/>
            <a:ext cx="7964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tion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 of Sight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ding in Mobile Environment and Compen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enuation (Pathlo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 of signal falls off with distance over transmission me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factors for unguided med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signal must have sufficient strength so that circuitry in the receiver can interpret th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must maintain a level sufficiently higher than noise to be received withou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uation is greater at higher frequencies, causing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, ideal isotropic anten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ignal power at transmitt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ignal power at receiv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ropagation distance between anten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speed of light (» 3 ´ 10 8 m/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 the same units (e.g., met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438280" y="2057400"/>
                <a:ext cx="45849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equation can be reca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63560" y="2666880"/>
                <a:ext cx="3913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182680" y="3809880"/>
                <a:ext cx="45529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82680" y="4495680"/>
                <a:ext cx="65502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ain of transmitt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ain of receiv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ffective area of transmitt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ffective area of receiv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76520" y="2438280"/>
                <a:ext cx="6856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 can be recast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676520" y="3048120"/>
                <a:ext cx="5244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09680" y="3809880"/>
                <a:ext cx="644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odulation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 due to agitation of elect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 all electronic devices and transmiss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elimin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of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ly significant for satellit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unt of thermal noise to be found in a bandwidth of 1Hz in any device or conductor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oise power density in watts per 1 Hz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Boltzmann's constant = 1.3803 ´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/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emperature, in kelvins (absolute temperat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235320" y="3048120"/>
                <a:ext cx="3386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/H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 assumed to be independent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 noise present in a bandwid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tz (in watt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in decibel-wat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809880" y="3200400"/>
                <a:ext cx="1828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T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905120" y="4419720"/>
                <a:ext cx="5790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325600" y="5029200"/>
                <a:ext cx="6267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dB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oise 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odulation noise – occurs if signals with different frequencies share the sam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caused by a signal produced at a frequency that is the sum or difference of original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talk – unwanted coupling between sign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 noise – irregular pulses or noise spi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duration and of relatively 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external electromagnetic disturbances, or faults and flaws in the communications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ib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6120" y="1600200"/>
            <a:ext cx="8736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cibel Un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unit describing transmission gain (loss) and relative power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i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B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bels above or below 1W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BW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bels above or below 1Milliwatt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Bm) = 10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1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1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10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pression 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signal energy per bit to noise power density per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t error rate for digital data i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a desired error rate, parameters of this formula can be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it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transmitted signal power must increase to maintain requir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76720" y="2438280"/>
                <a:ext cx="28652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 – water vapor and oxygen contribute to atten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 – obstacles reflect signals so that multiple copies with varying delays are rece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 – bending of radio waves as they propagate through the atmosp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479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3152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 - occurs when signal encounters a surface that is large relative to the wavelength of the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- occurs at the edge of an impenetrable body that is large compared to wavelength of radio w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ttering – occurs when incoming signal hits an object whose size in the order of the wavelength of the signal or 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Effects of 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copies of a signal may arrive at different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hases add destructively, the signal level relative to noise declines, making detection more diffic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ymbol interference (I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delayed copies of a pulse may arrive at the same time as the primary pulse for a subsequent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F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at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yleigh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ian 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io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scale path loss + small-scale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scale path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door propa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 d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s into account terrain profile (e.g., mountains, hills, large building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oor propagation (inside building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ances covered are much smaller and the environment is more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interest due to PCS and W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ied as line-of-sight (LOS) or obstructed (OB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-scale fading: multi-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-distance path loss model: average path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-normal shadowing (signal level at a specific distance have Gaussian distribu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09480" y="2362320"/>
                <a:ext cx="3494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6" name=""/>
          <p:cNvGrpSpPr/>
          <p:nvPr/>
        </p:nvGrpSpPr>
        <p:grpSpPr>
          <a:xfrm>
            <a:off x="4572000" y="2286000"/>
            <a:ext cx="4074840" cy="2125800"/>
            <a:chOff x="4572000" y="2286000"/>
            <a:chExt cx="4074840" cy="2125800"/>
          </a:xfrm>
        </p:grpSpPr>
        <p:grpSp>
          <p:nvGrpSpPr>
            <p:cNvPr id="187" name=""/>
            <p:cNvGrpSpPr/>
            <p:nvPr/>
          </p:nvGrpSpPr>
          <p:grpSpPr>
            <a:xfrm>
              <a:off x="4577040" y="2288160"/>
              <a:ext cx="4063320" cy="2121120"/>
              <a:chOff x="4577040" y="2288160"/>
              <a:chExt cx="4063320" cy="212112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577040" y="2288160"/>
                <a:ext cx="2126520" cy="302760"/>
                <a:chOff x="4577040" y="2288160"/>
                <a:chExt cx="2126520" cy="3027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577040" y="228816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4577040" y="2288160"/>
                  <a:ext cx="2126160" cy="302760"/>
                  <a:chOff x="4577040" y="2288160"/>
                  <a:chExt cx="2126160" cy="30276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4655520" y="228816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Environ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4577040" y="228816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703920" y="2288160"/>
                <a:ext cx="1936440" cy="302760"/>
                <a:chOff x="6703920" y="2288160"/>
                <a:chExt cx="1936440" cy="3027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782400" y="228816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th Loss Exponent 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03920" y="228816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577040" y="2590920"/>
                <a:ext cx="2126520" cy="302760"/>
                <a:chOff x="4577040" y="2590920"/>
                <a:chExt cx="2126520" cy="3027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577040" y="25909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4577040" y="2590920"/>
                  <a:ext cx="2126160" cy="302760"/>
                  <a:chOff x="4577040" y="2590920"/>
                  <a:chExt cx="2126160" cy="30276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4655520" y="25909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ree sp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4577040" y="25909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6703920" y="2590920"/>
                <a:ext cx="1936440" cy="302760"/>
                <a:chOff x="6703920" y="2590920"/>
                <a:chExt cx="1936440" cy="30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782400" y="25909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703920" y="25909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577040" y="2894040"/>
                <a:ext cx="2126520" cy="302760"/>
                <a:chOff x="4577040" y="2894040"/>
                <a:chExt cx="2126520" cy="3027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577040" y="289404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4577040" y="2894040"/>
                  <a:ext cx="2126160" cy="302760"/>
                  <a:chOff x="4577040" y="2894040"/>
                  <a:chExt cx="2126160" cy="3027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4655520" y="289404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Urban area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4577040" y="289404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" name=""/>
              <p:cNvGrpSpPr/>
              <p:nvPr/>
            </p:nvGrpSpPr>
            <p:grpSpPr>
              <a:xfrm>
                <a:off x="6703920" y="2894040"/>
                <a:ext cx="1936440" cy="302760"/>
                <a:chOff x="6703920" y="2894040"/>
                <a:chExt cx="1936440" cy="3027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782400" y="289404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7 to 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703920" y="289404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577040" y="3197160"/>
                <a:ext cx="2126520" cy="302760"/>
                <a:chOff x="4577040" y="3197160"/>
                <a:chExt cx="2126520" cy="3027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577040" y="319716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4577040" y="3197160"/>
                  <a:ext cx="2126160" cy="302760"/>
                  <a:chOff x="4577040" y="3197160"/>
                  <a:chExt cx="2126160" cy="30276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4655520" y="319716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hadowed urban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4577040" y="319716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7" name=""/>
              <p:cNvGrpSpPr/>
              <p:nvPr/>
            </p:nvGrpSpPr>
            <p:grpSpPr>
              <a:xfrm>
                <a:off x="6703920" y="3197160"/>
                <a:ext cx="1936440" cy="302760"/>
                <a:chOff x="6703920" y="3197160"/>
                <a:chExt cx="1936440" cy="3027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6782400" y="319716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to 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03920" y="319716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4577040" y="3500280"/>
                <a:ext cx="2126520" cy="303120"/>
                <a:chOff x="4577040" y="3500280"/>
                <a:chExt cx="2126520" cy="3031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577040" y="3500280"/>
                  <a:ext cx="2126520" cy="3031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4577040" y="3500280"/>
                  <a:ext cx="2126160" cy="303120"/>
                  <a:chOff x="4577040" y="3500280"/>
                  <a:chExt cx="2126160" cy="30312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655520" y="3500280"/>
                    <a:ext cx="1968840" cy="30312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 building L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577040" y="3500280"/>
                    <a:ext cx="2126160" cy="30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5" name=""/>
              <p:cNvGrpSpPr/>
              <p:nvPr/>
            </p:nvGrpSpPr>
            <p:grpSpPr>
              <a:xfrm>
                <a:off x="6703920" y="3500280"/>
                <a:ext cx="1936440" cy="303120"/>
                <a:chOff x="6703920" y="3500280"/>
                <a:chExt cx="1936440" cy="3031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6782400" y="3500280"/>
                  <a:ext cx="17794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to 1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03920" y="3500280"/>
                  <a:ext cx="19364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4577040" y="3803400"/>
                <a:ext cx="2126520" cy="302760"/>
                <a:chOff x="4577040" y="3803400"/>
                <a:chExt cx="2126520" cy="3027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4577040" y="380340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" name=""/>
                <p:cNvGrpSpPr/>
                <p:nvPr/>
              </p:nvGrpSpPr>
              <p:grpSpPr>
                <a:xfrm>
                  <a:off x="4577040" y="3803400"/>
                  <a:ext cx="2126160" cy="302760"/>
                  <a:chOff x="4577040" y="3803400"/>
                  <a:chExt cx="2126160" cy="302760"/>
                </a:xfrm>
              </p:grpSpPr>
              <p:sp>
                <p:nvSpPr>
                  <p:cNvPr id="231" name=""/>
                  <p:cNvSpPr/>
                  <p:nvPr/>
                </p:nvSpPr>
                <p:spPr>
                  <a:xfrm>
                    <a:off x="4655520" y="380340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build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577040" y="380340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3" name=""/>
              <p:cNvGrpSpPr/>
              <p:nvPr/>
            </p:nvGrpSpPr>
            <p:grpSpPr>
              <a:xfrm>
                <a:off x="6703920" y="3803400"/>
                <a:ext cx="1936440" cy="302760"/>
                <a:chOff x="6703920" y="3803400"/>
                <a:chExt cx="1936440" cy="3027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782400" y="380340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to 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703920" y="380340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4577040" y="4106520"/>
                <a:ext cx="2126520" cy="302760"/>
                <a:chOff x="4577040" y="4106520"/>
                <a:chExt cx="2126520" cy="3027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577040" y="41065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" name=""/>
                <p:cNvGrpSpPr/>
                <p:nvPr/>
              </p:nvGrpSpPr>
              <p:grpSpPr>
                <a:xfrm>
                  <a:off x="4577040" y="4106520"/>
                  <a:ext cx="2126160" cy="302760"/>
                  <a:chOff x="4577040" y="4106520"/>
                  <a:chExt cx="2126160" cy="30276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4655520" y="41065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factor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577040" y="41065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1" name=""/>
              <p:cNvGrpSpPr/>
              <p:nvPr/>
            </p:nvGrpSpPr>
            <p:grpSpPr>
              <a:xfrm>
                <a:off x="6703920" y="4106520"/>
                <a:ext cx="1936440" cy="302760"/>
                <a:chOff x="6703920" y="4106520"/>
                <a:chExt cx="1936440" cy="3027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782400" y="41065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to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703920" y="41065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4" name=""/>
            <p:cNvSpPr/>
            <p:nvPr/>
          </p:nvSpPr>
          <p:spPr>
            <a:xfrm>
              <a:off x="4572000" y="2286000"/>
              <a:ext cx="4074840" cy="2125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80880" y="5334120"/>
                <a:ext cx="4087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876920" y="5257800"/>
                <a:ext cx="3024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 of Outdo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kumura-Hata empirical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150MHz to 1500 MHz. For urban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freq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BS height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obile height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BS-MS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small to medium sized cit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large cit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uburban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rural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57200" y="2230560"/>
                <a:ext cx="8432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209680" y="3200400"/>
                <a:ext cx="5330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133720" y="3809880"/>
                <a:ext cx="62989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429000" y="4648320"/>
                <a:ext cx="31273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14680" y="5700600"/>
                <a:ext cx="5052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ath Loss Mode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ro-COST Extension of Okumura-Hata to PCS (f&gt;1500MHz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0dB (medium and suburban), 3dB (metropolit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fish and Bertoni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s effect of diffraction on rooft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2920" y="2514600"/>
                <a:ext cx="87724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ntenna is 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conductor or system of condu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- radiates electromagnetic energy into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 - collects electromagnetic energy from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wo-way communication, the same antenna can be used for transmission and re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 for Indo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80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losses (same floor with soft or hard parti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estimation of path loss for each material at working frequenc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losses between flo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estimates of path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icsson Multiple breakpoint model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breakpoints, range of path-loss: [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-distance path lo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pend on surrounding environment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is a normal random variable with standard deviatio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enuation factor model (average path lo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SF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FAF 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MF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ings penetration: depends on building height, number of window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y tracing using Geographical Information System (GIS) datab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6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ll Scale Fad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ath fa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reflections from various objects: multiple path =&gt; multiple phase shif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may vary by as much as 30-40dB in hostile environments when the receiver moves by only a frac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change in signal strength over a small travel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frequency modulation due to varying Doppler shifts on different multi-path sig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dispersion (echoes) caused by multipath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ll Scale Fading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1552320"/>
            <a:ext cx="84214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th propagation: multiple version of the signal with different shifts that may add or sub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of the mobile: the relative speed between the mobile and BS results in random frequency modulation due to different incidence angles of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of surrounding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bandwidth of the signal versus channel bandwidth (coherence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-term fading x short-term fading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ding Stat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52320"/>
            <a:ext cx="8269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pler shift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e angle between the radio wave propagation axis and the mobile traj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crossing rate (LC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number of times per second that the signal envelope crosses the level in a positive di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CR and level crossing duration are important for estimating fading rate and duration =&gt; designing error control c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pecified level)/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rm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 Doppler shif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fade dur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2151000" y="4910040"/>
                <a:ext cx="2497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ρ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4419720" y="5334120"/>
                <a:ext cx="15508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 Error R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52320"/>
            <a:ext cx="8497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 Error Rate (BER): rate of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ing the BER is very important: it determines the packet loss (Frame Error Rate: F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 Error Rate is a function of the received energy per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ing path loss statistics allows to estimate the 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nnon’s Theorem (AWGN)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annel with a given SNR has maximum capacity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g (1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N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exist a coding scheme that allows to achieve the channel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mpensation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equ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 adds error-correcting code to data b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is a function of the data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calculates error-correcting code from incoming data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alculated code matches incoming code, no error occu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rror-correcting codes don’t match, receiver attempts to determine bits in error and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aptive Equ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pplied to transmissions that carry analog or digital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ata, digitized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combat intersymbol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gathering dispersed symbol energy back into its original tim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ed analog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isticated digital signal process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versity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1552320"/>
            <a:ext cx="7964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ty is based on the fact that individual channels experience independent fading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diversity – techniques involving physical transmiss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techniques where the signal is spread out over a larger frequency bandwidth or carried on multiple frequency 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iversity – techniques aimed at spreading the data out over time`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s of Radio-waves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526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owave propag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owaves: electromagnetic w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 energy: electrical field (E) and magnetic field (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and H are sinusoidal functions of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gnal is attenuated and affected by the med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en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 the link between the guided part and the free space: couple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pos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: efficiently transform the electrical signal into radiated electromagnetic wave (radio/microwa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: efficiently accept the received radiated energy and convert it to an electrical sig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adiation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representation of radiation properties of an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icted as two-dimensional cross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 wid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 half-power beam width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 of directivity of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ption patte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 antenna’s equivalent to radia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Anten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552680"/>
            <a:ext cx="796428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oretical reference antenna (isotropic radiato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oint in space radiating with equal power in all dir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with equal power are located on a sphere with the antenna in the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tennas exhibit directive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s: omnidirectional (dipole) or directional (pencil be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st antenna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pole (or Hertzian dipole) of leng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4 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al antennas may be more usefu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cover a highway, valley, satellite be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bolic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g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utput, in a particular direction, compared to that produced in any direction by a perfect omnidirectional antenna (isotropic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wrDirection/AllRadiatedPw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o physical size and shape of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2320"/>
            <a:ext cx="86500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between antenna gain and effectiv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ntenna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effectiv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speed of light (» 3 ´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ective are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ropic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f-wave dipole: 1.6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power gain vs. istropic 1.6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bolic: 0.56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ower gain vs. istropic 7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733920" y="1981080"/>
                <a:ext cx="33112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uevara Noubir</cp:lastModifiedBy>
  <dcterms:modified xsi:type="dcterms:W3CDTF">2002-01-17T15:42:39Z</dcterms:modified>
  <cp:revision>80</cp:revision>
  <dc:subject/>
  <dc:title>Wireless Communications and Networks</dc:title>
</cp:coreProperties>
</file>