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9283700" cy="6997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7051-F662-4AD6-8B1B-A8016B9C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8470-DC82-4B7C-A112-7E813B03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F9DB-D76E-46BB-99A5-C7A9FB55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AC5A-A354-4E93-9DB4-D167DF66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E59A-1EEB-4E1D-BE95-92A97D118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94D-29C5-495B-8D01-EB56FAE9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DD10-BB69-4DF7-B867-B87614B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8307-5D8D-4C34-B21B-C26CE517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DAF9-2086-4B7B-A776-C10F4632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E50-4DD0-4990-BAC6-0C3C17BB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139-612F-4460-B03B-8D4BFD2C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8200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326280" y="155232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8200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326280" y="4084560"/>
            <a:ext cx="261324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FBAF-9069-4CC1-9BD6-75E4CD476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5192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96800" y="408456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96800" y="1552320"/>
            <a:ext cx="39607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4084560"/>
            <a:ext cx="8116920" cy="231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3324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555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555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98280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2560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161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"/>
          <p:cNvSpPr/>
          <p:nvPr/>
        </p:nvSpPr>
        <p:spPr>
          <a:xfrm>
            <a:off x="-86400" y="6477120"/>
            <a:ext cx="554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3525 – Wireless Network: Cellular Wireless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8221320" y="6491160"/>
            <a:ext cx="1303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3420-65B4-4403-89F8-4D2403751958}" type="slidenum">
              <a:rPr b="0" lang="en-US" sz="18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7DC5-8998-400E-9CBE-AF9F95CD07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Wireless Net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book Chapter 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ditional Functions in an MTSO Controll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block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termin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s to/from fixed and remote mobile subscri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Radio Propagation Effec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be strong enough between base station and mobile unit to maintain signal quality at the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not be so strong as to create too much cochannel interference with channels in another cell using the same frequency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propagation effects may disrupt the signal and cause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blocking probability – probability of a new call being block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dropping probability – probability that a call is terminated due to a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completion probability – probability that an admitted call is not dropped before it termin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of unsuccessful handoff – probability that a handoff is executed while the reception conditions are inadeq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Performance Metr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12193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blocking probability – probability that a handoff cannot be successfully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probability – probability that a handoff occurs before cal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e of handoff – number of handoffs per un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ion duration – duration of time during a handoff in which a mobile is not connected to either bas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off delay – distance the mobile moves from the point at which the handoff should occur to the point at which it does occu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Handoff Strategies Used to Determine Insta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ve signal strength with hysteresis and thresho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iction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issues making it desirable to include dynamic power control in a cellular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power must be sufficiently above the background noise for effectiv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rable to minimize power in the transmitted signal from the mob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cochannel interference, alleviate health concerns, save battery pow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SS systems using CDMA, it’s desirable to equalize the received power level from all mobile units at the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Power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ends solely on mobi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feedback from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as accurate as closed-loop, but can react quicker to fluctuations in signal strength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loop power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justs signal strength in reverse channel based on metric of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S makes power adjustment decision and communicates to mobile on contro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Enginee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ly, available channels would equal number of subscribers active at one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ractice, not feasible to have capacity handle all possible lo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imultaneous user capacity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ubscri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on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lock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locking System Performance Ques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 that call request is block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upper bound on probability of block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city is needed to achieve a certain average dela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raffic Intens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d presented to a system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mean rate of calls attempted per unit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 holding time per successful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average number of calls arriving during average hold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is also called traffic intensity (Erlangs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6" name=""/>
              <p:cNvSpPr txBox="1"/>
              <p:nvPr/>
            </p:nvSpPr>
            <p:spPr>
              <a:xfrm>
                <a:off x="3886200" y="2362320"/>
                <a:ext cx="160020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λ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Network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multiple low-power transmitters (100 W or l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s divided into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erved by its own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d by base station consisting of transmitter, receiver, and 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nd of frequencies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s set up such that antennas of all neighbors are equidistant (hexagonal patter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pacity in Cellular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 Probability (Grade Of Service):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rlang 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alls arrival rate;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alls average duration (service time: 1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41640" y="2438280"/>
                <a:ext cx="2890800" cy="11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OS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!</m:t>
                        </m:r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!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actors that Determine the Nature of the Traffic Mod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ner in which blocked calls are handl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calls delayed (LCD) – blocked calls put in a queue awaiting a fre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ocked calls rejected and drop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cleared (LCC) – user waits before another attem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t calls held (LCH) – user repeatedly attempts cal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traffic 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ther number of users is assumed to be finite or in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irst-Generation Analo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Mobile Phone Service (AMP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North America, two 25-MHz bands allocated to AM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base to mobile un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for transmission from mobile unit to 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band split in two to encourage competition (12.5MHz per opera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s of 30 KHz: 21 CtrlCh (FSK), 395 TrafficChannels (FM voice) per oper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reuse exploited (R =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MPS Ope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scriber initiates call by keying in phone number and presses send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verifies number and authorizes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issues message to user’s cell phone indicating send and receive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TSO sends ringing signal to called pa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y answers; MTSO establishes circuit and initiates bill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ither party hangs up; MTSO releases circuit, frees channels, completes bil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fferences Between First and Second Generation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traffic channels – first-generation systems are almost purely analog; second-generation systems are 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ion – all second generation systems provide encryption to prevent eavesdro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r detection and correction – second-generation digital traffic allows for detection and correction, giving clear voice 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nel access – second-generation systems allow channels to be dynamically shared by a number of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T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ogical channels (number of time slots in TDMA frame): 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ell radius (R): 35 k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quency: region around 900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vehicle speed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250 km/h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coding delay: approx. 20 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delay spread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10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: Not to exceed 200 k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Design of TDMA Timeslo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1" name="" descr=""/>
          <p:cNvPicPr/>
          <p:nvPr/>
        </p:nvPicPr>
        <p:blipFill>
          <a:blip r:embed="rId1"/>
          <a:stretch/>
        </p:blipFill>
        <p:spPr>
          <a:xfrm>
            <a:off x="2286000" y="1752480"/>
            <a:ext cx="43448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Network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304920" y="1208160"/>
            <a:ext cx="792468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the GSM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SM is a PLMN (Public Land Mobile Networ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ral providers setup mobile networks following the GSM standard within each count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 (mobil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S (base st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SC (mobile switching cen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R (location regis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S (radio subsystem): covers all radio asp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SS (network and switching subsystem): call forwarding, handover, swit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S (operation subsystem): management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610920" y="1905120"/>
            <a:ext cx="6932520" cy="3962160"/>
            <a:chOff x="610920" y="1905120"/>
            <a:chExt cx="6932520" cy="3962160"/>
          </a:xfrm>
        </p:grpSpPr>
        <p:sp>
          <p:nvSpPr>
            <p:cNvPr id="878" name=""/>
            <p:cNvSpPr/>
            <p:nvPr/>
          </p:nvSpPr>
          <p:spPr>
            <a:xfrm>
              <a:off x="610920" y="2508480"/>
              <a:ext cx="102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N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with 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908640" y="1905120"/>
              <a:ext cx="6634800" cy="3962160"/>
              <a:chOff x="908640" y="1905120"/>
              <a:chExt cx="6634800" cy="3962160"/>
            </a:xfrm>
          </p:grpSpPr>
          <p:sp>
            <p:nvSpPr>
              <p:cNvPr id="880" name=""/>
              <p:cNvSpPr/>
              <p:nvPr/>
            </p:nvSpPr>
            <p:spPr>
              <a:xfrm>
                <a:off x="1815120" y="2023200"/>
                <a:ext cx="3617640" cy="153756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8902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99620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960640" y="427032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925440" y="480276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925440" y="3738240"/>
                <a:ext cx="1266120" cy="1064520"/>
              </a:xfrm>
              <a:prstGeom prst="hexagon">
                <a:avLst>
                  <a:gd name="adj" fmla="val 29735"/>
                  <a:gd name="vf" fmla="val 115470"/>
                </a:avLst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493240" y="2082240"/>
                <a:ext cx="1748520" cy="1005120"/>
              </a:xfrm>
              <a:prstGeom prst="ellipse">
                <a:avLst/>
              </a:prstGeom>
              <a:solidFill>
                <a:srgbClr val="ff66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fixed networ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7" name=""/>
              <p:cNvCxnSpPr>
                <a:stCxn id="886" idx="6"/>
              </p:cNvCxnSpPr>
              <p:nvPr/>
            </p:nvCxnSpPr>
            <p:spPr>
              <a:xfrm flipV="1">
                <a:off x="7241760" y="2554920"/>
                <a:ext cx="302040" cy="3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8" name=""/>
              <p:cNvCxnSpPr>
                <a:stCxn id="886" idx="5"/>
              </p:cNvCxnSpPr>
              <p:nvPr/>
            </p:nvCxnSpPr>
            <p:spPr>
              <a:xfrm>
                <a:off x="6985080" y="2940840"/>
                <a:ext cx="49788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9" name=""/>
              <p:cNvCxnSpPr>
                <a:stCxn id="886" idx="7"/>
              </p:cNvCxnSpPr>
              <p:nvPr/>
            </p:nvCxnSpPr>
            <p:spPr>
              <a:xfrm flipV="1">
                <a:off x="6985440" y="2140920"/>
                <a:ext cx="437760" cy="878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90" name=""/>
              <p:cNvSpPr/>
              <p:nvPr/>
            </p:nvSpPr>
            <p:spPr>
              <a:xfrm>
                <a:off x="2176920" y="40928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252040" y="3738240"/>
                <a:ext cx="663120" cy="354600"/>
              </a:xfrm>
              <a:prstGeom prst="rect">
                <a:avLst/>
              </a:prstGeom>
              <a:solidFill>
                <a:srgbClr val="01ffb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B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2" name=""/>
              <p:cNvCxnSpPr>
                <a:stCxn id="890" idx="2"/>
                <a:endCxn id="893" idx="0"/>
              </p:cNvCxnSpPr>
              <p:nvPr/>
            </p:nvCxnSpPr>
            <p:spPr>
              <a:xfrm>
                <a:off x="2508480" y="4447440"/>
                <a:ext cx="39600" cy="1312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4" name=""/>
              <p:cNvCxnSpPr>
                <a:stCxn id="890" idx="2"/>
                <a:endCxn id="895" idx="0"/>
              </p:cNvCxnSpPr>
              <p:nvPr/>
            </p:nvCxnSpPr>
            <p:spPr>
              <a:xfrm>
                <a:off x="2508120" y="4447440"/>
                <a:ext cx="1003680" cy="7657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6" name=""/>
              <p:cNvCxnSpPr>
                <a:stCxn id="890" idx="2"/>
              </p:cNvCxnSpPr>
              <p:nvPr/>
            </p:nvCxnSpPr>
            <p:spPr>
              <a:xfrm flipH="1">
                <a:off x="1874520" y="4447800"/>
                <a:ext cx="633960" cy="473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7" name=""/>
              <p:cNvCxnSpPr>
                <a:stCxn id="891" idx="1"/>
                <a:endCxn id="898" idx="0"/>
              </p:cNvCxnSpPr>
              <p:nvPr/>
            </p:nvCxnSpPr>
            <p:spPr>
              <a:xfrm flipH="1">
                <a:off x="4541400" y="3915000"/>
                <a:ext cx="710280" cy="7830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9" name=""/>
              <p:cNvCxnSpPr>
                <a:stCxn id="891" idx="2"/>
                <a:endCxn id="900" idx="0"/>
              </p:cNvCxnSpPr>
              <p:nvPr/>
            </p:nvCxnSpPr>
            <p:spPr>
              <a:xfrm>
                <a:off x="5583600" y="4092840"/>
                <a:ext cx="48240" cy="1100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"/>
              <p:cNvCxnSpPr>
                <a:stCxn id="902" idx="2"/>
                <a:endCxn id="890" idx="0"/>
              </p:cNvCxnSpPr>
              <p:nvPr/>
            </p:nvCxnSpPr>
            <p:spPr>
              <a:xfrm flipH="1">
                <a:off x="2508120" y="3382920"/>
                <a:ext cx="422640" cy="710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2" name=""/>
              <p:cNvSpPr/>
              <p:nvPr/>
            </p:nvSpPr>
            <p:spPr>
              <a:xfrm>
                <a:off x="25988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649040" y="302832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46040" y="2318760"/>
                <a:ext cx="663120" cy="354600"/>
              </a:xfrm>
              <a:prstGeom prst="rect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GMS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5" name=""/>
              <p:cNvCxnSpPr>
                <a:stCxn id="904" idx="2"/>
                <a:endCxn id="902" idx="0"/>
              </p:cNvCxnSpPr>
              <p:nvPr/>
            </p:nvCxnSpPr>
            <p:spPr>
              <a:xfrm flipH="1">
                <a:off x="2930040" y="2673360"/>
                <a:ext cx="14475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6" name=""/>
              <p:cNvCxnSpPr>
                <a:stCxn id="904" idx="3"/>
                <a:endCxn id="886" idx="2"/>
              </p:cNvCxnSpPr>
              <p:nvPr/>
            </p:nvCxnSpPr>
            <p:spPr>
              <a:xfrm>
                <a:off x="4709520" y="2496240"/>
                <a:ext cx="784080" cy="892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7" name=""/>
              <p:cNvCxnSpPr>
                <a:stCxn id="904" idx="2"/>
                <a:endCxn id="903" idx="0"/>
              </p:cNvCxnSpPr>
              <p:nvPr/>
            </p:nvCxnSpPr>
            <p:spPr>
              <a:xfrm>
                <a:off x="4377960" y="2673360"/>
                <a:ext cx="60336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08" name=""/>
              <p:cNvSpPr/>
              <p:nvPr/>
            </p:nvSpPr>
            <p:spPr>
              <a:xfrm>
                <a:off x="1573920" y="1905120"/>
                <a:ext cx="964800" cy="47268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OMC, EIR, </a:t>
                </a:r>
                <a:br>
                  <a:rPr sz="1600"/>
                </a:b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AU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9" name=""/>
              <p:cNvCxnSpPr>
                <a:stCxn id="910" idx="3"/>
                <a:endCxn id="902" idx="0"/>
              </p:cNvCxnSpPr>
              <p:nvPr/>
            </p:nvCxnSpPr>
            <p:spPr>
              <a:xfrm flipH="1">
                <a:off x="2930400" y="2614320"/>
                <a:ext cx="9072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1" name=""/>
              <p:cNvCxnSpPr>
                <a:stCxn id="910" idx="3"/>
                <a:endCxn id="903" idx="0"/>
              </p:cNvCxnSpPr>
              <p:nvPr/>
            </p:nvCxnSpPr>
            <p:spPr>
              <a:xfrm>
                <a:off x="3020760" y="2614320"/>
                <a:ext cx="1960200" cy="414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2" name=""/>
              <p:cNvCxnSpPr>
                <a:stCxn id="904" idx="1"/>
                <a:endCxn id="910" idx="3"/>
              </p:cNvCxnSpPr>
              <p:nvPr/>
            </p:nvCxnSpPr>
            <p:spPr>
              <a:xfrm flipH="1">
                <a:off x="3020400" y="2495880"/>
                <a:ext cx="1025640" cy="119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13" name=""/>
              <p:cNvCxnSpPr>
                <a:stCxn id="902" idx="1"/>
                <a:endCxn id="914" idx="4"/>
              </p:cNvCxnSpPr>
              <p:nvPr/>
            </p:nvCxnSpPr>
            <p:spPr>
              <a:xfrm flipH="1" flipV="1">
                <a:off x="2356920" y="3146040"/>
                <a:ext cx="241560" cy="59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914" name=""/>
              <p:cNvSpPr/>
              <p:nvPr/>
            </p:nvSpPr>
            <p:spPr>
              <a:xfrm>
                <a:off x="1875240" y="2910240"/>
                <a:ext cx="482400" cy="47268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779560" y="2141280"/>
                <a:ext cx="48240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H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5" name=""/>
              <p:cNvGrpSpPr/>
              <p:nvPr/>
            </p:nvGrpSpPr>
            <p:grpSpPr>
              <a:xfrm>
                <a:off x="2109240" y="4729320"/>
                <a:ext cx="999720" cy="1027800"/>
                <a:chOff x="2109240" y="4729320"/>
                <a:chExt cx="999720" cy="1027800"/>
              </a:xfrm>
            </p:grpSpPr>
            <p:grpSp>
              <p:nvGrpSpPr>
                <p:cNvPr id="916" name=""/>
                <p:cNvGrpSpPr/>
                <p:nvPr/>
              </p:nvGrpSpPr>
              <p:grpSpPr>
                <a:xfrm>
                  <a:off x="2547360" y="5242320"/>
                  <a:ext cx="194040" cy="514800"/>
                  <a:chOff x="2547360" y="5242320"/>
                  <a:chExt cx="194040" cy="514800"/>
                </a:xfrm>
              </p:grpSpPr>
              <p:grpSp>
                <p:nvGrpSpPr>
                  <p:cNvPr id="917" name=""/>
                  <p:cNvGrpSpPr/>
                  <p:nvPr/>
                </p:nvGrpSpPr>
                <p:grpSpPr>
                  <a:xfrm>
                    <a:off x="2548440" y="5419440"/>
                    <a:ext cx="192960" cy="337680"/>
                    <a:chOff x="2548440" y="5419440"/>
                    <a:chExt cx="192960" cy="337680"/>
                  </a:xfrm>
                </p:grpSpPr>
                <p:grpSp>
                  <p:nvGrpSpPr>
                    <p:cNvPr id="918" name=""/>
                    <p:cNvGrpSpPr/>
                    <p:nvPr/>
                  </p:nvGrpSpPr>
                  <p:grpSpPr>
                    <a:xfrm>
                      <a:off x="2548440" y="5428080"/>
                      <a:ext cx="123840" cy="326880"/>
                      <a:chOff x="2548440" y="5428080"/>
                      <a:chExt cx="123840" cy="326880"/>
                    </a:xfrm>
                  </p:grpSpPr>
                  <p:sp>
                    <p:nvSpPr>
                      <p:cNvPr id="919" name=""/>
                      <p:cNvSpPr/>
                      <p:nvPr/>
                    </p:nvSpPr>
                    <p:spPr>
                      <a:xfrm>
                        <a:off x="2598480" y="54291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0" name=""/>
                      <p:cNvSpPr/>
                      <p:nvPr/>
                    </p:nvSpPr>
                    <p:spPr>
                      <a:xfrm flipV="1">
                        <a:off x="2583360" y="54313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1" name=""/>
                      <p:cNvSpPr/>
                      <p:nvPr/>
                    </p:nvSpPr>
                    <p:spPr>
                      <a:xfrm>
                        <a:off x="2582280" y="55004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2" name=""/>
                      <p:cNvSpPr/>
                      <p:nvPr/>
                    </p:nvSpPr>
                    <p:spPr>
                      <a:xfrm flipV="1">
                        <a:off x="2548440" y="56440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3" name=""/>
                      <p:cNvSpPr/>
                      <p:nvPr/>
                    </p:nvSpPr>
                    <p:spPr>
                      <a:xfrm>
                        <a:off x="2563200" y="56444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4" name=""/>
                      <p:cNvSpPr/>
                      <p:nvPr/>
                    </p:nvSpPr>
                    <p:spPr>
                      <a:xfrm flipV="1">
                        <a:off x="2562120" y="55011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25" name=""/>
                      <p:cNvSpPr/>
                      <p:nvPr/>
                    </p:nvSpPr>
                    <p:spPr>
                      <a:xfrm>
                        <a:off x="2598480" y="54280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6" name=""/>
                    <p:cNvSpPr/>
                    <p:nvPr/>
                  </p:nvSpPr>
                  <p:spPr>
                    <a:xfrm flipV="1">
                      <a:off x="2670120" y="56221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2652480" y="55040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flipV="1">
                      <a:off x="2651400" y="54205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V="1">
                      <a:off x="2643840" y="54194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2645280" y="54306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V="1">
                      <a:off x="2664000" y="54907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2664000" y="56444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3" name=""/>
                  <p:cNvGrpSpPr/>
                  <p:nvPr/>
                </p:nvGrpSpPr>
                <p:grpSpPr>
                  <a:xfrm>
                    <a:off x="2547360" y="5259600"/>
                    <a:ext cx="190080" cy="496080"/>
                    <a:chOff x="2547360" y="5259600"/>
                    <a:chExt cx="190080" cy="496080"/>
                  </a:xfrm>
                </p:grpSpPr>
                <p:sp>
                  <p:nvSpPr>
                    <p:cNvPr id="934" name=""/>
                    <p:cNvSpPr/>
                    <p:nvPr/>
                  </p:nvSpPr>
                  <p:spPr>
                    <a:xfrm flipV="1">
                      <a:off x="2547360" y="52596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2622240" y="52718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 flipV="1">
                      <a:off x="2671200" y="57132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2632320" y="52693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2547360" y="57520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9" name=""/>
                  <p:cNvSpPr/>
                  <p:nvPr/>
                </p:nvSpPr>
                <p:spPr>
                  <a:xfrm>
                    <a:off x="2602440" y="52423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40" name=""/>
                <p:cNvGrpSpPr/>
                <p:nvPr/>
              </p:nvGrpSpPr>
              <p:grpSpPr>
                <a:xfrm>
                  <a:off x="2109240" y="4729320"/>
                  <a:ext cx="999720" cy="992520"/>
                  <a:chOff x="2109240" y="4729320"/>
                  <a:chExt cx="999720" cy="992520"/>
                </a:xfrm>
              </p:grpSpPr>
              <p:sp>
                <p:nvSpPr>
                  <p:cNvPr id="941" name=""/>
                  <p:cNvSpPr/>
                  <p:nvPr/>
                </p:nvSpPr>
                <p:spPr>
                  <a:xfrm rot="3712200">
                    <a:off x="2245320" y="48531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 rot="3712200">
                    <a:off x="2391120" y="50148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 rot="3712200">
                    <a:off x="2499120" y="51458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44" name=""/>
              <p:cNvGrpSpPr/>
              <p:nvPr/>
            </p:nvGrpSpPr>
            <p:grpSpPr>
              <a:xfrm>
                <a:off x="3074040" y="4197240"/>
                <a:ext cx="999720" cy="1027800"/>
                <a:chOff x="3074040" y="4197240"/>
                <a:chExt cx="999720" cy="1027800"/>
              </a:xfrm>
            </p:grpSpPr>
            <p:grpSp>
              <p:nvGrpSpPr>
                <p:cNvPr id="945" name=""/>
                <p:cNvGrpSpPr/>
                <p:nvPr/>
              </p:nvGrpSpPr>
              <p:grpSpPr>
                <a:xfrm>
                  <a:off x="3512160" y="4710240"/>
                  <a:ext cx="194040" cy="514800"/>
                  <a:chOff x="3512160" y="4710240"/>
                  <a:chExt cx="194040" cy="514800"/>
                </a:xfrm>
              </p:grpSpPr>
              <p:grpSp>
                <p:nvGrpSpPr>
                  <p:cNvPr id="946" name=""/>
                  <p:cNvGrpSpPr/>
                  <p:nvPr/>
                </p:nvGrpSpPr>
                <p:grpSpPr>
                  <a:xfrm>
                    <a:off x="3513240" y="4887360"/>
                    <a:ext cx="192960" cy="337680"/>
                    <a:chOff x="3513240" y="4887360"/>
                    <a:chExt cx="192960" cy="337680"/>
                  </a:xfrm>
                </p:grpSpPr>
                <p:grpSp>
                  <p:nvGrpSpPr>
                    <p:cNvPr id="947" name=""/>
                    <p:cNvGrpSpPr/>
                    <p:nvPr/>
                  </p:nvGrpSpPr>
                  <p:grpSpPr>
                    <a:xfrm>
                      <a:off x="3513240" y="4896000"/>
                      <a:ext cx="123840" cy="326880"/>
                      <a:chOff x="3513240" y="4896000"/>
                      <a:chExt cx="123840" cy="326880"/>
                    </a:xfrm>
                  </p:grpSpPr>
                  <p:sp>
                    <p:nvSpPr>
                      <p:cNvPr id="948" name=""/>
                      <p:cNvSpPr/>
                      <p:nvPr/>
                    </p:nvSpPr>
                    <p:spPr>
                      <a:xfrm>
                        <a:off x="35632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9" name=""/>
                      <p:cNvSpPr/>
                      <p:nvPr/>
                    </p:nvSpPr>
                    <p:spPr>
                      <a:xfrm flipV="1">
                        <a:off x="35481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0" name=""/>
                      <p:cNvSpPr/>
                      <p:nvPr/>
                    </p:nvSpPr>
                    <p:spPr>
                      <a:xfrm>
                        <a:off x="35470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1" name=""/>
                      <p:cNvSpPr/>
                      <p:nvPr/>
                    </p:nvSpPr>
                    <p:spPr>
                      <a:xfrm flipV="1">
                        <a:off x="35132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2" name=""/>
                      <p:cNvSpPr/>
                      <p:nvPr/>
                    </p:nvSpPr>
                    <p:spPr>
                      <a:xfrm>
                        <a:off x="35280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3" name=""/>
                      <p:cNvSpPr/>
                      <p:nvPr/>
                    </p:nvSpPr>
                    <p:spPr>
                      <a:xfrm flipV="1">
                        <a:off x="35269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54" name=""/>
                      <p:cNvSpPr/>
                      <p:nvPr/>
                    </p:nvSpPr>
                    <p:spPr>
                      <a:xfrm>
                        <a:off x="35632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55" name=""/>
                    <p:cNvSpPr/>
                    <p:nvPr/>
                  </p:nvSpPr>
                  <p:spPr>
                    <a:xfrm flipV="1">
                      <a:off x="36349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36172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V="1">
                      <a:off x="36162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36086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36100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V="1">
                      <a:off x="36288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36288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2" name=""/>
                  <p:cNvGrpSpPr/>
                  <p:nvPr/>
                </p:nvGrpSpPr>
                <p:grpSpPr>
                  <a:xfrm>
                    <a:off x="3512160" y="4727520"/>
                    <a:ext cx="190080" cy="496080"/>
                    <a:chOff x="3512160" y="4727520"/>
                    <a:chExt cx="190080" cy="496080"/>
                  </a:xfrm>
                </p:grpSpPr>
                <p:sp>
                  <p:nvSpPr>
                    <p:cNvPr id="963" name=""/>
                    <p:cNvSpPr/>
                    <p:nvPr/>
                  </p:nvSpPr>
                  <p:spPr>
                    <a:xfrm flipV="1">
                      <a:off x="35121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35870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 flipV="1">
                      <a:off x="36360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35971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35121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68" name=""/>
                  <p:cNvSpPr/>
                  <p:nvPr/>
                </p:nvSpPr>
                <p:spPr>
                  <a:xfrm>
                    <a:off x="35672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9" name=""/>
                <p:cNvGrpSpPr/>
                <p:nvPr/>
              </p:nvGrpSpPr>
              <p:grpSpPr>
                <a:xfrm>
                  <a:off x="3074040" y="4197240"/>
                  <a:ext cx="999720" cy="992520"/>
                  <a:chOff x="3074040" y="4197240"/>
                  <a:chExt cx="999720" cy="992520"/>
                </a:xfrm>
              </p:grpSpPr>
              <p:sp>
                <p:nvSpPr>
                  <p:cNvPr id="970" name=""/>
                  <p:cNvSpPr/>
                  <p:nvPr/>
                </p:nvSpPr>
                <p:spPr>
                  <a:xfrm rot="3712200">
                    <a:off x="32101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 rot="3712200">
                    <a:off x="33559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3712200">
                    <a:off x="34639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73" name=""/>
              <p:cNvGrpSpPr/>
              <p:nvPr/>
            </p:nvGrpSpPr>
            <p:grpSpPr>
              <a:xfrm>
                <a:off x="5003640" y="4197240"/>
                <a:ext cx="999720" cy="1027800"/>
                <a:chOff x="5003640" y="4197240"/>
                <a:chExt cx="999720" cy="1027800"/>
              </a:xfrm>
            </p:grpSpPr>
            <p:grpSp>
              <p:nvGrpSpPr>
                <p:cNvPr id="974" name=""/>
                <p:cNvGrpSpPr/>
                <p:nvPr/>
              </p:nvGrpSpPr>
              <p:grpSpPr>
                <a:xfrm>
                  <a:off x="5441760" y="4710240"/>
                  <a:ext cx="194040" cy="514800"/>
                  <a:chOff x="5441760" y="4710240"/>
                  <a:chExt cx="194040" cy="514800"/>
                </a:xfrm>
              </p:grpSpPr>
              <p:grpSp>
                <p:nvGrpSpPr>
                  <p:cNvPr id="975" name=""/>
                  <p:cNvGrpSpPr/>
                  <p:nvPr/>
                </p:nvGrpSpPr>
                <p:grpSpPr>
                  <a:xfrm>
                    <a:off x="5442840" y="4887360"/>
                    <a:ext cx="192960" cy="337680"/>
                    <a:chOff x="5442840" y="4887360"/>
                    <a:chExt cx="192960" cy="337680"/>
                  </a:xfrm>
                </p:grpSpPr>
                <p:grpSp>
                  <p:nvGrpSpPr>
                    <p:cNvPr id="976" name=""/>
                    <p:cNvGrpSpPr/>
                    <p:nvPr/>
                  </p:nvGrpSpPr>
                  <p:grpSpPr>
                    <a:xfrm>
                      <a:off x="5442840" y="4896000"/>
                      <a:ext cx="123840" cy="326880"/>
                      <a:chOff x="5442840" y="4896000"/>
                      <a:chExt cx="123840" cy="326880"/>
                    </a:xfrm>
                  </p:grpSpPr>
                  <p:sp>
                    <p:nvSpPr>
                      <p:cNvPr id="977" name=""/>
                      <p:cNvSpPr/>
                      <p:nvPr/>
                    </p:nvSpPr>
                    <p:spPr>
                      <a:xfrm>
                        <a:off x="5492880" y="489708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8" name=""/>
                      <p:cNvSpPr/>
                      <p:nvPr/>
                    </p:nvSpPr>
                    <p:spPr>
                      <a:xfrm flipV="1">
                        <a:off x="5477760" y="489924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79" name=""/>
                      <p:cNvSpPr/>
                      <p:nvPr/>
                    </p:nvSpPr>
                    <p:spPr>
                      <a:xfrm>
                        <a:off x="5476680" y="496836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0" name=""/>
                      <p:cNvSpPr/>
                      <p:nvPr/>
                    </p:nvSpPr>
                    <p:spPr>
                      <a:xfrm flipV="1">
                        <a:off x="5442840" y="511200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1" name=""/>
                      <p:cNvSpPr/>
                      <p:nvPr/>
                    </p:nvSpPr>
                    <p:spPr>
                      <a:xfrm>
                        <a:off x="5457600" y="511236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2" name=""/>
                      <p:cNvSpPr/>
                      <p:nvPr/>
                    </p:nvSpPr>
                    <p:spPr>
                      <a:xfrm flipV="1">
                        <a:off x="5456520" y="496908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83" name=""/>
                      <p:cNvSpPr/>
                      <p:nvPr/>
                    </p:nvSpPr>
                    <p:spPr>
                      <a:xfrm>
                        <a:off x="5492880" y="489600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84" name=""/>
                    <p:cNvSpPr/>
                    <p:nvPr/>
                  </p:nvSpPr>
                  <p:spPr>
                    <a:xfrm flipV="1">
                      <a:off x="5564520" y="509004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5546880" y="497196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5545800" y="488844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V="1">
                      <a:off x="5538240" y="488736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5539680" y="489852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5558400" y="495864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5558400" y="511236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1" name=""/>
                  <p:cNvGrpSpPr/>
                  <p:nvPr/>
                </p:nvGrpSpPr>
                <p:grpSpPr>
                  <a:xfrm>
                    <a:off x="5441760" y="4727520"/>
                    <a:ext cx="190080" cy="496080"/>
                    <a:chOff x="5441760" y="4727520"/>
                    <a:chExt cx="190080" cy="496080"/>
                  </a:xfrm>
                </p:grpSpPr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5441760" y="472752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5516640" y="473976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 flipV="1">
                      <a:off x="5565600" y="518112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5526720" y="473724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5441760" y="522000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"/>
                  <p:cNvSpPr/>
                  <p:nvPr/>
                </p:nvSpPr>
                <p:spPr>
                  <a:xfrm>
                    <a:off x="5496840" y="471024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5003640" y="4197240"/>
                  <a:ext cx="999720" cy="992520"/>
                  <a:chOff x="5003640" y="4197240"/>
                  <a:chExt cx="999720" cy="99252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 rot="3712200">
                    <a:off x="5139720" y="432108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 rot="3712200">
                    <a:off x="5285520" y="448272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1" name=""/>
                  <p:cNvSpPr/>
                  <p:nvPr/>
                </p:nvSpPr>
                <p:spPr>
                  <a:xfrm rot="3712200">
                    <a:off x="5393520" y="461376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02" name=""/>
              <p:cNvGrpSpPr/>
              <p:nvPr/>
            </p:nvGrpSpPr>
            <p:grpSpPr>
              <a:xfrm>
                <a:off x="3978720" y="4788720"/>
                <a:ext cx="999720" cy="1027800"/>
                <a:chOff x="3978720" y="4788720"/>
                <a:chExt cx="999720" cy="1027800"/>
              </a:xfrm>
            </p:grpSpPr>
            <p:grpSp>
              <p:nvGrpSpPr>
                <p:cNvPr id="1003" name=""/>
                <p:cNvGrpSpPr/>
                <p:nvPr/>
              </p:nvGrpSpPr>
              <p:grpSpPr>
                <a:xfrm>
                  <a:off x="4416840" y="5301720"/>
                  <a:ext cx="194040" cy="514800"/>
                  <a:chOff x="4416840" y="5301720"/>
                  <a:chExt cx="194040" cy="514800"/>
                </a:xfrm>
              </p:grpSpPr>
              <p:grpSp>
                <p:nvGrpSpPr>
                  <p:cNvPr id="1004" name=""/>
                  <p:cNvGrpSpPr/>
                  <p:nvPr/>
                </p:nvGrpSpPr>
                <p:grpSpPr>
                  <a:xfrm>
                    <a:off x="4417920" y="5478840"/>
                    <a:ext cx="192960" cy="337680"/>
                    <a:chOff x="4417920" y="5478840"/>
                    <a:chExt cx="192960" cy="337680"/>
                  </a:xfrm>
                </p:grpSpPr>
                <p:grpSp>
                  <p:nvGrpSpPr>
                    <p:cNvPr id="1005" name=""/>
                    <p:cNvGrpSpPr/>
                    <p:nvPr/>
                  </p:nvGrpSpPr>
                  <p:grpSpPr>
                    <a:xfrm>
                      <a:off x="4417920" y="5487480"/>
                      <a:ext cx="123840" cy="326880"/>
                      <a:chOff x="4417920" y="5487480"/>
                      <a:chExt cx="123840" cy="326880"/>
                    </a:xfrm>
                  </p:grpSpPr>
                  <p:sp>
                    <p:nvSpPr>
                      <p:cNvPr id="1006" name=""/>
                      <p:cNvSpPr/>
                      <p:nvPr/>
                    </p:nvSpPr>
                    <p:spPr>
                      <a:xfrm>
                        <a:off x="4467960" y="548856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7" name=""/>
                      <p:cNvSpPr/>
                      <p:nvPr/>
                    </p:nvSpPr>
                    <p:spPr>
                      <a:xfrm flipV="1">
                        <a:off x="4452840" y="549072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8" name=""/>
                      <p:cNvSpPr/>
                      <p:nvPr/>
                    </p:nvSpPr>
                    <p:spPr>
                      <a:xfrm>
                        <a:off x="4451760" y="555984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09" name=""/>
                      <p:cNvSpPr/>
                      <p:nvPr/>
                    </p:nvSpPr>
                    <p:spPr>
                      <a:xfrm flipV="1">
                        <a:off x="4417920" y="570348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0" name=""/>
                      <p:cNvSpPr/>
                      <p:nvPr/>
                    </p:nvSpPr>
                    <p:spPr>
                      <a:xfrm>
                        <a:off x="4432680" y="570384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1" name=""/>
                      <p:cNvSpPr/>
                      <p:nvPr/>
                    </p:nvSpPr>
                    <p:spPr>
                      <a:xfrm flipV="1">
                        <a:off x="4431600" y="556056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12" name=""/>
                      <p:cNvSpPr/>
                      <p:nvPr/>
                    </p:nvSpPr>
                    <p:spPr>
                      <a:xfrm>
                        <a:off x="4467960" y="548748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13" name=""/>
                    <p:cNvSpPr/>
                    <p:nvPr/>
                  </p:nvSpPr>
                  <p:spPr>
                    <a:xfrm flipV="1">
                      <a:off x="4539600" y="568152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4521960" y="556344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V="1">
                      <a:off x="4520880" y="547992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flipV="1">
                      <a:off x="4513320" y="547884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>
                      <a:off x="4514760" y="549000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4533480" y="555012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>
                      <a:off x="4533480" y="570384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0" name=""/>
                  <p:cNvGrpSpPr/>
                  <p:nvPr/>
                </p:nvGrpSpPr>
                <p:grpSpPr>
                  <a:xfrm>
                    <a:off x="4416840" y="5319000"/>
                    <a:ext cx="190080" cy="496080"/>
                    <a:chOff x="4416840" y="5319000"/>
                    <a:chExt cx="190080" cy="496080"/>
                  </a:xfrm>
                </p:grpSpPr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4416840" y="531900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2" name=""/>
                    <p:cNvSpPr/>
                    <p:nvPr/>
                  </p:nvSpPr>
                  <p:spPr>
                    <a:xfrm>
                      <a:off x="4491720" y="533124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3" name=""/>
                    <p:cNvSpPr/>
                    <p:nvPr/>
                  </p:nvSpPr>
                  <p:spPr>
                    <a:xfrm flipV="1">
                      <a:off x="4540680" y="577260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4501800" y="532872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4416840" y="581148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26" name=""/>
                  <p:cNvSpPr/>
                  <p:nvPr/>
                </p:nvSpPr>
                <p:spPr>
                  <a:xfrm>
                    <a:off x="4471920" y="530172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3978720" y="4788720"/>
                  <a:ext cx="999720" cy="992520"/>
                  <a:chOff x="3978720" y="4788720"/>
                  <a:chExt cx="999720" cy="99252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 rot="3712200">
                    <a:off x="4114800" y="491256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rot="3712200">
                    <a:off x="4260600" y="507420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rot="3712200">
                    <a:off x="4368600" y="520524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31" name=""/>
              <p:cNvGrpSpPr/>
              <p:nvPr/>
            </p:nvGrpSpPr>
            <p:grpSpPr>
              <a:xfrm>
                <a:off x="3978720" y="3664800"/>
                <a:ext cx="999720" cy="1027800"/>
                <a:chOff x="3978720" y="3664800"/>
                <a:chExt cx="999720" cy="1027800"/>
              </a:xfrm>
            </p:grpSpPr>
            <p:grpSp>
              <p:nvGrpSpPr>
                <p:cNvPr id="1032" name=""/>
                <p:cNvGrpSpPr/>
                <p:nvPr/>
              </p:nvGrpSpPr>
              <p:grpSpPr>
                <a:xfrm>
                  <a:off x="4416840" y="4177800"/>
                  <a:ext cx="194040" cy="514800"/>
                  <a:chOff x="4416840" y="4177800"/>
                  <a:chExt cx="194040" cy="514800"/>
                </a:xfrm>
              </p:grpSpPr>
              <p:grpSp>
                <p:nvGrpSpPr>
                  <p:cNvPr id="1033" name=""/>
                  <p:cNvGrpSpPr/>
                  <p:nvPr/>
                </p:nvGrpSpPr>
                <p:grpSpPr>
                  <a:xfrm>
                    <a:off x="4417920" y="4354920"/>
                    <a:ext cx="192960" cy="337680"/>
                    <a:chOff x="4417920" y="4354920"/>
                    <a:chExt cx="192960" cy="337680"/>
                  </a:xfrm>
                </p:grpSpPr>
                <p:grpSp>
                  <p:nvGrpSpPr>
                    <p:cNvPr id="1034" name=""/>
                    <p:cNvGrpSpPr/>
                    <p:nvPr/>
                  </p:nvGrpSpPr>
                  <p:grpSpPr>
                    <a:xfrm>
                      <a:off x="4417920" y="4363560"/>
                      <a:ext cx="123840" cy="326880"/>
                      <a:chOff x="4417920" y="4363560"/>
                      <a:chExt cx="123840" cy="326880"/>
                    </a:xfrm>
                  </p:grpSpPr>
                  <p:sp>
                    <p:nvSpPr>
                      <p:cNvPr id="1035" name=""/>
                      <p:cNvSpPr/>
                      <p:nvPr/>
                    </p:nvSpPr>
                    <p:spPr>
                      <a:xfrm>
                        <a:off x="4467960" y="4364640"/>
                        <a:ext cx="43560" cy="10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6" name=""/>
                      <p:cNvSpPr/>
                      <p:nvPr/>
                    </p:nvSpPr>
                    <p:spPr>
                      <a:xfrm flipV="1">
                        <a:off x="4452840" y="4366800"/>
                        <a:ext cx="57600" cy="687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1960" bIns="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7" name=""/>
                      <p:cNvSpPr/>
                      <p:nvPr/>
                    </p:nvSpPr>
                    <p:spPr>
                      <a:xfrm>
                        <a:off x="4451760" y="4435920"/>
                        <a:ext cx="77760" cy="14616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8" name=""/>
                      <p:cNvSpPr/>
                      <p:nvPr/>
                    </p:nvSpPr>
                    <p:spPr>
                      <a:xfrm flipV="1">
                        <a:off x="4417920" y="4579560"/>
                        <a:ext cx="11160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39" name=""/>
                      <p:cNvSpPr/>
                      <p:nvPr/>
                    </p:nvSpPr>
                    <p:spPr>
                      <a:xfrm>
                        <a:off x="4432680" y="4579920"/>
                        <a:ext cx="109080" cy="11052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0" name=""/>
                      <p:cNvSpPr/>
                      <p:nvPr/>
                    </p:nvSpPr>
                    <p:spPr>
                      <a:xfrm flipV="1">
                        <a:off x="4431600" y="4436640"/>
                        <a:ext cx="84960" cy="14148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041" name=""/>
                      <p:cNvSpPr/>
                      <p:nvPr/>
                    </p:nvSpPr>
                    <p:spPr>
                      <a:xfrm>
                        <a:off x="4467960" y="4363560"/>
                        <a:ext cx="52560" cy="77400"/>
                      </a:xfrm>
                      <a:prstGeom prst="line">
                        <a:avLst/>
                      </a:prstGeom>
                      <a:ln w="6480">
                        <a:solidFill>
                          <a:srgbClr val="3333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0600" bIns="30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042" name=""/>
                    <p:cNvSpPr/>
                    <p:nvPr/>
                  </p:nvSpPr>
                  <p:spPr>
                    <a:xfrm flipV="1">
                      <a:off x="4539600" y="4557600"/>
                      <a:ext cx="45000" cy="1350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4521960" y="4439520"/>
                      <a:ext cx="65160" cy="120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V="1">
                      <a:off x="4520880" y="4356000"/>
                      <a:ext cx="14760" cy="835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720" bIns="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flipV="1">
                      <a:off x="4513320" y="4354920"/>
                      <a:ext cx="27360" cy="1224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560" bIns="-34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>
                      <a:off x="4514760" y="4366080"/>
                      <a:ext cx="39960" cy="6012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320" bIns="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V="1">
                      <a:off x="4533480" y="4426200"/>
                      <a:ext cx="17640" cy="15480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>
                      <a:off x="4533480" y="4579920"/>
                      <a:ext cx="77400" cy="72360"/>
                    </a:xfrm>
                    <a:prstGeom prst="line">
                      <a:avLst/>
                    </a:prstGeom>
                    <a:ln w="648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560" bIns="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49" name=""/>
                  <p:cNvGrpSpPr/>
                  <p:nvPr/>
                </p:nvGrpSpPr>
                <p:grpSpPr>
                  <a:xfrm>
                    <a:off x="4416840" y="4195080"/>
                    <a:ext cx="190080" cy="496080"/>
                    <a:chOff x="4416840" y="4195080"/>
                    <a:chExt cx="190080" cy="496080"/>
                  </a:xfrm>
                </p:grpSpPr>
                <p:sp>
                  <p:nvSpPr>
                    <p:cNvPr id="1050" name=""/>
                    <p:cNvSpPr/>
                    <p:nvPr/>
                  </p:nvSpPr>
                  <p:spPr>
                    <a:xfrm flipV="1">
                      <a:off x="4416840" y="4195080"/>
                      <a:ext cx="73800" cy="4910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1" name=""/>
                    <p:cNvSpPr/>
                    <p:nvPr/>
                  </p:nvSpPr>
                  <p:spPr>
                    <a:xfrm>
                      <a:off x="4491720" y="4207320"/>
                      <a:ext cx="47520" cy="483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2" name=""/>
                    <p:cNvSpPr/>
                    <p:nvPr/>
                  </p:nvSpPr>
                  <p:spPr>
                    <a:xfrm flipV="1">
                      <a:off x="4540680" y="4648680"/>
                      <a:ext cx="66240" cy="392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4501800" y="4204800"/>
                      <a:ext cx="104040" cy="44784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4416840" y="4687560"/>
                      <a:ext cx="125280" cy="2160"/>
                    </a:xfrm>
                    <a:prstGeom prst="line">
                      <a:avLst/>
                    </a:prstGeom>
                    <a:ln w="20520">
                      <a:solidFill>
                        <a:srgbClr val="3333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55" name=""/>
                  <p:cNvSpPr/>
                  <p:nvPr/>
                </p:nvSpPr>
                <p:spPr>
                  <a:xfrm>
                    <a:off x="4471920" y="4177800"/>
                    <a:ext cx="54000" cy="601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6" name=""/>
                <p:cNvGrpSpPr/>
                <p:nvPr/>
              </p:nvGrpSpPr>
              <p:grpSpPr>
                <a:xfrm>
                  <a:off x="3978720" y="3664800"/>
                  <a:ext cx="999720" cy="992520"/>
                  <a:chOff x="3978720" y="3664800"/>
                  <a:chExt cx="999720" cy="992520"/>
                </a:xfrm>
              </p:grpSpPr>
              <p:sp>
                <p:nvSpPr>
                  <p:cNvPr id="1057" name=""/>
                  <p:cNvSpPr/>
                  <p:nvPr/>
                </p:nvSpPr>
                <p:spPr>
                  <a:xfrm rot="3712200">
                    <a:off x="4114800" y="3788640"/>
                    <a:ext cx="727560" cy="744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5145" y="20687"/>
                        </a:moveTo>
                        <a:arcTo wR="10800" hR="10800" stAng="3976663" swAng="1765101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5145" y="20687"/>
                        </a:moveTo>
                        <a:arcTo wR="10800" hR="10800" stAng="3976663" swAng="1765101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8" name=""/>
                  <p:cNvSpPr/>
                  <p:nvPr/>
                </p:nvSpPr>
                <p:spPr>
                  <a:xfrm rot="3712200">
                    <a:off x="4260600" y="3950280"/>
                    <a:ext cx="413280" cy="443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 rot="3712200">
                    <a:off x="4368600" y="4081320"/>
                    <a:ext cx="236160" cy="240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13" y="19771"/>
                        </a:moveTo>
                        <a:arcTo wR="10800" hR="10800" stAng="3370033" swAng="1825764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13" y="19771"/>
                        </a:moveTo>
                        <a:arcTo wR="10800" hR="10800" stAng="3370033" swAng="18257648"/>
                      </a:path>
                    </a:pathLst>
                  </a:custGeom>
                  <a:noFill/>
                  <a:ln w="9360">
                    <a:solidFill>
                      <a:srgbClr val="00e4a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cxnSp>
            <p:nvCxnSpPr>
              <p:cNvPr id="1060" name=""/>
              <p:cNvCxnSpPr>
                <a:stCxn id="903" idx="2"/>
                <a:endCxn id="891" idx="0"/>
              </p:cNvCxnSpPr>
              <p:nvPr/>
            </p:nvCxnSpPr>
            <p:spPr>
              <a:xfrm>
                <a:off x="4980240" y="3382920"/>
                <a:ext cx="603720" cy="355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1" name=""/>
              <p:cNvSpPr/>
              <p:nvPr/>
            </p:nvSpPr>
            <p:spPr>
              <a:xfrm>
                <a:off x="908640" y="46436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R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392840" y="3679200"/>
                <a:ext cx="180720" cy="218772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56880 h 2187720"/>
                  <a:gd name="textAreaBottom" fmla="*/ 2130840 h 218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392840" y="1905120"/>
                <a:ext cx="180720" cy="1655640"/>
              </a:xfrm>
              <a:custGeom>
                <a:avLst/>
                <a:gdLst>
                  <a:gd name="textAreaLeft" fmla="*/ 115560 w 180720"/>
                  <a:gd name="textAreaRight" fmla="*/ 181080 w 180720"/>
                  <a:gd name="textAreaTop" fmla="*/ 42840 h 1655640"/>
                  <a:gd name="textAreaBottom" fmla="*/ 1612800 h 165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64" name=""/>
              <p:cNvCxnSpPr>
                <a:stCxn id="903" idx="1"/>
                <a:endCxn id="1065" idx="4"/>
              </p:cNvCxnSpPr>
              <p:nvPr/>
            </p:nvCxnSpPr>
            <p:spPr>
              <a:xfrm flipH="1">
                <a:off x="4407480" y="3205800"/>
                <a:ext cx="241920" cy="5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65" name=""/>
              <p:cNvSpPr/>
              <p:nvPr/>
            </p:nvSpPr>
            <p:spPr>
              <a:xfrm>
                <a:off x="3925440" y="3028320"/>
                <a:ext cx="482040" cy="473040"/>
              </a:xfrm>
              <a:prstGeom prst="flowChartMagneticDisk">
                <a:avLst/>
              </a:prstGeom>
              <a:solidFill>
                <a:srgbClr val="dadaf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600" spc="-1" strike="noStrike">
                    <a:solidFill>
                      <a:srgbClr val="000000"/>
                    </a:solidFill>
                    <a:latin typeface="Arial"/>
                  </a:rPr>
                  <a:t>VL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requency Reu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 cells assigned different frequencies to avoid interference or crosstal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 is to reuse frequency in nearby ce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 to 50 frequencies assigned to each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power controlled to limit power at that frequency escaping to adjacen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ssue is to determine how many cells must intervene between two cells using the same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elements and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1373040" y="1447920"/>
            <a:ext cx="5408280" cy="4952520"/>
            <a:chOff x="1373040" y="1447920"/>
            <a:chExt cx="5408280" cy="4952520"/>
          </a:xfrm>
        </p:grpSpPr>
        <p:sp>
          <p:nvSpPr>
            <p:cNvPr id="1068" name=""/>
            <p:cNvSpPr/>
            <p:nvPr/>
          </p:nvSpPr>
          <p:spPr>
            <a:xfrm>
              <a:off x="4334760" y="2459160"/>
              <a:ext cx="1958400" cy="1275480"/>
            </a:xfrm>
            <a:prstGeom prst="hexagon">
              <a:avLst>
                <a:gd name="adj" fmla="val 38386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63800" y="1822680"/>
              <a:ext cx="1958400" cy="1275480"/>
            </a:xfrm>
            <a:prstGeom prst="hexagon">
              <a:avLst>
                <a:gd name="adj" fmla="val 38386"/>
                <a:gd name="vf" fmla="val 115470"/>
              </a:avLst>
            </a:prstGeom>
            <a:solidFill>
              <a:srgbClr val="01ffb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76960" y="1447920"/>
              <a:ext cx="3731040" cy="2851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74120" y="497484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N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30000" y="2048040"/>
              <a:ext cx="372960" cy="3002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83040" y="2048040"/>
              <a:ext cx="372600" cy="3002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rot="16200000">
              <a:off x="3477960" y="2480040"/>
              <a:ext cx="450000" cy="18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610080" y="279864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76960" y="3998880"/>
              <a:ext cx="46656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009040" y="527508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G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88760" y="550008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983040" y="602532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M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 rot="5400000">
              <a:off x="3756960" y="2480040"/>
              <a:ext cx="450000" cy="18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102640" y="339876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169520" y="399888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36760" y="4599720"/>
              <a:ext cx="46656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009040" y="459972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85" name=""/>
            <p:cNvCxnSpPr>
              <a:stCxn id="1075" idx="2"/>
              <a:endCxn id="1082" idx="0"/>
            </p:cNvCxnSpPr>
            <p:nvPr/>
          </p:nvCxnSpPr>
          <p:spPr>
            <a:xfrm>
              <a:off x="3843000" y="3023280"/>
              <a:ext cx="560160" cy="975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6" name=""/>
            <p:cNvCxnSpPr>
              <a:stCxn id="1081" idx="2"/>
              <a:endCxn id="1082" idx="3"/>
            </p:cNvCxnSpPr>
            <p:nvPr/>
          </p:nvCxnSpPr>
          <p:spPr>
            <a:xfrm flipH="1">
              <a:off x="4635000" y="3623400"/>
              <a:ext cx="700200" cy="48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87" name=""/>
            <p:cNvCxnSpPr>
              <a:stCxn id="1082" idx="2"/>
              <a:endCxn id="1083" idx="0"/>
            </p:cNvCxnSpPr>
            <p:nvPr/>
          </p:nvCxnSpPr>
          <p:spPr>
            <a:xfrm flipH="1">
              <a:off x="3470040" y="4224240"/>
              <a:ext cx="933120" cy="375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8" name=""/>
            <p:cNvCxnSpPr>
              <a:stCxn id="1076" idx="3"/>
              <a:endCxn id="1083" idx="0"/>
            </p:cNvCxnSpPr>
            <p:nvPr/>
          </p:nvCxnSpPr>
          <p:spPr>
            <a:xfrm>
              <a:off x="3143520" y="4111200"/>
              <a:ext cx="327240" cy="488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9" name=""/>
            <p:cNvCxnSpPr>
              <a:stCxn id="1076" idx="0"/>
            </p:cNvCxnSpPr>
            <p:nvPr/>
          </p:nvCxnSpPr>
          <p:spPr>
            <a:xfrm flipH="1" flipV="1">
              <a:off x="2676600" y="3623040"/>
              <a:ext cx="234000" cy="375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90" name=""/>
            <p:cNvSpPr/>
            <p:nvPr/>
          </p:nvSpPr>
          <p:spPr>
            <a:xfrm flipH="1" rot="5400000">
              <a:off x="5193720" y="3117600"/>
              <a:ext cx="374760" cy="18612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92" y="0"/>
                  </a:lnTo>
                  <a:lnTo>
                    <a:pt x="144" y="96"/>
                  </a:lnTo>
                  <a:lnTo>
                    <a:pt x="33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1" name=""/>
            <p:cNvCxnSpPr>
              <a:stCxn id="1084" idx="0"/>
            </p:cNvCxnSpPr>
            <p:nvPr/>
          </p:nvCxnSpPr>
          <p:spPr>
            <a:xfrm flipV="1">
              <a:off x="5242320" y="4079880"/>
              <a:ext cx="762480" cy="519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92" name=""/>
            <p:cNvSpPr/>
            <p:nvPr/>
          </p:nvSpPr>
          <p:spPr>
            <a:xfrm flipH="1">
              <a:off x="2490840" y="3849120"/>
              <a:ext cx="429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213640" y="3697200"/>
              <a:ext cx="35892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30000" y="2573280"/>
              <a:ext cx="1025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039120" y="2421720"/>
              <a:ext cx="3330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490840" y="5950440"/>
              <a:ext cx="498960" cy="325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30000" y="5199840"/>
              <a:ext cx="498960" cy="32508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584080" y="4974840"/>
              <a:ext cx="498960" cy="323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356000" y="4974840"/>
              <a:ext cx="499680" cy="323640"/>
            </a:xfrm>
            <a:prstGeom prst="flowChartMagneticDisk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2490840" y="4374360"/>
              <a:ext cx="4290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82400" y="42228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02" name=""/>
            <p:cNvCxnSpPr>
              <a:stCxn id="1084" idx="1"/>
              <a:endCxn id="1083" idx="3"/>
            </p:cNvCxnSpPr>
            <p:nvPr/>
          </p:nvCxnSpPr>
          <p:spPr>
            <a:xfrm flipH="1">
              <a:off x="3702960" y="4711680"/>
              <a:ext cx="130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3" name=""/>
            <p:cNvCxnSpPr>
              <a:stCxn id="1084" idx="2"/>
              <a:endCxn id="1077" idx="0"/>
            </p:cNvCxnSpPr>
            <p:nvPr/>
          </p:nvCxnSpPr>
          <p:spPr>
            <a:xfrm>
              <a:off x="5241960" y="4824720"/>
              <a:ext cx="1080" cy="4507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04" name=""/>
            <p:cNvCxnSpPr>
              <a:stCxn id="1083" idx="1"/>
              <a:endCxn id="1098" idx="1"/>
            </p:cNvCxnSpPr>
            <p:nvPr/>
          </p:nvCxnSpPr>
          <p:spPr>
            <a:xfrm flipH="1">
              <a:off x="2834640" y="4711680"/>
              <a:ext cx="402480" cy="2631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05" name=""/>
            <p:cNvSpPr/>
            <p:nvPr/>
          </p:nvSpPr>
          <p:spPr>
            <a:xfrm>
              <a:off x="5353200" y="1971360"/>
              <a:ext cx="43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132600" y="542628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PD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5757840" y="5199840"/>
              <a:ext cx="889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ISDN, PST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7000" y="279684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26840" y="182268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17960" y="2421720"/>
              <a:ext cx="68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adio ce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5288760" y="2723400"/>
              <a:ext cx="372960" cy="300240"/>
            </a:xfrm>
            <a:prstGeom prst="ellipse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2" name=""/>
            <p:cNvCxnSpPr>
              <a:stCxn id="1082" idx="1"/>
            </p:cNvCxnSpPr>
            <p:nvPr/>
          </p:nvCxnSpPr>
          <p:spPr>
            <a:xfrm flipH="1" flipV="1">
              <a:off x="3795840" y="3698640"/>
              <a:ext cx="373680" cy="413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13" name=""/>
            <p:cNvSpPr/>
            <p:nvPr/>
          </p:nvSpPr>
          <p:spPr>
            <a:xfrm>
              <a:off x="1931040" y="1447920"/>
              <a:ext cx="186120" cy="292644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76320 h 2926440"/>
                <a:gd name="textAreaBottom" fmla="*/ 2850120 h 29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931040" y="4374360"/>
              <a:ext cx="186120" cy="142524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37080 h 1425240"/>
                <a:gd name="textAreaBottom" fmla="*/ 1388160 h 142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5" name=""/>
            <p:cNvCxnSpPr>
              <a:stCxn id="1077" idx="3"/>
              <a:endCxn id="1107" idx="1"/>
            </p:cNvCxnSpPr>
            <p:nvPr/>
          </p:nvCxnSpPr>
          <p:spPr>
            <a:xfrm flipV="1">
              <a:off x="5474880" y="5320080"/>
              <a:ext cx="280440" cy="67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6" name=""/>
            <p:cNvCxnSpPr>
              <a:stCxn id="1078" idx="3"/>
              <a:endCxn id="1106" idx="1"/>
            </p:cNvCxnSpPr>
            <p:nvPr/>
          </p:nvCxnSpPr>
          <p:spPr>
            <a:xfrm flipV="1">
              <a:off x="5754960" y="5545080"/>
              <a:ext cx="373680" cy="67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17" name=""/>
            <p:cNvSpPr/>
            <p:nvPr/>
          </p:nvSpPr>
          <p:spPr>
            <a:xfrm>
              <a:off x="3330000" y="6025320"/>
              <a:ext cx="466200" cy="225000"/>
            </a:xfrm>
            <a:prstGeom prst="rect">
              <a:avLst/>
            </a:prstGeom>
            <a:solidFill>
              <a:srgbClr val="dadaf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AU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18" name=""/>
            <p:cNvCxnSpPr>
              <a:stCxn id="1079" idx="0"/>
              <a:endCxn id="1082" idx="2"/>
            </p:cNvCxnSpPr>
            <p:nvPr/>
          </p:nvCxnSpPr>
          <p:spPr>
            <a:xfrm flipH="1" flipV="1" rot="5400000">
              <a:off x="3408480" y="5031000"/>
              <a:ext cx="1801440" cy="186840"/>
            </a:xfrm>
            <a:prstGeom prst="curvedConnector5">
              <a:avLst>
                <a:gd name="adj1" fmla="val 64221"/>
                <a:gd name="adj2" fmla="val 50000"/>
                <a:gd name="adj3" fmla="val 64221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19" name=""/>
            <p:cNvSpPr/>
            <p:nvPr/>
          </p:nvSpPr>
          <p:spPr>
            <a:xfrm>
              <a:off x="1931040" y="5799960"/>
              <a:ext cx="186120" cy="600480"/>
            </a:xfrm>
            <a:custGeom>
              <a:avLst/>
              <a:gdLst>
                <a:gd name="textAreaLeft" fmla="*/ 118800 w 186120"/>
                <a:gd name="textAreaRight" fmla="*/ 186480 w 186120"/>
                <a:gd name="textAreaTop" fmla="*/ 15480 h 600480"/>
                <a:gd name="textAreaBottom" fmla="*/ 585000 h 60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373040" y="5950440"/>
              <a:ext cx="482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SS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1084" idx="0"/>
            </p:cNvCxnSpPr>
            <p:nvPr/>
          </p:nvCxnSpPr>
          <p:spPr>
            <a:xfrm flipV="1">
              <a:off x="5241960" y="4123800"/>
              <a:ext cx="1375920" cy="4759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22" name=""/>
            <p:cNvCxnSpPr>
              <a:stCxn id="1084" idx="1"/>
              <a:endCxn id="1099" idx="1"/>
            </p:cNvCxnSpPr>
            <p:nvPr/>
          </p:nvCxnSpPr>
          <p:spPr>
            <a:xfrm flipH="1">
              <a:off x="4606200" y="4711680"/>
              <a:ext cx="402840" cy="2631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3" name=""/>
            <p:cNvCxnSpPr>
              <a:stCxn id="1083" idx="2"/>
              <a:endCxn id="1097" idx="1"/>
            </p:cNvCxnSpPr>
            <p:nvPr/>
          </p:nvCxnSpPr>
          <p:spPr>
            <a:xfrm>
              <a:off x="3470040" y="4824360"/>
              <a:ext cx="111240" cy="3754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4" name=""/>
            <p:cNvCxnSpPr>
              <a:stCxn id="1083" idx="2"/>
              <a:endCxn id="1096" idx="1"/>
            </p:cNvCxnSpPr>
            <p:nvPr/>
          </p:nvCxnSpPr>
          <p:spPr>
            <a:xfrm flipH="1">
              <a:off x="2741040" y="4824720"/>
              <a:ext cx="729360" cy="11260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5" name=""/>
            <p:cNvCxnSpPr>
              <a:stCxn id="1097" idx="3"/>
              <a:endCxn id="1117" idx="0"/>
            </p:cNvCxnSpPr>
            <p:nvPr/>
          </p:nvCxnSpPr>
          <p:spPr>
            <a:xfrm flipH="1">
              <a:off x="3562920" y="5524560"/>
              <a:ext cx="18000" cy="5007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6" name=""/>
            <p:cNvCxnSpPr>
              <a:stCxn id="1084" idx="2"/>
              <a:endCxn id="1079" idx="0"/>
            </p:cNvCxnSpPr>
            <p:nvPr/>
          </p:nvCxnSpPr>
          <p:spPr>
            <a:xfrm flipH="1">
              <a:off x="4215600" y="4824720"/>
              <a:ext cx="1026360" cy="120096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7" name=""/>
            <p:cNvCxnSpPr>
              <a:stCxn id="1083" idx="2"/>
              <a:endCxn id="1079" idx="0"/>
            </p:cNvCxnSpPr>
            <p:nvPr/>
          </p:nvCxnSpPr>
          <p:spPr>
            <a:xfrm flipH="1" rot="16200000">
              <a:off x="3243240" y="5051520"/>
              <a:ext cx="1200960" cy="746640"/>
            </a:xfrm>
            <a:prstGeom prst="curvedConnector5">
              <a:avLst>
                <a:gd name="adj1" fmla="val 26926"/>
                <a:gd name="adj2" fmla="val 49975"/>
                <a:gd name="adj3" fmla="val 26926"/>
              </a:avLst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8" name=""/>
            <p:cNvCxnSpPr>
              <a:stCxn id="1079" idx="0"/>
              <a:endCxn id="1076" idx="3"/>
            </p:cNvCxnSpPr>
            <p:nvPr/>
          </p:nvCxnSpPr>
          <p:spPr>
            <a:xfrm flipV="1" rot="16200000">
              <a:off x="2722680" y="4531320"/>
              <a:ext cx="1914120" cy="1073160"/>
            </a:xfrm>
            <a:prstGeom prst="curvedConnector2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1129" name=""/>
            <p:cNvCxnSpPr>
              <a:stCxn id="1077" idx="2"/>
              <a:endCxn id="1079" idx="0"/>
            </p:cNvCxnSpPr>
            <p:nvPr/>
          </p:nvCxnSpPr>
          <p:spPr>
            <a:xfrm flipH="1">
              <a:off x="4215600" y="5500080"/>
              <a:ext cx="1026360" cy="52560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0" name=""/>
            <p:cNvSpPr/>
            <p:nvPr/>
          </p:nvSpPr>
          <p:spPr>
            <a:xfrm>
              <a:off x="5758200" y="4974840"/>
              <a:ext cx="677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31" name=""/>
            <p:cNvCxnSpPr>
              <a:stCxn id="1130" idx="1"/>
              <a:endCxn id="1077" idx="3"/>
            </p:cNvCxnSpPr>
            <p:nvPr/>
          </p:nvCxnSpPr>
          <p:spPr>
            <a:xfrm flipH="1">
              <a:off x="5474520" y="5094720"/>
              <a:ext cx="280440" cy="2926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</p:cxnSp>
        <p:sp>
          <p:nvSpPr>
            <p:cNvPr id="1132" name=""/>
            <p:cNvSpPr/>
            <p:nvPr/>
          </p:nvSpPr>
          <p:spPr>
            <a:xfrm flipH="1">
              <a:off x="3982680" y="5799960"/>
              <a:ext cx="1119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68480" y="5650200"/>
              <a:ext cx="279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1828800" y="1523880"/>
            <a:ext cx="5257440" cy="5132880"/>
            <a:chOff x="1828800" y="1523880"/>
            <a:chExt cx="5257440" cy="5132880"/>
          </a:xfrm>
        </p:grpSpPr>
        <p:sp>
          <p:nvSpPr>
            <p:cNvPr id="1135" name=""/>
            <p:cNvSpPr/>
            <p:nvPr/>
          </p:nvSpPr>
          <p:spPr>
            <a:xfrm>
              <a:off x="3526200" y="1570320"/>
              <a:ext cx="0" cy="4439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19440" y="2720880"/>
              <a:ext cx="57600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22600" y="3041280"/>
              <a:ext cx="5749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67360" y="5332680"/>
              <a:ext cx="32400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318040" y="5507280"/>
              <a:ext cx="51660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958400" y="1523880"/>
              <a:ext cx="115488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V="1">
              <a:off x="2265480" y="2810520"/>
              <a:ext cx="207720" cy="3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2265120" y="2810520"/>
              <a:ext cx="207720" cy="20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V="1">
              <a:off x="2272680" y="2496600"/>
              <a:ext cx="264600" cy="50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2049480" y="2854440"/>
              <a:ext cx="738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493360" y="3280320"/>
              <a:ext cx="294480" cy="212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2493360" y="3494880"/>
              <a:ext cx="294480" cy="14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82520" y="214632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571480" y="214632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055240" y="3144240"/>
              <a:ext cx="432360" cy="201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93600" y="335736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055240" y="3500640"/>
              <a:ext cx="432360" cy="20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834560" y="4712760"/>
              <a:ext cx="1464120" cy="1056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V="1">
              <a:off x="2265480" y="4591800"/>
              <a:ext cx="207720" cy="322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2265120" y="4591800"/>
              <a:ext cx="207720" cy="21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2272680" y="4277880"/>
              <a:ext cx="264600" cy="50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493360" y="5063040"/>
              <a:ext cx="29448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2493360" y="5277240"/>
              <a:ext cx="29448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055240" y="4926960"/>
              <a:ext cx="432360" cy="20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793600" y="5138640"/>
              <a:ext cx="4309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055240" y="5283000"/>
              <a:ext cx="432360" cy="20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2567160" y="3279960"/>
              <a:ext cx="146160" cy="212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V="1">
              <a:off x="3230280" y="2854080"/>
              <a:ext cx="504720" cy="64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30280" y="5204880"/>
              <a:ext cx="504720" cy="21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3376800" y="5063040"/>
              <a:ext cx="0" cy="2844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04080" y="2854440"/>
              <a:ext cx="430920" cy="71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 flipV="1">
              <a:off x="3082320" y="4278240"/>
              <a:ext cx="651600" cy="114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828800" y="1999440"/>
              <a:ext cx="3099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585400" y="1570320"/>
              <a:ext cx="0" cy="443952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727080" y="1523880"/>
              <a:ext cx="17074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 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45440" y="2716920"/>
              <a:ext cx="43272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745440" y="5283000"/>
              <a:ext cx="432720" cy="20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63240" y="2925720"/>
              <a:ext cx="0" cy="2351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67320" y="1999440"/>
              <a:ext cx="30988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639400" y="1523880"/>
              <a:ext cx="14468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artner 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963240" y="2213280"/>
              <a:ext cx="0" cy="497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963240" y="5488920"/>
              <a:ext cx="0" cy="520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9920" y="5494680"/>
              <a:ext cx="433800" cy="203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920" y="5347440"/>
              <a:ext cx="191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848480" y="5918040"/>
              <a:ext cx="125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6033600" y="5133240"/>
              <a:ext cx="722520" cy="5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6033600" y="5702400"/>
              <a:ext cx="7981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039920" y="3430440"/>
              <a:ext cx="507600" cy="1412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35960" y="2925720"/>
              <a:ext cx="73800" cy="7117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4035960" y="4564440"/>
              <a:ext cx="73800" cy="7128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6200000">
              <a:off x="4006800" y="3892320"/>
              <a:ext cx="57168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074560" y="3215880"/>
              <a:ext cx="4327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98960" y="3287160"/>
              <a:ext cx="43380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6240" y="3357360"/>
              <a:ext cx="43128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854240" y="3430440"/>
              <a:ext cx="43092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074560" y="3856320"/>
              <a:ext cx="4327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98960" y="3927960"/>
              <a:ext cx="43380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26240" y="3999240"/>
              <a:ext cx="43128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54240" y="4070880"/>
              <a:ext cx="43092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98960" y="4641120"/>
              <a:ext cx="43380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26240" y="4712760"/>
              <a:ext cx="43128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54240" y="4782960"/>
              <a:ext cx="430920" cy="203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778640" y="4854240"/>
              <a:ext cx="433800" cy="203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478040" y="5633280"/>
              <a:ext cx="370080" cy="28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V="1">
              <a:off x="4552560" y="3565080"/>
              <a:ext cx="295560" cy="2844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552560" y="4136760"/>
              <a:ext cx="2955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79840" y="4635720"/>
              <a:ext cx="292680" cy="3556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 flipV="1">
              <a:off x="4330440" y="2498040"/>
              <a:ext cx="221760" cy="9262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552560" y="2498400"/>
              <a:ext cx="1549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033600" y="2283840"/>
              <a:ext cx="65016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50760" bIns="5076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1065240"/>
                  <a:tab algn="l" pos="2130480"/>
                  <a:tab algn="l" pos="3195720"/>
                  <a:tab algn="l" pos="4260960"/>
                  <a:tab algn="l" pos="5326200"/>
                  <a:tab algn="l" pos="6391440"/>
                  <a:tab algn="l" pos="7456320"/>
                  <a:tab algn="l" pos="8521560"/>
                  <a:tab algn="l" pos="9586800"/>
                  <a:tab algn="l" pos="1065204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: system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343400" y="1599840"/>
            <a:ext cx="4495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Mobile Statio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S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(Base Station Subsystem)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ing o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T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Transceiver Station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BSC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Base Station Controller)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ntrolling several transceiv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bis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6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standardized, open interface wit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64 kbit/s user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609480" y="1752480"/>
            <a:ext cx="3581280" cy="4495680"/>
            <a:chOff x="609480" y="1752480"/>
            <a:chExt cx="3581280" cy="4495680"/>
          </a:xfrm>
        </p:grpSpPr>
        <p:sp>
          <p:nvSpPr>
            <p:cNvPr id="1209" name=""/>
            <p:cNvSpPr/>
            <p:nvPr/>
          </p:nvSpPr>
          <p:spPr>
            <a:xfrm>
              <a:off x="2163600" y="1852200"/>
              <a:ext cx="0" cy="439596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427400" y="2925000"/>
              <a:ext cx="52632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335600" y="3225960"/>
              <a:ext cx="52776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de-DE" sz="1400" spc="-1" strike="noStrike" baseline="-25000">
                  <a:solidFill>
                    <a:srgbClr val="000000"/>
                  </a:solidFill>
                  <a:latin typeface="Arial"/>
                </a:rPr>
                <a:t>bi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29960" y="4835880"/>
              <a:ext cx="295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059840" y="5532120"/>
              <a:ext cx="561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0440" y="1752480"/>
              <a:ext cx="10274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br>
                <a:rPr sz="1200"/>
              </a:b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300040" y="1752480"/>
              <a:ext cx="1890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 and switching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V="1">
              <a:off x="1009080" y="3011040"/>
              <a:ext cx="1915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>
              <a:off x="1009080" y="3011040"/>
              <a:ext cx="191520" cy="195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V="1">
              <a:off x="1015920" y="2716920"/>
              <a:ext cx="242280" cy="47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12160" y="3051360"/>
              <a:ext cx="6757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217520" y="3450960"/>
              <a:ext cx="270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1217520" y="3650400"/>
              <a:ext cx="270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50240" y="239076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290600" y="239076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817920" y="332316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493280" y="352296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509920" y="3486960"/>
              <a:ext cx="52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573640" y="3522960"/>
              <a:ext cx="3952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817920" y="365616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14880" y="4788720"/>
              <a:ext cx="1340280" cy="987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V="1">
              <a:off x="1009080" y="4676400"/>
              <a:ext cx="191520" cy="30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1009080" y="4676400"/>
              <a:ext cx="191520" cy="19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1015920" y="4381560"/>
              <a:ext cx="242280" cy="475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1217520" y="5116320"/>
              <a:ext cx="270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V="1">
              <a:off x="1217520" y="5315760"/>
              <a:ext cx="270360" cy="13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17920" y="498852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1493280" y="5188320"/>
              <a:ext cx="39420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17920" y="5321520"/>
              <a:ext cx="39384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V="1">
              <a:off x="1285200" y="3450600"/>
              <a:ext cx="135000" cy="199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893600" y="3650760"/>
              <a:ext cx="67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893600" y="5249160"/>
              <a:ext cx="675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09920" y="5086800"/>
              <a:ext cx="524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73640" y="5121360"/>
              <a:ext cx="395280" cy="18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771640" y="3717360"/>
              <a:ext cx="0" cy="139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2028600" y="5115960"/>
              <a:ext cx="0" cy="266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H="1" flipV="1">
              <a:off x="1960560" y="3117960"/>
              <a:ext cx="608040" cy="46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 flipH="1" flipV="1">
              <a:off x="1758240" y="4383360"/>
              <a:ext cx="810720" cy="79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09480" y="2252160"/>
              <a:ext cx="283824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rchitecture: network and switching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9" name=""/>
          <p:cNvSpPr/>
          <p:nvPr/>
        </p:nvSpPr>
        <p:spPr>
          <a:xfrm>
            <a:off x="4290840" y="1697040"/>
            <a:ext cx="4776840" cy="53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Mobile Services Switching Cent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W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rworking Fun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S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Integrated Services Digital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T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ublic Switched Telephone Networ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cke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SPD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Circuit Switched Public Data Net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Monotype Sorts" charset="2"/>
              <a:buChar char="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Home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VL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Visitor Loca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Monotype Sorts" charset="2"/>
              <a:buChar char="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I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quipment Identity Regis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914400" y="1600200"/>
            <a:ext cx="3200040" cy="4381920"/>
            <a:chOff x="914400" y="1600200"/>
            <a:chExt cx="3200040" cy="4381920"/>
          </a:xfrm>
        </p:grpSpPr>
        <p:sp>
          <p:nvSpPr>
            <p:cNvPr id="1251" name=""/>
            <p:cNvSpPr/>
            <p:nvPr/>
          </p:nvSpPr>
          <p:spPr>
            <a:xfrm>
              <a:off x="2853720" y="1684440"/>
              <a:ext cx="0" cy="429768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287000" y="1600200"/>
              <a:ext cx="12992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ubsyst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995040" y="273168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995040" y="507600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S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212840" y="2921760"/>
              <a:ext cx="0" cy="214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914400" y="2075040"/>
              <a:ext cx="3133080" cy="0"/>
            </a:xfrm>
            <a:prstGeom prst="line">
              <a:avLst/>
            </a:prstGeom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895840" y="1600200"/>
              <a:ext cx="12186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fixed partner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etwork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1212840" y="2270520"/>
              <a:ext cx="0" cy="45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1212840" y="5266080"/>
              <a:ext cx="0" cy="586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1293480" y="5271120"/>
              <a:ext cx="43524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W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1436400" y="5135760"/>
              <a:ext cx="193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08160" y="5656680"/>
              <a:ext cx="1267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307680" y="4940280"/>
              <a:ext cx="731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07680" y="5461560"/>
              <a:ext cx="80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P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SP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93480" y="3382920"/>
              <a:ext cx="509400" cy="1291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287000" y="2921760"/>
              <a:ext cx="74520" cy="65088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1287000" y="4419000"/>
              <a:ext cx="74520" cy="651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1277640" y="3760920"/>
              <a:ext cx="619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337840" y="31874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63320" y="325260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88800" y="331776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13920" y="33829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E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337840" y="377352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263320" y="383868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88800" y="390384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13920" y="396900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263320" y="448992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88800" y="45550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13920" y="4619880"/>
              <a:ext cx="43524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039760" y="4685040"/>
              <a:ext cx="434880" cy="184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734840" y="5396040"/>
              <a:ext cx="372960" cy="26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V="1">
              <a:off x="1809360" y="3507840"/>
              <a:ext cx="298440" cy="25992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809360" y="4028760"/>
              <a:ext cx="2984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34840" y="4484520"/>
              <a:ext cx="298440" cy="32544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1585800" y="2531160"/>
              <a:ext cx="223560" cy="846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1809360" y="2531160"/>
              <a:ext cx="156636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07680" y="2335680"/>
              <a:ext cx="65700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br>
                <a:rPr sz="1400"/>
              </a:b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dio sub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adio Subsystem (RSS) comprises the cellular mobile network up to the 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 Station Subsystem (BSS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Transceiver Station (BTS): radio components including sender, receiver, antenna - if directed antennas are used one BTS can cover several ce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e Station Controller (BSC): switching between BTSs, controlling BTSs, managing of network resources, mapping of radio channels (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 onto terrestrial channels (A interfac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SS = BSC + sum(BTS) + interconnec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bile Stations (M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station communicates across Um interface (air interface) with base station transceiver in same cell as mobile un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Equipment (ME) – physical terminal, such as a telephone or P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 includes radio transceiver, digital signal processors and subscriber identity module (SI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M subscriber units are generic until SIM is inse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s roam, not necessarily the subscriber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Base Station Subsystem (BS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S consists of base station controller and one or more base transceiver stations (B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BTS defines a single ce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s radio antenna, radio transceiver and a link to a base station controller (BS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C reserves radio frequencies, manages handoff of mobile unit from one cell to another within BSS, and controls 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etwork Subsystem (N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S provides link between cellular network and public switched telecommunications netwo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s handoffs between cells in different BS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es users and validates accou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worldwide roaming of mobile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element of NS is the mobile switching center (MSC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Switching Center (MSC) Databa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location register (HLR) database – stores information about each subscriber that belongs to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or location register (VLR) database – maintains information about subscribers currently physically in the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entication center database (AuC) – used for authentication activities, holds encryption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pment identity register database (EIR) – keeps track of the type of equipment that exists at the mobile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DMA Format – Time Slot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l bits – allow synchronization of transmissions from mobi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rypted bits – encrypted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ining sequence – used to adapt parameters of receiver to the current path propagation character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ongest signal selected in case of multipath propa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ard bits – used to avoid overlapping with other bur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ellular Concep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4592160"/>
            <a:ext cx="91440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ral small cells instead of a single transmitter=&gt; frequency reuse: better efficien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xed Channel Allocation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uster of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j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; an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= sqrt(3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ell radius an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distance at which a frequency can be reused with acceptable interferenc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747160" y="1415520"/>
            <a:ext cx="5376240" cy="3074400"/>
            <a:chOff x="2747160" y="1415520"/>
            <a:chExt cx="5376240" cy="3074400"/>
          </a:xfrm>
        </p:grpSpPr>
        <p:grpSp>
          <p:nvGrpSpPr>
            <p:cNvPr id="107" name=""/>
            <p:cNvGrpSpPr/>
            <p:nvPr/>
          </p:nvGrpSpPr>
          <p:grpSpPr>
            <a:xfrm>
              <a:off x="4039920" y="3923280"/>
              <a:ext cx="886320" cy="554040"/>
              <a:chOff x="4039920" y="3923280"/>
              <a:chExt cx="886320" cy="554040"/>
            </a:xfrm>
          </p:grpSpPr>
          <p:sp>
            <p:nvSpPr>
              <p:cNvPr id="108" name=""/>
              <p:cNvSpPr/>
              <p:nvPr/>
            </p:nvSpPr>
            <p:spPr>
              <a:xfrm>
                <a:off x="4295160" y="3923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286880" y="4477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4680000" y="3926520"/>
                <a:ext cx="246240" cy="547200"/>
                <a:chOff x="4680000" y="3926520"/>
                <a:chExt cx="246240" cy="54720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4680000" y="3926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 flipV="1">
                  <a:off x="4680000" y="4200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4039920" y="3929400"/>
                <a:ext cx="246240" cy="547200"/>
                <a:chOff x="4039920" y="3929400"/>
                <a:chExt cx="246240" cy="547200"/>
              </a:xfrm>
            </p:grpSpPr>
            <p:sp>
              <p:nvSpPr>
                <p:cNvPr id="114" name=""/>
                <p:cNvSpPr/>
                <p:nvPr/>
              </p:nvSpPr>
              <p:spPr>
                <a:xfrm flipH="1">
                  <a:off x="4040280" y="3929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 flipV="1">
                  <a:off x="4039920" y="4203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6" name=""/>
            <p:cNvGrpSpPr/>
            <p:nvPr/>
          </p:nvGrpSpPr>
          <p:grpSpPr>
            <a:xfrm>
              <a:off x="4677120" y="3642120"/>
              <a:ext cx="886320" cy="553680"/>
              <a:chOff x="4677120" y="3642120"/>
              <a:chExt cx="886320" cy="553680"/>
            </a:xfrm>
          </p:grpSpPr>
          <p:sp>
            <p:nvSpPr>
              <p:cNvPr id="117" name=""/>
              <p:cNvSpPr/>
              <p:nvPr/>
            </p:nvSpPr>
            <p:spPr>
              <a:xfrm>
                <a:off x="4932360" y="3642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924080" y="4195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" name=""/>
              <p:cNvGrpSpPr/>
              <p:nvPr/>
            </p:nvGrpSpPr>
            <p:grpSpPr>
              <a:xfrm>
                <a:off x="5317200" y="3645360"/>
                <a:ext cx="246240" cy="547200"/>
                <a:chOff x="5317200" y="3645360"/>
                <a:chExt cx="246240" cy="54720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5317200" y="3645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V="1">
                  <a:off x="5317200" y="3919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677120" y="3648240"/>
                <a:ext cx="246240" cy="547200"/>
                <a:chOff x="4677120" y="3648240"/>
                <a:chExt cx="246240" cy="54720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4677480" y="364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 flipV="1">
                  <a:off x="4677120" y="392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4035960" y="3371400"/>
              <a:ext cx="886680" cy="554040"/>
              <a:chOff x="4035960" y="3371400"/>
              <a:chExt cx="886680" cy="554040"/>
            </a:xfrm>
          </p:grpSpPr>
          <p:sp>
            <p:nvSpPr>
              <p:cNvPr id="126" name=""/>
              <p:cNvSpPr/>
              <p:nvPr/>
            </p:nvSpPr>
            <p:spPr>
              <a:xfrm>
                <a:off x="4291200" y="3371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283280" y="3925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8" name=""/>
              <p:cNvGrpSpPr/>
              <p:nvPr/>
            </p:nvGrpSpPr>
            <p:grpSpPr>
              <a:xfrm>
                <a:off x="4676400" y="3374640"/>
                <a:ext cx="246240" cy="547200"/>
                <a:chOff x="4676400" y="3374640"/>
                <a:chExt cx="246240" cy="5472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676400" y="3374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4676400" y="3648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4035960" y="3377520"/>
                <a:ext cx="246240" cy="547200"/>
                <a:chOff x="4035960" y="3377520"/>
                <a:chExt cx="246240" cy="547200"/>
              </a:xfrm>
            </p:grpSpPr>
            <p:sp>
              <p:nvSpPr>
                <p:cNvPr id="132" name=""/>
                <p:cNvSpPr/>
                <p:nvPr/>
              </p:nvSpPr>
              <p:spPr>
                <a:xfrm flipH="1">
                  <a:off x="4036320" y="3377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flipH="1" flipV="1">
                  <a:off x="4035960" y="3651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4" name=""/>
            <p:cNvGrpSpPr/>
            <p:nvPr/>
          </p:nvGrpSpPr>
          <p:grpSpPr>
            <a:xfrm>
              <a:off x="4673520" y="3090240"/>
              <a:ext cx="886320" cy="554040"/>
              <a:chOff x="4673520" y="3090240"/>
              <a:chExt cx="886320" cy="554040"/>
            </a:xfrm>
          </p:grpSpPr>
          <p:sp>
            <p:nvSpPr>
              <p:cNvPr id="135" name=""/>
              <p:cNvSpPr/>
              <p:nvPr/>
            </p:nvSpPr>
            <p:spPr>
              <a:xfrm>
                <a:off x="4928760" y="3090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20480" y="3644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" name=""/>
              <p:cNvGrpSpPr/>
              <p:nvPr/>
            </p:nvGrpSpPr>
            <p:grpSpPr>
              <a:xfrm>
                <a:off x="5313600" y="3093480"/>
                <a:ext cx="246240" cy="547200"/>
                <a:chOff x="5313600" y="3093480"/>
                <a:chExt cx="246240" cy="547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313600" y="3093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5313600" y="3367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673520" y="3096360"/>
                <a:ext cx="246240" cy="547200"/>
                <a:chOff x="4673520" y="3096360"/>
                <a:chExt cx="246240" cy="547200"/>
              </a:xfrm>
            </p:grpSpPr>
            <p:sp>
              <p:nvSpPr>
                <p:cNvPr id="141" name=""/>
                <p:cNvSpPr/>
                <p:nvPr/>
              </p:nvSpPr>
              <p:spPr>
                <a:xfrm flipH="1">
                  <a:off x="4673880" y="3096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flipV="1">
                  <a:off x="4673520" y="3370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2757600" y="3935880"/>
              <a:ext cx="886680" cy="554040"/>
              <a:chOff x="2757600" y="3935880"/>
              <a:chExt cx="886680" cy="554040"/>
            </a:xfrm>
          </p:grpSpPr>
          <p:sp>
            <p:nvSpPr>
              <p:cNvPr id="144" name=""/>
              <p:cNvSpPr/>
              <p:nvPr/>
            </p:nvSpPr>
            <p:spPr>
              <a:xfrm>
                <a:off x="3012840" y="3935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004920" y="44899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398040" y="3939120"/>
                <a:ext cx="246240" cy="547200"/>
                <a:chOff x="3398040" y="3939120"/>
                <a:chExt cx="246240" cy="5472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3398040" y="3939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3398040" y="4213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757600" y="3942000"/>
                <a:ext cx="246240" cy="547200"/>
                <a:chOff x="2757600" y="3942000"/>
                <a:chExt cx="246240" cy="547200"/>
              </a:xfrm>
            </p:grpSpPr>
            <p:sp>
              <p:nvSpPr>
                <p:cNvPr id="150" name=""/>
                <p:cNvSpPr/>
                <p:nvPr/>
              </p:nvSpPr>
              <p:spPr>
                <a:xfrm flipH="1">
                  <a:off x="2757960" y="3942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flipV="1">
                  <a:off x="2757600" y="4215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"/>
            <p:cNvGrpSpPr/>
            <p:nvPr/>
          </p:nvGrpSpPr>
          <p:grpSpPr>
            <a:xfrm>
              <a:off x="3395160" y="3654720"/>
              <a:ext cx="886320" cy="553680"/>
              <a:chOff x="3395160" y="3654720"/>
              <a:chExt cx="886320" cy="553680"/>
            </a:xfrm>
          </p:grpSpPr>
          <p:sp>
            <p:nvSpPr>
              <p:cNvPr id="153" name=""/>
              <p:cNvSpPr/>
              <p:nvPr/>
            </p:nvSpPr>
            <p:spPr>
              <a:xfrm>
                <a:off x="3650400" y="3654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642120" y="4208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" name=""/>
              <p:cNvGrpSpPr/>
              <p:nvPr/>
            </p:nvGrpSpPr>
            <p:grpSpPr>
              <a:xfrm>
                <a:off x="4035240" y="3657960"/>
                <a:ext cx="246240" cy="547200"/>
                <a:chOff x="4035240" y="3657960"/>
                <a:chExt cx="246240" cy="547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035240" y="3657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V="1">
                  <a:off x="4035240" y="3931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3395160" y="3660840"/>
                <a:ext cx="246240" cy="547200"/>
                <a:chOff x="3395160" y="3660840"/>
                <a:chExt cx="246240" cy="547200"/>
              </a:xfrm>
            </p:grpSpPr>
            <p:sp>
              <p:nvSpPr>
                <p:cNvPr id="159" name=""/>
                <p:cNvSpPr/>
                <p:nvPr/>
              </p:nvSpPr>
              <p:spPr>
                <a:xfrm flipH="1">
                  <a:off x="3395520" y="3660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 flipV="1">
                  <a:off x="3395160" y="3934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" name=""/>
            <p:cNvGrpSpPr/>
            <p:nvPr/>
          </p:nvGrpSpPr>
          <p:grpSpPr>
            <a:xfrm>
              <a:off x="2754000" y="3383640"/>
              <a:ext cx="886680" cy="554040"/>
              <a:chOff x="2754000" y="3383640"/>
              <a:chExt cx="886680" cy="554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009240" y="3383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001320" y="3937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394440" y="3386880"/>
                <a:ext cx="246240" cy="547200"/>
                <a:chOff x="3394440" y="3386880"/>
                <a:chExt cx="246240" cy="5472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394440" y="3386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flipV="1">
                  <a:off x="3394440" y="3660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2754000" y="3389760"/>
                <a:ext cx="246240" cy="547200"/>
                <a:chOff x="2754000" y="3389760"/>
                <a:chExt cx="246240" cy="547200"/>
              </a:xfrm>
            </p:grpSpPr>
            <p:sp>
              <p:nvSpPr>
                <p:cNvPr id="168" name=""/>
                <p:cNvSpPr/>
                <p:nvPr/>
              </p:nvSpPr>
              <p:spPr>
                <a:xfrm flipH="1">
                  <a:off x="2754360" y="3389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flipH="1" flipV="1">
                  <a:off x="2754000" y="3663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3391200" y="3102480"/>
              <a:ext cx="886680" cy="553680"/>
              <a:chOff x="3391200" y="3102480"/>
              <a:chExt cx="886680" cy="553680"/>
            </a:xfrm>
          </p:grpSpPr>
          <p:sp>
            <p:nvSpPr>
              <p:cNvPr id="171" name=""/>
              <p:cNvSpPr/>
              <p:nvPr/>
            </p:nvSpPr>
            <p:spPr>
              <a:xfrm>
                <a:off x="3646440" y="3102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8520" y="36561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" name=""/>
              <p:cNvGrpSpPr/>
              <p:nvPr/>
            </p:nvGrpSpPr>
            <p:grpSpPr>
              <a:xfrm>
                <a:off x="4031640" y="3105720"/>
                <a:ext cx="246240" cy="547200"/>
                <a:chOff x="4031640" y="3105720"/>
                <a:chExt cx="246240" cy="54720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31640" y="3105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 flipV="1">
                  <a:off x="4031640" y="3379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391200" y="3108600"/>
                <a:ext cx="246240" cy="547200"/>
                <a:chOff x="3391200" y="3108600"/>
                <a:chExt cx="246240" cy="54720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3391560" y="3108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 flipH="1" flipV="1">
                  <a:off x="3391200" y="3382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" name=""/>
            <p:cNvGrpSpPr/>
            <p:nvPr/>
          </p:nvGrpSpPr>
          <p:grpSpPr>
            <a:xfrm>
              <a:off x="4035960" y="2822400"/>
              <a:ext cx="886680" cy="553680"/>
              <a:chOff x="4035960" y="2822400"/>
              <a:chExt cx="886680" cy="553680"/>
            </a:xfrm>
          </p:grpSpPr>
          <p:sp>
            <p:nvSpPr>
              <p:cNvPr id="180" name=""/>
              <p:cNvSpPr/>
              <p:nvPr/>
            </p:nvSpPr>
            <p:spPr>
              <a:xfrm>
                <a:off x="4291200" y="2822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83280" y="3376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676400" y="2825640"/>
                <a:ext cx="246240" cy="547200"/>
                <a:chOff x="4676400" y="2825640"/>
                <a:chExt cx="246240" cy="54720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676400" y="2825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V="1">
                  <a:off x="4676400" y="3099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035960" y="2828520"/>
                <a:ext cx="246240" cy="547200"/>
                <a:chOff x="4035960" y="2828520"/>
                <a:chExt cx="246240" cy="547200"/>
              </a:xfrm>
            </p:grpSpPr>
            <p:sp>
              <p:nvSpPr>
                <p:cNvPr id="186" name=""/>
                <p:cNvSpPr/>
                <p:nvPr/>
              </p:nvSpPr>
              <p:spPr>
                <a:xfrm flipH="1">
                  <a:off x="4036320" y="2828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 flipH="1" flipV="1">
                  <a:off x="4035960" y="3102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" name=""/>
            <p:cNvGrpSpPr/>
            <p:nvPr/>
          </p:nvGrpSpPr>
          <p:grpSpPr>
            <a:xfrm>
              <a:off x="4673520" y="2541240"/>
              <a:ext cx="886320" cy="554040"/>
              <a:chOff x="4673520" y="2541240"/>
              <a:chExt cx="886320" cy="554040"/>
            </a:xfrm>
          </p:grpSpPr>
          <p:sp>
            <p:nvSpPr>
              <p:cNvPr id="189" name=""/>
              <p:cNvSpPr/>
              <p:nvPr/>
            </p:nvSpPr>
            <p:spPr>
              <a:xfrm>
                <a:off x="4928760" y="25412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920480" y="3095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5313600" y="2544480"/>
                <a:ext cx="246240" cy="547200"/>
                <a:chOff x="5313600" y="2544480"/>
                <a:chExt cx="246240" cy="5472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5313600" y="2544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flipV="1">
                  <a:off x="5313600" y="2818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673520" y="2547360"/>
                <a:ext cx="246240" cy="547200"/>
                <a:chOff x="4673520" y="2547360"/>
                <a:chExt cx="246240" cy="547200"/>
              </a:xfrm>
            </p:grpSpPr>
            <p:sp>
              <p:nvSpPr>
                <p:cNvPr id="195" name=""/>
                <p:cNvSpPr/>
                <p:nvPr/>
              </p:nvSpPr>
              <p:spPr>
                <a:xfrm flipH="1">
                  <a:off x="4673880" y="2547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flipH="1" flipV="1">
                  <a:off x="4673520" y="2821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"/>
            <p:cNvGrpSpPr/>
            <p:nvPr/>
          </p:nvGrpSpPr>
          <p:grpSpPr>
            <a:xfrm>
              <a:off x="4032360" y="2270160"/>
              <a:ext cx="886680" cy="554040"/>
              <a:chOff x="4032360" y="2270160"/>
              <a:chExt cx="886680" cy="554040"/>
            </a:xfrm>
          </p:grpSpPr>
          <p:sp>
            <p:nvSpPr>
              <p:cNvPr id="198" name=""/>
              <p:cNvSpPr/>
              <p:nvPr/>
            </p:nvSpPr>
            <p:spPr>
              <a:xfrm>
                <a:off x="4287600" y="22701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279680" y="28242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4672800" y="2273400"/>
                <a:ext cx="246240" cy="547200"/>
                <a:chOff x="4672800" y="2273400"/>
                <a:chExt cx="246240" cy="547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4672800" y="2273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V="1">
                  <a:off x="4672800" y="2547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4032360" y="2276280"/>
                <a:ext cx="246240" cy="547200"/>
                <a:chOff x="4032360" y="2276280"/>
                <a:chExt cx="246240" cy="547200"/>
              </a:xfrm>
            </p:grpSpPr>
            <p:sp>
              <p:nvSpPr>
                <p:cNvPr id="204" name=""/>
                <p:cNvSpPr/>
                <p:nvPr/>
              </p:nvSpPr>
              <p:spPr>
                <a:xfrm flipH="1">
                  <a:off x="4032720" y="227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flipV="1">
                  <a:off x="4032360" y="255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669560" y="1989360"/>
              <a:ext cx="886680" cy="553680"/>
              <a:chOff x="4669560" y="1989360"/>
              <a:chExt cx="886680" cy="553680"/>
            </a:xfrm>
          </p:grpSpPr>
          <p:sp>
            <p:nvSpPr>
              <p:cNvPr id="207" name=""/>
              <p:cNvSpPr/>
              <p:nvPr/>
            </p:nvSpPr>
            <p:spPr>
              <a:xfrm>
                <a:off x="4924800" y="1989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916880" y="2543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"/>
              <p:cNvGrpSpPr/>
              <p:nvPr/>
            </p:nvGrpSpPr>
            <p:grpSpPr>
              <a:xfrm>
                <a:off x="5310000" y="1992600"/>
                <a:ext cx="246240" cy="547200"/>
                <a:chOff x="5310000" y="1992600"/>
                <a:chExt cx="246240" cy="5472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5310000" y="1992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5310000" y="2266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4669560" y="1995480"/>
                <a:ext cx="246240" cy="547200"/>
                <a:chOff x="4669560" y="1995480"/>
                <a:chExt cx="246240" cy="54720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4669920" y="19954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 flipV="1">
                  <a:off x="4669560" y="22694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5" name=""/>
            <p:cNvGrpSpPr/>
            <p:nvPr/>
          </p:nvGrpSpPr>
          <p:grpSpPr>
            <a:xfrm>
              <a:off x="2754000" y="2835000"/>
              <a:ext cx="886680" cy="553680"/>
              <a:chOff x="2754000" y="2835000"/>
              <a:chExt cx="886680" cy="553680"/>
            </a:xfrm>
          </p:grpSpPr>
          <p:sp>
            <p:nvSpPr>
              <p:cNvPr id="216" name=""/>
              <p:cNvSpPr/>
              <p:nvPr/>
            </p:nvSpPr>
            <p:spPr>
              <a:xfrm>
                <a:off x="3009240" y="2835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001320" y="33886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" name=""/>
              <p:cNvGrpSpPr/>
              <p:nvPr/>
            </p:nvGrpSpPr>
            <p:grpSpPr>
              <a:xfrm>
                <a:off x="3394440" y="2838240"/>
                <a:ext cx="246240" cy="547200"/>
                <a:chOff x="3394440" y="2838240"/>
                <a:chExt cx="246240" cy="5472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394440" y="2838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3394440" y="3112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2754000" y="2841120"/>
                <a:ext cx="246240" cy="547200"/>
                <a:chOff x="2754000" y="2841120"/>
                <a:chExt cx="246240" cy="54720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2754360" y="2841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 flipV="1">
                  <a:off x="2754000" y="3115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391200" y="2553480"/>
              <a:ext cx="886680" cy="554040"/>
              <a:chOff x="3391200" y="2553480"/>
              <a:chExt cx="886680" cy="554040"/>
            </a:xfrm>
          </p:grpSpPr>
          <p:sp>
            <p:nvSpPr>
              <p:cNvPr id="225" name=""/>
              <p:cNvSpPr/>
              <p:nvPr/>
            </p:nvSpPr>
            <p:spPr>
              <a:xfrm>
                <a:off x="3646440" y="25534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638520" y="31075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031640" y="2556720"/>
                <a:ext cx="246240" cy="547200"/>
                <a:chOff x="4031640" y="2556720"/>
                <a:chExt cx="246240" cy="5472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031640" y="2556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4031640" y="2830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3391200" y="2559600"/>
                <a:ext cx="246240" cy="547200"/>
                <a:chOff x="3391200" y="2559600"/>
                <a:chExt cx="246240" cy="547200"/>
              </a:xfrm>
            </p:grpSpPr>
            <p:sp>
              <p:nvSpPr>
                <p:cNvPr id="231" name=""/>
                <p:cNvSpPr/>
                <p:nvPr/>
              </p:nvSpPr>
              <p:spPr>
                <a:xfrm flipH="1">
                  <a:off x="3391560" y="25596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 flipV="1">
                  <a:off x="3391200" y="28335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3" name=""/>
            <p:cNvGrpSpPr/>
            <p:nvPr/>
          </p:nvGrpSpPr>
          <p:grpSpPr>
            <a:xfrm>
              <a:off x="2750400" y="2282760"/>
              <a:ext cx="886320" cy="554040"/>
              <a:chOff x="2750400" y="2282760"/>
              <a:chExt cx="886320" cy="554040"/>
            </a:xfrm>
          </p:grpSpPr>
          <p:sp>
            <p:nvSpPr>
              <p:cNvPr id="234" name=""/>
              <p:cNvSpPr/>
              <p:nvPr/>
            </p:nvSpPr>
            <p:spPr>
              <a:xfrm>
                <a:off x="3005640" y="228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997360" y="283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6" name=""/>
              <p:cNvGrpSpPr/>
              <p:nvPr/>
            </p:nvGrpSpPr>
            <p:grpSpPr>
              <a:xfrm>
                <a:off x="3390480" y="2286000"/>
                <a:ext cx="246240" cy="547200"/>
                <a:chOff x="3390480" y="2286000"/>
                <a:chExt cx="246240" cy="5472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3390480" y="228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3390480" y="255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2750400" y="2288880"/>
                <a:ext cx="246240" cy="547200"/>
                <a:chOff x="2750400" y="2288880"/>
                <a:chExt cx="246240" cy="547200"/>
              </a:xfrm>
            </p:grpSpPr>
            <p:sp>
              <p:nvSpPr>
                <p:cNvPr id="240" name=""/>
                <p:cNvSpPr/>
                <p:nvPr/>
              </p:nvSpPr>
              <p:spPr>
                <a:xfrm flipH="1">
                  <a:off x="2750760" y="228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H="1" flipV="1">
                  <a:off x="2750400" y="256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3387600" y="2001600"/>
              <a:ext cx="886680" cy="554040"/>
              <a:chOff x="3387600" y="2001600"/>
              <a:chExt cx="886680" cy="55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3642840" y="2001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634920" y="25556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4028040" y="2004840"/>
                <a:ext cx="246240" cy="547200"/>
                <a:chOff x="4028040" y="2004840"/>
                <a:chExt cx="246240" cy="547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028040" y="2004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 flipV="1">
                  <a:off x="4028040" y="2278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387600" y="2007720"/>
                <a:ext cx="246240" cy="547200"/>
                <a:chOff x="3387600" y="2007720"/>
                <a:chExt cx="246240" cy="547200"/>
              </a:xfrm>
            </p:grpSpPr>
            <p:sp>
              <p:nvSpPr>
                <p:cNvPr id="249" name=""/>
                <p:cNvSpPr/>
                <p:nvPr/>
              </p:nvSpPr>
              <p:spPr>
                <a:xfrm flipH="1">
                  <a:off x="3387960" y="20077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flipH="1" flipV="1">
                  <a:off x="3387600" y="22816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99880" y="3901680"/>
              <a:ext cx="886320" cy="553680"/>
              <a:chOff x="6599880" y="3901680"/>
              <a:chExt cx="886320" cy="553680"/>
            </a:xfrm>
          </p:grpSpPr>
          <p:sp>
            <p:nvSpPr>
              <p:cNvPr id="252" name=""/>
              <p:cNvSpPr/>
              <p:nvPr/>
            </p:nvSpPr>
            <p:spPr>
              <a:xfrm>
                <a:off x="6855120" y="3901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846840" y="4455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239960" y="3904920"/>
                <a:ext cx="246240" cy="547200"/>
                <a:chOff x="7239960" y="3904920"/>
                <a:chExt cx="246240" cy="5472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239960" y="3904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flipV="1">
                  <a:off x="7239960" y="4178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599880" y="3907800"/>
                <a:ext cx="246240" cy="547200"/>
                <a:chOff x="6599880" y="3907800"/>
                <a:chExt cx="246240" cy="547200"/>
              </a:xfrm>
            </p:grpSpPr>
            <p:sp>
              <p:nvSpPr>
                <p:cNvPr id="258" name=""/>
                <p:cNvSpPr/>
                <p:nvPr/>
              </p:nvSpPr>
              <p:spPr>
                <a:xfrm flipH="1">
                  <a:off x="6600240" y="3907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flipH="1" flipV="1">
                  <a:off x="6599880" y="4181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7237080" y="3620520"/>
              <a:ext cx="886320" cy="554040"/>
              <a:chOff x="7237080" y="3620520"/>
              <a:chExt cx="886320" cy="5540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92320" y="362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84040" y="417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3" name=""/>
              <p:cNvGrpSpPr/>
              <p:nvPr/>
            </p:nvGrpSpPr>
            <p:grpSpPr>
              <a:xfrm>
                <a:off x="7877160" y="3623760"/>
                <a:ext cx="246240" cy="547200"/>
                <a:chOff x="7877160" y="3623760"/>
                <a:chExt cx="246240" cy="54720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7877160" y="362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V="1">
                  <a:off x="7877160" y="389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7237080" y="3626640"/>
                <a:ext cx="246240" cy="547200"/>
                <a:chOff x="7237080" y="3626640"/>
                <a:chExt cx="246240" cy="547200"/>
              </a:xfrm>
            </p:grpSpPr>
            <p:sp>
              <p:nvSpPr>
                <p:cNvPr id="267" name=""/>
                <p:cNvSpPr/>
                <p:nvPr/>
              </p:nvSpPr>
              <p:spPr>
                <a:xfrm flipH="1">
                  <a:off x="7237440" y="362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 flipH="1" flipV="1">
                  <a:off x="7237080" y="390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9" name=""/>
            <p:cNvGrpSpPr/>
            <p:nvPr/>
          </p:nvGrpSpPr>
          <p:grpSpPr>
            <a:xfrm>
              <a:off x="6595920" y="3349800"/>
              <a:ext cx="886680" cy="553680"/>
              <a:chOff x="6595920" y="3349800"/>
              <a:chExt cx="886680" cy="553680"/>
            </a:xfrm>
          </p:grpSpPr>
          <p:sp>
            <p:nvSpPr>
              <p:cNvPr id="270" name=""/>
              <p:cNvSpPr/>
              <p:nvPr/>
            </p:nvSpPr>
            <p:spPr>
              <a:xfrm>
                <a:off x="6851160" y="3349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43240" y="39034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2" name=""/>
              <p:cNvGrpSpPr/>
              <p:nvPr/>
            </p:nvGrpSpPr>
            <p:grpSpPr>
              <a:xfrm>
                <a:off x="7236360" y="3353040"/>
                <a:ext cx="246240" cy="547200"/>
                <a:chOff x="7236360" y="3353040"/>
                <a:chExt cx="246240" cy="5472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7236360" y="3353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V="1">
                  <a:off x="7236360" y="3627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595920" y="3355920"/>
                <a:ext cx="246240" cy="547200"/>
                <a:chOff x="6595920" y="3355920"/>
                <a:chExt cx="246240" cy="547200"/>
              </a:xfrm>
            </p:grpSpPr>
            <p:sp>
              <p:nvSpPr>
                <p:cNvPr id="276" name=""/>
                <p:cNvSpPr/>
                <p:nvPr/>
              </p:nvSpPr>
              <p:spPr>
                <a:xfrm flipH="1">
                  <a:off x="6596280" y="3355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 flipH="1" flipV="1">
                  <a:off x="6595920" y="3629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8" name=""/>
            <p:cNvGrpSpPr/>
            <p:nvPr/>
          </p:nvGrpSpPr>
          <p:grpSpPr>
            <a:xfrm>
              <a:off x="7233480" y="3068280"/>
              <a:ext cx="886320" cy="554040"/>
              <a:chOff x="7233480" y="3068280"/>
              <a:chExt cx="886320" cy="554040"/>
            </a:xfrm>
          </p:grpSpPr>
          <p:sp>
            <p:nvSpPr>
              <p:cNvPr id="279" name=""/>
              <p:cNvSpPr/>
              <p:nvPr/>
            </p:nvSpPr>
            <p:spPr>
              <a:xfrm>
                <a:off x="7488720" y="306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480440" y="362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1" name=""/>
              <p:cNvGrpSpPr/>
              <p:nvPr/>
            </p:nvGrpSpPr>
            <p:grpSpPr>
              <a:xfrm>
                <a:off x="7873560" y="3071520"/>
                <a:ext cx="246240" cy="547200"/>
                <a:chOff x="7873560" y="3071520"/>
                <a:chExt cx="246240" cy="5472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7873560" y="307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V="1">
                  <a:off x="7873560" y="334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7233480" y="3074400"/>
                <a:ext cx="246240" cy="547200"/>
                <a:chOff x="7233480" y="3074400"/>
                <a:chExt cx="246240" cy="547200"/>
              </a:xfrm>
            </p:grpSpPr>
            <p:sp>
              <p:nvSpPr>
                <p:cNvPr id="285" name=""/>
                <p:cNvSpPr/>
                <p:nvPr/>
              </p:nvSpPr>
              <p:spPr>
                <a:xfrm flipH="1">
                  <a:off x="7233840" y="307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 flipV="1">
                  <a:off x="7233480" y="334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"/>
            <p:cNvGrpSpPr/>
            <p:nvPr/>
          </p:nvGrpSpPr>
          <p:grpSpPr>
            <a:xfrm>
              <a:off x="5317560" y="3913920"/>
              <a:ext cx="886680" cy="554040"/>
              <a:chOff x="5317560" y="3913920"/>
              <a:chExt cx="886680" cy="554040"/>
            </a:xfrm>
          </p:grpSpPr>
          <p:sp>
            <p:nvSpPr>
              <p:cNvPr id="288" name=""/>
              <p:cNvSpPr/>
              <p:nvPr/>
            </p:nvSpPr>
            <p:spPr>
              <a:xfrm>
                <a:off x="5572800" y="3913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564880" y="44679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0" name=""/>
              <p:cNvGrpSpPr/>
              <p:nvPr/>
            </p:nvGrpSpPr>
            <p:grpSpPr>
              <a:xfrm>
                <a:off x="5958000" y="3917160"/>
                <a:ext cx="246240" cy="547200"/>
                <a:chOff x="5958000" y="3917160"/>
                <a:chExt cx="246240" cy="547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5958000" y="3917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V="1">
                  <a:off x="5958000" y="4191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317560" y="3920040"/>
                <a:ext cx="246240" cy="547200"/>
                <a:chOff x="5317560" y="3920040"/>
                <a:chExt cx="246240" cy="547200"/>
              </a:xfrm>
            </p:grpSpPr>
            <p:sp>
              <p:nvSpPr>
                <p:cNvPr id="294" name=""/>
                <p:cNvSpPr/>
                <p:nvPr/>
              </p:nvSpPr>
              <p:spPr>
                <a:xfrm flipH="1">
                  <a:off x="5317920" y="3920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 flipH="1" flipV="1">
                  <a:off x="5317560" y="4194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6" name=""/>
            <p:cNvGrpSpPr/>
            <p:nvPr/>
          </p:nvGrpSpPr>
          <p:grpSpPr>
            <a:xfrm>
              <a:off x="5955120" y="3632760"/>
              <a:ext cx="886320" cy="554040"/>
              <a:chOff x="5955120" y="3632760"/>
              <a:chExt cx="886320" cy="554040"/>
            </a:xfrm>
          </p:grpSpPr>
          <p:sp>
            <p:nvSpPr>
              <p:cNvPr id="297" name=""/>
              <p:cNvSpPr/>
              <p:nvPr/>
            </p:nvSpPr>
            <p:spPr>
              <a:xfrm>
                <a:off x="6210360" y="3632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02080" y="4186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"/>
              <p:cNvGrpSpPr/>
              <p:nvPr/>
            </p:nvGrpSpPr>
            <p:grpSpPr>
              <a:xfrm>
                <a:off x="6595200" y="3636000"/>
                <a:ext cx="246240" cy="547200"/>
                <a:chOff x="6595200" y="3636000"/>
                <a:chExt cx="246240" cy="54720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595200" y="3636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6595200" y="3909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955120" y="3638880"/>
                <a:ext cx="246240" cy="547200"/>
                <a:chOff x="5955120" y="3638880"/>
                <a:chExt cx="246240" cy="547200"/>
              </a:xfrm>
            </p:grpSpPr>
            <p:sp>
              <p:nvSpPr>
                <p:cNvPr id="303" name=""/>
                <p:cNvSpPr/>
                <p:nvPr/>
              </p:nvSpPr>
              <p:spPr>
                <a:xfrm flipH="1">
                  <a:off x="5955480" y="3638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flipH="1" flipV="1">
                  <a:off x="5955120" y="3912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" name=""/>
            <p:cNvGrpSpPr/>
            <p:nvPr/>
          </p:nvGrpSpPr>
          <p:grpSpPr>
            <a:xfrm>
              <a:off x="5314320" y="3362040"/>
              <a:ext cx="886680" cy="553680"/>
              <a:chOff x="5314320" y="3362040"/>
              <a:chExt cx="886680" cy="553680"/>
            </a:xfrm>
          </p:grpSpPr>
          <p:sp>
            <p:nvSpPr>
              <p:cNvPr id="306" name=""/>
              <p:cNvSpPr/>
              <p:nvPr/>
            </p:nvSpPr>
            <p:spPr>
              <a:xfrm>
                <a:off x="5569560" y="3362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561640" y="391572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8" name=""/>
              <p:cNvGrpSpPr/>
              <p:nvPr/>
            </p:nvGrpSpPr>
            <p:grpSpPr>
              <a:xfrm>
                <a:off x="5954760" y="3365280"/>
                <a:ext cx="246240" cy="547200"/>
                <a:chOff x="5954760" y="3365280"/>
                <a:chExt cx="246240" cy="547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5954760" y="3365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5954760" y="3639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314320" y="3368160"/>
                <a:ext cx="246240" cy="547200"/>
                <a:chOff x="5314320" y="3368160"/>
                <a:chExt cx="246240" cy="547200"/>
              </a:xfrm>
            </p:grpSpPr>
            <p:sp>
              <p:nvSpPr>
                <p:cNvPr id="312" name=""/>
                <p:cNvSpPr/>
                <p:nvPr/>
              </p:nvSpPr>
              <p:spPr>
                <a:xfrm flipH="1">
                  <a:off x="5314680" y="3368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H="1" flipV="1">
                  <a:off x="5314320" y="3642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5951520" y="3080880"/>
              <a:ext cx="886320" cy="554040"/>
              <a:chOff x="5951520" y="3080880"/>
              <a:chExt cx="886320" cy="554040"/>
            </a:xfrm>
          </p:grpSpPr>
          <p:sp>
            <p:nvSpPr>
              <p:cNvPr id="315" name=""/>
              <p:cNvSpPr/>
              <p:nvPr/>
            </p:nvSpPr>
            <p:spPr>
              <a:xfrm>
                <a:off x="6206760" y="3080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98480" y="3634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" name=""/>
              <p:cNvGrpSpPr/>
              <p:nvPr/>
            </p:nvGrpSpPr>
            <p:grpSpPr>
              <a:xfrm>
                <a:off x="6591600" y="3084120"/>
                <a:ext cx="246240" cy="547200"/>
                <a:chOff x="6591600" y="3084120"/>
                <a:chExt cx="246240" cy="54720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591600" y="3084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6591600" y="3358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951520" y="3087000"/>
                <a:ext cx="246240" cy="547200"/>
                <a:chOff x="5951520" y="3087000"/>
                <a:chExt cx="246240" cy="547200"/>
              </a:xfrm>
            </p:grpSpPr>
            <p:sp>
              <p:nvSpPr>
                <p:cNvPr id="321" name=""/>
                <p:cNvSpPr/>
                <p:nvPr/>
              </p:nvSpPr>
              <p:spPr>
                <a:xfrm flipH="1">
                  <a:off x="5951880" y="3087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 flipH="1" flipV="1">
                  <a:off x="5951520" y="3360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3" name=""/>
            <p:cNvGrpSpPr/>
            <p:nvPr/>
          </p:nvGrpSpPr>
          <p:grpSpPr>
            <a:xfrm>
              <a:off x="6595920" y="2800800"/>
              <a:ext cx="886680" cy="554040"/>
              <a:chOff x="6595920" y="2800800"/>
              <a:chExt cx="886680" cy="554040"/>
            </a:xfrm>
          </p:grpSpPr>
          <p:sp>
            <p:nvSpPr>
              <p:cNvPr id="324" name=""/>
              <p:cNvSpPr/>
              <p:nvPr/>
            </p:nvSpPr>
            <p:spPr>
              <a:xfrm>
                <a:off x="6851160" y="280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43240" y="335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"/>
              <p:cNvGrpSpPr/>
              <p:nvPr/>
            </p:nvGrpSpPr>
            <p:grpSpPr>
              <a:xfrm>
                <a:off x="7236360" y="2804040"/>
                <a:ext cx="246240" cy="547200"/>
                <a:chOff x="7236360" y="2804040"/>
                <a:chExt cx="246240" cy="54720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7236360" y="280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 flipV="1">
                  <a:off x="7236360" y="307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6595920" y="2806920"/>
                <a:ext cx="246240" cy="547200"/>
                <a:chOff x="6595920" y="2806920"/>
                <a:chExt cx="246240" cy="547200"/>
              </a:xfrm>
            </p:grpSpPr>
            <p:sp>
              <p:nvSpPr>
                <p:cNvPr id="330" name=""/>
                <p:cNvSpPr/>
                <p:nvPr/>
              </p:nvSpPr>
              <p:spPr>
                <a:xfrm flipH="1">
                  <a:off x="6596280" y="280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 flipV="1">
                  <a:off x="6595920" y="308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"/>
            <p:cNvGrpSpPr/>
            <p:nvPr/>
          </p:nvGrpSpPr>
          <p:grpSpPr>
            <a:xfrm>
              <a:off x="7233480" y="2519640"/>
              <a:ext cx="886320" cy="553680"/>
              <a:chOff x="7233480" y="2519640"/>
              <a:chExt cx="886320" cy="553680"/>
            </a:xfrm>
          </p:grpSpPr>
          <p:sp>
            <p:nvSpPr>
              <p:cNvPr id="333" name=""/>
              <p:cNvSpPr/>
              <p:nvPr/>
            </p:nvSpPr>
            <p:spPr>
              <a:xfrm>
                <a:off x="7488720" y="25196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480440" y="3073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5" name=""/>
              <p:cNvGrpSpPr/>
              <p:nvPr/>
            </p:nvGrpSpPr>
            <p:grpSpPr>
              <a:xfrm>
                <a:off x="7873560" y="2522880"/>
                <a:ext cx="246240" cy="547200"/>
                <a:chOff x="7873560" y="2522880"/>
                <a:chExt cx="246240" cy="54720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873560" y="2522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873560" y="2796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7233480" y="2525760"/>
                <a:ext cx="246240" cy="547200"/>
                <a:chOff x="7233480" y="2525760"/>
                <a:chExt cx="246240" cy="547200"/>
              </a:xfrm>
            </p:grpSpPr>
            <p:sp>
              <p:nvSpPr>
                <p:cNvPr id="339" name=""/>
                <p:cNvSpPr/>
                <p:nvPr/>
              </p:nvSpPr>
              <p:spPr>
                <a:xfrm flipH="1">
                  <a:off x="7233840" y="2525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 flipV="1">
                  <a:off x="7233480" y="2799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1" name=""/>
            <p:cNvGrpSpPr/>
            <p:nvPr/>
          </p:nvGrpSpPr>
          <p:grpSpPr>
            <a:xfrm>
              <a:off x="6592320" y="2248560"/>
              <a:ext cx="886680" cy="554040"/>
              <a:chOff x="6592320" y="2248560"/>
              <a:chExt cx="886680" cy="554040"/>
            </a:xfrm>
          </p:grpSpPr>
          <p:sp>
            <p:nvSpPr>
              <p:cNvPr id="342" name=""/>
              <p:cNvSpPr/>
              <p:nvPr/>
            </p:nvSpPr>
            <p:spPr>
              <a:xfrm>
                <a:off x="6847560" y="2248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39640" y="28026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232760" y="2251800"/>
                <a:ext cx="246240" cy="547200"/>
                <a:chOff x="7232760" y="2251800"/>
                <a:chExt cx="246240" cy="54720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7232760" y="2251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V="1">
                  <a:off x="7232760" y="2525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6592320" y="2254680"/>
                <a:ext cx="246240" cy="547200"/>
                <a:chOff x="6592320" y="2254680"/>
                <a:chExt cx="246240" cy="547200"/>
              </a:xfrm>
            </p:grpSpPr>
            <p:sp>
              <p:nvSpPr>
                <p:cNvPr id="348" name=""/>
                <p:cNvSpPr/>
                <p:nvPr/>
              </p:nvSpPr>
              <p:spPr>
                <a:xfrm flipH="1">
                  <a:off x="6592680" y="22546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 flipV="1">
                  <a:off x="6592320" y="25286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7229520" y="1967400"/>
              <a:ext cx="886680" cy="554040"/>
              <a:chOff x="7229520" y="1967400"/>
              <a:chExt cx="886680" cy="554040"/>
            </a:xfrm>
          </p:grpSpPr>
          <p:sp>
            <p:nvSpPr>
              <p:cNvPr id="351" name=""/>
              <p:cNvSpPr/>
              <p:nvPr/>
            </p:nvSpPr>
            <p:spPr>
              <a:xfrm>
                <a:off x="7484760" y="19674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476840" y="25214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3" name=""/>
              <p:cNvGrpSpPr/>
              <p:nvPr/>
            </p:nvGrpSpPr>
            <p:grpSpPr>
              <a:xfrm>
                <a:off x="7869960" y="1970640"/>
                <a:ext cx="246240" cy="547200"/>
                <a:chOff x="7869960" y="1970640"/>
                <a:chExt cx="246240" cy="5472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7869960" y="1970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 flipV="1">
                  <a:off x="7869960" y="2244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7229520" y="1973520"/>
                <a:ext cx="246240" cy="547200"/>
                <a:chOff x="7229520" y="1973520"/>
                <a:chExt cx="246240" cy="547200"/>
              </a:xfrm>
            </p:grpSpPr>
            <p:sp>
              <p:nvSpPr>
                <p:cNvPr id="357" name=""/>
                <p:cNvSpPr/>
                <p:nvPr/>
              </p:nvSpPr>
              <p:spPr>
                <a:xfrm flipH="1">
                  <a:off x="7229880" y="1973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flipH="1" flipV="1">
                  <a:off x="7229520" y="2247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9" name=""/>
            <p:cNvGrpSpPr/>
            <p:nvPr/>
          </p:nvGrpSpPr>
          <p:grpSpPr>
            <a:xfrm>
              <a:off x="5314320" y="2813040"/>
              <a:ext cx="886680" cy="554040"/>
              <a:chOff x="5314320" y="2813040"/>
              <a:chExt cx="886680" cy="554040"/>
            </a:xfrm>
          </p:grpSpPr>
          <p:sp>
            <p:nvSpPr>
              <p:cNvPr id="360" name=""/>
              <p:cNvSpPr/>
              <p:nvPr/>
            </p:nvSpPr>
            <p:spPr>
              <a:xfrm>
                <a:off x="5569560" y="281304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61640" y="336708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5954760" y="2816280"/>
                <a:ext cx="246240" cy="547200"/>
                <a:chOff x="5954760" y="2816280"/>
                <a:chExt cx="246240" cy="5472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5954760" y="28162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V="1">
                  <a:off x="5954760" y="30902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5314320" y="2819160"/>
                <a:ext cx="246240" cy="547200"/>
                <a:chOff x="5314320" y="2819160"/>
                <a:chExt cx="246240" cy="547200"/>
              </a:xfrm>
            </p:grpSpPr>
            <p:sp>
              <p:nvSpPr>
                <p:cNvPr id="366" name=""/>
                <p:cNvSpPr/>
                <p:nvPr/>
              </p:nvSpPr>
              <p:spPr>
                <a:xfrm flipH="1">
                  <a:off x="5314680" y="2819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 flipH="1" flipV="1">
                  <a:off x="5314320" y="3093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8" name=""/>
            <p:cNvGrpSpPr/>
            <p:nvPr/>
          </p:nvGrpSpPr>
          <p:grpSpPr>
            <a:xfrm>
              <a:off x="5951520" y="2531880"/>
              <a:ext cx="886320" cy="553680"/>
              <a:chOff x="5951520" y="2531880"/>
              <a:chExt cx="886320" cy="553680"/>
            </a:xfrm>
          </p:grpSpPr>
          <p:sp>
            <p:nvSpPr>
              <p:cNvPr id="369" name=""/>
              <p:cNvSpPr/>
              <p:nvPr/>
            </p:nvSpPr>
            <p:spPr>
              <a:xfrm>
                <a:off x="6206760" y="25318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198480" y="3085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1" name=""/>
              <p:cNvGrpSpPr/>
              <p:nvPr/>
            </p:nvGrpSpPr>
            <p:grpSpPr>
              <a:xfrm>
                <a:off x="6591600" y="2535120"/>
                <a:ext cx="246240" cy="547200"/>
                <a:chOff x="6591600" y="2535120"/>
                <a:chExt cx="246240" cy="54720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6591600" y="2535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6591600" y="2809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5951520" y="2538000"/>
                <a:ext cx="246240" cy="547200"/>
                <a:chOff x="5951520" y="2538000"/>
                <a:chExt cx="246240" cy="547200"/>
              </a:xfrm>
            </p:grpSpPr>
            <p:sp>
              <p:nvSpPr>
                <p:cNvPr id="375" name=""/>
                <p:cNvSpPr/>
                <p:nvPr/>
              </p:nvSpPr>
              <p:spPr>
                <a:xfrm flipH="1">
                  <a:off x="5951880" y="2538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 flipH="1" flipV="1">
                  <a:off x="5951520" y="2811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7" name=""/>
            <p:cNvGrpSpPr/>
            <p:nvPr/>
          </p:nvGrpSpPr>
          <p:grpSpPr>
            <a:xfrm>
              <a:off x="5310720" y="2260800"/>
              <a:ext cx="886680" cy="554040"/>
              <a:chOff x="5310720" y="2260800"/>
              <a:chExt cx="886680" cy="554040"/>
            </a:xfrm>
          </p:grpSpPr>
          <p:sp>
            <p:nvSpPr>
              <p:cNvPr id="378" name=""/>
              <p:cNvSpPr/>
              <p:nvPr/>
            </p:nvSpPr>
            <p:spPr>
              <a:xfrm>
                <a:off x="5565960" y="22608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58040" y="28148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0" name=""/>
              <p:cNvGrpSpPr/>
              <p:nvPr/>
            </p:nvGrpSpPr>
            <p:grpSpPr>
              <a:xfrm>
                <a:off x="5951160" y="2264040"/>
                <a:ext cx="246240" cy="547200"/>
                <a:chOff x="5951160" y="2264040"/>
                <a:chExt cx="246240" cy="5472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951160" y="2264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5951160" y="2538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5310720" y="2266920"/>
                <a:ext cx="246240" cy="547200"/>
                <a:chOff x="5310720" y="2266920"/>
                <a:chExt cx="246240" cy="547200"/>
              </a:xfrm>
            </p:grpSpPr>
            <p:sp>
              <p:nvSpPr>
                <p:cNvPr id="384" name=""/>
                <p:cNvSpPr/>
                <p:nvPr/>
              </p:nvSpPr>
              <p:spPr>
                <a:xfrm flipH="1">
                  <a:off x="5311080" y="2266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H="1" flipV="1">
                  <a:off x="5310720" y="2540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6" name=""/>
            <p:cNvGrpSpPr/>
            <p:nvPr/>
          </p:nvGrpSpPr>
          <p:grpSpPr>
            <a:xfrm>
              <a:off x="5947920" y="1980000"/>
              <a:ext cx="886680" cy="554040"/>
              <a:chOff x="5947920" y="1980000"/>
              <a:chExt cx="886680" cy="554040"/>
            </a:xfrm>
          </p:grpSpPr>
          <p:sp>
            <p:nvSpPr>
              <p:cNvPr id="387" name=""/>
              <p:cNvSpPr/>
              <p:nvPr/>
            </p:nvSpPr>
            <p:spPr>
              <a:xfrm>
                <a:off x="6203160" y="19800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195240" y="253404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9" name=""/>
              <p:cNvGrpSpPr/>
              <p:nvPr/>
            </p:nvGrpSpPr>
            <p:grpSpPr>
              <a:xfrm>
                <a:off x="6588360" y="1983240"/>
                <a:ext cx="246240" cy="547200"/>
                <a:chOff x="6588360" y="1983240"/>
                <a:chExt cx="246240" cy="5472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6588360" y="198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V="1">
                  <a:off x="6588360" y="225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5947920" y="1986120"/>
                <a:ext cx="246240" cy="547200"/>
                <a:chOff x="5947920" y="1986120"/>
                <a:chExt cx="246240" cy="547200"/>
              </a:xfrm>
            </p:grpSpPr>
            <p:sp>
              <p:nvSpPr>
                <p:cNvPr id="393" name=""/>
                <p:cNvSpPr/>
                <p:nvPr/>
              </p:nvSpPr>
              <p:spPr>
                <a:xfrm flipH="1">
                  <a:off x="5948280" y="19861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H="1" flipV="1">
                  <a:off x="5947920" y="22600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5" name=""/>
            <p:cNvGrpSpPr/>
            <p:nvPr/>
          </p:nvGrpSpPr>
          <p:grpSpPr>
            <a:xfrm>
              <a:off x="4028760" y="1718280"/>
              <a:ext cx="886320" cy="554040"/>
              <a:chOff x="4028760" y="1718280"/>
              <a:chExt cx="886320" cy="554040"/>
            </a:xfrm>
          </p:grpSpPr>
          <p:sp>
            <p:nvSpPr>
              <p:cNvPr id="396" name=""/>
              <p:cNvSpPr/>
              <p:nvPr/>
            </p:nvSpPr>
            <p:spPr>
              <a:xfrm>
                <a:off x="4284000" y="17182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275720" y="22723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8" name=""/>
              <p:cNvGrpSpPr/>
              <p:nvPr/>
            </p:nvGrpSpPr>
            <p:grpSpPr>
              <a:xfrm>
                <a:off x="4668840" y="1721520"/>
                <a:ext cx="246240" cy="547200"/>
                <a:chOff x="4668840" y="1721520"/>
                <a:chExt cx="246240" cy="5472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4668840" y="17215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 flipV="1">
                  <a:off x="4668840" y="19954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4028760" y="1724400"/>
                <a:ext cx="246240" cy="547200"/>
                <a:chOff x="4028760" y="1724400"/>
                <a:chExt cx="246240" cy="547200"/>
              </a:xfrm>
            </p:grpSpPr>
            <p:sp>
              <p:nvSpPr>
                <p:cNvPr id="402" name=""/>
                <p:cNvSpPr/>
                <p:nvPr/>
              </p:nvSpPr>
              <p:spPr>
                <a:xfrm flipH="1">
                  <a:off x="4029120" y="17244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 flipH="1" flipV="1">
                  <a:off x="4028760" y="19983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4" name=""/>
            <p:cNvGrpSpPr/>
            <p:nvPr/>
          </p:nvGrpSpPr>
          <p:grpSpPr>
            <a:xfrm>
              <a:off x="4665960" y="1437120"/>
              <a:ext cx="886680" cy="553680"/>
              <a:chOff x="4665960" y="1437120"/>
              <a:chExt cx="886680" cy="553680"/>
            </a:xfrm>
          </p:grpSpPr>
          <p:sp>
            <p:nvSpPr>
              <p:cNvPr id="405" name=""/>
              <p:cNvSpPr/>
              <p:nvPr/>
            </p:nvSpPr>
            <p:spPr>
              <a:xfrm>
                <a:off x="4921200" y="14371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913280" y="1990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5306400" y="1440360"/>
                <a:ext cx="246240" cy="547200"/>
                <a:chOff x="5306400" y="1440360"/>
                <a:chExt cx="246240" cy="5472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5306400" y="14403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 flipV="1">
                  <a:off x="5306400" y="17143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4665960" y="1443240"/>
                <a:ext cx="246240" cy="547200"/>
                <a:chOff x="4665960" y="1443240"/>
                <a:chExt cx="246240" cy="54720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4666320" y="14432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 flipV="1">
                  <a:off x="4665960" y="17172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13" name=""/>
            <p:cNvGrpSpPr/>
            <p:nvPr/>
          </p:nvGrpSpPr>
          <p:grpSpPr>
            <a:xfrm>
              <a:off x="2747160" y="1730520"/>
              <a:ext cx="886320" cy="554040"/>
              <a:chOff x="2747160" y="1730520"/>
              <a:chExt cx="886320" cy="554040"/>
            </a:xfrm>
          </p:grpSpPr>
          <p:sp>
            <p:nvSpPr>
              <p:cNvPr id="414" name=""/>
              <p:cNvSpPr/>
              <p:nvPr/>
            </p:nvSpPr>
            <p:spPr>
              <a:xfrm>
                <a:off x="3002400" y="1730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994120" y="22845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6" name=""/>
              <p:cNvGrpSpPr/>
              <p:nvPr/>
            </p:nvGrpSpPr>
            <p:grpSpPr>
              <a:xfrm>
                <a:off x="3387240" y="1733760"/>
                <a:ext cx="246240" cy="547200"/>
                <a:chOff x="3387240" y="1733760"/>
                <a:chExt cx="246240" cy="5472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3387240" y="1733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3387240" y="2007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747160" y="1736640"/>
                <a:ext cx="246240" cy="547200"/>
                <a:chOff x="2747160" y="1736640"/>
                <a:chExt cx="246240" cy="5472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2747520" y="1736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 flipV="1">
                  <a:off x="2747160" y="2010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22" name=""/>
            <p:cNvGrpSpPr/>
            <p:nvPr/>
          </p:nvGrpSpPr>
          <p:grpSpPr>
            <a:xfrm>
              <a:off x="3384360" y="1449720"/>
              <a:ext cx="886680" cy="553680"/>
              <a:chOff x="3384360" y="1449720"/>
              <a:chExt cx="886680" cy="553680"/>
            </a:xfrm>
          </p:grpSpPr>
          <p:sp>
            <p:nvSpPr>
              <p:cNvPr id="423" name=""/>
              <p:cNvSpPr/>
              <p:nvPr/>
            </p:nvSpPr>
            <p:spPr>
              <a:xfrm>
                <a:off x="3639600" y="14497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631680" y="20034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5" name=""/>
              <p:cNvGrpSpPr/>
              <p:nvPr/>
            </p:nvGrpSpPr>
            <p:grpSpPr>
              <a:xfrm>
                <a:off x="4024800" y="1452960"/>
                <a:ext cx="246240" cy="547200"/>
                <a:chOff x="4024800" y="1452960"/>
                <a:chExt cx="246240" cy="5472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024800" y="14529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 flipV="1">
                  <a:off x="4024800" y="17269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384360" y="1455840"/>
                <a:ext cx="246240" cy="547200"/>
                <a:chOff x="3384360" y="1455840"/>
                <a:chExt cx="246240" cy="547200"/>
              </a:xfrm>
            </p:grpSpPr>
            <p:sp>
              <p:nvSpPr>
                <p:cNvPr id="429" name=""/>
                <p:cNvSpPr/>
                <p:nvPr/>
              </p:nvSpPr>
              <p:spPr>
                <a:xfrm flipH="1">
                  <a:off x="3384720" y="14558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flipH="1" flipV="1">
                  <a:off x="3384360" y="17298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" name=""/>
            <p:cNvGrpSpPr/>
            <p:nvPr/>
          </p:nvGrpSpPr>
          <p:grpSpPr>
            <a:xfrm>
              <a:off x="6588720" y="1696680"/>
              <a:ext cx="886320" cy="553680"/>
              <a:chOff x="6588720" y="1696680"/>
              <a:chExt cx="886320" cy="553680"/>
            </a:xfrm>
          </p:grpSpPr>
          <p:sp>
            <p:nvSpPr>
              <p:cNvPr id="432" name=""/>
              <p:cNvSpPr/>
              <p:nvPr/>
            </p:nvSpPr>
            <p:spPr>
              <a:xfrm>
                <a:off x="6843960" y="169668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835680" y="22503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4" name=""/>
              <p:cNvGrpSpPr/>
              <p:nvPr/>
            </p:nvGrpSpPr>
            <p:grpSpPr>
              <a:xfrm>
                <a:off x="7228800" y="1699920"/>
                <a:ext cx="246240" cy="547200"/>
                <a:chOff x="7228800" y="1699920"/>
                <a:chExt cx="246240" cy="54720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7228800" y="169992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flipV="1">
                  <a:off x="7228800" y="197388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6588720" y="1702800"/>
                <a:ext cx="246240" cy="547200"/>
                <a:chOff x="6588720" y="1702800"/>
                <a:chExt cx="246240" cy="547200"/>
              </a:xfrm>
            </p:grpSpPr>
            <p:sp>
              <p:nvSpPr>
                <p:cNvPr id="438" name=""/>
                <p:cNvSpPr/>
                <p:nvPr/>
              </p:nvSpPr>
              <p:spPr>
                <a:xfrm flipH="1">
                  <a:off x="6589080" y="17028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H="1" flipV="1">
                  <a:off x="6588720" y="19767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0" name=""/>
            <p:cNvGrpSpPr/>
            <p:nvPr/>
          </p:nvGrpSpPr>
          <p:grpSpPr>
            <a:xfrm>
              <a:off x="7225920" y="1415520"/>
              <a:ext cx="886680" cy="554040"/>
              <a:chOff x="7225920" y="1415520"/>
              <a:chExt cx="886680" cy="554040"/>
            </a:xfrm>
          </p:grpSpPr>
          <p:sp>
            <p:nvSpPr>
              <p:cNvPr id="441" name=""/>
              <p:cNvSpPr/>
              <p:nvPr/>
            </p:nvSpPr>
            <p:spPr>
              <a:xfrm>
                <a:off x="7481160" y="14155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73240" y="196956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3" name=""/>
              <p:cNvGrpSpPr/>
              <p:nvPr/>
            </p:nvGrpSpPr>
            <p:grpSpPr>
              <a:xfrm>
                <a:off x="7866360" y="1418760"/>
                <a:ext cx="246240" cy="547200"/>
                <a:chOff x="7866360" y="1418760"/>
                <a:chExt cx="246240" cy="547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7866360" y="14187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V="1">
                  <a:off x="7866360" y="16927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7225920" y="1421640"/>
                <a:ext cx="246240" cy="547200"/>
                <a:chOff x="7225920" y="1421640"/>
                <a:chExt cx="246240" cy="547200"/>
              </a:xfrm>
            </p:grpSpPr>
            <p:sp>
              <p:nvSpPr>
                <p:cNvPr id="447" name=""/>
                <p:cNvSpPr/>
                <p:nvPr/>
              </p:nvSpPr>
              <p:spPr>
                <a:xfrm flipH="1">
                  <a:off x="7226280" y="14216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 flipH="1" flipV="1">
                  <a:off x="7225920" y="16956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9" name=""/>
            <p:cNvGrpSpPr/>
            <p:nvPr/>
          </p:nvGrpSpPr>
          <p:grpSpPr>
            <a:xfrm>
              <a:off x="5307120" y="1708920"/>
              <a:ext cx="886320" cy="553680"/>
              <a:chOff x="5307120" y="1708920"/>
              <a:chExt cx="886320" cy="553680"/>
            </a:xfrm>
          </p:grpSpPr>
          <p:sp>
            <p:nvSpPr>
              <p:cNvPr id="450" name=""/>
              <p:cNvSpPr/>
              <p:nvPr/>
            </p:nvSpPr>
            <p:spPr>
              <a:xfrm>
                <a:off x="5562360" y="170892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54080" y="226260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947200" y="1712160"/>
                <a:ext cx="246240" cy="547200"/>
                <a:chOff x="5947200" y="1712160"/>
                <a:chExt cx="246240" cy="54720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5947200" y="171216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V="1">
                  <a:off x="5947200" y="198612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5307120" y="1715040"/>
                <a:ext cx="246240" cy="547200"/>
                <a:chOff x="5307120" y="1715040"/>
                <a:chExt cx="246240" cy="5472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5307480" y="171504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5307120" y="198900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8" name=""/>
            <p:cNvGrpSpPr/>
            <p:nvPr/>
          </p:nvGrpSpPr>
          <p:grpSpPr>
            <a:xfrm>
              <a:off x="5944320" y="1427760"/>
              <a:ext cx="886680" cy="554040"/>
              <a:chOff x="5944320" y="1427760"/>
              <a:chExt cx="886680" cy="554040"/>
            </a:xfrm>
          </p:grpSpPr>
          <p:sp>
            <p:nvSpPr>
              <p:cNvPr id="459" name=""/>
              <p:cNvSpPr/>
              <p:nvPr/>
            </p:nvSpPr>
            <p:spPr>
              <a:xfrm>
                <a:off x="6199560" y="1427760"/>
                <a:ext cx="381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191640" y="1981800"/>
                <a:ext cx="381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1" name=""/>
              <p:cNvGrpSpPr/>
              <p:nvPr/>
            </p:nvGrpSpPr>
            <p:grpSpPr>
              <a:xfrm>
                <a:off x="6584760" y="1431000"/>
                <a:ext cx="246240" cy="547200"/>
                <a:chOff x="6584760" y="1431000"/>
                <a:chExt cx="246240" cy="54720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6584760" y="143100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V="1">
                  <a:off x="6584760" y="170496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4" name=""/>
              <p:cNvGrpSpPr/>
              <p:nvPr/>
            </p:nvGrpSpPr>
            <p:grpSpPr>
              <a:xfrm>
                <a:off x="5944320" y="1433880"/>
                <a:ext cx="246240" cy="547200"/>
                <a:chOff x="5944320" y="1433880"/>
                <a:chExt cx="246240" cy="547200"/>
              </a:xfrm>
            </p:grpSpPr>
            <p:sp>
              <p:nvSpPr>
                <p:cNvPr id="465" name=""/>
                <p:cNvSpPr/>
                <p:nvPr/>
              </p:nvSpPr>
              <p:spPr>
                <a:xfrm flipH="1">
                  <a:off x="5944680" y="1433880"/>
                  <a:ext cx="24588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 flipV="1">
                  <a:off x="5944320" y="1707840"/>
                  <a:ext cx="246240" cy="273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peech Signal Proces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1"/>
          <a:stretch/>
        </p:blipFill>
        <p:spPr>
          <a:xfrm>
            <a:off x="1219320" y="1733400"/>
            <a:ext cx="563868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SM Signaling Protoco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03" name="" descr=""/>
          <p:cNvPicPr/>
          <p:nvPr/>
        </p:nvPicPr>
        <p:blipFill>
          <a:blip r:embed="rId1"/>
          <a:stretch/>
        </p:blipFill>
        <p:spPr>
          <a:xfrm>
            <a:off x="914400" y="1368360"/>
            <a:ext cx="73152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unctions Provided by Protoco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ocols above the link layer of the GSM signaling protocol architecture provide specific func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o resource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ity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application part (M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TS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"/>
          <p:cNvSpPr/>
          <p:nvPr/>
        </p:nvSpPr>
        <p:spPr>
          <a:xfrm>
            <a:off x="4572000" y="2819520"/>
            <a:ext cx="1676520" cy="838080"/>
          </a:xfrm>
          <a:custGeom>
            <a:avLst/>
            <a:gdLst/>
            <a:ahLst/>
            <a:rect l="l" t="t" r="r" b="b"/>
            <a:pathLst>
              <a:path w="1056" h="528">
                <a:moveTo>
                  <a:pt x="1056" y="0"/>
                </a:moveTo>
                <a:lnTo>
                  <a:pt x="0" y="0"/>
                </a:lnTo>
                <a:lnTo>
                  <a:pt x="528" y="528"/>
                </a:lnTo>
                <a:lnTo>
                  <a:pt x="528" y="288"/>
                </a:lnTo>
                <a:lnTo>
                  <a:pt x="1056" y="0"/>
                </a:lnTo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protocol layers for signa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8" name=""/>
          <p:cNvSpPr/>
          <p:nvPr/>
        </p:nvSpPr>
        <p:spPr>
          <a:xfrm>
            <a:off x="114300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143000" y="2895480"/>
            <a:ext cx="838080" cy="7621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705720" y="2514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143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143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438280" y="3657600"/>
            <a:ext cx="83844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24382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7672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276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2438280" y="320040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H="1">
            <a:off x="3276720" y="3200400"/>
            <a:ext cx="83808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6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2438280" y="3200400"/>
            <a:ext cx="1676520" cy="457200"/>
          </a:xfrm>
          <a:prstGeom prst="triangle">
            <a:avLst>
              <a:gd name="adj" fmla="val 5000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1" name=""/>
          <p:cNvCxnSpPr>
            <a:stCxn id="1313" idx="2"/>
            <a:endCxn id="1315" idx="2"/>
          </p:cNvCxnSpPr>
          <p:nvPr/>
        </p:nvCxnSpPr>
        <p:spPr>
          <a:xfrm flipH="1" rot="16200000">
            <a:off x="2208240" y="3772440"/>
            <a:ext cx="2160" cy="129636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2" name=""/>
          <p:cNvSpPr/>
          <p:nvPr/>
        </p:nvSpPr>
        <p:spPr>
          <a:xfrm>
            <a:off x="6705720" y="213372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572000" y="3657600"/>
            <a:ext cx="83808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P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7200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5" name=""/>
          <p:cNvCxnSpPr>
            <a:stCxn id="1317" idx="2"/>
            <a:endCxn id="1324" idx="2"/>
          </p:cNvCxnSpPr>
          <p:nvPr/>
        </p:nvCxnSpPr>
        <p:spPr>
          <a:xfrm flipH="1" rot="16200000">
            <a:off x="434268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26" name=""/>
          <p:cNvSpPr/>
          <p:nvPr/>
        </p:nvSpPr>
        <p:spPr>
          <a:xfrm>
            <a:off x="4572000" y="2819520"/>
            <a:ext cx="838080" cy="83808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468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R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M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811680" y="480060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6/64 k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 flipV="1">
            <a:off x="220968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434340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991880" y="1371600"/>
            <a:ext cx="424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4130280" y="1371600"/>
            <a:ext cx="467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325920" y="13716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5410080" y="3276720"/>
            <a:ext cx="83844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410080" y="4038480"/>
            <a:ext cx="83844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6477120" y="17521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05720" y="3276720"/>
            <a:ext cx="838080" cy="76176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6705720" y="4038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4" idx="2"/>
            <a:endCxn id="1337" idx="2"/>
          </p:cNvCxnSpPr>
          <p:nvPr/>
        </p:nvCxnSpPr>
        <p:spPr>
          <a:xfrm flipH="1" rot="16200000">
            <a:off x="6476400" y="3772440"/>
            <a:ext cx="2160" cy="12960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39" name=""/>
          <p:cNvSpPr/>
          <p:nvPr/>
        </p:nvSpPr>
        <p:spPr>
          <a:xfrm>
            <a:off x="6022440" y="4800600"/>
            <a:ext cx="128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kbit/s 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048 Mbit/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1357200" y="166068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049560" y="167652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106240" y="1676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83120" y="16765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5409360" y="2819520"/>
            <a:ext cx="838440" cy="457200"/>
          </a:xfrm>
          <a:prstGeom prst="rtTriangl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198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705720" y="2895480"/>
            <a:ext cx="838080" cy="38124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S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Term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4697280" y="3187800"/>
            <a:ext cx="1365480" cy="763560"/>
            <a:chOff x="4697280" y="3187800"/>
            <a:chExt cx="1365480" cy="763560"/>
          </a:xfrm>
        </p:grpSpPr>
        <p:graphicFrame>
          <p:nvGraphicFramePr>
            <p:cNvPr id="1348" name=""/>
            <p:cNvGraphicFramePr/>
            <p:nvPr/>
          </p:nvGraphicFramePr>
          <p:xfrm>
            <a:off x="4697280" y="3187800"/>
            <a:ext cx="136548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7280" y="3187800"/>
                      <a:ext cx="136548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50" name=""/>
            <p:cNvSpPr/>
            <p:nvPr/>
          </p:nvSpPr>
          <p:spPr>
            <a:xfrm>
              <a:off x="5002200" y="3416400"/>
              <a:ext cx="6699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82880" y="3352680"/>
            <a:ext cx="696960" cy="444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al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297480" y="341640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297480" y="242568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364520" y="242568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838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7211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068880" y="4406760"/>
            <a:ext cx="55404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7364520" y="341640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8355600" y="4493160"/>
            <a:ext cx="609120" cy="606960"/>
            <a:chOff x="8355600" y="4493160"/>
            <a:chExt cx="609120" cy="606960"/>
          </a:xfrm>
        </p:grpSpPr>
        <p:sp>
          <p:nvSpPr>
            <p:cNvPr id="1360" name=""/>
            <p:cNvSpPr/>
            <p:nvPr/>
          </p:nvSpPr>
          <p:spPr>
            <a:xfrm rot="5400000">
              <a:off x="8356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8429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rot="5400000">
              <a:off x="8504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3" name=""/>
          <p:cNvSpPr/>
          <p:nvPr/>
        </p:nvSpPr>
        <p:spPr>
          <a:xfrm>
            <a:off x="7288200" y="5702400"/>
            <a:ext cx="4636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4" name=""/>
          <p:cNvCxnSpPr>
            <a:endCxn id="1351" idx="3"/>
          </p:cNvCxnSpPr>
          <p:nvPr/>
        </p:nvCxnSpPr>
        <p:spPr>
          <a:xfrm flipH="1">
            <a:off x="4479480" y="3570120"/>
            <a:ext cx="21816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365" name=""/>
          <p:cNvCxnSpPr>
            <a:endCxn id="1352" idx="1"/>
          </p:cNvCxnSpPr>
          <p:nvPr/>
        </p:nvCxnSpPr>
        <p:spPr>
          <a:xfrm>
            <a:off x="6062760" y="3570120"/>
            <a:ext cx="23544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6" name=""/>
          <p:cNvCxnSpPr>
            <a:stCxn id="1358" idx="2"/>
            <a:endCxn id="1357" idx="0"/>
          </p:cNvCxnSpPr>
          <p:nvPr/>
        </p:nvCxnSpPr>
        <p:spPr>
          <a:xfrm flipH="1">
            <a:off x="6346080" y="3733560"/>
            <a:ext cx="132300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7" name=""/>
          <p:cNvCxnSpPr>
            <a:stCxn id="1358" idx="2"/>
            <a:endCxn id="1355" idx="0"/>
          </p:cNvCxnSpPr>
          <p:nvPr/>
        </p:nvCxnSpPr>
        <p:spPr>
          <a:xfrm>
            <a:off x="7669080" y="3733560"/>
            <a:ext cx="991440" cy="673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368" name=""/>
          <p:cNvCxnSpPr>
            <a:stCxn id="1358" idx="2"/>
            <a:endCxn id="1356" idx="0"/>
          </p:cNvCxnSpPr>
          <p:nvPr/>
        </p:nvCxnSpPr>
        <p:spPr>
          <a:xfrm flipH="1">
            <a:off x="7489440" y="3733560"/>
            <a:ext cx="18000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369" name=""/>
          <p:cNvCxnSpPr>
            <a:stCxn id="1354" idx="2"/>
            <a:endCxn id="1358" idx="0"/>
          </p:cNvCxnSpPr>
          <p:nvPr/>
        </p:nvCxnSpPr>
        <p:spPr>
          <a:xfrm>
            <a:off x="7668720" y="27302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0" name=""/>
          <p:cNvCxnSpPr>
            <a:stCxn id="1352" idx="3"/>
            <a:endCxn id="1358" idx="1"/>
          </p:cNvCxnSpPr>
          <p:nvPr/>
        </p:nvCxnSpPr>
        <p:spPr>
          <a:xfrm>
            <a:off x="6982920" y="3574800"/>
            <a:ext cx="381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1" name=""/>
          <p:cNvCxnSpPr>
            <a:stCxn id="1352" idx="0"/>
            <a:endCxn id="1353" idx="2"/>
          </p:cNvCxnSpPr>
          <p:nvPr/>
        </p:nvCxnSpPr>
        <p:spPr>
          <a:xfrm flipV="1">
            <a:off x="6640200" y="2742840"/>
            <a:ext cx="1080" cy="673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2" name=""/>
          <p:cNvCxnSpPr>
            <a:stCxn id="1353" idx="3"/>
            <a:endCxn id="1354" idx="1"/>
          </p:cNvCxnSpPr>
          <p:nvPr/>
        </p:nvCxnSpPr>
        <p:spPr>
          <a:xfrm flipV="1">
            <a:off x="6982920" y="2577600"/>
            <a:ext cx="381960" cy="7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grpSp>
        <p:nvGrpSpPr>
          <p:cNvPr id="1373" name=""/>
          <p:cNvGrpSpPr/>
          <p:nvPr/>
        </p:nvGrpSpPr>
        <p:grpSpPr>
          <a:xfrm>
            <a:off x="7212600" y="4493160"/>
            <a:ext cx="609120" cy="606960"/>
            <a:chOff x="7212600" y="4493160"/>
            <a:chExt cx="609120" cy="606960"/>
          </a:xfrm>
        </p:grpSpPr>
        <p:sp>
          <p:nvSpPr>
            <p:cNvPr id="1374" name=""/>
            <p:cNvSpPr/>
            <p:nvPr/>
          </p:nvSpPr>
          <p:spPr>
            <a:xfrm rot="5400000">
              <a:off x="7213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5400000">
              <a:off x="7286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5400000">
              <a:off x="7361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7" name=""/>
          <p:cNvGrpSpPr/>
          <p:nvPr/>
        </p:nvGrpSpPr>
        <p:grpSpPr>
          <a:xfrm>
            <a:off x="6069600" y="4493160"/>
            <a:ext cx="609120" cy="606960"/>
            <a:chOff x="6069600" y="4493160"/>
            <a:chExt cx="609120" cy="606960"/>
          </a:xfrm>
        </p:grpSpPr>
        <p:sp>
          <p:nvSpPr>
            <p:cNvPr id="1378" name=""/>
            <p:cNvSpPr/>
            <p:nvPr/>
          </p:nvSpPr>
          <p:spPr>
            <a:xfrm rot="5400000">
              <a:off x="6070680" y="4492080"/>
              <a:ext cx="606960" cy="609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527" swAng="1088297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527" swAng="10882975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rot="5400000">
              <a:off x="6143760" y="4566600"/>
              <a:ext cx="460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1" y="0"/>
                  </a:moveTo>
                  <a:arcTo wR="10800" hR="10800" stAng="-5421827" swAng="1090972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1" y="0"/>
                  </a:moveTo>
                  <a:arcTo wR="10800" hR="10800" stAng="-5421827" swAng="10909726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rot="5400000">
              <a:off x="6218640" y="4640040"/>
              <a:ext cx="311040" cy="30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99" y="0"/>
                  </a:moveTo>
                  <a:arcTo wR="10800" hR="10800" stAng="-5432279" swAng="10930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99" y="0"/>
                  </a:moveTo>
                  <a:arcTo wR="10800" hR="10800" stAng="-5432279" swAng="1093010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381" name=""/>
          <p:cNvCxnSpPr>
            <a:stCxn id="1363" idx="0"/>
          </p:cNvCxnSpPr>
          <p:nvPr/>
        </p:nvCxnSpPr>
        <p:spPr>
          <a:xfrm flipV="1">
            <a:off x="7519680" y="5101560"/>
            <a:ext cx="1080" cy="600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2" name=""/>
          <p:cNvSpPr/>
          <p:nvPr/>
        </p:nvSpPr>
        <p:spPr>
          <a:xfrm>
            <a:off x="447048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5994360" y="3568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3756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061400" y="22734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061400" y="25779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6604200" y="28828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985080" y="32637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36596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670880" y="2730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6038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13736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518240" y="51688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1824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18240" y="4102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213320" y="39495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127720" y="38736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146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289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8432640" y="46353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28964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70520" y="295920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518240" y="539748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304920" y="1552320"/>
            <a:ext cx="39780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 calling a GSM subscr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: forwarding call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: signal call setup to H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, 5: request MSRN from VL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: forward responsib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MSC to G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: forward call to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S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, 9: get current status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, 11: paging of 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2, 13: MS answ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4, 15: security ch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, 17: set up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bile Originated Cal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876920" y="2819520"/>
            <a:ext cx="1365120" cy="763560"/>
            <a:chOff x="4876920" y="2819520"/>
            <a:chExt cx="1365120" cy="763560"/>
          </a:xfrm>
        </p:grpSpPr>
        <p:graphicFrame>
          <p:nvGraphicFramePr>
            <p:cNvPr id="1407" name=""/>
            <p:cNvGraphicFramePr/>
            <p:nvPr/>
          </p:nvGraphicFramePr>
          <p:xfrm>
            <a:off x="4876920" y="2819520"/>
            <a:ext cx="1365120" cy="763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2819520"/>
                      <a:ext cx="1365120" cy="763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09" name=""/>
            <p:cNvSpPr/>
            <p:nvPr/>
          </p:nvSpPr>
          <p:spPr>
            <a:xfrm>
              <a:off x="5181480" y="3048120"/>
              <a:ext cx="669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0" name=""/>
          <p:cNvSpPr/>
          <p:nvPr/>
        </p:nvSpPr>
        <p:spPr>
          <a:xfrm>
            <a:off x="6477120" y="3048120"/>
            <a:ext cx="68580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7543800" y="2057400"/>
            <a:ext cx="609480" cy="3049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7543800" y="403848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3048120"/>
            <a:ext cx="60948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77120" y="4038480"/>
            <a:ext cx="463320" cy="31752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5" name=""/>
          <p:cNvCxnSpPr>
            <a:endCxn id="1410" idx="1"/>
          </p:cNvCxnSpPr>
          <p:nvPr/>
        </p:nvCxnSpPr>
        <p:spPr>
          <a:xfrm>
            <a:off x="6241680" y="3201840"/>
            <a:ext cx="235800" cy="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6" name=""/>
          <p:cNvCxnSpPr>
            <a:stCxn id="1413" idx="2"/>
            <a:endCxn id="1412" idx="0"/>
          </p:cNvCxnSpPr>
          <p:nvPr/>
        </p:nvCxnSpPr>
        <p:spPr>
          <a:xfrm>
            <a:off x="7848360" y="3365280"/>
            <a:ext cx="1080" cy="67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7" name=""/>
          <p:cNvCxnSpPr>
            <a:stCxn id="1411" idx="2"/>
            <a:endCxn id="1413" idx="0"/>
          </p:cNvCxnSpPr>
          <p:nvPr/>
        </p:nvCxnSpPr>
        <p:spPr>
          <a:xfrm>
            <a:off x="7848360" y="23619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18" name=""/>
          <p:cNvCxnSpPr>
            <a:stCxn id="1410" idx="3"/>
            <a:endCxn id="1413" idx="1"/>
          </p:cNvCxnSpPr>
          <p:nvPr/>
        </p:nvCxnSpPr>
        <p:spPr>
          <a:xfrm>
            <a:off x="7162920" y="320652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19" name=""/>
          <p:cNvCxnSpPr>
            <a:stCxn id="1414" idx="3"/>
            <a:endCxn id="1412" idx="1"/>
          </p:cNvCxnSpPr>
          <p:nvPr/>
        </p:nvCxnSpPr>
        <p:spPr>
          <a:xfrm>
            <a:off x="6940440" y="4196880"/>
            <a:ext cx="60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20" name=""/>
          <p:cNvSpPr/>
          <p:nvPr/>
        </p:nvSpPr>
        <p:spPr>
          <a:xfrm>
            <a:off x="7088400" y="3886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754560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17400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164360" y="2819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54560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850160" y="25146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850160" y="35053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7011720" y="419112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17400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164360" y="3276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2: connec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4: security che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-8: check resources (free circu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9-10: set up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976280" y="1552320"/>
            <a:ext cx="3978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TC/MO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1595160" y="1371600"/>
            <a:ext cx="5573880" cy="5105160"/>
            <a:chOff x="1595160" y="1371600"/>
            <a:chExt cx="5573880" cy="5105160"/>
          </a:xfrm>
        </p:grpSpPr>
        <p:sp>
          <p:nvSpPr>
            <p:cNvPr id="1434" name=""/>
            <p:cNvSpPr/>
            <p:nvPr/>
          </p:nvSpPr>
          <p:spPr>
            <a:xfrm>
              <a:off x="361440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8216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9516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821600" y="1946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892520" y="1658880"/>
              <a:ext cx="136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88980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82160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89180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82160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89144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82160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892160" y="2521800"/>
              <a:ext cx="1500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ging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82160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88928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2160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889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82160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89180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82160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8918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82160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8946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2160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9288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82160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89108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82160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89108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82160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8946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82160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89432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82160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89108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82160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18892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642360" y="1371600"/>
              <a:ext cx="5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4992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623840" y="1371600"/>
              <a:ext cx="44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918480" y="1658880"/>
              <a:ext cx="0" cy="481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49920" y="22345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20840" y="1946520"/>
              <a:ext cx="145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annel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849920" y="25218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920120" y="2234520"/>
              <a:ext cx="196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mediate assign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4849920" y="2809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20480" y="2521800"/>
              <a:ext cx="139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849920" y="30974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18320" y="2809440"/>
              <a:ext cx="193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que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49920" y="338472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918320" y="3097440"/>
              <a:ext cx="20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thentication respon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849920" y="3672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21560" y="3384720"/>
              <a:ext cx="173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849920" y="39603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921200" y="3672360"/>
              <a:ext cx="1678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iphering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49920" y="424764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24080" y="3960360"/>
              <a:ext cx="61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849920" y="4535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921920" y="4247640"/>
              <a:ext cx="128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confirm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49920" y="48232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4920840" y="4535280"/>
              <a:ext cx="192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m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849920" y="511056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919760" y="4824360"/>
              <a:ext cx="186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ignment comple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849920" y="5398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924080" y="5110560"/>
              <a:ext cx="76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849920" y="568620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923000" y="5398200"/>
              <a:ext cx="807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49920" y="5973480"/>
              <a:ext cx="206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919760" y="5686200"/>
              <a:ext cx="189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ac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849920" y="6261120"/>
              <a:ext cx="2068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918680" y="597348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/speech exchan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487960" y="137160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T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591160" y="1371600"/>
              <a:ext cx="65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 types of hando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7" name=""/>
          <p:cNvSpPr/>
          <p:nvPr/>
        </p:nvSpPr>
        <p:spPr>
          <a:xfrm>
            <a:off x="4610160" y="43434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829480" y="43434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61016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5829480" y="36576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3390840" y="36576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39084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4610160" y="2971800"/>
            <a:ext cx="76212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8294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171880" y="2971800"/>
            <a:ext cx="761760" cy="38088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6" name=""/>
          <p:cNvCxnSpPr>
            <a:stCxn id="1507" idx="3"/>
            <a:endCxn id="1508" idx="1"/>
          </p:cNvCxnSpPr>
          <p:nvPr/>
        </p:nvCxnSpPr>
        <p:spPr>
          <a:xfrm>
            <a:off x="5372280" y="453348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7" name=""/>
          <p:cNvCxnSpPr>
            <a:stCxn id="1507" idx="0"/>
            <a:endCxn id="1509" idx="2"/>
          </p:cNvCxnSpPr>
          <p:nvPr/>
        </p:nvCxnSpPr>
        <p:spPr>
          <a:xfrm flipV="1">
            <a:off x="499068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8" name=""/>
          <p:cNvCxnSpPr>
            <a:stCxn id="1507" idx="1"/>
            <a:endCxn id="1511" idx="2"/>
          </p:cNvCxnSpPr>
          <p:nvPr/>
        </p:nvCxnSpPr>
        <p:spPr>
          <a:xfrm rot="10800000">
            <a:off x="3771360" y="40377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9" name=""/>
          <p:cNvCxnSpPr>
            <a:stCxn id="1511" idx="1"/>
            <a:endCxn id="1515" idx="2"/>
          </p:cNvCxnSpPr>
          <p:nvPr/>
        </p:nvCxnSpPr>
        <p:spPr>
          <a:xfrm rot="10800000">
            <a:off x="2552040" y="3351960"/>
            <a:ext cx="83880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0" name=""/>
          <p:cNvCxnSpPr>
            <a:stCxn id="1511" idx="0"/>
            <a:endCxn id="1512" idx="2"/>
          </p:cNvCxnSpPr>
          <p:nvPr/>
        </p:nvCxnSpPr>
        <p:spPr>
          <a:xfrm flipV="1">
            <a:off x="377172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1" name=""/>
          <p:cNvCxnSpPr>
            <a:stCxn id="1509" idx="0"/>
            <a:endCxn id="1513" idx="2"/>
          </p:cNvCxnSpPr>
          <p:nvPr/>
        </p:nvCxnSpPr>
        <p:spPr>
          <a:xfrm flipV="1">
            <a:off x="499068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2" name=""/>
          <p:cNvCxnSpPr>
            <a:stCxn id="1510" idx="0"/>
            <a:endCxn id="1514" idx="2"/>
          </p:cNvCxnSpPr>
          <p:nvPr/>
        </p:nvCxnSpPr>
        <p:spPr>
          <a:xfrm flipV="1">
            <a:off x="6210000" y="33519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3" name=""/>
          <p:cNvCxnSpPr>
            <a:stCxn id="1508" idx="0"/>
            <a:endCxn id="1510" idx="2"/>
          </p:cNvCxnSpPr>
          <p:nvPr/>
        </p:nvCxnSpPr>
        <p:spPr>
          <a:xfrm flipV="1">
            <a:off x="6210000" y="403776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24" name=""/>
          <p:cNvCxnSpPr>
            <a:stCxn id="1508" idx="3"/>
          </p:cNvCxnSpPr>
          <p:nvPr/>
        </p:nvCxnSpPr>
        <p:spPr>
          <a:xfrm>
            <a:off x="6591240" y="45334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25" name=""/>
          <p:cNvSpPr/>
          <p:nvPr/>
        </p:nvSpPr>
        <p:spPr>
          <a:xfrm>
            <a:off x="19810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20040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441972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638680" y="1755720"/>
            <a:ext cx="1143000" cy="98892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1ffb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9" name=""/>
          <p:cNvCxnSpPr>
            <a:stCxn id="1515" idx="0"/>
          </p:cNvCxnSpPr>
          <p:nvPr/>
        </p:nvCxnSpPr>
        <p:spPr>
          <a:xfrm flipH="1" flipV="1">
            <a:off x="25459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0" name=""/>
          <p:cNvCxnSpPr>
            <a:stCxn id="1512" idx="0"/>
          </p:cNvCxnSpPr>
          <p:nvPr/>
        </p:nvCxnSpPr>
        <p:spPr>
          <a:xfrm flipH="1" flipV="1">
            <a:off x="376524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1" name=""/>
          <p:cNvCxnSpPr>
            <a:stCxn id="1513" idx="0"/>
          </p:cNvCxnSpPr>
          <p:nvPr/>
        </p:nvCxnSpPr>
        <p:spPr>
          <a:xfrm flipH="1" flipV="1">
            <a:off x="4984200" y="2250720"/>
            <a:ext cx="684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32" name=""/>
          <p:cNvCxnSpPr>
            <a:stCxn id="1514" idx="0"/>
          </p:cNvCxnSpPr>
          <p:nvPr/>
        </p:nvCxnSpPr>
        <p:spPr>
          <a:xfrm flipH="1" flipV="1">
            <a:off x="6203520" y="2250720"/>
            <a:ext cx="7200" cy="721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33" name=""/>
          <p:cNvSpPr/>
          <p:nvPr/>
        </p:nvSpPr>
        <p:spPr>
          <a:xfrm>
            <a:off x="22096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42900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4648320" y="18288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867280" y="1828800"/>
            <a:ext cx="38124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7" name=""/>
          <p:cNvCxnSpPr>
            <a:stCxn id="1533" idx="0"/>
            <a:endCxn id="1534" idx="0"/>
          </p:cNvCxnSpPr>
          <p:nvPr/>
        </p:nvCxnSpPr>
        <p:spPr>
          <a:xfrm flipH="1" rot="16200000">
            <a:off x="3009240" y="1219680"/>
            <a:ext cx="2160" cy="1219680"/>
          </a:xfrm>
          <a:prstGeom prst="curvedConnector5">
            <a:avLst>
              <a:gd name="adj1" fmla="val -14400000"/>
              <a:gd name="adj2" fmla="val 49985"/>
              <a:gd name="adj3" fmla="val -144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8" name=""/>
          <p:cNvCxnSpPr>
            <a:stCxn id="1533" idx="0"/>
            <a:endCxn id="1535" idx="0"/>
          </p:cNvCxnSpPr>
          <p:nvPr/>
        </p:nvCxnSpPr>
        <p:spPr>
          <a:xfrm flipH="1" rot="16200000">
            <a:off x="3618720" y="610200"/>
            <a:ext cx="2160" cy="2439000"/>
          </a:xfrm>
          <a:prstGeom prst="curvedConnector5">
            <a:avLst>
              <a:gd name="adj1" fmla="val -22100000"/>
              <a:gd name="adj2" fmla="val 50000"/>
              <a:gd name="adj3" fmla="val -22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39" name=""/>
          <p:cNvCxnSpPr>
            <a:stCxn id="1533" idx="0"/>
            <a:endCxn id="1536" idx="0"/>
          </p:cNvCxnSpPr>
          <p:nvPr/>
        </p:nvCxnSpPr>
        <p:spPr>
          <a:xfrm flipH="1" rot="16200000">
            <a:off x="4228560" y="360"/>
            <a:ext cx="2160" cy="3658320"/>
          </a:xfrm>
          <a:prstGeom prst="curvedConnector5">
            <a:avLst>
              <a:gd name="adj1" fmla="val -29100000"/>
              <a:gd name="adj2" fmla="val 49995"/>
              <a:gd name="adj3" fmla="val -2910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1540" name=""/>
          <p:cNvCxnSpPr>
            <a:stCxn id="1533" idx="0"/>
            <a:endCxn id="1533" idx="2"/>
          </p:cNvCxnSpPr>
          <p:nvPr/>
        </p:nvCxnSpPr>
        <p:spPr>
          <a:xfrm rot="5400000">
            <a:off x="2209320" y="1827720"/>
            <a:ext cx="191160" cy="191520"/>
          </a:xfrm>
          <a:prstGeom prst="curvedConnector5">
            <a:avLst>
              <a:gd name="adj1" fmla="val -120000"/>
              <a:gd name="adj2" fmla="val 109981"/>
              <a:gd name="adj3" fmla="val -120000"/>
            </a:avLst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41" name=""/>
          <p:cNvSpPr/>
          <p:nvPr/>
        </p:nvSpPr>
        <p:spPr>
          <a:xfrm>
            <a:off x="1906560" y="12952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350676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72608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945400" y="1447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deci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6" name=""/>
          <p:cNvSpPr/>
          <p:nvPr/>
        </p:nvSpPr>
        <p:spPr>
          <a:xfrm flipV="1">
            <a:off x="22860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 flipV="1">
            <a:off x="6400800" y="2285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6765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5791320" y="1676520"/>
            <a:ext cx="131148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286000" y="48006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81952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486400" y="4343400"/>
            <a:ext cx="380880" cy="380880"/>
          </a:xfrm>
          <a:prstGeom prst="ellipse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3" name=""/>
          <p:cNvCxnSpPr>
            <a:stCxn id="1551" idx="6"/>
            <a:endCxn id="1552" idx="2"/>
          </p:cNvCxnSpPr>
          <p:nvPr/>
        </p:nvCxnSpPr>
        <p:spPr>
          <a:xfrm>
            <a:off x="3200400" y="4533480"/>
            <a:ext cx="2286720" cy="108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554" name=""/>
          <p:cNvSpPr/>
          <p:nvPr/>
        </p:nvSpPr>
        <p:spPr>
          <a:xfrm>
            <a:off x="243828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H="1">
            <a:off x="2514600" y="2514600"/>
            <a:ext cx="3657600" cy="1752480"/>
          </a:xfrm>
          <a:custGeom>
            <a:avLst/>
            <a:gdLst/>
            <a:ahLst/>
            <a:rect l="l" t="t" r="r" b="b"/>
            <a:pathLst>
              <a:path w="2304" h="1104">
                <a:moveTo>
                  <a:pt x="0" y="0"/>
                </a:moveTo>
                <a:cubicBezTo>
                  <a:pt x="240" y="340"/>
                  <a:pt x="480" y="680"/>
                  <a:pt x="864" y="864"/>
                </a:cubicBezTo>
                <a:cubicBezTo>
                  <a:pt x="1248" y="1048"/>
                  <a:pt x="1776" y="1076"/>
                  <a:pt x="2304" y="1104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 flipV="1">
            <a:off x="4952880" y="3809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56120" y="380988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_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438280" y="2514600"/>
            <a:ext cx="358164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H="1">
            <a:off x="2590920" y="2514600"/>
            <a:ext cx="3581280" cy="1905120"/>
          </a:xfrm>
          <a:custGeom>
            <a:avLst/>
            <a:gdLst/>
            <a:ahLst/>
            <a:rect l="l" t="t" r="r" b="b"/>
            <a:pathLst>
              <a:path w="2256" h="1200">
                <a:moveTo>
                  <a:pt x="0" y="96"/>
                </a:moveTo>
                <a:lnTo>
                  <a:pt x="48" y="0"/>
                </a:lnTo>
                <a:lnTo>
                  <a:pt x="48" y="192"/>
                </a:lnTo>
                <a:lnTo>
                  <a:pt x="144" y="96"/>
                </a:lnTo>
                <a:lnTo>
                  <a:pt x="192" y="336"/>
                </a:lnTo>
                <a:lnTo>
                  <a:pt x="240" y="288"/>
                </a:lnTo>
                <a:lnTo>
                  <a:pt x="288" y="432"/>
                </a:lnTo>
                <a:lnTo>
                  <a:pt x="384" y="384"/>
                </a:lnTo>
                <a:lnTo>
                  <a:pt x="432" y="720"/>
                </a:lnTo>
                <a:lnTo>
                  <a:pt x="480" y="528"/>
                </a:lnTo>
                <a:lnTo>
                  <a:pt x="480" y="624"/>
                </a:lnTo>
                <a:lnTo>
                  <a:pt x="528" y="576"/>
                </a:lnTo>
                <a:lnTo>
                  <a:pt x="576" y="720"/>
                </a:lnTo>
                <a:lnTo>
                  <a:pt x="624" y="624"/>
                </a:lnTo>
                <a:lnTo>
                  <a:pt x="672" y="816"/>
                </a:lnTo>
                <a:lnTo>
                  <a:pt x="768" y="720"/>
                </a:lnTo>
                <a:lnTo>
                  <a:pt x="816" y="912"/>
                </a:lnTo>
                <a:lnTo>
                  <a:pt x="864" y="816"/>
                </a:lnTo>
                <a:lnTo>
                  <a:pt x="912" y="912"/>
                </a:lnTo>
                <a:lnTo>
                  <a:pt x="960" y="816"/>
                </a:lnTo>
                <a:lnTo>
                  <a:pt x="960" y="960"/>
                </a:lnTo>
                <a:lnTo>
                  <a:pt x="1008" y="864"/>
                </a:lnTo>
                <a:lnTo>
                  <a:pt x="1056" y="1056"/>
                </a:lnTo>
                <a:lnTo>
                  <a:pt x="1152" y="864"/>
                </a:lnTo>
                <a:lnTo>
                  <a:pt x="1200" y="1056"/>
                </a:lnTo>
                <a:lnTo>
                  <a:pt x="1248" y="960"/>
                </a:lnTo>
                <a:lnTo>
                  <a:pt x="1296" y="1104"/>
                </a:lnTo>
                <a:lnTo>
                  <a:pt x="1392" y="912"/>
                </a:lnTo>
                <a:lnTo>
                  <a:pt x="1440" y="1152"/>
                </a:lnTo>
                <a:lnTo>
                  <a:pt x="1440" y="1056"/>
                </a:lnTo>
                <a:lnTo>
                  <a:pt x="1488" y="1152"/>
                </a:lnTo>
                <a:lnTo>
                  <a:pt x="1536" y="960"/>
                </a:lnTo>
                <a:lnTo>
                  <a:pt x="1584" y="1104"/>
                </a:lnTo>
                <a:lnTo>
                  <a:pt x="1680" y="960"/>
                </a:lnTo>
                <a:lnTo>
                  <a:pt x="1680" y="1104"/>
                </a:lnTo>
                <a:lnTo>
                  <a:pt x="1728" y="1008"/>
                </a:lnTo>
                <a:lnTo>
                  <a:pt x="1776" y="1104"/>
                </a:lnTo>
                <a:lnTo>
                  <a:pt x="1824" y="1008"/>
                </a:lnTo>
                <a:lnTo>
                  <a:pt x="1872" y="1152"/>
                </a:lnTo>
                <a:lnTo>
                  <a:pt x="1968" y="1008"/>
                </a:lnTo>
                <a:lnTo>
                  <a:pt x="2016" y="1152"/>
                </a:lnTo>
                <a:lnTo>
                  <a:pt x="2064" y="1008"/>
                </a:lnTo>
                <a:lnTo>
                  <a:pt x="2160" y="1152"/>
                </a:lnTo>
                <a:lnTo>
                  <a:pt x="2208" y="1056"/>
                </a:lnTo>
                <a:lnTo>
                  <a:pt x="2208" y="1200"/>
                </a:lnTo>
                <a:lnTo>
                  <a:pt x="2256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95288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16600" y="4800600"/>
            <a:ext cx="732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355720" y="4800600"/>
            <a:ext cx="791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ver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4" name=""/>
          <p:cNvSpPr/>
          <p:nvPr/>
        </p:nvSpPr>
        <p:spPr>
          <a:xfrm>
            <a:off x="22860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4008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3811680" y="449568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914400" y="4800600"/>
            <a:ext cx="685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959840" y="1932120"/>
            <a:ext cx="665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6039360" y="1932120"/>
            <a:ext cx="7369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914400" y="5105520"/>
            <a:ext cx="6858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6576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2284200" y="220968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314160" y="1932120"/>
            <a:ext cx="685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S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50292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3196440" y="4800600"/>
            <a:ext cx="16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 establish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789800" y="190512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914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06320" y="193212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914400" y="2666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912600" y="2133720"/>
            <a:ext cx="1270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2895480" y="28195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65760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732840" y="3048120"/>
            <a:ext cx="115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7772400" y="22096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421760" y="1932120"/>
            <a:ext cx="717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T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502920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5104080" y="3124080"/>
            <a:ext cx="109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5638680" y="3505320"/>
            <a:ext cx="1524240" cy="2286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urce al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400800" y="4038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397560" y="3733920"/>
            <a:ext cx="122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6400800" y="43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6319440" y="4038480"/>
            <a:ext cx="155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. activation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502920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5025960" y="411480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request 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3657600" y="4495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3733200" y="419112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2286000" y="4572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361600" y="426708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914400" y="4648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990000" y="43434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6400800" y="54100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476040" y="510552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029200" y="54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5104440" y="5181480"/>
            <a:ext cx="122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3657600" y="5562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3655440" y="525780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286000" y="56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283840" y="533412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86000" y="5943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83480" y="56386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657600" y="6019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655080" y="571500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ear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597400" y="5458680"/>
            <a:ext cx="1220040" cy="850680"/>
            <a:chOff x="2597400" y="5458680"/>
            <a:chExt cx="1220040" cy="850680"/>
          </a:xfrm>
        </p:grpSpPr>
        <p:sp>
          <p:nvSpPr>
            <p:cNvPr id="469" name=""/>
            <p:cNvSpPr/>
            <p:nvPr/>
          </p:nvSpPr>
          <p:spPr>
            <a:xfrm>
              <a:off x="2959920" y="545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49480" y="63093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438720" y="5463360"/>
              <a:ext cx="378720" cy="841320"/>
              <a:chOff x="3438720" y="5463360"/>
              <a:chExt cx="378720" cy="841320"/>
            </a:xfrm>
          </p:grpSpPr>
          <p:sp>
            <p:nvSpPr>
              <p:cNvPr id="472" name=""/>
              <p:cNvSpPr/>
              <p:nvPr/>
            </p:nvSpPr>
            <p:spPr>
              <a:xfrm>
                <a:off x="3438720" y="5463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3439440" y="5884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597400" y="5467680"/>
              <a:ext cx="378720" cy="841320"/>
              <a:chOff x="2597400" y="5467680"/>
              <a:chExt cx="378720" cy="841320"/>
            </a:xfrm>
          </p:grpSpPr>
          <p:sp>
            <p:nvSpPr>
              <p:cNvPr id="475" name=""/>
              <p:cNvSpPr/>
              <p:nvPr/>
            </p:nvSpPr>
            <p:spPr>
              <a:xfrm flipH="1">
                <a:off x="2598120" y="546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 flipV="1">
                <a:off x="2597400" y="588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7" name=""/>
          <p:cNvGrpSpPr/>
          <p:nvPr/>
        </p:nvGrpSpPr>
        <p:grpSpPr>
          <a:xfrm>
            <a:off x="3435480" y="5027040"/>
            <a:ext cx="1220040" cy="850680"/>
            <a:chOff x="3435480" y="5027040"/>
            <a:chExt cx="1220040" cy="850680"/>
          </a:xfrm>
        </p:grpSpPr>
        <p:sp>
          <p:nvSpPr>
            <p:cNvPr id="478" name=""/>
            <p:cNvSpPr/>
            <p:nvPr/>
          </p:nvSpPr>
          <p:spPr>
            <a:xfrm>
              <a:off x="3798000" y="5027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87560" y="58777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4276800" y="5031720"/>
              <a:ext cx="378720" cy="841320"/>
              <a:chOff x="4276800" y="5031720"/>
              <a:chExt cx="378720" cy="841320"/>
            </a:xfrm>
          </p:grpSpPr>
          <p:sp>
            <p:nvSpPr>
              <p:cNvPr id="481" name=""/>
              <p:cNvSpPr/>
              <p:nvPr/>
            </p:nvSpPr>
            <p:spPr>
              <a:xfrm>
                <a:off x="4276800" y="5031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4277520" y="545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3435480" y="5036040"/>
              <a:ext cx="378720" cy="841320"/>
              <a:chOff x="3435480" y="5036040"/>
              <a:chExt cx="378720" cy="84132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3436200" y="5036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 flipV="1">
                <a:off x="3435480" y="5457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6" name=""/>
          <p:cNvGrpSpPr/>
          <p:nvPr/>
        </p:nvGrpSpPr>
        <p:grpSpPr>
          <a:xfrm>
            <a:off x="2592720" y="4611240"/>
            <a:ext cx="1219680" cy="850320"/>
            <a:chOff x="2592720" y="4611240"/>
            <a:chExt cx="1219680" cy="850320"/>
          </a:xfrm>
        </p:grpSpPr>
        <p:sp>
          <p:nvSpPr>
            <p:cNvPr id="487" name=""/>
            <p:cNvSpPr/>
            <p:nvPr/>
          </p:nvSpPr>
          <p:spPr>
            <a:xfrm>
              <a:off x="2955240" y="4611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944440" y="546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3434040" y="4615920"/>
              <a:ext cx="378360" cy="840240"/>
              <a:chOff x="3434040" y="4615920"/>
              <a:chExt cx="378360" cy="840240"/>
            </a:xfrm>
          </p:grpSpPr>
          <p:sp>
            <p:nvSpPr>
              <p:cNvPr id="490" name=""/>
              <p:cNvSpPr/>
              <p:nvPr/>
            </p:nvSpPr>
            <p:spPr>
              <a:xfrm>
                <a:off x="3434040" y="4615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3434760" y="503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2592720" y="4620240"/>
              <a:ext cx="378360" cy="840240"/>
              <a:chOff x="2592720" y="4620240"/>
              <a:chExt cx="378360" cy="84024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2593440" y="462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 flipV="1">
                <a:off x="2592720" y="504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3430800" y="4179240"/>
            <a:ext cx="1220040" cy="850680"/>
            <a:chOff x="3430800" y="4179240"/>
            <a:chExt cx="1220040" cy="850680"/>
          </a:xfrm>
        </p:grpSpPr>
        <p:sp>
          <p:nvSpPr>
            <p:cNvPr id="496" name=""/>
            <p:cNvSpPr/>
            <p:nvPr/>
          </p:nvSpPr>
          <p:spPr>
            <a:xfrm>
              <a:off x="3793320" y="41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82880" y="50299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272120" y="4183920"/>
              <a:ext cx="378720" cy="841320"/>
              <a:chOff x="4272120" y="4183920"/>
              <a:chExt cx="378720" cy="841320"/>
            </a:xfrm>
          </p:grpSpPr>
          <p:sp>
            <p:nvSpPr>
              <p:cNvPr id="499" name=""/>
              <p:cNvSpPr/>
              <p:nvPr/>
            </p:nvSpPr>
            <p:spPr>
              <a:xfrm>
                <a:off x="4272120" y="41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4272840" y="46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"/>
            <p:cNvGrpSpPr/>
            <p:nvPr/>
          </p:nvGrpSpPr>
          <p:grpSpPr>
            <a:xfrm>
              <a:off x="3430800" y="4188240"/>
              <a:ext cx="378720" cy="841320"/>
              <a:chOff x="3430800" y="4188240"/>
              <a:chExt cx="378720" cy="841320"/>
            </a:xfrm>
          </p:grpSpPr>
          <p:sp>
            <p:nvSpPr>
              <p:cNvPr id="502" name=""/>
              <p:cNvSpPr/>
              <p:nvPr/>
            </p:nvSpPr>
            <p:spPr>
              <a:xfrm flipH="1">
                <a:off x="3431520" y="41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 flipV="1">
                <a:off x="3430800" y="46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4" name=""/>
          <p:cNvGrpSpPr/>
          <p:nvPr/>
        </p:nvGrpSpPr>
        <p:grpSpPr>
          <a:xfrm>
            <a:off x="911520" y="5477760"/>
            <a:ext cx="1220040" cy="850680"/>
            <a:chOff x="911520" y="5477760"/>
            <a:chExt cx="1220040" cy="850680"/>
          </a:xfrm>
        </p:grpSpPr>
        <p:sp>
          <p:nvSpPr>
            <p:cNvPr id="505" name=""/>
            <p:cNvSpPr/>
            <p:nvPr/>
          </p:nvSpPr>
          <p:spPr>
            <a:xfrm>
              <a:off x="1274040" y="54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263600" y="6328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1752840" y="5482440"/>
              <a:ext cx="378720" cy="841320"/>
              <a:chOff x="1752840" y="5482440"/>
              <a:chExt cx="378720" cy="841320"/>
            </a:xfrm>
          </p:grpSpPr>
          <p:sp>
            <p:nvSpPr>
              <p:cNvPr id="508" name=""/>
              <p:cNvSpPr/>
              <p:nvPr/>
            </p:nvSpPr>
            <p:spPr>
              <a:xfrm>
                <a:off x="1752840" y="54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1753560" y="59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"/>
            <p:cNvGrpSpPr/>
            <p:nvPr/>
          </p:nvGrpSpPr>
          <p:grpSpPr>
            <a:xfrm>
              <a:off x="911520" y="5486760"/>
              <a:ext cx="378720" cy="841320"/>
              <a:chOff x="911520" y="5486760"/>
              <a:chExt cx="378720" cy="841320"/>
            </a:xfrm>
          </p:grpSpPr>
          <p:sp>
            <p:nvSpPr>
              <p:cNvPr id="511" name=""/>
              <p:cNvSpPr/>
              <p:nvPr/>
            </p:nvSpPr>
            <p:spPr>
              <a:xfrm flipH="1">
                <a:off x="912240" y="54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 flipV="1">
                <a:off x="911520" y="59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3" name=""/>
          <p:cNvGrpSpPr/>
          <p:nvPr/>
        </p:nvGrpSpPr>
        <p:grpSpPr>
          <a:xfrm>
            <a:off x="1749600" y="5046120"/>
            <a:ext cx="1220040" cy="850680"/>
            <a:chOff x="1749600" y="5046120"/>
            <a:chExt cx="1220040" cy="850680"/>
          </a:xfrm>
        </p:grpSpPr>
        <p:sp>
          <p:nvSpPr>
            <p:cNvPr id="514" name=""/>
            <p:cNvSpPr/>
            <p:nvPr/>
          </p:nvSpPr>
          <p:spPr>
            <a:xfrm>
              <a:off x="2112120" y="50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01680" y="589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2590920" y="5050800"/>
              <a:ext cx="378720" cy="841320"/>
              <a:chOff x="2590920" y="5050800"/>
              <a:chExt cx="378720" cy="841320"/>
            </a:xfrm>
          </p:grpSpPr>
          <p:sp>
            <p:nvSpPr>
              <p:cNvPr id="517" name=""/>
              <p:cNvSpPr/>
              <p:nvPr/>
            </p:nvSpPr>
            <p:spPr>
              <a:xfrm>
                <a:off x="2590920" y="5050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2591640" y="5472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"/>
            <p:cNvGrpSpPr/>
            <p:nvPr/>
          </p:nvGrpSpPr>
          <p:grpSpPr>
            <a:xfrm>
              <a:off x="1749600" y="5055120"/>
              <a:ext cx="378720" cy="841320"/>
              <a:chOff x="1749600" y="5055120"/>
              <a:chExt cx="378720" cy="841320"/>
            </a:xfrm>
          </p:grpSpPr>
          <p:sp>
            <p:nvSpPr>
              <p:cNvPr id="520" name=""/>
              <p:cNvSpPr/>
              <p:nvPr/>
            </p:nvSpPr>
            <p:spPr>
              <a:xfrm flipH="1">
                <a:off x="1750320" y="5055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 flipV="1">
                <a:off x="1749600" y="5476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2" name=""/>
          <p:cNvGrpSpPr/>
          <p:nvPr/>
        </p:nvGrpSpPr>
        <p:grpSpPr>
          <a:xfrm>
            <a:off x="906840" y="4630320"/>
            <a:ext cx="1219680" cy="850320"/>
            <a:chOff x="906840" y="4630320"/>
            <a:chExt cx="1219680" cy="850320"/>
          </a:xfrm>
        </p:grpSpPr>
        <p:sp>
          <p:nvSpPr>
            <p:cNvPr id="523" name=""/>
            <p:cNvSpPr/>
            <p:nvPr/>
          </p:nvSpPr>
          <p:spPr>
            <a:xfrm>
              <a:off x="1269360" y="463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258560" y="548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1748160" y="4635000"/>
              <a:ext cx="378360" cy="840240"/>
              <a:chOff x="1748160" y="4635000"/>
              <a:chExt cx="378360" cy="840240"/>
            </a:xfrm>
          </p:grpSpPr>
          <p:sp>
            <p:nvSpPr>
              <p:cNvPr id="526" name=""/>
              <p:cNvSpPr/>
              <p:nvPr/>
            </p:nvSpPr>
            <p:spPr>
              <a:xfrm>
                <a:off x="1748160" y="4635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1748880" y="50558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906840" y="4639320"/>
              <a:ext cx="378360" cy="840240"/>
              <a:chOff x="906840" y="4639320"/>
              <a:chExt cx="378360" cy="84024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907560" y="463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 flipV="1">
                <a:off x="906840" y="506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1" name=""/>
          <p:cNvGrpSpPr/>
          <p:nvPr/>
        </p:nvGrpSpPr>
        <p:grpSpPr>
          <a:xfrm>
            <a:off x="1744920" y="4198320"/>
            <a:ext cx="1220040" cy="850680"/>
            <a:chOff x="1744920" y="4198320"/>
            <a:chExt cx="1220040" cy="850680"/>
          </a:xfrm>
        </p:grpSpPr>
        <p:sp>
          <p:nvSpPr>
            <p:cNvPr id="532" name=""/>
            <p:cNvSpPr/>
            <p:nvPr/>
          </p:nvSpPr>
          <p:spPr>
            <a:xfrm>
              <a:off x="2107440" y="4198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097000" y="504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4" name=""/>
            <p:cNvGrpSpPr/>
            <p:nvPr/>
          </p:nvGrpSpPr>
          <p:grpSpPr>
            <a:xfrm>
              <a:off x="2586240" y="4203000"/>
              <a:ext cx="378720" cy="841320"/>
              <a:chOff x="2586240" y="4203000"/>
              <a:chExt cx="378720" cy="841320"/>
            </a:xfrm>
          </p:grpSpPr>
          <p:sp>
            <p:nvSpPr>
              <p:cNvPr id="535" name=""/>
              <p:cNvSpPr/>
              <p:nvPr/>
            </p:nvSpPr>
            <p:spPr>
              <a:xfrm>
                <a:off x="2586240" y="420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2586960" y="4624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"/>
            <p:cNvGrpSpPr/>
            <p:nvPr/>
          </p:nvGrpSpPr>
          <p:grpSpPr>
            <a:xfrm>
              <a:off x="1744920" y="4207320"/>
              <a:ext cx="378720" cy="841320"/>
              <a:chOff x="1744920" y="4207320"/>
              <a:chExt cx="378720" cy="841320"/>
            </a:xfrm>
          </p:grpSpPr>
          <p:sp>
            <p:nvSpPr>
              <p:cNvPr id="538" name=""/>
              <p:cNvSpPr/>
              <p:nvPr/>
            </p:nvSpPr>
            <p:spPr>
              <a:xfrm flipH="1">
                <a:off x="1745640" y="420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 flipV="1">
                <a:off x="1744920" y="462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2592720" y="3768120"/>
            <a:ext cx="1219680" cy="850680"/>
            <a:chOff x="2592720" y="3768120"/>
            <a:chExt cx="1219680" cy="850680"/>
          </a:xfrm>
        </p:grpSpPr>
        <p:sp>
          <p:nvSpPr>
            <p:cNvPr id="541" name=""/>
            <p:cNvSpPr/>
            <p:nvPr/>
          </p:nvSpPr>
          <p:spPr>
            <a:xfrm>
              <a:off x="2955240" y="3768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2944440" y="46188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3" name=""/>
            <p:cNvGrpSpPr/>
            <p:nvPr/>
          </p:nvGrpSpPr>
          <p:grpSpPr>
            <a:xfrm>
              <a:off x="3433680" y="3772800"/>
              <a:ext cx="378720" cy="841320"/>
              <a:chOff x="3433680" y="3772800"/>
              <a:chExt cx="378720" cy="841320"/>
            </a:xfrm>
          </p:grpSpPr>
          <p:sp>
            <p:nvSpPr>
              <p:cNvPr id="544" name=""/>
              <p:cNvSpPr/>
              <p:nvPr/>
            </p:nvSpPr>
            <p:spPr>
              <a:xfrm>
                <a:off x="3433680" y="3772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3434400" y="4194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2592720" y="3777120"/>
              <a:ext cx="378720" cy="841320"/>
              <a:chOff x="2592720" y="3777120"/>
              <a:chExt cx="378720" cy="841320"/>
            </a:xfrm>
          </p:grpSpPr>
          <p:sp>
            <p:nvSpPr>
              <p:cNvPr id="547" name=""/>
              <p:cNvSpPr/>
              <p:nvPr/>
            </p:nvSpPr>
            <p:spPr>
              <a:xfrm flipH="1">
                <a:off x="2593440" y="377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 flipV="1">
                <a:off x="2592720" y="4198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9" name=""/>
          <p:cNvGrpSpPr/>
          <p:nvPr/>
        </p:nvGrpSpPr>
        <p:grpSpPr>
          <a:xfrm>
            <a:off x="3430800" y="3336480"/>
            <a:ext cx="1220040" cy="850320"/>
            <a:chOff x="3430800" y="3336480"/>
            <a:chExt cx="1220040" cy="850320"/>
          </a:xfrm>
        </p:grpSpPr>
        <p:sp>
          <p:nvSpPr>
            <p:cNvPr id="550" name=""/>
            <p:cNvSpPr/>
            <p:nvPr/>
          </p:nvSpPr>
          <p:spPr>
            <a:xfrm>
              <a:off x="3793320" y="333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782880" y="4186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4272480" y="3341160"/>
              <a:ext cx="378360" cy="840240"/>
              <a:chOff x="4272480" y="3341160"/>
              <a:chExt cx="378360" cy="840240"/>
            </a:xfrm>
          </p:grpSpPr>
          <p:sp>
            <p:nvSpPr>
              <p:cNvPr id="553" name=""/>
              <p:cNvSpPr/>
              <p:nvPr/>
            </p:nvSpPr>
            <p:spPr>
              <a:xfrm>
                <a:off x="4272480" y="3341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4273200" y="3762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3430800" y="3345480"/>
              <a:ext cx="378360" cy="840240"/>
              <a:chOff x="3430800" y="3345480"/>
              <a:chExt cx="378360" cy="840240"/>
            </a:xfrm>
          </p:grpSpPr>
          <p:sp>
            <p:nvSpPr>
              <p:cNvPr id="556" name=""/>
              <p:cNvSpPr/>
              <p:nvPr/>
            </p:nvSpPr>
            <p:spPr>
              <a:xfrm flipH="1">
                <a:off x="3431520" y="3345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 flipV="1">
                <a:off x="3430800" y="3766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" name=""/>
          <p:cNvGrpSpPr/>
          <p:nvPr/>
        </p:nvGrpSpPr>
        <p:grpSpPr>
          <a:xfrm>
            <a:off x="2588040" y="2920320"/>
            <a:ext cx="1219680" cy="850680"/>
            <a:chOff x="2588040" y="2920320"/>
            <a:chExt cx="1219680" cy="850680"/>
          </a:xfrm>
        </p:grpSpPr>
        <p:sp>
          <p:nvSpPr>
            <p:cNvPr id="559" name=""/>
            <p:cNvSpPr/>
            <p:nvPr/>
          </p:nvSpPr>
          <p:spPr>
            <a:xfrm>
              <a:off x="2950560" y="2920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939760" y="3771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3429000" y="2925000"/>
              <a:ext cx="378720" cy="841320"/>
              <a:chOff x="3429000" y="2925000"/>
              <a:chExt cx="378720" cy="841320"/>
            </a:xfrm>
          </p:grpSpPr>
          <p:sp>
            <p:nvSpPr>
              <p:cNvPr id="562" name=""/>
              <p:cNvSpPr/>
              <p:nvPr/>
            </p:nvSpPr>
            <p:spPr>
              <a:xfrm>
                <a:off x="3429000" y="292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V="1">
                <a:off x="3429720" y="3346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2588040" y="2929320"/>
              <a:ext cx="378720" cy="841320"/>
              <a:chOff x="2588040" y="2929320"/>
              <a:chExt cx="378720" cy="841320"/>
            </a:xfrm>
          </p:grpSpPr>
          <p:sp>
            <p:nvSpPr>
              <p:cNvPr id="565" name=""/>
              <p:cNvSpPr/>
              <p:nvPr/>
            </p:nvSpPr>
            <p:spPr>
              <a:xfrm flipH="1">
                <a:off x="2588760" y="292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2588040" y="335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3426120" y="2488680"/>
            <a:ext cx="1220040" cy="850320"/>
            <a:chOff x="3426120" y="2488680"/>
            <a:chExt cx="1220040" cy="850320"/>
          </a:xfrm>
        </p:grpSpPr>
        <p:sp>
          <p:nvSpPr>
            <p:cNvPr id="568" name=""/>
            <p:cNvSpPr/>
            <p:nvPr/>
          </p:nvSpPr>
          <p:spPr>
            <a:xfrm>
              <a:off x="3788640" y="24886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78200" y="33390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4267800" y="2493360"/>
              <a:ext cx="378360" cy="840240"/>
              <a:chOff x="4267800" y="2493360"/>
              <a:chExt cx="378360" cy="840240"/>
            </a:xfrm>
          </p:grpSpPr>
          <p:sp>
            <p:nvSpPr>
              <p:cNvPr id="571" name=""/>
              <p:cNvSpPr/>
              <p:nvPr/>
            </p:nvSpPr>
            <p:spPr>
              <a:xfrm>
                <a:off x="4267800" y="24933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268520" y="2914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426120" y="2497680"/>
              <a:ext cx="378360" cy="840240"/>
              <a:chOff x="3426120" y="2497680"/>
              <a:chExt cx="378360" cy="84024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426840" y="24976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 flipV="1">
                <a:off x="3426120" y="29185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6" name=""/>
          <p:cNvGrpSpPr/>
          <p:nvPr/>
        </p:nvGrpSpPr>
        <p:grpSpPr>
          <a:xfrm>
            <a:off x="906840" y="3787200"/>
            <a:ext cx="1219680" cy="850680"/>
            <a:chOff x="906840" y="3787200"/>
            <a:chExt cx="1219680" cy="850680"/>
          </a:xfrm>
        </p:grpSpPr>
        <p:sp>
          <p:nvSpPr>
            <p:cNvPr id="577" name=""/>
            <p:cNvSpPr/>
            <p:nvPr/>
          </p:nvSpPr>
          <p:spPr>
            <a:xfrm>
              <a:off x="1269360" y="37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258560" y="4637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9" name=""/>
            <p:cNvGrpSpPr/>
            <p:nvPr/>
          </p:nvGrpSpPr>
          <p:grpSpPr>
            <a:xfrm>
              <a:off x="1747800" y="3791880"/>
              <a:ext cx="378720" cy="841320"/>
              <a:chOff x="1747800" y="3791880"/>
              <a:chExt cx="378720" cy="841320"/>
            </a:xfrm>
          </p:grpSpPr>
          <p:sp>
            <p:nvSpPr>
              <p:cNvPr id="580" name=""/>
              <p:cNvSpPr/>
              <p:nvPr/>
            </p:nvSpPr>
            <p:spPr>
              <a:xfrm>
                <a:off x="1747800" y="3791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1748520" y="421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906840" y="3796200"/>
              <a:ext cx="378720" cy="841320"/>
              <a:chOff x="906840" y="3796200"/>
              <a:chExt cx="378720" cy="841320"/>
            </a:xfrm>
          </p:grpSpPr>
          <p:sp>
            <p:nvSpPr>
              <p:cNvPr id="583" name=""/>
              <p:cNvSpPr/>
              <p:nvPr/>
            </p:nvSpPr>
            <p:spPr>
              <a:xfrm flipH="1">
                <a:off x="907560" y="379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 flipV="1">
                <a:off x="906840" y="421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5" name=""/>
          <p:cNvGrpSpPr/>
          <p:nvPr/>
        </p:nvGrpSpPr>
        <p:grpSpPr>
          <a:xfrm>
            <a:off x="1744920" y="3355560"/>
            <a:ext cx="1220040" cy="850320"/>
            <a:chOff x="1744920" y="3355560"/>
            <a:chExt cx="1220040" cy="850320"/>
          </a:xfrm>
        </p:grpSpPr>
        <p:sp>
          <p:nvSpPr>
            <p:cNvPr id="586" name=""/>
            <p:cNvSpPr/>
            <p:nvPr/>
          </p:nvSpPr>
          <p:spPr>
            <a:xfrm>
              <a:off x="2107440" y="335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097000" y="42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2586600" y="3360240"/>
              <a:ext cx="378360" cy="840240"/>
              <a:chOff x="2586600" y="3360240"/>
              <a:chExt cx="378360" cy="840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586600" y="336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2587320" y="378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744920" y="3364560"/>
              <a:ext cx="378360" cy="840240"/>
              <a:chOff x="1744920" y="3364560"/>
              <a:chExt cx="378360" cy="840240"/>
            </a:xfrm>
          </p:grpSpPr>
          <p:sp>
            <p:nvSpPr>
              <p:cNvPr id="592" name=""/>
              <p:cNvSpPr/>
              <p:nvPr/>
            </p:nvSpPr>
            <p:spPr>
              <a:xfrm flipH="1">
                <a:off x="1745640" y="336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 flipV="1">
                <a:off x="1744920" y="378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4" name=""/>
          <p:cNvGrpSpPr/>
          <p:nvPr/>
        </p:nvGrpSpPr>
        <p:grpSpPr>
          <a:xfrm>
            <a:off x="901800" y="2939400"/>
            <a:ext cx="1220040" cy="850680"/>
            <a:chOff x="901800" y="2939400"/>
            <a:chExt cx="1220040" cy="850680"/>
          </a:xfrm>
        </p:grpSpPr>
        <p:sp>
          <p:nvSpPr>
            <p:cNvPr id="595" name=""/>
            <p:cNvSpPr/>
            <p:nvPr/>
          </p:nvSpPr>
          <p:spPr>
            <a:xfrm>
              <a:off x="1264320" y="29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3880" y="37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743120" y="2944080"/>
              <a:ext cx="378720" cy="841320"/>
              <a:chOff x="1743120" y="2944080"/>
              <a:chExt cx="378720" cy="841320"/>
            </a:xfrm>
          </p:grpSpPr>
          <p:sp>
            <p:nvSpPr>
              <p:cNvPr id="598" name=""/>
              <p:cNvSpPr/>
              <p:nvPr/>
            </p:nvSpPr>
            <p:spPr>
              <a:xfrm>
                <a:off x="1743120" y="29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743840" y="33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901800" y="2948400"/>
              <a:ext cx="378720" cy="841320"/>
              <a:chOff x="901800" y="2948400"/>
              <a:chExt cx="378720" cy="841320"/>
            </a:xfrm>
          </p:grpSpPr>
          <p:sp>
            <p:nvSpPr>
              <p:cNvPr id="601" name=""/>
              <p:cNvSpPr/>
              <p:nvPr/>
            </p:nvSpPr>
            <p:spPr>
              <a:xfrm flipH="1">
                <a:off x="902520" y="29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 flipV="1">
                <a:off x="901800" y="33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3" name=""/>
          <p:cNvGrpSpPr/>
          <p:nvPr/>
        </p:nvGrpSpPr>
        <p:grpSpPr>
          <a:xfrm>
            <a:off x="1740240" y="2507760"/>
            <a:ext cx="1219680" cy="850320"/>
            <a:chOff x="1740240" y="2507760"/>
            <a:chExt cx="1219680" cy="850320"/>
          </a:xfrm>
        </p:grpSpPr>
        <p:sp>
          <p:nvSpPr>
            <p:cNvPr id="604" name=""/>
            <p:cNvSpPr/>
            <p:nvPr/>
          </p:nvSpPr>
          <p:spPr>
            <a:xfrm>
              <a:off x="2102760" y="250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091960" y="33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" name=""/>
            <p:cNvGrpSpPr/>
            <p:nvPr/>
          </p:nvGrpSpPr>
          <p:grpSpPr>
            <a:xfrm>
              <a:off x="2581560" y="2512440"/>
              <a:ext cx="378360" cy="840240"/>
              <a:chOff x="2581560" y="2512440"/>
              <a:chExt cx="378360" cy="840240"/>
            </a:xfrm>
          </p:grpSpPr>
          <p:sp>
            <p:nvSpPr>
              <p:cNvPr id="607" name=""/>
              <p:cNvSpPr/>
              <p:nvPr/>
            </p:nvSpPr>
            <p:spPr>
              <a:xfrm>
                <a:off x="2581560" y="2512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582280" y="2933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1740240" y="2516760"/>
              <a:ext cx="378360" cy="840240"/>
              <a:chOff x="1740240" y="2516760"/>
              <a:chExt cx="378360" cy="840240"/>
            </a:xfrm>
          </p:grpSpPr>
          <p:sp>
            <p:nvSpPr>
              <p:cNvPr id="610" name=""/>
              <p:cNvSpPr/>
              <p:nvPr/>
            </p:nvSpPr>
            <p:spPr>
              <a:xfrm flipH="1">
                <a:off x="1740960" y="2516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 flipV="1">
                <a:off x="1740240" y="293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2" name=""/>
          <p:cNvGrpSpPr/>
          <p:nvPr/>
        </p:nvGrpSpPr>
        <p:grpSpPr>
          <a:xfrm>
            <a:off x="5964480" y="5425560"/>
            <a:ext cx="1220040" cy="850320"/>
            <a:chOff x="5964480" y="5425560"/>
            <a:chExt cx="1220040" cy="850320"/>
          </a:xfrm>
        </p:grpSpPr>
        <p:sp>
          <p:nvSpPr>
            <p:cNvPr id="613" name=""/>
            <p:cNvSpPr/>
            <p:nvPr/>
          </p:nvSpPr>
          <p:spPr>
            <a:xfrm>
              <a:off x="6327000" y="5425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316560" y="627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5" name=""/>
            <p:cNvGrpSpPr/>
            <p:nvPr/>
          </p:nvGrpSpPr>
          <p:grpSpPr>
            <a:xfrm>
              <a:off x="6806160" y="5430240"/>
              <a:ext cx="378360" cy="840240"/>
              <a:chOff x="6806160" y="5430240"/>
              <a:chExt cx="378360" cy="840240"/>
            </a:xfrm>
          </p:grpSpPr>
          <p:sp>
            <p:nvSpPr>
              <p:cNvPr id="616" name=""/>
              <p:cNvSpPr/>
              <p:nvPr/>
            </p:nvSpPr>
            <p:spPr>
              <a:xfrm>
                <a:off x="6806160" y="5430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6806880" y="58510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5964480" y="5434560"/>
              <a:ext cx="378360" cy="840240"/>
              <a:chOff x="5964480" y="5434560"/>
              <a:chExt cx="378360" cy="840240"/>
            </a:xfrm>
          </p:grpSpPr>
          <p:sp>
            <p:nvSpPr>
              <p:cNvPr id="619" name=""/>
              <p:cNvSpPr/>
              <p:nvPr/>
            </p:nvSpPr>
            <p:spPr>
              <a:xfrm flipH="1">
                <a:off x="5965200" y="5434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 flipV="1">
                <a:off x="5964480" y="585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1" name=""/>
          <p:cNvGrpSpPr/>
          <p:nvPr/>
        </p:nvGrpSpPr>
        <p:grpSpPr>
          <a:xfrm>
            <a:off x="6802560" y="4993560"/>
            <a:ext cx="1220040" cy="850680"/>
            <a:chOff x="6802560" y="4993560"/>
            <a:chExt cx="1220040" cy="850680"/>
          </a:xfrm>
        </p:grpSpPr>
        <p:sp>
          <p:nvSpPr>
            <p:cNvPr id="622" name=""/>
            <p:cNvSpPr/>
            <p:nvPr/>
          </p:nvSpPr>
          <p:spPr>
            <a:xfrm>
              <a:off x="7165080" y="4993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54640" y="5844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4" name=""/>
            <p:cNvGrpSpPr/>
            <p:nvPr/>
          </p:nvGrpSpPr>
          <p:grpSpPr>
            <a:xfrm>
              <a:off x="7643880" y="4998240"/>
              <a:ext cx="378720" cy="841320"/>
              <a:chOff x="7643880" y="4998240"/>
              <a:chExt cx="378720" cy="841320"/>
            </a:xfrm>
          </p:grpSpPr>
          <p:sp>
            <p:nvSpPr>
              <p:cNvPr id="625" name=""/>
              <p:cNvSpPr/>
              <p:nvPr/>
            </p:nvSpPr>
            <p:spPr>
              <a:xfrm>
                <a:off x="7643880" y="499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7644600" y="541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6802560" y="5002560"/>
              <a:ext cx="378720" cy="841320"/>
              <a:chOff x="6802560" y="5002560"/>
              <a:chExt cx="378720" cy="841320"/>
            </a:xfrm>
          </p:grpSpPr>
          <p:sp>
            <p:nvSpPr>
              <p:cNvPr id="628" name=""/>
              <p:cNvSpPr/>
              <p:nvPr/>
            </p:nvSpPr>
            <p:spPr>
              <a:xfrm flipH="1">
                <a:off x="6803280" y="5002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 flipV="1">
                <a:off x="6802560" y="5424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"/>
          <p:cNvGrpSpPr/>
          <p:nvPr/>
        </p:nvGrpSpPr>
        <p:grpSpPr>
          <a:xfrm>
            <a:off x="5959800" y="4577760"/>
            <a:ext cx="1219680" cy="850680"/>
            <a:chOff x="5959800" y="4577760"/>
            <a:chExt cx="1219680" cy="850680"/>
          </a:xfrm>
        </p:grpSpPr>
        <p:sp>
          <p:nvSpPr>
            <p:cNvPr id="631" name=""/>
            <p:cNvSpPr/>
            <p:nvPr/>
          </p:nvSpPr>
          <p:spPr>
            <a:xfrm>
              <a:off x="6322320" y="4577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11520" y="5428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6800760" y="4582440"/>
              <a:ext cx="378720" cy="841320"/>
              <a:chOff x="6800760" y="4582440"/>
              <a:chExt cx="378720" cy="841320"/>
            </a:xfrm>
          </p:grpSpPr>
          <p:sp>
            <p:nvSpPr>
              <p:cNvPr id="634" name=""/>
              <p:cNvSpPr/>
              <p:nvPr/>
            </p:nvSpPr>
            <p:spPr>
              <a:xfrm>
                <a:off x="6800760" y="4582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6801480" y="5004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959800" y="4586760"/>
              <a:ext cx="378720" cy="841320"/>
              <a:chOff x="5959800" y="4586760"/>
              <a:chExt cx="378720" cy="841320"/>
            </a:xfrm>
          </p:grpSpPr>
          <p:sp>
            <p:nvSpPr>
              <p:cNvPr id="637" name=""/>
              <p:cNvSpPr/>
              <p:nvPr/>
            </p:nvSpPr>
            <p:spPr>
              <a:xfrm flipH="1">
                <a:off x="5960520" y="458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 flipV="1">
                <a:off x="5959800" y="500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" name=""/>
          <p:cNvGrpSpPr/>
          <p:nvPr/>
        </p:nvGrpSpPr>
        <p:grpSpPr>
          <a:xfrm>
            <a:off x="6797880" y="4146120"/>
            <a:ext cx="1220040" cy="850320"/>
            <a:chOff x="6797880" y="4146120"/>
            <a:chExt cx="1220040" cy="850320"/>
          </a:xfrm>
        </p:grpSpPr>
        <p:sp>
          <p:nvSpPr>
            <p:cNvPr id="640" name=""/>
            <p:cNvSpPr/>
            <p:nvPr/>
          </p:nvSpPr>
          <p:spPr>
            <a:xfrm>
              <a:off x="7160400" y="41461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149960" y="4996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7639560" y="4150800"/>
              <a:ext cx="378360" cy="840240"/>
              <a:chOff x="7639560" y="4150800"/>
              <a:chExt cx="378360" cy="840240"/>
            </a:xfrm>
          </p:grpSpPr>
          <p:sp>
            <p:nvSpPr>
              <p:cNvPr id="643" name=""/>
              <p:cNvSpPr/>
              <p:nvPr/>
            </p:nvSpPr>
            <p:spPr>
              <a:xfrm>
                <a:off x="7639560" y="4150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7640280" y="4571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6797880" y="4155120"/>
              <a:ext cx="378360" cy="840240"/>
              <a:chOff x="6797880" y="4155120"/>
              <a:chExt cx="378360" cy="840240"/>
            </a:xfrm>
          </p:grpSpPr>
          <p:sp>
            <p:nvSpPr>
              <p:cNvPr id="646" name=""/>
              <p:cNvSpPr/>
              <p:nvPr/>
            </p:nvSpPr>
            <p:spPr>
              <a:xfrm flipH="1">
                <a:off x="6798600" y="4155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 flipV="1">
                <a:off x="6797880" y="4575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"/>
          <p:cNvGrpSpPr/>
          <p:nvPr/>
        </p:nvGrpSpPr>
        <p:grpSpPr>
          <a:xfrm>
            <a:off x="4278600" y="5444640"/>
            <a:ext cx="1220040" cy="850320"/>
            <a:chOff x="4278600" y="5444640"/>
            <a:chExt cx="1220040" cy="850320"/>
          </a:xfrm>
        </p:grpSpPr>
        <p:sp>
          <p:nvSpPr>
            <p:cNvPr id="649" name=""/>
            <p:cNvSpPr/>
            <p:nvPr/>
          </p:nvSpPr>
          <p:spPr>
            <a:xfrm>
              <a:off x="4641120" y="544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630680" y="62949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"/>
            <p:cNvGrpSpPr/>
            <p:nvPr/>
          </p:nvGrpSpPr>
          <p:grpSpPr>
            <a:xfrm>
              <a:off x="5120280" y="5449320"/>
              <a:ext cx="378360" cy="840240"/>
              <a:chOff x="5120280" y="5449320"/>
              <a:chExt cx="378360" cy="840240"/>
            </a:xfrm>
          </p:grpSpPr>
          <p:sp>
            <p:nvSpPr>
              <p:cNvPr id="652" name=""/>
              <p:cNvSpPr/>
              <p:nvPr/>
            </p:nvSpPr>
            <p:spPr>
              <a:xfrm>
                <a:off x="5120280" y="5449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121000" y="5870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4278600" y="5453640"/>
              <a:ext cx="378360" cy="840240"/>
              <a:chOff x="4278600" y="5453640"/>
              <a:chExt cx="378360" cy="840240"/>
            </a:xfrm>
          </p:grpSpPr>
          <p:sp>
            <p:nvSpPr>
              <p:cNvPr id="655" name=""/>
              <p:cNvSpPr/>
              <p:nvPr/>
            </p:nvSpPr>
            <p:spPr>
              <a:xfrm flipH="1">
                <a:off x="4279320" y="54536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 flipV="1">
                <a:off x="4278600" y="5874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7" name=""/>
          <p:cNvGrpSpPr/>
          <p:nvPr/>
        </p:nvGrpSpPr>
        <p:grpSpPr>
          <a:xfrm>
            <a:off x="5116680" y="5012640"/>
            <a:ext cx="1220040" cy="850680"/>
            <a:chOff x="5116680" y="5012640"/>
            <a:chExt cx="1220040" cy="850680"/>
          </a:xfrm>
        </p:grpSpPr>
        <p:sp>
          <p:nvSpPr>
            <p:cNvPr id="658" name=""/>
            <p:cNvSpPr/>
            <p:nvPr/>
          </p:nvSpPr>
          <p:spPr>
            <a:xfrm>
              <a:off x="5479200" y="5012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468760" y="58633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5958000" y="5017320"/>
              <a:ext cx="378720" cy="841320"/>
              <a:chOff x="5958000" y="5017320"/>
              <a:chExt cx="378720" cy="841320"/>
            </a:xfrm>
          </p:grpSpPr>
          <p:sp>
            <p:nvSpPr>
              <p:cNvPr id="661" name=""/>
              <p:cNvSpPr/>
              <p:nvPr/>
            </p:nvSpPr>
            <p:spPr>
              <a:xfrm>
                <a:off x="5958000" y="501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958720" y="5438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116680" y="5021640"/>
              <a:ext cx="378720" cy="841320"/>
              <a:chOff x="5116680" y="5021640"/>
              <a:chExt cx="378720" cy="84132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5117400" y="5021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 flipV="1">
                <a:off x="5116680" y="5443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6" name=""/>
          <p:cNvGrpSpPr/>
          <p:nvPr/>
        </p:nvGrpSpPr>
        <p:grpSpPr>
          <a:xfrm>
            <a:off x="4273920" y="4596840"/>
            <a:ext cx="1219680" cy="850680"/>
            <a:chOff x="4273920" y="4596840"/>
            <a:chExt cx="1219680" cy="850680"/>
          </a:xfrm>
        </p:grpSpPr>
        <p:sp>
          <p:nvSpPr>
            <p:cNvPr id="667" name=""/>
            <p:cNvSpPr/>
            <p:nvPr/>
          </p:nvSpPr>
          <p:spPr>
            <a:xfrm>
              <a:off x="4636440" y="4596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625640" y="544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5114880" y="4601520"/>
              <a:ext cx="378720" cy="841320"/>
              <a:chOff x="5114880" y="4601520"/>
              <a:chExt cx="378720" cy="841320"/>
            </a:xfrm>
          </p:grpSpPr>
          <p:sp>
            <p:nvSpPr>
              <p:cNvPr id="670" name=""/>
              <p:cNvSpPr/>
              <p:nvPr/>
            </p:nvSpPr>
            <p:spPr>
              <a:xfrm>
                <a:off x="5114880" y="460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115600" y="502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4273920" y="4605840"/>
              <a:ext cx="378720" cy="841320"/>
              <a:chOff x="4273920" y="4605840"/>
              <a:chExt cx="378720" cy="841320"/>
            </a:xfrm>
          </p:grpSpPr>
          <p:sp>
            <p:nvSpPr>
              <p:cNvPr id="673" name=""/>
              <p:cNvSpPr/>
              <p:nvPr/>
            </p:nvSpPr>
            <p:spPr>
              <a:xfrm flipH="1">
                <a:off x="4274640" y="4605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 flipV="1">
                <a:off x="4273920" y="5027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5" name=""/>
          <p:cNvGrpSpPr/>
          <p:nvPr/>
        </p:nvGrpSpPr>
        <p:grpSpPr>
          <a:xfrm>
            <a:off x="5112000" y="4164840"/>
            <a:ext cx="1220040" cy="850680"/>
            <a:chOff x="5112000" y="4164840"/>
            <a:chExt cx="1220040" cy="850680"/>
          </a:xfrm>
        </p:grpSpPr>
        <p:sp>
          <p:nvSpPr>
            <p:cNvPr id="676" name=""/>
            <p:cNvSpPr/>
            <p:nvPr/>
          </p:nvSpPr>
          <p:spPr>
            <a:xfrm>
              <a:off x="5474520" y="41648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64080" y="5015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5953320" y="4169520"/>
              <a:ext cx="378720" cy="841320"/>
              <a:chOff x="5953320" y="4169520"/>
              <a:chExt cx="378720" cy="841320"/>
            </a:xfrm>
          </p:grpSpPr>
          <p:sp>
            <p:nvSpPr>
              <p:cNvPr id="679" name=""/>
              <p:cNvSpPr/>
              <p:nvPr/>
            </p:nvSpPr>
            <p:spPr>
              <a:xfrm>
                <a:off x="5953320" y="4169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954040" y="459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5112000" y="4173840"/>
              <a:ext cx="378720" cy="841320"/>
              <a:chOff x="5112000" y="4173840"/>
              <a:chExt cx="378720" cy="841320"/>
            </a:xfrm>
          </p:grpSpPr>
          <p:sp>
            <p:nvSpPr>
              <p:cNvPr id="682" name=""/>
              <p:cNvSpPr/>
              <p:nvPr/>
            </p:nvSpPr>
            <p:spPr>
              <a:xfrm flipH="1">
                <a:off x="5112720" y="4173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 flipV="1">
                <a:off x="5112000" y="4595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4" name=""/>
          <p:cNvGrpSpPr/>
          <p:nvPr/>
        </p:nvGrpSpPr>
        <p:grpSpPr>
          <a:xfrm>
            <a:off x="5959800" y="3734640"/>
            <a:ext cx="1219680" cy="850680"/>
            <a:chOff x="5959800" y="3734640"/>
            <a:chExt cx="1219680" cy="850680"/>
          </a:xfrm>
        </p:grpSpPr>
        <p:sp>
          <p:nvSpPr>
            <p:cNvPr id="685" name=""/>
            <p:cNvSpPr/>
            <p:nvPr/>
          </p:nvSpPr>
          <p:spPr>
            <a:xfrm>
              <a:off x="6322320" y="3734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311520" y="45853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6800760" y="3739320"/>
              <a:ext cx="378720" cy="841320"/>
              <a:chOff x="6800760" y="3739320"/>
              <a:chExt cx="378720" cy="841320"/>
            </a:xfrm>
          </p:grpSpPr>
          <p:sp>
            <p:nvSpPr>
              <p:cNvPr id="688" name=""/>
              <p:cNvSpPr/>
              <p:nvPr/>
            </p:nvSpPr>
            <p:spPr>
              <a:xfrm>
                <a:off x="6800760" y="373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801480" y="4160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959800" y="3743640"/>
              <a:ext cx="378720" cy="841320"/>
              <a:chOff x="5959800" y="3743640"/>
              <a:chExt cx="378720" cy="841320"/>
            </a:xfrm>
          </p:grpSpPr>
          <p:sp>
            <p:nvSpPr>
              <p:cNvPr id="691" name=""/>
              <p:cNvSpPr/>
              <p:nvPr/>
            </p:nvSpPr>
            <p:spPr>
              <a:xfrm flipH="1">
                <a:off x="5960520" y="374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 flipV="1">
                <a:off x="5959800" y="4165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3" name=""/>
          <p:cNvGrpSpPr/>
          <p:nvPr/>
        </p:nvGrpSpPr>
        <p:grpSpPr>
          <a:xfrm>
            <a:off x="6797880" y="3303000"/>
            <a:ext cx="1220040" cy="850680"/>
            <a:chOff x="6797880" y="3303000"/>
            <a:chExt cx="1220040" cy="850680"/>
          </a:xfrm>
        </p:grpSpPr>
        <p:sp>
          <p:nvSpPr>
            <p:cNvPr id="694" name=""/>
            <p:cNvSpPr/>
            <p:nvPr/>
          </p:nvSpPr>
          <p:spPr>
            <a:xfrm>
              <a:off x="7160400" y="33030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149960" y="41536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6" name=""/>
            <p:cNvGrpSpPr/>
            <p:nvPr/>
          </p:nvGrpSpPr>
          <p:grpSpPr>
            <a:xfrm>
              <a:off x="7639200" y="3307680"/>
              <a:ext cx="378720" cy="841320"/>
              <a:chOff x="7639200" y="3307680"/>
              <a:chExt cx="378720" cy="841320"/>
            </a:xfrm>
          </p:grpSpPr>
          <p:sp>
            <p:nvSpPr>
              <p:cNvPr id="697" name=""/>
              <p:cNvSpPr/>
              <p:nvPr/>
            </p:nvSpPr>
            <p:spPr>
              <a:xfrm>
                <a:off x="7639200" y="33076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7639920" y="3729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6797880" y="3312000"/>
              <a:ext cx="378720" cy="841320"/>
              <a:chOff x="6797880" y="3312000"/>
              <a:chExt cx="378720" cy="841320"/>
            </a:xfrm>
          </p:grpSpPr>
          <p:sp>
            <p:nvSpPr>
              <p:cNvPr id="700" name=""/>
              <p:cNvSpPr/>
              <p:nvPr/>
            </p:nvSpPr>
            <p:spPr>
              <a:xfrm flipH="1">
                <a:off x="6798600" y="3312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 flipV="1">
                <a:off x="6797880" y="3733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2" name=""/>
          <p:cNvGrpSpPr/>
          <p:nvPr/>
        </p:nvGrpSpPr>
        <p:grpSpPr>
          <a:xfrm>
            <a:off x="5955120" y="2887200"/>
            <a:ext cx="1219680" cy="850320"/>
            <a:chOff x="5955120" y="2887200"/>
            <a:chExt cx="1219680" cy="850320"/>
          </a:xfrm>
        </p:grpSpPr>
        <p:sp>
          <p:nvSpPr>
            <p:cNvPr id="703" name=""/>
            <p:cNvSpPr/>
            <p:nvPr/>
          </p:nvSpPr>
          <p:spPr>
            <a:xfrm>
              <a:off x="6317640" y="2887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306840" y="3737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5" name=""/>
            <p:cNvGrpSpPr/>
            <p:nvPr/>
          </p:nvGrpSpPr>
          <p:grpSpPr>
            <a:xfrm>
              <a:off x="6796440" y="2891880"/>
              <a:ext cx="378360" cy="840240"/>
              <a:chOff x="6796440" y="2891880"/>
              <a:chExt cx="378360" cy="840240"/>
            </a:xfrm>
          </p:grpSpPr>
          <p:sp>
            <p:nvSpPr>
              <p:cNvPr id="706" name=""/>
              <p:cNvSpPr/>
              <p:nvPr/>
            </p:nvSpPr>
            <p:spPr>
              <a:xfrm>
                <a:off x="6796440" y="2891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6797160" y="3312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5955120" y="2896200"/>
              <a:ext cx="378360" cy="840240"/>
              <a:chOff x="5955120" y="2896200"/>
              <a:chExt cx="378360" cy="840240"/>
            </a:xfrm>
          </p:grpSpPr>
          <p:sp>
            <p:nvSpPr>
              <p:cNvPr id="709" name=""/>
              <p:cNvSpPr/>
              <p:nvPr/>
            </p:nvSpPr>
            <p:spPr>
              <a:xfrm flipH="1">
                <a:off x="5955840" y="2896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5955120" y="3317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1" name=""/>
          <p:cNvGrpSpPr/>
          <p:nvPr/>
        </p:nvGrpSpPr>
        <p:grpSpPr>
          <a:xfrm>
            <a:off x="6793200" y="2455200"/>
            <a:ext cx="1220040" cy="850680"/>
            <a:chOff x="6793200" y="2455200"/>
            <a:chExt cx="1220040" cy="850680"/>
          </a:xfrm>
        </p:grpSpPr>
        <p:sp>
          <p:nvSpPr>
            <p:cNvPr id="712" name=""/>
            <p:cNvSpPr/>
            <p:nvPr/>
          </p:nvSpPr>
          <p:spPr>
            <a:xfrm>
              <a:off x="7155720" y="2455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45280" y="33058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7634520" y="2459880"/>
              <a:ext cx="378720" cy="841320"/>
              <a:chOff x="7634520" y="2459880"/>
              <a:chExt cx="378720" cy="841320"/>
            </a:xfrm>
          </p:grpSpPr>
          <p:sp>
            <p:nvSpPr>
              <p:cNvPr id="715" name=""/>
              <p:cNvSpPr/>
              <p:nvPr/>
            </p:nvSpPr>
            <p:spPr>
              <a:xfrm>
                <a:off x="7634520" y="245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7635240" y="288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6793200" y="2464200"/>
              <a:ext cx="378720" cy="841320"/>
              <a:chOff x="6793200" y="2464200"/>
              <a:chExt cx="378720" cy="841320"/>
            </a:xfrm>
          </p:grpSpPr>
          <p:sp>
            <p:nvSpPr>
              <p:cNvPr id="718" name=""/>
              <p:cNvSpPr/>
              <p:nvPr/>
            </p:nvSpPr>
            <p:spPr>
              <a:xfrm flipH="1">
                <a:off x="6793920" y="2464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 flipV="1">
                <a:off x="6793200" y="288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0" name=""/>
          <p:cNvGrpSpPr/>
          <p:nvPr/>
        </p:nvGrpSpPr>
        <p:grpSpPr>
          <a:xfrm>
            <a:off x="4273920" y="3753720"/>
            <a:ext cx="1219680" cy="850680"/>
            <a:chOff x="4273920" y="3753720"/>
            <a:chExt cx="1219680" cy="850680"/>
          </a:xfrm>
        </p:grpSpPr>
        <p:sp>
          <p:nvSpPr>
            <p:cNvPr id="721" name=""/>
            <p:cNvSpPr/>
            <p:nvPr/>
          </p:nvSpPr>
          <p:spPr>
            <a:xfrm>
              <a:off x="4636440" y="3753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625640" y="4604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" name=""/>
            <p:cNvGrpSpPr/>
            <p:nvPr/>
          </p:nvGrpSpPr>
          <p:grpSpPr>
            <a:xfrm>
              <a:off x="5114880" y="3758400"/>
              <a:ext cx="378720" cy="841320"/>
              <a:chOff x="5114880" y="3758400"/>
              <a:chExt cx="378720" cy="841320"/>
            </a:xfrm>
          </p:grpSpPr>
          <p:sp>
            <p:nvSpPr>
              <p:cNvPr id="724" name=""/>
              <p:cNvSpPr/>
              <p:nvPr/>
            </p:nvSpPr>
            <p:spPr>
              <a:xfrm>
                <a:off x="5114880" y="375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5115600" y="417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4273920" y="3762720"/>
              <a:ext cx="378720" cy="841320"/>
              <a:chOff x="4273920" y="3762720"/>
              <a:chExt cx="378720" cy="84132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4274640" y="376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4273920" y="4184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5112000" y="3322080"/>
            <a:ext cx="1220040" cy="850680"/>
            <a:chOff x="5112000" y="3322080"/>
            <a:chExt cx="1220040" cy="850680"/>
          </a:xfrm>
        </p:grpSpPr>
        <p:sp>
          <p:nvSpPr>
            <p:cNvPr id="730" name=""/>
            <p:cNvSpPr/>
            <p:nvPr/>
          </p:nvSpPr>
          <p:spPr>
            <a:xfrm>
              <a:off x="5474520" y="3322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464080" y="417276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5953320" y="3326760"/>
              <a:ext cx="378720" cy="841320"/>
              <a:chOff x="5953320" y="3326760"/>
              <a:chExt cx="378720" cy="841320"/>
            </a:xfrm>
          </p:grpSpPr>
          <p:sp>
            <p:nvSpPr>
              <p:cNvPr id="733" name=""/>
              <p:cNvSpPr/>
              <p:nvPr/>
            </p:nvSpPr>
            <p:spPr>
              <a:xfrm>
                <a:off x="5953320" y="3326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54040" y="3748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5112000" y="3331080"/>
              <a:ext cx="378720" cy="841320"/>
              <a:chOff x="5112000" y="3331080"/>
              <a:chExt cx="378720" cy="84132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5112720" y="3331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5112000" y="3752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4269240" y="2906280"/>
            <a:ext cx="1219680" cy="850320"/>
            <a:chOff x="4269240" y="2906280"/>
            <a:chExt cx="1219680" cy="850320"/>
          </a:xfrm>
        </p:grpSpPr>
        <p:sp>
          <p:nvSpPr>
            <p:cNvPr id="739" name=""/>
            <p:cNvSpPr/>
            <p:nvPr/>
          </p:nvSpPr>
          <p:spPr>
            <a:xfrm>
              <a:off x="4631760" y="2906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620960" y="3756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1" name=""/>
            <p:cNvGrpSpPr/>
            <p:nvPr/>
          </p:nvGrpSpPr>
          <p:grpSpPr>
            <a:xfrm>
              <a:off x="5110560" y="2910960"/>
              <a:ext cx="378360" cy="840240"/>
              <a:chOff x="5110560" y="2910960"/>
              <a:chExt cx="378360" cy="840240"/>
            </a:xfrm>
          </p:grpSpPr>
          <p:sp>
            <p:nvSpPr>
              <p:cNvPr id="742" name=""/>
              <p:cNvSpPr/>
              <p:nvPr/>
            </p:nvSpPr>
            <p:spPr>
              <a:xfrm>
                <a:off x="5110560" y="29109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111280" y="33318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4269240" y="2915280"/>
              <a:ext cx="378360" cy="840240"/>
              <a:chOff x="4269240" y="2915280"/>
              <a:chExt cx="378360" cy="840240"/>
            </a:xfrm>
          </p:grpSpPr>
          <p:sp>
            <p:nvSpPr>
              <p:cNvPr id="745" name=""/>
              <p:cNvSpPr/>
              <p:nvPr/>
            </p:nvSpPr>
            <p:spPr>
              <a:xfrm flipH="1">
                <a:off x="4269960" y="29152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 flipV="1">
                <a:off x="4269240" y="33361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7" name=""/>
          <p:cNvGrpSpPr/>
          <p:nvPr/>
        </p:nvGrpSpPr>
        <p:grpSpPr>
          <a:xfrm>
            <a:off x="5107320" y="2474280"/>
            <a:ext cx="1219680" cy="850680"/>
            <a:chOff x="5107320" y="2474280"/>
            <a:chExt cx="1219680" cy="850680"/>
          </a:xfrm>
        </p:grpSpPr>
        <p:sp>
          <p:nvSpPr>
            <p:cNvPr id="748" name=""/>
            <p:cNvSpPr/>
            <p:nvPr/>
          </p:nvSpPr>
          <p:spPr>
            <a:xfrm>
              <a:off x="5469840" y="24742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459040" y="3324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"/>
            <p:cNvGrpSpPr/>
            <p:nvPr/>
          </p:nvGrpSpPr>
          <p:grpSpPr>
            <a:xfrm>
              <a:off x="5948280" y="2478960"/>
              <a:ext cx="378720" cy="841320"/>
              <a:chOff x="5948280" y="2478960"/>
              <a:chExt cx="378720" cy="841320"/>
            </a:xfrm>
          </p:grpSpPr>
          <p:sp>
            <p:nvSpPr>
              <p:cNvPr id="751" name=""/>
              <p:cNvSpPr/>
              <p:nvPr/>
            </p:nvSpPr>
            <p:spPr>
              <a:xfrm>
                <a:off x="5948280" y="247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949000" y="290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"/>
            <p:cNvGrpSpPr/>
            <p:nvPr/>
          </p:nvGrpSpPr>
          <p:grpSpPr>
            <a:xfrm>
              <a:off x="5107320" y="2483280"/>
              <a:ext cx="378720" cy="841320"/>
              <a:chOff x="5107320" y="2483280"/>
              <a:chExt cx="378720" cy="841320"/>
            </a:xfrm>
          </p:grpSpPr>
          <p:sp>
            <p:nvSpPr>
              <p:cNvPr id="754" name=""/>
              <p:cNvSpPr/>
              <p:nvPr/>
            </p:nvSpPr>
            <p:spPr>
              <a:xfrm flipH="1">
                <a:off x="5108040" y="2483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 flipV="1">
                <a:off x="5107320" y="2904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2583000" y="2072520"/>
            <a:ext cx="1220040" cy="850680"/>
            <a:chOff x="2583000" y="2072520"/>
            <a:chExt cx="1220040" cy="850680"/>
          </a:xfrm>
        </p:grpSpPr>
        <p:sp>
          <p:nvSpPr>
            <p:cNvPr id="757" name=""/>
            <p:cNvSpPr/>
            <p:nvPr/>
          </p:nvSpPr>
          <p:spPr>
            <a:xfrm>
              <a:off x="2945520" y="2072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935080" y="2923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"/>
            <p:cNvGrpSpPr/>
            <p:nvPr/>
          </p:nvGrpSpPr>
          <p:grpSpPr>
            <a:xfrm>
              <a:off x="3424320" y="2077200"/>
              <a:ext cx="378720" cy="841320"/>
              <a:chOff x="3424320" y="2077200"/>
              <a:chExt cx="378720" cy="841320"/>
            </a:xfrm>
          </p:grpSpPr>
          <p:sp>
            <p:nvSpPr>
              <p:cNvPr id="760" name=""/>
              <p:cNvSpPr/>
              <p:nvPr/>
            </p:nvSpPr>
            <p:spPr>
              <a:xfrm>
                <a:off x="3424320" y="2077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V="1">
                <a:off x="3425040" y="2498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2583000" y="2081520"/>
              <a:ext cx="378720" cy="841320"/>
              <a:chOff x="2583000" y="2081520"/>
              <a:chExt cx="378720" cy="841320"/>
            </a:xfrm>
          </p:grpSpPr>
          <p:sp>
            <p:nvSpPr>
              <p:cNvPr id="763" name=""/>
              <p:cNvSpPr/>
              <p:nvPr/>
            </p:nvSpPr>
            <p:spPr>
              <a:xfrm flipH="1">
                <a:off x="2583720" y="2081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 flipV="1">
                <a:off x="2583000" y="2503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5" name=""/>
          <p:cNvGrpSpPr/>
          <p:nvPr/>
        </p:nvGrpSpPr>
        <p:grpSpPr>
          <a:xfrm>
            <a:off x="3421440" y="1640880"/>
            <a:ext cx="1219680" cy="850680"/>
            <a:chOff x="3421440" y="1640880"/>
            <a:chExt cx="1219680" cy="850680"/>
          </a:xfrm>
        </p:grpSpPr>
        <p:sp>
          <p:nvSpPr>
            <p:cNvPr id="766" name=""/>
            <p:cNvSpPr/>
            <p:nvPr/>
          </p:nvSpPr>
          <p:spPr>
            <a:xfrm>
              <a:off x="3783960" y="16408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773160" y="24915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" name=""/>
            <p:cNvGrpSpPr/>
            <p:nvPr/>
          </p:nvGrpSpPr>
          <p:grpSpPr>
            <a:xfrm>
              <a:off x="4262400" y="1645560"/>
              <a:ext cx="378720" cy="841320"/>
              <a:chOff x="4262400" y="1645560"/>
              <a:chExt cx="378720" cy="841320"/>
            </a:xfrm>
          </p:grpSpPr>
          <p:sp>
            <p:nvSpPr>
              <p:cNvPr id="769" name=""/>
              <p:cNvSpPr/>
              <p:nvPr/>
            </p:nvSpPr>
            <p:spPr>
              <a:xfrm>
                <a:off x="4262400" y="16455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4263120" y="20671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"/>
            <p:cNvGrpSpPr/>
            <p:nvPr/>
          </p:nvGrpSpPr>
          <p:grpSpPr>
            <a:xfrm>
              <a:off x="3421440" y="1649880"/>
              <a:ext cx="378720" cy="841320"/>
              <a:chOff x="3421440" y="1649880"/>
              <a:chExt cx="378720" cy="841320"/>
            </a:xfrm>
          </p:grpSpPr>
          <p:sp>
            <p:nvSpPr>
              <p:cNvPr id="772" name=""/>
              <p:cNvSpPr/>
              <p:nvPr/>
            </p:nvSpPr>
            <p:spPr>
              <a:xfrm flipH="1">
                <a:off x="3422160" y="16498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3421440" y="207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897120" y="2091600"/>
            <a:ext cx="1220040" cy="850680"/>
            <a:chOff x="897120" y="2091600"/>
            <a:chExt cx="1220040" cy="850680"/>
          </a:xfrm>
        </p:grpSpPr>
        <p:sp>
          <p:nvSpPr>
            <p:cNvPr id="775" name=""/>
            <p:cNvSpPr/>
            <p:nvPr/>
          </p:nvSpPr>
          <p:spPr>
            <a:xfrm>
              <a:off x="1259640" y="20916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249200" y="29422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1738440" y="2096280"/>
              <a:ext cx="378720" cy="841320"/>
              <a:chOff x="1738440" y="2096280"/>
              <a:chExt cx="378720" cy="841320"/>
            </a:xfrm>
          </p:grpSpPr>
          <p:sp>
            <p:nvSpPr>
              <p:cNvPr id="778" name=""/>
              <p:cNvSpPr/>
              <p:nvPr/>
            </p:nvSpPr>
            <p:spPr>
              <a:xfrm>
                <a:off x="1738440" y="20962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1739160" y="25178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897120" y="2100600"/>
              <a:ext cx="378720" cy="841320"/>
              <a:chOff x="897120" y="2100600"/>
              <a:chExt cx="378720" cy="841320"/>
            </a:xfrm>
          </p:grpSpPr>
          <p:sp>
            <p:nvSpPr>
              <p:cNvPr id="781" name=""/>
              <p:cNvSpPr/>
              <p:nvPr/>
            </p:nvSpPr>
            <p:spPr>
              <a:xfrm flipH="1">
                <a:off x="897840" y="2100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 flipV="1">
                <a:off x="897120" y="2522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1735560" y="1659960"/>
            <a:ext cx="1219680" cy="850680"/>
            <a:chOff x="1735560" y="1659960"/>
            <a:chExt cx="1219680" cy="850680"/>
          </a:xfrm>
        </p:grpSpPr>
        <p:sp>
          <p:nvSpPr>
            <p:cNvPr id="784" name=""/>
            <p:cNvSpPr/>
            <p:nvPr/>
          </p:nvSpPr>
          <p:spPr>
            <a:xfrm>
              <a:off x="2098080" y="16599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087280" y="25106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76520" y="1664640"/>
              <a:ext cx="378720" cy="841320"/>
              <a:chOff x="2576520" y="1664640"/>
              <a:chExt cx="378720" cy="841320"/>
            </a:xfrm>
          </p:grpSpPr>
          <p:sp>
            <p:nvSpPr>
              <p:cNvPr id="787" name=""/>
              <p:cNvSpPr/>
              <p:nvPr/>
            </p:nvSpPr>
            <p:spPr>
              <a:xfrm>
                <a:off x="2576520" y="1664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2577240" y="2086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1735560" y="1668960"/>
              <a:ext cx="378720" cy="841320"/>
              <a:chOff x="1735560" y="1668960"/>
              <a:chExt cx="378720" cy="841320"/>
            </a:xfrm>
          </p:grpSpPr>
          <p:sp>
            <p:nvSpPr>
              <p:cNvPr id="790" name=""/>
              <p:cNvSpPr/>
              <p:nvPr/>
            </p:nvSpPr>
            <p:spPr>
              <a:xfrm flipH="1">
                <a:off x="1736280" y="1668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1735560" y="2090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5950080" y="2039400"/>
            <a:ext cx="1220040" cy="850680"/>
            <a:chOff x="5950080" y="2039400"/>
            <a:chExt cx="1220040" cy="850680"/>
          </a:xfrm>
        </p:grpSpPr>
        <p:sp>
          <p:nvSpPr>
            <p:cNvPr id="793" name=""/>
            <p:cNvSpPr/>
            <p:nvPr/>
          </p:nvSpPr>
          <p:spPr>
            <a:xfrm>
              <a:off x="6312600" y="2039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302160" y="289008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5" name=""/>
            <p:cNvGrpSpPr/>
            <p:nvPr/>
          </p:nvGrpSpPr>
          <p:grpSpPr>
            <a:xfrm>
              <a:off x="6791400" y="2044080"/>
              <a:ext cx="378720" cy="841320"/>
              <a:chOff x="6791400" y="2044080"/>
              <a:chExt cx="378720" cy="841320"/>
            </a:xfrm>
          </p:grpSpPr>
          <p:sp>
            <p:nvSpPr>
              <p:cNvPr id="796" name=""/>
              <p:cNvSpPr/>
              <p:nvPr/>
            </p:nvSpPr>
            <p:spPr>
              <a:xfrm>
                <a:off x="6791400" y="2044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792120" y="2465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5950080" y="2048400"/>
              <a:ext cx="378720" cy="841320"/>
              <a:chOff x="5950080" y="2048400"/>
              <a:chExt cx="378720" cy="841320"/>
            </a:xfrm>
          </p:grpSpPr>
          <p:sp>
            <p:nvSpPr>
              <p:cNvPr id="799" name=""/>
              <p:cNvSpPr/>
              <p:nvPr/>
            </p:nvSpPr>
            <p:spPr>
              <a:xfrm flipH="1">
                <a:off x="5950800" y="2048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 flipV="1">
                <a:off x="5950080" y="2469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6788520" y="1607400"/>
            <a:ext cx="1219680" cy="850680"/>
            <a:chOff x="6788520" y="1607400"/>
            <a:chExt cx="1219680" cy="850680"/>
          </a:xfrm>
        </p:grpSpPr>
        <p:sp>
          <p:nvSpPr>
            <p:cNvPr id="802" name=""/>
            <p:cNvSpPr/>
            <p:nvPr/>
          </p:nvSpPr>
          <p:spPr>
            <a:xfrm>
              <a:off x="7151040" y="16074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140240" y="24580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4" name=""/>
            <p:cNvGrpSpPr/>
            <p:nvPr/>
          </p:nvGrpSpPr>
          <p:grpSpPr>
            <a:xfrm>
              <a:off x="7629480" y="1612080"/>
              <a:ext cx="378720" cy="841320"/>
              <a:chOff x="7629480" y="1612080"/>
              <a:chExt cx="378720" cy="841320"/>
            </a:xfrm>
          </p:grpSpPr>
          <p:sp>
            <p:nvSpPr>
              <p:cNvPr id="805" name=""/>
              <p:cNvSpPr/>
              <p:nvPr/>
            </p:nvSpPr>
            <p:spPr>
              <a:xfrm>
                <a:off x="7629480" y="1612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7630200" y="20336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"/>
            <p:cNvGrpSpPr/>
            <p:nvPr/>
          </p:nvGrpSpPr>
          <p:grpSpPr>
            <a:xfrm>
              <a:off x="6788520" y="1616400"/>
              <a:ext cx="378720" cy="841320"/>
              <a:chOff x="6788520" y="1616400"/>
              <a:chExt cx="378720" cy="841320"/>
            </a:xfrm>
          </p:grpSpPr>
          <p:sp>
            <p:nvSpPr>
              <p:cNvPr id="808" name=""/>
              <p:cNvSpPr/>
              <p:nvPr/>
            </p:nvSpPr>
            <p:spPr>
              <a:xfrm flipH="1">
                <a:off x="6789240" y="16164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6788520" y="20379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0" name=""/>
          <p:cNvGrpSpPr/>
          <p:nvPr/>
        </p:nvGrpSpPr>
        <p:grpSpPr>
          <a:xfrm>
            <a:off x="4264200" y="2058480"/>
            <a:ext cx="1220040" cy="850320"/>
            <a:chOff x="4264200" y="2058480"/>
            <a:chExt cx="1220040" cy="850320"/>
          </a:xfrm>
        </p:grpSpPr>
        <p:sp>
          <p:nvSpPr>
            <p:cNvPr id="811" name=""/>
            <p:cNvSpPr/>
            <p:nvPr/>
          </p:nvSpPr>
          <p:spPr>
            <a:xfrm>
              <a:off x="4626720" y="2058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616280" y="29088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5105880" y="2063160"/>
              <a:ext cx="378360" cy="840240"/>
              <a:chOff x="5105880" y="2063160"/>
              <a:chExt cx="378360" cy="840240"/>
            </a:xfrm>
          </p:grpSpPr>
          <p:sp>
            <p:nvSpPr>
              <p:cNvPr id="814" name=""/>
              <p:cNvSpPr/>
              <p:nvPr/>
            </p:nvSpPr>
            <p:spPr>
              <a:xfrm>
                <a:off x="5105880" y="20631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106600" y="24840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4264200" y="2067480"/>
              <a:ext cx="378360" cy="840240"/>
              <a:chOff x="4264200" y="2067480"/>
              <a:chExt cx="378360" cy="840240"/>
            </a:xfrm>
          </p:grpSpPr>
          <p:sp>
            <p:nvSpPr>
              <p:cNvPr id="817" name=""/>
              <p:cNvSpPr/>
              <p:nvPr/>
            </p:nvSpPr>
            <p:spPr>
              <a:xfrm flipH="1">
                <a:off x="4264920" y="20674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flipV="1">
                <a:off x="4264200" y="24883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9" name=""/>
          <p:cNvGrpSpPr/>
          <p:nvPr/>
        </p:nvGrpSpPr>
        <p:grpSpPr>
          <a:xfrm>
            <a:off x="5102640" y="1626480"/>
            <a:ext cx="1219680" cy="850680"/>
            <a:chOff x="5102640" y="1626480"/>
            <a:chExt cx="1219680" cy="850680"/>
          </a:xfrm>
        </p:grpSpPr>
        <p:sp>
          <p:nvSpPr>
            <p:cNvPr id="820" name=""/>
            <p:cNvSpPr/>
            <p:nvPr/>
          </p:nvSpPr>
          <p:spPr>
            <a:xfrm>
              <a:off x="5465160" y="162648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454360" y="24771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5943600" y="1631160"/>
              <a:ext cx="378720" cy="841320"/>
              <a:chOff x="5943600" y="1631160"/>
              <a:chExt cx="378720" cy="841320"/>
            </a:xfrm>
          </p:grpSpPr>
          <p:sp>
            <p:nvSpPr>
              <p:cNvPr id="823" name=""/>
              <p:cNvSpPr/>
              <p:nvPr/>
            </p:nvSpPr>
            <p:spPr>
              <a:xfrm>
                <a:off x="5943600" y="16311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5944320" y="20527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"/>
            <p:cNvGrpSpPr/>
            <p:nvPr/>
          </p:nvGrpSpPr>
          <p:grpSpPr>
            <a:xfrm>
              <a:off x="5102640" y="1635480"/>
              <a:ext cx="378720" cy="841320"/>
              <a:chOff x="5102640" y="1635480"/>
              <a:chExt cx="378720" cy="841320"/>
            </a:xfrm>
          </p:grpSpPr>
          <p:sp>
            <p:nvSpPr>
              <p:cNvPr id="826" name=""/>
              <p:cNvSpPr/>
              <p:nvPr/>
            </p:nvSpPr>
            <p:spPr>
              <a:xfrm flipH="1">
                <a:off x="5103360" y="163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flipV="1">
                <a:off x="5102640" y="20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urity in GS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 control/authent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IM (Subscriber Identity Module): secret PIN (personal identification number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M </a:t>
            </a:r>
            <a:r>
              <a:rPr b="0" lang="en-US" sz="1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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network: challenge response metho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oice and signaling encrypted on the wireless link (after successful authenticatio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nonym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mporary identity TMS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emporary Mobile Subscriber Ident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ly assigned at each new location update (LUP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crypted transmiss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algorithms specified in GS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3 for authentic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5 for encryption (standardiz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8 for key generation (“secret”, open interfac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6" name=""/>
          <p:cNvSpPr/>
          <p:nvPr/>
        </p:nvSpPr>
        <p:spPr>
          <a:xfrm>
            <a:off x="7010280" y="3809880"/>
            <a:ext cx="1752840" cy="1828800"/>
          </a:xfrm>
          <a:prstGeom prst="rect">
            <a:avLst/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ret”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3 and A8 available via the Int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providers can use stronger mechani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authenti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6188040" y="1477800"/>
            <a:ext cx="405000" cy="487440"/>
            <a:chOff x="6188040" y="1477800"/>
            <a:chExt cx="405000" cy="487440"/>
          </a:xfrm>
        </p:grpSpPr>
        <p:sp>
          <p:nvSpPr>
            <p:cNvPr id="1619" name=""/>
            <p:cNvSpPr/>
            <p:nvPr/>
          </p:nvSpPr>
          <p:spPr>
            <a:xfrm>
              <a:off x="6188040" y="147780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6216480" y="1611360"/>
              <a:ext cx="339840" cy="110880"/>
              <a:chOff x="6216480" y="1611360"/>
              <a:chExt cx="339840" cy="110880"/>
            </a:xfrm>
          </p:grpSpPr>
          <p:sp>
            <p:nvSpPr>
              <p:cNvPr id="1621" name=""/>
              <p:cNvSpPr/>
              <p:nvPr/>
            </p:nvSpPr>
            <p:spPr>
              <a:xfrm>
                <a:off x="6518160" y="17031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216480" y="16761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275520" y="161604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259680" y="161136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6253200" y="1589040"/>
              <a:ext cx="233280" cy="225360"/>
              <a:chOff x="6253200" y="1589040"/>
              <a:chExt cx="233280" cy="225360"/>
            </a:xfrm>
          </p:grpSpPr>
          <p:sp>
            <p:nvSpPr>
              <p:cNvPr id="1626" name=""/>
              <p:cNvSpPr/>
              <p:nvPr/>
            </p:nvSpPr>
            <p:spPr>
              <a:xfrm>
                <a:off x="6269040" y="163008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53200" y="168732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07200" y="158904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29" name=""/>
          <p:cNvGrpSpPr/>
          <p:nvPr/>
        </p:nvGrpSpPr>
        <p:grpSpPr>
          <a:xfrm>
            <a:off x="6311880" y="1335240"/>
            <a:ext cx="344520" cy="680400"/>
            <a:chOff x="6311880" y="1335240"/>
            <a:chExt cx="344520" cy="680400"/>
          </a:xfrm>
        </p:grpSpPr>
        <p:sp>
          <p:nvSpPr>
            <p:cNvPr id="1630" name=""/>
            <p:cNvSpPr/>
            <p:nvPr/>
          </p:nvSpPr>
          <p:spPr>
            <a:xfrm>
              <a:off x="6335640" y="1822320"/>
              <a:ext cx="314280" cy="15516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6445080" y="1906560"/>
              <a:ext cx="211320" cy="10908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6311880" y="1335240"/>
              <a:ext cx="303120" cy="60768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432480" y="1346040"/>
              <a:ext cx="190440" cy="26964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334200" y="1527120"/>
              <a:ext cx="249120" cy="35208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5" name=""/>
            <p:cNvGrpSpPr/>
            <p:nvPr/>
          </p:nvGrpSpPr>
          <p:grpSpPr>
            <a:xfrm>
              <a:off x="6473880" y="1403280"/>
              <a:ext cx="128520" cy="147240"/>
              <a:chOff x="6473880" y="1403280"/>
              <a:chExt cx="128520" cy="147240"/>
            </a:xfrm>
          </p:grpSpPr>
          <p:sp>
            <p:nvSpPr>
              <p:cNvPr id="1636" name=""/>
              <p:cNvSpPr/>
              <p:nvPr/>
            </p:nvSpPr>
            <p:spPr>
              <a:xfrm>
                <a:off x="6473880" y="1403280"/>
                <a:ext cx="128520" cy="14724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7" name=""/>
              <p:cNvGrpSpPr/>
              <p:nvPr/>
            </p:nvGrpSpPr>
            <p:grpSpPr>
              <a:xfrm>
                <a:off x="6505560" y="1428120"/>
                <a:ext cx="69840" cy="96120"/>
                <a:chOff x="6505560" y="1428120"/>
                <a:chExt cx="69840" cy="9612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6537240" y="147060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656100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6505560" y="149760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6529320" y="15073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>
                  <a:off x="6554880" y="1516680"/>
                  <a:ext cx="61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6519960" y="148176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6543720" y="149292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6518160" y="142812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6543720" y="14374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5674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510240" y="1462680"/>
                  <a:ext cx="648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526080" y="144864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6551640" y="1458000"/>
                  <a:ext cx="7920" cy="756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1" name=""/>
            <p:cNvGrpSpPr/>
            <p:nvPr/>
          </p:nvGrpSpPr>
          <p:grpSpPr>
            <a:xfrm>
              <a:off x="6373800" y="1579320"/>
              <a:ext cx="168120" cy="273960"/>
              <a:chOff x="6373800" y="1579320"/>
              <a:chExt cx="168120" cy="273960"/>
            </a:xfrm>
          </p:grpSpPr>
          <p:sp>
            <p:nvSpPr>
              <p:cNvPr id="1652" name=""/>
              <p:cNvSpPr/>
              <p:nvPr/>
            </p:nvSpPr>
            <p:spPr>
              <a:xfrm>
                <a:off x="6458040" y="18140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424560" y="157932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465960" y="15966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507000" y="16156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413400" y="162036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6456240" y="16362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497640" y="165528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402240" y="165852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445080" y="1675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486480" y="169488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392880" y="1699560"/>
                <a:ext cx="3348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435720" y="1715760"/>
                <a:ext cx="334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5320" y="17344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383160" y="1739520"/>
                <a:ext cx="3528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424560" y="175680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465960" y="177444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373800" y="1779120"/>
                <a:ext cx="34920" cy="378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416640" y="1794960"/>
                <a:ext cx="34920" cy="392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0" name=""/>
          <p:cNvGrpSpPr/>
          <p:nvPr/>
        </p:nvGrpSpPr>
        <p:grpSpPr>
          <a:xfrm>
            <a:off x="6208560" y="1477800"/>
            <a:ext cx="198720" cy="227160"/>
            <a:chOff x="6208560" y="1477800"/>
            <a:chExt cx="198720" cy="227160"/>
          </a:xfrm>
        </p:grpSpPr>
        <p:grpSp>
          <p:nvGrpSpPr>
            <p:cNvPr id="1671" name=""/>
            <p:cNvGrpSpPr/>
            <p:nvPr/>
          </p:nvGrpSpPr>
          <p:grpSpPr>
            <a:xfrm>
              <a:off x="6272280" y="1549440"/>
              <a:ext cx="96840" cy="102960"/>
              <a:chOff x="6272280" y="1549440"/>
              <a:chExt cx="96840" cy="102960"/>
            </a:xfrm>
          </p:grpSpPr>
          <p:sp>
            <p:nvSpPr>
              <p:cNvPr id="1672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6272280" y="154944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4" name=""/>
            <p:cNvGrpSpPr/>
            <p:nvPr/>
          </p:nvGrpSpPr>
          <p:grpSpPr>
            <a:xfrm>
              <a:off x="6323040" y="1503360"/>
              <a:ext cx="71280" cy="81000"/>
              <a:chOff x="6323040" y="1503360"/>
              <a:chExt cx="71280" cy="81000"/>
            </a:xfrm>
          </p:grpSpPr>
          <p:sp>
            <p:nvSpPr>
              <p:cNvPr id="1675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323040" y="150336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7" name=""/>
            <p:cNvGrpSpPr/>
            <p:nvPr/>
          </p:nvGrpSpPr>
          <p:grpSpPr>
            <a:xfrm>
              <a:off x="6208560" y="1616040"/>
              <a:ext cx="152640" cy="88920"/>
              <a:chOff x="6208560" y="1616040"/>
              <a:chExt cx="152640" cy="88920"/>
            </a:xfrm>
          </p:grpSpPr>
          <p:sp>
            <p:nvSpPr>
              <p:cNvPr id="1678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208560" y="1616040"/>
                <a:ext cx="152640" cy="8892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0" name=""/>
            <p:cNvSpPr/>
            <p:nvPr/>
          </p:nvSpPr>
          <p:spPr>
            <a:xfrm>
              <a:off x="6323040" y="1477800"/>
              <a:ext cx="84240" cy="5400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1" name=""/>
          <p:cNvSpPr/>
          <p:nvPr/>
        </p:nvSpPr>
        <p:spPr>
          <a:xfrm>
            <a:off x="2482920" y="152388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2" name=""/>
          <p:cNvGrpSpPr/>
          <p:nvPr/>
        </p:nvGrpSpPr>
        <p:grpSpPr>
          <a:xfrm>
            <a:off x="2843280" y="1449360"/>
            <a:ext cx="183960" cy="493200"/>
            <a:chOff x="2843280" y="1449360"/>
            <a:chExt cx="183960" cy="493200"/>
          </a:xfrm>
        </p:grpSpPr>
        <p:grpSp>
          <p:nvGrpSpPr>
            <p:cNvPr id="1683" name=""/>
            <p:cNvGrpSpPr/>
            <p:nvPr/>
          </p:nvGrpSpPr>
          <p:grpSpPr>
            <a:xfrm>
              <a:off x="2846520" y="1619280"/>
              <a:ext cx="180720" cy="323280"/>
              <a:chOff x="2846520" y="1619280"/>
              <a:chExt cx="180720" cy="323280"/>
            </a:xfrm>
          </p:grpSpPr>
          <p:grpSp>
            <p:nvGrpSpPr>
              <p:cNvPr id="1684" name=""/>
              <p:cNvGrpSpPr/>
              <p:nvPr/>
            </p:nvGrpSpPr>
            <p:grpSpPr>
              <a:xfrm>
                <a:off x="2846520" y="1628640"/>
                <a:ext cx="115920" cy="311040"/>
                <a:chOff x="2846520" y="1628640"/>
                <a:chExt cx="115920" cy="3110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2892600" y="162864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 flipV="1">
                  <a:off x="2879640" y="1631520"/>
                  <a:ext cx="5256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2878200" y="169704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 flipV="1">
                  <a:off x="2846520" y="1833120"/>
                  <a:ext cx="10620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2860560" y="1834920"/>
                  <a:ext cx="10188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 flipV="1">
                  <a:off x="2859120" y="169668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894040" y="162864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2" name=""/>
              <p:cNvSpPr/>
              <p:nvPr/>
            </p:nvSpPr>
            <p:spPr>
              <a:xfrm flipV="1">
                <a:off x="2960640" y="181404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943360" y="1699920"/>
                <a:ext cx="6012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2943360" y="1620720"/>
                <a:ext cx="1404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2935440" y="1619280"/>
                <a:ext cx="2520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936880" y="1628640"/>
                <a:ext cx="3816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2954160" y="1687320"/>
                <a:ext cx="1620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2955960" y="1834920"/>
                <a:ext cx="7128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9" name=""/>
            <p:cNvGrpSpPr/>
            <p:nvPr/>
          </p:nvGrpSpPr>
          <p:grpSpPr>
            <a:xfrm>
              <a:off x="2843280" y="1465200"/>
              <a:ext cx="177840" cy="474480"/>
              <a:chOff x="2843280" y="1465200"/>
              <a:chExt cx="177840" cy="474480"/>
            </a:xfrm>
          </p:grpSpPr>
          <p:sp>
            <p:nvSpPr>
              <p:cNvPr id="1700" name=""/>
              <p:cNvSpPr/>
              <p:nvPr/>
            </p:nvSpPr>
            <p:spPr>
              <a:xfrm flipV="1">
                <a:off x="2843280" y="146520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2916360" y="1479600"/>
                <a:ext cx="4428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2960640" y="1900080"/>
                <a:ext cx="6048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2924280" y="147456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2844720" y="1936800"/>
                <a:ext cx="1177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5" name=""/>
            <p:cNvSpPr/>
            <p:nvPr/>
          </p:nvSpPr>
          <p:spPr>
            <a:xfrm>
              <a:off x="2897280" y="144936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6" name=""/>
          <p:cNvGrpSpPr/>
          <p:nvPr/>
        </p:nvGrpSpPr>
        <p:grpSpPr>
          <a:xfrm>
            <a:off x="2884320" y="1145520"/>
            <a:ext cx="812520" cy="721080"/>
            <a:chOff x="2884320" y="1145520"/>
            <a:chExt cx="812520" cy="721080"/>
          </a:xfrm>
        </p:grpSpPr>
        <p:grpSp>
          <p:nvGrpSpPr>
            <p:cNvPr id="1707" name=""/>
            <p:cNvGrpSpPr/>
            <p:nvPr/>
          </p:nvGrpSpPr>
          <p:grpSpPr>
            <a:xfrm>
              <a:off x="3165120" y="1145520"/>
              <a:ext cx="531720" cy="721080"/>
              <a:chOff x="3165120" y="1145520"/>
              <a:chExt cx="531720" cy="721080"/>
            </a:xfrm>
          </p:grpSpPr>
          <p:sp>
            <p:nvSpPr>
              <p:cNvPr id="1708" name=""/>
              <p:cNvSpPr/>
              <p:nvPr/>
            </p:nvSpPr>
            <p:spPr>
              <a:xfrm>
                <a:off x="3259440" y="1145520"/>
                <a:ext cx="43740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227760" y="1190880"/>
                <a:ext cx="37692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165120" y="1244520"/>
                <a:ext cx="35244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1" name=""/>
            <p:cNvGrpSpPr/>
            <p:nvPr/>
          </p:nvGrpSpPr>
          <p:grpSpPr>
            <a:xfrm>
              <a:off x="2989080" y="1279440"/>
              <a:ext cx="447480" cy="479520"/>
              <a:chOff x="2989080" y="1279440"/>
              <a:chExt cx="447480" cy="479520"/>
            </a:xfrm>
          </p:grpSpPr>
          <p:sp>
            <p:nvSpPr>
              <p:cNvPr id="1712" name=""/>
              <p:cNvSpPr/>
              <p:nvPr/>
            </p:nvSpPr>
            <p:spPr>
              <a:xfrm>
                <a:off x="3069000" y="1279440"/>
                <a:ext cx="36756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041280" y="1309320"/>
                <a:ext cx="32076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2989080" y="1346400"/>
                <a:ext cx="29844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5" name=""/>
            <p:cNvSpPr/>
            <p:nvPr/>
          </p:nvSpPr>
          <p:spPr>
            <a:xfrm>
              <a:off x="2951640" y="1377000"/>
              <a:ext cx="26892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914560" y="139644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2884320" y="142992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907000" y="1461240"/>
              <a:ext cx="11988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9" name=""/>
          <p:cNvSpPr/>
          <p:nvPr/>
        </p:nvSpPr>
        <p:spPr>
          <a:xfrm>
            <a:off x="1676520" y="4952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1676520" y="274320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209680" y="3733920"/>
            <a:ext cx="9907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297180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24382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266796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221400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700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289728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2705040" y="42670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1906560" y="4419720"/>
            <a:ext cx="14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5486400" y="2743200"/>
            <a:ext cx="2057400" cy="312408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3124080"/>
              <a:gd name="textAreaBottom" fmla="*/ 3023640 h 3124080"/>
            </a:gdLst>
            <a:ahLst/>
            <a:rect l="textAreaLeft" t="textAreaTop" r="textAreaRight" b="textAreaBottom"/>
            <a:pathLst>
              <a:path w="21600" h="32797">
                <a:moveTo>
                  <a:pt x="3600" y="0"/>
                </a:moveTo>
                <a:arcTo wR="3600" hR="3600" stAng="16200000" swAng="-5400000"/>
                <a:lnTo>
                  <a:pt x="0" y="29197"/>
                </a:lnTo>
                <a:arcTo wR="3600" hR="3600" stAng="10800000" swAng="-5400000"/>
                <a:lnTo>
                  <a:pt x="18000" y="327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6019920" y="3733920"/>
            <a:ext cx="990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678168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62485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5792040" y="281952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6633720" y="281952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510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6707520" y="32767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6515280" y="4267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717160" y="4419720"/>
            <a:ext cx="145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    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3352680" y="29718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905120" y="5181480"/>
            <a:ext cx="1638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* =? 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72560" y="530208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flipH="1">
            <a:off x="3580920" y="54547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252320" y="265104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267440" y="514980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4268880" y="5410080"/>
            <a:ext cx="6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2211120" y="220968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6250680" y="21337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839520" y="3352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695160" y="52578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622280" y="411480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1139040" y="6095880"/>
            <a:ext cx="573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individual subscriber authentication 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RES: signed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SM - key generation and encryp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6188040" y="1630440"/>
            <a:ext cx="405000" cy="487440"/>
            <a:chOff x="6188040" y="1630440"/>
            <a:chExt cx="405000" cy="487440"/>
          </a:xfrm>
        </p:grpSpPr>
        <p:sp>
          <p:nvSpPr>
            <p:cNvPr id="1755" name=""/>
            <p:cNvSpPr/>
            <p:nvPr/>
          </p:nvSpPr>
          <p:spPr>
            <a:xfrm>
              <a:off x="6188040" y="1630440"/>
              <a:ext cx="405000" cy="487440"/>
            </a:xfrm>
            <a:custGeom>
              <a:avLst/>
              <a:gdLst/>
              <a:ahLst/>
              <a:rect l="l" t="t" r="r" b="b"/>
              <a:pathLst>
                <a:path w="2039" h="2458">
                  <a:moveTo>
                    <a:pt x="616" y="2458"/>
                  </a:moveTo>
                  <a:lnTo>
                    <a:pt x="616" y="2392"/>
                  </a:lnTo>
                  <a:lnTo>
                    <a:pt x="597" y="2261"/>
                  </a:lnTo>
                  <a:lnTo>
                    <a:pt x="558" y="2130"/>
                  </a:lnTo>
                  <a:lnTo>
                    <a:pt x="520" y="2021"/>
                  </a:lnTo>
                  <a:lnTo>
                    <a:pt x="510" y="1999"/>
                  </a:lnTo>
                  <a:lnTo>
                    <a:pt x="482" y="1956"/>
                  </a:lnTo>
                  <a:lnTo>
                    <a:pt x="434" y="1899"/>
                  </a:lnTo>
                  <a:lnTo>
                    <a:pt x="368" y="1824"/>
                  </a:lnTo>
                  <a:lnTo>
                    <a:pt x="320" y="1759"/>
                  </a:lnTo>
                  <a:lnTo>
                    <a:pt x="281" y="1704"/>
                  </a:lnTo>
                  <a:lnTo>
                    <a:pt x="234" y="1649"/>
                  </a:lnTo>
                  <a:lnTo>
                    <a:pt x="206" y="1583"/>
                  </a:lnTo>
                  <a:lnTo>
                    <a:pt x="167" y="1517"/>
                  </a:lnTo>
                  <a:lnTo>
                    <a:pt x="158" y="1496"/>
                  </a:lnTo>
                  <a:lnTo>
                    <a:pt x="130" y="1431"/>
                  </a:lnTo>
                  <a:lnTo>
                    <a:pt x="120" y="1387"/>
                  </a:lnTo>
                  <a:lnTo>
                    <a:pt x="110" y="1343"/>
                  </a:lnTo>
                  <a:lnTo>
                    <a:pt x="91" y="1278"/>
                  </a:lnTo>
                  <a:lnTo>
                    <a:pt x="72" y="1235"/>
                  </a:lnTo>
                  <a:lnTo>
                    <a:pt x="43" y="1168"/>
                  </a:lnTo>
                  <a:lnTo>
                    <a:pt x="23" y="1103"/>
                  </a:lnTo>
                  <a:lnTo>
                    <a:pt x="17" y="1063"/>
                  </a:lnTo>
                  <a:lnTo>
                    <a:pt x="4" y="972"/>
                  </a:lnTo>
                  <a:lnTo>
                    <a:pt x="1" y="907"/>
                  </a:lnTo>
                  <a:lnTo>
                    <a:pt x="0" y="824"/>
                  </a:lnTo>
                  <a:lnTo>
                    <a:pt x="14" y="753"/>
                  </a:lnTo>
                  <a:lnTo>
                    <a:pt x="33" y="721"/>
                  </a:lnTo>
                  <a:lnTo>
                    <a:pt x="52" y="704"/>
                  </a:lnTo>
                  <a:lnTo>
                    <a:pt x="70" y="695"/>
                  </a:lnTo>
                  <a:lnTo>
                    <a:pt x="91" y="688"/>
                  </a:lnTo>
                  <a:lnTo>
                    <a:pt x="110" y="688"/>
                  </a:lnTo>
                  <a:lnTo>
                    <a:pt x="110" y="638"/>
                  </a:lnTo>
                  <a:lnTo>
                    <a:pt x="104" y="615"/>
                  </a:lnTo>
                  <a:lnTo>
                    <a:pt x="101" y="577"/>
                  </a:lnTo>
                  <a:lnTo>
                    <a:pt x="108" y="556"/>
                  </a:lnTo>
                  <a:lnTo>
                    <a:pt x="110" y="536"/>
                  </a:lnTo>
                  <a:lnTo>
                    <a:pt x="124" y="496"/>
                  </a:lnTo>
                  <a:lnTo>
                    <a:pt x="138" y="469"/>
                  </a:lnTo>
                  <a:lnTo>
                    <a:pt x="161" y="436"/>
                  </a:lnTo>
                  <a:lnTo>
                    <a:pt x="190" y="404"/>
                  </a:lnTo>
                  <a:lnTo>
                    <a:pt x="224" y="375"/>
                  </a:lnTo>
                  <a:lnTo>
                    <a:pt x="252" y="350"/>
                  </a:lnTo>
                  <a:lnTo>
                    <a:pt x="288" y="339"/>
                  </a:lnTo>
                  <a:lnTo>
                    <a:pt x="322" y="333"/>
                  </a:lnTo>
                  <a:lnTo>
                    <a:pt x="355" y="339"/>
                  </a:lnTo>
                  <a:lnTo>
                    <a:pt x="386" y="350"/>
                  </a:lnTo>
                  <a:lnTo>
                    <a:pt x="424" y="360"/>
                  </a:lnTo>
                  <a:lnTo>
                    <a:pt x="434" y="339"/>
                  </a:lnTo>
                  <a:lnTo>
                    <a:pt x="441" y="279"/>
                  </a:lnTo>
                  <a:lnTo>
                    <a:pt x="453" y="229"/>
                  </a:lnTo>
                  <a:lnTo>
                    <a:pt x="476" y="191"/>
                  </a:lnTo>
                  <a:lnTo>
                    <a:pt x="503" y="167"/>
                  </a:lnTo>
                  <a:lnTo>
                    <a:pt x="539" y="154"/>
                  </a:lnTo>
                  <a:lnTo>
                    <a:pt x="578" y="142"/>
                  </a:lnTo>
                  <a:lnTo>
                    <a:pt x="636" y="130"/>
                  </a:lnTo>
                  <a:lnTo>
                    <a:pt x="672" y="130"/>
                  </a:lnTo>
                  <a:lnTo>
                    <a:pt x="682" y="108"/>
                  </a:lnTo>
                  <a:lnTo>
                    <a:pt x="701" y="65"/>
                  </a:lnTo>
                  <a:lnTo>
                    <a:pt x="730" y="32"/>
                  </a:lnTo>
                  <a:lnTo>
                    <a:pt x="769" y="11"/>
                  </a:lnTo>
                  <a:lnTo>
                    <a:pt x="826" y="0"/>
                  </a:lnTo>
                  <a:lnTo>
                    <a:pt x="883" y="0"/>
                  </a:lnTo>
                  <a:lnTo>
                    <a:pt x="958" y="4"/>
                  </a:lnTo>
                  <a:lnTo>
                    <a:pt x="999" y="6"/>
                  </a:lnTo>
                  <a:lnTo>
                    <a:pt x="1027" y="11"/>
                  </a:lnTo>
                  <a:lnTo>
                    <a:pt x="1052" y="17"/>
                  </a:lnTo>
                  <a:lnTo>
                    <a:pt x="1073" y="36"/>
                  </a:lnTo>
                  <a:lnTo>
                    <a:pt x="1086" y="60"/>
                  </a:lnTo>
                  <a:lnTo>
                    <a:pt x="1096" y="89"/>
                  </a:lnTo>
                  <a:lnTo>
                    <a:pt x="1102" y="142"/>
                  </a:lnTo>
                  <a:lnTo>
                    <a:pt x="1097" y="187"/>
                  </a:lnTo>
                  <a:lnTo>
                    <a:pt x="1081" y="227"/>
                  </a:lnTo>
                  <a:lnTo>
                    <a:pt x="1061" y="249"/>
                  </a:lnTo>
                  <a:lnTo>
                    <a:pt x="1035" y="262"/>
                  </a:lnTo>
                  <a:lnTo>
                    <a:pt x="1005" y="270"/>
                  </a:lnTo>
                  <a:lnTo>
                    <a:pt x="953" y="269"/>
                  </a:lnTo>
                  <a:lnTo>
                    <a:pt x="970" y="292"/>
                  </a:lnTo>
                  <a:lnTo>
                    <a:pt x="993" y="336"/>
                  </a:lnTo>
                  <a:lnTo>
                    <a:pt x="1012" y="371"/>
                  </a:lnTo>
                  <a:lnTo>
                    <a:pt x="1028" y="415"/>
                  </a:lnTo>
                  <a:lnTo>
                    <a:pt x="1038" y="452"/>
                  </a:lnTo>
                  <a:lnTo>
                    <a:pt x="1033" y="475"/>
                  </a:lnTo>
                  <a:lnTo>
                    <a:pt x="1012" y="502"/>
                  </a:lnTo>
                  <a:lnTo>
                    <a:pt x="1035" y="547"/>
                  </a:lnTo>
                  <a:lnTo>
                    <a:pt x="1063" y="590"/>
                  </a:lnTo>
                  <a:lnTo>
                    <a:pt x="1095" y="643"/>
                  </a:lnTo>
                  <a:lnTo>
                    <a:pt x="1145" y="693"/>
                  </a:lnTo>
                  <a:lnTo>
                    <a:pt x="1221" y="768"/>
                  </a:lnTo>
                  <a:lnTo>
                    <a:pt x="1292" y="855"/>
                  </a:lnTo>
                  <a:lnTo>
                    <a:pt x="1360" y="967"/>
                  </a:lnTo>
                  <a:lnTo>
                    <a:pt x="1417" y="1070"/>
                  </a:lnTo>
                  <a:lnTo>
                    <a:pt x="1465" y="1157"/>
                  </a:lnTo>
                  <a:lnTo>
                    <a:pt x="1479" y="1189"/>
                  </a:lnTo>
                  <a:lnTo>
                    <a:pt x="1483" y="1246"/>
                  </a:lnTo>
                  <a:lnTo>
                    <a:pt x="1498" y="1289"/>
                  </a:lnTo>
                  <a:lnTo>
                    <a:pt x="1522" y="1251"/>
                  </a:lnTo>
                  <a:lnTo>
                    <a:pt x="1567" y="1193"/>
                  </a:lnTo>
                  <a:lnTo>
                    <a:pt x="1627" y="1103"/>
                  </a:lnTo>
                  <a:lnTo>
                    <a:pt x="1666" y="1049"/>
                  </a:lnTo>
                  <a:lnTo>
                    <a:pt x="1683" y="1016"/>
                  </a:lnTo>
                  <a:lnTo>
                    <a:pt x="1703" y="961"/>
                  </a:lnTo>
                  <a:lnTo>
                    <a:pt x="1721" y="925"/>
                  </a:lnTo>
                  <a:lnTo>
                    <a:pt x="1736" y="896"/>
                  </a:lnTo>
                  <a:lnTo>
                    <a:pt x="1757" y="866"/>
                  </a:lnTo>
                  <a:lnTo>
                    <a:pt x="1780" y="840"/>
                  </a:lnTo>
                  <a:lnTo>
                    <a:pt x="1822" y="797"/>
                  </a:lnTo>
                  <a:lnTo>
                    <a:pt x="1867" y="763"/>
                  </a:lnTo>
                  <a:lnTo>
                    <a:pt x="1912" y="742"/>
                  </a:lnTo>
                  <a:lnTo>
                    <a:pt x="1951" y="742"/>
                  </a:lnTo>
                  <a:lnTo>
                    <a:pt x="1987" y="745"/>
                  </a:lnTo>
                  <a:lnTo>
                    <a:pt x="2018" y="764"/>
                  </a:lnTo>
                  <a:lnTo>
                    <a:pt x="2039" y="805"/>
                  </a:lnTo>
                  <a:lnTo>
                    <a:pt x="2038" y="852"/>
                  </a:lnTo>
                  <a:lnTo>
                    <a:pt x="2038" y="873"/>
                  </a:lnTo>
                  <a:lnTo>
                    <a:pt x="2028" y="918"/>
                  </a:lnTo>
                  <a:lnTo>
                    <a:pt x="2009" y="939"/>
                  </a:lnTo>
                  <a:lnTo>
                    <a:pt x="1999" y="983"/>
                  </a:lnTo>
                  <a:lnTo>
                    <a:pt x="1980" y="1049"/>
                  </a:lnTo>
                  <a:lnTo>
                    <a:pt x="1980" y="1114"/>
                  </a:lnTo>
                  <a:lnTo>
                    <a:pt x="1970" y="1179"/>
                  </a:lnTo>
                  <a:lnTo>
                    <a:pt x="1967" y="1214"/>
                  </a:lnTo>
                  <a:lnTo>
                    <a:pt x="1958" y="1248"/>
                  </a:lnTo>
                  <a:lnTo>
                    <a:pt x="1938" y="1287"/>
                  </a:lnTo>
                  <a:lnTo>
                    <a:pt x="1912" y="1321"/>
                  </a:lnTo>
                  <a:lnTo>
                    <a:pt x="1895" y="1387"/>
                  </a:lnTo>
                  <a:lnTo>
                    <a:pt x="1866" y="1452"/>
                  </a:lnTo>
                  <a:lnTo>
                    <a:pt x="1780" y="1606"/>
                  </a:lnTo>
                  <a:lnTo>
                    <a:pt x="1703" y="1714"/>
                  </a:lnTo>
                  <a:lnTo>
                    <a:pt x="1647" y="1791"/>
                  </a:lnTo>
                  <a:lnTo>
                    <a:pt x="1637" y="1834"/>
                  </a:lnTo>
                  <a:lnTo>
                    <a:pt x="1627" y="1878"/>
                  </a:lnTo>
                  <a:lnTo>
                    <a:pt x="1609" y="1927"/>
                  </a:lnTo>
                  <a:lnTo>
                    <a:pt x="1596" y="1988"/>
                  </a:lnTo>
                  <a:lnTo>
                    <a:pt x="1569" y="2053"/>
                  </a:lnTo>
                  <a:lnTo>
                    <a:pt x="1522" y="2141"/>
                  </a:lnTo>
                  <a:lnTo>
                    <a:pt x="1475" y="2206"/>
                  </a:lnTo>
                  <a:lnTo>
                    <a:pt x="1446" y="2249"/>
                  </a:lnTo>
                  <a:lnTo>
                    <a:pt x="1426" y="2316"/>
                  </a:lnTo>
                  <a:lnTo>
                    <a:pt x="1407" y="2359"/>
                  </a:lnTo>
                  <a:lnTo>
                    <a:pt x="1376" y="2458"/>
                  </a:lnTo>
                  <a:lnTo>
                    <a:pt x="616" y="2458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6" name=""/>
            <p:cNvGrpSpPr/>
            <p:nvPr/>
          </p:nvGrpSpPr>
          <p:grpSpPr>
            <a:xfrm>
              <a:off x="6216480" y="1764000"/>
              <a:ext cx="339840" cy="110880"/>
              <a:chOff x="6216480" y="1764000"/>
              <a:chExt cx="339840" cy="110880"/>
            </a:xfrm>
          </p:grpSpPr>
          <p:sp>
            <p:nvSpPr>
              <p:cNvPr id="1757" name=""/>
              <p:cNvSpPr/>
              <p:nvPr/>
            </p:nvSpPr>
            <p:spPr>
              <a:xfrm>
                <a:off x="6518160" y="18558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190" h="100">
                    <a:moveTo>
                      <a:pt x="0" y="0"/>
                    </a:moveTo>
                    <a:lnTo>
                      <a:pt x="38" y="22"/>
                    </a:lnTo>
                    <a:lnTo>
                      <a:pt x="67" y="54"/>
                    </a:lnTo>
                    <a:lnTo>
                      <a:pt x="104" y="89"/>
                    </a:lnTo>
                    <a:lnTo>
                      <a:pt x="132" y="100"/>
                    </a:lnTo>
                    <a:lnTo>
                      <a:pt x="142" y="100"/>
                    </a:lnTo>
                    <a:lnTo>
                      <a:pt x="190" y="8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216480" y="182880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91" h="51">
                    <a:moveTo>
                      <a:pt x="91" y="0"/>
                    </a:moveTo>
                    <a:lnTo>
                      <a:pt x="57" y="34"/>
                    </a:lnTo>
                    <a:lnTo>
                      <a:pt x="30" y="44"/>
                    </a:lnTo>
                    <a:lnTo>
                      <a:pt x="10" y="51"/>
                    </a:lnTo>
                    <a:lnTo>
                      <a:pt x="0" y="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275520" y="1768680"/>
                <a:ext cx="2880" cy="9360"/>
              </a:xfrm>
              <a:custGeom>
                <a:avLst/>
                <a:gdLst/>
                <a:ahLst/>
                <a:rect l="l" t="t" r="r" b="b"/>
                <a:pathLst>
                  <a:path w="19" h="45">
                    <a:moveTo>
                      <a:pt x="0" y="0"/>
                    </a:moveTo>
                    <a:lnTo>
                      <a:pt x="19" y="19"/>
                    </a:lnTo>
                    <a:lnTo>
                      <a:pt x="17" y="30"/>
                    </a:lnTo>
                    <a:lnTo>
                      <a:pt x="1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259680" y="1764000"/>
                <a:ext cx="36360" cy="4680"/>
              </a:xfrm>
              <a:custGeom>
                <a:avLst/>
                <a:gdLst/>
                <a:ahLst/>
                <a:rect l="l" t="t" r="r" b="b"/>
                <a:pathLst>
                  <a:path w="185" h="24">
                    <a:moveTo>
                      <a:pt x="185" y="13"/>
                    </a:moveTo>
                    <a:lnTo>
                      <a:pt x="156" y="24"/>
                    </a:lnTo>
                    <a:lnTo>
                      <a:pt x="41" y="24"/>
                    </a:lnTo>
                    <a:lnTo>
                      <a:pt x="19" y="12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1" name=""/>
            <p:cNvGrpSpPr/>
            <p:nvPr/>
          </p:nvGrpSpPr>
          <p:grpSpPr>
            <a:xfrm>
              <a:off x="6253200" y="1741680"/>
              <a:ext cx="233280" cy="225360"/>
              <a:chOff x="6253200" y="1741680"/>
              <a:chExt cx="233280" cy="225360"/>
            </a:xfrm>
          </p:grpSpPr>
          <p:sp>
            <p:nvSpPr>
              <p:cNvPr id="1762" name=""/>
              <p:cNvSpPr/>
              <p:nvPr/>
            </p:nvSpPr>
            <p:spPr>
              <a:xfrm>
                <a:off x="6269040" y="1782720"/>
                <a:ext cx="217440" cy="184320"/>
              </a:xfrm>
              <a:custGeom>
                <a:avLst/>
                <a:gdLst/>
                <a:ahLst/>
                <a:rect l="l" t="t" r="r" b="b"/>
                <a:pathLst>
                  <a:path w="1096" h="929">
                    <a:moveTo>
                      <a:pt x="1096" y="506"/>
                    </a:moveTo>
                    <a:lnTo>
                      <a:pt x="1015" y="537"/>
                    </a:lnTo>
                    <a:lnTo>
                      <a:pt x="915" y="577"/>
                    </a:lnTo>
                    <a:lnTo>
                      <a:pt x="854" y="617"/>
                    </a:lnTo>
                    <a:lnTo>
                      <a:pt x="804" y="678"/>
                    </a:lnTo>
                    <a:lnTo>
                      <a:pt x="775" y="768"/>
                    </a:lnTo>
                    <a:lnTo>
                      <a:pt x="755" y="838"/>
                    </a:lnTo>
                    <a:lnTo>
                      <a:pt x="694" y="909"/>
                    </a:lnTo>
                    <a:lnTo>
                      <a:pt x="593" y="929"/>
                    </a:lnTo>
                    <a:lnTo>
                      <a:pt x="523" y="899"/>
                    </a:lnTo>
                    <a:lnTo>
                      <a:pt x="472" y="858"/>
                    </a:lnTo>
                    <a:lnTo>
                      <a:pt x="469" y="815"/>
                    </a:lnTo>
                    <a:lnTo>
                      <a:pt x="462" y="778"/>
                    </a:lnTo>
                    <a:lnTo>
                      <a:pt x="422" y="717"/>
                    </a:lnTo>
                    <a:lnTo>
                      <a:pt x="332" y="687"/>
                    </a:lnTo>
                    <a:lnTo>
                      <a:pt x="402" y="641"/>
                    </a:lnTo>
                    <a:lnTo>
                      <a:pt x="476" y="627"/>
                    </a:lnTo>
                    <a:lnTo>
                      <a:pt x="510" y="607"/>
                    </a:lnTo>
                    <a:lnTo>
                      <a:pt x="446" y="603"/>
                    </a:lnTo>
                    <a:lnTo>
                      <a:pt x="373" y="627"/>
                    </a:lnTo>
                    <a:lnTo>
                      <a:pt x="292" y="658"/>
                    </a:lnTo>
                    <a:lnTo>
                      <a:pt x="255" y="627"/>
                    </a:lnTo>
                    <a:lnTo>
                      <a:pt x="249" y="587"/>
                    </a:lnTo>
                    <a:lnTo>
                      <a:pt x="245" y="540"/>
                    </a:lnTo>
                    <a:lnTo>
                      <a:pt x="232" y="496"/>
                    </a:lnTo>
                    <a:lnTo>
                      <a:pt x="181" y="486"/>
                    </a:lnTo>
                    <a:lnTo>
                      <a:pt x="141" y="502"/>
                    </a:lnTo>
                    <a:lnTo>
                      <a:pt x="108" y="534"/>
                    </a:lnTo>
                    <a:lnTo>
                      <a:pt x="60" y="563"/>
                    </a:lnTo>
                    <a:lnTo>
                      <a:pt x="0" y="617"/>
                    </a:lnTo>
                    <a:lnTo>
                      <a:pt x="60" y="527"/>
                    </a:lnTo>
                    <a:lnTo>
                      <a:pt x="171" y="436"/>
                    </a:lnTo>
                    <a:lnTo>
                      <a:pt x="242" y="395"/>
                    </a:lnTo>
                    <a:lnTo>
                      <a:pt x="305" y="378"/>
                    </a:lnTo>
                    <a:lnTo>
                      <a:pt x="359" y="382"/>
                    </a:lnTo>
                    <a:lnTo>
                      <a:pt x="416" y="368"/>
                    </a:lnTo>
                    <a:lnTo>
                      <a:pt x="503" y="345"/>
                    </a:lnTo>
                    <a:lnTo>
                      <a:pt x="613" y="299"/>
                    </a:lnTo>
                    <a:lnTo>
                      <a:pt x="717" y="248"/>
                    </a:lnTo>
                    <a:lnTo>
                      <a:pt x="778" y="218"/>
                    </a:lnTo>
                    <a:lnTo>
                      <a:pt x="811" y="175"/>
                    </a:lnTo>
                    <a:lnTo>
                      <a:pt x="828" y="120"/>
                    </a:lnTo>
                    <a:lnTo>
                      <a:pt x="824" y="64"/>
                    </a:lnTo>
                    <a:lnTo>
                      <a:pt x="811" y="0"/>
                    </a:lnTo>
                    <a:lnTo>
                      <a:pt x="874" y="70"/>
                    </a:lnTo>
                    <a:lnTo>
                      <a:pt x="925" y="150"/>
                    </a:lnTo>
                    <a:lnTo>
                      <a:pt x="985" y="254"/>
                    </a:lnTo>
                    <a:lnTo>
                      <a:pt x="1012" y="312"/>
                    </a:lnTo>
                    <a:lnTo>
                      <a:pt x="1039" y="362"/>
                    </a:lnTo>
                    <a:lnTo>
                      <a:pt x="1076" y="416"/>
                    </a:lnTo>
                    <a:lnTo>
                      <a:pt x="1096" y="506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253200" y="1839960"/>
                <a:ext cx="58680" cy="38160"/>
              </a:xfrm>
              <a:custGeom>
                <a:avLst/>
                <a:gdLst/>
                <a:ahLst/>
                <a:rect l="l" t="t" r="r" b="b"/>
                <a:pathLst>
                  <a:path w="298" h="188">
                    <a:moveTo>
                      <a:pt x="181" y="10"/>
                    </a:moveTo>
                    <a:lnTo>
                      <a:pt x="216" y="21"/>
                    </a:lnTo>
                    <a:lnTo>
                      <a:pt x="253" y="34"/>
                    </a:lnTo>
                    <a:lnTo>
                      <a:pt x="298" y="55"/>
                    </a:lnTo>
                    <a:lnTo>
                      <a:pt x="267" y="69"/>
                    </a:lnTo>
                    <a:lnTo>
                      <a:pt x="209" y="94"/>
                    </a:lnTo>
                    <a:lnTo>
                      <a:pt x="147" y="128"/>
                    </a:lnTo>
                    <a:lnTo>
                      <a:pt x="106" y="167"/>
                    </a:lnTo>
                    <a:lnTo>
                      <a:pt x="82" y="188"/>
                    </a:lnTo>
                    <a:lnTo>
                      <a:pt x="109" y="125"/>
                    </a:lnTo>
                    <a:lnTo>
                      <a:pt x="119" y="79"/>
                    </a:lnTo>
                    <a:lnTo>
                      <a:pt x="119" y="52"/>
                    </a:lnTo>
                    <a:lnTo>
                      <a:pt x="88" y="45"/>
                    </a:lnTo>
                    <a:lnTo>
                      <a:pt x="0" y="87"/>
                    </a:lnTo>
                    <a:lnTo>
                      <a:pt x="72" y="34"/>
                    </a:lnTo>
                    <a:lnTo>
                      <a:pt x="116" y="0"/>
                    </a:lnTo>
                    <a:lnTo>
                      <a:pt x="147" y="3"/>
                    </a:lnTo>
                    <a:lnTo>
                      <a:pt x="181" y="10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307200" y="1741680"/>
                <a:ext cx="109440" cy="90360"/>
              </a:xfrm>
              <a:custGeom>
                <a:avLst/>
                <a:gdLst/>
                <a:ahLst/>
                <a:rect l="l" t="t" r="r" b="b"/>
                <a:pathLst>
                  <a:path w="554" h="450">
                    <a:moveTo>
                      <a:pt x="554" y="142"/>
                    </a:moveTo>
                    <a:lnTo>
                      <a:pt x="489" y="152"/>
                    </a:lnTo>
                    <a:lnTo>
                      <a:pt x="438" y="172"/>
                    </a:lnTo>
                    <a:lnTo>
                      <a:pt x="377" y="213"/>
                    </a:lnTo>
                    <a:lnTo>
                      <a:pt x="324" y="264"/>
                    </a:lnTo>
                    <a:lnTo>
                      <a:pt x="273" y="345"/>
                    </a:lnTo>
                    <a:lnTo>
                      <a:pt x="250" y="399"/>
                    </a:lnTo>
                    <a:lnTo>
                      <a:pt x="267" y="450"/>
                    </a:lnTo>
                    <a:lnTo>
                      <a:pt x="199" y="403"/>
                    </a:lnTo>
                    <a:lnTo>
                      <a:pt x="135" y="380"/>
                    </a:lnTo>
                    <a:lnTo>
                      <a:pt x="84" y="358"/>
                    </a:lnTo>
                    <a:lnTo>
                      <a:pt x="33" y="342"/>
                    </a:lnTo>
                    <a:lnTo>
                      <a:pt x="0" y="325"/>
                    </a:lnTo>
                    <a:lnTo>
                      <a:pt x="44" y="264"/>
                    </a:lnTo>
                    <a:lnTo>
                      <a:pt x="84" y="294"/>
                    </a:lnTo>
                    <a:lnTo>
                      <a:pt x="148" y="325"/>
                    </a:lnTo>
                    <a:lnTo>
                      <a:pt x="203" y="325"/>
                    </a:lnTo>
                    <a:lnTo>
                      <a:pt x="253" y="315"/>
                    </a:lnTo>
                    <a:lnTo>
                      <a:pt x="283" y="304"/>
                    </a:lnTo>
                    <a:lnTo>
                      <a:pt x="314" y="284"/>
                    </a:lnTo>
                    <a:lnTo>
                      <a:pt x="324" y="220"/>
                    </a:lnTo>
                    <a:lnTo>
                      <a:pt x="314" y="172"/>
                    </a:lnTo>
                    <a:lnTo>
                      <a:pt x="283" y="111"/>
                    </a:lnTo>
                    <a:lnTo>
                      <a:pt x="273" y="80"/>
                    </a:lnTo>
                    <a:lnTo>
                      <a:pt x="318" y="70"/>
                    </a:lnTo>
                    <a:lnTo>
                      <a:pt x="374" y="54"/>
                    </a:lnTo>
                    <a:lnTo>
                      <a:pt x="412" y="10"/>
                    </a:lnTo>
                    <a:lnTo>
                      <a:pt x="445" y="0"/>
                    </a:lnTo>
                    <a:lnTo>
                      <a:pt x="483" y="57"/>
                    </a:lnTo>
                    <a:lnTo>
                      <a:pt x="516" y="105"/>
                    </a:lnTo>
                    <a:lnTo>
                      <a:pt x="554" y="142"/>
                    </a:lnTo>
                    <a:close/>
                  </a:path>
                </a:pathLst>
              </a:custGeom>
              <a:solidFill>
                <a:srgbClr val="d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5" name=""/>
          <p:cNvGrpSpPr/>
          <p:nvPr/>
        </p:nvGrpSpPr>
        <p:grpSpPr>
          <a:xfrm>
            <a:off x="6311880" y="1487520"/>
            <a:ext cx="344520" cy="681120"/>
            <a:chOff x="6311880" y="1487520"/>
            <a:chExt cx="344520" cy="681120"/>
          </a:xfrm>
        </p:grpSpPr>
        <p:sp>
          <p:nvSpPr>
            <p:cNvPr id="1766" name=""/>
            <p:cNvSpPr/>
            <p:nvPr/>
          </p:nvSpPr>
          <p:spPr>
            <a:xfrm>
              <a:off x="6335640" y="1974960"/>
              <a:ext cx="314280" cy="155520"/>
            </a:xfrm>
            <a:custGeom>
              <a:avLst/>
              <a:gdLst/>
              <a:ahLst/>
              <a:rect l="l" t="t" r="r" b="b"/>
              <a:pathLst>
                <a:path w="1590" h="788">
                  <a:moveTo>
                    <a:pt x="1590" y="788"/>
                  </a:moveTo>
                  <a:lnTo>
                    <a:pt x="779" y="287"/>
                  </a:lnTo>
                  <a:lnTo>
                    <a:pt x="0" y="0"/>
                  </a:lnTo>
                  <a:lnTo>
                    <a:pt x="79" y="228"/>
                  </a:lnTo>
                  <a:lnTo>
                    <a:pt x="762" y="593"/>
                  </a:lnTo>
                  <a:lnTo>
                    <a:pt x="1590" y="788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6445080" y="2059200"/>
              <a:ext cx="211320" cy="109440"/>
            </a:xfrm>
            <a:custGeom>
              <a:avLst/>
              <a:gdLst/>
              <a:ahLst/>
              <a:rect l="l" t="t" r="r" b="b"/>
              <a:pathLst>
                <a:path w="1061" h="548">
                  <a:moveTo>
                    <a:pt x="124" y="0"/>
                  </a:moveTo>
                  <a:lnTo>
                    <a:pt x="0" y="11"/>
                  </a:lnTo>
                  <a:lnTo>
                    <a:pt x="0" y="86"/>
                  </a:lnTo>
                  <a:lnTo>
                    <a:pt x="67" y="186"/>
                  </a:lnTo>
                  <a:lnTo>
                    <a:pt x="974" y="544"/>
                  </a:lnTo>
                  <a:lnTo>
                    <a:pt x="994" y="548"/>
                  </a:lnTo>
                  <a:lnTo>
                    <a:pt x="1012" y="544"/>
                  </a:lnTo>
                  <a:lnTo>
                    <a:pt x="1028" y="525"/>
                  </a:lnTo>
                  <a:lnTo>
                    <a:pt x="1046" y="479"/>
                  </a:lnTo>
                  <a:lnTo>
                    <a:pt x="1056" y="445"/>
                  </a:lnTo>
                  <a:lnTo>
                    <a:pt x="1061" y="413"/>
                  </a:lnTo>
                  <a:lnTo>
                    <a:pt x="1052" y="380"/>
                  </a:lnTo>
                  <a:lnTo>
                    <a:pt x="1031" y="359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311880" y="1487520"/>
              <a:ext cx="303120" cy="608040"/>
            </a:xfrm>
            <a:custGeom>
              <a:avLst/>
              <a:gdLst/>
              <a:ahLst/>
              <a:rect l="l" t="t" r="r" b="b"/>
              <a:pathLst>
                <a:path w="1528" h="3065">
                  <a:moveTo>
                    <a:pt x="1528" y="399"/>
                  </a:moveTo>
                  <a:lnTo>
                    <a:pt x="1524" y="367"/>
                  </a:lnTo>
                  <a:lnTo>
                    <a:pt x="1509" y="344"/>
                  </a:lnTo>
                  <a:lnTo>
                    <a:pt x="1485" y="318"/>
                  </a:lnTo>
                  <a:lnTo>
                    <a:pt x="1405" y="265"/>
                  </a:lnTo>
                  <a:lnTo>
                    <a:pt x="1041" y="63"/>
                  </a:lnTo>
                  <a:lnTo>
                    <a:pt x="989" y="39"/>
                  </a:lnTo>
                  <a:lnTo>
                    <a:pt x="956" y="23"/>
                  </a:lnTo>
                  <a:lnTo>
                    <a:pt x="915" y="10"/>
                  </a:lnTo>
                  <a:lnTo>
                    <a:pt x="890" y="3"/>
                  </a:lnTo>
                  <a:lnTo>
                    <a:pt x="852" y="0"/>
                  </a:lnTo>
                  <a:lnTo>
                    <a:pt x="818" y="3"/>
                  </a:lnTo>
                  <a:lnTo>
                    <a:pt x="792" y="6"/>
                  </a:lnTo>
                  <a:lnTo>
                    <a:pt x="755" y="17"/>
                  </a:lnTo>
                  <a:lnTo>
                    <a:pt x="718" y="33"/>
                  </a:lnTo>
                  <a:lnTo>
                    <a:pt x="685" y="55"/>
                  </a:lnTo>
                  <a:lnTo>
                    <a:pt x="650" y="76"/>
                  </a:lnTo>
                  <a:lnTo>
                    <a:pt x="617" y="99"/>
                  </a:lnTo>
                  <a:lnTo>
                    <a:pt x="581" y="125"/>
                  </a:lnTo>
                  <a:lnTo>
                    <a:pt x="545" y="159"/>
                  </a:lnTo>
                  <a:lnTo>
                    <a:pt x="525" y="182"/>
                  </a:lnTo>
                  <a:lnTo>
                    <a:pt x="509" y="208"/>
                  </a:lnTo>
                  <a:lnTo>
                    <a:pt x="497" y="247"/>
                  </a:lnTo>
                  <a:lnTo>
                    <a:pt x="10" y="2398"/>
                  </a:lnTo>
                  <a:lnTo>
                    <a:pt x="0" y="2442"/>
                  </a:lnTo>
                  <a:lnTo>
                    <a:pt x="0" y="2463"/>
                  </a:lnTo>
                  <a:lnTo>
                    <a:pt x="0" y="2491"/>
                  </a:lnTo>
                  <a:lnTo>
                    <a:pt x="2" y="2518"/>
                  </a:lnTo>
                  <a:lnTo>
                    <a:pt x="12" y="2563"/>
                  </a:lnTo>
                  <a:lnTo>
                    <a:pt x="19" y="2583"/>
                  </a:lnTo>
                  <a:lnTo>
                    <a:pt x="39" y="2617"/>
                  </a:lnTo>
                  <a:lnTo>
                    <a:pt x="52" y="2641"/>
                  </a:lnTo>
                  <a:lnTo>
                    <a:pt x="81" y="2673"/>
                  </a:lnTo>
                  <a:lnTo>
                    <a:pt x="115" y="2701"/>
                  </a:lnTo>
                  <a:lnTo>
                    <a:pt x="160" y="2732"/>
                  </a:lnTo>
                  <a:lnTo>
                    <a:pt x="196" y="2755"/>
                  </a:lnTo>
                  <a:lnTo>
                    <a:pt x="740" y="3065"/>
                  </a:lnTo>
                  <a:lnTo>
                    <a:pt x="731" y="3032"/>
                  </a:lnTo>
                  <a:lnTo>
                    <a:pt x="730" y="3000"/>
                  </a:lnTo>
                  <a:lnTo>
                    <a:pt x="736" y="2974"/>
                  </a:lnTo>
                  <a:lnTo>
                    <a:pt x="745" y="2945"/>
                  </a:lnTo>
                  <a:lnTo>
                    <a:pt x="759" y="2917"/>
                  </a:lnTo>
                  <a:lnTo>
                    <a:pt x="778" y="2893"/>
                  </a:lnTo>
                  <a:lnTo>
                    <a:pt x="803" y="2879"/>
                  </a:lnTo>
                  <a:lnTo>
                    <a:pt x="201" y="2529"/>
                  </a:lnTo>
                  <a:lnTo>
                    <a:pt x="181" y="2512"/>
                  </a:lnTo>
                  <a:lnTo>
                    <a:pt x="173" y="2502"/>
                  </a:lnTo>
                  <a:lnTo>
                    <a:pt x="168" y="2486"/>
                  </a:lnTo>
                  <a:lnTo>
                    <a:pt x="162" y="2452"/>
                  </a:lnTo>
                  <a:lnTo>
                    <a:pt x="162" y="2431"/>
                  </a:lnTo>
                  <a:lnTo>
                    <a:pt x="459" y="1154"/>
                  </a:lnTo>
                  <a:lnTo>
                    <a:pt x="489" y="1097"/>
                  </a:lnTo>
                  <a:lnTo>
                    <a:pt x="518" y="1064"/>
                  </a:lnTo>
                  <a:lnTo>
                    <a:pt x="565" y="1015"/>
                  </a:lnTo>
                  <a:lnTo>
                    <a:pt x="602" y="978"/>
                  </a:lnTo>
                  <a:lnTo>
                    <a:pt x="1528" y="399"/>
                  </a:lnTo>
                  <a:close/>
                </a:path>
              </a:pathLst>
            </a:custGeom>
            <a:solidFill>
              <a:srgbClr val="80808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32480" y="1498680"/>
              <a:ext cx="190440" cy="270000"/>
            </a:xfrm>
            <a:custGeom>
              <a:avLst/>
              <a:gdLst/>
              <a:ahLst/>
              <a:rect l="l" t="t" r="r" b="b"/>
              <a:pathLst>
                <a:path w="958" h="1355">
                  <a:moveTo>
                    <a:pt x="927" y="365"/>
                  </a:moveTo>
                  <a:lnTo>
                    <a:pt x="896" y="327"/>
                  </a:lnTo>
                  <a:lnTo>
                    <a:pt x="848" y="289"/>
                  </a:lnTo>
                  <a:lnTo>
                    <a:pt x="779" y="251"/>
                  </a:lnTo>
                  <a:lnTo>
                    <a:pt x="604" y="154"/>
                  </a:lnTo>
                  <a:lnTo>
                    <a:pt x="413" y="55"/>
                  </a:lnTo>
                  <a:lnTo>
                    <a:pt x="345" y="22"/>
                  </a:lnTo>
                  <a:lnTo>
                    <a:pt x="299" y="6"/>
                  </a:lnTo>
                  <a:lnTo>
                    <a:pt x="263" y="0"/>
                  </a:lnTo>
                  <a:lnTo>
                    <a:pt x="235" y="0"/>
                  </a:lnTo>
                  <a:lnTo>
                    <a:pt x="211" y="5"/>
                  </a:lnTo>
                  <a:lnTo>
                    <a:pt x="188" y="22"/>
                  </a:lnTo>
                  <a:lnTo>
                    <a:pt x="169" y="43"/>
                  </a:lnTo>
                  <a:lnTo>
                    <a:pt x="152" y="79"/>
                  </a:lnTo>
                  <a:lnTo>
                    <a:pt x="0" y="866"/>
                  </a:lnTo>
                  <a:lnTo>
                    <a:pt x="0" y="899"/>
                  </a:lnTo>
                  <a:lnTo>
                    <a:pt x="0" y="942"/>
                  </a:lnTo>
                  <a:lnTo>
                    <a:pt x="6" y="973"/>
                  </a:lnTo>
                  <a:lnTo>
                    <a:pt x="16" y="995"/>
                  </a:lnTo>
                  <a:lnTo>
                    <a:pt x="30" y="1016"/>
                  </a:lnTo>
                  <a:lnTo>
                    <a:pt x="58" y="1044"/>
                  </a:lnTo>
                  <a:lnTo>
                    <a:pt x="87" y="1063"/>
                  </a:lnTo>
                  <a:lnTo>
                    <a:pt x="121" y="1082"/>
                  </a:lnTo>
                  <a:lnTo>
                    <a:pt x="575" y="1318"/>
                  </a:lnTo>
                  <a:lnTo>
                    <a:pt x="619" y="1335"/>
                  </a:lnTo>
                  <a:lnTo>
                    <a:pt x="656" y="1347"/>
                  </a:lnTo>
                  <a:lnTo>
                    <a:pt x="700" y="1355"/>
                  </a:lnTo>
                  <a:lnTo>
                    <a:pt x="728" y="1355"/>
                  </a:lnTo>
                  <a:lnTo>
                    <a:pt x="757" y="1347"/>
                  </a:lnTo>
                  <a:lnTo>
                    <a:pt x="779" y="1319"/>
                  </a:lnTo>
                  <a:lnTo>
                    <a:pt x="791" y="1270"/>
                  </a:lnTo>
                  <a:lnTo>
                    <a:pt x="809" y="1208"/>
                  </a:lnTo>
                  <a:lnTo>
                    <a:pt x="888" y="866"/>
                  </a:lnTo>
                  <a:lnTo>
                    <a:pt x="945" y="527"/>
                  </a:lnTo>
                  <a:lnTo>
                    <a:pt x="958" y="448"/>
                  </a:lnTo>
                  <a:lnTo>
                    <a:pt x="955" y="419"/>
                  </a:lnTo>
                  <a:lnTo>
                    <a:pt x="946" y="394"/>
                  </a:lnTo>
                  <a:lnTo>
                    <a:pt x="927" y="365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334200" y="1679760"/>
              <a:ext cx="249120" cy="352440"/>
            </a:xfrm>
            <a:custGeom>
              <a:avLst/>
              <a:gdLst/>
              <a:ahLst/>
              <a:rect l="l" t="t" r="r" b="b"/>
              <a:pathLst>
                <a:path w="1255" h="1769">
                  <a:moveTo>
                    <a:pt x="1249" y="448"/>
                  </a:moveTo>
                  <a:lnTo>
                    <a:pt x="1255" y="442"/>
                  </a:lnTo>
                  <a:lnTo>
                    <a:pt x="1194" y="469"/>
                  </a:lnTo>
                  <a:lnTo>
                    <a:pt x="1155" y="485"/>
                  </a:lnTo>
                  <a:lnTo>
                    <a:pt x="1136" y="496"/>
                  </a:lnTo>
                  <a:lnTo>
                    <a:pt x="1107" y="531"/>
                  </a:lnTo>
                  <a:lnTo>
                    <a:pt x="1088" y="574"/>
                  </a:lnTo>
                  <a:lnTo>
                    <a:pt x="797" y="1769"/>
                  </a:lnTo>
                  <a:lnTo>
                    <a:pt x="0" y="1486"/>
                  </a:lnTo>
                  <a:lnTo>
                    <a:pt x="325" y="32"/>
                  </a:lnTo>
                  <a:lnTo>
                    <a:pt x="496" y="0"/>
                  </a:lnTo>
                  <a:lnTo>
                    <a:pt x="1249" y="448"/>
                  </a:lnTo>
                  <a:close/>
                </a:path>
              </a:pathLst>
            </a:custGeom>
            <a:solidFill>
              <a:srgbClr val="60606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473880" y="1555920"/>
              <a:ext cx="128520" cy="147600"/>
              <a:chOff x="6473880" y="1555920"/>
              <a:chExt cx="128520" cy="147600"/>
            </a:xfrm>
          </p:grpSpPr>
          <p:sp>
            <p:nvSpPr>
              <p:cNvPr id="1772" name=""/>
              <p:cNvSpPr/>
              <p:nvPr/>
            </p:nvSpPr>
            <p:spPr>
              <a:xfrm>
                <a:off x="6473880" y="1555920"/>
                <a:ext cx="128520" cy="147600"/>
              </a:xfrm>
              <a:prstGeom prst="ellipse">
                <a:avLst/>
              </a:prstGeom>
              <a:solidFill>
                <a:srgbClr val="40404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6505560" y="1581120"/>
                <a:ext cx="69840" cy="96840"/>
                <a:chOff x="6505560" y="1581120"/>
                <a:chExt cx="69840" cy="96840"/>
              </a:xfrm>
            </p:grpSpPr>
            <p:sp>
              <p:nvSpPr>
                <p:cNvPr id="1774" name=""/>
                <p:cNvSpPr/>
                <p:nvPr/>
              </p:nvSpPr>
              <p:spPr>
                <a:xfrm>
                  <a:off x="6537240" y="1623960"/>
                  <a:ext cx="6480" cy="828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>
                  <a:off x="656100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>
                  <a:off x="6505560" y="165096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6529320" y="166068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6554880" y="1670040"/>
                  <a:ext cx="61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6519960" y="163512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6543720" y="164628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6518160" y="158112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543720" y="15908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65674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6510240" y="1616040"/>
                  <a:ext cx="648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6526080" y="160200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6551640" y="1611360"/>
                  <a:ext cx="7920" cy="7920"/>
                </a:xfrm>
                <a:prstGeom prst="ellipse">
                  <a:avLst/>
                </a:pr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87" name=""/>
            <p:cNvGrpSpPr/>
            <p:nvPr/>
          </p:nvGrpSpPr>
          <p:grpSpPr>
            <a:xfrm>
              <a:off x="6373800" y="1731960"/>
              <a:ext cx="168120" cy="274680"/>
              <a:chOff x="6373800" y="1731960"/>
              <a:chExt cx="168120" cy="274680"/>
            </a:xfrm>
          </p:grpSpPr>
          <p:sp>
            <p:nvSpPr>
              <p:cNvPr id="1788" name=""/>
              <p:cNvSpPr/>
              <p:nvPr/>
            </p:nvSpPr>
            <p:spPr>
              <a:xfrm>
                <a:off x="6458040" y="19670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424560" y="1731960"/>
                <a:ext cx="3348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465960" y="17496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507000" y="17686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413400" y="177336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6456240" y="17892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497640" y="180828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402240" y="181152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6445080" y="182880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486480" y="184788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6392880" y="1852560"/>
                <a:ext cx="3348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6435720" y="1868760"/>
                <a:ext cx="334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6475320" y="1887480"/>
                <a:ext cx="34920" cy="399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6383160" y="1892520"/>
                <a:ext cx="3528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424560" y="190980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465960" y="192744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6373800" y="1932120"/>
                <a:ext cx="34920" cy="381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6416640" y="1947960"/>
                <a:ext cx="34920" cy="396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6" name=""/>
          <p:cNvGrpSpPr/>
          <p:nvPr/>
        </p:nvGrpSpPr>
        <p:grpSpPr>
          <a:xfrm>
            <a:off x="6208560" y="1630440"/>
            <a:ext cx="198720" cy="226440"/>
            <a:chOff x="6208560" y="1630440"/>
            <a:chExt cx="198720" cy="226440"/>
          </a:xfrm>
        </p:grpSpPr>
        <p:grpSp>
          <p:nvGrpSpPr>
            <p:cNvPr id="1807" name=""/>
            <p:cNvGrpSpPr/>
            <p:nvPr/>
          </p:nvGrpSpPr>
          <p:grpSpPr>
            <a:xfrm>
              <a:off x="6272280" y="1701720"/>
              <a:ext cx="96840" cy="102600"/>
              <a:chOff x="6272280" y="1701720"/>
              <a:chExt cx="96840" cy="102600"/>
            </a:xfrm>
          </p:grpSpPr>
          <p:sp>
            <p:nvSpPr>
              <p:cNvPr id="1808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6272280" y="1701720"/>
                <a:ext cx="96840" cy="102600"/>
              </a:xfrm>
              <a:custGeom>
                <a:avLst/>
                <a:gdLst/>
                <a:ahLst/>
                <a:rect l="l" t="t" r="r" b="b"/>
                <a:pathLst>
                  <a:path w="490" h="516">
                    <a:moveTo>
                      <a:pt x="0" y="0"/>
                    </a:moveTo>
                    <a:lnTo>
                      <a:pt x="94" y="27"/>
                    </a:lnTo>
                    <a:lnTo>
                      <a:pt x="180" y="54"/>
                    </a:lnTo>
                    <a:lnTo>
                      <a:pt x="252" y="77"/>
                    </a:lnTo>
                    <a:lnTo>
                      <a:pt x="347" y="140"/>
                    </a:lnTo>
                    <a:lnTo>
                      <a:pt x="374" y="173"/>
                    </a:lnTo>
                    <a:lnTo>
                      <a:pt x="403" y="227"/>
                    </a:lnTo>
                    <a:lnTo>
                      <a:pt x="440" y="289"/>
                    </a:lnTo>
                    <a:lnTo>
                      <a:pt x="472" y="355"/>
                    </a:lnTo>
                    <a:lnTo>
                      <a:pt x="487" y="393"/>
                    </a:lnTo>
                    <a:lnTo>
                      <a:pt x="490" y="420"/>
                    </a:lnTo>
                    <a:lnTo>
                      <a:pt x="490" y="444"/>
                    </a:lnTo>
                    <a:lnTo>
                      <a:pt x="483" y="463"/>
                    </a:lnTo>
                    <a:lnTo>
                      <a:pt x="462" y="485"/>
                    </a:lnTo>
                    <a:lnTo>
                      <a:pt x="443" y="502"/>
                    </a:lnTo>
                    <a:lnTo>
                      <a:pt x="400" y="513"/>
                    </a:lnTo>
                    <a:lnTo>
                      <a:pt x="369" y="516"/>
                    </a:lnTo>
                    <a:lnTo>
                      <a:pt x="329" y="516"/>
                    </a:lnTo>
                    <a:lnTo>
                      <a:pt x="300" y="507"/>
                    </a:lnTo>
                    <a:lnTo>
                      <a:pt x="270" y="490"/>
                    </a:lnTo>
                    <a:lnTo>
                      <a:pt x="250" y="479"/>
                    </a:lnTo>
                    <a:lnTo>
                      <a:pt x="228" y="459"/>
                    </a:lnTo>
                    <a:lnTo>
                      <a:pt x="213" y="435"/>
                    </a:lnTo>
                    <a:lnTo>
                      <a:pt x="193" y="402"/>
                    </a:lnTo>
                    <a:lnTo>
                      <a:pt x="174" y="370"/>
                    </a:lnTo>
                    <a:lnTo>
                      <a:pt x="167" y="355"/>
                    </a:lnTo>
                    <a:lnTo>
                      <a:pt x="153" y="333"/>
                    </a:lnTo>
                    <a:lnTo>
                      <a:pt x="138" y="2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6323040" y="1655640"/>
              <a:ext cx="71280" cy="80640"/>
              <a:chOff x="6323040" y="1655640"/>
              <a:chExt cx="71280" cy="80640"/>
            </a:xfrm>
          </p:grpSpPr>
          <p:sp>
            <p:nvSpPr>
              <p:cNvPr id="1811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6323040" y="16556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364" h="405">
                    <a:moveTo>
                      <a:pt x="0" y="0"/>
                    </a:moveTo>
                    <a:lnTo>
                      <a:pt x="86" y="8"/>
                    </a:lnTo>
                    <a:lnTo>
                      <a:pt x="139" y="25"/>
                    </a:lnTo>
                    <a:lnTo>
                      <a:pt x="183" y="53"/>
                    </a:lnTo>
                    <a:lnTo>
                      <a:pt x="225" y="79"/>
                    </a:lnTo>
                    <a:lnTo>
                      <a:pt x="248" y="107"/>
                    </a:lnTo>
                    <a:lnTo>
                      <a:pt x="277" y="135"/>
                    </a:lnTo>
                    <a:lnTo>
                      <a:pt x="307" y="185"/>
                    </a:lnTo>
                    <a:lnTo>
                      <a:pt x="331" y="231"/>
                    </a:lnTo>
                    <a:lnTo>
                      <a:pt x="348" y="267"/>
                    </a:lnTo>
                    <a:lnTo>
                      <a:pt x="364" y="298"/>
                    </a:lnTo>
                    <a:lnTo>
                      <a:pt x="364" y="335"/>
                    </a:lnTo>
                    <a:lnTo>
                      <a:pt x="344" y="368"/>
                    </a:lnTo>
                    <a:lnTo>
                      <a:pt x="303" y="387"/>
                    </a:lnTo>
                    <a:lnTo>
                      <a:pt x="254" y="401"/>
                    </a:lnTo>
                    <a:lnTo>
                      <a:pt x="215" y="405"/>
                    </a:lnTo>
                    <a:lnTo>
                      <a:pt x="171" y="391"/>
                    </a:lnTo>
                    <a:lnTo>
                      <a:pt x="130" y="374"/>
                    </a:lnTo>
                    <a:lnTo>
                      <a:pt x="90" y="340"/>
                    </a:lnTo>
                    <a:lnTo>
                      <a:pt x="61" y="323"/>
                    </a:lnTo>
                    <a:lnTo>
                      <a:pt x="30" y="302"/>
                    </a:lnTo>
                    <a:lnTo>
                      <a:pt x="14" y="275"/>
                    </a:lnTo>
                    <a:lnTo>
                      <a:pt x="1" y="243"/>
                    </a:lnTo>
                    <a:lnTo>
                      <a:pt x="0" y="20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3" name=""/>
            <p:cNvGrpSpPr/>
            <p:nvPr/>
          </p:nvGrpSpPr>
          <p:grpSpPr>
            <a:xfrm>
              <a:off x="6208560" y="1768320"/>
              <a:ext cx="152640" cy="88560"/>
              <a:chOff x="6208560" y="1768320"/>
              <a:chExt cx="152640" cy="88560"/>
            </a:xfrm>
          </p:grpSpPr>
          <p:sp>
            <p:nvSpPr>
              <p:cNvPr id="1814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6208560" y="1768320"/>
                <a:ext cx="152640" cy="88560"/>
              </a:xfrm>
              <a:custGeom>
                <a:avLst/>
                <a:gdLst/>
                <a:ahLst/>
                <a:rect l="l" t="t" r="r" b="b"/>
                <a:pathLst>
                  <a:path w="766" h="449">
                    <a:moveTo>
                      <a:pt x="0" y="0"/>
                    </a:moveTo>
                    <a:lnTo>
                      <a:pt x="141" y="17"/>
                    </a:lnTo>
                    <a:lnTo>
                      <a:pt x="232" y="29"/>
                    </a:lnTo>
                    <a:lnTo>
                      <a:pt x="281" y="43"/>
                    </a:lnTo>
                    <a:lnTo>
                      <a:pt x="338" y="71"/>
                    </a:lnTo>
                    <a:lnTo>
                      <a:pt x="418" y="153"/>
                    </a:lnTo>
                    <a:lnTo>
                      <a:pt x="522" y="213"/>
                    </a:lnTo>
                    <a:lnTo>
                      <a:pt x="600" y="239"/>
                    </a:lnTo>
                    <a:lnTo>
                      <a:pt x="659" y="261"/>
                    </a:lnTo>
                    <a:lnTo>
                      <a:pt x="709" y="285"/>
                    </a:lnTo>
                    <a:lnTo>
                      <a:pt x="738" y="307"/>
                    </a:lnTo>
                    <a:lnTo>
                      <a:pt x="766" y="329"/>
                    </a:lnTo>
                    <a:lnTo>
                      <a:pt x="766" y="362"/>
                    </a:lnTo>
                    <a:lnTo>
                      <a:pt x="756" y="396"/>
                    </a:lnTo>
                    <a:lnTo>
                      <a:pt x="738" y="418"/>
                    </a:lnTo>
                    <a:lnTo>
                      <a:pt x="718" y="429"/>
                    </a:lnTo>
                    <a:lnTo>
                      <a:pt x="691" y="442"/>
                    </a:lnTo>
                    <a:lnTo>
                      <a:pt x="655" y="449"/>
                    </a:lnTo>
                    <a:lnTo>
                      <a:pt x="624" y="449"/>
                    </a:lnTo>
                    <a:lnTo>
                      <a:pt x="585" y="436"/>
                    </a:lnTo>
                    <a:lnTo>
                      <a:pt x="552" y="429"/>
                    </a:lnTo>
                    <a:lnTo>
                      <a:pt x="446" y="383"/>
                    </a:lnTo>
                    <a:lnTo>
                      <a:pt x="367" y="362"/>
                    </a:lnTo>
                    <a:lnTo>
                      <a:pt x="319" y="353"/>
                    </a:lnTo>
                    <a:lnTo>
                      <a:pt x="269" y="340"/>
                    </a:lnTo>
                    <a:lnTo>
                      <a:pt x="217" y="318"/>
                    </a:lnTo>
                    <a:lnTo>
                      <a:pt x="178" y="297"/>
                    </a:lnTo>
                    <a:lnTo>
                      <a:pt x="160" y="279"/>
                    </a:lnTo>
                    <a:lnTo>
                      <a:pt x="136" y="2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6" name=""/>
            <p:cNvSpPr/>
            <p:nvPr/>
          </p:nvSpPr>
          <p:spPr>
            <a:xfrm>
              <a:off x="6323040" y="1630440"/>
              <a:ext cx="84240" cy="53640"/>
            </a:xfrm>
            <a:custGeom>
              <a:avLst/>
              <a:gdLst/>
              <a:ahLst/>
              <a:rect l="l" t="t" r="r" b="b"/>
              <a:pathLst>
                <a:path w="428" h="272">
                  <a:moveTo>
                    <a:pt x="0" y="127"/>
                  </a:moveTo>
                  <a:lnTo>
                    <a:pt x="14" y="99"/>
                  </a:lnTo>
                  <a:lnTo>
                    <a:pt x="30" y="64"/>
                  </a:lnTo>
                  <a:lnTo>
                    <a:pt x="50" y="40"/>
                  </a:lnTo>
                  <a:lnTo>
                    <a:pt x="76" y="21"/>
                  </a:lnTo>
                  <a:lnTo>
                    <a:pt x="107" y="7"/>
                  </a:lnTo>
                  <a:lnTo>
                    <a:pt x="140" y="3"/>
                  </a:lnTo>
                  <a:lnTo>
                    <a:pt x="173" y="0"/>
                  </a:lnTo>
                  <a:lnTo>
                    <a:pt x="215" y="1"/>
                  </a:lnTo>
                  <a:lnTo>
                    <a:pt x="258" y="4"/>
                  </a:lnTo>
                  <a:lnTo>
                    <a:pt x="303" y="6"/>
                  </a:lnTo>
                  <a:lnTo>
                    <a:pt x="351" y="11"/>
                  </a:lnTo>
                  <a:lnTo>
                    <a:pt x="385" y="21"/>
                  </a:lnTo>
                  <a:lnTo>
                    <a:pt x="399" y="36"/>
                  </a:lnTo>
                  <a:lnTo>
                    <a:pt x="412" y="59"/>
                  </a:lnTo>
                  <a:lnTo>
                    <a:pt x="421" y="86"/>
                  </a:lnTo>
                  <a:lnTo>
                    <a:pt x="426" y="120"/>
                  </a:lnTo>
                  <a:lnTo>
                    <a:pt x="428" y="160"/>
                  </a:lnTo>
                  <a:lnTo>
                    <a:pt x="421" y="199"/>
                  </a:lnTo>
                  <a:lnTo>
                    <a:pt x="408" y="230"/>
                  </a:lnTo>
                  <a:lnTo>
                    <a:pt x="388" y="250"/>
                  </a:lnTo>
                  <a:lnTo>
                    <a:pt x="368" y="262"/>
                  </a:lnTo>
                  <a:lnTo>
                    <a:pt x="338" y="270"/>
                  </a:lnTo>
                  <a:lnTo>
                    <a:pt x="309" y="272"/>
                  </a:lnTo>
                  <a:lnTo>
                    <a:pt x="282" y="270"/>
                  </a:lnTo>
                  <a:lnTo>
                    <a:pt x="252" y="242"/>
                  </a:lnTo>
                  <a:lnTo>
                    <a:pt x="232" y="219"/>
                  </a:lnTo>
                  <a:lnTo>
                    <a:pt x="202" y="197"/>
                  </a:lnTo>
                  <a:lnTo>
                    <a:pt x="173" y="179"/>
                  </a:lnTo>
                  <a:lnTo>
                    <a:pt x="140" y="159"/>
                  </a:lnTo>
                  <a:lnTo>
                    <a:pt x="109" y="147"/>
                  </a:lnTo>
                  <a:lnTo>
                    <a:pt x="83" y="139"/>
                  </a:lnTo>
                  <a:lnTo>
                    <a:pt x="59" y="13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ffc0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7" name=""/>
          <p:cNvSpPr/>
          <p:nvPr/>
        </p:nvSpPr>
        <p:spPr>
          <a:xfrm>
            <a:off x="2209680" y="1676520"/>
            <a:ext cx="914400" cy="685800"/>
          </a:xfrm>
          <a:prstGeom prst="hexagon">
            <a:avLst>
              <a:gd name="adj" fmla="val 33333"/>
              <a:gd name="vf" fmla="val 115470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8" name=""/>
          <p:cNvGrpSpPr/>
          <p:nvPr/>
        </p:nvGrpSpPr>
        <p:grpSpPr>
          <a:xfrm>
            <a:off x="2570040" y="1601640"/>
            <a:ext cx="184320" cy="493200"/>
            <a:chOff x="2570040" y="1601640"/>
            <a:chExt cx="184320" cy="493200"/>
          </a:xfrm>
        </p:grpSpPr>
        <p:grpSp>
          <p:nvGrpSpPr>
            <p:cNvPr id="1819" name=""/>
            <p:cNvGrpSpPr/>
            <p:nvPr/>
          </p:nvGrpSpPr>
          <p:grpSpPr>
            <a:xfrm>
              <a:off x="2573280" y="1771560"/>
              <a:ext cx="181080" cy="323280"/>
              <a:chOff x="2573280" y="1771560"/>
              <a:chExt cx="181080" cy="323280"/>
            </a:xfrm>
          </p:grpSpPr>
          <p:grpSp>
            <p:nvGrpSpPr>
              <p:cNvPr id="1820" name=""/>
              <p:cNvGrpSpPr/>
              <p:nvPr/>
            </p:nvGrpSpPr>
            <p:grpSpPr>
              <a:xfrm>
                <a:off x="2573280" y="1780920"/>
                <a:ext cx="115920" cy="311040"/>
                <a:chOff x="2573280" y="1780920"/>
                <a:chExt cx="115920" cy="31104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2619360" y="1780920"/>
                  <a:ext cx="42840" cy="1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 flipV="1">
                  <a:off x="2606760" y="1783800"/>
                  <a:ext cx="52200" cy="651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2604960" y="1849320"/>
                  <a:ext cx="73080" cy="1396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 flipV="1">
                  <a:off x="2573280" y="1985400"/>
                  <a:ext cx="106560" cy="10620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2587680" y="1987200"/>
                  <a:ext cx="101520" cy="10476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 flipV="1">
                  <a:off x="2585880" y="1848960"/>
                  <a:ext cx="81000" cy="13644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2620800" y="1780920"/>
                  <a:ext cx="49320" cy="73080"/>
                </a:xfrm>
                <a:prstGeom prst="line">
                  <a:avLst/>
                </a:prstGeom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8" name=""/>
              <p:cNvSpPr/>
              <p:nvPr/>
            </p:nvSpPr>
            <p:spPr>
              <a:xfrm flipV="1">
                <a:off x="2687760" y="1966320"/>
                <a:ext cx="42840" cy="1285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670120" y="1852200"/>
                <a:ext cx="60480" cy="1159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2670120" y="1773000"/>
                <a:ext cx="14400" cy="792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V="1">
                <a:off x="2662200" y="1771560"/>
                <a:ext cx="25560" cy="108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664000" y="1780920"/>
                <a:ext cx="37800" cy="5868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V="1">
                <a:off x="2681280" y="1839600"/>
                <a:ext cx="15840" cy="1476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2682720" y="1987200"/>
                <a:ext cx="71640" cy="6840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5" name=""/>
            <p:cNvGrpSpPr/>
            <p:nvPr/>
          </p:nvGrpSpPr>
          <p:grpSpPr>
            <a:xfrm>
              <a:off x="2570040" y="1617480"/>
              <a:ext cx="177840" cy="474480"/>
              <a:chOff x="2570040" y="1617480"/>
              <a:chExt cx="177840" cy="474480"/>
            </a:xfrm>
          </p:grpSpPr>
          <p:sp>
            <p:nvSpPr>
              <p:cNvPr id="1836" name=""/>
              <p:cNvSpPr/>
              <p:nvPr/>
            </p:nvSpPr>
            <p:spPr>
              <a:xfrm flipV="1">
                <a:off x="2570040" y="1617480"/>
                <a:ext cx="69840" cy="4716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2643120" y="1631880"/>
                <a:ext cx="44640" cy="460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2687760" y="2052360"/>
                <a:ext cx="60120" cy="381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2651040" y="1626840"/>
                <a:ext cx="96840" cy="42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2571840" y="2089080"/>
                <a:ext cx="117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"/>
            <p:cNvSpPr/>
            <p:nvPr/>
          </p:nvSpPr>
          <p:spPr>
            <a:xfrm>
              <a:off x="2624040" y="1601640"/>
              <a:ext cx="50760" cy="56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2" name=""/>
          <p:cNvGrpSpPr/>
          <p:nvPr/>
        </p:nvGrpSpPr>
        <p:grpSpPr>
          <a:xfrm>
            <a:off x="2611440" y="1298160"/>
            <a:ext cx="812520" cy="721080"/>
            <a:chOff x="2611440" y="1298160"/>
            <a:chExt cx="812520" cy="721080"/>
          </a:xfrm>
        </p:grpSpPr>
        <p:grpSp>
          <p:nvGrpSpPr>
            <p:cNvPr id="1843" name=""/>
            <p:cNvGrpSpPr/>
            <p:nvPr/>
          </p:nvGrpSpPr>
          <p:grpSpPr>
            <a:xfrm>
              <a:off x="2892600" y="1298160"/>
              <a:ext cx="531360" cy="721080"/>
              <a:chOff x="2892600" y="1298160"/>
              <a:chExt cx="531360" cy="721080"/>
            </a:xfrm>
          </p:grpSpPr>
          <p:sp>
            <p:nvSpPr>
              <p:cNvPr id="1844" name=""/>
              <p:cNvSpPr/>
              <p:nvPr/>
            </p:nvSpPr>
            <p:spPr>
              <a:xfrm>
                <a:off x="2985840" y="1298160"/>
                <a:ext cx="438120" cy="721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96" y="205"/>
                    </a:moveTo>
                    <a:arcTo wR="10800" hR="10800" stAng="-4728593" swAng="91988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96" y="205"/>
                    </a:moveTo>
                    <a:arcTo wR="10800" hR="10800" stAng="-4728593" swAng="9198810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2954160" y="1343520"/>
                <a:ext cx="377640" cy="619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62" y="219"/>
                    </a:moveTo>
                    <a:arcTo wR="10800" hR="10800" stAng="-4707225" swAng="92069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62" y="219"/>
                    </a:moveTo>
                    <a:arcTo wR="10800" hR="10800" stAng="-4707225" swAng="920691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2892600" y="1397160"/>
                <a:ext cx="351720" cy="523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40" y="194"/>
                    </a:moveTo>
                    <a:arcTo wR="10800" hR="10800" stAng="-4746638" swAng="9237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40" y="194"/>
                    </a:moveTo>
                    <a:arcTo wR="10800" hR="10800" stAng="-4746638" swAng="9237999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7" name=""/>
            <p:cNvGrpSpPr/>
            <p:nvPr/>
          </p:nvGrpSpPr>
          <p:grpSpPr>
            <a:xfrm>
              <a:off x="2716920" y="1432080"/>
              <a:ext cx="446760" cy="479520"/>
              <a:chOff x="2716920" y="1432080"/>
              <a:chExt cx="446760" cy="479520"/>
            </a:xfrm>
          </p:grpSpPr>
          <p:sp>
            <p:nvSpPr>
              <p:cNvPr id="1848" name=""/>
              <p:cNvSpPr/>
              <p:nvPr/>
            </p:nvSpPr>
            <p:spPr>
              <a:xfrm>
                <a:off x="2795400" y="1432080"/>
                <a:ext cx="368280" cy="479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28" y="212"/>
                    </a:moveTo>
                    <a:arcTo wR="10800" hR="10800" stAng="-4718307" swAng="919728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28" y="212"/>
                    </a:moveTo>
                    <a:arcTo wR="10800" hR="10800" stAng="-4718307" swAng="9197287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2769120" y="1461960"/>
                <a:ext cx="319680" cy="412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36" y="194"/>
                    </a:moveTo>
                    <a:arcTo wR="10800" hR="10800" stAng="-4747860" swAng="92841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36" y="194"/>
                    </a:moveTo>
                    <a:arcTo wR="10800" hR="10800" stAng="-4747860" swAng="9284193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716920" y="1499040"/>
                <a:ext cx="297360" cy="346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51" y="196"/>
                    </a:moveTo>
                    <a:arcTo wR="10800" hR="10800" stAng="-4743259" swAng="9252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51" y="196"/>
                    </a:moveTo>
                    <a:arcTo wR="10800" hR="10800" stAng="-4743259" swAng="9252212"/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78040" y="1529640"/>
              <a:ext cx="269640" cy="300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0" y="192"/>
                  </a:moveTo>
                  <a:arcTo wR="10800" hR="10800" stAng="-4749999" swAng="92864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0" y="192"/>
                  </a:moveTo>
                  <a:arcTo wR="10800" hR="10800" stAng="-4749999" swAng="9286425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641680" y="1549080"/>
              <a:ext cx="231480" cy="25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60" y="198"/>
                  </a:moveTo>
                  <a:arcTo wR="10800" hR="10800" stAng="-4740281" swAng="92782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60" y="198"/>
                  </a:moveTo>
                  <a:arcTo wR="10800" hR="10800" stAng="-4740281" swAng="9278293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2611440" y="1582560"/>
              <a:ext cx="199800" cy="20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36" y="194"/>
                  </a:moveTo>
                  <a:arcTo wR="10800" hR="10800" stAng="-4747888" swAng="920688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36" y="194"/>
                  </a:moveTo>
                  <a:arcTo wR="10800" hR="10800" stAng="-4747888" swAng="9206886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633400" y="1613880"/>
              <a:ext cx="120600" cy="151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72" y="130"/>
                  </a:moveTo>
                  <a:arcTo wR="10800" hR="10800" stAng="-4865534" swAng="94392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72" y="130"/>
                  </a:moveTo>
                  <a:arcTo wR="10800" hR="10800" stAng="-4865534" swAng="9439211"/>
                </a:path>
              </a:pathLst>
            </a:custGeom>
            <a:noFill/>
            <a:ln w="4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5" name=""/>
          <p:cNvSpPr/>
          <p:nvPr/>
        </p:nvSpPr>
        <p:spPr>
          <a:xfrm>
            <a:off x="167652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1676520" y="2895480"/>
            <a:ext cx="2057400" cy="16765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2209680" y="3886200"/>
            <a:ext cx="990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297180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24382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266796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21400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00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9728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40048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1752480" y="4676760"/>
            <a:ext cx="914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5486400" y="2895480"/>
            <a:ext cx="2057400" cy="198144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78168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248520" y="33526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5792040" y="297180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6633720" y="2971800"/>
            <a:ext cx="34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10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707520" y="3429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8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3352680" y="31240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172560" y="5454720"/>
            <a:ext cx="73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252320" y="2803680"/>
            <a:ext cx="7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4040280" y="5486400"/>
            <a:ext cx="107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crypte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1712160" y="2330280"/>
            <a:ext cx="21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network (B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5869440" y="228600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S with 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865080" y="333684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95160" y="56070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7622280" y="333684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5486400" y="54864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dada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98176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486400" y="4876920"/>
            <a:ext cx="80640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210360" y="44197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2171880" y="595296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 flipH="1">
            <a:off x="3276720" y="60674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276720" y="629604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7773840" y="5715000"/>
            <a:ext cx="48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266904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259092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6402960" y="54864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6400800" y="5715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610560" y="4648320"/>
            <a:ext cx="73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p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transmission standardized with only 9.6 kbit/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ced coding allows 14,4 kbit/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enough for Internet and multimedia applic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SCSD (High-Speed Circuit Switched Da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ready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ndling of several time-slots to get hig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UR (Air Interface User Rat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57.6 kbit/s using 4 slots, 14.4 each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ready to use, constant quality, simp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channels blocked for voice transmi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98" name=""/>
          <p:cNvGraphicFramePr/>
          <p:nvPr/>
        </p:nvGraphicFramePr>
        <p:xfrm>
          <a:off x="1523880" y="4638600"/>
          <a:ext cx="6526440" cy="206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638600"/>
                    <a:ext cx="652644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ata services in GSM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(General Packet Radio Servic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ing free slots only if data packets ready to sen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e.g., 115 kbit/s using 8 slots temporaril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ization 1998, introduced 20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antage: one step towards 3G, more flexib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advantage: more investment need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PRS network el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SN (GPRS Support Nodes): GGSN and SGS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GSN (Gateway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erworking unit between GPRS and PDN (Packet Data Networ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GSN (Serving GSN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upports the MS (location, billing, securi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 (GPRS Regist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 address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PRS quality of serv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903" name=""/>
          <p:cNvGraphicFramePr/>
          <p:nvPr/>
        </p:nvGraphicFramePr>
        <p:xfrm>
          <a:off x="793800" y="1928880"/>
          <a:ext cx="7669080" cy="201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1928880"/>
                    <a:ext cx="76690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5" name=""/>
          <p:cNvGraphicFramePr/>
          <p:nvPr/>
        </p:nvGraphicFramePr>
        <p:xfrm>
          <a:off x="609480" y="4191120"/>
          <a:ext cx="7923240" cy="1904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191120"/>
                    <a:ext cx="79232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-95 (CdmaOne): [TIA/EIA IS-95]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95: standard for the radio interf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-41: standard for the network par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es on 800MHz and 1900MHz b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ses DS-CDMA technology (1.2288 Mchips/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 link (downlink): ½ convolutional code, interleaved, 64 chips spreading sequence (Walsh-Hadamard function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ilot channel (code 0), synchronization channel (code 32), 7 paging channels, 55 traffic channe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erse link (uplink): 1/3 convolutional code, interleaved, 6 bits are mapped into a Walsh-Hadamard sequence, spreading using a User-BaseStation specific code (with period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4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1/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ght power control (open-loop, fast closed loo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dvantage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diversity – frequency-dependent transmission impairments have less effect 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ath resistance – chipping codes used for CDMA exhibit low cross correlation and low autocorre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vacy – privacy is inherent since spread spectrum is obtained by use of noise-like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ceful degradation – system only gradually degrades as more users access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rawbacks of CDMA Cellula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-jamming – arriving transmissions from multiple users not aligned on chip boundaries unless users are perfectly synchro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r-far problem – signals closer to the receiver are received with less attenuation than signals farther a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requires that the mobile acquires the new cell before it relinquishes the old; this is more complex than hard handoff used in FDMA and TDMA schem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obile Wireless 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KE receiver – when multiple versions of a signal arrive more than one chip interval apart, RAKE receiver attempts to recover signals from multiple paths and combine th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thod achieves better performance than simply recovering dominant signal and treating remaining signals a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ft Handoff – mobile station temporarily connected to more than one base station simultaneous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roaches to Cope with Increasing Capac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new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borrowing – frequencies are taken from adjacent cells by conges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plitting – cells in areas of high usage can be split into smaller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sectoring – cells are divided into a number of wedge-shaped sectors, each with their own set of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cells – antennas move to buildings, hills, and lamp p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rinciple of RAKE Rece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16" name="" descr=""/>
          <p:cNvPicPr/>
          <p:nvPr/>
        </p:nvPicPr>
        <p:blipFill>
          <a:blip r:embed="rId1"/>
          <a:stretch/>
        </p:blipFill>
        <p:spPr>
          <a:xfrm>
            <a:off x="380880" y="1406520"/>
            <a:ext cx="647712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Channels Supported by Forward Lin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ilot (channel 0) - allows the mobile unit to acquire timing information, provides phase reference and provides means for signal strength compari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chronization (channel 32) - used by mobile station to obtain identification information about cellular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ging (channels 1 to 7) - contain messages for one or more mobil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ffic (channels 8 to 31 and 33 to 63) – the forward channel supports 55 traffic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ch is encoded at a rate of 8550 b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bits added for error de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mitted in 2-ms blocks with forward error correction provided by a convolutional enco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nterleaved in blocks to reduce effects of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bits are scrambled, serving as a privacy mas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Forward Traffic Channel Processing Steps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control information inserted into traffic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-SS function spreads the 19.2 kbps to a rate of 1.2288 Mbps using one row of 64 x 64 Walsh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bit stream modulated onto the carrier using QPSK modulation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ice quality comparable to the public switched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4 kbps data rate available to users in high-speed motor vehicles over larg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84 kbps available to pedestrians standing or moving slowly over small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2.048 Mbps for office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mmetrical / asymmetrical data transmission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both packet switched and circuit switched data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TU’s View of Third-Generation Capabi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daptive interface to the Internet to reflect efficiently the common asymmetry between inbound and outbound traff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efficient use of the available spectrum in gene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 wide variety of mobile equi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exibility to allow the introduction of new services and technolog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lternative Interfa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DMA Design Consid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dwidth – limit channel usage to 5 MHz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p rate – depends on desired data rate, need for error control, and bandwidth limitations; 3 Mcps or more is reason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ltirate – advantage is that the system can flexibly support multiple simultaneous applications from a given user and can efficiently use available capacity by only providing the capacity required for each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 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llular Systems Basic Ter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 Station (BS) – includes an antenna, a controller, and a 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bile telecommunications switching office (MTSO) – connects calls between mobile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types of channels available between mobile unit and 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channels – used to exchange information having to do with setting up and maintaining ca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ffic channels – carry voice or data connection between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150560" y="1519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teps in an MTSO Controlled Call between Mobile Us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7720" y="1552320"/>
            <a:ext cx="8116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 unit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bile-originated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l accep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going c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6T21:48:38Z</dcterms:created>
  <dc:creator>Thomas Fronckowiak Jr.</dc:creator>
  <dc:description/>
  <dc:language>en-US</dc:language>
  <cp:lastModifiedBy>G. Noubir</cp:lastModifiedBy>
  <dcterms:modified xsi:type="dcterms:W3CDTF">2003-05-19T21:16:41Z</dcterms:modified>
  <cp:revision>88</cp:revision>
  <dc:subject/>
  <dc:title>Wireless Communications and Networks</dc:title>
</cp:coreProperties>
</file>