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84400" cy="699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61040" y="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892240" y="525240"/>
            <a:ext cx="3498840" cy="26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0" y="66484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61040" y="6648480"/>
            <a:ext cx="4022640" cy="349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37C2421-E596-451B-BFA5-97FF8EF2E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0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61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: respond rapidly to network variations (topology, link quality, …) and minimize resource consumption. This is the general framework for all wireless networks. How does clustering answer this ne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sters try to impose a control structure on the network of mobile no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s: [Baker 1981, Ephremides 1987, Gerla 1995, Lin 1997, Raj?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6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s do not use connectivity flexi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8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59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of these are not even implemented in re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easy to implement multi-level power lev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2.11 proposes 8 levels: only one is implemented (to our knowled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tooth: proposes 3 levels only one is implem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ing to modify everything is utopic defacto-standards/architectures (TCP/IP) are very difficult to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4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structure network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: Reduce infrastructure cos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Ad Hoc has limited application, pure infrastructure can be expensive (specially over high frequency bands)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is reasonable: RF transceiver can cover areas from few meters to 20 miles (at different data rat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47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-interface nodes may allow to have two cluster of nodes operating over different frequencies (reducing collisions) an multi-interface node operating as a gate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at all lay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51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ta come from the Pmax/Pmin or S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remember the gain we had using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hops. In a two dimensional space if we want to have h hops =&gt; N = h^2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53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layer needs info on status of the channel to nodes to decide on one or multiple hop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4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55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ding is good but only if you use it when necessary. Otherwise you have useless redunda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sldImg"/>
          </p:nvPr>
        </p:nvSpPr>
        <p:spPr>
          <a:xfrm>
            <a:off x="2892600" y="525600"/>
            <a:ext cx="3498840" cy="2624040"/>
          </a:xfrm>
          <a:prstGeom prst="rect">
            <a:avLst/>
          </a:prstGeom>
          <a:ln w="0">
            <a:noFill/>
          </a:ln>
        </p:spPr>
      </p:sp>
      <p:sp>
        <p:nvSpPr>
          <p:cNvPr id="2157" name="PlaceHolder 2"/>
          <p:cNvSpPr>
            <a:spLocks noGrp="1"/>
          </p:cNvSpPr>
          <p:nvPr>
            <p:ph type="body"/>
          </p:nvPr>
        </p:nvSpPr>
        <p:spPr>
          <a:xfrm>
            <a:off x="1238400" y="3324240"/>
            <a:ext cx="6806880" cy="31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ter on we will see how we can adapt by implicitly estimating the chan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41306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198108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4130640"/>
            <a:ext cx="2674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413064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1981080"/>
            <a:ext cx="4053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4130640"/>
            <a:ext cx="8305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3525-S03 – 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 Hoc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8375-14D2-4AA7-93EF-C10F188FF2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1980720"/>
            <a:ext cx="8077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ireless Multihop Ad Hoc Networks 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ubir@ccs.ne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02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240" y="5756400"/>
            <a:ext cx="56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slides are from Nitin Vaidya’s tutor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Multiple Power Leve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ulti-hop transmission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ops) and reducing the transmission power according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capacity (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overall power 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y a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symmetric environ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power node can encod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ansmit it at low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ful nodes can decode 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transmission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95440" y="225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181480" y="2052720"/>
          <a:ext cx="4002120" cy="404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052720"/>
                    <a:ext cx="4002120" cy="40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Methods: Advant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reversal methods attempt to limit updates to routing tables at nodes in the vicinity of a broken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 reversal method tends to be better than full reversal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ay potentially have multiple routes to a dest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Methods: Disadvantag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a mechanism to detect link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o messages may b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hello messages can add to co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etwork is partitioned, link reversals continue indefini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in a Partitioned Net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3200040" y="3886200"/>
            <a:ext cx="1600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4339800" y="5256720"/>
            <a:ext cx="43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AG is fo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estination nod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3352680" y="4191120"/>
            <a:ext cx="1524240" cy="380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 flipH="1">
            <a:off x="3962160" y="3886200"/>
            <a:ext cx="228600" cy="10666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676520" y="1676520"/>
            <a:ext cx="609480" cy="2438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 flipH="1">
            <a:off x="1752120" y="1676520"/>
            <a:ext cx="381240" cy="23619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ull Reversal in a Partitioned Net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607760" y="5790240"/>
            <a:ext cx="44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and G do not have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ull Reversal in a Partitioned Net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1637640" y="5866560"/>
            <a:ext cx="44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and F do not have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ull Reversal in a Partitioned Net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1607760" y="5790240"/>
            <a:ext cx="44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 and G do not have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ull Reversal in a Partitioned Net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637640" y="5866560"/>
            <a:ext cx="44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 and F do not have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ull Reversal in a Partitioned Network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5636520" y="1522080"/>
            <a:ext cx="3106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nnected f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tination D, lin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als continue, un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artitions me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a mechanism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ize this wastef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 scenario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cur with par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al method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emporally-Ordered Routing Algorithm</a:t>
            </a:r>
            <a:br>
              <a:rPr sz="3600"/>
            </a:b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(TORA) 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[Park97Infocom]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RA modifies the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art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 reversal method to be able to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detect part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a partition is detected, all nodes in the partition are informed, and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ink revers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at partition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2743200" y="22096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4495680" y="16765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1752480" y="32004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2057400" y="44956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3352680" y="51055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4038480" y="28195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 flipV="1">
            <a:off x="3276720" y="205704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3276720" y="274320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 flipH="1">
            <a:off x="2285640" y="2743200"/>
            <a:ext cx="6094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2133720" y="380988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2590920" y="502920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 flipH="1">
            <a:off x="4495320" y="228600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324120" y="1904040"/>
            <a:ext cx="17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G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tinati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2362320" y="2819520"/>
            <a:ext cx="609480" cy="3808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2590920" y="2590920"/>
            <a:ext cx="75960" cy="76176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ameters of IEEE802.11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6765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802.11 has three mechanisms that can be used to improve performance under dynamic chann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gmentation (also used to avoid coll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coding/modulation schemes (8 sche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power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e coding/modulation schemes will be available with 802.11a products over 5G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ly parameters are statically configu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2743200" y="2133720"/>
            <a:ext cx="60948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44956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752480" y="31240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205740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3352680" y="5029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4038480" y="2743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V="1">
            <a:off x="3276720" y="198072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3276720" y="266688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2133720" y="373392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2590920" y="49528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 flipH="1">
            <a:off x="4495320" y="22096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6095160" y="4418640"/>
            <a:ext cx="214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RA us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ied par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al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621720" y="579024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A has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2743200" y="2209680"/>
            <a:ext cx="609480" cy="60984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4495680" y="1676520"/>
            <a:ext cx="60984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752480" y="32004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057400" y="44956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3352680" y="51055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4038480" y="28195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 flipV="1">
            <a:off x="3276720" y="2057040"/>
            <a:ext cx="1218960" cy="304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3276720" y="2743200"/>
            <a:ext cx="761760" cy="228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133720" y="380988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590920" y="502920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 flipH="1">
            <a:off x="4495320" y="2286000"/>
            <a:ext cx="22860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6095160" y="4418640"/>
            <a:ext cx="214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RA us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ified part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al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621720" y="586656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B has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2743200" y="2133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4495680" y="1600200"/>
            <a:ext cx="60984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1752480" y="31240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205740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352680" y="5029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4038480" y="2743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 flipV="1">
            <a:off x="3276720" y="1980720"/>
            <a:ext cx="1218960" cy="304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276720" y="2666880"/>
            <a:ext cx="761760" cy="228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133720" y="373392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590920" y="49528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 flipH="1">
            <a:off x="4495320" y="22096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21720" y="5866560"/>
            <a:ext cx="37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B has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2743200" y="2133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4495680" y="1600200"/>
            <a:ext cx="60984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752480" y="31240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205740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352680" y="5029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4038480" y="2743200"/>
            <a:ext cx="609840" cy="6094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3276720" y="1980720"/>
            <a:ext cx="12189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276720" y="266688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133720" y="373392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2590920" y="49528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4495320" y="2209680"/>
            <a:ext cx="228600" cy="6098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681120" y="5561640"/>
            <a:ext cx="6538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C has no outgoing links -- all its neighbor h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links previousl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2743200" y="2057400"/>
            <a:ext cx="609480" cy="609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4495680" y="1523880"/>
            <a:ext cx="609840" cy="609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752480" y="30481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057400" y="43434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352680" y="4952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4038480" y="2666880"/>
            <a:ext cx="609840" cy="60984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3276720" y="1905120"/>
            <a:ext cx="121896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276720" y="2590920"/>
            <a:ext cx="761760" cy="2286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133720" y="365760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2590920" y="4876920"/>
            <a:ext cx="761760" cy="304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4495320" y="2133720"/>
            <a:ext cx="228600" cy="6094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680040" y="5621760"/>
            <a:ext cx="617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s A and B receive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f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node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B now has no outgoing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2743200" y="2133720"/>
            <a:ext cx="609480" cy="609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4495680" y="1600200"/>
            <a:ext cx="60984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752480" y="31240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205740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352680" y="5029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4038480" y="2743200"/>
            <a:ext cx="60984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V="1">
            <a:off x="3276720" y="1980720"/>
            <a:ext cx="1218960" cy="304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3276720" y="2666880"/>
            <a:ext cx="76176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133720" y="373392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590920" y="49528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H="1">
            <a:off x="4495320" y="2209680"/>
            <a:ext cx="228600" cy="60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676800" y="5621760"/>
            <a:ext cx="73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A has received 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reflection from all its neighb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A determines that it is partitioned from destination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484240" y="3047040"/>
            <a:ext cx="3022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B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opagat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f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node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tion Detection in 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743200" y="2133720"/>
            <a:ext cx="609480" cy="609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4495680" y="1600200"/>
            <a:ext cx="609840" cy="609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752480" y="31240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05740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352680" y="5029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038480" y="2743200"/>
            <a:ext cx="609840" cy="60948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 flipV="1">
            <a:off x="3276720" y="1980720"/>
            <a:ext cx="12189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276720" y="2666880"/>
            <a:ext cx="7617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133720" y="3733920"/>
            <a:ext cx="1522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590920" y="4952880"/>
            <a:ext cx="76176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 flipH="1">
            <a:off x="4495320" y="2209680"/>
            <a:ext cx="22860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5255640" y="2818440"/>
            <a:ext cx="34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detecting a partition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A sends a clear (CL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sage that purg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ed links in th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RA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s on the partial link reversal method in [Gafni81] by detecting partitions and stopping non-productive link revers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hs may not be shor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G provides many hosts the ability to send packets to a given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cial when many hosts want to communicate with a single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RA Design Decis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A performs link reversals as dictated by [Gafni8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when a link breaks, it looses its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link is repaired, it may not be assigned a direction, unless some node has performed a route discovery after the link b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one wants to send packets to D anymore, eventually, the DAG for destination D may disapp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RA makes effort to maintain the DAG for D only if someone needs route to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ve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ORA Design Decis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posal for modifying TORA optionally allowed a more proactive behavior, such that a DAG would be maintained even if no node is attempting to transmit to the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 of the story: The link reversal algorithm in [Gafni81] does not dictate a proactive or reactive response to link failure/re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on reactive/proactive behavior should be made based on environment under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oblems of Multi-Hop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maintain up-to-date information on the network topology? Routing messages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determine number of 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estimate buffers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sk of congestion on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305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lustering Approach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hop Ad Hoc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uster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8769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channel conten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 routing backbone to reduce network diam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stract network state to reduce its quantity and its vari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-198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ous approaches to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-165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in the 70s with Packet Radio Network (PRNet) sponsored by DAR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30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235728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6" name=""/>
          <p:cNvGraphicFramePr/>
          <p:nvPr/>
        </p:nvGraphicFramePr>
        <p:xfrm>
          <a:off x="4494240" y="2460600"/>
          <a:ext cx="3963960" cy="37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4240" y="2460600"/>
                    <a:ext cx="3963960" cy="37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ustering for Transmission Managemen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educe con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= clusterhead + gateways + ordinary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head: schedules traffic, allocates resources (tokens, emits busy tone, etc.). Similar to the master in a Bluetooth pico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teways: interconnect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inary nodes are 1-hop away from a clusterhead and 2-hops away from other members in th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ion of clusterh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ree on Gate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ustering for Transmission Managemen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head 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/distributed algorith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identifier/degree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ncip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ralized: (1) elect the highest ID node and create a corresponding cluster, repeat step (1) with nodes not already members of a clu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ributed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ode elects itself as cluster head if it has the highest ID among its neighb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wise elect a neighbor that is not member of another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s to disjoint clu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connected to &gt; 1 cluster =&gt; gateway candi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um_hops (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 &amp; num_hops(C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=&gt;G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-- G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multiple candidates to connect two clusters, choose GW with highest 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ustering for Transmission Management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lgorithms do not adjust to mobility. They recompute the clu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algorith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clusterhead status when two clusterheads become neighb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Gerla-Lin 1995, 1997]: cluster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clusterhead congestion and improve robustness, routing is done over the flat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ustering for Backbone Form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5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less multiphop networks have high end-to-end de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-layer ARQ, MAC delay, FEC/spreading, tx/rx switch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can reduce the end-to-end delay by allowing faster forwarding through the clusterheads backb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ach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-Term Digital Radio Network (NTDR) [Zavgren 1997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rtual Subnet Architecture [Sharony 1996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ear-Term Digital Radio Network (NTD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support mobile tactical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hitecture: (clusterheads = gateways) + (single-hop no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2-hop packets go through the clusterheads backb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 frequencies: intra-cluster band + inter-cluster 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head ele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heads send a beacon (organization, members, TxPwrL, PL to nod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elect themselves if: (1) do not receive a beacon, (2) receives beacons with different partition nu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ing multiple clusterhead cre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 a random amount of time before self-election as clust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self-election, immediately issue bea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iminate superfluous clusterheads without partitioning 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NTDR (Co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uster affiliation criter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and clusterhead are in the same organ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ath loss (conserves energ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ing cluster has a small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celing affili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usterhead relinquishes its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ken link (or low quality lin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membership change all clusterheads are upd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a link state protocol: Dijkstra’s Shortest Path First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istance metric: minimize interference experienced by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scale for high mobility networks because of flooding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uilding a Clustering Hierarch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the amount of routing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e connectivity within each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ize high-intensity traffic within one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the number of intercluster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izing the stability of intercluster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ing the difference between the hierarchical route and the optimal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/lower limit of the number of chi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 on the diameter of each 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number of chi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mitations of Current Clustering Algorith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43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clustering algorithms do not consider the flexibility/constraints of radio frequency commun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vity is not rigid but can be controlled through power-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er consume more energy then ordinary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on between MAC, power-control and co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ng generates more time interference (collisions?), high power generates more space interference (SNI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ybrid networks require to consider fairness more serious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s in the vicinity of the AP would experience more traffic than nodes on the periph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ractical Approach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ving sub-problems independ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ing TCP to be wireless a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ting in multi-hop wireless ad hoc networks: DSDV, DSR, AODV, TORA, FS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power or resource aware. Single hop whenever possible (no interaction with the MAC of higher lay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agmenting packets according to the channel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ing coding/modulation scheme to the cha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apting transmission power to dest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is a need for a global approach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e: transmission power, coding, and frag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rout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medium access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1337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gineering perspective: what minimal subset of functionalities do we need to implement to achieve near optimal performanc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minimal set of coding/modulation schemes? What power levels do we nee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isting Unicast Routing Protocol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active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routes independent of traffic patter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ditional link-state and distance-vector routing protocols are pro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ve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tain routes only if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brid protoc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xisting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Source Routing (DS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Aware Routing (L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hoc On-demand Distance Vector (AODV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lly Ordered Reversal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Trade-Off Between Proactive and Reactiv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cy of rout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active protocols may have lower latency since routes are maintained at all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ve protocols may have higher latency because a route from X to Y will be found only when X attempts to send to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head of route discovery/mainte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ive protocols may have lower overhead since routes are determined only if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active protocols can (but not necessarily) result in higher overhead due to continuous route upd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approach achieves a better trade-off depends on the traffic and mobility patter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S broadcasts data packet P to all its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receiving P forwards P to its neighb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numbers used to avoid the possibility of forwarding the same packet more than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P reaches destination D provided that D is reachable from send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D does not forward the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5791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669680" y="5561640"/>
            <a:ext cx="624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that connected nodes are within e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’s transmission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1629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4674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75434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4800600"/>
            <a:ext cx="60948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0760" y="4952160"/>
            <a:ext cx="572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 node that has received packe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61722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657800" y="5972760"/>
            <a:ext cx="465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transmission of packe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5181480"/>
            <a:ext cx="609840" cy="6098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0040" y="5180400"/>
            <a:ext cx="5613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 node that receives packet P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-2160" y="144684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cast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1828800"/>
            <a:ext cx="1676520" cy="76212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0" y="0"/>
                </a:moveTo>
                <a:cubicBezTo>
                  <a:pt x="248" y="56"/>
                  <a:pt x="496" y="112"/>
                  <a:pt x="672" y="192"/>
                </a:cubicBezTo>
                <a:cubicBezTo>
                  <a:pt x="848" y="272"/>
                  <a:pt x="984" y="424"/>
                  <a:pt x="1056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4114440" y="297180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98080" y="5515560"/>
            <a:ext cx="596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H receives packet P from two neighb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otential for coll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nfrastructure vs. Ad Hoc 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structure networ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several Access-Points (AP) connected to the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nodes communicate through the 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 hoc network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nodes communicate directly with each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hop ad hoc networks: all nodes can also act as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brid (nodes relay packets from AP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increase capacity, reduce power consumption, and guarantee a minimum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81080" y="4114800"/>
            <a:ext cx="68580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5105160" y="33526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54560" y="5409000"/>
            <a:ext cx="792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C receives packet P from G and H, but does not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again, because node C has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lready forwarded packet 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1629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4674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75434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5080" y="5028840"/>
            <a:ext cx="6583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s J and K both broadcast packet P to node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nodes J and K are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hidde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each other, the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transmissions may coll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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acket P may not be delivered to node D at 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138680" y="5485320"/>
            <a:ext cx="657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D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oes not 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cket P, because nod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intended destination of packet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45960" y="4875840"/>
            <a:ext cx="8126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Flooding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 unreachab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rom S do not receive packet P (e.g., node 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s for which all paths from S go through the destinati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do not receive packet P (example: node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49280" y="5180400"/>
            <a:ext cx="658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ooding may deliver packets to too many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orst ca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all nodes reachable from se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ceive the pack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: </a:t>
            </a:r>
            <a:r>
              <a:rPr b="0" lang="en-US" sz="4000" spc="-1" strike="noStrike">
                <a:solidFill>
                  <a:srgbClr val="339933"/>
                </a:solidFill>
                <a:latin typeface="Times New Roman"/>
              </a:rPr>
              <a:t>Advant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more efficient than other protocols when rate of information transmission is low enough that the overhead of explicit route discovery/maintenance incurred by other protocols is relatively hig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scenario may occur, for instance, when nodes transmit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mall data packe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elatively infrequently, and many topology </a:t>
            </a: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changes occu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ween consecutive packet transmi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ly higher reliability of data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packets may be delivered to the destination on multiple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for Data Delivery: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Disadvant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ly, very high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packets may be delivered to too many nodes who do not need to receiv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tially lower reliability of data deli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oding uses broadcasting -- hard to implement reliable broadcast delivery without significantly increasing 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asting in IEEE 802.11 MAC is unrel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our example, nodes J and K may transmit to node D simultaneously, resulting in loss of the pack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 this case, destination would not receive the packet at all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of </a:t>
            </a:r>
            <a:r>
              <a:rPr b="0" lang="en-US" sz="4000" spc="-1" strike="noStrike">
                <a:solidFill>
                  <a:srgbClr val="339933"/>
                </a:solidFill>
                <a:latin typeface="Times New Roman"/>
              </a:rPr>
              <a:t>Control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protocols perform (potentiall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mi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looding of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contr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ckets, instead of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dat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trol packets are used to discover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vered routes are subsequently used to send data packet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head of control packet flooding is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mortiz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ver data packets transmitted between consecutive control packet fl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ynamic Source Routing (DSR)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[Johnson96]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ode S wants to send a packet to node D, but does not know a route to D, node S initiates a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route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node S floods 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Route Request (RREQ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appends own identifi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forwarding RR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1629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4674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75434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480" y="5562720"/>
            <a:ext cx="60984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440720" y="571392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 node that has received RREQ for D from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14400" y="1600200"/>
          <a:ext cx="7165800" cy="45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1658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990720" y="541008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748880" y="5180760"/>
            <a:ext cx="43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transmission of R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53080" y="23623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858000" y="1600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693396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-2160" y="144684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cast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43000" y="1828800"/>
            <a:ext cx="1676520" cy="76212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0" y="0"/>
                </a:moveTo>
                <a:cubicBezTo>
                  <a:pt x="248" y="56"/>
                  <a:pt x="496" y="112"/>
                  <a:pt x="672" y="192"/>
                </a:cubicBezTo>
                <a:cubicBezTo>
                  <a:pt x="848" y="272"/>
                  <a:pt x="984" y="424"/>
                  <a:pt x="1056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251240" y="193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58320" y="198036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30520" y="5713920"/>
            <a:ext cx="692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[X,Y]     Represents list of identifiers appended to R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H="1">
            <a:off x="4114440" y="297180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197000" y="5515560"/>
            <a:ext cx="653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H receives packet RREQ from two neighb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potential for coll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7057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0102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>
            <a:off x="70862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725360" y="2284920"/>
            <a:ext cx="75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E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653280" y="36867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C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981080" y="4114800"/>
            <a:ext cx="68580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5105160" y="33526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55280" y="5409000"/>
            <a:ext cx="76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C receives RREQ from G and H, but does not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again, because node C has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lready forwarded RRE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629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4674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75434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495680" y="4342320"/>
            <a:ext cx="10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C,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700240" y="2848680"/>
            <a:ext cx="98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E,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76200" y="5180400"/>
            <a:ext cx="6867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s J and K both broadcast RREQ to nod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nodes J and K are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hidde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each other, the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transmissions may colli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019560" y="4494960"/>
            <a:ext cx="12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C,G,K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868000" y="2818440"/>
            <a:ext cx="11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E,F,J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09680" y="31240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1447920" y="38098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124080" y="25146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114800" y="25909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105520" y="29718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66880" y="41148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943600" y="35053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6705720" y="41148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05320" y="32767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72000" y="38098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733920" y="46483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86400" y="43434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1981080" y="35809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 flipV="1">
            <a:off x="2743200" y="29714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2057400" y="41911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66880" y="36576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3124080" y="38098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962160" y="31240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47242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5028840" y="35053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4191120" y="43434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114800" y="3733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200400" y="45720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638680" y="342900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105520" y="43434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477120" y="396252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H="1">
            <a:off x="6095880" y="44956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H="1">
            <a:off x="3733920" y="2819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3505320" y="31240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010280" y="22860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315200" y="1523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739116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1062720" y="540900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D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oes not 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REQ, because nod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intended targ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rout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934320" y="32767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6553080" y="3581280"/>
            <a:ext cx="3812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391520" y="4648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238880" y="46483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848720" y="32767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543800" y="35812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705720" y="2894760"/>
            <a:ext cx="147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S,E,F,J,M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Disco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tination D on receiving the first RREQ, sends a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Route Reply (RRE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EP is sent on a route obtained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vers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route appended to received RRE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REP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cludes the rou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om S to D on which RREQ was received by node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pl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209680" y="33526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47920" y="40384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24080" y="27432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114800" y="28195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105520" y="32004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666880" y="43434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5943600" y="37339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705720" y="43434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505320" y="35053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572000" y="40384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733920" y="48769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486400" y="45720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1981080" y="38095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2743200" y="32000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057400" y="44197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666880" y="38862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3124080" y="40384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>
            <a:off x="3962160" y="33526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724280" y="3200400"/>
            <a:ext cx="457200" cy="15228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H="1">
            <a:off x="502884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 flipH="1">
            <a:off x="4191120" y="45720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114800" y="39625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200400" y="48006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5638680" y="3657600"/>
            <a:ext cx="381240" cy="15228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5105520" y="45720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477120" y="4191120"/>
            <a:ext cx="304560" cy="228600"/>
          </a:xfrm>
          <a:prstGeom prst="line">
            <a:avLst/>
          </a:prstGeom>
          <a:ln w="3816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 flipH="1">
            <a:off x="6095880" y="47242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3733920" y="304812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50532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1629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4674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H="1">
            <a:off x="75434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6934320" y="35053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391520" y="48769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238880" y="48769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848720" y="35053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6553080" y="38098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7543800" y="3809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801320" y="2742120"/>
            <a:ext cx="22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RREP [S,E,F,J,D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1143000" y="594360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674000" y="5713920"/>
            <a:ext cx="443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RREP control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pl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Reply can be sent by reversing the route in Route Request (RREQ) only if links are guaranteed to be bi-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ensure this, RREQ should be forwarded only if it received on a link that is known to be bi-dire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unidirectional (asymmetric) links are allowed, then RREP may need a route discovery for S from node 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less node D already knows a route to node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 route discovery is initiated by D for a route to S, then the Route Reply is piggybacked on  the Route Request from 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EEE 802.11 MAC is used to send data, then links have to be bi-directional (since Ack is u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ynamic Source Routing (DS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S on receiving RREP, caches the route included in the R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S sends a data packet to D, the entire route is included in the packet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 the name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ource ro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mediate nodes use the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source rou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cluded in a packet to determine to whom a packet should be for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 Delivery in DS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641760" y="201060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DATA [S,E,F,J,D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816120" y="5896800"/>
            <a:ext cx="539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ket header size grows with route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nstrain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5238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radio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Medium (collis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power available at the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ed storage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QoS requirements (e.g., delay, packet lo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reliable network connectivity (depends on the channe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ynamic topology (i.e., mobility of nodes, dens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provide a full cove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enforce fair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en to Perform a Route Disco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ode S wants to send data to node D, but does not know a valid route node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SR Optimization: </a:t>
            </a: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Route Ca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node caches a new route it learns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y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S finds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route [S,E,F,J,D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node D, node S also learns route [S,E,F] to no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K receives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Route Request [S,C,G]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ed for node, node K learns route [K,G,C,S] to node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F forward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oute Reply RRE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[S,E,F,J,D]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 F learns route [F,J,D] to node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E forward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ata [S,E,F,J,D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 learns route [E,F,J,D] to node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may also learn a route when it overhears Data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se of Route Ca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S learns that a route to node D is broken, it uses another route from its local cache, if such a route to D exists in its cache. Otherwise, node S initiates route discovery by sending a route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X on receiving a Route Request for some node D can send a Route Reply if node X knows a route to node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route cac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peed up route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reduce propagation of route reque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se of Route Cach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2209680" y="26226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447920" y="33084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124080" y="20131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114800" y="20890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105520" y="2470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666880" y="36133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5943600" y="30034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705720" y="3613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3505320" y="2774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572000" y="33084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733920" y="41464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486400" y="38419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1981080" y="307944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V="1">
            <a:off x="2743200" y="24699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057400" y="36892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666880" y="31561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3124080" y="33084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 flipH="1">
            <a:off x="3962160" y="26226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724280" y="24703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5028840" y="30034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4191120" y="3841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114800" y="32320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200400" y="40705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638680" y="292752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105520" y="38419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477120" y="3460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 flipH="1">
            <a:off x="6095880" y="399420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 flipH="1">
            <a:off x="3733920" y="2317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505320" y="26226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52040" y="5441040"/>
            <a:ext cx="735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P,Q,R]   Represents cached route at a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SR maintains the cached routes in a tree form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934320" y="2774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V="1">
            <a:off x="6553080" y="307980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391520" y="41464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238880" y="414648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848720" y="2774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543800" y="3079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235960" y="159948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S,E,F,J,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791880" y="17517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E,F,J,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3306600" y="3398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09560" y="38552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,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4958280" y="21790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F,J,D],[F,E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841360" y="271224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,F,E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5867280" y="47563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5867280" y="4451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867280" y="437508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 flipH="1">
            <a:off x="6324480" y="42228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se of Route Caching: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Can Speed up Route Discove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2209680" y="249876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447920" y="318456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124080" y="188928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4114800" y="19652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5105520" y="234648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2666880" y="348948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5943600" y="28796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6705720" y="348948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505320" y="26510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572000" y="318456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733920" y="40226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486400" y="371808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 flipV="1">
            <a:off x="1981080" y="29556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2743200" y="23461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2057400" y="356544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666880" y="303228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3124080" y="318456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H="1">
            <a:off x="3962160" y="2498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4724280" y="234648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 flipH="1">
            <a:off x="5028840" y="287964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191120" y="371808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114800" y="31082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00400" y="394668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5638680" y="280368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105520" y="371808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477120" y="333684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>
            <a:off x="6095880" y="387036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H="1">
            <a:off x="3733920" y="2193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3505320" y="2498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867280" y="4632480"/>
            <a:ext cx="60984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34320" y="26510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6553080" y="295596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7391520" y="40226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238880" y="4022640"/>
            <a:ext cx="2286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848720" y="265104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543800" y="2955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2235960" y="147564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S,E,F,J,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791880" y="162792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E,F,J,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3306600" y="32742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4268160" y="28789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,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958280" y="205524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F,J,D],[F,E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5841360" y="258840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,F,E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867280" y="432756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7320" y="44791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6324480" y="4098600"/>
            <a:ext cx="533520" cy="6094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300600" y="4935960"/>
            <a:ext cx="4998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node Z sends a route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node C, node K sends back a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y [Z,K,G,C] to node Z using a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ched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420800" y="394596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K,G,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019920" y="4251240"/>
            <a:ext cx="304560" cy="3049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945760" y="409824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Use of Route Caching: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n Reduce Propagation of Route Requests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743200" y="28954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1981080" y="35812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65760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6483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638680" y="2743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320040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6477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238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038480" y="30481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1055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267080" y="44197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01992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 flipV="1">
            <a:off x="251460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 flipV="1">
            <a:off x="327672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59092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20040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>
            <a:off x="365760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H="1">
            <a:off x="449532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525780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H="1">
            <a:off x="556236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H="1">
            <a:off x="472428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64832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733920" y="434340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172200" y="32004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638680" y="41148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7010280" y="37339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 flipH="1">
            <a:off x="6629040" y="426708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 flipH="1">
            <a:off x="4266720" y="2590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038480" y="2895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400800" y="5029200"/>
            <a:ext cx="60948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848720" y="16765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467480" y="30481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7086600" y="3352680"/>
            <a:ext cx="3808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7924680" y="44197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777240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8381880" y="30481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807732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769480" y="18723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S,E,F,J,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5400" y="202500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E,F,J,D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3840120" y="3671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01680" y="32760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G,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491440" y="245196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F,J,D],[F,E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74880" y="298548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J,F,E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00800" y="47242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640480" y="4876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E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22840" y="5240880"/>
            <a:ext cx="7175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that there is no link between D and 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 Reply (RREP) from node K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mits flood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RREQ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general, the reduction may be less dramati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953960" y="4342680"/>
            <a:ext cx="118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K,G,C,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553080" y="4648320"/>
            <a:ext cx="304920" cy="30456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844320" y="46155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R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Error (RER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cap="rnd" w="38160">
            <a:solidFill>
              <a:srgbClr val="ff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716292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467480" y="1600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 flipH="1">
            <a:off x="7543440" y="2209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71640" y="196452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ERR [J-D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0" y="5087880"/>
            <a:ext cx="84582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 sends a route error to S along route J-F-E-S when its attempt to forward the data packet S (with route SEFJD) on J-D f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des hearing RERR update their route cache to remove link J-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6553080" y="3657600"/>
            <a:ext cx="1526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 flipH="1">
            <a:off x="6477120" y="3733920"/>
            <a:ext cx="45720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Caching: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Beware!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le caches can adversely affec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passage of time and host mobility, cached routes may become inval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nder host may try several stale routes (obtained from local cache, or replied from cache by other nodes), before finding a good ro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ynamic Source Routing: Advant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s maintained only between nodes who need to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overhead of route mainten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caching can further reduce route discovery over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ingle route discovery may yield many routes to the destination, due to intermediate nodes replying from local c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ynamic Source Routing: Disadvant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header size grows with route length due to source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d of route requests may potentially reach all nodes in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must be taken to avoid collisions between route requests propagated by neighboring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ion of random delays before forwarding R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d contention if too many route replies come back due to nodes replying using their local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e Rep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o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y storm may be eased by preventing a node from sending RREP if it hears another RREP with a shorter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ameter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various coding/modulation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packets fra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various transmission power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smart antennas and MIMO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of multiple RF interfaces (multiple IF character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ing and backbon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ning of the fixed nodes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s scheduling sche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adaptiv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ynamic Source Routing: Disadvantag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intermediate node may send Route Reply using a stale cached route, thus polluting other c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roblem can be eased if some mechanism to purge (potentially) invalid cached routes is incorporate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ome proposals for cache invalidation, see [Hu00Mobico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 timeo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 timeouts based on link 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looding of Control Packe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reduce the scope of the route request floo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[Ko98Mobico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ry localization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[Castaneda99Mobico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to reduce redundant broadcas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oadcast Storm Problem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[Ni99Mobicom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ocation-Aided Routing (LAR)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[Ko98Mobicom]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its location information to limit scope of route request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information may be obtained using G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Expected Zo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determined as a region that is expected to hold the current location of the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region determined based on potentially old location information, and knowledge of the destination’s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requests limited to a </a:t>
            </a:r>
            <a:r>
              <a:rPr b="0" i="1" lang="en-US" sz="2400" spc="-1" strike="noStrike">
                <a:solidFill>
                  <a:srgbClr val="339933"/>
                </a:solidFill>
                <a:latin typeface="Times New Roman"/>
              </a:rPr>
              <a:t>Request Zone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contains the Expected Zone and location of the sende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xpected Zone in LA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5029200" y="3352680"/>
            <a:ext cx="2362320" cy="2286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021720" y="42663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555240" y="495216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 flipH="1">
            <a:off x="5181480" y="4495680"/>
            <a:ext cx="91440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346360" y="444888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57120" y="1582920"/>
            <a:ext cx="4275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 last known location of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, at time t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= location of node D at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t1, unknown to node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= (t1 - t0) * estimate of D’s sp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039200" y="574416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cted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quest Zone in LA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1168" name=""/>
          <p:cNvGrpSpPr/>
          <p:nvPr/>
        </p:nvGrpSpPr>
        <p:grpSpPr>
          <a:xfrm>
            <a:off x="304920" y="1600200"/>
            <a:ext cx="6476760" cy="4495680"/>
            <a:chOff x="304920" y="1600200"/>
            <a:chExt cx="6476760" cy="4495680"/>
          </a:xfrm>
        </p:grpSpPr>
        <p:sp>
          <p:nvSpPr>
            <p:cNvPr id="1169" name=""/>
            <p:cNvSpPr/>
            <p:nvPr/>
          </p:nvSpPr>
          <p:spPr>
            <a:xfrm>
              <a:off x="4280400" y="3462480"/>
              <a:ext cx="1987920" cy="19263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087880" y="420084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536800" y="478008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408200" y="4425840"/>
              <a:ext cx="769320" cy="449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525200" y="4354920"/>
              <a:ext cx="27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587240" y="5260680"/>
              <a:ext cx="512640" cy="51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459080" y="3333960"/>
              <a:ext cx="4809240" cy="256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84600" y="2916720"/>
              <a:ext cx="186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quest Zo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04920" y="1600200"/>
              <a:ext cx="6476760" cy="4495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987000" y="1658160"/>
              <a:ext cx="200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etwork 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843920" y="4618440"/>
              <a:ext cx="512640" cy="513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480" y="4746960"/>
              <a:ext cx="513000" cy="51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202400" y="5132520"/>
              <a:ext cx="38448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>
              <a:off x="1972080" y="5132520"/>
              <a:ext cx="6408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A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nodes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within the request z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ward route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A does not forward RREQ, but node B does (see previous sli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zone explicitly specified in the route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ust  know its physical location to determine whether it is within the request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A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nodes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within the request z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ward route requ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route discovery using the smaller request zone fails to find  a route, the sender initiates another route discovery (after a timeout) using a larger request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arger request zone may be the entir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t of route discovery protocol similar to D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R Variations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Adaptive Request Zon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ode may modify the request zone included in the forwarded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ified request zone may be determined using more recent/accurate information, and may be smaller than the original request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990720" y="4437000"/>
            <a:ext cx="5333760" cy="1736280"/>
            <a:chOff x="990720" y="4437000"/>
            <a:chExt cx="5333760" cy="1736280"/>
          </a:xfrm>
        </p:grpSpPr>
        <p:sp>
          <p:nvSpPr>
            <p:cNvPr id="1190" name=""/>
            <p:cNvSpPr/>
            <p:nvPr/>
          </p:nvSpPr>
          <p:spPr>
            <a:xfrm>
              <a:off x="990720" y="5517000"/>
              <a:ext cx="501840" cy="479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869120" y="5096880"/>
              <a:ext cx="501840" cy="4802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990720" y="4437000"/>
              <a:ext cx="5333760" cy="168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1492560" y="5456880"/>
              <a:ext cx="439200" cy="18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1806120" y="4496760"/>
              <a:ext cx="4078800" cy="131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037960" y="5474160"/>
              <a:ext cx="350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quest zone adapted by 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427040" y="5774400"/>
              <a:ext cx="4324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quest zone defined by sender 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LAR Variations: </a:t>
            </a:r>
            <a:r>
              <a:rPr b="0" lang="en-US" sz="3600" spc="-1" strike="noStrike">
                <a:solidFill>
                  <a:srgbClr val="00cc99"/>
                </a:solidFill>
                <a:latin typeface="Times New Roman"/>
              </a:rPr>
              <a:t>Implicit Request Zone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revious scheme, a route request explicitly specified a request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lternative approach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 node X forwards a route request received from Y if node X is deemed to be closer to the expected zone as compared t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tivation is to attempt to bring the route request physically closer to the destination node after each forwa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ocation-Aided Rou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c proposal assumes that,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initially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cation information for node X becomes known to Y only during a rout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location information is used for a future rout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route discovery yields more updated information which is used for the next discov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i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information can also be piggybacked on any message from Y to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may also proactively distribute its location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ilar to other protocols discussed later (e.g., DREAM, G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heoretical Resul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city of a wireless network [Gupta &amp; Kumar 2000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dentical randomly located nodes each capable of transmit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can only achieve a throughput per nod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timally placed nodes within a 1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sc with an optimal traffic pattern and an optimal transmission power can only achie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82800" y="3429000"/>
                <a:ext cx="214128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n</m:t>
                            </m:r>
                          </m:e>
                        </m:rad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bit/se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33720" y="5105520"/>
                <a:ext cx="27352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(</m:t>
                    </m:r>
                    <m:r>
                      <m:t xml:space="preserve">W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n</m:t>
                        </m:r>
                      </m:e>
                    </m:rad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bi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eters</m:t>
                    </m:r>
                    <m:r>
                      <m:rPr>
                        <m:lit/>
                        <m:nor/>
                      </m:rPr>
                      <m:t xml:space="preserve">/se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ocation Aided Routing (LAR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the scope of route request 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overhead of rout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need to know their physical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take into account possible existence of obstructions for radio trans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cc99"/>
                </a:solidFill>
                <a:latin typeface="Times New Roman"/>
              </a:rPr>
              <a:t>Summary: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Broadcast Storm Proble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oding is used in many protocols, such as Dynamic Source Routing (DS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associated with flo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nda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isions may be reduced by “jittering” (waiting for a random interval before propagating the flo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ndancy may be reduced by selectively re-broadcasting packets from only a subset of the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d Hoc On-Demand Distance Vector Routing (AODV) 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[Perkins99Wmcsa]</a:t>
            </a:r>
            <a:endParaRPr b="0" lang="en-US" sz="36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R includes source routes in packet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large headers can sometimes degrad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ularly when data contents of a packet are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DV attempts to improve on DSR by maintaining routing tables at the nodes, so that data packets do not have to contain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DV retains the desirable feature of DSR that routes are maintained only between nodes which need to communi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Requests (RREQ) are forwarded in a manner similar to D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node re-broadcasts a Route Request, it sets up a reverse path pointing towards the 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ODV assumes symmetric (bi-directional)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intended destination receives a Route Request, it replies by sending a Route Rep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 Reply travels along the reverse path set-up when Route Request is for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quests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609480" y="5562720"/>
            <a:ext cx="60984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440720" y="5713920"/>
            <a:ext cx="695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 node that has received RREQ for D from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quests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90720" y="571500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1748880" y="5485320"/>
            <a:ext cx="433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transmission of R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-2160" y="1446840"/>
            <a:ext cx="30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oadcast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143000" y="1828800"/>
            <a:ext cx="1676520" cy="762120"/>
          </a:xfrm>
          <a:custGeom>
            <a:avLst/>
            <a:gdLst/>
            <a:ahLst/>
            <a:rect l="l" t="t" r="r" b="b"/>
            <a:pathLst>
              <a:path w="1056" h="480">
                <a:moveTo>
                  <a:pt x="0" y="0"/>
                </a:moveTo>
                <a:cubicBezTo>
                  <a:pt x="248" y="56"/>
                  <a:pt x="496" y="112"/>
                  <a:pt x="672" y="192"/>
                </a:cubicBezTo>
                <a:cubicBezTo>
                  <a:pt x="848" y="272"/>
                  <a:pt x="984" y="424"/>
                  <a:pt x="1056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251240" y="19350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quests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 flipH="1">
            <a:off x="4114440" y="2971800"/>
            <a:ext cx="2286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968560" y="5713920"/>
            <a:ext cx="435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links on Reverse 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H="1">
            <a:off x="3657600" y="2438280"/>
            <a:ext cx="533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H="1">
            <a:off x="2286000" y="5943600"/>
            <a:ext cx="53352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657600" y="281952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2743200" y="289512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verse Path Setup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981080" y="4114800"/>
            <a:ext cx="68580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H="1">
            <a:off x="5105160" y="3352680"/>
            <a:ext cx="228600" cy="381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55280" y="5409000"/>
            <a:ext cx="761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C receives RREQ from G and H, but does not forw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again, because node C has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already forwarded RREQ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2133720" y="3505320"/>
            <a:ext cx="304560" cy="3045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3200400" y="3657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038480" y="365760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572000" y="2895480"/>
            <a:ext cx="457200" cy="1526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verse Path Setup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 flipH="1">
            <a:off x="4343400" y="4267080"/>
            <a:ext cx="45720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562720" y="3352680"/>
            <a:ext cx="380880" cy="1526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029200" y="4267080"/>
            <a:ext cx="380880" cy="1526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everse Path Setup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062720" y="548532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D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does not forwar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REQ, because nod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 </a:t>
            </a:r>
            <a:r>
              <a:rPr b="1" lang="en-US" sz="2000" spc="-1" strike="noStrike">
                <a:solidFill>
                  <a:srgbClr val="00cc99"/>
                </a:solidFill>
                <a:latin typeface="Arial"/>
              </a:rPr>
              <a:t>intended targe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 the RR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6553080" y="3504960"/>
            <a:ext cx="381240" cy="7596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aptivity and Cooperation 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ical networking stacks have only minimum interaction between adjacent lay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-hop wireless ad hoc networks require more cooperation between layers bec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variation and network topology changes affect the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uting versus single hop communication considerably affects the medium access control (MAC)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isions versus channel fading affects both the physical layer and the MA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tery power has implications on all lay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3848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876920" y="1295280"/>
          <a:ext cx="3781440" cy="27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1295280"/>
                    <a:ext cx="3781440" cy="27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ply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359080" y="5790240"/>
            <a:ext cx="515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links on path taken by RRE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6553080" y="3429000"/>
            <a:ext cx="381240" cy="763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 flipH="1">
            <a:off x="1828800" y="601992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4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Reply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intermediate n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the destination) may also send a 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Route Reply (RREP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at it knows a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re recent pa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n the one previously known to sender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termine whether the path known to an intermediate node is more recent, </a:t>
            </a:r>
            <a:r>
              <a:rPr b="0" i="1" lang="en-US" sz="2400" spc="-1" strike="noStrike">
                <a:solidFill>
                  <a:srgbClr val="a50021"/>
                </a:solidFill>
                <a:latin typeface="Times New Roman"/>
              </a:rPr>
              <a:t>destination sequence numb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ikelihood that an intermediate node will send a Route Reply when using AODV not as high as D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new Route Request by node S for a destination is assigned a higher destination sequence number. An intermediate node which knows a route, but with a smaller sequence number,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annot se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oute 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Forward Path Setup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724280" y="2743200"/>
            <a:ext cx="457200" cy="15228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638680" y="3200400"/>
            <a:ext cx="381240" cy="15228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6477120" y="3733920"/>
            <a:ext cx="304560" cy="22860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 flipH="1">
            <a:off x="3733920" y="2590920"/>
            <a:ext cx="380880" cy="0"/>
          </a:xfrm>
          <a:prstGeom prst="line">
            <a:avLst/>
          </a:prstGeom>
          <a:ln w="38160">
            <a:solidFill>
              <a:srgbClr val="a50021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6553080" y="3429000"/>
            <a:ext cx="381240" cy="76320"/>
          </a:xfrm>
          <a:prstGeom prst="line">
            <a:avLst/>
          </a:prstGeom>
          <a:ln w="3816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3657600" y="2133720"/>
            <a:ext cx="60948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cubicBezTo>
                  <a:pt x="40" y="72"/>
                  <a:pt x="80" y="0"/>
                  <a:pt x="144" y="0"/>
                </a:cubicBezTo>
                <a:cubicBezTo>
                  <a:pt x="208" y="0"/>
                  <a:pt x="344" y="120"/>
                  <a:pt x="384" y="1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4648320" y="2235240"/>
            <a:ext cx="60948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128"/>
                </a:moveTo>
                <a:cubicBezTo>
                  <a:pt x="88" y="64"/>
                  <a:pt x="176" y="0"/>
                  <a:pt x="240" y="32"/>
                </a:cubicBezTo>
                <a:cubicBezTo>
                  <a:pt x="304" y="64"/>
                  <a:pt x="360" y="272"/>
                  <a:pt x="384" y="3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562720" y="25909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144"/>
                </a:moveTo>
                <a:cubicBezTo>
                  <a:pt x="84" y="72"/>
                  <a:pt x="168" y="0"/>
                  <a:pt x="240" y="48"/>
                </a:cubicBezTo>
                <a:cubicBezTo>
                  <a:pt x="312" y="96"/>
                  <a:pt x="372" y="264"/>
                  <a:pt x="432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553080" y="3581280"/>
            <a:ext cx="457200" cy="30492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0"/>
                </a:moveTo>
                <a:cubicBezTo>
                  <a:pt x="96" y="8"/>
                  <a:pt x="192" y="16"/>
                  <a:pt x="240" y="48"/>
                </a:cubicBezTo>
                <a:cubicBezTo>
                  <a:pt x="288" y="80"/>
                  <a:pt x="288" y="136"/>
                  <a:pt x="28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12840" y="5791320"/>
            <a:ext cx="78588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cubicBezTo>
                  <a:pt x="40" y="72"/>
                  <a:pt x="80" y="0"/>
                  <a:pt x="144" y="0"/>
                </a:cubicBezTo>
                <a:cubicBezTo>
                  <a:pt x="208" y="0"/>
                  <a:pt x="344" y="120"/>
                  <a:pt x="384" y="1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075680" y="5256000"/>
            <a:ext cx="739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links are setup when RREP travels along the reverse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s a link on the forward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ata Delivery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209680" y="2895480"/>
            <a:ext cx="609840" cy="6098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447920" y="3581280"/>
            <a:ext cx="609480" cy="609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3124080" y="2286000"/>
            <a:ext cx="609840" cy="609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114800" y="2362320"/>
            <a:ext cx="609480" cy="6094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5105520" y="2743200"/>
            <a:ext cx="609480" cy="6094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666880" y="3886200"/>
            <a:ext cx="609840" cy="6094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5943600" y="3276720"/>
            <a:ext cx="609480" cy="60948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705720" y="3886200"/>
            <a:ext cx="609480" cy="60948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3505320" y="3048120"/>
            <a:ext cx="609480" cy="60948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572000" y="3581280"/>
            <a:ext cx="609480" cy="609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733920" y="4419720"/>
            <a:ext cx="609480" cy="60948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5486400" y="4114800"/>
            <a:ext cx="609480" cy="60948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V="1">
            <a:off x="1981080" y="335232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2743200" y="274284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2057400" y="3962520"/>
            <a:ext cx="6858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666880" y="342900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H="1">
            <a:off x="3124080" y="358128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3962160" y="289548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H="1">
            <a:off x="5028840" y="32767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H="1">
            <a:off x="4191120" y="4114800"/>
            <a:ext cx="4572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114800" y="350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3200400" y="434340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105520" y="4114800"/>
            <a:ext cx="3808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 flipH="1">
            <a:off x="6095880" y="4267080"/>
            <a:ext cx="6098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3505320" y="2895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162920" y="22860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7467480" y="15238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H="1">
            <a:off x="7543440" y="2133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6934320" y="3048120"/>
            <a:ext cx="609480" cy="60948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flipV="1">
            <a:off x="6553080" y="335268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391520" y="4419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238880" y="4419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848720" y="3048120"/>
            <a:ext cx="609480" cy="60948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543800" y="3352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814320" y="5164560"/>
            <a:ext cx="6234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ing table entries used to forward data pack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ute is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luded in packet head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3582720" y="175176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657600" y="2133720"/>
            <a:ext cx="60948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144"/>
                </a:moveTo>
                <a:cubicBezTo>
                  <a:pt x="40" y="72"/>
                  <a:pt x="80" y="0"/>
                  <a:pt x="144" y="0"/>
                </a:cubicBezTo>
                <a:cubicBezTo>
                  <a:pt x="208" y="0"/>
                  <a:pt x="344" y="120"/>
                  <a:pt x="384" y="1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648320" y="2235240"/>
            <a:ext cx="609480" cy="507960"/>
          </a:xfrm>
          <a:custGeom>
            <a:avLst/>
            <a:gdLst/>
            <a:ahLst/>
            <a:rect l="l" t="t" r="r" b="b"/>
            <a:pathLst>
              <a:path w="384" h="320">
                <a:moveTo>
                  <a:pt x="0" y="128"/>
                </a:moveTo>
                <a:cubicBezTo>
                  <a:pt x="88" y="64"/>
                  <a:pt x="176" y="0"/>
                  <a:pt x="240" y="32"/>
                </a:cubicBezTo>
                <a:cubicBezTo>
                  <a:pt x="304" y="64"/>
                  <a:pt x="360" y="272"/>
                  <a:pt x="384" y="3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562720" y="25909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144"/>
                </a:moveTo>
                <a:cubicBezTo>
                  <a:pt x="84" y="72"/>
                  <a:pt x="168" y="0"/>
                  <a:pt x="240" y="48"/>
                </a:cubicBezTo>
                <a:cubicBezTo>
                  <a:pt x="312" y="96"/>
                  <a:pt x="372" y="264"/>
                  <a:pt x="432" y="4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553080" y="3581280"/>
            <a:ext cx="457200" cy="304920"/>
          </a:xfrm>
          <a:custGeom>
            <a:avLst/>
            <a:gdLst/>
            <a:ahLst/>
            <a:rect l="l" t="t" r="r" b="b"/>
            <a:pathLst>
              <a:path w="288" h="192">
                <a:moveTo>
                  <a:pt x="0" y="0"/>
                </a:moveTo>
                <a:cubicBezTo>
                  <a:pt x="96" y="8"/>
                  <a:pt x="192" y="16"/>
                  <a:pt x="240" y="48"/>
                </a:cubicBezTo>
                <a:cubicBezTo>
                  <a:pt x="288" y="80"/>
                  <a:pt x="288" y="136"/>
                  <a:pt x="28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imeout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uting table entry maintaining a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reverse 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urged after a timeout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 should be long enough to allow RREP to come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routing table entry maintaining a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forward pa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urged if </a:t>
            </a:r>
            <a:r>
              <a:rPr b="0" i="1" lang="en-US" sz="2800" spc="-1" strike="noStrike">
                <a:solidFill>
                  <a:srgbClr val="a50021"/>
                </a:solidFill>
                <a:latin typeface="Times New Roman"/>
              </a:rPr>
              <a:t>not u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</a:rPr>
              <a:t>active_route_timeo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is data being sent using a particular routing table entry,  that entry will be deleted from the routing table (even if the route may actually still be vali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Failure Report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eighbor of node X is considered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a routing table entry if the neighbor sent a packet within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ctive_route_timeou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val which was forwarded using that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next hop link in a routing table entry breaks, all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act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ighbors are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 failures are propagated by means of Route Error messages, which also update destination sequence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Route Erro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X is unable to forward packet P (from node S to node D) on link (X,Y), it generates a RERR 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 X increments the destination sequence number for D cached at nod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cremented sequence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included in the R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node S receives the RERR, it initiates a new route discovery for D using destination sequence number at least as large 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Destination Sequence Number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from the previous slid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node D receives the route request with destination sequence number N, node D will set its sequence number to N, unless it is already larger than 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Failure Detec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cc99"/>
                </a:solidFill>
                <a:latin typeface="Times New Roman"/>
              </a:rPr>
              <a:t>Hell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ssages: Neighboring nodes periodically exchange hello mess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sence of hello message is used as an indication of link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ternatively, failure to receive several MAC-level acknowledgement may be used as an indication of link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y Sequence Numbers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using old/broken ro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determine which route is ne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event formation of lo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that A does not know about failure of link C-D because RERR sent by C is l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C performs a route discovery for D. Node A receives the RREQ (say, via path C-E-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de A will reply since A knows a route to D via node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in a loop (for instance, C-E-A-B-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924200" y="31240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143160" y="31240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552920" y="31240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058080" y="31240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533680" y="34290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753000" y="3429000"/>
            <a:ext cx="799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162400" y="3429000"/>
            <a:ext cx="8956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48640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 flipH="1">
            <a:off x="548604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3143160" y="3733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438280" y="367668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 flipV="1">
            <a:off x="3733920" y="367668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aptive Coding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½ rate convolutional code (K=5) versus uncoded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nel with two states: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6.8 dB or 11.3 dB (AWGN), L=20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estimate the channel and adapt 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e between congestions and a bad channel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of Hybrid-ARQ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920" y="2666880"/>
            <a:ext cx="7648200" cy="1924200"/>
            <a:chOff x="304920" y="2666880"/>
            <a:chExt cx="7648200" cy="1924200"/>
          </a:xfrm>
        </p:grpSpPr>
        <p:grpSp>
          <p:nvGrpSpPr>
            <p:cNvPr id="77" name=""/>
            <p:cNvGrpSpPr/>
            <p:nvPr/>
          </p:nvGrpSpPr>
          <p:grpSpPr>
            <a:xfrm>
              <a:off x="310320" y="2669760"/>
              <a:ext cx="7636680" cy="1917720"/>
              <a:chOff x="310320" y="2669760"/>
              <a:chExt cx="7636680" cy="191772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310320" y="2669760"/>
                <a:ext cx="897840" cy="839160"/>
                <a:chOff x="310320" y="2669760"/>
                <a:chExt cx="897840" cy="8391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389160" y="2669760"/>
                  <a:ext cx="740160" cy="83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1" i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b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/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N</a:t>
                  </a:r>
                  <a:r>
                    <a:rPr b="1" lang="en-US" sz="18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310320" y="2669760"/>
                  <a:ext cx="897840" cy="83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208520" y="2669760"/>
                <a:ext cx="1603440" cy="419400"/>
                <a:chOff x="1208520" y="2669760"/>
                <a:chExt cx="1603440" cy="41940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287360" y="2669760"/>
                  <a:ext cx="144540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208520" y="2669760"/>
                  <a:ext cx="160344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2812320" y="2669760"/>
                <a:ext cx="1805400" cy="419400"/>
                <a:chOff x="2812320" y="2669760"/>
                <a:chExt cx="1805400" cy="41940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891160" y="2669760"/>
                  <a:ext cx="164736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12320" y="2669760"/>
                  <a:ext cx="18054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618440" y="2669760"/>
                <a:ext cx="1570320" cy="419400"/>
                <a:chOff x="4618440" y="2669760"/>
                <a:chExt cx="1570320" cy="41940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4696920" y="2669760"/>
                  <a:ext cx="141264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b_Transmi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618440" y="2669760"/>
                  <a:ext cx="157032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189120" y="2669760"/>
                <a:ext cx="1757520" cy="419400"/>
                <a:chOff x="6189120" y="2669760"/>
                <a:chExt cx="1757520" cy="41940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267960" y="2669760"/>
                  <a:ext cx="159984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_Tx_Byt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189120" y="2669760"/>
                  <a:ext cx="175752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208520" y="3089160"/>
                <a:ext cx="819000" cy="419400"/>
                <a:chOff x="1208520" y="3089160"/>
                <a:chExt cx="819000" cy="41940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287360" y="3089160"/>
                  <a:ext cx="66096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208520" y="3089160"/>
                  <a:ext cx="8190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027880" y="3089160"/>
                <a:ext cx="784080" cy="419400"/>
                <a:chOff x="2027880" y="3089160"/>
                <a:chExt cx="784080" cy="41940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2106720" y="3089160"/>
                  <a:ext cx="62604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027880" y="3089160"/>
                  <a:ext cx="78408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812320" y="3089160"/>
                <a:ext cx="919800" cy="419400"/>
                <a:chOff x="2812320" y="3089160"/>
                <a:chExt cx="919800" cy="4194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891160" y="3089160"/>
                  <a:ext cx="76212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812320" y="3089160"/>
                  <a:ext cx="9198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732840" y="3089160"/>
                <a:ext cx="885240" cy="419400"/>
                <a:chOff x="3732840" y="3089160"/>
                <a:chExt cx="885240" cy="4194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811680" y="3089160"/>
                  <a:ext cx="72720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732840" y="3089160"/>
                  <a:ext cx="88524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618440" y="3089160"/>
                <a:ext cx="752760" cy="419400"/>
                <a:chOff x="4618440" y="3089160"/>
                <a:chExt cx="752760" cy="4194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696920" y="3089160"/>
                  <a:ext cx="59508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618440" y="3089160"/>
                  <a:ext cx="75276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5371920" y="3089160"/>
                <a:ext cx="816840" cy="419400"/>
                <a:chOff x="5371920" y="3089160"/>
                <a:chExt cx="816840" cy="41940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5450400" y="3089160"/>
                  <a:ext cx="65916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5371920" y="3089160"/>
                  <a:ext cx="81684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189120" y="3089160"/>
                <a:ext cx="932760" cy="419400"/>
                <a:chOff x="6189120" y="3089160"/>
                <a:chExt cx="932760" cy="4194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267960" y="3089160"/>
                  <a:ext cx="77508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U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189120" y="3089160"/>
                  <a:ext cx="93276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122600" y="3089160"/>
                <a:ext cx="824400" cy="419400"/>
                <a:chOff x="7122600" y="3089160"/>
                <a:chExt cx="824400" cy="41940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201440" y="3089160"/>
                  <a:ext cx="666720" cy="41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½ CC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122600" y="3089160"/>
                  <a:ext cx="824400" cy="41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10320" y="3508920"/>
                <a:ext cx="897840" cy="539280"/>
                <a:chOff x="310320" y="3508920"/>
                <a:chExt cx="897840" cy="539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89160" y="3508920"/>
                  <a:ext cx="74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.8d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10320" y="3508920"/>
                  <a:ext cx="897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1208520" y="3508920"/>
                <a:ext cx="819000" cy="539280"/>
                <a:chOff x="1208520" y="3508920"/>
                <a:chExt cx="819000" cy="539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1287360" y="3508920"/>
                  <a:ext cx="660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3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208520" y="3508920"/>
                  <a:ext cx="8190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2027880" y="3508920"/>
                <a:ext cx="784080" cy="539280"/>
                <a:chOff x="2027880" y="3508920"/>
                <a:chExt cx="784080" cy="539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2106720" y="3508920"/>
                  <a:ext cx="6260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027880" y="3508920"/>
                  <a:ext cx="78408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812320" y="3508920"/>
                <a:ext cx="919800" cy="539280"/>
                <a:chOff x="2812320" y="3508920"/>
                <a:chExt cx="919800" cy="539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891160" y="3508920"/>
                  <a:ext cx="7621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8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812320" y="3508920"/>
                  <a:ext cx="919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732840" y="3508920"/>
                <a:ext cx="885240" cy="539280"/>
                <a:chOff x="3732840" y="3508920"/>
                <a:chExt cx="885240" cy="539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811680" y="3508920"/>
                  <a:ext cx="7272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732840" y="3508920"/>
                  <a:ext cx="8852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618440" y="3508920"/>
                <a:ext cx="752760" cy="539280"/>
                <a:chOff x="4618440" y="3508920"/>
                <a:chExt cx="752760" cy="539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696920" y="3508920"/>
                  <a:ext cx="59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618440" y="3508920"/>
                  <a:ext cx="75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5371920" y="3508920"/>
                <a:ext cx="816840" cy="539280"/>
                <a:chOff x="5371920" y="3508920"/>
                <a:chExt cx="816840" cy="539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450400" y="3508920"/>
                  <a:ext cx="659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371920" y="3508920"/>
                  <a:ext cx="816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6189120" y="3508920"/>
                <a:ext cx="932760" cy="539280"/>
                <a:chOff x="6189120" y="3508920"/>
                <a:chExt cx="932760" cy="539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6267960" y="3508920"/>
                  <a:ext cx="77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*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6189120" y="3508920"/>
                  <a:ext cx="93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122600" y="3508920"/>
                <a:ext cx="824400" cy="539280"/>
                <a:chOff x="7122600" y="3508920"/>
                <a:chExt cx="824400" cy="539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201440" y="3508920"/>
                  <a:ext cx="6667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*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122600" y="3508920"/>
                  <a:ext cx="8244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310320" y="4048200"/>
                <a:ext cx="897840" cy="539280"/>
                <a:chOff x="310320" y="4048200"/>
                <a:chExt cx="897840" cy="539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89160" y="4048200"/>
                  <a:ext cx="740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.3dB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10320" y="4048200"/>
                  <a:ext cx="897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1208520" y="4048200"/>
                <a:ext cx="819000" cy="539280"/>
                <a:chOff x="1208520" y="4048200"/>
                <a:chExt cx="819000" cy="539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1287360" y="4048200"/>
                  <a:ext cx="6609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208520" y="4048200"/>
                  <a:ext cx="8190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027880" y="4048200"/>
                <a:ext cx="784080" cy="539280"/>
                <a:chOff x="2027880" y="4048200"/>
                <a:chExt cx="784080" cy="539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106720" y="4048200"/>
                  <a:ext cx="62604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027880" y="4048200"/>
                  <a:ext cx="78408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812320" y="4048200"/>
                <a:ext cx="919800" cy="539280"/>
                <a:chOff x="2812320" y="4048200"/>
                <a:chExt cx="919800" cy="539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891160" y="4048200"/>
                  <a:ext cx="7621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 10</a:t>
                  </a:r>
                  <a:r>
                    <a:rPr b="1" lang="en-US" sz="14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4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812320" y="4048200"/>
                  <a:ext cx="9198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732840" y="4048200"/>
                <a:ext cx="885240" cy="539280"/>
                <a:chOff x="3732840" y="4048200"/>
                <a:chExt cx="885240" cy="5392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811680" y="4048200"/>
                  <a:ext cx="72720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732840" y="4048200"/>
                  <a:ext cx="8852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618440" y="4048200"/>
                <a:ext cx="752760" cy="539280"/>
                <a:chOff x="4618440" y="4048200"/>
                <a:chExt cx="752760" cy="539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4696920" y="4048200"/>
                  <a:ext cx="59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618440" y="4048200"/>
                  <a:ext cx="75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5371920" y="4048200"/>
                <a:ext cx="816840" cy="539280"/>
                <a:chOff x="5371920" y="4048200"/>
                <a:chExt cx="816840" cy="539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5450400" y="4048200"/>
                  <a:ext cx="65916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371920" y="4048200"/>
                  <a:ext cx="81684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189120" y="4048200"/>
                <a:ext cx="932760" cy="539280"/>
                <a:chOff x="6189120" y="4048200"/>
                <a:chExt cx="932760" cy="539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6267960" y="4048200"/>
                  <a:ext cx="77508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89120" y="4048200"/>
                  <a:ext cx="93276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7122600" y="4048200"/>
                <a:ext cx="824400" cy="539280"/>
                <a:chOff x="7122600" y="4048200"/>
                <a:chExt cx="824400" cy="539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201440" y="4048200"/>
                  <a:ext cx="666720" cy="53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*20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7122600" y="4048200"/>
                  <a:ext cx="824400" cy="539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1" name=""/>
            <p:cNvSpPr/>
            <p:nvPr/>
          </p:nvSpPr>
          <p:spPr>
            <a:xfrm>
              <a:off x="304920" y="2666880"/>
              <a:ext cx="7648200" cy="1924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hy Sequence Numbers in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p C-E-A-B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924200" y="177156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143160" y="177156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4552920" y="177156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058080" y="177156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2533680" y="2076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3753000" y="2076480"/>
            <a:ext cx="799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3143160" y="23814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438280" y="2324160"/>
            <a:ext cx="6858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flipV="1">
            <a:off x="3733920" y="232416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ptimization: Expanding Ring Search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te Requests are initially sent with small Time-to-Live (TTL) field, to limit their propa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R also includes a similar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no Route Reply is received, then larger TTL tr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mmary: AODV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es need not be included in packet hea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s maintain routing tables containing entries only for routes that are in active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 one next-hop per destination maintained at each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SR may maintain several routes for a single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used routes expire even if topology does no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 far ...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protocols discussed so far perform some form of flo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will consider protocols which try to reduce/avoid such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 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[Gafni81]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1752480" y="21337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562720" y="2133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3581280" y="21337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1752480" y="35812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3581280" y="3581280"/>
            <a:ext cx="60984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562720" y="35812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3657600" y="51814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05740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88620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86728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362320" y="24382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4191120" y="24382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3623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4191120" y="38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2133720" y="4191120"/>
            <a:ext cx="16002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H="1">
            <a:off x="4190760" y="4191120"/>
            <a:ext cx="16002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 flipH="1">
            <a:off x="3200040" y="3886200"/>
            <a:ext cx="1600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546800" y="4037400"/>
            <a:ext cx="406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a directed acycl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 (DAG)  for ea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tination, with the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ing the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onl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DAG is for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est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node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5408640" y="2208600"/>
            <a:ext cx="333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 are bi-direc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algorithm impo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gical directions on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351240" y="396144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(G,D) b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762120" y="1523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2590920" y="1523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62120" y="2971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2590920" y="2971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4572000" y="2971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2666880" y="45720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066680" y="2133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2895480" y="2133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4876920" y="2133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371600" y="1828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200400" y="18288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371600" y="3276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20040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143000" y="3581280"/>
            <a:ext cx="1600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376200" y="5057640"/>
            <a:ext cx="714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 node,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other than the destin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at has no outgoing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rses all its incoming lin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ff"/>
                </a:solidFill>
                <a:latin typeface="Arial"/>
              </a:rPr>
              <a:t>Node 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as no outgoing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897120" y="5896800"/>
            <a:ext cx="53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nodes E and F have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6705720" y="3200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896040" y="5896800"/>
            <a:ext cx="542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nodes B and G have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705720" y="3200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896760" y="5896800"/>
            <a:ext cx="538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nodes A and F have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705720" y="3200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daptive Fragment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ransmit a frame of length 200 Bytes, we can fragment into 4 frames of length 50 Bytes (+ 10 Bytes overhea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estimate the channel and adapt to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457200" y="3048120"/>
            <a:ext cx="7924320" cy="2133360"/>
            <a:chOff x="457200" y="3048120"/>
            <a:chExt cx="7924320" cy="2133360"/>
          </a:xfrm>
        </p:grpSpPr>
        <p:grpSp>
          <p:nvGrpSpPr>
            <p:cNvPr id="175" name=""/>
            <p:cNvGrpSpPr/>
            <p:nvPr/>
          </p:nvGrpSpPr>
          <p:grpSpPr>
            <a:xfrm>
              <a:off x="463680" y="3051360"/>
              <a:ext cx="7909920" cy="2126160"/>
              <a:chOff x="463680" y="3051360"/>
              <a:chExt cx="7909920" cy="212616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463680" y="3051360"/>
                <a:ext cx="1048320" cy="1195560"/>
                <a:chOff x="463680" y="3051360"/>
                <a:chExt cx="1048320" cy="11955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563040" y="3051360"/>
                  <a:ext cx="848880" cy="11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63680" y="3051360"/>
                  <a:ext cx="1048320" cy="1195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1512360" y="3051360"/>
                <a:ext cx="2231280" cy="597600"/>
                <a:chOff x="1512360" y="3051360"/>
                <a:chExt cx="2231280" cy="59760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1611360" y="3051360"/>
                  <a:ext cx="2032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1512360" y="3051360"/>
                  <a:ext cx="223128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3744000" y="3051360"/>
                <a:ext cx="2314080" cy="597600"/>
                <a:chOff x="3744000" y="3051360"/>
                <a:chExt cx="2314080" cy="5976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843000" y="3051360"/>
                  <a:ext cx="211572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b_Transm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3744000" y="3051360"/>
                  <a:ext cx="231408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058800" y="3051360"/>
                <a:ext cx="2314800" cy="597600"/>
                <a:chOff x="6058800" y="3051360"/>
                <a:chExt cx="2314800" cy="59760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158520" y="3051360"/>
                  <a:ext cx="211536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tal_Tx_Byt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incl. overhead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058800" y="3051360"/>
                  <a:ext cx="231480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1512360" y="3648960"/>
                <a:ext cx="1114920" cy="597600"/>
                <a:chOff x="1512360" y="3648960"/>
                <a:chExt cx="1114920" cy="5976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1611360" y="3648960"/>
                  <a:ext cx="916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6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512360" y="3648960"/>
                  <a:ext cx="111492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2628000" y="3648960"/>
                <a:ext cx="1115640" cy="597600"/>
                <a:chOff x="2628000" y="3648960"/>
                <a:chExt cx="1115640" cy="5976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2727720" y="3648960"/>
                  <a:ext cx="916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20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628000" y="3648960"/>
                  <a:ext cx="11156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3744000" y="3648960"/>
                <a:ext cx="1031760" cy="597600"/>
                <a:chOff x="3744000" y="3648960"/>
                <a:chExt cx="1031760" cy="5976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843000" y="3648960"/>
                  <a:ext cx="8334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6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744000" y="3648960"/>
                  <a:ext cx="103176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4776120" y="3648960"/>
                <a:ext cx="1281960" cy="597600"/>
                <a:chOff x="4776120" y="3648960"/>
                <a:chExt cx="1281960" cy="5976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4875480" y="3648960"/>
                  <a:ext cx="108324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20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776120" y="3648960"/>
                  <a:ext cx="128196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6058800" y="3648960"/>
                <a:ext cx="1115640" cy="597600"/>
                <a:chOff x="6058800" y="3648960"/>
                <a:chExt cx="1115640" cy="5976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6158520" y="3648960"/>
                  <a:ext cx="9162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6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058800" y="3648960"/>
                  <a:ext cx="11156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7174800" y="3648960"/>
                <a:ext cx="1198440" cy="597600"/>
                <a:chOff x="7174800" y="3648960"/>
                <a:chExt cx="1198440" cy="59760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273800" y="3648960"/>
                  <a:ext cx="99972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=200B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174800" y="3648960"/>
                  <a:ext cx="1198440" cy="597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463680" y="4246920"/>
                <a:ext cx="1048320" cy="465480"/>
                <a:chOff x="463680" y="4246920"/>
                <a:chExt cx="1048320" cy="4654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63040" y="4246920"/>
                  <a:ext cx="84888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63680" y="4246920"/>
                  <a:ext cx="104832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1512360" y="4246920"/>
                <a:ext cx="1114920" cy="465480"/>
                <a:chOff x="1512360" y="4246920"/>
                <a:chExt cx="1114920" cy="4654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1611360" y="4246920"/>
                  <a:ext cx="9162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3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1512360" y="4246920"/>
                  <a:ext cx="111492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2628000" y="4246920"/>
                <a:ext cx="1115640" cy="465480"/>
                <a:chOff x="2628000" y="4246920"/>
                <a:chExt cx="1115640" cy="4654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2727720" y="4246920"/>
                  <a:ext cx="9162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.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628000" y="4246920"/>
                  <a:ext cx="111564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3744000" y="4246920"/>
                <a:ext cx="1031760" cy="465480"/>
                <a:chOff x="3744000" y="4246920"/>
                <a:chExt cx="1031760" cy="4654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843000" y="4246920"/>
                  <a:ext cx="8334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.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744000" y="4246920"/>
                  <a:ext cx="103176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4776120" y="4246920"/>
                <a:ext cx="1281960" cy="465480"/>
                <a:chOff x="4776120" y="4246920"/>
                <a:chExt cx="1281960" cy="4654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4875480" y="4246920"/>
                  <a:ext cx="108324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776120" y="4246920"/>
                  <a:ext cx="128196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6058800" y="4246920"/>
                <a:ext cx="1115640" cy="465480"/>
                <a:chOff x="6058800" y="4246920"/>
                <a:chExt cx="1115640" cy="4654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6158520" y="4246920"/>
                  <a:ext cx="91620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058800" y="4246920"/>
                  <a:ext cx="111564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7174800" y="4246920"/>
                <a:ext cx="1198440" cy="465480"/>
                <a:chOff x="7174800" y="4246920"/>
                <a:chExt cx="1198440" cy="4654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7273800" y="4246920"/>
                  <a:ext cx="999720" cy="46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174800" y="4246920"/>
                  <a:ext cx="1198440" cy="465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63680" y="4712400"/>
                <a:ext cx="1048320" cy="465120"/>
                <a:chOff x="463680" y="4712400"/>
                <a:chExt cx="1048320" cy="4651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63040" y="4712400"/>
                  <a:ext cx="84888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63680" y="4712400"/>
                  <a:ext cx="10483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1512360" y="4712400"/>
                <a:ext cx="1114920" cy="465120"/>
                <a:chOff x="1512360" y="4712400"/>
                <a:chExt cx="1114920" cy="4651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1611360" y="4712400"/>
                  <a:ext cx="9162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512360" y="4712400"/>
                  <a:ext cx="111492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2628000" y="4712400"/>
                <a:ext cx="1115640" cy="465120"/>
                <a:chOff x="2628000" y="4712400"/>
                <a:chExt cx="1115640" cy="4651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2727720" y="4712400"/>
                  <a:ext cx="9162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2628000" y="4712400"/>
                  <a:ext cx="11156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3744000" y="4712400"/>
                <a:ext cx="1031760" cy="465120"/>
                <a:chOff x="3744000" y="4712400"/>
                <a:chExt cx="1031760" cy="4651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843000" y="4712400"/>
                  <a:ext cx="8334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744000" y="4712400"/>
                  <a:ext cx="10317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4776120" y="4712400"/>
                <a:ext cx="1281960" cy="465120"/>
                <a:chOff x="4776120" y="4712400"/>
                <a:chExt cx="1281960" cy="46512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4875480" y="4712400"/>
                  <a:ext cx="108324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~ 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776120" y="4712400"/>
                  <a:ext cx="128196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6058800" y="4712400"/>
                <a:ext cx="1115640" cy="465120"/>
                <a:chOff x="6058800" y="4712400"/>
                <a:chExt cx="1115640" cy="4651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6158520" y="4712400"/>
                  <a:ext cx="91620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4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6058800" y="4712400"/>
                  <a:ext cx="11156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7174800" y="4712400"/>
                <a:ext cx="1198440" cy="465120"/>
                <a:chOff x="7174800" y="4712400"/>
                <a:chExt cx="1198440" cy="46512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273800" y="4712400"/>
                  <a:ext cx="999720" cy="46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74800" y="4712400"/>
                  <a:ext cx="1198440" cy="46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8" name=""/>
            <p:cNvSpPr/>
            <p:nvPr/>
          </p:nvSpPr>
          <p:spPr>
            <a:xfrm>
              <a:off x="457200" y="3048120"/>
              <a:ext cx="7924320" cy="2133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891000" y="5896800"/>
            <a:ext cx="77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all nodes (other than destination D) have an outgoing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6705720" y="3200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90280" y="5896800"/>
            <a:ext cx="72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G has been restored with only the destination as a 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s to keep link reversals local to where the failure occur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is is not 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first packet is sent to a destination, the destination oriented DAG is constru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itial construction does result in flooding of control 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Link Reversal Algorithm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vious algorithm is called a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full rever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when a node reverses links, it reverses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 incoming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Partial revers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Times New Roman"/>
              </a:rPr>
              <a:t>metho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ccff"/>
                </a:solidFill>
                <a:latin typeface="Times New Roman"/>
              </a:rPr>
              <a:t>[Gafni81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 node reverses incoming links from only those neighbors who have not themselves reversed links “previousl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all neighbors have reversed links, then the node reverses all its incom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” at node X mean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nce the last link reversal done by node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al Reversal Meth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3351240" y="426636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(G,D) br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1980000" y="5942520"/>
            <a:ext cx="37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G has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al Reversal Meth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897120" y="5896800"/>
            <a:ext cx="53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nodes E and F have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019920" y="4038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019920" y="46483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6628680" y="4494600"/>
            <a:ext cx="189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 that 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al Reversal Meth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762120" y="1523880"/>
            <a:ext cx="60948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572000" y="1523880"/>
            <a:ext cx="609480" cy="60984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590920" y="1523880"/>
            <a:ext cx="609480" cy="6098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762120" y="297180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2590920" y="2971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572000" y="2971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2666880" y="457200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066680" y="2133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2895480" y="2133720"/>
            <a:ext cx="0" cy="838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876920" y="213372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371600" y="1828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200400" y="1828800"/>
            <a:ext cx="137160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371600" y="32767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3200400" y="3276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143000" y="3581280"/>
            <a:ext cx="1600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894600" y="5286960"/>
            <a:ext cx="600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des E and F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o 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verse links from node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node B has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6705720" y="28954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6627600" y="304704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al Reversal Meth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897480" y="5896800"/>
            <a:ext cx="43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node A has no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6705720" y="3200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al Reversal Meth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891720" y="5896800"/>
            <a:ext cx="707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 all nodes (except destination D) have outgoing lin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705720" y="320040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627600" y="3351600"/>
            <a:ext cx="2289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resent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 that w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ersed rec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rtial Reversal Method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6212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457200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2590920" y="182880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762120" y="3276720"/>
            <a:ext cx="60948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259092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4572000" y="3276720"/>
            <a:ext cx="609480" cy="60948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666880" y="4876920"/>
            <a:ext cx="60984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10666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289548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4876920" y="24382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371600" y="21337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200400" y="213372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371600" y="358128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200400" y="3581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143000" y="3886200"/>
            <a:ext cx="160020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890280" y="5896800"/>
            <a:ext cx="720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G has been restored with only the destination as a s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. Noubir</cp:lastModifiedBy>
  <dcterms:modified xsi:type="dcterms:W3CDTF">2003-05-12T19:53:03Z</dcterms:modified>
  <cp:revision>856</cp:revision>
  <dc:subject/>
  <dc:title>Computer Networks: Theory, Modeling, and Analysis</dc:title>
</cp:coreProperties>
</file>