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0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9283700" cy="6997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284400" cy="69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5261040" y="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2892240" y="525240"/>
            <a:ext cx="3498840" cy="26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664848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5261040" y="664848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DBCCF623-11CF-41D2-A5A3-CBFF9747E07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induced on earth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30 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with water and a running per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12.734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distance between two anten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1 = 100m, h2 = 0 =&gt; 41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h2 = 10m =&gt; h1 = 46.2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dB loss every time the distance is doub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ce: A transmitter produces 50W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t in dBm: 47dBm, in dBW: 17dB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 at 100m: -24.5dBm, at 10km: -64.5dBm? (40dB differe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ing factors in communic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lute signal level, external noise, internal noise (tx/rx eq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nel capacity depends on Signal Noise Ratio SN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HF (upto 30MHz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oise in the propagation medium predomin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VHF (from 30MHz - abov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x and Rx noise (amplification at receiver) predomina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s of external noise: galactic, atmospheric, 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ssive load induces noi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)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= kT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k = 1.38 1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-2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temperature (290K), B: bandwid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 antenn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) =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k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 =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+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T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T = 290K =&gt; N0 = 4 10^-21W/H = -204dbW/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 a + cos b = 2cos (a+b)/2 cos (a-b)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on: Occurs when a radio wave propagating in one medium impinges upon another medium: partial reflection + partial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dium is a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nducto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all incident energy is refl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dium is a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ielectri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partial reflection and partial transmission in the second 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: Occurs when the radio path is obstructed with a surface that has sharp irregularities (ed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ls: knife-edge and multiple knife-e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ttering: Occurs when the medium consists of small objects (vs. 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ed energy o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roug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rfaces is spread out (diffused) in all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rface is rough if: protuberance &gt;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8 sin </a:t>
            </a:r>
            <a:r>
              <a:rPr b="0" i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fading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leigh: no distinct 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ian: LOS + multi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= power in dominant path/power in the scattered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ractice values of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re computed from measured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ment in Tokyo area by Okum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se models use t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s on building height, number of windo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F single floor, MF: multiple flo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Eb/N0 required to achieve  6bps/H =&gt; (1/6)(2^6-1) = 10.5 = 10.21 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urbance that propagates without moving it’s me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 don’t need matter to propag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owaves: from 30KHz to 300 G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c/f =&gt; 10Km, 1m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1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bolic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t is it used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parabolic reflective antenna with a diameter of 2m operating at 12GHz. What is the effective area and antenna g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pi r^2 = 3.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e = 0.56pi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bda = c/f = 0.025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7A/l^2 =&gt; G = 35.186 = 45.46 d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82600" y="3885840"/>
            <a:ext cx="77724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8584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280" y="388584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0600" y="155232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38240" y="155232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82600" y="388584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0600" y="388584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38240" y="388584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0BEF-D769-4A59-8FC9-A1A090371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ADB7-85CA-4C74-A462-4354243F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8A9C-9FFD-4C51-BE6D-5CB9E3D8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3792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65280" y="1552320"/>
            <a:ext cx="3792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CDA6-8FBD-459C-8F8F-E1586EFC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6E0F-0315-4FE8-A559-9D4B74A2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A14E-D6E6-4366-A55A-B01281D6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65280" y="1552320"/>
            <a:ext cx="3792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82600" y="388584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9B7D-ABBF-4817-9BBE-1CD97FDB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3792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65280" y="388584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BAD7-E43C-43E8-9A32-6BAFA933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82600" y="3885840"/>
            <a:ext cx="77724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FC19-445D-47F0-87CE-8E8A244B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82600" y="3885840"/>
            <a:ext cx="77724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E66E-8D0B-464A-A9BC-7498E3954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388584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65280" y="388584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0EE1-506F-4C3A-AA75-74179CB5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810600" y="155232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38240" y="155232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82600" y="388584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810600" y="388584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38240" y="3885840"/>
            <a:ext cx="250236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A0DD-ED2B-4D32-A76E-E5F5917F9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3792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280" y="1552320"/>
            <a:ext cx="3792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552320"/>
            <a:ext cx="3792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82600" y="388584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3792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28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280" y="388584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1552320"/>
            <a:ext cx="37926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3885840"/>
            <a:ext cx="7772400" cy="21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52560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42800" y="13161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129600" y="6281640"/>
            <a:ext cx="41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3525, Spring 2003: lecture 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947720" y="6373800"/>
            <a:ext cx="14302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6C76-4A06-43BC-AB84-783210CF1BCE}" type="slidenum">
              <a:rPr b="0" lang="en-US" sz="2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2157-C330-40C3-AFA2-CAE7F33696E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oubir@ccs.neu.edu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tennas and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197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. Noub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noubir@ccs.neu.e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xtboo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Wireless Communications and Networks, William Stallings, Prentice H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opagation M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nd-wave propa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y-wave propa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-of-sight propa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400800" y="1752480"/>
            <a:ext cx="1447920" cy="1414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round Wave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371600" y="2057400"/>
            <a:ext cx="6248520" cy="306216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901080" y="5029200"/>
            <a:ext cx="651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s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uced currents slows the wavefr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round Wave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s contour of the ear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Propagate considerable dista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ies up to 2 MH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ky Wave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00200" y="1981080"/>
            <a:ext cx="617220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ky Wave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reflected from ionized layer of atmosphere back down to ear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can travel a number of hops, back and forth between ionosphere and earth’s su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ction effect caused by ref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ateur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B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 below 30 M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ine-of-Sight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219320" y="2209680"/>
            <a:ext cx="6933960" cy="26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ine-of-Sight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ting and receiving antennas must be within 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ellite communication – signal above 30 MHz not reflected by ionosp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nd communication – antennas with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ffe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ne of site due to refr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raction – bending of microwaves by the atmosp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ty of electromagnetic wave is a function of the density of the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wave changes medium, speed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 bends at the boundary between mediu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ine-of-Sight Equ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cal line of sight (earth diameter 12734 K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ive, or radio, line of sigh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distance between antenna and horizon (k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ntenna height (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adjustment factor to account for refraction, rule of thumb K = 4/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200400" y="1905120"/>
                <a:ext cx="24382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200400" y="3200400"/>
                <a:ext cx="28098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Κ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ine-of-Sight Equ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distance between two antennas for LOS propag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height of antenna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height of antenna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1 = 100m, h2 = 0 =&gt; 41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2 = 10m =&gt; h1 = 46.2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514600" y="2895480"/>
                <a:ext cx="39654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7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Κh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Κh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OS Wireless Transmission Impair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nuation and attenuation distor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pace lo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mospheric absor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360" y="1552320"/>
            <a:ext cx="79642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enn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agation M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 of Sight Trans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ding in Mobile Environment and Compens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ttenuation (Pathlos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ngth of signal falls off with distance over transmission med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enuation factors for unguided medi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signal must have sufficient strength so that circuitry in the receiver can interpret th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must maintain a level sufficiently higher than noise to be received withou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nuation is greater at higher frequencies, causing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e Space Lo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1552320"/>
            <a:ext cx="8040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e space loss, ideal isotropic antenn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signal power at transmitting anten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signal power at receiving anten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carrier waveleng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propagation distance between antenn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speed of light (» 3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/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in the same units (e.g., meter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the loss (dB) when distance is doubl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438280" y="2057400"/>
                <a:ext cx="458496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π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f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e Space Lo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pace loss equation can be recas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663560" y="2666880"/>
                <a:ext cx="39132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d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182680" y="3809880"/>
                <a:ext cx="455292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8</m:t>
                    </m:r>
                    <m:r>
                      <m:rPr>
                        <m:lit/>
                        <m:nor/>
                      </m:rPr>
                      <m:t xml:space="preserve"> d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182680" y="4495680"/>
                <a:ext cx="655020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d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rPr>
                        <m:lit/>
                        <m:nor/>
                      </m:rPr>
                      <m:t xml:space="preserve"> d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e Space Lo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pace loss accounting for gain of other antenn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gain of transmitting anten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gain of receiving anten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effective area of transmitting anten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effective area of receiving anten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676520" y="2438280"/>
                <a:ext cx="6856200" cy="15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π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λ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d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e Space Lo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e space loss accounting for gain of other antennas can be recast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676520" y="3048120"/>
                <a:ext cx="524484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λ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209680" y="3809880"/>
                <a:ext cx="64436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ategories of No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mal No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modulation no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tal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e Noi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hermal No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mal noise due to agitation of electr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 in all electronic devices and transmission 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not be elimin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 of tempera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icularly significant for satellit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hermal No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ount of thermal noise to be found in a bandwidth of 1Hz in any device or conductor 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noise power density in watts per 1 Hz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Boltzmann's constant = 1.3803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J/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temperature, in Kelvin (absolute temperatur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235320" y="3048120"/>
                <a:ext cx="33861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T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W/Hz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hermal No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e is assumed to be independent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mal noise present in a bandwidt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ertz (in watt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, in decibel-wat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809880" y="3200400"/>
                <a:ext cx="182880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T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905120" y="4419720"/>
                <a:ext cx="579096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rPr>
                        <m:lit/>
                        <m:nor/>
                      </m:rPr>
                      <m:t xml:space="preserve">k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 log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325600" y="5029200"/>
                <a:ext cx="62676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dBW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 log 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Noise Termin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modulation noise – occurs if signals with different frequencies share the sam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erence caused by a signal produced at a frequency that is the sum or difference of original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talk – unwanted coupling between sign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ulse noise – irregular pulses or noise spik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 duration and of relatively 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d by external electromagnetic disturbances, or faults and flaws in the communications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cib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36120" y="1600200"/>
            <a:ext cx="8736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ecibel Uni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 unit describing transmission gain (loss) and relative power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in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dB) = 10 log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ibels above or below 1W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dBW) = 10 log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ibels above or below 1Milliwatt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dBm) = 10log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1m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= 1mW =&gt; P(dBm) = 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 P(dBW) =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= 10mW =&gt; P(dBm) = 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; P(dBW) =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xpression 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E</a:t>
            </a:r>
            <a:r>
              <a:rPr b="0" i="1" lang="en-US" sz="4400" spc="-1" strike="noStrike" baseline="-25000">
                <a:solidFill>
                  <a:srgbClr val="333399"/>
                </a:solidFill>
                <a:latin typeface="Times New Roman"/>
              </a:rPr>
              <a:t>b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/</a:t>
            </a:r>
            <a:r>
              <a:rPr b="0" i="1" lang="en-US" sz="4400" spc="-1" strike="noStrike">
                <a:solidFill>
                  <a:srgbClr val="333399"/>
                </a:solidFill>
                <a:latin typeface="Times New Roman"/>
              </a:rPr>
              <a:t>N</a:t>
            </a:r>
            <a:r>
              <a:rPr b="0" i="1" lang="en-US" sz="4400" spc="-1" strike="noStrike" baseline="-25000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io of signal energy per bit to noise power density per Hert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it error rate for digital data is a function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chieve a desired error rate, parameters of this formula can be sel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bit 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, transmitted signal power must increase to maintain requir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276720" y="2438280"/>
                <a:ext cx="286524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Other Impair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mospheric absorption – water vapor and oxygen contribute to atten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ath – obstacles reflect signals so that multiple copies with varying delays are recei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raction – bending of radio waves as they propagate through the atmosp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ultipath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772400" cy="5479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38080" y="5943600"/>
            <a:ext cx="7315200" cy="6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ultipath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ction - occurs when signal encounters a surface that is large relative to the wavelength of the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raction - occurs at the edge of an impenetrable body that is large compared to wavelength of radio wa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ttering – occurs when incoming signal hits an object whose size in the order of the wavelength of the signal or l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3045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he Effects of Multipath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e copies of a signal may arrive at different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phases add destructively, the signal level relative to noise declines, making detection more diffic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symbol interference (IS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or more delayed copies of a pulse may arrive at the same time as the primary pulse for a subsequent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ypes of Fa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 f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low f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at f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ive f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nel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ve White Gaussian Noise (AWG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yleigh fading (due to multipath, no LO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cian fading (LOS + Rayleigh fad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dio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scale path loss + small-scale f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scale path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door propa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 distan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kes into account terrain profile (e.g., mountains, hills, large buildings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oor propagation (inside building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ances covered are much smaller and the environment is more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interest due to PCS and WL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assified as line-of-sight (LOS) or obstructed (OB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-scale fading: multi-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th Loss Mod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-distance path loss model: average path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-normal shadowing (signal level at a specific distance have Gaussian distribu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609480" y="2362320"/>
                <a:ext cx="349416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PL</m:t>
                        </m:r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PL</m:t>
                        </m:r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87" name=""/>
          <p:cNvGrpSpPr/>
          <p:nvPr/>
        </p:nvGrpSpPr>
        <p:grpSpPr>
          <a:xfrm>
            <a:off x="4572000" y="2286000"/>
            <a:ext cx="4074840" cy="2125800"/>
            <a:chOff x="4572000" y="2286000"/>
            <a:chExt cx="4074840" cy="2125800"/>
          </a:xfrm>
        </p:grpSpPr>
        <p:grpSp>
          <p:nvGrpSpPr>
            <p:cNvPr id="188" name=""/>
            <p:cNvGrpSpPr/>
            <p:nvPr/>
          </p:nvGrpSpPr>
          <p:grpSpPr>
            <a:xfrm>
              <a:off x="4577040" y="2288160"/>
              <a:ext cx="4063320" cy="2121120"/>
              <a:chOff x="4577040" y="2288160"/>
              <a:chExt cx="4063320" cy="212112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4577040" y="2288160"/>
                <a:ext cx="2126520" cy="302760"/>
                <a:chOff x="4577040" y="2288160"/>
                <a:chExt cx="2126520" cy="3027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577040" y="2288160"/>
                  <a:ext cx="2126520" cy="30276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1" name=""/>
                <p:cNvGrpSpPr/>
                <p:nvPr/>
              </p:nvGrpSpPr>
              <p:grpSpPr>
                <a:xfrm>
                  <a:off x="4577040" y="2288160"/>
                  <a:ext cx="2126160" cy="302760"/>
                  <a:chOff x="4577040" y="2288160"/>
                  <a:chExt cx="2126160" cy="30276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>
                    <a:off x="4655520" y="2288160"/>
                    <a:ext cx="1968840" cy="30276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Environmen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4577040" y="2288160"/>
                    <a:ext cx="2126160" cy="30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4" name=""/>
              <p:cNvGrpSpPr/>
              <p:nvPr/>
            </p:nvGrpSpPr>
            <p:grpSpPr>
              <a:xfrm>
                <a:off x="6703920" y="2288160"/>
                <a:ext cx="1936440" cy="302760"/>
                <a:chOff x="6703920" y="2288160"/>
                <a:chExt cx="1936440" cy="302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6782400" y="2288160"/>
                  <a:ext cx="17794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ath Loss Exponent 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703920" y="2288160"/>
                  <a:ext cx="19364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4577040" y="2590920"/>
                <a:ext cx="2126520" cy="302760"/>
                <a:chOff x="4577040" y="2590920"/>
                <a:chExt cx="2126520" cy="3027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4577040" y="2590920"/>
                  <a:ext cx="2126520" cy="30276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9" name=""/>
                <p:cNvGrpSpPr/>
                <p:nvPr/>
              </p:nvGrpSpPr>
              <p:grpSpPr>
                <a:xfrm>
                  <a:off x="4577040" y="2590920"/>
                  <a:ext cx="2126160" cy="302760"/>
                  <a:chOff x="4577040" y="2590920"/>
                  <a:chExt cx="2126160" cy="30276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4655520" y="2590920"/>
                    <a:ext cx="1968840" cy="30276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Free spac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4577040" y="2590920"/>
                    <a:ext cx="2126160" cy="30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2" name=""/>
              <p:cNvGrpSpPr/>
              <p:nvPr/>
            </p:nvGrpSpPr>
            <p:grpSpPr>
              <a:xfrm>
                <a:off x="6703920" y="2590920"/>
                <a:ext cx="1936440" cy="302760"/>
                <a:chOff x="6703920" y="2590920"/>
                <a:chExt cx="1936440" cy="3027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82400" y="2590920"/>
                  <a:ext cx="17794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703920" y="2590920"/>
                  <a:ext cx="19364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4577040" y="2894040"/>
                <a:ext cx="2126520" cy="302760"/>
                <a:chOff x="4577040" y="2894040"/>
                <a:chExt cx="2126520" cy="3027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577040" y="2894040"/>
                  <a:ext cx="2126520" cy="30276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7" name=""/>
                <p:cNvGrpSpPr/>
                <p:nvPr/>
              </p:nvGrpSpPr>
              <p:grpSpPr>
                <a:xfrm>
                  <a:off x="4577040" y="2894040"/>
                  <a:ext cx="2126160" cy="302760"/>
                  <a:chOff x="4577040" y="2894040"/>
                  <a:chExt cx="2126160" cy="30276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>
                    <a:off x="4655520" y="2894040"/>
                    <a:ext cx="1968840" cy="30276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Urban area PC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4577040" y="2894040"/>
                    <a:ext cx="2126160" cy="30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0" name=""/>
              <p:cNvGrpSpPr/>
              <p:nvPr/>
            </p:nvGrpSpPr>
            <p:grpSpPr>
              <a:xfrm>
                <a:off x="6703920" y="2894040"/>
                <a:ext cx="1936440" cy="302760"/>
                <a:chOff x="6703920" y="2894040"/>
                <a:chExt cx="1936440" cy="3027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782400" y="2894040"/>
                  <a:ext cx="17794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.7 to 3.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703920" y="2894040"/>
                  <a:ext cx="19364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577040" y="3197160"/>
                <a:ext cx="2126520" cy="302760"/>
                <a:chOff x="4577040" y="3197160"/>
                <a:chExt cx="2126520" cy="30276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577040" y="3197160"/>
                  <a:ext cx="2126520" cy="30276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5" name=""/>
                <p:cNvGrpSpPr/>
                <p:nvPr/>
              </p:nvGrpSpPr>
              <p:grpSpPr>
                <a:xfrm>
                  <a:off x="4577040" y="3197160"/>
                  <a:ext cx="2126160" cy="302760"/>
                  <a:chOff x="4577040" y="3197160"/>
                  <a:chExt cx="2126160" cy="302760"/>
                </a:xfrm>
              </p:grpSpPr>
              <p:sp>
                <p:nvSpPr>
                  <p:cNvPr id="216" name=""/>
                  <p:cNvSpPr/>
                  <p:nvPr/>
                </p:nvSpPr>
                <p:spPr>
                  <a:xfrm>
                    <a:off x="4655520" y="3197160"/>
                    <a:ext cx="1968840" cy="30276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hadowed urban PC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4577040" y="3197160"/>
                    <a:ext cx="2126160" cy="30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8" name=""/>
              <p:cNvGrpSpPr/>
              <p:nvPr/>
            </p:nvGrpSpPr>
            <p:grpSpPr>
              <a:xfrm>
                <a:off x="6703920" y="3197160"/>
                <a:ext cx="1936440" cy="302760"/>
                <a:chOff x="6703920" y="3197160"/>
                <a:chExt cx="1936440" cy="30276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6782400" y="3197160"/>
                  <a:ext cx="17794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 to 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6703920" y="3197160"/>
                  <a:ext cx="19364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4577040" y="3500280"/>
                <a:ext cx="2126520" cy="303120"/>
                <a:chOff x="4577040" y="3500280"/>
                <a:chExt cx="2126520" cy="30312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4577040" y="3500280"/>
                  <a:ext cx="2126520" cy="30312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4577040" y="3500280"/>
                  <a:ext cx="2126160" cy="303120"/>
                  <a:chOff x="4577040" y="3500280"/>
                  <a:chExt cx="2126160" cy="303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4655520" y="3500280"/>
                    <a:ext cx="1968840" cy="30312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n building LO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4577040" y="3500280"/>
                    <a:ext cx="2126160" cy="303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26" name=""/>
              <p:cNvGrpSpPr/>
              <p:nvPr/>
            </p:nvGrpSpPr>
            <p:grpSpPr>
              <a:xfrm>
                <a:off x="6703920" y="3500280"/>
                <a:ext cx="1936440" cy="303120"/>
                <a:chOff x="6703920" y="3500280"/>
                <a:chExt cx="1936440" cy="30312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6782400" y="3500280"/>
                  <a:ext cx="1779480" cy="30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6 to 1.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703920" y="3500280"/>
                  <a:ext cx="1936440" cy="303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4577040" y="3803400"/>
                <a:ext cx="2126520" cy="302760"/>
                <a:chOff x="4577040" y="3803400"/>
                <a:chExt cx="2126520" cy="30276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4577040" y="3803400"/>
                  <a:ext cx="2126520" cy="30276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1" name=""/>
                <p:cNvGrpSpPr/>
                <p:nvPr/>
              </p:nvGrpSpPr>
              <p:grpSpPr>
                <a:xfrm>
                  <a:off x="4577040" y="3803400"/>
                  <a:ext cx="2126160" cy="302760"/>
                  <a:chOff x="4577040" y="3803400"/>
                  <a:chExt cx="2126160" cy="30276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4655520" y="3803400"/>
                    <a:ext cx="1968840" cy="30276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bstructed in building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4577040" y="3803400"/>
                    <a:ext cx="2126160" cy="30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4" name=""/>
              <p:cNvGrpSpPr/>
              <p:nvPr/>
            </p:nvGrpSpPr>
            <p:grpSpPr>
              <a:xfrm>
                <a:off x="6703920" y="3803400"/>
                <a:ext cx="1936440" cy="302760"/>
                <a:chOff x="6703920" y="3803400"/>
                <a:chExt cx="1936440" cy="3027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6782400" y="3803400"/>
                  <a:ext cx="17794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 to 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703920" y="3803400"/>
                  <a:ext cx="19364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4577040" y="4106520"/>
                <a:ext cx="2126520" cy="302760"/>
                <a:chOff x="4577040" y="4106520"/>
                <a:chExt cx="2126520" cy="3027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4577040" y="4106520"/>
                  <a:ext cx="2126520" cy="30276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9" name=""/>
                <p:cNvGrpSpPr/>
                <p:nvPr/>
              </p:nvGrpSpPr>
              <p:grpSpPr>
                <a:xfrm>
                  <a:off x="4577040" y="4106520"/>
                  <a:ext cx="2126160" cy="302760"/>
                  <a:chOff x="4577040" y="4106520"/>
                  <a:chExt cx="2126160" cy="302760"/>
                </a:xfrm>
              </p:grpSpPr>
              <p:sp>
                <p:nvSpPr>
                  <p:cNvPr id="240" name=""/>
                  <p:cNvSpPr/>
                  <p:nvPr/>
                </p:nvSpPr>
                <p:spPr>
                  <a:xfrm>
                    <a:off x="4655520" y="4106520"/>
                    <a:ext cx="1968840" cy="302760"/>
                  </a:xfrm>
                  <a:prstGeom prst="rect">
                    <a:avLst/>
                  </a:prstGeom>
                  <a:solidFill>
                    <a:srgbClr val="bfbfb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Obstructed in factori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4577040" y="4106520"/>
                    <a:ext cx="2126160" cy="3027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42" name=""/>
              <p:cNvGrpSpPr/>
              <p:nvPr/>
            </p:nvGrpSpPr>
            <p:grpSpPr>
              <a:xfrm>
                <a:off x="6703920" y="4106520"/>
                <a:ext cx="1936440" cy="302760"/>
                <a:chOff x="6703920" y="4106520"/>
                <a:chExt cx="1936440" cy="3027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6782400" y="4106520"/>
                  <a:ext cx="1779480" cy="30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 to 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703920" y="4106520"/>
                  <a:ext cx="1936440" cy="30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5" name=""/>
            <p:cNvSpPr/>
            <p:nvPr/>
          </p:nvSpPr>
          <p:spPr>
            <a:xfrm>
              <a:off x="4572000" y="2286000"/>
              <a:ext cx="4074840" cy="2125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380880" y="5334120"/>
                <a:ext cx="40878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PL</m:t>
                        </m:r>
                      </m:e>
                    </m:ba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)</m:t>
                    </m: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r>
                          <m:rPr>
                            <m:lit/>
                            <m:nor/>
                          </m:rPr>
                          <m:t xml:space="preserve">PL</m:t>
                        </m:r>
                      </m:e>
                    </m:ba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n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4876920" y="5257800"/>
                <a:ext cx="3024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σ</m:t>
                        </m:r>
                      </m:sub>
                    </m:sSub>
                    <m:r>
                      <m:t xml:space="preserve">&gt;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th Loss Models of Outdo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kumura-Hata empirical mode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id for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150MHz to 1500 MHz. For urban are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freq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BS height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mobile height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BS-MS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a small to medium sized cit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a large cit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suburban are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rural are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57200" y="2230560"/>
                <a:ext cx="843264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2209680" y="3200400"/>
                <a:ext cx="53308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7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6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2133720" y="3809880"/>
                <a:ext cx="629892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A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8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29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54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≤</m:t>
                          </m:r>
                          <m:r>
                            <m:rPr>
                              <m:lit/>
                              <m:nor/>
                            </m:rPr>
                            <m:t xml:space="preserve">300</m:t>
                          </m:r>
                          <m:r>
                            <m:rPr>
                              <m:lit/>
                              <m:nor/>
                            </m:rPr>
                            <m:t xml:space="preserve">MHz</m:t>
                          </m:r>
                        </m:e>
                      </m:mr>
                      <m:mr>
                        <m:e>
                          <m:r>
                            <m:t xml:space="preserve">A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2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  <m:sSub>
                            <m:e>
                              <m:r>
                                <m:t xml:space="preserve">h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97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or</m:t>
                          </m:r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r>
                            <m:t xml:space="preserve">≥</m:t>
                          </m:r>
                          <m:r>
                            <m:rPr>
                              <m:lit/>
                              <m:nor/>
                            </m:rPr>
                            <m:t xml:space="preserve">300</m:t>
                          </m:r>
                          <m:r>
                            <m:rPr>
                              <m:lit/>
                              <m:nor/>
                            </m:rPr>
                            <m:t xml:space="preserve">MHz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429000" y="4648320"/>
                <a:ext cx="31273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514680" y="5700600"/>
                <a:ext cx="50529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u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8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f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ath Loss Model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uro-COST Extension of Okumura-Hata to PCS (f&gt;1500MHz)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0dB (medium and suburban), 3dB (metropolit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lfish and Bertoni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es effect of diffraction on rooft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42920" y="2514600"/>
                <a:ext cx="87724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f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2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d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ntenna is 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al conductor or system of condu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ssion - radiates electromagnetic energy into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ption - collects electromagnetic energy from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wo-way communication, the same antenna can be used for transmission and rece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th Loss Models for Indo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8807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ition losses (same floor with soft or hard partition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s estimation of path loss for each material at working frequency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ition losses between flo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s estimates of path lo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icsson Multiple breakpoint model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 breakpoints, range of path-loss: [P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P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max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g-distance path los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(dB) = PL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+ 10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+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epend on surrounding environment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is a normal random variable with standard deviation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tenuation factor model (average path loss): SF: single floor, FAF: floor attnuation factor, MF: multiple flo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(dB) = PL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+ 10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SF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+ FAF (dB) = PL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+ 10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MF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g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ildings penetration: depends on building height, number of window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y tracing using Geographical Information System (GIS) datab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69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mall Scale Fading Mod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ath fa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reflections from various objects: multiple path =&gt; multiple phase shif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trength may vary by as much as 30-40dB in hostile environments when the receiver moves by only a fraction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 eff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change in signal strength over a small travel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dom frequency modulation due to varying Doppler shifts on different multi-path signa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me dispersion (echoes) caused by multipath propag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mall Scale Fading (Cont’d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1552320"/>
            <a:ext cx="84214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th propagation: multiple version of the signal with different shifts that may add or subtr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of the mobile: the relative speed between the mobile and BS results in random frequency modulation due to different incidence angles of pat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of surrounding ob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bandwidth of the signal versus channel bandwidth (coherence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-term fading x short-term fading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ding Statis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552320"/>
            <a:ext cx="82692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ppler shift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/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co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the angle between the radio wave propagation axis and the mobile trajec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vel crossing rate (LCR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erage number of times per second that the signal envelope crosses the level in a positive dir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CR and level crossing duration are important for estimating fading rate and duration =&gt; designing error control cod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Specified level)/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rm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x Doppler shif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=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erage fade duration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2151000" y="4910040"/>
                <a:ext cx="24973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</m:e>
                    </m:rad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sSup>
                      <m:e>
                        <m:r>
                          <m:t xml:space="preserve">ρ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4419720" y="5334120"/>
                <a:ext cx="155088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ρ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t Error Ra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52320"/>
            <a:ext cx="8497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t Error Rate (BER): rate of bit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ing the BER is very important: it determines the packet loss (Frame Error Rate: F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t Error Rate is a function of the received energy per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ing path loss statistics allows to estimate the 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nnon’s Theorem (AWGN)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hannel with a given SNR has maximum capacity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log (1 +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N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exist a coding scheme that allows to achieve the channel 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rror Compensation Mechanis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ward error cor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aptive equ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ersity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orward Error Corr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tter adds error-correcting code to data bl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 is a function of the data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er calculates error-correcting code from incoming data b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calculated code matches incoming code, no error occur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error-correcting codes don’t match, receiver attempts to determine bits in error and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daptive Equal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applied to transmissions that carry analog or digital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og voice 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data, digitized voice 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combat intersymbol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olves gathering dispersed symbol energy back into its original tim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mped analog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phisticated digital signal process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versity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90360" y="1552320"/>
            <a:ext cx="79642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ersity is based on the fact that individual channels experience independent fading ev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 diversity – techniques involving physical transmission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diversity – techniques where the signal is spread out over a larger frequency bandwidth or carried on multiple frequency carr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 diversity – techniques aimed at spreading the data out over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s of Radio-waves Propag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552680"/>
            <a:ext cx="77724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diowave propag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diowaves: electromagnetic wa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 energy: electrical field (E) and magnetic field (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 and H are sinusoidal functions of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ignal is attenuated and affected by the medi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tenn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 the link between the guided part and the free space: couple ener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rpose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mission: efficiently transform the electrical signal into radiated electromagnetic wave (radio/microwav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ption: efficiently accept the received radiated energy and convert it to an electrical sign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adiation Patter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on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phical representation of radiation properties of an anten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icted as two-dimensional cross s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ance from the antenna to each point on the radiation pattern is proportional to the power radiated from the antenna in that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m width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r half-power beam width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sure of directivity of anten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ption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ing antenna’s equivalent to radiation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ypes of Antenn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90360" y="1552680"/>
            <a:ext cx="796428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oretical reference antenna (isotropic radiator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point in space radiating with equal power in all dir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ints with equal power are located on a sphere with the antenna in the ce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tennas exhibit directive effec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s: omnidirectional (dipole) or directional (pencil be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st antenna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pole (or Hertzian dipole) of length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4 o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ional antennas may be more usefu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cover a highway, valley, satellite bea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bolic anten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tenna Gain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55232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enna g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output, in a particular direction, compared to that produced in any direction by a perfect omnidirectional antenna (isotropic antenn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ive ar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ed to physical size and shape of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tenna G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2680"/>
            <a:ext cx="86500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hip between antenna gain and effectiv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antenna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effective ar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carrier frequ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= speed of light (» 3*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/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carrier waveleng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fective area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otropic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(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lf-wave dipole: 1.6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(4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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 gain vs. istropic 1.6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bolic: 0.56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 the face ar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 gain vs. istropic 7A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, Parabolic antenna of diameter 2m @ 12GHz =&gt;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232160" y="1981080"/>
                <a:ext cx="331164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b>
                          <m:e>
                            <m:r>
                              <m:t xml:space="preserve">πA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6T21:48:38Z</dcterms:created>
  <dc:creator>Thomas Fronckowiak Jr.</dc:creator>
  <dc:description/>
  <dc:language>en-US</dc:language>
  <cp:lastModifiedBy>G. Noubir</cp:lastModifiedBy>
  <dcterms:modified xsi:type="dcterms:W3CDTF">2003-03-31T23:50:33Z</dcterms:modified>
  <cp:revision>99</cp:revision>
  <dc:subject/>
  <dc:title>Wireless Communications and Networks</dc:title>
</cp:coreProperties>
</file>