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3040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80B1-E537-4513-AA66-ED80EF5A03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mod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a digital sequence of information bits into an analog signal suitable for transmission over the communication medium (chann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during which the amplitude, frequency, or the phase of a carrier changes in accordance with the information to be transmit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ation associates each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its to a signal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  chosen amo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nd transmission versus carrier modulation transmiss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band: signal within [0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] (e.g., ca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ier modulation: signal within [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modulation schem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plitude modulation, Phase modulation, Frequency mod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leaver transform non awgn into aw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ma^2 = 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3040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419360"/>
            <a:ext cx="51055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preferred pairs of m-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772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8200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628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C39A-F22C-43BC-9658-C5288D6D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9F05-4952-41DC-9F85-27B304BF0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B084-43FB-497E-B86D-2E192A03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D284-D38B-4284-9809-2AEA9601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545-2A52-4B8C-ADBE-27FEA7D9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3879-83FC-4203-9154-AE89FCA4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B3BC-6291-4D19-9138-179B75F1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53D-957F-4233-9293-62BB61CC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C11E-38DD-4816-9C8D-A78EA86A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1D69-231E-4120-B66F-B8CBFCFB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FCFB-CA16-48F7-A207-7A12416C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8200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26280" y="3845880"/>
            <a:ext cx="261324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EE0D-7A3B-4DC7-BD2B-B256831EE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96800" y="384588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3845880"/>
            <a:ext cx="8116920" cy="20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5867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98560" y="6354720"/>
            <a:ext cx="68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3525 Wireless Networks: Signal Encoding – Spread Spectr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976880" y="640080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C235-97AF-4AD5-9651-41734F0A96C0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D422-2BC3-4B5D-AE7D-5A7F3A35F93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gnal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Noub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bir@ccs.neu.ed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-Shift Key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ceptible to sudden gai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efficient modul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voice-grade lines, used up to 1200 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transmit digital data over optical fi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inary Frequency-Shift Keying (B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binary digits represented by two different frequencies near the carrier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offset from carrier frequenc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equal but opposite amou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03440" y="3429000"/>
                <a:ext cx="170172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00600" y="3497400"/>
                <a:ext cx="18288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886200" y="3954600"/>
                <a:ext cx="18590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267600" y="352728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6262560" y="3954600"/>
                <a:ext cx="1332000" cy="49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inary Frequency-Shift Keying (B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susceptible to error than A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voice-grade lines, used up to 1200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for high-frequency (3 to 30 MHz) radio 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used at higher frequencies on LANs that use coaxial c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than two frequencies ar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bandwidth efficient but more susceptible to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2i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 1 – M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he carrier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the difference frequ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ber of different signal elements = 2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number of bits per signal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743200" y="3276720"/>
                <a:ext cx="3106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172200" y="3352680"/>
                <a:ext cx="1738440" cy="3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2286000"/>
            <a:ext cx="899172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atch data rate of input bit stream, each output signal element is held f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s the bit period (data rate =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signal element encod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ple Frequency-Shift Keying (MF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tal bandwidth require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frequency separation required 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, modulator requires a bandwidth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level PSK (BP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 two phases to represent binary dig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209680" y="2895480"/>
                <a:ext cx="170208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505320" y="2971800"/>
                <a:ext cx="1858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3505320" y="3429000"/>
                <a:ext cx="24177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π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943600" y="299412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943600" y="3429000"/>
                <a:ext cx="133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941560" y="4245120"/>
                <a:ext cx="99864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505320" y="4267080"/>
                <a:ext cx="18586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3505320" y="4800600"/>
                <a:ext cx="21063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5943600" y="428940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5943600" y="4800600"/>
                <a:ext cx="133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PSK (DP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shift with reference to previous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0 – signal burst of same phase as previous signal bu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1 – signal burst of opposite phase to previous signal bu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3237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-level PSK (QPS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 represents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05120" y="2428920"/>
                <a:ext cx="2438280" cy="35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>
                                <m:limLow>
                                  <m:e>
                                    <m:limUpp>
                                      <m:e/>
                                      <m:lim/>
                                    </m:limUpp>
                                  </m:e>
                                  <m:lim/>
                                </m:limLow>
                              </m:lim>
                            </m:limUpp>
                          </m:e>
                          <m:lim>
                            <m:limLow>
                              <m:e>
                                <m:limUpp>
                                  <m:e/>
                                  <m:lim/>
                                </m:limUpp>
                              </m:e>
                              <m:lim/>
                            </m:limLow>
                          </m:lim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962520" y="2276640"/>
                <a:ext cx="243828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7467480" y="258120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3962520" y="3191040"/>
                <a:ext cx="266688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962520" y="4181400"/>
                <a:ext cx="266688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962520" y="5095800"/>
                <a:ext cx="266688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467480" y="3481560"/>
                <a:ext cx="46512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467480" y="4395960"/>
                <a:ext cx="49536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7467480" y="5234040"/>
                <a:ext cx="4352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Choosing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data, digital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 less complex and expensive than digital-to-analog modulatio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, digital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its use of modern digital transmission and switching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hase-Shift Keying (P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47920" y="144792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leve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ultiple phase angles with each angle having more than one amplitude, multiple signals elements can be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modulation rate, bau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data rate, b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umber of different signal elements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number of bits per signal el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3429000" y="3048120"/>
                <a:ext cx="26668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of modulated signal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, P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(1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+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&lt; r &lt; 1; related to how signal is fi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of modulated signal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umber of bits encoded per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number of different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3657600" y="2133720"/>
                <a:ext cx="434340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3657600" y="3352680"/>
                <a:ext cx="274320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r</m:t>
                                </m:r>
                              </m:e>
                            </m:d>
                            <m:r>
                              <m:t xml:space="preserve">M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M</m:t>
                            </m:r>
                          </m:den>
                        </m:f>
                      </m:e>
                    </m:d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Quadrature 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AM is a combination of ASK and P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different signals sent simultaneously on the same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2286000" y="3429000"/>
                <a:ext cx="587376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Quadrature 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66680" y="1447920"/>
            <a:ext cx="6858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tive White Gaussian No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previously seen, noise has several 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mal noise source is the motion of electrons in amplifiers and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statistics were determined using quantum mechani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flat for all frequencies up to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generally call it: Additive White Gaussian Noise (AWG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probability density function (pdf) (zero mean noise voltage):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809880" y="5619600"/>
                <a:ext cx="271476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n</m:t>
                                    </m:r>
                                  </m:num>
                                  <m:den>
                                    <m:r>
                                      <m:t xml:space="preserve">σ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t Error Rate [Sklar1988]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for coherently detected BPS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 for coherently detected BFSK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198520" y="2014560"/>
                <a:ext cx="384192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738440" y="4352760"/>
                <a:ext cx="3736800" cy="16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t xml:space="preserve">E</m:t>
                                        </m:r>
                                      </m:e>
                                      <m:sub>
                                        <m:r>
                                          <m:t xml:space="preserve">b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sub>
                          <m:sup>
                            <m:r>
                              <m:t xml:space="preserve">∞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sSup>
                                  <m:e>
                                    <m:r>
                                      <m:t xml:space="preserve">u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Analog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ion of digital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nly analog transmission facilities are available, digital to analog conversion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tion of analog 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higher frequency may be needed for effectiv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tion permits 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 to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 modulation (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e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modulation (F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modulation (P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2035080" y="2357280"/>
                <a:ext cx="512604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f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plitude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arr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(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input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modulation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lnSpc>
                <a:spcPct val="10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io of amplitude of input signal to carr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k.a double sideband transmitted carrier (DSBT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Choosing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data,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ransmission media will only propagate analog signal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optical fiber and 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,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 data in electrical form can be transmitted easily and chea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e with voice transmission over voice-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ectrum of AM sig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586764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d pow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otal transmitted power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transmitted power in carr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048120" y="2133720"/>
                <a:ext cx="29718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ngle Sideband (SSB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t of AM is single sideband (SSB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s only one side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iminates other sideband and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half the bandwidth i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power i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ressed carrier can’t be used for synchronization purpo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92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e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hase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 is proportional to modulatin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phase modulation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2971800" y="2209680"/>
                <a:ext cx="41148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φ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809880" y="4495680"/>
                <a:ext cx="221292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 mod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rivative of the phase is proportional to modulatin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frequency modulation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3505320"/>
                <a:ext cx="23511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m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d to AM, FM and PM result in a signal whose bandwidth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also centered at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has a magnitude that is much diffe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gle modulation includes cos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 which produces a wide range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FM and PM require greater bandwidth than 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gl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son’s r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ormula for FM beco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733920" y="2590920"/>
                <a:ext cx="23763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33920" y="5486400"/>
                <a:ext cx="24415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ΔF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819520" y="3048120"/>
                <a:ext cx="4497120" cy="16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n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t xml:space="preserve">ΔF</m:t>
                                  </m:r>
                                </m:num>
                                <m:den>
                                  <m:r>
                                    <m:t xml:space="preserve">B</m:t>
                                  </m:r>
                                </m:den>
                              </m:f>
                              <m:r>
                                <m:t xml:space="preserve">=</m:t>
                              </m:r>
                              <m:f>
                                <m:num>
                                  <m:sSub>
                                    <m:e>
                                      <m:r>
                                        <m:t xml:space="preserve">n</m:t>
                                      </m:r>
                                    </m:e>
                                    <m:sub>
                                      <m:r>
                                        <m:t xml:space="preserve">f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A</m:t>
                                      </m:r>
                                    </m:e>
                                    <m:sub>
                                      <m:r>
                                        <m:t xml:space="preserve">m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t xml:space="preserve">2</m:t>
                                  </m:r>
                                  <m:r>
                                    <m:t xml:space="preserve">πB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m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for PM</m:t>
                          </m:r>
                        </m:e>
                      </m:mr>
                      <m:mr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for FM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data to digital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lse code modulation (PC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ta modulation (D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nalog Data to Digital Sig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e analog data have been converted to digital signals, the digital dat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transmitted using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encoded as a digital signal using a code other than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converted to an analog signal, using previously discussed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ulse Co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sampling theor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nalog sample is assigned a binary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og samples are referred to as pulse amplitude modulation (PAM) s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gital signal consists of block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its, where each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it number is the amplitude of a PCM pu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ignal Encoding Crite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etermines how successful a receiver will be in interpreting an incoming signal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al-to-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data rate increases bit erro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SNR decreases bit erro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crease in bandwidth allows an increase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ulse Co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5715000" cy="48499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0" y="6435720"/>
            <a:ext cx="44956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ulse Code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quantizing the PAM pulse, original signal is only approxi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ds to quantizing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-to-noise ratio for quantizing no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us, each additional bit increases SNR by 6 dB, or a factor of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828800" y="3809880"/>
                <a:ext cx="662940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N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6</m:t>
                    </m:r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lta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input is approximated by staircase fun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es up or down by one quantization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t each sampling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bit stream approximates derivative of analog signal (rather than amplitu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is generated if function goes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otherw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lta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62940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lta Mod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important parame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 of step assigned to each binary digit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mpling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 improved by increasing sampling 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this increases the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 of DM over PCM is the simplicity of its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asons for Growth of Digital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wth in popularity of digital techniques for sending analog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rs are used instead of ampl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dditiv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DM is used instead of 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intermodulation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on to digital signaling allows use of more efficient digital switching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 is fed into a channel encod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analog signal with narrow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is further modulated using sequence of digit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code or spread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d by pseudonoise, or pseudo-random number gen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fect of modulation is to increase bandwidth of signal to be transmit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receiving end, digit sequence is used to demodulate the spread spectrum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is fed into a channel decoder to recov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0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actors Used to Compar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ncoding Sche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lack of high-frequency componen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less bandwidth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dc (direct current) compon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ac coupling via transformer possible (electrical isol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fer function of a channel is worse near band edg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&gt; concentrate transmitted power in the midd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e of determining beginning and end of each bit po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n be gained from apparent waste of spectru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munity from various kinds of noise and multipath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for hiding and encrypting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users can independently use the same higher bandwidth with very little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ing Spread Spectrum (FH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is broadcast over seemingly random series of radio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umber of channels allocated for the FH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th of each channel corresponds to bandwidth of input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hops from frequency to frequency at fixed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ter operates in one channel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are transmitted using some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each successive interval, a new carrier frequency is sel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ing 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nnel sequence dictated by spreading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, hopping between frequencies in synchronization with transmitter, picks up mes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vesdroppers hear only unintelligible bl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mpts to jam signal on one frequency succeed only at knocking out a few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Hoping 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8305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HSS Using MF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FSK signal is translated to a new frequency ever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s by modulating the MFSK signal with the FHSS carrier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data rat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of a bi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/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ation of signal element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-frequency-hop spread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fast-frequency-hop spread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HSS Performance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number of frequencies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in a system that is quite resistant to j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mmer must jam all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fixed power, this reduces the jamming power in any one frequency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rect Sequence Spread Spectrum (DS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it in original signal is represented by multiple bits in the transmitted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ing code spreads signal across a wider frequency ba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is in direct proportion to number of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technique combines digital information stream with the spreading code bit stream using exclusive-OR (Figure 7.6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rect Sequence Spread Spectrum (DS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830592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SSS Using BP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ply BPSK sig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takes values +1, -1] to 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cos(2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amplitud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carri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) = discrete function [+1, -1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ceiver, incoming signal multipli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1, incoming signal is reco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SSS Using BPS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5410440" cy="49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actors Used to Compar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ncoding Sche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in the presence of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igher the signal rate to achieve a given data rate, the greater the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de-Division Multiple Access (CDMA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Principles of CD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rate of data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each bit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i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ps are a user-specific fixed patter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p data rate of new channel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6 and code is a sequence of 1s and -1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‘1’ bit, A sends code as chip patter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c1, c2, c3, c4, c5, c6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‘0’ bit, A sends complement of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-c1, -c2, -c3, -c4, -c5, -c6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knows sender’s code and performs electronic decod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1, d2, d3, d4, d5, d6&gt; = received chip patter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1, c2, c3, c4, c5, c6&gt; = sender’s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447920" y="4495680"/>
                <a:ext cx="7238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d</m:t>
                        </m:r>
                      </m:e>
                    </m:d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1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6</m:t>
                    </m:r>
                    <m:r>
                      <m:t xml:space="preserve">×</m:t>
                    </m:r>
                    <m:r>
                      <m:t xml:space="preserve">c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A code = &lt;1, –1, –1, 1, –1, 1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nd a 1 bit = &lt;1, –1, –1, 1, –1, 1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nd a 0 bit = &lt;–1, 1, 1, –1, 1, –1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r B code = &lt;1, 1, –1, – 1, 1, 1&gt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nd a 1 bit = &lt;1, 1, –1, –1, 1, 1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 receiving with A’s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’s code) x (received chip patter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 ‘1’ bit: 6 -&gt;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A ‘0’ bit: -6 -&gt;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B ‘1’ bit: 0 -&gt; unwanted signal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for Direct Sequence Spread Spectr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553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ategories of Spreading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ing Sequence Categori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gonal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FH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 most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SSS systems not employing CD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 most com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SSS CDMA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N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thogonal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N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 generator produces periodic sequence that appears to be 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N Sequenc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d by an algorithm using initial s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isn’t statistically random but will pass many test of random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s referred to as pseudorandom numbers or pseudonoise 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less algorithm and seed are known, the sequence is impractical to predi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t PN Proper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proper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lation propert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redic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inear Feedback Shift Register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80880" y="2103480"/>
            <a:ext cx="876312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of M-Seque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] = [0, 0, 1, 1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State = 1 0 0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-Sequence: 00010011010111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erties of M-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2640" y="144756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1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s an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ze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2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window of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lid along output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=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) shifts, ea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tuple appears once, except for the all zeros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y 3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contains one run of one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run of zero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run of ones and one run of zero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uns of ones and two runs of zeros, leng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uns of ones and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of zeros, length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data to analog sig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plitude-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plitude difference of carri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-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quency difference near carri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ase-shift keying (P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se of carrier signal shif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operties of M-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y 4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eriodic autocorrelation of a ±1         m-sequence 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2286000" y="3276720"/>
                <a:ext cx="5486400" cy="16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τ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</m:e>
                          </m:mr>
                        </m:m>
                      </m:e>
                    </m:d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          </m:t>
                          </m:r>
                          <m:r>
                            <m:t xml:space="preserve">τ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N, 2N, 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mr>
                      <m:mr>
                        <m:e>
                          <m:m>
                            <m:mr>
                              <m:e/>
                            </m:mr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otherwise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l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cept of determining how much similarity one set of data has with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 between –1 and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The second sequence matches the first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There is no relation at all between the two sequen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The two sequences are mirror im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oss correl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mparison between two sequences from different sources rather than a shifted copy of a sequence with its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vantages of Cross Corre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oss correlation between an m-sequence and noise is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perty is useful to the receiver in filtering out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ross correlation between two different m-sequences is 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perty is useful for CDMA applic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s a receiver to discriminate among spread spectrum signals generated by different m-seque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old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ld sequences constructed by the XOR of two m-sequences with the same clo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s have well-defined cross correlation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y simple circuitry needed to generate large number of unique c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following example (Figure 7.16a) two shift registers generate the two m-sequences and these are then bitwise X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old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096240" cy="35701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752480" y="5486400"/>
            <a:ext cx="38862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old Sequen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552320"/>
            <a:ext cx="8726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a preferred pair of m-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-sequence of period N=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’ = a[q] decimation of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cd(q, n) =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/4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 is odd and q =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1) or q =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1) for some 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cd(n, k) = 1 for n odd; 2 for n=2 mod 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d codes ={a, a’,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a’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Da’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’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correlation bound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R| &lt;= [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n+1)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]/N for n od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|R|&lt;= [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(n+2)/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+1]/N for n ev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generated by 0 1 0 0 1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11100011011101010000100101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’ generated by 0 1 1 1 1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1110010011000010110101000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-shift X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0000001111011011111011101000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rthogonal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thogonal cod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airwise cross correlations are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- and variable-length codes used in CDMA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DMA application, each mobile user uses one sequence in the set as a spread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zero cross correlation among all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sh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Length Orthogonal c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alsh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1828440"/>
            <a:ext cx="7315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of Walsh codes of leng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the n rows of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´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lsh matri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dimension of the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row is orthogonal to every other row and to the logical not of every other r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ight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correlation between different shifts of Walsh sequences is not ze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987720" y="2819520"/>
                <a:ext cx="307332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acc>
                                    <m:accPr>
                                      <m:chr m:val="¯"/>
                                    </m:accPr>
                                    <m:e>
                                      <m:r>
                                        <m:t xml:space="preserve">W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ical Multiple Spreading Approa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ad data rate by an orthogonal code (channelization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utual orthogonality among all users in the sam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spread result by a PN sequence (scrambling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utual randomness (low cross correlation) between users in differen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ic Encoding Techniq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01992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rker Code – 11 chi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in IEEE802.11 at 1 and 2 M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equence: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-1 -1 -1  1  1  1 -1 1 1 -1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hifted by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Arial"/>
              </a:rPr>
              <a:t>1 –1  1 -1 -1 -1  1 1 1 -1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uto correlation: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Cross with shifted version: -1/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litude-Shift Key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binary digit represented by presence of carrier, at constant amplitu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binary digit represented by absence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the carrier signal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(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793960" y="3505320"/>
                <a:ext cx="1701720" cy="114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limLow>
                          <m:e>
                            <m:limUpp>
                              <m:e/>
                              <m:lim/>
                            </m:limUpp>
                          </m:e>
                          <m:lim/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176720" y="3559320"/>
                <a:ext cx="18590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1440" y="4076640"/>
                <a:ext cx="30960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58120" y="3603600"/>
                <a:ext cx="1239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553080" y="4030560"/>
                <a:ext cx="1332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inary 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. Noubir</cp:lastModifiedBy>
  <dcterms:modified xsi:type="dcterms:W3CDTF">2003-04-14T21:54:22Z</dcterms:modified>
  <cp:revision>88</cp:revision>
  <dc:subject/>
  <dc:title>Wireless Communications and Networks</dc:title>
</cp:coreProperties>
</file>