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r" pos="758016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r" pos="758016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Networks: Cellula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85800"/>
            <a:ext cx="807696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6095880"/>
            <a:ext cx="807696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93440" y="62326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7366-5EF3-4D20-9161-785C0EED9A9E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lular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3528720"/>
            <a:ext cx="3124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440" y="5699160"/>
            <a:ext cx="62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apted from J. Schiller, “Mobile Communications”, Chapt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 services to transfer data between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 of services up to the terminal interface (OSI layers 1-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data rates for voice and data (original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rvice (circuit switc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ous: 2.4, 4.8 or 9.6 k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: 300 - 1200 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rvice (packet switch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nous: 2.4, 4.8 or 9.6 k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nchronous: 300 - 9600 bit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 Servic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 services that enable voice communication via mobile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se basic services have to obey cellular functions, security measuremen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telepho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goal of GSM was to enable mobile telephony offering the traditional bandwidth of 3.1 kH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 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number (911); mandatory for all service providers; free of charge; connection with the highest priority (preemption of other connections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number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ISDN phone numbers per us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 Services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Voice-Tele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3 f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 mailbox (implemented in the fixed network supporting the mobile termina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 mail (MHS, Message Handling System, implemented in the fixed netwo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Message Service (SMS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numeric data transmission to/from the mobile terminal using the signaling channel, thus allowing simultaneous use of basic services and 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in addition to the basic services, cannot be offered stand-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SDN services besides lower bandwidth due to the radio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iffer between different service providers, countries and protocol ver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: forwarding of call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ression of number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call-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erencing with up to 7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ing of the mobile terminal (incoming or outgoing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of the GS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is a PLMN (Public Land Mobile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roviders setup mobile networks following the GSM standard within each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(mobile s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 (base s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 (mobile switching cen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R (location regi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S (radio subsystem): covers all radio asp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SS (network and switching subsystem): call forwarding, handover, swi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S (operation subsystem): management of th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1676520" y="914400"/>
            <a:ext cx="4572000" cy="1981080"/>
          </a:xfrm>
          <a:prstGeom prst="rect">
            <a:avLst/>
          </a:prstGeom>
          <a:solidFill>
            <a:srgbClr val="3366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562720" y="38098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05120" y="44956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124080" y="38098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343400" y="44956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343400" y="3124080"/>
            <a:ext cx="1600200" cy="1371600"/>
          </a:xfrm>
          <a:prstGeom prst="hexagon">
            <a:avLst>
              <a:gd name="adj" fmla="val 29167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324480" y="990720"/>
            <a:ext cx="2210040" cy="129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xed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3" name=""/>
          <p:cNvCxnSpPr>
            <a:stCxn id="1192" idx="6"/>
          </p:cNvCxnSpPr>
          <p:nvPr/>
        </p:nvCxnSpPr>
        <p:spPr>
          <a:xfrm flipV="1">
            <a:off x="8534520" y="1599840"/>
            <a:ext cx="3816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92" idx="5"/>
          </p:cNvCxnSpPr>
          <p:nvPr/>
        </p:nvCxnSpPr>
        <p:spPr>
          <a:xfrm>
            <a:off x="8210520" y="2096640"/>
            <a:ext cx="62928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2" idx="7"/>
          </p:cNvCxnSpPr>
          <p:nvPr/>
        </p:nvCxnSpPr>
        <p:spPr>
          <a:xfrm flipV="1">
            <a:off x="8210160" y="1065960"/>
            <a:ext cx="55332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133720" y="3581280"/>
            <a:ext cx="838080" cy="457200"/>
          </a:xfrm>
          <a:prstGeom prst="rect">
            <a:avLst/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19920" y="3124080"/>
            <a:ext cx="838080" cy="457200"/>
          </a:xfrm>
          <a:prstGeom prst="rect">
            <a:avLst/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8" name=""/>
          <p:cNvCxnSpPr>
            <a:stCxn id="1196" idx="2"/>
            <a:endCxn id="1199" idx="0"/>
          </p:cNvCxnSpPr>
          <p:nvPr/>
        </p:nvCxnSpPr>
        <p:spPr>
          <a:xfrm>
            <a:off x="2552400" y="4038120"/>
            <a:ext cx="50040" cy="16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0" name=""/>
          <p:cNvCxnSpPr>
            <a:stCxn id="1196" idx="2"/>
            <a:endCxn id="1201" idx="0"/>
          </p:cNvCxnSpPr>
          <p:nvPr/>
        </p:nvCxnSpPr>
        <p:spPr>
          <a:xfrm>
            <a:off x="2552400" y="4038120"/>
            <a:ext cx="1269000" cy="986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2"/>
          </p:cNvCxnSpPr>
          <p:nvPr/>
        </p:nvCxnSpPr>
        <p:spPr>
          <a:xfrm flipH="1">
            <a:off x="1751760" y="4038480"/>
            <a:ext cx="8010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7" idx="1"/>
            <a:endCxn id="1204" idx="0"/>
          </p:cNvCxnSpPr>
          <p:nvPr/>
        </p:nvCxnSpPr>
        <p:spPr>
          <a:xfrm flipH="1">
            <a:off x="5122440" y="3352320"/>
            <a:ext cx="89784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5" name=""/>
          <p:cNvCxnSpPr>
            <a:stCxn id="1197" idx="2"/>
            <a:endCxn id="1206" idx="0"/>
          </p:cNvCxnSpPr>
          <p:nvPr/>
        </p:nvCxnSpPr>
        <p:spPr>
          <a:xfrm>
            <a:off x="6438600" y="3581280"/>
            <a:ext cx="6084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7" name=""/>
          <p:cNvCxnSpPr>
            <a:stCxn id="1208" idx="2"/>
            <a:endCxn id="1196" idx="0"/>
          </p:cNvCxnSpPr>
          <p:nvPr/>
        </p:nvCxnSpPr>
        <p:spPr>
          <a:xfrm flipH="1">
            <a:off x="2552400" y="2666880"/>
            <a:ext cx="5342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8" name=""/>
          <p:cNvSpPr/>
          <p:nvPr/>
        </p:nvSpPr>
        <p:spPr>
          <a:xfrm>
            <a:off x="2666880" y="2209680"/>
            <a:ext cx="8384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57800" y="2209680"/>
            <a:ext cx="8380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95680" y="1295280"/>
            <a:ext cx="8384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10" idx="2"/>
            <a:endCxn id="1208" idx="0"/>
          </p:cNvCxnSpPr>
          <p:nvPr/>
        </p:nvCxnSpPr>
        <p:spPr>
          <a:xfrm flipH="1">
            <a:off x="3085920" y="1752480"/>
            <a:ext cx="1829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10" idx="3"/>
            <a:endCxn id="1192" idx="2"/>
          </p:cNvCxnSpPr>
          <p:nvPr/>
        </p:nvCxnSpPr>
        <p:spPr>
          <a:xfrm>
            <a:off x="5333760" y="1523880"/>
            <a:ext cx="9910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10" idx="2"/>
            <a:endCxn id="1209" idx="0"/>
          </p:cNvCxnSpPr>
          <p:nvPr/>
        </p:nvCxnSpPr>
        <p:spPr>
          <a:xfrm>
            <a:off x="4915080" y="1752480"/>
            <a:ext cx="7624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1371600" y="762120"/>
            <a:ext cx="121932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C, EIR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5" name=""/>
          <p:cNvCxnSpPr>
            <a:stCxn id="1216" idx="3"/>
            <a:endCxn id="1208" idx="0"/>
          </p:cNvCxnSpPr>
          <p:nvPr/>
        </p:nvCxnSpPr>
        <p:spPr>
          <a:xfrm flipH="1">
            <a:off x="3085560" y="1676160"/>
            <a:ext cx="1148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16" idx="3"/>
            <a:endCxn id="1209" idx="0"/>
          </p:cNvCxnSpPr>
          <p:nvPr/>
        </p:nvCxnSpPr>
        <p:spPr>
          <a:xfrm>
            <a:off x="3200040" y="1676160"/>
            <a:ext cx="24771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8" name=""/>
          <p:cNvCxnSpPr>
            <a:stCxn id="1210" idx="1"/>
            <a:endCxn id="1216" idx="3"/>
          </p:cNvCxnSpPr>
          <p:nvPr/>
        </p:nvCxnSpPr>
        <p:spPr>
          <a:xfrm flipH="1">
            <a:off x="3200040" y="1523880"/>
            <a:ext cx="129600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9" name=""/>
          <p:cNvCxnSpPr>
            <a:stCxn id="1208" idx="1"/>
            <a:endCxn id="1220" idx="4"/>
          </p:cNvCxnSpPr>
          <p:nvPr/>
        </p:nvCxnSpPr>
        <p:spPr>
          <a:xfrm flipH="1" flipV="1">
            <a:off x="2361960" y="2361600"/>
            <a:ext cx="3052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0" name=""/>
          <p:cNvSpPr/>
          <p:nvPr/>
        </p:nvSpPr>
        <p:spPr>
          <a:xfrm>
            <a:off x="1752480" y="2057400"/>
            <a:ext cx="609840" cy="60948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1066680"/>
            <a:ext cx="609840" cy="60984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2044080" y="4405680"/>
            <a:ext cx="1271880" cy="1321200"/>
            <a:chOff x="2044080" y="4405680"/>
            <a:chExt cx="1271880" cy="1321200"/>
          </a:xfrm>
        </p:grpSpPr>
        <p:grpSp>
          <p:nvGrpSpPr>
            <p:cNvPr id="1222" name=""/>
            <p:cNvGrpSpPr/>
            <p:nvPr/>
          </p:nvGrpSpPr>
          <p:grpSpPr>
            <a:xfrm>
              <a:off x="2602080" y="5062680"/>
              <a:ext cx="245880" cy="664200"/>
              <a:chOff x="2602080" y="5062680"/>
              <a:chExt cx="245880" cy="66420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2603520" y="5290560"/>
                <a:ext cx="244440" cy="436320"/>
                <a:chOff x="2603520" y="5290560"/>
                <a:chExt cx="244440" cy="436320"/>
              </a:xfrm>
            </p:grpSpPr>
            <p:grpSp>
              <p:nvGrpSpPr>
                <p:cNvPr id="1224" name=""/>
                <p:cNvGrpSpPr/>
                <p:nvPr/>
              </p:nvGrpSpPr>
              <p:grpSpPr>
                <a:xfrm>
                  <a:off x="2603520" y="5301720"/>
                  <a:ext cx="157320" cy="421560"/>
                  <a:chOff x="2603520" y="5301720"/>
                  <a:chExt cx="157320" cy="42156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2667240" y="530280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flipV="1">
                    <a:off x="2648160" y="530604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646360" y="539496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V="1">
                    <a:off x="2603520" y="558072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622600" y="558072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V="1">
                    <a:off x="2621160" y="539604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667240" y="530172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2" name=""/>
                <p:cNvSpPr/>
                <p:nvPr/>
              </p:nvSpPr>
              <p:spPr>
                <a:xfrm flipV="1">
                  <a:off x="2757600" y="555264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735280" y="540000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2733840" y="529164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V="1">
                  <a:off x="2724120" y="529056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725920" y="530496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V="1">
                  <a:off x="2749680" y="538272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749680" y="558108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2602080" y="5084640"/>
                <a:ext cx="241200" cy="639000"/>
                <a:chOff x="2602080" y="5084640"/>
                <a:chExt cx="241200" cy="639000"/>
              </a:xfrm>
            </p:grpSpPr>
            <p:sp>
              <p:nvSpPr>
                <p:cNvPr id="1240" name=""/>
                <p:cNvSpPr/>
                <p:nvPr/>
              </p:nvSpPr>
              <p:spPr>
                <a:xfrm flipV="1">
                  <a:off x="2602080" y="508464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697120" y="510012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2759040" y="567000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710080" y="509688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602080" y="571932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5" name=""/>
              <p:cNvSpPr/>
              <p:nvPr/>
            </p:nvSpPr>
            <p:spPr>
              <a:xfrm>
                <a:off x="2671920" y="506268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2044080" y="4405680"/>
              <a:ext cx="1271880" cy="1270800"/>
              <a:chOff x="2044080" y="4405680"/>
              <a:chExt cx="1271880" cy="1270800"/>
            </a:xfrm>
          </p:grpSpPr>
          <p:sp>
            <p:nvSpPr>
              <p:cNvPr id="1247" name=""/>
              <p:cNvSpPr/>
              <p:nvPr/>
            </p:nvSpPr>
            <p:spPr>
              <a:xfrm rot="3712200">
                <a:off x="2210760" y="457020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3712200">
                <a:off x="2399040" y="477576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3712200">
                <a:off x="2538360" y="494172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0" name=""/>
          <p:cNvGrpSpPr/>
          <p:nvPr/>
        </p:nvGrpSpPr>
        <p:grpSpPr>
          <a:xfrm>
            <a:off x="3263400" y="3719880"/>
            <a:ext cx="1271880" cy="1321200"/>
            <a:chOff x="3263400" y="3719880"/>
            <a:chExt cx="1271880" cy="1321200"/>
          </a:xfrm>
        </p:grpSpPr>
        <p:grpSp>
          <p:nvGrpSpPr>
            <p:cNvPr id="1251" name=""/>
            <p:cNvGrpSpPr/>
            <p:nvPr/>
          </p:nvGrpSpPr>
          <p:grpSpPr>
            <a:xfrm>
              <a:off x="3821400" y="4376880"/>
              <a:ext cx="245880" cy="664200"/>
              <a:chOff x="3821400" y="4376880"/>
              <a:chExt cx="245880" cy="664200"/>
            </a:xfrm>
          </p:grpSpPr>
          <p:grpSp>
            <p:nvGrpSpPr>
              <p:cNvPr id="1252" name=""/>
              <p:cNvGrpSpPr/>
              <p:nvPr/>
            </p:nvGrpSpPr>
            <p:grpSpPr>
              <a:xfrm>
                <a:off x="3822840" y="4604760"/>
                <a:ext cx="244440" cy="436320"/>
                <a:chOff x="3822840" y="4604760"/>
                <a:chExt cx="244440" cy="436320"/>
              </a:xfrm>
            </p:grpSpPr>
            <p:grpSp>
              <p:nvGrpSpPr>
                <p:cNvPr id="1253" name=""/>
                <p:cNvGrpSpPr/>
                <p:nvPr/>
              </p:nvGrpSpPr>
              <p:grpSpPr>
                <a:xfrm>
                  <a:off x="3822840" y="4615920"/>
                  <a:ext cx="157320" cy="421560"/>
                  <a:chOff x="3822840" y="4615920"/>
                  <a:chExt cx="157320" cy="42156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3886560" y="461700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 flipV="1">
                    <a:off x="3867480" y="462024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3865680" y="470916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 flipV="1">
                    <a:off x="3822840" y="489492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3841920" y="489492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 flipV="1">
                    <a:off x="3840480" y="471024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3886560" y="461592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1" name=""/>
                <p:cNvSpPr/>
                <p:nvPr/>
              </p:nvSpPr>
              <p:spPr>
                <a:xfrm flipV="1">
                  <a:off x="3976920" y="486684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954600" y="471420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V="1">
                  <a:off x="3953160" y="460584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3943440" y="460476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3945240" y="461916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V="1">
                  <a:off x="3969000" y="469692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3969000" y="489528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3821400" y="4398840"/>
                <a:ext cx="241200" cy="639000"/>
                <a:chOff x="3821400" y="4398840"/>
                <a:chExt cx="241200" cy="639000"/>
              </a:xfrm>
            </p:grpSpPr>
            <p:sp>
              <p:nvSpPr>
                <p:cNvPr id="1269" name=""/>
                <p:cNvSpPr/>
                <p:nvPr/>
              </p:nvSpPr>
              <p:spPr>
                <a:xfrm flipV="1">
                  <a:off x="3821400" y="439884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916440" y="441432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V="1">
                  <a:off x="3978360" y="498420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3929400" y="441108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821400" y="503352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4" name=""/>
              <p:cNvSpPr/>
              <p:nvPr/>
            </p:nvSpPr>
            <p:spPr>
              <a:xfrm>
                <a:off x="3891240" y="437688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3263400" y="3719880"/>
              <a:ext cx="1271880" cy="1270800"/>
              <a:chOff x="3263400" y="3719880"/>
              <a:chExt cx="1271880" cy="1270800"/>
            </a:xfrm>
          </p:grpSpPr>
          <p:sp>
            <p:nvSpPr>
              <p:cNvPr id="1276" name=""/>
              <p:cNvSpPr/>
              <p:nvPr/>
            </p:nvSpPr>
            <p:spPr>
              <a:xfrm rot="3712200">
                <a:off x="3430080" y="388440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712200">
                <a:off x="3618360" y="408996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712200">
                <a:off x="3757680" y="425592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9" name=""/>
          <p:cNvGrpSpPr/>
          <p:nvPr/>
        </p:nvGrpSpPr>
        <p:grpSpPr>
          <a:xfrm>
            <a:off x="5701680" y="3719880"/>
            <a:ext cx="1271880" cy="1321200"/>
            <a:chOff x="5701680" y="3719880"/>
            <a:chExt cx="1271880" cy="1321200"/>
          </a:xfrm>
        </p:grpSpPr>
        <p:grpSp>
          <p:nvGrpSpPr>
            <p:cNvPr id="1280" name=""/>
            <p:cNvGrpSpPr/>
            <p:nvPr/>
          </p:nvGrpSpPr>
          <p:grpSpPr>
            <a:xfrm>
              <a:off x="6259680" y="4376880"/>
              <a:ext cx="245880" cy="664200"/>
              <a:chOff x="6259680" y="4376880"/>
              <a:chExt cx="245880" cy="664200"/>
            </a:xfrm>
          </p:grpSpPr>
          <p:grpSp>
            <p:nvGrpSpPr>
              <p:cNvPr id="1281" name=""/>
              <p:cNvGrpSpPr/>
              <p:nvPr/>
            </p:nvGrpSpPr>
            <p:grpSpPr>
              <a:xfrm>
                <a:off x="6261120" y="4604760"/>
                <a:ext cx="244440" cy="436320"/>
                <a:chOff x="6261120" y="4604760"/>
                <a:chExt cx="244440" cy="436320"/>
              </a:xfrm>
            </p:grpSpPr>
            <p:grpSp>
              <p:nvGrpSpPr>
                <p:cNvPr id="1282" name=""/>
                <p:cNvGrpSpPr/>
                <p:nvPr/>
              </p:nvGrpSpPr>
              <p:grpSpPr>
                <a:xfrm>
                  <a:off x="6261120" y="4615920"/>
                  <a:ext cx="157320" cy="421560"/>
                  <a:chOff x="6261120" y="4615920"/>
                  <a:chExt cx="157320" cy="42156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6324840" y="461700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flipV="1">
                    <a:off x="6305760" y="462024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6303960" y="470916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 flipV="1">
                    <a:off x="6261120" y="489492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6280200" y="489492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V="1">
                    <a:off x="6278760" y="471024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6324840" y="461592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0" name=""/>
                <p:cNvSpPr/>
                <p:nvPr/>
              </p:nvSpPr>
              <p:spPr>
                <a:xfrm flipV="1">
                  <a:off x="6415200" y="486684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392880" y="471420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V="1">
                  <a:off x="6391440" y="460584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V="1">
                  <a:off x="6381720" y="460476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6383520" y="461916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V="1">
                  <a:off x="6407280" y="469692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407280" y="489528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6259680" y="4398840"/>
                <a:ext cx="241200" cy="639000"/>
                <a:chOff x="6259680" y="4398840"/>
                <a:chExt cx="241200" cy="639000"/>
              </a:xfrm>
            </p:grpSpPr>
            <p:sp>
              <p:nvSpPr>
                <p:cNvPr id="1298" name=""/>
                <p:cNvSpPr/>
                <p:nvPr/>
              </p:nvSpPr>
              <p:spPr>
                <a:xfrm flipV="1">
                  <a:off x="6259680" y="439884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354720" y="441432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V="1">
                  <a:off x="6416640" y="498420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367680" y="441108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6259680" y="503352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3" name=""/>
              <p:cNvSpPr/>
              <p:nvPr/>
            </p:nvSpPr>
            <p:spPr>
              <a:xfrm>
                <a:off x="6329520" y="437688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701680" y="3719880"/>
              <a:ext cx="1271880" cy="1270800"/>
              <a:chOff x="5701680" y="3719880"/>
              <a:chExt cx="1271880" cy="1270800"/>
            </a:xfrm>
          </p:grpSpPr>
          <p:sp>
            <p:nvSpPr>
              <p:cNvPr id="1305" name=""/>
              <p:cNvSpPr/>
              <p:nvPr/>
            </p:nvSpPr>
            <p:spPr>
              <a:xfrm rot="3712200">
                <a:off x="5868360" y="388440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3712200">
                <a:off x="6056640" y="408996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3712200">
                <a:off x="6195960" y="425592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4406400" y="4482000"/>
            <a:ext cx="1271880" cy="1321200"/>
            <a:chOff x="4406400" y="4482000"/>
            <a:chExt cx="1271880" cy="1321200"/>
          </a:xfrm>
        </p:grpSpPr>
        <p:grpSp>
          <p:nvGrpSpPr>
            <p:cNvPr id="1309" name=""/>
            <p:cNvGrpSpPr/>
            <p:nvPr/>
          </p:nvGrpSpPr>
          <p:grpSpPr>
            <a:xfrm>
              <a:off x="4964400" y="5139000"/>
              <a:ext cx="245880" cy="664200"/>
              <a:chOff x="4964400" y="5139000"/>
              <a:chExt cx="245880" cy="66420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4965840" y="5366880"/>
                <a:ext cx="244440" cy="436320"/>
                <a:chOff x="4965840" y="5366880"/>
                <a:chExt cx="244440" cy="436320"/>
              </a:xfrm>
            </p:grpSpPr>
            <p:grpSp>
              <p:nvGrpSpPr>
                <p:cNvPr id="1311" name=""/>
                <p:cNvGrpSpPr/>
                <p:nvPr/>
              </p:nvGrpSpPr>
              <p:grpSpPr>
                <a:xfrm>
                  <a:off x="4965840" y="5378040"/>
                  <a:ext cx="157320" cy="421560"/>
                  <a:chOff x="4965840" y="5378040"/>
                  <a:chExt cx="157320" cy="42156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>
                    <a:off x="5029560" y="537912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V="1">
                    <a:off x="5010480" y="538236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5008680" y="547128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V="1">
                    <a:off x="4965840" y="565704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984920" y="565704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V="1">
                    <a:off x="4983480" y="547236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029560" y="537804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9" name=""/>
                <p:cNvSpPr/>
                <p:nvPr/>
              </p:nvSpPr>
              <p:spPr>
                <a:xfrm flipV="1">
                  <a:off x="5119920" y="562896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097600" y="547632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V="1">
                  <a:off x="5096160" y="536796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V="1">
                  <a:off x="5086440" y="536688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088240" y="538128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V="1">
                  <a:off x="5112000" y="545904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112000" y="565740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964400" y="5160960"/>
                <a:ext cx="241200" cy="639000"/>
                <a:chOff x="4964400" y="5160960"/>
                <a:chExt cx="241200" cy="639000"/>
              </a:xfrm>
            </p:grpSpPr>
            <p:sp>
              <p:nvSpPr>
                <p:cNvPr id="1327" name=""/>
                <p:cNvSpPr/>
                <p:nvPr/>
              </p:nvSpPr>
              <p:spPr>
                <a:xfrm flipV="1">
                  <a:off x="4964400" y="516096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059440" y="517644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V="1">
                  <a:off x="5121360" y="574632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072400" y="517320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964400" y="579564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2" name=""/>
              <p:cNvSpPr/>
              <p:nvPr/>
            </p:nvSpPr>
            <p:spPr>
              <a:xfrm>
                <a:off x="5034240" y="513900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4406400" y="4482000"/>
              <a:ext cx="1271880" cy="1270800"/>
              <a:chOff x="4406400" y="4482000"/>
              <a:chExt cx="1271880" cy="1270800"/>
            </a:xfrm>
          </p:grpSpPr>
          <p:sp>
            <p:nvSpPr>
              <p:cNvPr id="1334" name=""/>
              <p:cNvSpPr/>
              <p:nvPr/>
            </p:nvSpPr>
            <p:spPr>
              <a:xfrm rot="3712200">
                <a:off x="4573080" y="464652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3712200">
                <a:off x="4761360" y="485208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3712200">
                <a:off x="4900680" y="501804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7" name=""/>
          <p:cNvGrpSpPr/>
          <p:nvPr/>
        </p:nvGrpSpPr>
        <p:grpSpPr>
          <a:xfrm>
            <a:off x="4406400" y="3034080"/>
            <a:ext cx="1271880" cy="1321200"/>
            <a:chOff x="4406400" y="3034080"/>
            <a:chExt cx="1271880" cy="1321200"/>
          </a:xfrm>
        </p:grpSpPr>
        <p:grpSp>
          <p:nvGrpSpPr>
            <p:cNvPr id="1338" name=""/>
            <p:cNvGrpSpPr/>
            <p:nvPr/>
          </p:nvGrpSpPr>
          <p:grpSpPr>
            <a:xfrm>
              <a:off x="4964400" y="3691080"/>
              <a:ext cx="245880" cy="664200"/>
              <a:chOff x="4964400" y="3691080"/>
              <a:chExt cx="245880" cy="664200"/>
            </a:xfrm>
          </p:grpSpPr>
          <p:grpSp>
            <p:nvGrpSpPr>
              <p:cNvPr id="1339" name=""/>
              <p:cNvGrpSpPr/>
              <p:nvPr/>
            </p:nvGrpSpPr>
            <p:grpSpPr>
              <a:xfrm>
                <a:off x="4965840" y="3918960"/>
                <a:ext cx="244440" cy="436320"/>
                <a:chOff x="4965840" y="3918960"/>
                <a:chExt cx="244440" cy="436320"/>
              </a:xfrm>
            </p:grpSpPr>
            <p:grpSp>
              <p:nvGrpSpPr>
                <p:cNvPr id="1340" name=""/>
                <p:cNvGrpSpPr/>
                <p:nvPr/>
              </p:nvGrpSpPr>
              <p:grpSpPr>
                <a:xfrm>
                  <a:off x="4965840" y="3930120"/>
                  <a:ext cx="157320" cy="421560"/>
                  <a:chOff x="4965840" y="3930120"/>
                  <a:chExt cx="157320" cy="421560"/>
                </a:xfrm>
              </p:grpSpPr>
              <p:sp>
                <p:nvSpPr>
                  <p:cNvPr id="1341" name=""/>
                  <p:cNvSpPr/>
                  <p:nvPr/>
                </p:nvSpPr>
                <p:spPr>
                  <a:xfrm>
                    <a:off x="5029560" y="3931200"/>
                    <a:ext cx="5544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V="1">
                    <a:off x="5010480" y="3934440"/>
                    <a:ext cx="73080" cy="88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5008680" y="4023360"/>
                    <a:ext cx="98640" cy="1886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 flipV="1">
                    <a:off x="4965840" y="4209120"/>
                    <a:ext cx="14148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4984920" y="4209120"/>
                    <a:ext cx="138240" cy="1425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V="1">
                    <a:off x="4983480" y="4024440"/>
                    <a:ext cx="108000" cy="182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5029560" y="3930120"/>
                    <a:ext cx="66600" cy="997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48" name=""/>
                <p:cNvSpPr/>
                <p:nvPr/>
              </p:nvSpPr>
              <p:spPr>
                <a:xfrm flipV="1">
                  <a:off x="5119920" y="4181040"/>
                  <a:ext cx="57240" cy="174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097600" y="4028400"/>
                  <a:ext cx="82800" cy="15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V="1">
                  <a:off x="5096160" y="3920040"/>
                  <a:ext cx="19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V="1">
                  <a:off x="5086440" y="3918960"/>
                  <a:ext cx="34920" cy="15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088240" y="3933360"/>
                  <a:ext cx="50760" cy="77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V="1">
                  <a:off x="5112000" y="4011120"/>
                  <a:ext cx="22320" cy="1994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112000" y="4209480"/>
                  <a:ext cx="98280" cy="93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4964400" y="3713040"/>
                <a:ext cx="241200" cy="639000"/>
                <a:chOff x="4964400" y="3713040"/>
                <a:chExt cx="241200" cy="639000"/>
              </a:xfrm>
            </p:grpSpPr>
            <p:sp>
              <p:nvSpPr>
                <p:cNvPr id="1356" name=""/>
                <p:cNvSpPr/>
                <p:nvPr/>
              </p:nvSpPr>
              <p:spPr>
                <a:xfrm flipV="1">
                  <a:off x="4964400" y="3713040"/>
                  <a:ext cx="93600" cy="6328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5059440" y="3728520"/>
                  <a:ext cx="60480" cy="623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5121360" y="4298400"/>
                  <a:ext cx="84240" cy="5040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72400" y="3725280"/>
                  <a:ext cx="131760" cy="577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964400" y="4347720"/>
                  <a:ext cx="158760" cy="25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5034240" y="3691080"/>
                <a:ext cx="68400" cy="77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4406400" y="3034080"/>
              <a:ext cx="1271880" cy="1270800"/>
              <a:chOff x="4406400" y="3034080"/>
              <a:chExt cx="1271880" cy="1270800"/>
            </a:xfrm>
          </p:grpSpPr>
          <p:sp>
            <p:nvSpPr>
              <p:cNvPr id="1363" name=""/>
              <p:cNvSpPr/>
              <p:nvPr/>
            </p:nvSpPr>
            <p:spPr>
              <a:xfrm rot="3712200">
                <a:off x="4573080" y="3198600"/>
                <a:ext cx="937800" cy="94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145" y="20687"/>
                    </a:moveTo>
                    <a:arcTo wR="10800" hR="10800" stAng="3976663" swAng="176510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145" y="20687"/>
                    </a:moveTo>
                    <a:arcTo wR="10800" hR="10800" stAng="3976663" swAng="1765101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3712200">
                <a:off x="4761360" y="3404160"/>
                <a:ext cx="532800" cy="56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3712200">
                <a:off x="4900680" y="3570120"/>
                <a:ext cx="30456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13" y="19771"/>
                    </a:moveTo>
                    <a:arcTo wR="10800" hR="10800" stAng="3370033" swAng="182576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13" y="19771"/>
                    </a:moveTo>
                    <a:arcTo wR="10800" hR="10800" stAng="3370033" swAng="18257648"/>
                  </a:path>
                </a:pathLst>
              </a:cu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366" name=""/>
          <p:cNvCxnSpPr>
            <a:stCxn id="1209" idx="2"/>
            <a:endCxn id="1197" idx="0"/>
          </p:cNvCxnSpPr>
          <p:nvPr/>
        </p:nvCxnSpPr>
        <p:spPr>
          <a:xfrm>
            <a:off x="5676480" y="266688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67" name=""/>
          <p:cNvSpPr/>
          <p:nvPr/>
        </p:nvSpPr>
        <p:spPr>
          <a:xfrm>
            <a:off x="154080" y="153828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th 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29200" y="42894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43000" y="30481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143000" y="76212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1" name=""/>
          <p:cNvCxnSpPr>
            <a:stCxn id="1209" idx="1"/>
            <a:endCxn id="1372" idx="4"/>
          </p:cNvCxnSpPr>
          <p:nvPr/>
        </p:nvCxnSpPr>
        <p:spPr>
          <a:xfrm flipH="1">
            <a:off x="4952160" y="2438280"/>
            <a:ext cx="3056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2" name=""/>
          <p:cNvSpPr/>
          <p:nvPr/>
        </p:nvSpPr>
        <p:spPr>
          <a:xfrm>
            <a:off x="4343400" y="2209680"/>
            <a:ext cx="609480" cy="60984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elements an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021200" y="2017800"/>
            <a:ext cx="1600200" cy="129528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819520" y="1371600"/>
            <a:ext cx="1600200" cy="129528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666880" y="990720"/>
            <a:ext cx="304812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602360" y="457200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200400" y="1600200"/>
            <a:ext cx="304920" cy="3049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733920" y="1600200"/>
            <a:ext cx="304560" cy="3049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rot="16200000">
            <a:off x="3276360" y="2057400"/>
            <a:ext cx="45720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92" y="0"/>
                </a:lnTo>
                <a:lnTo>
                  <a:pt x="144" y="96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429000" y="236232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666880" y="3581280"/>
            <a:ext cx="381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572000" y="487692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800600" y="510552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W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733920" y="563868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 rot="5400000">
            <a:off x="3504240" y="2057400"/>
            <a:ext cx="45720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92" y="0"/>
                </a:lnTo>
                <a:lnTo>
                  <a:pt x="144" y="96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648320" y="297180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86200" y="358128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572000" y="419112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1" name=""/>
          <p:cNvCxnSpPr>
            <a:stCxn id="1381" idx="2"/>
            <a:endCxn id="1388" idx="0"/>
          </p:cNvCxnSpPr>
          <p:nvPr/>
        </p:nvCxnSpPr>
        <p:spPr>
          <a:xfrm>
            <a:off x="3619440" y="2590560"/>
            <a:ext cx="45792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2" name=""/>
          <p:cNvCxnSpPr>
            <a:stCxn id="1387" idx="2"/>
            <a:endCxn id="1388" idx="3"/>
          </p:cNvCxnSpPr>
          <p:nvPr/>
        </p:nvCxnSpPr>
        <p:spPr>
          <a:xfrm flipH="1">
            <a:off x="4266720" y="3200400"/>
            <a:ext cx="5724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3" name=""/>
          <p:cNvCxnSpPr>
            <a:stCxn id="1388" idx="2"/>
            <a:endCxn id="1389" idx="0"/>
          </p:cNvCxnSpPr>
          <p:nvPr/>
        </p:nvCxnSpPr>
        <p:spPr>
          <a:xfrm flipH="1">
            <a:off x="3314520" y="3809520"/>
            <a:ext cx="76248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82" idx="3"/>
            <a:endCxn id="1389" idx="0"/>
          </p:cNvCxnSpPr>
          <p:nvPr/>
        </p:nvCxnSpPr>
        <p:spPr>
          <a:xfrm>
            <a:off x="3047760" y="3695760"/>
            <a:ext cx="267120" cy="496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82" idx="0"/>
          </p:cNvCxnSpPr>
          <p:nvPr/>
        </p:nvCxnSpPr>
        <p:spPr>
          <a:xfrm flipH="1" flipV="1">
            <a:off x="2666520" y="3200040"/>
            <a:ext cx="191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6" name=""/>
          <p:cNvSpPr/>
          <p:nvPr/>
        </p:nvSpPr>
        <p:spPr>
          <a:xfrm flipH="1" rot="5400000">
            <a:off x="4685400" y="2705040"/>
            <a:ext cx="380880" cy="15228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92" y="0"/>
                </a:lnTo>
                <a:lnTo>
                  <a:pt x="144" y="96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7" name=""/>
          <p:cNvCxnSpPr>
            <a:stCxn id="1390" idx="0"/>
          </p:cNvCxnSpPr>
          <p:nvPr/>
        </p:nvCxnSpPr>
        <p:spPr>
          <a:xfrm flipV="1">
            <a:off x="4762080" y="3663720"/>
            <a:ext cx="623160" cy="527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398" name=""/>
          <p:cNvSpPr/>
          <p:nvPr/>
        </p:nvSpPr>
        <p:spPr>
          <a:xfrm flipH="1">
            <a:off x="2514240" y="34290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0840" y="3274920"/>
            <a:ext cx="3589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2004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99800" y="1979640"/>
            <a:ext cx="333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514600" y="5562720"/>
            <a:ext cx="407880" cy="33012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200400" y="4800600"/>
            <a:ext cx="407880" cy="33012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590920" y="4572000"/>
            <a:ext cx="407880" cy="32868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038480" y="4572000"/>
            <a:ext cx="408240" cy="328680"/>
          </a:xfrm>
          <a:prstGeom prst="flowChartMagneticDisk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514240" y="3962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295720" y="38084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8" name=""/>
          <p:cNvCxnSpPr>
            <a:stCxn id="1390" idx="1"/>
            <a:endCxn id="1389" idx="3"/>
          </p:cNvCxnSpPr>
          <p:nvPr/>
        </p:nvCxnSpPr>
        <p:spPr>
          <a:xfrm flipH="1">
            <a:off x="3504600" y="4304880"/>
            <a:ext cx="1067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9" name=""/>
          <p:cNvCxnSpPr>
            <a:stCxn id="1390" idx="2"/>
            <a:endCxn id="1383" idx="0"/>
          </p:cNvCxnSpPr>
          <p:nvPr/>
        </p:nvCxnSpPr>
        <p:spPr>
          <a:xfrm>
            <a:off x="4762080" y="4419720"/>
            <a:ext cx="10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0" name=""/>
          <p:cNvCxnSpPr>
            <a:stCxn id="1389" idx="1"/>
            <a:endCxn id="1404" idx="1"/>
          </p:cNvCxnSpPr>
          <p:nvPr/>
        </p:nvCxnSpPr>
        <p:spPr>
          <a:xfrm flipH="1">
            <a:off x="2795400" y="4304880"/>
            <a:ext cx="329040" cy="267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411" name=""/>
          <p:cNvSpPr/>
          <p:nvPr/>
        </p:nvSpPr>
        <p:spPr>
          <a:xfrm>
            <a:off x="4773960" y="1522440"/>
            <a:ext cx="4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488920" y="50292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D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184360" y="480060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, 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678680" y="2360520"/>
            <a:ext cx="43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279240" y="1370160"/>
            <a:ext cx="6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dio 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498560" y="1979640"/>
            <a:ext cx="68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dio 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00600" y="2286000"/>
            <a:ext cx="304920" cy="3049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8" name=""/>
          <p:cNvCxnSpPr>
            <a:stCxn id="1388" idx="1"/>
          </p:cNvCxnSpPr>
          <p:nvPr/>
        </p:nvCxnSpPr>
        <p:spPr>
          <a:xfrm flipH="1" flipV="1">
            <a:off x="3580560" y="3276360"/>
            <a:ext cx="305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9" name=""/>
          <p:cNvSpPr/>
          <p:nvPr/>
        </p:nvSpPr>
        <p:spPr>
          <a:xfrm>
            <a:off x="2057400" y="990720"/>
            <a:ext cx="152280" cy="297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057400" y="396252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1" name=""/>
          <p:cNvCxnSpPr>
            <a:stCxn id="1383" idx="3"/>
            <a:endCxn id="1413" idx="1"/>
          </p:cNvCxnSpPr>
          <p:nvPr/>
        </p:nvCxnSpPr>
        <p:spPr>
          <a:xfrm flipV="1">
            <a:off x="4952520" y="4922280"/>
            <a:ext cx="229320" cy="6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stCxn id="1384" idx="3"/>
            <a:endCxn id="1412" idx="1"/>
          </p:cNvCxnSpPr>
          <p:nvPr/>
        </p:nvCxnSpPr>
        <p:spPr>
          <a:xfrm flipV="1">
            <a:off x="5181120" y="5150880"/>
            <a:ext cx="305640" cy="6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23" name=""/>
          <p:cNvSpPr/>
          <p:nvPr/>
        </p:nvSpPr>
        <p:spPr>
          <a:xfrm>
            <a:off x="3200400" y="5638680"/>
            <a:ext cx="38088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4" name=""/>
          <p:cNvCxnSpPr>
            <a:stCxn id="1385" idx="0"/>
            <a:endCxn id="1388" idx="2"/>
          </p:cNvCxnSpPr>
          <p:nvPr/>
        </p:nvCxnSpPr>
        <p:spPr>
          <a:xfrm flipH="1" flipV="1" rot="5400000">
            <a:off x="3085560" y="4647600"/>
            <a:ext cx="1829520" cy="153000"/>
          </a:xfrm>
          <a:prstGeom prst="curvedConnector5">
            <a:avLst>
              <a:gd name="adj1" fmla="val 64219"/>
              <a:gd name="adj2" fmla="val 50000"/>
              <a:gd name="adj3" fmla="val 64219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425" name=""/>
          <p:cNvSpPr/>
          <p:nvPr/>
        </p:nvSpPr>
        <p:spPr>
          <a:xfrm>
            <a:off x="2057400" y="54100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601640" y="55627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7" name=""/>
          <p:cNvCxnSpPr>
            <a:stCxn id="1390" idx="0"/>
          </p:cNvCxnSpPr>
          <p:nvPr/>
        </p:nvCxnSpPr>
        <p:spPr>
          <a:xfrm flipV="1">
            <a:off x="4762440" y="3707640"/>
            <a:ext cx="1124640" cy="4834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8" name=""/>
          <p:cNvCxnSpPr>
            <a:stCxn id="1390" idx="1"/>
            <a:endCxn id="1405" idx="1"/>
          </p:cNvCxnSpPr>
          <p:nvPr/>
        </p:nvCxnSpPr>
        <p:spPr>
          <a:xfrm flipH="1">
            <a:off x="4242960" y="4304880"/>
            <a:ext cx="329040" cy="267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29" name=""/>
          <p:cNvCxnSpPr>
            <a:stCxn id="1389" idx="2"/>
            <a:endCxn id="1403" idx="1"/>
          </p:cNvCxnSpPr>
          <p:nvPr/>
        </p:nvCxnSpPr>
        <p:spPr>
          <a:xfrm>
            <a:off x="3314520" y="4419720"/>
            <a:ext cx="91080" cy="3816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0" name=""/>
          <p:cNvCxnSpPr>
            <a:stCxn id="1389" idx="2"/>
            <a:endCxn id="1402" idx="1"/>
          </p:cNvCxnSpPr>
          <p:nvPr/>
        </p:nvCxnSpPr>
        <p:spPr>
          <a:xfrm flipH="1">
            <a:off x="2719080" y="4419360"/>
            <a:ext cx="596160" cy="1143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1" name=""/>
          <p:cNvCxnSpPr>
            <a:stCxn id="1403" idx="3"/>
            <a:endCxn id="1423" idx="0"/>
          </p:cNvCxnSpPr>
          <p:nvPr/>
        </p:nvCxnSpPr>
        <p:spPr>
          <a:xfrm flipH="1">
            <a:off x="3390480" y="5130360"/>
            <a:ext cx="15120" cy="508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2" name=""/>
          <p:cNvCxnSpPr>
            <a:stCxn id="1390" idx="2"/>
            <a:endCxn id="1385" idx="0"/>
          </p:cNvCxnSpPr>
          <p:nvPr/>
        </p:nvCxnSpPr>
        <p:spPr>
          <a:xfrm flipH="1">
            <a:off x="3924000" y="4419720"/>
            <a:ext cx="838800" cy="1219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3" name=""/>
          <p:cNvCxnSpPr>
            <a:stCxn id="1389" idx="2"/>
            <a:endCxn id="1385" idx="0"/>
          </p:cNvCxnSpPr>
          <p:nvPr/>
        </p:nvCxnSpPr>
        <p:spPr>
          <a:xfrm flipH="1" rot="16200000">
            <a:off x="3009240" y="4724280"/>
            <a:ext cx="1219680" cy="610200"/>
          </a:xfrm>
          <a:prstGeom prst="curvedConnector5">
            <a:avLst>
              <a:gd name="adj1" fmla="val 26926"/>
              <a:gd name="adj2" fmla="val 50000"/>
              <a:gd name="adj3" fmla="val 2692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4" name=""/>
          <p:cNvCxnSpPr>
            <a:stCxn id="1385" idx="0"/>
            <a:endCxn id="1382" idx="3"/>
          </p:cNvCxnSpPr>
          <p:nvPr/>
        </p:nvCxnSpPr>
        <p:spPr>
          <a:xfrm flipV="1" rot="16200000">
            <a:off x="2514240" y="4228200"/>
            <a:ext cx="1943640" cy="876960"/>
          </a:xfrm>
          <a:prstGeom prst="curvedConnector2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435" name=""/>
          <p:cNvCxnSpPr>
            <a:stCxn id="1383" idx="2"/>
            <a:endCxn id="1385" idx="0"/>
          </p:cNvCxnSpPr>
          <p:nvPr/>
        </p:nvCxnSpPr>
        <p:spPr>
          <a:xfrm flipH="1">
            <a:off x="3924000" y="5105160"/>
            <a:ext cx="838800" cy="533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436" name=""/>
          <p:cNvSpPr/>
          <p:nvPr/>
        </p:nvSpPr>
        <p:spPr>
          <a:xfrm>
            <a:off x="5184000" y="457200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7" name=""/>
          <p:cNvCxnSpPr>
            <a:stCxn id="1436" idx="1"/>
            <a:endCxn id="1383" idx="3"/>
          </p:cNvCxnSpPr>
          <p:nvPr/>
        </p:nvCxnSpPr>
        <p:spPr>
          <a:xfrm flipH="1">
            <a:off x="4952160" y="4694400"/>
            <a:ext cx="229320" cy="2973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438" name=""/>
          <p:cNvSpPr/>
          <p:nvPr/>
        </p:nvSpPr>
        <p:spPr>
          <a:xfrm flipH="1">
            <a:off x="373392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06760" y="525780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3662280" y="892080"/>
            <a:ext cx="0" cy="5127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763720" y="2220840"/>
            <a:ext cx="641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654280" y="2590920"/>
            <a:ext cx="641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375000" y="5237280"/>
            <a:ext cx="3603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316240" y="5440320"/>
            <a:ext cx="574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914480" y="838080"/>
            <a:ext cx="12859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o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2255760" y="2324160"/>
            <a:ext cx="231840" cy="37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2255760" y="2324160"/>
            <a:ext cx="23184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2263680" y="1962000"/>
            <a:ext cx="295200" cy="58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014560" y="2374920"/>
            <a:ext cx="824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509920" y="2867040"/>
            <a:ext cx="32868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509920" y="3114720"/>
            <a:ext cx="32868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40040" y="1557360"/>
            <a:ext cx="4809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597040" y="1557360"/>
            <a:ext cx="4809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21040" y="2709720"/>
            <a:ext cx="482400" cy="2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44720" y="2955960"/>
            <a:ext cx="4809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21040" y="3121200"/>
            <a:ext cx="482400" cy="234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774800" y="4521240"/>
            <a:ext cx="1633680" cy="1220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255760" y="4381560"/>
            <a:ext cx="231840" cy="37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2255760" y="4381560"/>
            <a:ext cx="231840" cy="2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263680" y="4019400"/>
            <a:ext cx="295200" cy="58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509920" y="4925880"/>
            <a:ext cx="32868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2509920" y="5173560"/>
            <a:ext cx="3286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021040" y="4768920"/>
            <a:ext cx="4824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844720" y="5013360"/>
            <a:ext cx="4809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021040" y="5180040"/>
            <a:ext cx="48240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592360" y="2866680"/>
            <a:ext cx="163440" cy="245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3332160" y="2374560"/>
            <a:ext cx="563400" cy="73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332160" y="5089680"/>
            <a:ext cx="563400" cy="24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3495600" y="492552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3414600" y="2374920"/>
            <a:ext cx="480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 flipV="1">
            <a:off x="3166920" y="4019400"/>
            <a:ext cx="727200" cy="13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1768320" y="1387440"/>
            <a:ext cx="34578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959440" y="892080"/>
            <a:ext cx="0" cy="51278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886200" y="838080"/>
            <a:ext cx="19051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 and switching 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906720" y="2216160"/>
            <a:ext cx="4827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906720" y="5180040"/>
            <a:ext cx="482760" cy="23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49720" y="2457360"/>
            <a:ext cx="0" cy="27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819600" y="1387440"/>
            <a:ext cx="345744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019920" y="838080"/>
            <a:ext cx="16142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xed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ner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4149720" y="1635120"/>
            <a:ext cx="0" cy="57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149720" y="5418000"/>
            <a:ext cx="0" cy="6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235400" y="5424480"/>
            <a:ext cx="48420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W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395960" y="5254560"/>
            <a:ext cx="213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137200" y="591336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459480" y="5006880"/>
            <a:ext cx="80640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459480" y="5665680"/>
            <a:ext cx="89064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P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P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235400" y="3040200"/>
            <a:ext cx="566640" cy="16318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230720" y="2457360"/>
            <a:ext cx="82440" cy="82224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4230720" y="4349880"/>
            <a:ext cx="82440" cy="8236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4170600" y="3601440"/>
            <a:ext cx="6602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389560" y="2792520"/>
            <a:ext cx="482760" cy="23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05320" y="2874960"/>
            <a:ext cx="484200" cy="23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224320" y="2955960"/>
            <a:ext cx="48132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43680" y="3040200"/>
            <a:ext cx="480960" cy="23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89560" y="3532320"/>
            <a:ext cx="482760" cy="23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305320" y="3614760"/>
            <a:ext cx="48420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224320" y="3697200"/>
            <a:ext cx="48132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43680" y="3780000"/>
            <a:ext cx="480960" cy="23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305320" y="4438800"/>
            <a:ext cx="484200" cy="23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224320" y="4521240"/>
            <a:ext cx="48132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143680" y="4602240"/>
            <a:ext cx="480960" cy="23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059440" y="4684680"/>
            <a:ext cx="484200" cy="23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24280" y="5584680"/>
            <a:ext cx="412920" cy="32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4807080" y="3195360"/>
            <a:ext cx="330120" cy="3286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807080" y="38559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726080" y="4432320"/>
            <a:ext cx="326880" cy="4111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4559400" y="1963800"/>
            <a:ext cx="247680" cy="10699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807080" y="1963800"/>
            <a:ext cx="17287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459480" y="1716120"/>
            <a:ext cx="72540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architecture: radio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obile S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se Station Subsystem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ing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Base Transceiver Station)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 and 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Base Station Controller)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ing several transce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radio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standardized, open interface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kbit/s user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tandardized, open interface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kbit/s user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666880" y="952560"/>
            <a:ext cx="0" cy="5029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1836720" y="2182680"/>
            <a:ext cx="593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735200" y="2523960"/>
            <a:ext cx="593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403360" y="4365720"/>
            <a:ext cx="331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424160" y="5162400"/>
            <a:ext cx="633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050840" y="838080"/>
            <a:ext cx="1158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o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819520" y="838080"/>
            <a:ext cx="2133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 and switching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1365120" y="2277720"/>
            <a:ext cx="21600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H="1">
            <a:off x="1365120" y="2278080"/>
            <a:ext cx="21600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1373040" y="1941120"/>
            <a:ext cx="273240" cy="54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143000" y="232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600200" y="27813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1600200" y="300960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073160" y="156852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682640" y="156852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149480" y="2635200"/>
            <a:ext cx="444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11240" y="286380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057480" y="2822400"/>
            <a:ext cx="59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129120" y="2863800"/>
            <a:ext cx="4460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149480" y="3016080"/>
            <a:ext cx="444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920880" y="4311720"/>
            <a:ext cx="1511280" cy="11304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1365120" y="4182840"/>
            <a:ext cx="216000" cy="34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365120" y="4183200"/>
            <a:ext cx="216000" cy="22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1373040" y="3846600"/>
            <a:ext cx="273240" cy="54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600200" y="46864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1600200" y="49147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149480" y="4540320"/>
            <a:ext cx="444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911240" y="476892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149480" y="4921200"/>
            <a:ext cx="4442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1676520" y="27810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362320" y="300996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362320" y="483876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057480" y="4651200"/>
            <a:ext cx="59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9120" y="4692600"/>
            <a:ext cx="44604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352680" y="308628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2514600" y="46864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flipV="1">
            <a:off x="2437920" y="240012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2209680" y="38480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914400" y="1409760"/>
            <a:ext cx="32004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architecture: network and switching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4290840" y="1123920"/>
            <a:ext cx="47768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obile Services Switching Cen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W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rworking F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grated Services Digital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ublic Switched Telephon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cke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rcui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me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Visitor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I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quipment Identity R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95480" y="952560"/>
            <a:ext cx="0" cy="5029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853920"/>
            <a:ext cx="1327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996840" y="217800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996840" y="492120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219320" y="240048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914400" y="1409760"/>
            <a:ext cx="320040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938320" y="853920"/>
            <a:ext cx="1244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ixed partn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1219320" y="16383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219320" y="51436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01760" y="5149800"/>
            <a:ext cx="44460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W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447920" y="499104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133720" y="5600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359160" y="4762440"/>
            <a:ext cx="747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359160" y="5372280"/>
            <a:ext cx="82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P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P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301760" y="2940120"/>
            <a:ext cx="5205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295280" y="2400480"/>
            <a:ext cx="76320" cy="7617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1295280" y="4152600"/>
            <a:ext cx="76320" cy="7621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rot="16200000">
            <a:off x="1236960" y="3411000"/>
            <a:ext cx="72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368440" y="27115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292480" y="278748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216160" y="286380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139840" y="29401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368440" y="33973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292480" y="347328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216160" y="354960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139840" y="36259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92480" y="423540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216160" y="431172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139840" y="438768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063880" y="446400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752480" y="529596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1828800" y="308628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828800" y="36957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752480" y="4229280"/>
            <a:ext cx="304920" cy="38088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1600200" y="1942920"/>
            <a:ext cx="228600" cy="990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828800" y="1943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359160" y="1714680"/>
            <a:ext cx="67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D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4592160"/>
            <a:ext cx="91440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mall cells instead of a single transmitter=&gt; frequency reuse: better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hannel Allo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of siz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sqrt(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ll radiu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ance at which a frequency can be reused with acceptable inter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15480" y="765000"/>
            <a:ext cx="6029640" cy="3864960"/>
            <a:chOff x="2715480" y="765000"/>
            <a:chExt cx="6029640" cy="3864960"/>
          </a:xfrm>
        </p:grpSpPr>
        <p:grpSp>
          <p:nvGrpSpPr>
            <p:cNvPr id="48" name=""/>
            <p:cNvGrpSpPr/>
            <p:nvPr/>
          </p:nvGrpSpPr>
          <p:grpSpPr>
            <a:xfrm>
              <a:off x="4156920" y="3917880"/>
              <a:ext cx="1023120" cy="696240"/>
              <a:chOff x="4156920" y="3917880"/>
              <a:chExt cx="1023120" cy="696240"/>
            </a:xfrm>
          </p:grpSpPr>
          <p:sp>
            <p:nvSpPr>
              <p:cNvPr id="49" name=""/>
              <p:cNvSpPr/>
              <p:nvPr/>
            </p:nvSpPr>
            <p:spPr>
              <a:xfrm>
                <a:off x="4458960" y="39178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449960" y="46141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870080" y="3921840"/>
                <a:ext cx="309960" cy="688320"/>
                <a:chOff x="4870080" y="3921840"/>
                <a:chExt cx="309960" cy="6883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870080" y="39218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V="1">
                  <a:off x="4870440" y="42670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156920" y="3925440"/>
                <a:ext cx="309960" cy="688320"/>
                <a:chOff x="4156920" y="3925440"/>
                <a:chExt cx="309960" cy="68832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4157280" y="39254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flipV="1">
                  <a:off x="4156920" y="42706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" name=""/>
            <p:cNvGrpSpPr/>
            <p:nvPr/>
          </p:nvGrpSpPr>
          <p:grpSpPr>
            <a:xfrm>
              <a:off x="4867200" y="3564720"/>
              <a:ext cx="1023120" cy="695880"/>
              <a:chOff x="4867200" y="3564720"/>
              <a:chExt cx="1023120" cy="695880"/>
            </a:xfrm>
          </p:grpSpPr>
          <p:sp>
            <p:nvSpPr>
              <p:cNvPr id="58" name=""/>
              <p:cNvSpPr/>
              <p:nvPr/>
            </p:nvSpPr>
            <p:spPr>
              <a:xfrm>
                <a:off x="5169240" y="35647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160240" y="42606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5580720" y="3568680"/>
                <a:ext cx="309600" cy="687600"/>
                <a:chOff x="5580720" y="3568680"/>
                <a:chExt cx="309600" cy="687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580720" y="35686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5580720" y="3913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867200" y="3572280"/>
                <a:ext cx="309600" cy="687600"/>
                <a:chOff x="4867200" y="3572280"/>
                <a:chExt cx="309600" cy="687600"/>
              </a:xfrm>
            </p:grpSpPr>
            <p:sp>
              <p:nvSpPr>
                <p:cNvPr id="64" name=""/>
                <p:cNvSpPr/>
                <p:nvPr/>
              </p:nvSpPr>
              <p:spPr>
                <a:xfrm flipH="1">
                  <a:off x="4867560" y="35722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4867200" y="3916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" name=""/>
            <p:cNvGrpSpPr/>
            <p:nvPr/>
          </p:nvGrpSpPr>
          <p:grpSpPr>
            <a:xfrm>
              <a:off x="4152600" y="3223800"/>
              <a:ext cx="1023480" cy="696240"/>
              <a:chOff x="4152600" y="3223800"/>
              <a:chExt cx="1023480" cy="696240"/>
            </a:xfrm>
          </p:grpSpPr>
          <p:sp>
            <p:nvSpPr>
              <p:cNvPr id="67" name=""/>
              <p:cNvSpPr/>
              <p:nvPr/>
            </p:nvSpPr>
            <p:spPr>
              <a:xfrm>
                <a:off x="4454640" y="32238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445640" y="39200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4866120" y="3227760"/>
                <a:ext cx="309960" cy="688320"/>
                <a:chOff x="4866120" y="3227760"/>
                <a:chExt cx="309960" cy="6883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866120" y="32277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4866480" y="35730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152600" y="3231360"/>
                <a:ext cx="309960" cy="688320"/>
                <a:chOff x="4152600" y="3231360"/>
                <a:chExt cx="309960" cy="688320"/>
              </a:xfrm>
            </p:grpSpPr>
            <p:sp>
              <p:nvSpPr>
                <p:cNvPr id="73" name=""/>
                <p:cNvSpPr/>
                <p:nvPr/>
              </p:nvSpPr>
              <p:spPr>
                <a:xfrm flipH="1">
                  <a:off x="4152960" y="32313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 flipV="1">
                  <a:off x="4152600" y="35766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" name=""/>
            <p:cNvGrpSpPr/>
            <p:nvPr/>
          </p:nvGrpSpPr>
          <p:grpSpPr>
            <a:xfrm>
              <a:off x="4863240" y="2870280"/>
              <a:ext cx="1023120" cy="696240"/>
              <a:chOff x="4863240" y="2870280"/>
              <a:chExt cx="1023120" cy="696240"/>
            </a:xfrm>
          </p:grpSpPr>
          <p:sp>
            <p:nvSpPr>
              <p:cNvPr id="76" name=""/>
              <p:cNvSpPr/>
              <p:nvPr/>
            </p:nvSpPr>
            <p:spPr>
              <a:xfrm>
                <a:off x="5165280" y="28702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56280" y="35665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5576400" y="2874240"/>
                <a:ext cx="309960" cy="688320"/>
                <a:chOff x="5576400" y="2874240"/>
                <a:chExt cx="309960" cy="6883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576400" y="28742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5576760" y="32194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863240" y="2877840"/>
                <a:ext cx="309960" cy="688320"/>
                <a:chOff x="4863240" y="2877840"/>
                <a:chExt cx="309960" cy="688320"/>
              </a:xfrm>
            </p:grpSpPr>
            <p:sp>
              <p:nvSpPr>
                <p:cNvPr id="82" name=""/>
                <p:cNvSpPr/>
                <p:nvPr/>
              </p:nvSpPr>
              <p:spPr>
                <a:xfrm flipH="1">
                  <a:off x="4863600" y="28778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 flipV="1">
                  <a:off x="4863240" y="32230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727360" y="3933720"/>
              <a:ext cx="1023480" cy="696240"/>
              <a:chOff x="2727360" y="3933720"/>
              <a:chExt cx="1023480" cy="696240"/>
            </a:xfrm>
          </p:grpSpPr>
          <p:sp>
            <p:nvSpPr>
              <p:cNvPr id="85" name=""/>
              <p:cNvSpPr/>
              <p:nvPr/>
            </p:nvSpPr>
            <p:spPr>
              <a:xfrm>
                <a:off x="3029400" y="39337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020400" y="46299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3440880" y="3937680"/>
                <a:ext cx="309960" cy="688320"/>
                <a:chOff x="3440880" y="3937680"/>
                <a:chExt cx="309960" cy="6883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440880" y="39376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V="1">
                  <a:off x="3441240" y="42829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727360" y="3941280"/>
                <a:ext cx="309960" cy="688320"/>
                <a:chOff x="2727360" y="3941280"/>
                <a:chExt cx="309960" cy="688320"/>
              </a:xfrm>
            </p:grpSpPr>
            <p:sp>
              <p:nvSpPr>
                <p:cNvPr id="91" name=""/>
                <p:cNvSpPr/>
                <p:nvPr/>
              </p:nvSpPr>
              <p:spPr>
                <a:xfrm flipH="1">
                  <a:off x="2727720" y="39412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flipV="1">
                  <a:off x="2727360" y="42865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" name=""/>
            <p:cNvGrpSpPr/>
            <p:nvPr/>
          </p:nvGrpSpPr>
          <p:grpSpPr>
            <a:xfrm>
              <a:off x="3438000" y="3580200"/>
              <a:ext cx="1023120" cy="695880"/>
              <a:chOff x="3438000" y="3580200"/>
              <a:chExt cx="1023120" cy="695880"/>
            </a:xfrm>
          </p:grpSpPr>
          <p:sp>
            <p:nvSpPr>
              <p:cNvPr id="94" name=""/>
              <p:cNvSpPr/>
              <p:nvPr/>
            </p:nvSpPr>
            <p:spPr>
              <a:xfrm>
                <a:off x="3740040" y="35802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31040" y="42760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4151520" y="3584160"/>
                <a:ext cx="309600" cy="687600"/>
                <a:chOff x="4151520" y="3584160"/>
                <a:chExt cx="309600" cy="6876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151520" y="35841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4151520" y="39286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38000" y="3587760"/>
                <a:ext cx="309600" cy="687600"/>
                <a:chOff x="3438000" y="3587760"/>
                <a:chExt cx="309600" cy="687600"/>
              </a:xfrm>
            </p:grpSpPr>
            <p:sp>
              <p:nvSpPr>
                <p:cNvPr id="100" name=""/>
                <p:cNvSpPr/>
                <p:nvPr/>
              </p:nvSpPr>
              <p:spPr>
                <a:xfrm flipH="1">
                  <a:off x="3438360" y="35877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flipV="1">
                  <a:off x="3438000" y="3932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2723400" y="3239280"/>
              <a:ext cx="1023480" cy="696240"/>
              <a:chOff x="2723400" y="3239280"/>
              <a:chExt cx="1023480" cy="696240"/>
            </a:xfrm>
          </p:grpSpPr>
          <p:sp>
            <p:nvSpPr>
              <p:cNvPr id="103" name=""/>
              <p:cNvSpPr/>
              <p:nvPr/>
            </p:nvSpPr>
            <p:spPr>
              <a:xfrm>
                <a:off x="3025440" y="32392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440" y="39355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3436920" y="3243240"/>
                <a:ext cx="309960" cy="688320"/>
                <a:chOff x="3436920" y="3243240"/>
                <a:chExt cx="309960" cy="6883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436920" y="32432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3437280" y="35884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723400" y="3246840"/>
                <a:ext cx="309960" cy="688320"/>
                <a:chOff x="2723400" y="3246840"/>
                <a:chExt cx="309960" cy="688320"/>
              </a:xfrm>
            </p:grpSpPr>
            <p:sp>
              <p:nvSpPr>
                <p:cNvPr id="109" name=""/>
                <p:cNvSpPr/>
                <p:nvPr/>
              </p:nvSpPr>
              <p:spPr>
                <a:xfrm flipH="1">
                  <a:off x="2723760" y="32468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flipV="1">
                  <a:off x="2723400" y="35920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3433680" y="2886120"/>
              <a:ext cx="1023480" cy="695880"/>
              <a:chOff x="3433680" y="2886120"/>
              <a:chExt cx="1023480" cy="695880"/>
            </a:xfrm>
          </p:grpSpPr>
          <p:sp>
            <p:nvSpPr>
              <p:cNvPr id="112" name=""/>
              <p:cNvSpPr/>
              <p:nvPr/>
            </p:nvSpPr>
            <p:spPr>
              <a:xfrm>
                <a:off x="3735720" y="28861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26720" y="35820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4147560" y="2890080"/>
                <a:ext cx="309600" cy="687600"/>
                <a:chOff x="4147560" y="2890080"/>
                <a:chExt cx="309600" cy="6876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147560" y="28900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4147560" y="32346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433680" y="2893680"/>
                <a:ext cx="309600" cy="687600"/>
                <a:chOff x="3433680" y="2893680"/>
                <a:chExt cx="309600" cy="687600"/>
              </a:xfrm>
            </p:grpSpPr>
            <p:sp>
              <p:nvSpPr>
                <p:cNvPr id="118" name=""/>
                <p:cNvSpPr/>
                <p:nvPr/>
              </p:nvSpPr>
              <p:spPr>
                <a:xfrm flipH="1">
                  <a:off x="3434040" y="28936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 flipV="1">
                  <a:off x="3433680" y="3238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4152600" y="2533680"/>
              <a:ext cx="1023480" cy="695880"/>
              <a:chOff x="4152600" y="2533680"/>
              <a:chExt cx="1023480" cy="695880"/>
            </a:xfrm>
          </p:grpSpPr>
          <p:sp>
            <p:nvSpPr>
              <p:cNvPr id="121" name=""/>
              <p:cNvSpPr/>
              <p:nvPr/>
            </p:nvSpPr>
            <p:spPr>
              <a:xfrm>
                <a:off x="4454640" y="25336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445640" y="32295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4866480" y="2537640"/>
                <a:ext cx="309600" cy="687600"/>
                <a:chOff x="4866480" y="2537640"/>
                <a:chExt cx="309600" cy="6876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866480" y="25376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4866480" y="28821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152600" y="2541240"/>
                <a:ext cx="309600" cy="687600"/>
                <a:chOff x="4152600" y="2541240"/>
                <a:chExt cx="309600" cy="687600"/>
              </a:xfrm>
            </p:grpSpPr>
            <p:sp>
              <p:nvSpPr>
                <p:cNvPr id="127" name=""/>
                <p:cNvSpPr/>
                <p:nvPr/>
              </p:nvSpPr>
              <p:spPr>
                <a:xfrm flipH="1">
                  <a:off x="4152960" y="25412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4152600" y="28857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4863240" y="2180160"/>
              <a:ext cx="1023120" cy="696240"/>
              <a:chOff x="4863240" y="2180160"/>
              <a:chExt cx="1023120" cy="69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5165280" y="21801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56280" y="28764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5576400" y="2184120"/>
                <a:ext cx="309960" cy="688320"/>
                <a:chOff x="5576400" y="2184120"/>
                <a:chExt cx="309960" cy="6883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576400" y="21841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576760" y="2529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863240" y="2187720"/>
                <a:ext cx="309960" cy="688320"/>
                <a:chOff x="4863240" y="2187720"/>
                <a:chExt cx="309960" cy="688320"/>
              </a:xfrm>
            </p:grpSpPr>
            <p:sp>
              <p:nvSpPr>
                <p:cNvPr id="136" name=""/>
                <p:cNvSpPr/>
                <p:nvPr/>
              </p:nvSpPr>
              <p:spPr>
                <a:xfrm flipH="1">
                  <a:off x="4863600" y="21877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4863240" y="25329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148640" y="1839600"/>
              <a:ext cx="1023480" cy="696240"/>
              <a:chOff x="4148640" y="1839600"/>
              <a:chExt cx="1023480" cy="696240"/>
            </a:xfrm>
          </p:grpSpPr>
          <p:sp>
            <p:nvSpPr>
              <p:cNvPr id="139" name=""/>
              <p:cNvSpPr/>
              <p:nvPr/>
            </p:nvSpPr>
            <p:spPr>
              <a:xfrm>
                <a:off x="4450680" y="18396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441680" y="25358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4862160" y="1843560"/>
                <a:ext cx="309960" cy="688320"/>
                <a:chOff x="4862160" y="1843560"/>
                <a:chExt cx="309960" cy="6883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862160" y="18435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4862520" y="2188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148640" y="1847160"/>
                <a:ext cx="309960" cy="688320"/>
                <a:chOff x="4148640" y="1847160"/>
                <a:chExt cx="309960" cy="68832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4149000" y="18471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4148640" y="21924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4859280" y="1486440"/>
              <a:ext cx="1023480" cy="695880"/>
              <a:chOff x="4859280" y="1486440"/>
              <a:chExt cx="1023480" cy="695880"/>
            </a:xfrm>
          </p:grpSpPr>
          <p:sp>
            <p:nvSpPr>
              <p:cNvPr id="148" name=""/>
              <p:cNvSpPr/>
              <p:nvPr/>
            </p:nvSpPr>
            <p:spPr>
              <a:xfrm>
                <a:off x="5161320" y="14864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52320" y="21823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573160" y="1490400"/>
                <a:ext cx="309600" cy="687600"/>
                <a:chOff x="5573160" y="1490400"/>
                <a:chExt cx="309600" cy="6876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573160" y="14904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5573160" y="18349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859280" y="1494000"/>
                <a:ext cx="309600" cy="687600"/>
                <a:chOff x="4859280" y="1494000"/>
                <a:chExt cx="309600" cy="68760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4859640" y="14940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4859280" y="18385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2723400" y="2549520"/>
              <a:ext cx="1023480" cy="695880"/>
              <a:chOff x="2723400" y="2549520"/>
              <a:chExt cx="1023480" cy="695880"/>
            </a:xfrm>
          </p:grpSpPr>
          <p:sp>
            <p:nvSpPr>
              <p:cNvPr id="157" name=""/>
              <p:cNvSpPr/>
              <p:nvPr/>
            </p:nvSpPr>
            <p:spPr>
              <a:xfrm>
                <a:off x="3025440" y="25495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16440" y="32454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437280" y="2553480"/>
                <a:ext cx="309600" cy="687600"/>
                <a:chOff x="3437280" y="2553480"/>
                <a:chExt cx="309600" cy="6876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437280" y="25534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437280" y="28980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723400" y="2557080"/>
                <a:ext cx="309600" cy="687600"/>
                <a:chOff x="2723400" y="2557080"/>
                <a:chExt cx="309600" cy="687600"/>
              </a:xfrm>
            </p:grpSpPr>
            <p:sp>
              <p:nvSpPr>
                <p:cNvPr id="163" name=""/>
                <p:cNvSpPr/>
                <p:nvPr/>
              </p:nvSpPr>
              <p:spPr>
                <a:xfrm flipH="1">
                  <a:off x="2723760" y="25570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2723400" y="29016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3433680" y="2195640"/>
              <a:ext cx="1023480" cy="696240"/>
              <a:chOff x="3433680" y="2195640"/>
              <a:chExt cx="1023480" cy="696240"/>
            </a:xfrm>
          </p:grpSpPr>
          <p:sp>
            <p:nvSpPr>
              <p:cNvPr id="166" name=""/>
              <p:cNvSpPr/>
              <p:nvPr/>
            </p:nvSpPr>
            <p:spPr>
              <a:xfrm>
                <a:off x="3735720" y="21956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26720" y="28918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4147200" y="2199600"/>
                <a:ext cx="309960" cy="688320"/>
                <a:chOff x="4147200" y="2199600"/>
                <a:chExt cx="309960" cy="6883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147200" y="21996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4147560" y="25448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433680" y="2203200"/>
                <a:ext cx="309960" cy="688320"/>
                <a:chOff x="3433680" y="2203200"/>
                <a:chExt cx="309960" cy="688320"/>
              </a:xfrm>
            </p:grpSpPr>
            <p:sp>
              <p:nvSpPr>
                <p:cNvPr id="172" name=""/>
                <p:cNvSpPr/>
                <p:nvPr/>
              </p:nvSpPr>
              <p:spPr>
                <a:xfrm flipH="1">
                  <a:off x="3434040" y="22032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flipV="1">
                  <a:off x="3433680" y="25484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2719440" y="1855440"/>
              <a:ext cx="1023120" cy="696240"/>
              <a:chOff x="2719440" y="1855440"/>
              <a:chExt cx="1023120" cy="696240"/>
            </a:xfrm>
          </p:grpSpPr>
          <p:sp>
            <p:nvSpPr>
              <p:cNvPr id="175" name=""/>
              <p:cNvSpPr/>
              <p:nvPr/>
            </p:nvSpPr>
            <p:spPr>
              <a:xfrm>
                <a:off x="3021480" y="18554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12480" y="25516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3432600" y="1859400"/>
                <a:ext cx="309960" cy="688320"/>
                <a:chOff x="3432600" y="1859400"/>
                <a:chExt cx="309960" cy="6883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432600" y="18594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3432960" y="22046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719440" y="1863000"/>
                <a:ext cx="309960" cy="688320"/>
                <a:chOff x="2719440" y="1863000"/>
                <a:chExt cx="309960" cy="688320"/>
              </a:xfrm>
            </p:grpSpPr>
            <p:sp>
              <p:nvSpPr>
                <p:cNvPr id="181" name=""/>
                <p:cNvSpPr/>
                <p:nvPr/>
              </p:nvSpPr>
              <p:spPr>
                <a:xfrm flipH="1">
                  <a:off x="2719800" y="18630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2719440" y="22082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" name=""/>
            <p:cNvGrpSpPr/>
            <p:nvPr/>
          </p:nvGrpSpPr>
          <p:grpSpPr>
            <a:xfrm>
              <a:off x="3429720" y="1501560"/>
              <a:ext cx="1023480" cy="696240"/>
              <a:chOff x="3429720" y="1501560"/>
              <a:chExt cx="1023480" cy="696240"/>
            </a:xfrm>
          </p:grpSpPr>
          <p:sp>
            <p:nvSpPr>
              <p:cNvPr id="184" name=""/>
              <p:cNvSpPr/>
              <p:nvPr/>
            </p:nvSpPr>
            <p:spPr>
              <a:xfrm>
                <a:off x="3731760" y="15015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22760" y="21978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4143240" y="1505520"/>
                <a:ext cx="309960" cy="688320"/>
                <a:chOff x="4143240" y="1505520"/>
                <a:chExt cx="309960" cy="6883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143240" y="15055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4143600" y="18507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429720" y="1509120"/>
                <a:ext cx="309960" cy="688320"/>
                <a:chOff x="3429720" y="1509120"/>
                <a:chExt cx="309960" cy="6883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3430080" y="15091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flipV="1">
                  <a:off x="3429720" y="1854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7011360" y="3890880"/>
              <a:ext cx="1023120" cy="695880"/>
              <a:chOff x="7011360" y="3890880"/>
              <a:chExt cx="1023120" cy="69588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3400" y="38908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04400" y="45867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7724880" y="3894840"/>
                <a:ext cx="309600" cy="687600"/>
                <a:chOff x="7724880" y="3894840"/>
                <a:chExt cx="309600" cy="6876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724880" y="38948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7724880" y="4239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7011360" y="3898440"/>
                <a:ext cx="309600" cy="687600"/>
                <a:chOff x="7011360" y="3898440"/>
                <a:chExt cx="309600" cy="687600"/>
              </a:xfrm>
            </p:grpSpPr>
            <p:sp>
              <p:nvSpPr>
                <p:cNvPr id="199" name=""/>
                <p:cNvSpPr/>
                <p:nvPr/>
              </p:nvSpPr>
              <p:spPr>
                <a:xfrm flipH="1">
                  <a:off x="7011720" y="38984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>
                  <a:off x="7011360" y="42429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7722000" y="3537000"/>
              <a:ext cx="1023120" cy="696240"/>
              <a:chOff x="7722000" y="3537000"/>
              <a:chExt cx="1023120" cy="696240"/>
            </a:xfrm>
          </p:grpSpPr>
          <p:sp>
            <p:nvSpPr>
              <p:cNvPr id="202" name=""/>
              <p:cNvSpPr/>
              <p:nvPr/>
            </p:nvSpPr>
            <p:spPr>
              <a:xfrm>
                <a:off x="8024040" y="35370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015040" y="42332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8435160" y="3540960"/>
                <a:ext cx="309960" cy="688320"/>
                <a:chOff x="8435160" y="3540960"/>
                <a:chExt cx="309960" cy="688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435160" y="35409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8435520" y="3886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722000" y="3544560"/>
                <a:ext cx="309960" cy="688320"/>
                <a:chOff x="7722000" y="3544560"/>
                <a:chExt cx="309960" cy="68832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7722360" y="35445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flipV="1">
                  <a:off x="7722000" y="3889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7007040" y="3196800"/>
              <a:ext cx="1023480" cy="695880"/>
              <a:chOff x="7007040" y="3196800"/>
              <a:chExt cx="1023480" cy="695880"/>
            </a:xfrm>
          </p:grpSpPr>
          <p:sp>
            <p:nvSpPr>
              <p:cNvPr id="211" name=""/>
              <p:cNvSpPr/>
              <p:nvPr/>
            </p:nvSpPr>
            <p:spPr>
              <a:xfrm>
                <a:off x="7309080" y="31968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00080" y="38926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7720920" y="3200760"/>
                <a:ext cx="309600" cy="687600"/>
                <a:chOff x="7720920" y="3200760"/>
                <a:chExt cx="309600" cy="687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720920" y="32007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7720920" y="3545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7007040" y="3204360"/>
                <a:ext cx="309600" cy="687600"/>
                <a:chOff x="7007040" y="3204360"/>
                <a:chExt cx="309600" cy="68760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7007400" y="32043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flipV="1">
                  <a:off x="7007040" y="35488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7718040" y="2842920"/>
              <a:ext cx="1023120" cy="696240"/>
              <a:chOff x="7718040" y="2842920"/>
              <a:chExt cx="1023120" cy="696240"/>
            </a:xfrm>
          </p:grpSpPr>
          <p:sp>
            <p:nvSpPr>
              <p:cNvPr id="220" name=""/>
              <p:cNvSpPr/>
              <p:nvPr/>
            </p:nvSpPr>
            <p:spPr>
              <a:xfrm>
                <a:off x="8020080" y="28429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11080" y="35391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8431200" y="2846880"/>
                <a:ext cx="309960" cy="688320"/>
                <a:chOff x="8431200" y="2846880"/>
                <a:chExt cx="309960" cy="688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8431200" y="28468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8431560" y="31921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718040" y="2850480"/>
                <a:ext cx="309960" cy="688320"/>
                <a:chOff x="7718040" y="2850480"/>
                <a:chExt cx="309960" cy="688320"/>
              </a:xfrm>
            </p:grpSpPr>
            <p:sp>
              <p:nvSpPr>
                <p:cNvPr id="226" name=""/>
                <p:cNvSpPr/>
                <p:nvPr/>
              </p:nvSpPr>
              <p:spPr>
                <a:xfrm flipH="1">
                  <a:off x="7718400" y="28504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7718040" y="31957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5581800" y="3906000"/>
              <a:ext cx="1023480" cy="696240"/>
              <a:chOff x="5581800" y="3906000"/>
              <a:chExt cx="1023480" cy="696240"/>
            </a:xfrm>
          </p:grpSpPr>
          <p:sp>
            <p:nvSpPr>
              <p:cNvPr id="229" name=""/>
              <p:cNvSpPr/>
              <p:nvPr/>
            </p:nvSpPr>
            <p:spPr>
              <a:xfrm>
                <a:off x="5883840" y="39060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74840" y="46022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6295320" y="3909960"/>
                <a:ext cx="309960" cy="688320"/>
                <a:chOff x="6295320" y="3909960"/>
                <a:chExt cx="309960" cy="688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295320" y="39099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6295680" y="4255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581800" y="3913560"/>
                <a:ext cx="309960" cy="688320"/>
                <a:chOff x="5581800" y="3913560"/>
                <a:chExt cx="309960" cy="68832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5582160" y="39135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flipV="1">
                  <a:off x="5581800" y="4258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6292800" y="3552840"/>
              <a:ext cx="1023120" cy="696240"/>
              <a:chOff x="6292800" y="3552840"/>
              <a:chExt cx="1023120" cy="696240"/>
            </a:xfrm>
          </p:grpSpPr>
          <p:sp>
            <p:nvSpPr>
              <p:cNvPr id="238" name=""/>
              <p:cNvSpPr/>
              <p:nvPr/>
            </p:nvSpPr>
            <p:spPr>
              <a:xfrm>
                <a:off x="6594840" y="35528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85840" y="42490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7005960" y="3556800"/>
                <a:ext cx="309960" cy="688320"/>
                <a:chOff x="7005960" y="3556800"/>
                <a:chExt cx="309960" cy="688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05960" y="35568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006320" y="39020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292800" y="3560400"/>
                <a:ext cx="309960" cy="688320"/>
                <a:chOff x="6292800" y="3560400"/>
                <a:chExt cx="309960" cy="688320"/>
              </a:xfrm>
            </p:grpSpPr>
            <p:sp>
              <p:nvSpPr>
                <p:cNvPr id="244" name=""/>
                <p:cNvSpPr/>
                <p:nvPr/>
              </p:nvSpPr>
              <p:spPr>
                <a:xfrm flipH="1">
                  <a:off x="6293160" y="35604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6292800" y="39056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5577840" y="3212280"/>
              <a:ext cx="1023480" cy="695880"/>
              <a:chOff x="5577840" y="3212280"/>
              <a:chExt cx="1023480" cy="695880"/>
            </a:xfrm>
          </p:grpSpPr>
          <p:sp>
            <p:nvSpPr>
              <p:cNvPr id="247" name=""/>
              <p:cNvSpPr/>
              <p:nvPr/>
            </p:nvSpPr>
            <p:spPr>
              <a:xfrm>
                <a:off x="5879880" y="32122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70880" y="39081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6291720" y="3216240"/>
                <a:ext cx="309600" cy="687600"/>
                <a:chOff x="6291720" y="3216240"/>
                <a:chExt cx="309600" cy="687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291720" y="32162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6291720" y="35607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577840" y="3219840"/>
                <a:ext cx="309600" cy="687600"/>
                <a:chOff x="5577840" y="3219840"/>
                <a:chExt cx="309600" cy="687600"/>
              </a:xfrm>
            </p:grpSpPr>
            <p:sp>
              <p:nvSpPr>
                <p:cNvPr id="253" name=""/>
                <p:cNvSpPr/>
                <p:nvPr/>
              </p:nvSpPr>
              <p:spPr>
                <a:xfrm flipH="1">
                  <a:off x="5578200" y="321984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flipV="1">
                  <a:off x="5577840" y="3564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288840" y="2858760"/>
              <a:ext cx="1023120" cy="696240"/>
              <a:chOff x="6288840" y="2858760"/>
              <a:chExt cx="1023120" cy="69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6590880" y="28587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81880" y="35550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7002000" y="2862720"/>
                <a:ext cx="309960" cy="688320"/>
                <a:chOff x="7002000" y="2862720"/>
                <a:chExt cx="309960" cy="6883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002000" y="28627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7002360" y="32079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288840" y="2866320"/>
                <a:ext cx="309960" cy="688320"/>
                <a:chOff x="6288840" y="2866320"/>
                <a:chExt cx="309960" cy="688320"/>
              </a:xfrm>
            </p:grpSpPr>
            <p:sp>
              <p:nvSpPr>
                <p:cNvPr id="262" name=""/>
                <p:cNvSpPr/>
                <p:nvPr/>
              </p:nvSpPr>
              <p:spPr>
                <a:xfrm flipH="1">
                  <a:off x="6289200" y="28663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>
                  <a:off x="6288840" y="32115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7007040" y="2506320"/>
              <a:ext cx="1023480" cy="696240"/>
              <a:chOff x="7007040" y="2506320"/>
              <a:chExt cx="1023480" cy="696240"/>
            </a:xfrm>
          </p:grpSpPr>
          <p:sp>
            <p:nvSpPr>
              <p:cNvPr id="265" name=""/>
              <p:cNvSpPr/>
              <p:nvPr/>
            </p:nvSpPr>
            <p:spPr>
              <a:xfrm>
                <a:off x="7309080" y="25063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00080" y="32025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7720560" y="2510280"/>
                <a:ext cx="309960" cy="688320"/>
                <a:chOff x="7720560" y="2510280"/>
                <a:chExt cx="309960" cy="688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720560" y="25102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7720920" y="28555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007040" y="2513880"/>
                <a:ext cx="309960" cy="688320"/>
                <a:chOff x="7007040" y="2513880"/>
                <a:chExt cx="309960" cy="688320"/>
              </a:xfrm>
            </p:grpSpPr>
            <p:sp>
              <p:nvSpPr>
                <p:cNvPr id="271" name=""/>
                <p:cNvSpPr/>
                <p:nvPr/>
              </p:nvSpPr>
              <p:spPr>
                <a:xfrm flipH="1">
                  <a:off x="7007400" y="25138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>
                  <a:off x="7007040" y="28591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7718040" y="2153160"/>
              <a:ext cx="1023120" cy="695880"/>
              <a:chOff x="7718040" y="2153160"/>
              <a:chExt cx="1023120" cy="695880"/>
            </a:xfrm>
          </p:grpSpPr>
          <p:sp>
            <p:nvSpPr>
              <p:cNvPr id="274" name=""/>
              <p:cNvSpPr/>
              <p:nvPr/>
            </p:nvSpPr>
            <p:spPr>
              <a:xfrm>
                <a:off x="8020080" y="21531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11080" y="28490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8431560" y="2157120"/>
                <a:ext cx="309600" cy="687600"/>
                <a:chOff x="8431560" y="2157120"/>
                <a:chExt cx="309600" cy="6876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8431560" y="215712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8431560" y="25016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718040" y="2160720"/>
                <a:ext cx="309600" cy="687600"/>
                <a:chOff x="7718040" y="2160720"/>
                <a:chExt cx="309600" cy="687600"/>
              </a:xfrm>
            </p:grpSpPr>
            <p:sp>
              <p:nvSpPr>
                <p:cNvPr id="280" name=""/>
                <p:cNvSpPr/>
                <p:nvPr/>
              </p:nvSpPr>
              <p:spPr>
                <a:xfrm flipH="1">
                  <a:off x="7718400" y="216072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>
                  <a:off x="7718040" y="25052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7003080" y="1812240"/>
              <a:ext cx="1023480" cy="696240"/>
              <a:chOff x="7003080" y="1812240"/>
              <a:chExt cx="1023480" cy="696240"/>
            </a:xfrm>
          </p:grpSpPr>
          <p:sp>
            <p:nvSpPr>
              <p:cNvPr id="283" name=""/>
              <p:cNvSpPr/>
              <p:nvPr/>
            </p:nvSpPr>
            <p:spPr>
              <a:xfrm>
                <a:off x="7305120" y="18122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96120" y="25084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7716600" y="1816200"/>
                <a:ext cx="309960" cy="688320"/>
                <a:chOff x="7716600" y="1816200"/>
                <a:chExt cx="309960" cy="688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716600" y="18162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7716960" y="21614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003080" y="1819800"/>
                <a:ext cx="309960" cy="688320"/>
                <a:chOff x="7003080" y="1819800"/>
                <a:chExt cx="309960" cy="688320"/>
              </a:xfrm>
            </p:grpSpPr>
            <p:sp>
              <p:nvSpPr>
                <p:cNvPr id="289" name=""/>
                <p:cNvSpPr/>
                <p:nvPr/>
              </p:nvSpPr>
              <p:spPr>
                <a:xfrm flipH="1">
                  <a:off x="7003440" y="181980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>
                  <a:off x="7003080" y="21650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7713720" y="1459080"/>
              <a:ext cx="1023480" cy="696240"/>
              <a:chOff x="7713720" y="1459080"/>
              <a:chExt cx="1023480" cy="696240"/>
            </a:xfrm>
          </p:grpSpPr>
          <p:sp>
            <p:nvSpPr>
              <p:cNvPr id="292" name=""/>
              <p:cNvSpPr/>
              <p:nvPr/>
            </p:nvSpPr>
            <p:spPr>
              <a:xfrm>
                <a:off x="8015760" y="14590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006760" y="21553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8427240" y="1463040"/>
                <a:ext cx="309960" cy="688320"/>
                <a:chOff x="8427240" y="1463040"/>
                <a:chExt cx="309960" cy="688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8427240" y="14630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8427600" y="1808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713720" y="1466640"/>
                <a:ext cx="309960" cy="688320"/>
                <a:chOff x="7713720" y="1466640"/>
                <a:chExt cx="309960" cy="688320"/>
              </a:xfrm>
            </p:grpSpPr>
            <p:sp>
              <p:nvSpPr>
                <p:cNvPr id="298" name=""/>
                <p:cNvSpPr/>
                <p:nvPr/>
              </p:nvSpPr>
              <p:spPr>
                <a:xfrm flipH="1">
                  <a:off x="7714080" y="14666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7713720" y="18118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5577840" y="2522160"/>
              <a:ext cx="1023480" cy="696240"/>
              <a:chOff x="5577840" y="2522160"/>
              <a:chExt cx="1023480" cy="696240"/>
            </a:xfrm>
          </p:grpSpPr>
          <p:sp>
            <p:nvSpPr>
              <p:cNvPr id="301" name=""/>
              <p:cNvSpPr/>
              <p:nvPr/>
            </p:nvSpPr>
            <p:spPr>
              <a:xfrm>
                <a:off x="5879880" y="25221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70880" y="32184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6291360" y="2526120"/>
                <a:ext cx="309960" cy="688320"/>
                <a:chOff x="6291360" y="2526120"/>
                <a:chExt cx="309960" cy="688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291360" y="25261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6291720" y="2871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577840" y="2529720"/>
                <a:ext cx="309960" cy="688320"/>
                <a:chOff x="5577840" y="2529720"/>
                <a:chExt cx="309960" cy="6883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5578200" y="25297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>
                  <a:off x="5577840" y="28749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9" name=""/>
            <p:cNvGrpSpPr/>
            <p:nvPr/>
          </p:nvGrpSpPr>
          <p:grpSpPr>
            <a:xfrm>
              <a:off x="6288840" y="2168640"/>
              <a:ext cx="1023120" cy="695880"/>
              <a:chOff x="6288840" y="2168640"/>
              <a:chExt cx="1023120" cy="695880"/>
            </a:xfrm>
          </p:grpSpPr>
          <p:sp>
            <p:nvSpPr>
              <p:cNvPr id="310" name=""/>
              <p:cNvSpPr/>
              <p:nvPr/>
            </p:nvSpPr>
            <p:spPr>
              <a:xfrm>
                <a:off x="6590880" y="216864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81880" y="28645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7002360" y="2172600"/>
                <a:ext cx="309600" cy="687600"/>
                <a:chOff x="7002360" y="2172600"/>
                <a:chExt cx="309600" cy="6876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002360" y="21726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7002360" y="25171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288840" y="2176200"/>
                <a:ext cx="309600" cy="687600"/>
                <a:chOff x="6288840" y="2176200"/>
                <a:chExt cx="309600" cy="687600"/>
              </a:xfrm>
            </p:grpSpPr>
            <p:sp>
              <p:nvSpPr>
                <p:cNvPr id="316" name=""/>
                <p:cNvSpPr/>
                <p:nvPr/>
              </p:nvSpPr>
              <p:spPr>
                <a:xfrm flipH="1">
                  <a:off x="6289200" y="21762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>
                  <a:off x="6288840" y="25207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5573880" y="1828080"/>
              <a:ext cx="1023480" cy="696240"/>
              <a:chOff x="5573880" y="1828080"/>
              <a:chExt cx="1023480" cy="696240"/>
            </a:xfrm>
          </p:grpSpPr>
          <p:sp>
            <p:nvSpPr>
              <p:cNvPr id="319" name=""/>
              <p:cNvSpPr/>
              <p:nvPr/>
            </p:nvSpPr>
            <p:spPr>
              <a:xfrm>
                <a:off x="5875920" y="18280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6920" y="25243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287400" y="1832040"/>
                <a:ext cx="309960" cy="688320"/>
                <a:chOff x="6287400" y="1832040"/>
                <a:chExt cx="309960" cy="688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287400" y="18320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6287760" y="2177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573880" y="1835640"/>
                <a:ext cx="309960" cy="688320"/>
                <a:chOff x="5573880" y="1835640"/>
                <a:chExt cx="309960" cy="688320"/>
              </a:xfrm>
            </p:grpSpPr>
            <p:sp>
              <p:nvSpPr>
                <p:cNvPr id="325" name=""/>
                <p:cNvSpPr/>
                <p:nvPr/>
              </p:nvSpPr>
              <p:spPr>
                <a:xfrm flipH="1">
                  <a:off x="5574240" y="18356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>
                  <a:off x="5573880" y="21808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6284520" y="1474560"/>
              <a:ext cx="1023480" cy="696240"/>
              <a:chOff x="6284520" y="1474560"/>
              <a:chExt cx="1023480" cy="696240"/>
            </a:xfrm>
          </p:grpSpPr>
          <p:sp>
            <p:nvSpPr>
              <p:cNvPr id="328" name=""/>
              <p:cNvSpPr/>
              <p:nvPr/>
            </p:nvSpPr>
            <p:spPr>
              <a:xfrm>
                <a:off x="6586560" y="14745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77560" y="21708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6998040" y="1478520"/>
                <a:ext cx="309960" cy="688320"/>
                <a:chOff x="6998040" y="1478520"/>
                <a:chExt cx="309960" cy="6883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6998040" y="14785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6998400" y="18237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284520" y="1482120"/>
                <a:ext cx="309960" cy="688320"/>
                <a:chOff x="6284520" y="1482120"/>
                <a:chExt cx="309960" cy="68832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6284880" y="14821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 flipV="1">
                  <a:off x="6284520" y="18273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4144680" y="1145520"/>
              <a:ext cx="1023120" cy="696240"/>
              <a:chOff x="4144680" y="1145520"/>
              <a:chExt cx="1023120" cy="696240"/>
            </a:xfrm>
          </p:grpSpPr>
          <p:sp>
            <p:nvSpPr>
              <p:cNvPr id="337" name=""/>
              <p:cNvSpPr/>
              <p:nvPr/>
            </p:nvSpPr>
            <p:spPr>
              <a:xfrm>
                <a:off x="4446720" y="11455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37720" y="18417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4857840" y="1149480"/>
                <a:ext cx="309960" cy="688320"/>
                <a:chOff x="4857840" y="1149480"/>
                <a:chExt cx="309960" cy="6883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57840" y="11494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4858200" y="14947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144680" y="1153080"/>
                <a:ext cx="309960" cy="688320"/>
                <a:chOff x="4144680" y="1153080"/>
                <a:chExt cx="309960" cy="688320"/>
              </a:xfrm>
            </p:grpSpPr>
            <p:sp>
              <p:nvSpPr>
                <p:cNvPr id="343" name=""/>
                <p:cNvSpPr/>
                <p:nvPr/>
              </p:nvSpPr>
              <p:spPr>
                <a:xfrm flipH="1">
                  <a:off x="4145040" y="115308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4144680" y="14983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4854960" y="792360"/>
              <a:ext cx="1023480" cy="695880"/>
              <a:chOff x="4854960" y="792360"/>
              <a:chExt cx="1023480" cy="695880"/>
            </a:xfrm>
          </p:grpSpPr>
          <p:sp>
            <p:nvSpPr>
              <p:cNvPr id="346" name=""/>
              <p:cNvSpPr/>
              <p:nvPr/>
            </p:nvSpPr>
            <p:spPr>
              <a:xfrm>
                <a:off x="5157000" y="79236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48000" y="14882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568840" y="796320"/>
                <a:ext cx="309600" cy="687600"/>
                <a:chOff x="5568840" y="796320"/>
                <a:chExt cx="309600" cy="68760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568840" y="79632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5568840" y="11408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854960" y="799920"/>
                <a:ext cx="309600" cy="687600"/>
                <a:chOff x="4854960" y="799920"/>
                <a:chExt cx="309600" cy="68760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4855320" y="79992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4854960" y="114444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2715480" y="1161360"/>
              <a:ext cx="1023120" cy="696240"/>
              <a:chOff x="2715480" y="1161360"/>
              <a:chExt cx="1023120" cy="696240"/>
            </a:xfrm>
          </p:grpSpPr>
          <p:sp>
            <p:nvSpPr>
              <p:cNvPr id="355" name=""/>
              <p:cNvSpPr/>
              <p:nvPr/>
            </p:nvSpPr>
            <p:spPr>
              <a:xfrm>
                <a:off x="3017520" y="116136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08520" y="18576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3428640" y="1165320"/>
                <a:ext cx="309960" cy="688320"/>
                <a:chOff x="3428640" y="1165320"/>
                <a:chExt cx="309960" cy="6883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428640" y="11653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3429000" y="15105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715480" y="1168920"/>
                <a:ext cx="309960" cy="688320"/>
                <a:chOff x="2715480" y="1168920"/>
                <a:chExt cx="309960" cy="6883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>
                  <a:off x="2715840" y="116892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2715480" y="151416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3" name=""/>
            <p:cNvGrpSpPr/>
            <p:nvPr/>
          </p:nvGrpSpPr>
          <p:grpSpPr>
            <a:xfrm>
              <a:off x="3425760" y="807840"/>
              <a:ext cx="1023480" cy="695880"/>
              <a:chOff x="3425760" y="807840"/>
              <a:chExt cx="1023480" cy="695880"/>
            </a:xfrm>
          </p:grpSpPr>
          <p:sp>
            <p:nvSpPr>
              <p:cNvPr id="364" name=""/>
              <p:cNvSpPr/>
              <p:nvPr/>
            </p:nvSpPr>
            <p:spPr>
              <a:xfrm>
                <a:off x="3727800" y="8078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18800" y="15037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4139640" y="811800"/>
                <a:ext cx="309600" cy="687600"/>
                <a:chOff x="4139640" y="811800"/>
                <a:chExt cx="309600" cy="687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139640" y="8118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4139640" y="11563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3425760" y="815400"/>
                <a:ext cx="309600" cy="687600"/>
                <a:chOff x="3425760" y="815400"/>
                <a:chExt cx="309600" cy="687600"/>
              </a:xfrm>
            </p:grpSpPr>
            <p:sp>
              <p:nvSpPr>
                <p:cNvPr id="370" name=""/>
                <p:cNvSpPr/>
                <p:nvPr/>
              </p:nvSpPr>
              <p:spPr>
                <a:xfrm flipH="1">
                  <a:off x="3426120" y="81540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>
                  <a:off x="3425760" y="115992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6999120" y="1118520"/>
              <a:ext cx="1023120" cy="695880"/>
              <a:chOff x="6999120" y="1118520"/>
              <a:chExt cx="1023120" cy="695880"/>
            </a:xfrm>
          </p:grpSpPr>
          <p:sp>
            <p:nvSpPr>
              <p:cNvPr id="373" name=""/>
              <p:cNvSpPr/>
              <p:nvPr/>
            </p:nvSpPr>
            <p:spPr>
              <a:xfrm>
                <a:off x="7301160" y="111852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292160" y="18144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7712640" y="1122480"/>
                <a:ext cx="309600" cy="687600"/>
                <a:chOff x="7712640" y="1122480"/>
                <a:chExt cx="309600" cy="6876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7712640" y="11224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7712640" y="14670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6999120" y="1126080"/>
                <a:ext cx="309600" cy="687600"/>
                <a:chOff x="6999120" y="1126080"/>
                <a:chExt cx="309600" cy="687600"/>
              </a:xfrm>
            </p:grpSpPr>
            <p:sp>
              <p:nvSpPr>
                <p:cNvPr id="379" name=""/>
                <p:cNvSpPr/>
                <p:nvPr/>
              </p:nvSpPr>
              <p:spPr>
                <a:xfrm flipH="1">
                  <a:off x="6999480" y="112608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6999120" y="14706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7709760" y="765000"/>
              <a:ext cx="1023480" cy="696240"/>
              <a:chOff x="7709760" y="765000"/>
              <a:chExt cx="1023480" cy="696240"/>
            </a:xfrm>
          </p:grpSpPr>
          <p:sp>
            <p:nvSpPr>
              <p:cNvPr id="382" name=""/>
              <p:cNvSpPr/>
              <p:nvPr/>
            </p:nvSpPr>
            <p:spPr>
              <a:xfrm>
                <a:off x="8011800" y="76500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02800" y="146124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8423280" y="768960"/>
                <a:ext cx="309960" cy="688320"/>
                <a:chOff x="8423280" y="768960"/>
                <a:chExt cx="309960" cy="6883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8423280" y="7689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8423640" y="11142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7709760" y="772560"/>
                <a:ext cx="309960" cy="688320"/>
                <a:chOff x="7709760" y="772560"/>
                <a:chExt cx="309960" cy="688320"/>
              </a:xfrm>
            </p:grpSpPr>
            <p:sp>
              <p:nvSpPr>
                <p:cNvPr id="388" name=""/>
                <p:cNvSpPr/>
                <p:nvPr/>
              </p:nvSpPr>
              <p:spPr>
                <a:xfrm flipH="1">
                  <a:off x="7710120" y="77256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7709760" y="111780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5569920" y="1134000"/>
              <a:ext cx="1023120" cy="695880"/>
              <a:chOff x="5569920" y="1134000"/>
              <a:chExt cx="1023120" cy="695880"/>
            </a:xfrm>
          </p:grpSpPr>
          <p:sp>
            <p:nvSpPr>
              <p:cNvPr id="391" name=""/>
              <p:cNvSpPr/>
              <p:nvPr/>
            </p:nvSpPr>
            <p:spPr>
              <a:xfrm>
                <a:off x="5871960" y="113400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2960" y="1829880"/>
                <a:ext cx="425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6283440" y="1137960"/>
                <a:ext cx="309600" cy="687600"/>
                <a:chOff x="6283440" y="1137960"/>
                <a:chExt cx="309600" cy="6876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6283440" y="11379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283440" y="14824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569920" y="1141560"/>
                <a:ext cx="309600" cy="687600"/>
                <a:chOff x="5569920" y="1141560"/>
                <a:chExt cx="309600" cy="68760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5570280" y="1141560"/>
                  <a:ext cx="30924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>
                  <a:off x="5569920" y="14860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6280560" y="780480"/>
              <a:ext cx="1023480" cy="696240"/>
              <a:chOff x="6280560" y="780480"/>
              <a:chExt cx="1023480" cy="696240"/>
            </a:xfrm>
          </p:grpSpPr>
          <p:sp>
            <p:nvSpPr>
              <p:cNvPr id="400" name=""/>
              <p:cNvSpPr/>
              <p:nvPr/>
            </p:nvSpPr>
            <p:spPr>
              <a:xfrm>
                <a:off x="6582600" y="78048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573600" y="1476720"/>
                <a:ext cx="42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6994080" y="784440"/>
                <a:ext cx="309960" cy="688320"/>
                <a:chOff x="6994080" y="784440"/>
                <a:chExt cx="309960" cy="6883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6994080" y="7844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6994440" y="11296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280560" y="788040"/>
                <a:ext cx="309960" cy="688320"/>
                <a:chOff x="6280560" y="788040"/>
                <a:chExt cx="309960" cy="688320"/>
              </a:xfrm>
            </p:grpSpPr>
            <p:sp>
              <p:nvSpPr>
                <p:cNvPr id="406" name=""/>
                <p:cNvSpPr/>
                <p:nvPr/>
              </p:nvSpPr>
              <p:spPr>
                <a:xfrm flipH="1">
                  <a:off x="6280920" y="788040"/>
                  <a:ext cx="309600" cy="34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6280560" y="1133280"/>
                  <a:ext cx="309600" cy="34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dio Subsystem (RSS) comprises the cellular mobile network up to the switching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 Subsystem (BS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Transceiver Station (BTS): radio components including sender, receiver, antenna - if directed antennas are used one BTS can cover several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Station Controller (BSC): switching between BTSs, controlling BTSs, managing of network resources, mapping of radio channels (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onto terrestrial channels (A interfac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= BSC + sum(BTS) + inter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Station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5014800" y="1562040"/>
            <a:ext cx="348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sible radio coverage of the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041800" y="2533680"/>
            <a:ext cx="3845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ealized shape of the c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1295280" y="1447920"/>
            <a:ext cx="3763440" cy="2017080"/>
            <a:chOff x="1295280" y="1447920"/>
            <a:chExt cx="3763440" cy="2017080"/>
          </a:xfrm>
        </p:grpSpPr>
        <p:sp>
          <p:nvSpPr>
            <p:cNvPr id="1596" name=""/>
            <p:cNvSpPr/>
            <p:nvPr/>
          </p:nvSpPr>
          <p:spPr>
            <a:xfrm>
              <a:off x="3019680" y="2474640"/>
              <a:ext cx="990360" cy="990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139920" y="263340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179520" y="2679480"/>
              <a:ext cx="67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295280" y="1447920"/>
              <a:ext cx="991800" cy="9903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409400" y="1617480"/>
              <a:ext cx="750240" cy="645840"/>
            </a:xfrm>
            <a:prstGeom prst="hexagon">
              <a:avLst>
                <a:gd name="adj" fmla="val 29036"/>
                <a:gd name="vf" fmla="val 1154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454760" y="1652400"/>
              <a:ext cx="672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001600" y="1928520"/>
              <a:ext cx="749880" cy="672840"/>
            </a:xfrm>
            <a:prstGeom prst="hexagon">
              <a:avLst>
                <a:gd name="adj" fmla="val 27857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420920" y="226980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574360" y="157932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74360" y="227772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154320" y="193968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005920" y="2614320"/>
              <a:ext cx="750240" cy="672840"/>
            </a:xfrm>
            <a:prstGeom prst="hexagon">
              <a:avLst>
                <a:gd name="adj" fmla="val 27870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3873240" y="1746000"/>
              <a:ext cx="1122120" cy="90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816360" y="2707920"/>
              <a:ext cx="1242360" cy="12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834120" y="91440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of the area into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cellula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everal carrier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e same frequency in adjoining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sizes vary from some 300 feet up to 20 miles depending on user density, geography, transceiver power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agonal shape of cells is idealized (cells overlap, shapes depend on ge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mobile user changes cel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ndover of the connection to the neighbo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and Base Station Control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 of a BSS are distributed over BSC and 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S comprises radio specif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is the switching center for radio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5" name=""/>
          <p:cNvGraphicFramePr/>
          <p:nvPr/>
        </p:nvGraphicFramePr>
        <p:xfrm>
          <a:off x="1371600" y="2209680"/>
          <a:ext cx="636264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636264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 for the use of GS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bile station (MS) comprises several function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 (Mobile Termin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ers common functions used by all services the MS o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sponds to the network termination (NT) of an ISDN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oint of the radio interface (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 (Terminal Adapte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l adaptation, hides radio specific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 (Terminal Equipm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pheral device of the MS, offers services to a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contain GSM specific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 (Subscriber Identity Modul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ization of the mobile terminal, stores user parame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1905120" y="5410080"/>
            <a:ext cx="5311440" cy="686520"/>
            <a:chOff x="1905120" y="5410080"/>
            <a:chExt cx="5311440" cy="686520"/>
          </a:xfrm>
        </p:grpSpPr>
        <p:grpSp>
          <p:nvGrpSpPr>
            <p:cNvPr id="1620" name=""/>
            <p:cNvGrpSpPr/>
            <p:nvPr/>
          </p:nvGrpSpPr>
          <p:grpSpPr>
            <a:xfrm>
              <a:off x="2743200" y="5638680"/>
              <a:ext cx="4190400" cy="152280"/>
              <a:chOff x="2743200" y="5638680"/>
              <a:chExt cx="4190400" cy="152280"/>
            </a:xfrm>
          </p:grpSpPr>
          <p:sp>
            <p:nvSpPr>
              <p:cNvPr id="1621" name=""/>
              <p:cNvSpPr/>
              <p:nvPr/>
            </p:nvSpPr>
            <p:spPr>
              <a:xfrm>
                <a:off x="327600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181120" y="56386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2743200" y="5638680"/>
                <a:ext cx="419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>
              <a:off x="3109680" y="5759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030280" y="5759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92120" y="56386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10200" y="5606640"/>
              <a:ext cx="75960" cy="7632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905120" y="5410080"/>
              <a:ext cx="914040" cy="5331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771720" y="5410080"/>
              <a:ext cx="914040" cy="5331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38680" y="5410080"/>
              <a:ext cx="914040" cy="5331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nd switching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S is the main component of the public mobile network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, mobility management, interconnection to other networks, system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Services Switching Center (MS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all connections via a separated network to/from a mobile terminal within the domain of the MSC - several BSC can belong to a 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 (important: scalability, high capacity, low de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Location Register (HL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 master database containing user data, permanent and semi-permanent data of all subscribers assigned to the HLR (one provider can have several HL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or Location Register (VL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database for a subset of user data, including data about all user currently in the domain of the V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ervices Switch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SC (mobile switching center) plays a central role in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for mobilit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of network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working functions via Gateway MSC (GM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several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of a 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functions for paging and call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 of SS7 (signaling system no.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specific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registration and forwarding of loc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on of new services (fax, data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short message service (S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 and forwarding of accounting and bill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SS (Operation Subsystem) enables centralized operation, management, and maintenance of all GSM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s user specific authentication parameters on request of a VL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parameters used for authentication of mobile terminals and encryption of user data on the air interface within the GSM 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 GSM mobile stations and user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len or malfunctioning mobile stations can be locked and sometimes even local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and Maintenance Center (O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control capabilities for the radio subsystem and the network sub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7" name=""/>
          <p:cNvGrpSpPr/>
          <p:nvPr/>
        </p:nvGrpSpPr>
        <p:grpSpPr>
          <a:xfrm>
            <a:off x="1014480" y="3689280"/>
            <a:ext cx="5937120" cy="343080"/>
            <a:chOff x="1014480" y="3689280"/>
            <a:chExt cx="5937120" cy="343080"/>
          </a:xfrm>
        </p:grpSpPr>
        <p:sp>
          <p:nvSpPr>
            <p:cNvPr id="1638" name=""/>
            <p:cNvSpPr/>
            <p:nvPr/>
          </p:nvSpPr>
          <p:spPr>
            <a:xfrm>
              <a:off x="1014480" y="3695760"/>
              <a:ext cx="5937120" cy="3301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76760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2828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28716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04604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80672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6560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61480" y="368928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247400" y="37036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006640" y="37036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765520" y="370512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25840" y="37036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284360" y="37018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3240" y="37036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03560" y="37018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500160" y="3701880"/>
              <a:ext cx="2782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"/>
          <p:cNvSpPr/>
          <p:nvPr/>
        </p:nvSpPr>
        <p:spPr>
          <a:xfrm>
            <a:off x="692280" y="5497560"/>
            <a:ext cx="677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92280" y="4048200"/>
            <a:ext cx="677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1014480" y="2419200"/>
            <a:ext cx="5937120" cy="343080"/>
            <a:chOff x="1014480" y="2419200"/>
            <a:chExt cx="5937120" cy="343080"/>
          </a:xfrm>
        </p:grpSpPr>
        <p:sp>
          <p:nvSpPr>
            <p:cNvPr id="1657" name=""/>
            <p:cNvSpPr/>
            <p:nvPr/>
          </p:nvSpPr>
          <p:spPr>
            <a:xfrm>
              <a:off x="1014480" y="2425680"/>
              <a:ext cx="5937120" cy="330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07800" y="2427120"/>
              <a:ext cx="27702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igher GSM frame struc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970360" y="241920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7600" y="241920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1" name=""/>
          <p:cNvSpPr/>
          <p:nvPr/>
        </p:nvSpPr>
        <p:spPr>
          <a:xfrm>
            <a:off x="692280" y="2782800"/>
            <a:ext cx="677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1001520" y="4033800"/>
            <a:ext cx="1525320" cy="10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279600" y="4051440"/>
            <a:ext cx="366084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1015920" y="898560"/>
            <a:ext cx="140040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249640" y="1081080"/>
            <a:ext cx="470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6958080" y="2157480"/>
            <a:ext cx="2458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6966000" y="2509560"/>
            <a:ext cx="24444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2957400" y="1905120"/>
            <a:ext cx="48096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3463920" y="1905120"/>
            <a:ext cx="48096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498680" y="1895400"/>
            <a:ext cx="44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735200" y="164772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733400" y="16383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3583080" y="164772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4121280" y="164772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3573360" y="1073160"/>
            <a:ext cx="52236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4121280" y="1079640"/>
            <a:ext cx="5205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645440" y="1073160"/>
            <a:ext cx="16455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935-960 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24 channels (200 kHz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ownl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645440" y="1887480"/>
            <a:ext cx="16455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890-915 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124 channels (200 kHz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pl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rot="18741600">
            <a:off x="704520" y="1743840"/>
            <a:ext cx="950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452280" y="2773440"/>
            <a:ext cx="502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1007640" y="2778120"/>
            <a:ext cx="194940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473280" y="2771640"/>
            <a:ext cx="34927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323440" y="3278160"/>
            <a:ext cx="18327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M TDMA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323440" y="4681440"/>
            <a:ext cx="2770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M time-slot (normal bur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1008000" y="4102200"/>
            <a:ext cx="6906240" cy="326520"/>
            <a:chOff x="1008000" y="4102200"/>
            <a:chExt cx="6906240" cy="326520"/>
          </a:xfrm>
        </p:grpSpPr>
        <p:sp>
          <p:nvSpPr>
            <p:cNvPr id="1686" name=""/>
            <p:cNvSpPr/>
            <p:nvPr/>
          </p:nvSpPr>
          <p:spPr>
            <a:xfrm>
              <a:off x="1008000" y="4264200"/>
              <a:ext cx="5957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913440" y="4102200"/>
              <a:ext cx="100080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615 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657440" y="5641920"/>
            <a:ext cx="5631840" cy="326520"/>
            <a:chOff x="1657440" y="5641920"/>
            <a:chExt cx="5631840" cy="326520"/>
          </a:xfrm>
        </p:grpSpPr>
        <p:sp>
          <p:nvSpPr>
            <p:cNvPr id="1689" name=""/>
            <p:cNvSpPr/>
            <p:nvPr/>
          </p:nvSpPr>
          <p:spPr>
            <a:xfrm>
              <a:off x="1657440" y="5805360"/>
              <a:ext cx="47440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340320" y="5641920"/>
              <a:ext cx="9489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46.5 µ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025640" y="5840280"/>
            <a:ext cx="6673680" cy="326520"/>
            <a:chOff x="1025640" y="5840280"/>
            <a:chExt cx="6673680" cy="326520"/>
          </a:xfrm>
        </p:grpSpPr>
        <p:sp>
          <p:nvSpPr>
            <p:cNvPr id="1692" name=""/>
            <p:cNvSpPr/>
            <p:nvPr/>
          </p:nvSpPr>
          <p:spPr>
            <a:xfrm>
              <a:off x="1025640" y="6004080"/>
              <a:ext cx="59497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919560" y="5840280"/>
              <a:ext cx="77976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77 µ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1647720" y="5151600"/>
            <a:ext cx="4735440" cy="3301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689840" y="5173560"/>
            <a:ext cx="394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223720" y="5173560"/>
            <a:ext cx="910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612960" y="5173560"/>
            <a:ext cx="808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398760" y="5173560"/>
            <a:ext cx="284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988560" y="5029200"/>
            <a:ext cx="642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410000" y="5172120"/>
            <a:ext cx="2844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797000" y="5172120"/>
            <a:ext cx="910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929920" y="5172120"/>
            <a:ext cx="394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322320" y="5027760"/>
            <a:ext cx="642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14776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34980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66696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6248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67820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88168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00800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958080" y="514512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607760" y="5484960"/>
            <a:ext cx="651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358720" y="5484960"/>
            <a:ext cx="764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7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652560" y="5484960"/>
            <a:ext cx="764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6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927320" y="5483160"/>
            <a:ext cx="76464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7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376440" y="5483160"/>
            <a:ext cx="278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387680" y="5481720"/>
            <a:ext cx="278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27480" y="5481720"/>
            <a:ext cx="2782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- TDMA/F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2133720" y="5257800"/>
            <a:ext cx="685800" cy="30492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0"/>
                </a:moveTo>
                <a:lnTo>
                  <a:pt x="0" y="192"/>
                </a:lnTo>
                <a:lnTo>
                  <a:pt x="432" y="192"/>
                </a:lnTo>
                <a:lnTo>
                  <a:pt x="432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447920" y="4267080"/>
            <a:ext cx="4647960" cy="609840"/>
          </a:xfrm>
          <a:custGeom>
            <a:avLst/>
            <a:gdLst/>
            <a:ahLst/>
            <a:rect l="l" t="t" r="r" b="b"/>
            <a:pathLst>
              <a:path w="2928" h="384">
                <a:moveTo>
                  <a:pt x="2592" y="0"/>
                </a:moveTo>
                <a:lnTo>
                  <a:pt x="2928" y="0"/>
                </a:lnTo>
                <a:lnTo>
                  <a:pt x="2832" y="384"/>
                </a:lnTo>
                <a:lnTo>
                  <a:pt x="0" y="384"/>
                </a:lnTo>
                <a:lnTo>
                  <a:pt x="2592" y="0"/>
                </a:ln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447920" y="3733920"/>
            <a:ext cx="4495680" cy="1143000"/>
          </a:xfrm>
          <a:custGeom>
            <a:avLst/>
            <a:gdLst/>
            <a:ahLst/>
            <a:rect l="l" t="t" r="r" b="b"/>
            <a:pathLst>
              <a:path w="2832" h="720">
                <a:moveTo>
                  <a:pt x="192" y="0"/>
                </a:moveTo>
                <a:lnTo>
                  <a:pt x="0" y="720"/>
                </a:lnTo>
                <a:lnTo>
                  <a:pt x="2832" y="720"/>
                </a:lnTo>
                <a:lnTo>
                  <a:pt x="624" y="0"/>
                </a:lnTo>
                <a:lnTo>
                  <a:pt x="192" y="0"/>
                </a:ln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133720" y="2819520"/>
            <a:ext cx="4495680" cy="1066680"/>
          </a:xfrm>
          <a:custGeom>
            <a:avLst/>
            <a:gdLst/>
            <a:ahLst/>
            <a:rect l="l" t="t" r="r" b="b"/>
            <a:pathLst>
              <a:path w="2832" h="672">
                <a:moveTo>
                  <a:pt x="0" y="672"/>
                </a:moveTo>
                <a:lnTo>
                  <a:pt x="1632" y="0"/>
                </a:lnTo>
                <a:lnTo>
                  <a:pt x="2064" y="0"/>
                </a:lnTo>
                <a:lnTo>
                  <a:pt x="2832" y="672"/>
                </a:lnTo>
                <a:lnTo>
                  <a:pt x="48" y="672"/>
                </a:lnTo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66680" y="2362320"/>
            <a:ext cx="4496040" cy="990360"/>
          </a:xfrm>
          <a:custGeom>
            <a:avLst/>
            <a:gdLst/>
            <a:ahLst/>
            <a:rect l="l" t="t" r="r" b="b"/>
            <a:pathLst>
              <a:path w="2832" h="624">
                <a:moveTo>
                  <a:pt x="0" y="624"/>
                </a:moveTo>
                <a:lnTo>
                  <a:pt x="672" y="0"/>
                </a:lnTo>
                <a:lnTo>
                  <a:pt x="1008" y="0"/>
                </a:lnTo>
                <a:lnTo>
                  <a:pt x="2832" y="624"/>
                </a:lnTo>
                <a:lnTo>
                  <a:pt x="48" y="624"/>
                </a:lnTo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600200" y="1371600"/>
            <a:ext cx="4495680" cy="609480"/>
          </a:xfrm>
          <a:custGeom>
            <a:avLst/>
            <a:gdLst/>
            <a:ahLst/>
            <a:rect l="l" t="t" r="r" b="b"/>
            <a:pathLst>
              <a:path w="2832" h="384">
                <a:moveTo>
                  <a:pt x="0" y="384"/>
                </a:moveTo>
                <a:lnTo>
                  <a:pt x="672" y="0"/>
                </a:lnTo>
                <a:lnTo>
                  <a:pt x="1008" y="0"/>
                </a:lnTo>
                <a:lnTo>
                  <a:pt x="2832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hierarchy of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600200" y="990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133720" y="990720"/>
            <a:ext cx="5331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666880" y="990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495680" y="990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029200" y="990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562720" y="990720"/>
            <a:ext cx="5331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200400" y="990720"/>
            <a:ext cx="12952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279960" y="6858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per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600200" y="1981080"/>
            <a:ext cx="53352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133720" y="1981080"/>
            <a:ext cx="53316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666880" y="1981080"/>
            <a:ext cx="53352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495680" y="1981080"/>
            <a:ext cx="53352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029200" y="1981080"/>
            <a:ext cx="53352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562720" y="1981080"/>
            <a:ext cx="53316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200400" y="1981080"/>
            <a:ext cx="12952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600200" y="24382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286000" y="24382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724280" y="24382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410080" y="24382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2971800" y="2438280"/>
            <a:ext cx="17524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279960" y="16765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066680" y="33526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752480" y="33526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191120" y="33526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876920" y="3352680"/>
            <a:ext cx="68580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438280" y="3352680"/>
            <a:ext cx="17528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133720" y="3886200"/>
            <a:ext cx="5331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666880" y="388620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200400" y="388620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029200" y="388620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562720" y="3886200"/>
            <a:ext cx="5331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095880" y="388620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733920" y="3886200"/>
            <a:ext cx="12952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447920" y="4876920"/>
            <a:ext cx="6858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133720" y="4876920"/>
            <a:ext cx="6858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72000" y="4876920"/>
            <a:ext cx="6858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257800" y="4876920"/>
            <a:ext cx="6858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819520" y="4876920"/>
            <a:ext cx="17524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12200" y="304812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03280" y="45720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09680" y="5562720"/>
            <a:ext cx="5335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133720" y="5562720"/>
            <a:ext cx="7596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743200" y="5562720"/>
            <a:ext cx="7632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210760" y="52578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874200" y="556272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77 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763320" y="48769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615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849000" y="33526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707880" y="38862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5.4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904440" y="22860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12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099120" y="990720"/>
            <a:ext cx="185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h 28 min 53.76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/>
          <p:nvPr/>
        </p:nvSpPr>
        <p:spPr>
          <a:xfrm>
            <a:off x="4572000" y="2819520"/>
            <a:ext cx="1676520" cy="838080"/>
          </a:xfrm>
          <a:custGeom>
            <a:avLst/>
            <a:gdLst/>
            <a:ahLst/>
            <a:rect l="l" t="t" r="r" b="b"/>
            <a:pathLst>
              <a:path w="1056" h="528">
                <a:moveTo>
                  <a:pt x="1056" y="0"/>
                </a:moveTo>
                <a:lnTo>
                  <a:pt x="0" y="0"/>
                </a:lnTo>
                <a:lnTo>
                  <a:pt x="528" y="528"/>
                </a:lnTo>
                <a:lnTo>
                  <a:pt x="528" y="288"/>
                </a:lnTo>
                <a:lnTo>
                  <a:pt x="1056" y="0"/>
                </a:lnTo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protocol layers for sign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14300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14300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143000" y="289548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70572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143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143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438280" y="365760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24382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27672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276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438280" y="320040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H="1">
            <a:off x="3276720" y="3200400"/>
            <a:ext cx="83808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438280" y="3200400"/>
            <a:ext cx="1676520" cy="45720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2" name=""/>
          <p:cNvCxnSpPr>
            <a:stCxn id="1784" idx="2"/>
            <a:endCxn id="1786" idx="2"/>
          </p:cNvCxnSpPr>
          <p:nvPr/>
        </p:nvCxnSpPr>
        <p:spPr>
          <a:xfrm flipH="1" rot="16200000">
            <a:off x="2208240" y="3772440"/>
            <a:ext cx="2160" cy="12963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93" name=""/>
          <p:cNvSpPr/>
          <p:nvPr/>
        </p:nvSpPr>
        <p:spPr>
          <a:xfrm>
            <a:off x="670572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572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572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6" name=""/>
          <p:cNvCxnSpPr>
            <a:stCxn id="1788" idx="2"/>
            <a:endCxn id="1795" idx="2"/>
          </p:cNvCxnSpPr>
          <p:nvPr/>
        </p:nvCxnSpPr>
        <p:spPr>
          <a:xfrm flipH="1" rot="16200000">
            <a:off x="434268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97" name=""/>
          <p:cNvSpPr/>
          <p:nvPr/>
        </p:nvSpPr>
        <p:spPr>
          <a:xfrm>
            <a:off x="4572000" y="2819520"/>
            <a:ext cx="838080" cy="8380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811680" y="480060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/64 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2209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434340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991880" y="13716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130280" y="1371600"/>
            <a:ext cx="46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32592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410080" y="3276720"/>
            <a:ext cx="83844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4100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647712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705720" y="3276720"/>
            <a:ext cx="83808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705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9" name=""/>
          <p:cNvCxnSpPr>
            <a:stCxn id="1805" idx="2"/>
            <a:endCxn id="1808" idx="2"/>
          </p:cNvCxnSpPr>
          <p:nvPr/>
        </p:nvCxnSpPr>
        <p:spPr>
          <a:xfrm flipH="1" rot="16200000">
            <a:off x="647640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10" name=""/>
          <p:cNvSpPr/>
          <p:nvPr/>
        </p:nvSpPr>
        <p:spPr>
          <a:xfrm>
            <a:off x="6022440" y="48006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kbit/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48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357200" y="16606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04956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6240" y="1676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783120" y="1676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5409360" y="281952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70572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18652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597400" y="4771440"/>
            <a:ext cx="1220040" cy="850680"/>
            <a:chOff x="2597400" y="4771440"/>
            <a:chExt cx="1220040" cy="850680"/>
          </a:xfrm>
        </p:grpSpPr>
        <p:sp>
          <p:nvSpPr>
            <p:cNvPr id="411" name=""/>
            <p:cNvSpPr/>
            <p:nvPr/>
          </p:nvSpPr>
          <p:spPr>
            <a:xfrm>
              <a:off x="2959920" y="4771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9480" y="56221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438720" y="4776120"/>
              <a:ext cx="378720" cy="841320"/>
              <a:chOff x="3438720" y="4776120"/>
              <a:chExt cx="378720" cy="841320"/>
            </a:xfrm>
          </p:grpSpPr>
          <p:sp>
            <p:nvSpPr>
              <p:cNvPr id="414" name=""/>
              <p:cNvSpPr/>
              <p:nvPr/>
            </p:nvSpPr>
            <p:spPr>
              <a:xfrm>
                <a:off x="3438720" y="4776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439440" y="519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2597400" y="4780440"/>
              <a:ext cx="378720" cy="841320"/>
              <a:chOff x="2597400" y="4780440"/>
              <a:chExt cx="378720" cy="84132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2598120" y="4780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>
                <a:off x="2597400" y="5202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3435480" y="4339800"/>
            <a:ext cx="1220040" cy="850320"/>
            <a:chOff x="3435480" y="4339800"/>
            <a:chExt cx="1220040" cy="850320"/>
          </a:xfrm>
        </p:grpSpPr>
        <p:sp>
          <p:nvSpPr>
            <p:cNvPr id="420" name=""/>
            <p:cNvSpPr/>
            <p:nvPr/>
          </p:nvSpPr>
          <p:spPr>
            <a:xfrm>
              <a:off x="3798000" y="43398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87560" y="51901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277160" y="4344480"/>
              <a:ext cx="378360" cy="840240"/>
              <a:chOff x="4277160" y="4344480"/>
              <a:chExt cx="378360" cy="840240"/>
            </a:xfrm>
          </p:grpSpPr>
          <p:sp>
            <p:nvSpPr>
              <p:cNvPr id="423" name=""/>
              <p:cNvSpPr/>
              <p:nvPr/>
            </p:nvSpPr>
            <p:spPr>
              <a:xfrm>
                <a:off x="4277160" y="4344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277880" y="4765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435480" y="4348800"/>
              <a:ext cx="378360" cy="840240"/>
              <a:chOff x="3435480" y="4348800"/>
              <a:chExt cx="378360" cy="84024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3436200" y="4348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 flipV="1">
                <a:off x="3435480" y="4769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2592720" y="3923640"/>
            <a:ext cx="1219680" cy="850680"/>
            <a:chOff x="2592720" y="3923640"/>
            <a:chExt cx="1219680" cy="850680"/>
          </a:xfrm>
        </p:grpSpPr>
        <p:sp>
          <p:nvSpPr>
            <p:cNvPr id="429" name=""/>
            <p:cNvSpPr/>
            <p:nvPr/>
          </p:nvSpPr>
          <p:spPr>
            <a:xfrm>
              <a:off x="2955240" y="3923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44440" y="4774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433680" y="3928320"/>
              <a:ext cx="378720" cy="841320"/>
              <a:chOff x="3433680" y="3928320"/>
              <a:chExt cx="378720" cy="841320"/>
            </a:xfrm>
          </p:grpSpPr>
          <p:sp>
            <p:nvSpPr>
              <p:cNvPr id="432" name=""/>
              <p:cNvSpPr/>
              <p:nvPr/>
            </p:nvSpPr>
            <p:spPr>
              <a:xfrm>
                <a:off x="3433680" y="392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3434400" y="434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592720" y="3932640"/>
              <a:ext cx="378720" cy="841320"/>
              <a:chOff x="2592720" y="3932640"/>
              <a:chExt cx="378720" cy="841320"/>
            </a:xfrm>
          </p:grpSpPr>
          <p:sp>
            <p:nvSpPr>
              <p:cNvPr id="435" name=""/>
              <p:cNvSpPr/>
              <p:nvPr/>
            </p:nvSpPr>
            <p:spPr>
              <a:xfrm flipH="1">
                <a:off x="2593440" y="393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flipV="1">
                <a:off x="2592720" y="435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3430800" y="3492000"/>
            <a:ext cx="1220040" cy="850320"/>
            <a:chOff x="3430800" y="3492000"/>
            <a:chExt cx="1220040" cy="850320"/>
          </a:xfrm>
        </p:grpSpPr>
        <p:sp>
          <p:nvSpPr>
            <p:cNvPr id="438" name=""/>
            <p:cNvSpPr/>
            <p:nvPr/>
          </p:nvSpPr>
          <p:spPr>
            <a:xfrm>
              <a:off x="3793320" y="3492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82880" y="43423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4272480" y="3496680"/>
              <a:ext cx="378360" cy="840240"/>
              <a:chOff x="4272480" y="3496680"/>
              <a:chExt cx="378360" cy="840240"/>
            </a:xfrm>
          </p:grpSpPr>
          <p:sp>
            <p:nvSpPr>
              <p:cNvPr id="441" name=""/>
              <p:cNvSpPr/>
              <p:nvPr/>
            </p:nvSpPr>
            <p:spPr>
              <a:xfrm>
                <a:off x="4272480" y="3496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273200" y="3917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430800" y="3501000"/>
              <a:ext cx="378360" cy="840240"/>
              <a:chOff x="3430800" y="3501000"/>
              <a:chExt cx="378360" cy="840240"/>
            </a:xfrm>
          </p:grpSpPr>
          <p:sp>
            <p:nvSpPr>
              <p:cNvPr id="444" name=""/>
              <p:cNvSpPr/>
              <p:nvPr/>
            </p:nvSpPr>
            <p:spPr>
              <a:xfrm flipH="1">
                <a:off x="3431520" y="3501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3430800" y="3921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911520" y="4790520"/>
            <a:ext cx="1220040" cy="850680"/>
            <a:chOff x="911520" y="4790520"/>
            <a:chExt cx="1220040" cy="850680"/>
          </a:xfrm>
        </p:grpSpPr>
        <p:sp>
          <p:nvSpPr>
            <p:cNvPr id="447" name=""/>
            <p:cNvSpPr/>
            <p:nvPr/>
          </p:nvSpPr>
          <p:spPr>
            <a:xfrm>
              <a:off x="1274040" y="4790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63600" y="5641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752840" y="4795200"/>
              <a:ext cx="378720" cy="841320"/>
              <a:chOff x="1752840" y="4795200"/>
              <a:chExt cx="378720" cy="841320"/>
            </a:xfrm>
          </p:grpSpPr>
          <p:sp>
            <p:nvSpPr>
              <p:cNvPr id="450" name=""/>
              <p:cNvSpPr/>
              <p:nvPr/>
            </p:nvSpPr>
            <p:spPr>
              <a:xfrm>
                <a:off x="1752840" y="4795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753560" y="521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911520" y="4799520"/>
              <a:ext cx="378720" cy="841320"/>
              <a:chOff x="911520" y="4799520"/>
              <a:chExt cx="378720" cy="841320"/>
            </a:xfrm>
          </p:grpSpPr>
          <p:sp>
            <p:nvSpPr>
              <p:cNvPr id="453" name=""/>
              <p:cNvSpPr/>
              <p:nvPr/>
            </p:nvSpPr>
            <p:spPr>
              <a:xfrm flipH="1">
                <a:off x="912240" y="4799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911520" y="522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1749600" y="4358520"/>
            <a:ext cx="1220040" cy="850680"/>
            <a:chOff x="1749600" y="4358520"/>
            <a:chExt cx="1220040" cy="850680"/>
          </a:xfrm>
        </p:grpSpPr>
        <p:sp>
          <p:nvSpPr>
            <p:cNvPr id="456" name=""/>
            <p:cNvSpPr/>
            <p:nvPr/>
          </p:nvSpPr>
          <p:spPr>
            <a:xfrm>
              <a:off x="2112120" y="4358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01680" y="5209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2590920" y="4363200"/>
              <a:ext cx="378720" cy="841320"/>
              <a:chOff x="2590920" y="4363200"/>
              <a:chExt cx="378720" cy="841320"/>
            </a:xfrm>
          </p:grpSpPr>
          <p:sp>
            <p:nvSpPr>
              <p:cNvPr id="459" name=""/>
              <p:cNvSpPr/>
              <p:nvPr/>
            </p:nvSpPr>
            <p:spPr>
              <a:xfrm>
                <a:off x="2590920" y="4363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591640" y="4784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749600" y="4367520"/>
              <a:ext cx="378720" cy="841320"/>
              <a:chOff x="1749600" y="4367520"/>
              <a:chExt cx="378720" cy="84132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1750320" y="4367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1749600" y="4789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906840" y="3942720"/>
            <a:ext cx="1219680" cy="850680"/>
            <a:chOff x="906840" y="3942720"/>
            <a:chExt cx="1219680" cy="850680"/>
          </a:xfrm>
        </p:grpSpPr>
        <p:sp>
          <p:nvSpPr>
            <p:cNvPr id="465" name=""/>
            <p:cNvSpPr/>
            <p:nvPr/>
          </p:nvSpPr>
          <p:spPr>
            <a:xfrm>
              <a:off x="1269360" y="3942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58560" y="4793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747800" y="3947400"/>
              <a:ext cx="378720" cy="841320"/>
              <a:chOff x="1747800" y="3947400"/>
              <a:chExt cx="378720" cy="841320"/>
            </a:xfrm>
          </p:grpSpPr>
          <p:sp>
            <p:nvSpPr>
              <p:cNvPr id="468" name=""/>
              <p:cNvSpPr/>
              <p:nvPr/>
            </p:nvSpPr>
            <p:spPr>
              <a:xfrm>
                <a:off x="1747800" y="3947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1748520" y="436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906840" y="3951720"/>
              <a:ext cx="378720" cy="841320"/>
              <a:chOff x="906840" y="3951720"/>
              <a:chExt cx="378720" cy="84132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907560" y="3951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906840" y="437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1744920" y="3511080"/>
            <a:ext cx="1220040" cy="850320"/>
            <a:chOff x="1744920" y="3511080"/>
            <a:chExt cx="1220040" cy="850320"/>
          </a:xfrm>
        </p:grpSpPr>
        <p:sp>
          <p:nvSpPr>
            <p:cNvPr id="474" name=""/>
            <p:cNvSpPr/>
            <p:nvPr/>
          </p:nvSpPr>
          <p:spPr>
            <a:xfrm>
              <a:off x="2107440" y="3511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97000" y="43614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2586600" y="3515760"/>
              <a:ext cx="378360" cy="840240"/>
              <a:chOff x="2586600" y="3515760"/>
              <a:chExt cx="378360" cy="840240"/>
            </a:xfrm>
          </p:grpSpPr>
          <p:sp>
            <p:nvSpPr>
              <p:cNvPr id="477" name=""/>
              <p:cNvSpPr/>
              <p:nvPr/>
            </p:nvSpPr>
            <p:spPr>
              <a:xfrm>
                <a:off x="2586600" y="3515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2587320" y="3936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1744920" y="3520080"/>
              <a:ext cx="378360" cy="840240"/>
              <a:chOff x="1744920" y="3520080"/>
              <a:chExt cx="378360" cy="84024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1745640" y="3520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1744920" y="3940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2592720" y="3080880"/>
            <a:ext cx="1219680" cy="850320"/>
            <a:chOff x="2592720" y="3080880"/>
            <a:chExt cx="1219680" cy="850320"/>
          </a:xfrm>
        </p:grpSpPr>
        <p:sp>
          <p:nvSpPr>
            <p:cNvPr id="483" name=""/>
            <p:cNvSpPr/>
            <p:nvPr/>
          </p:nvSpPr>
          <p:spPr>
            <a:xfrm>
              <a:off x="2955240" y="3080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44440" y="3931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434040" y="3085560"/>
              <a:ext cx="378360" cy="840240"/>
              <a:chOff x="3434040" y="3085560"/>
              <a:chExt cx="378360" cy="840240"/>
            </a:xfrm>
          </p:grpSpPr>
          <p:sp>
            <p:nvSpPr>
              <p:cNvPr id="486" name=""/>
              <p:cNvSpPr/>
              <p:nvPr/>
            </p:nvSpPr>
            <p:spPr>
              <a:xfrm>
                <a:off x="3434040" y="3085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3434760" y="3506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592720" y="3089880"/>
              <a:ext cx="378360" cy="840240"/>
              <a:chOff x="2592720" y="3089880"/>
              <a:chExt cx="378360" cy="84024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2593440" y="3089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2592720" y="3510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430800" y="2648880"/>
            <a:ext cx="1220040" cy="850680"/>
            <a:chOff x="3430800" y="2648880"/>
            <a:chExt cx="1220040" cy="850680"/>
          </a:xfrm>
        </p:grpSpPr>
        <p:sp>
          <p:nvSpPr>
            <p:cNvPr id="492" name=""/>
            <p:cNvSpPr/>
            <p:nvPr/>
          </p:nvSpPr>
          <p:spPr>
            <a:xfrm>
              <a:off x="3793320" y="2648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82880" y="34995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272120" y="2653560"/>
              <a:ext cx="378720" cy="841320"/>
              <a:chOff x="4272120" y="2653560"/>
              <a:chExt cx="378720" cy="841320"/>
            </a:xfrm>
          </p:grpSpPr>
          <p:sp>
            <p:nvSpPr>
              <p:cNvPr id="495" name=""/>
              <p:cNvSpPr/>
              <p:nvPr/>
            </p:nvSpPr>
            <p:spPr>
              <a:xfrm>
                <a:off x="4272120" y="2653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4272840" y="3075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3430800" y="2657880"/>
              <a:ext cx="378720" cy="841320"/>
              <a:chOff x="3430800" y="2657880"/>
              <a:chExt cx="378720" cy="84132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431520" y="2657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3430800" y="3079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2588040" y="2233080"/>
            <a:ext cx="1219680" cy="850680"/>
            <a:chOff x="2588040" y="2233080"/>
            <a:chExt cx="1219680" cy="850680"/>
          </a:xfrm>
        </p:grpSpPr>
        <p:sp>
          <p:nvSpPr>
            <p:cNvPr id="501" name=""/>
            <p:cNvSpPr/>
            <p:nvPr/>
          </p:nvSpPr>
          <p:spPr>
            <a:xfrm>
              <a:off x="2950560" y="2233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39760" y="3083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429000" y="2237760"/>
              <a:ext cx="378720" cy="841320"/>
              <a:chOff x="3429000" y="2237760"/>
              <a:chExt cx="378720" cy="841320"/>
            </a:xfrm>
          </p:grpSpPr>
          <p:sp>
            <p:nvSpPr>
              <p:cNvPr id="504" name=""/>
              <p:cNvSpPr/>
              <p:nvPr/>
            </p:nvSpPr>
            <p:spPr>
              <a:xfrm>
                <a:off x="3429000" y="223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3429720" y="265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588040" y="2242080"/>
              <a:ext cx="378720" cy="841320"/>
              <a:chOff x="2588040" y="2242080"/>
              <a:chExt cx="378720" cy="841320"/>
            </a:xfrm>
          </p:grpSpPr>
          <p:sp>
            <p:nvSpPr>
              <p:cNvPr id="507" name=""/>
              <p:cNvSpPr/>
              <p:nvPr/>
            </p:nvSpPr>
            <p:spPr>
              <a:xfrm flipH="1">
                <a:off x="2588760" y="2242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2588040" y="266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3426120" y="1801080"/>
            <a:ext cx="1220040" cy="850680"/>
            <a:chOff x="3426120" y="1801080"/>
            <a:chExt cx="1220040" cy="850680"/>
          </a:xfrm>
        </p:grpSpPr>
        <p:sp>
          <p:nvSpPr>
            <p:cNvPr id="510" name=""/>
            <p:cNvSpPr/>
            <p:nvPr/>
          </p:nvSpPr>
          <p:spPr>
            <a:xfrm>
              <a:off x="3788640" y="1801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78200" y="26517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267440" y="1805760"/>
              <a:ext cx="378720" cy="841320"/>
              <a:chOff x="4267440" y="1805760"/>
              <a:chExt cx="378720" cy="841320"/>
            </a:xfrm>
          </p:grpSpPr>
          <p:sp>
            <p:nvSpPr>
              <p:cNvPr id="513" name=""/>
              <p:cNvSpPr/>
              <p:nvPr/>
            </p:nvSpPr>
            <p:spPr>
              <a:xfrm>
                <a:off x="4267440" y="180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4268160" y="222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426120" y="1810080"/>
              <a:ext cx="378720" cy="841320"/>
              <a:chOff x="3426120" y="1810080"/>
              <a:chExt cx="378720" cy="841320"/>
            </a:xfrm>
          </p:grpSpPr>
          <p:sp>
            <p:nvSpPr>
              <p:cNvPr id="516" name=""/>
              <p:cNvSpPr/>
              <p:nvPr/>
            </p:nvSpPr>
            <p:spPr>
              <a:xfrm flipH="1">
                <a:off x="3426840" y="1810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3426120" y="2231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906840" y="3099960"/>
            <a:ext cx="1219680" cy="850320"/>
            <a:chOff x="906840" y="3099960"/>
            <a:chExt cx="1219680" cy="850320"/>
          </a:xfrm>
        </p:grpSpPr>
        <p:sp>
          <p:nvSpPr>
            <p:cNvPr id="519" name=""/>
            <p:cNvSpPr/>
            <p:nvPr/>
          </p:nvSpPr>
          <p:spPr>
            <a:xfrm>
              <a:off x="1269360" y="3099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58560" y="3950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1748160" y="3104640"/>
              <a:ext cx="378360" cy="840240"/>
              <a:chOff x="1748160" y="3104640"/>
              <a:chExt cx="378360" cy="840240"/>
            </a:xfrm>
          </p:grpSpPr>
          <p:sp>
            <p:nvSpPr>
              <p:cNvPr id="522" name=""/>
              <p:cNvSpPr/>
              <p:nvPr/>
            </p:nvSpPr>
            <p:spPr>
              <a:xfrm>
                <a:off x="1748160" y="3104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748880" y="3525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906840" y="3108960"/>
              <a:ext cx="378360" cy="840240"/>
              <a:chOff x="906840" y="3108960"/>
              <a:chExt cx="378360" cy="840240"/>
            </a:xfrm>
          </p:grpSpPr>
          <p:sp>
            <p:nvSpPr>
              <p:cNvPr id="525" name=""/>
              <p:cNvSpPr/>
              <p:nvPr/>
            </p:nvSpPr>
            <p:spPr>
              <a:xfrm flipH="1">
                <a:off x="907560" y="3108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906840" y="3529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1744920" y="2667960"/>
            <a:ext cx="1220040" cy="850680"/>
            <a:chOff x="1744920" y="2667960"/>
            <a:chExt cx="1220040" cy="850680"/>
          </a:xfrm>
        </p:grpSpPr>
        <p:sp>
          <p:nvSpPr>
            <p:cNvPr id="528" name=""/>
            <p:cNvSpPr/>
            <p:nvPr/>
          </p:nvSpPr>
          <p:spPr>
            <a:xfrm>
              <a:off x="2107440" y="2667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97000" y="35186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2586240" y="2672640"/>
              <a:ext cx="378720" cy="841320"/>
              <a:chOff x="2586240" y="2672640"/>
              <a:chExt cx="378720" cy="841320"/>
            </a:xfrm>
          </p:grpSpPr>
          <p:sp>
            <p:nvSpPr>
              <p:cNvPr id="531" name=""/>
              <p:cNvSpPr/>
              <p:nvPr/>
            </p:nvSpPr>
            <p:spPr>
              <a:xfrm>
                <a:off x="2586240" y="267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2586960" y="309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744920" y="2676960"/>
              <a:ext cx="378720" cy="841320"/>
              <a:chOff x="1744920" y="2676960"/>
              <a:chExt cx="378720" cy="841320"/>
            </a:xfrm>
          </p:grpSpPr>
          <p:sp>
            <p:nvSpPr>
              <p:cNvPr id="534" name=""/>
              <p:cNvSpPr/>
              <p:nvPr/>
            </p:nvSpPr>
            <p:spPr>
              <a:xfrm flipH="1">
                <a:off x="1745640" y="2676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1744920" y="3098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6" name=""/>
          <p:cNvGrpSpPr/>
          <p:nvPr/>
        </p:nvGrpSpPr>
        <p:grpSpPr>
          <a:xfrm>
            <a:off x="901800" y="2252160"/>
            <a:ext cx="1220040" cy="850320"/>
            <a:chOff x="901800" y="2252160"/>
            <a:chExt cx="1220040" cy="850320"/>
          </a:xfrm>
        </p:grpSpPr>
        <p:sp>
          <p:nvSpPr>
            <p:cNvPr id="537" name=""/>
            <p:cNvSpPr/>
            <p:nvPr/>
          </p:nvSpPr>
          <p:spPr>
            <a:xfrm>
              <a:off x="1264320" y="2252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53880" y="31024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1743480" y="2256840"/>
              <a:ext cx="378360" cy="840240"/>
              <a:chOff x="1743480" y="2256840"/>
              <a:chExt cx="378360" cy="840240"/>
            </a:xfrm>
          </p:grpSpPr>
          <p:sp>
            <p:nvSpPr>
              <p:cNvPr id="540" name=""/>
              <p:cNvSpPr/>
              <p:nvPr/>
            </p:nvSpPr>
            <p:spPr>
              <a:xfrm>
                <a:off x="1743480" y="2256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1744200" y="2677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901800" y="2261160"/>
              <a:ext cx="378360" cy="840240"/>
              <a:chOff x="901800" y="2261160"/>
              <a:chExt cx="378360" cy="840240"/>
            </a:xfrm>
          </p:grpSpPr>
          <p:sp>
            <p:nvSpPr>
              <p:cNvPr id="543" name=""/>
              <p:cNvSpPr/>
              <p:nvPr/>
            </p:nvSpPr>
            <p:spPr>
              <a:xfrm flipH="1">
                <a:off x="902520" y="2261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901800" y="2682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1740240" y="1820160"/>
            <a:ext cx="1219680" cy="850680"/>
            <a:chOff x="1740240" y="1820160"/>
            <a:chExt cx="1219680" cy="850680"/>
          </a:xfrm>
        </p:grpSpPr>
        <p:sp>
          <p:nvSpPr>
            <p:cNvPr id="546" name=""/>
            <p:cNvSpPr/>
            <p:nvPr/>
          </p:nvSpPr>
          <p:spPr>
            <a:xfrm>
              <a:off x="2102760" y="1820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91960" y="2670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581200" y="1824840"/>
              <a:ext cx="378720" cy="841320"/>
              <a:chOff x="2581200" y="1824840"/>
              <a:chExt cx="378720" cy="841320"/>
            </a:xfrm>
          </p:grpSpPr>
          <p:sp>
            <p:nvSpPr>
              <p:cNvPr id="549" name=""/>
              <p:cNvSpPr/>
              <p:nvPr/>
            </p:nvSpPr>
            <p:spPr>
              <a:xfrm>
                <a:off x="2581200" y="1824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2581920" y="224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1740240" y="1829160"/>
              <a:ext cx="378720" cy="841320"/>
              <a:chOff x="1740240" y="1829160"/>
              <a:chExt cx="378720" cy="841320"/>
            </a:xfrm>
          </p:grpSpPr>
          <p:sp>
            <p:nvSpPr>
              <p:cNvPr id="552" name=""/>
              <p:cNvSpPr/>
              <p:nvPr/>
            </p:nvSpPr>
            <p:spPr>
              <a:xfrm flipH="1">
                <a:off x="1740960" y="1829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flipV="1">
                <a:off x="1740240" y="2250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5964480" y="4737960"/>
            <a:ext cx="1220040" cy="850680"/>
            <a:chOff x="5964480" y="4737960"/>
            <a:chExt cx="1220040" cy="850680"/>
          </a:xfrm>
        </p:grpSpPr>
        <p:sp>
          <p:nvSpPr>
            <p:cNvPr id="555" name=""/>
            <p:cNvSpPr/>
            <p:nvPr/>
          </p:nvSpPr>
          <p:spPr>
            <a:xfrm>
              <a:off x="6327000" y="4737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16560" y="55886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6805800" y="4742640"/>
              <a:ext cx="378720" cy="841320"/>
              <a:chOff x="6805800" y="4742640"/>
              <a:chExt cx="378720" cy="841320"/>
            </a:xfrm>
          </p:grpSpPr>
          <p:sp>
            <p:nvSpPr>
              <p:cNvPr id="558" name=""/>
              <p:cNvSpPr/>
              <p:nvPr/>
            </p:nvSpPr>
            <p:spPr>
              <a:xfrm>
                <a:off x="6805800" y="474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806520" y="516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964480" y="4746960"/>
              <a:ext cx="378720" cy="841320"/>
              <a:chOff x="5964480" y="4746960"/>
              <a:chExt cx="378720" cy="841320"/>
            </a:xfrm>
          </p:grpSpPr>
          <p:sp>
            <p:nvSpPr>
              <p:cNvPr id="561" name=""/>
              <p:cNvSpPr/>
              <p:nvPr/>
            </p:nvSpPr>
            <p:spPr>
              <a:xfrm flipH="1">
                <a:off x="5965200" y="4746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5964480" y="5168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6802560" y="4306320"/>
            <a:ext cx="1220040" cy="850680"/>
            <a:chOff x="6802560" y="4306320"/>
            <a:chExt cx="1220040" cy="850680"/>
          </a:xfrm>
        </p:grpSpPr>
        <p:sp>
          <p:nvSpPr>
            <p:cNvPr id="564" name=""/>
            <p:cNvSpPr/>
            <p:nvPr/>
          </p:nvSpPr>
          <p:spPr>
            <a:xfrm>
              <a:off x="7165080" y="4306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54640" y="5157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7643880" y="4311000"/>
              <a:ext cx="378720" cy="841320"/>
              <a:chOff x="7643880" y="4311000"/>
              <a:chExt cx="378720" cy="841320"/>
            </a:xfrm>
          </p:grpSpPr>
          <p:sp>
            <p:nvSpPr>
              <p:cNvPr id="567" name=""/>
              <p:cNvSpPr/>
              <p:nvPr/>
            </p:nvSpPr>
            <p:spPr>
              <a:xfrm>
                <a:off x="7643880" y="4311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7644600" y="4732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802560" y="4315320"/>
              <a:ext cx="378720" cy="841320"/>
              <a:chOff x="6802560" y="4315320"/>
              <a:chExt cx="378720" cy="841320"/>
            </a:xfrm>
          </p:grpSpPr>
          <p:sp>
            <p:nvSpPr>
              <p:cNvPr id="570" name=""/>
              <p:cNvSpPr/>
              <p:nvPr/>
            </p:nvSpPr>
            <p:spPr>
              <a:xfrm flipH="1">
                <a:off x="6803280" y="4315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 flipV="1">
                <a:off x="6802560" y="4736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5959800" y="3890520"/>
            <a:ext cx="1219680" cy="850320"/>
            <a:chOff x="5959800" y="3890520"/>
            <a:chExt cx="1219680" cy="850320"/>
          </a:xfrm>
        </p:grpSpPr>
        <p:sp>
          <p:nvSpPr>
            <p:cNvPr id="573" name=""/>
            <p:cNvSpPr/>
            <p:nvPr/>
          </p:nvSpPr>
          <p:spPr>
            <a:xfrm>
              <a:off x="6322320" y="3890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11520" y="4740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801120" y="3895200"/>
              <a:ext cx="378360" cy="840240"/>
              <a:chOff x="6801120" y="3895200"/>
              <a:chExt cx="378360" cy="840240"/>
            </a:xfrm>
          </p:grpSpPr>
          <p:sp>
            <p:nvSpPr>
              <p:cNvPr id="576" name=""/>
              <p:cNvSpPr/>
              <p:nvPr/>
            </p:nvSpPr>
            <p:spPr>
              <a:xfrm>
                <a:off x="6801120" y="3895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6801840" y="4316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959800" y="3899520"/>
              <a:ext cx="378360" cy="840240"/>
              <a:chOff x="5959800" y="3899520"/>
              <a:chExt cx="378360" cy="840240"/>
            </a:xfrm>
          </p:grpSpPr>
          <p:sp>
            <p:nvSpPr>
              <p:cNvPr id="579" name=""/>
              <p:cNvSpPr/>
              <p:nvPr/>
            </p:nvSpPr>
            <p:spPr>
              <a:xfrm flipH="1">
                <a:off x="5960520" y="3899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>
                <a:off x="5959800" y="43203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6797880" y="3458520"/>
            <a:ext cx="1220040" cy="850680"/>
            <a:chOff x="6797880" y="3458520"/>
            <a:chExt cx="1220040" cy="850680"/>
          </a:xfrm>
        </p:grpSpPr>
        <p:sp>
          <p:nvSpPr>
            <p:cNvPr id="582" name=""/>
            <p:cNvSpPr/>
            <p:nvPr/>
          </p:nvSpPr>
          <p:spPr>
            <a:xfrm>
              <a:off x="7160400" y="3458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49960" y="4309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7639200" y="3463200"/>
              <a:ext cx="378720" cy="841320"/>
              <a:chOff x="7639200" y="3463200"/>
              <a:chExt cx="378720" cy="841320"/>
            </a:xfrm>
          </p:grpSpPr>
          <p:sp>
            <p:nvSpPr>
              <p:cNvPr id="585" name=""/>
              <p:cNvSpPr/>
              <p:nvPr/>
            </p:nvSpPr>
            <p:spPr>
              <a:xfrm>
                <a:off x="7639200" y="3463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7639920" y="3884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6797880" y="3467520"/>
              <a:ext cx="378720" cy="841320"/>
              <a:chOff x="6797880" y="3467520"/>
              <a:chExt cx="378720" cy="841320"/>
            </a:xfrm>
          </p:grpSpPr>
          <p:sp>
            <p:nvSpPr>
              <p:cNvPr id="588" name=""/>
              <p:cNvSpPr/>
              <p:nvPr/>
            </p:nvSpPr>
            <p:spPr>
              <a:xfrm flipH="1">
                <a:off x="6798600" y="3467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6797880" y="3889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4278600" y="4757040"/>
            <a:ext cx="1220040" cy="850680"/>
            <a:chOff x="4278600" y="4757040"/>
            <a:chExt cx="1220040" cy="850680"/>
          </a:xfrm>
        </p:grpSpPr>
        <p:sp>
          <p:nvSpPr>
            <p:cNvPr id="591" name=""/>
            <p:cNvSpPr/>
            <p:nvPr/>
          </p:nvSpPr>
          <p:spPr>
            <a:xfrm>
              <a:off x="4641120" y="4757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30680" y="56077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5119920" y="4761720"/>
              <a:ext cx="378720" cy="841320"/>
              <a:chOff x="5119920" y="4761720"/>
              <a:chExt cx="378720" cy="841320"/>
            </a:xfrm>
          </p:grpSpPr>
          <p:sp>
            <p:nvSpPr>
              <p:cNvPr id="594" name=""/>
              <p:cNvSpPr/>
              <p:nvPr/>
            </p:nvSpPr>
            <p:spPr>
              <a:xfrm>
                <a:off x="5119920" y="4761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120640" y="518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4278600" y="4766040"/>
              <a:ext cx="378720" cy="841320"/>
              <a:chOff x="4278600" y="4766040"/>
              <a:chExt cx="378720" cy="84132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4279320" y="4766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4278600" y="5187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5116680" y="4325400"/>
            <a:ext cx="1220040" cy="850680"/>
            <a:chOff x="5116680" y="4325400"/>
            <a:chExt cx="1220040" cy="850680"/>
          </a:xfrm>
        </p:grpSpPr>
        <p:sp>
          <p:nvSpPr>
            <p:cNvPr id="600" name=""/>
            <p:cNvSpPr/>
            <p:nvPr/>
          </p:nvSpPr>
          <p:spPr>
            <a:xfrm>
              <a:off x="5479200" y="4325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68760" y="5176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958000" y="4330080"/>
              <a:ext cx="378720" cy="841320"/>
              <a:chOff x="5958000" y="4330080"/>
              <a:chExt cx="378720" cy="841320"/>
            </a:xfrm>
          </p:grpSpPr>
          <p:sp>
            <p:nvSpPr>
              <p:cNvPr id="603" name=""/>
              <p:cNvSpPr/>
              <p:nvPr/>
            </p:nvSpPr>
            <p:spPr>
              <a:xfrm>
                <a:off x="5958000" y="4330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958720" y="4751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5116680" y="4334400"/>
              <a:ext cx="378720" cy="841320"/>
              <a:chOff x="5116680" y="4334400"/>
              <a:chExt cx="378720" cy="841320"/>
            </a:xfrm>
          </p:grpSpPr>
          <p:sp>
            <p:nvSpPr>
              <p:cNvPr id="606" name=""/>
              <p:cNvSpPr/>
              <p:nvPr/>
            </p:nvSpPr>
            <p:spPr>
              <a:xfrm flipH="1">
                <a:off x="5117400" y="4334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5116680" y="4755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4273920" y="3909600"/>
            <a:ext cx="1219680" cy="850320"/>
            <a:chOff x="4273920" y="3909600"/>
            <a:chExt cx="1219680" cy="850320"/>
          </a:xfrm>
        </p:grpSpPr>
        <p:sp>
          <p:nvSpPr>
            <p:cNvPr id="609" name=""/>
            <p:cNvSpPr/>
            <p:nvPr/>
          </p:nvSpPr>
          <p:spPr>
            <a:xfrm>
              <a:off x="4636440" y="3909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25640" y="475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5115240" y="3914280"/>
              <a:ext cx="378360" cy="840240"/>
              <a:chOff x="5115240" y="3914280"/>
              <a:chExt cx="378360" cy="840240"/>
            </a:xfrm>
          </p:grpSpPr>
          <p:sp>
            <p:nvSpPr>
              <p:cNvPr id="612" name=""/>
              <p:cNvSpPr/>
              <p:nvPr/>
            </p:nvSpPr>
            <p:spPr>
              <a:xfrm>
                <a:off x="5115240" y="3914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115960" y="4335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4273920" y="3918600"/>
              <a:ext cx="378360" cy="840240"/>
              <a:chOff x="4273920" y="3918600"/>
              <a:chExt cx="378360" cy="84024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4274640" y="3918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4273920" y="4339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5112000" y="3477600"/>
            <a:ext cx="1220040" cy="850680"/>
            <a:chOff x="5112000" y="3477600"/>
            <a:chExt cx="1220040" cy="850680"/>
          </a:xfrm>
        </p:grpSpPr>
        <p:sp>
          <p:nvSpPr>
            <p:cNvPr id="618" name=""/>
            <p:cNvSpPr/>
            <p:nvPr/>
          </p:nvSpPr>
          <p:spPr>
            <a:xfrm>
              <a:off x="5474520" y="3477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64080" y="43282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5953320" y="3482280"/>
              <a:ext cx="378720" cy="841320"/>
              <a:chOff x="5953320" y="3482280"/>
              <a:chExt cx="378720" cy="841320"/>
            </a:xfrm>
          </p:grpSpPr>
          <p:sp>
            <p:nvSpPr>
              <p:cNvPr id="621" name=""/>
              <p:cNvSpPr/>
              <p:nvPr/>
            </p:nvSpPr>
            <p:spPr>
              <a:xfrm>
                <a:off x="5953320" y="3482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954040" y="3903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5112000" y="3486600"/>
              <a:ext cx="378720" cy="841320"/>
              <a:chOff x="5112000" y="3486600"/>
              <a:chExt cx="378720" cy="84132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5112720" y="3486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5112000" y="3908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5959800" y="3047400"/>
            <a:ext cx="1219680" cy="850680"/>
            <a:chOff x="5959800" y="3047400"/>
            <a:chExt cx="1219680" cy="850680"/>
          </a:xfrm>
        </p:grpSpPr>
        <p:sp>
          <p:nvSpPr>
            <p:cNvPr id="627" name=""/>
            <p:cNvSpPr/>
            <p:nvPr/>
          </p:nvSpPr>
          <p:spPr>
            <a:xfrm>
              <a:off x="6322320" y="3047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11520" y="389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6800760" y="3052080"/>
              <a:ext cx="378720" cy="841320"/>
              <a:chOff x="6800760" y="3052080"/>
              <a:chExt cx="378720" cy="841320"/>
            </a:xfrm>
          </p:grpSpPr>
          <p:sp>
            <p:nvSpPr>
              <p:cNvPr id="630" name=""/>
              <p:cNvSpPr/>
              <p:nvPr/>
            </p:nvSpPr>
            <p:spPr>
              <a:xfrm>
                <a:off x="6800760" y="3052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801480" y="347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959800" y="3056400"/>
              <a:ext cx="378720" cy="841320"/>
              <a:chOff x="5959800" y="3056400"/>
              <a:chExt cx="378720" cy="841320"/>
            </a:xfrm>
          </p:grpSpPr>
          <p:sp>
            <p:nvSpPr>
              <p:cNvPr id="633" name=""/>
              <p:cNvSpPr/>
              <p:nvPr/>
            </p:nvSpPr>
            <p:spPr>
              <a:xfrm flipH="1">
                <a:off x="5960520" y="305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5959800" y="3477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5" name=""/>
          <p:cNvGrpSpPr/>
          <p:nvPr/>
        </p:nvGrpSpPr>
        <p:grpSpPr>
          <a:xfrm>
            <a:off x="6797880" y="2615760"/>
            <a:ext cx="1220040" cy="850320"/>
            <a:chOff x="6797880" y="2615760"/>
            <a:chExt cx="1220040" cy="850320"/>
          </a:xfrm>
        </p:grpSpPr>
        <p:sp>
          <p:nvSpPr>
            <p:cNvPr id="636" name=""/>
            <p:cNvSpPr/>
            <p:nvPr/>
          </p:nvSpPr>
          <p:spPr>
            <a:xfrm>
              <a:off x="7160400" y="2615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49960" y="3466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7639560" y="2620440"/>
              <a:ext cx="378360" cy="840240"/>
              <a:chOff x="7639560" y="2620440"/>
              <a:chExt cx="378360" cy="840240"/>
            </a:xfrm>
          </p:grpSpPr>
          <p:sp>
            <p:nvSpPr>
              <p:cNvPr id="639" name=""/>
              <p:cNvSpPr/>
              <p:nvPr/>
            </p:nvSpPr>
            <p:spPr>
              <a:xfrm>
                <a:off x="7639560" y="2620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7640280" y="3041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797880" y="2624760"/>
              <a:ext cx="378360" cy="840240"/>
              <a:chOff x="6797880" y="2624760"/>
              <a:chExt cx="378360" cy="840240"/>
            </a:xfrm>
          </p:grpSpPr>
          <p:sp>
            <p:nvSpPr>
              <p:cNvPr id="642" name=""/>
              <p:cNvSpPr/>
              <p:nvPr/>
            </p:nvSpPr>
            <p:spPr>
              <a:xfrm flipH="1">
                <a:off x="6798600" y="2624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6797880" y="3045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5955120" y="2199600"/>
            <a:ext cx="1219680" cy="850680"/>
            <a:chOff x="5955120" y="2199600"/>
            <a:chExt cx="1219680" cy="850680"/>
          </a:xfrm>
        </p:grpSpPr>
        <p:sp>
          <p:nvSpPr>
            <p:cNvPr id="645" name=""/>
            <p:cNvSpPr/>
            <p:nvPr/>
          </p:nvSpPr>
          <p:spPr>
            <a:xfrm>
              <a:off x="6317640" y="2199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06840" y="3050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796080" y="2204280"/>
              <a:ext cx="378720" cy="841320"/>
              <a:chOff x="6796080" y="2204280"/>
              <a:chExt cx="378720" cy="841320"/>
            </a:xfrm>
          </p:grpSpPr>
          <p:sp>
            <p:nvSpPr>
              <p:cNvPr id="648" name=""/>
              <p:cNvSpPr/>
              <p:nvPr/>
            </p:nvSpPr>
            <p:spPr>
              <a:xfrm>
                <a:off x="6796080" y="2204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796800" y="2625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5955120" y="2208600"/>
              <a:ext cx="378720" cy="841320"/>
              <a:chOff x="5955120" y="2208600"/>
              <a:chExt cx="378720" cy="841320"/>
            </a:xfrm>
          </p:grpSpPr>
          <p:sp>
            <p:nvSpPr>
              <p:cNvPr id="651" name=""/>
              <p:cNvSpPr/>
              <p:nvPr/>
            </p:nvSpPr>
            <p:spPr>
              <a:xfrm flipH="1">
                <a:off x="5955840" y="2208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 flipV="1">
                <a:off x="5955120" y="2630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6793200" y="1767960"/>
            <a:ext cx="1220040" cy="850320"/>
            <a:chOff x="6793200" y="1767960"/>
            <a:chExt cx="1220040" cy="850320"/>
          </a:xfrm>
        </p:grpSpPr>
        <p:sp>
          <p:nvSpPr>
            <p:cNvPr id="654" name=""/>
            <p:cNvSpPr/>
            <p:nvPr/>
          </p:nvSpPr>
          <p:spPr>
            <a:xfrm>
              <a:off x="7155720" y="1767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45280" y="26182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7634880" y="1772640"/>
              <a:ext cx="378360" cy="840240"/>
              <a:chOff x="7634880" y="1772640"/>
              <a:chExt cx="378360" cy="840240"/>
            </a:xfrm>
          </p:grpSpPr>
          <p:sp>
            <p:nvSpPr>
              <p:cNvPr id="657" name=""/>
              <p:cNvSpPr/>
              <p:nvPr/>
            </p:nvSpPr>
            <p:spPr>
              <a:xfrm>
                <a:off x="7634880" y="1772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7635600" y="2193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793200" y="1776960"/>
              <a:ext cx="378360" cy="840240"/>
              <a:chOff x="6793200" y="1776960"/>
              <a:chExt cx="378360" cy="840240"/>
            </a:xfrm>
          </p:grpSpPr>
          <p:sp>
            <p:nvSpPr>
              <p:cNvPr id="660" name=""/>
              <p:cNvSpPr/>
              <p:nvPr/>
            </p:nvSpPr>
            <p:spPr>
              <a:xfrm flipH="1">
                <a:off x="6793920" y="1776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flipV="1">
                <a:off x="6793200" y="2197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273920" y="3066480"/>
            <a:ext cx="1219680" cy="850680"/>
            <a:chOff x="4273920" y="3066480"/>
            <a:chExt cx="1219680" cy="850680"/>
          </a:xfrm>
        </p:grpSpPr>
        <p:sp>
          <p:nvSpPr>
            <p:cNvPr id="663" name=""/>
            <p:cNvSpPr/>
            <p:nvPr/>
          </p:nvSpPr>
          <p:spPr>
            <a:xfrm>
              <a:off x="4636440" y="306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25640" y="3917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114880" y="3071160"/>
              <a:ext cx="378720" cy="841320"/>
              <a:chOff x="5114880" y="3071160"/>
              <a:chExt cx="378720" cy="841320"/>
            </a:xfrm>
          </p:grpSpPr>
          <p:sp>
            <p:nvSpPr>
              <p:cNvPr id="666" name=""/>
              <p:cNvSpPr/>
              <p:nvPr/>
            </p:nvSpPr>
            <p:spPr>
              <a:xfrm>
                <a:off x="5114880" y="3071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5115600" y="349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4273920" y="3075480"/>
              <a:ext cx="378720" cy="841320"/>
              <a:chOff x="4273920" y="3075480"/>
              <a:chExt cx="378720" cy="841320"/>
            </a:xfrm>
          </p:grpSpPr>
          <p:sp>
            <p:nvSpPr>
              <p:cNvPr id="669" name=""/>
              <p:cNvSpPr/>
              <p:nvPr/>
            </p:nvSpPr>
            <p:spPr>
              <a:xfrm flipH="1">
                <a:off x="4274640" y="307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4273920" y="349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1" name=""/>
          <p:cNvGrpSpPr/>
          <p:nvPr/>
        </p:nvGrpSpPr>
        <p:grpSpPr>
          <a:xfrm>
            <a:off x="5112000" y="2634840"/>
            <a:ext cx="1220040" cy="850320"/>
            <a:chOff x="5112000" y="2634840"/>
            <a:chExt cx="1220040" cy="850320"/>
          </a:xfrm>
        </p:grpSpPr>
        <p:sp>
          <p:nvSpPr>
            <p:cNvPr id="672" name=""/>
            <p:cNvSpPr/>
            <p:nvPr/>
          </p:nvSpPr>
          <p:spPr>
            <a:xfrm>
              <a:off x="5474520" y="2634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64080" y="34851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5953680" y="2639520"/>
              <a:ext cx="378360" cy="840240"/>
              <a:chOff x="5953680" y="2639520"/>
              <a:chExt cx="378360" cy="840240"/>
            </a:xfrm>
          </p:grpSpPr>
          <p:sp>
            <p:nvSpPr>
              <p:cNvPr id="675" name=""/>
              <p:cNvSpPr/>
              <p:nvPr/>
            </p:nvSpPr>
            <p:spPr>
              <a:xfrm>
                <a:off x="5953680" y="2639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5954400" y="30603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5112000" y="2643840"/>
              <a:ext cx="378360" cy="840240"/>
              <a:chOff x="5112000" y="2643840"/>
              <a:chExt cx="378360" cy="840240"/>
            </a:xfrm>
          </p:grpSpPr>
          <p:sp>
            <p:nvSpPr>
              <p:cNvPr id="678" name=""/>
              <p:cNvSpPr/>
              <p:nvPr/>
            </p:nvSpPr>
            <p:spPr>
              <a:xfrm flipH="1">
                <a:off x="5112720" y="2643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 flipV="1">
                <a:off x="5112000" y="3064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" name=""/>
          <p:cNvGrpSpPr/>
          <p:nvPr/>
        </p:nvGrpSpPr>
        <p:grpSpPr>
          <a:xfrm>
            <a:off x="4269240" y="2218680"/>
            <a:ext cx="1219680" cy="850680"/>
            <a:chOff x="4269240" y="2218680"/>
            <a:chExt cx="1219680" cy="850680"/>
          </a:xfrm>
        </p:grpSpPr>
        <p:sp>
          <p:nvSpPr>
            <p:cNvPr id="681" name=""/>
            <p:cNvSpPr/>
            <p:nvPr/>
          </p:nvSpPr>
          <p:spPr>
            <a:xfrm>
              <a:off x="4631760" y="221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20960" y="3069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5110200" y="2223360"/>
              <a:ext cx="378720" cy="841320"/>
              <a:chOff x="5110200" y="2223360"/>
              <a:chExt cx="378720" cy="841320"/>
            </a:xfrm>
          </p:grpSpPr>
          <p:sp>
            <p:nvSpPr>
              <p:cNvPr id="684" name=""/>
              <p:cNvSpPr/>
              <p:nvPr/>
            </p:nvSpPr>
            <p:spPr>
              <a:xfrm>
                <a:off x="5110200" y="2223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5110920" y="2644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4269240" y="2227680"/>
              <a:ext cx="378720" cy="841320"/>
              <a:chOff x="4269240" y="2227680"/>
              <a:chExt cx="378720" cy="841320"/>
            </a:xfrm>
          </p:grpSpPr>
          <p:sp>
            <p:nvSpPr>
              <p:cNvPr id="687" name=""/>
              <p:cNvSpPr/>
              <p:nvPr/>
            </p:nvSpPr>
            <p:spPr>
              <a:xfrm flipH="1">
                <a:off x="4269960" y="222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flipV="1">
                <a:off x="4269240" y="264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9" name=""/>
          <p:cNvGrpSpPr/>
          <p:nvPr/>
        </p:nvGrpSpPr>
        <p:grpSpPr>
          <a:xfrm>
            <a:off x="5107320" y="1787040"/>
            <a:ext cx="1219680" cy="850320"/>
            <a:chOff x="5107320" y="1787040"/>
            <a:chExt cx="1219680" cy="850320"/>
          </a:xfrm>
        </p:grpSpPr>
        <p:sp>
          <p:nvSpPr>
            <p:cNvPr id="690" name=""/>
            <p:cNvSpPr/>
            <p:nvPr/>
          </p:nvSpPr>
          <p:spPr>
            <a:xfrm>
              <a:off x="5469840" y="1787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59040" y="2637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948640" y="1791720"/>
              <a:ext cx="378360" cy="840240"/>
              <a:chOff x="5948640" y="1791720"/>
              <a:chExt cx="378360" cy="840240"/>
            </a:xfrm>
          </p:grpSpPr>
          <p:sp>
            <p:nvSpPr>
              <p:cNvPr id="693" name=""/>
              <p:cNvSpPr/>
              <p:nvPr/>
            </p:nvSpPr>
            <p:spPr>
              <a:xfrm>
                <a:off x="5948640" y="1791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949360" y="2212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107320" y="1796040"/>
              <a:ext cx="378360" cy="840240"/>
              <a:chOff x="5107320" y="1796040"/>
              <a:chExt cx="378360" cy="840240"/>
            </a:xfrm>
          </p:grpSpPr>
          <p:sp>
            <p:nvSpPr>
              <p:cNvPr id="696" name=""/>
              <p:cNvSpPr/>
              <p:nvPr/>
            </p:nvSpPr>
            <p:spPr>
              <a:xfrm flipH="1">
                <a:off x="5108040" y="1796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5107320" y="2216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8" name=""/>
          <p:cNvGrpSpPr/>
          <p:nvPr/>
        </p:nvGrpSpPr>
        <p:grpSpPr>
          <a:xfrm>
            <a:off x="2583000" y="1385280"/>
            <a:ext cx="1220040" cy="850680"/>
            <a:chOff x="2583000" y="1385280"/>
            <a:chExt cx="1220040" cy="850680"/>
          </a:xfrm>
        </p:grpSpPr>
        <p:sp>
          <p:nvSpPr>
            <p:cNvPr id="699" name=""/>
            <p:cNvSpPr/>
            <p:nvPr/>
          </p:nvSpPr>
          <p:spPr>
            <a:xfrm>
              <a:off x="2945520" y="1385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35080" y="22359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3424320" y="1389960"/>
              <a:ext cx="378720" cy="841320"/>
              <a:chOff x="3424320" y="1389960"/>
              <a:chExt cx="378720" cy="841320"/>
            </a:xfrm>
          </p:grpSpPr>
          <p:sp>
            <p:nvSpPr>
              <p:cNvPr id="702" name=""/>
              <p:cNvSpPr/>
              <p:nvPr/>
            </p:nvSpPr>
            <p:spPr>
              <a:xfrm>
                <a:off x="3424320" y="138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25040" y="181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2583000" y="1394280"/>
              <a:ext cx="378720" cy="841320"/>
              <a:chOff x="2583000" y="1394280"/>
              <a:chExt cx="378720" cy="841320"/>
            </a:xfrm>
          </p:grpSpPr>
          <p:sp>
            <p:nvSpPr>
              <p:cNvPr id="705" name=""/>
              <p:cNvSpPr/>
              <p:nvPr/>
            </p:nvSpPr>
            <p:spPr>
              <a:xfrm flipH="1">
                <a:off x="2583720" y="1394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2583000" y="1815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3421440" y="953640"/>
            <a:ext cx="1219680" cy="850320"/>
            <a:chOff x="3421440" y="953640"/>
            <a:chExt cx="1219680" cy="850320"/>
          </a:xfrm>
        </p:grpSpPr>
        <p:sp>
          <p:nvSpPr>
            <p:cNvPr id="708" name=""/>
            <p:cNvSpPr/>
            <p:nvPr/>
          </p:nvSpPr>
          <p:spPr>
            <a:xfrm>
              <a:off x="3783960" y="953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73160" y="1803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4262760" y="958320"/>
              <a:ext cx="378360" cy="840240"/>
              <a:chOff x="4262760" y="958320"/>
              <a:chExt cx="378360" cy="840240"/>
            </a:xfrm>
          </p:grpSpPr>
          <p:sp>
            <p:nvSpPr>
              <p:cNvPr id="711" name=""/>
              <p:cNvSpPr/>
              <p:nvPr/>
            </p:nvSpPr>
            <p:spPr>
              <a:xfrm>
                <a:off x="4262760" y="958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263480" y="1379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3421440" y="962640"/>
              <a:ext cx="378360" cy="840240"/>
              <a:chOff x="3421440" y="962640"/>
              <a:chExt cx="378360" cy="840240"/>
            </a:xfrm>
          </p:grpSpPr>
          <p:sp>
            <p:nvSpPr>
              <p:cNvPr id="714" name=""/>
              <p:cNvSpPr/>
              <p:nvPr/>
            </p:nvSpPr>
            <p:spPr>
              <a:xfrm flipH="1">
                <a:off x="3422160" y="962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>
                <a:off x="3421440" y="1383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6" name=""/>
          <p:cNvGrpSpPr/>
          <p:nvPr/>
        </p:nvGrpSpPr>
        <p:grpSpPr>
          <a:xfrm>
            <a:off x="897120" y="1404360"/>
            <a:ext cx="1220040" cy="850680"/>
            <a:chOff x="897120" y="1404360"/>
            <a:chExt cx="1220040" cy="850680"/>
          </a:xfrm>
        </p:grpSpPr>
        <p:sp>
          <p:nvSpPr>
            <p:cNvPr id="717" name=""/>
            <p:cNvSpPr/>
            <p:nvPr/>
          </p:nvSpPr>
          <p:spPr>
            <a:xfrm>
              <a:off x="1259640" y="1404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49200" y="22550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738440" y="1409040"/>
              <a:ext cx="378720" cy="841320"/>
              <a:chOff x="1738440" y="1409040"/>
              <a:chExt cx="378720" cy="841320"/>
            </a:xfrm>
          </p:grpSpPr>
          <p:sp>
            <p:nvSpPr>
              <p:cNvPr id="720" name=""/>
              <p:cNvSpPr/>
              <p:nvPr/>
            </p:nvSpPr>
            <p:spPr>
              <a:xfrm>
                <a:off x="1738440" y="1409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1739160" y="1830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897120" y="1413360"/>
              <a:ext cx="378720" cy="841320"/>
              <a:chOff x="897120" y="1413360"/>
              <a:chExt cx="378720" cy="841320"/>
            </a:xfrm>
          </p:grpSpPr>
          <p:sp>
            <p:nvSpPr>
              <p:cNvPr id="723" name=""/>
              <p:cNvSpPr/>
              <p:nvPr/>
            </p:nvSpPr>
            <p:spPr>
              <a:xfrm flipH="1">
                <a:off x="897840" y="1413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897120" y="1834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1735560" y="972720"/>
            <a:ext cx="1219680" cy="850320"/>
            <a:chOff x="1735560" y="972720"/>
            <a:chExt cx="1219680" cy="850320"/>
          </a:xfrm>
        </p:grpSpPr>
        <p:sp>
          <p:nvSpPr>
            <p:cNvPr id="726" name=""/>
            <p:cNvSpPr/>
            <p:nvPr/>
          </p:nvSpPr>
          <p:spPr>
            <a:xfrm>
              <a:off x="2098080" y="972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87280" y="1823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2576880" y="977400"/>
              <a:ext cx="378360" cy="840240"/>
              <a:chOff x="2576880" y="977400"/>
              <a:chExt cx="378360" cy="840240"/>
            </a:xfrm>
          </p:grpSpPr>
          <p:sp>
            <p:nvSpPr>
              <p:cNvPr id="729" name=""/>
              <p:cNvSpPr/>
              <p:nvPr/>
            </p:nvSpPr>
            <p:spPr>
              <a:xfrm>
                <a:off x="2576880" y="977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2577600" y="1398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1735560" y="981720"/>
              <a:ext cx="378360" cy="840240"/>
              <a:chOff x="1735560" y="981720"/>
              <a:chExt cx="378360" cy="840240"/>
            </a:xfrm>
          </p:grpSpPr>
          <p:sp>
            <p:nvSpPr>
              <p:cNvPr id="732" name=""/>
              <p:cNvSpPr/>
              <p:nvPr/>
            </p:nvSpPr>
            <p:spPr>
              <a:xfrm flipH="1">
                <a:off x="1736280" y="981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1735560" y="1402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5950080" y="1351800"/>
            <a:ext cx="1220040" cy="850680"/>
            <a:chOff x="5950080" y="1351800"/>
            <a:chExt cx="1220040" cy="850680"/>
          </a:xfrm>
        </p:grpSpPr>
        <p:sp>
          <p:nvSpPr>
            <p:cNvPr id="735" name=""/>
            <p:cNvSpPr/>
            <p:nvPr/>
          </p:nvSpPr>
          <p:spPr>
            <a:xfrm>
              <a:off x="6312600" y="13518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302160" y="22024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6791400" y="1356480"/>
              <a:ext cx="378720" cy="841320"/>
              <a:chOff x="6791400" y="1356480"/>
              <a:chExt cx="378720" cy="841320"/>
            </a:xfrm>
          </p:grpSpPr>
          <p:sp>
            <p:nvSpPr>
              <p:cNvPr id="738" name=""/>
              <p:cNvSpPr/>
              <p:nvPr/>
            </p:nvSpPr>
            <p:spPr>
              <a:xfrm>
                <a:off x="6791400" y="1356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792120" y="1778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5950080" y="1360800"/>
              <a:ext cx="378720" cy="841320"/>
              <a:chOff x="5950080" y="1360800"/>
              <a:chExt cx="378720" cy="841320"/>
            </a:xfrm>
          </p:grpSpPr>
          <p:sp>
            <p:nvSpPr>
              <p:cNvPr id="741" name=""/>
              <p:cNvSpPr/>
              <p:nvPr/>
            </p:nvSpPr>
            <p:spPr>
              <a:xfrm flipH="1">
                <a:off x="5950800" y="1360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>
                <a:off x="5950080" y="1782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"/>
          <p:cNvGrpSpPr/>
          <p:nvPr/>
        </p:nvGrpSpPr>
        <p:grpSpPr>
          <a:xfrm>
            <a:off x="6788520" y="920160"/>
            <a:ext cx="1219680" cy="850680"/>
            <a:chOff x="6788520" y="920160"/>
            <a:chExt cx="1219680" cy="850680"/>
          </a:xfrm>
        </p:grpSpPr>
        <p:sp>
          <p:nvSpPr>
            <p:cNvPr id="744" name=""/>
            <p:cNvSpPr/>
            <p:nvPr/>
          </p:nvSpPr>
          <p:spPr>
            <a:xfrm>
              <a:off x="7151040" y="920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40240" y="1770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7629480" y="924840"/>
              <a:ext cx="378720" cy="841320"/>
              <a:chOff x="7629480" y="924840"/>
              <a:chExt cx="378720" cy="841320"/>
            </a:xfrm>
          </p:grpSpPr>
          <p:sp>
            <p:nvSpPr>
              <p:cNvPr id="747" name=""/>
              <p:cNvSpPr/>
              <p:nvPr/>
            </p:nvSpPr>
            <p:spPr>
              <a:xfrm>
                <a:off x="7629480" y="924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7630200" y="134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6788520" y="929160"/>
              <a:ext cx="378720" cy="841320"/>
              <a:chOff x="6788520" y="929160"/>
              <a:chExt cx="378720" cy="841320"/>
            </a:xfrm>
          </p:grpSpPr>
          <p:sp>
            <p:nvSpPr>
              <p:cNvPr id="750" name=""/>
              <p:cNvSpPr/>
              <p:nvPr/>
            </p:nvSpPr>
            <p:spPr>
              <a:xfrm flipH="1">
                <a:off x="6789240" y="929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>
                <a:off x="6788520" y="1350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2" name=""/>
          <p:cNvGrpSpPr/>
          <p:nvPr/>
        </p:nvGrpSpPr>
        <p:grpSpPr>
          <a:xfrm>
            <a:off x="4264200" y="1370880"/>
            <a:ext cx="1220040" cy="850680"/>
            <a:chOff x="4264200" y="1370880"/>
            <a:chExt cx="1220040" cy="850680"/>
          </a:xfrm>
        </p:grpSpPr>
        <p:sp>
          <p:nvSpPr>
            <p:cNvPr id="753" name=""/>
            <p:cNvSpPr/>
            <p:nvPr/>
          </p:nvSpPr>
          <p:spPr>
            <a:xfrm>
              <a:off x="4626720" y="1370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16280" y="22215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5105520" y="1375560"/>
              <a:ext cx="378720" cy="841320"/>
              <a:chOff x="5105520" y="1375560"/>
              <a:chExt cx="378720" cy="841320"/>
            </a:xfrm>
          </p:grpSpPr>
          <p:sp>
            <p:nvSpPr>
              <p:cNvPr id="756" name=""/>
              <p:cNvSpPr/>
              <p:nvPr/>
            </p:nvSpPr>
            <p:spPr>
              <a:xfrm>
                <a:off x="5105520" y="1375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5106240" y="179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4264200" y="1379880"/>
              <a:ext cx="378720" cy="841320"/>
              <a:chOff x="4264200" y="1379880"/>
              <a:chExt cx="378720" cy="841320"/>
            </a:xfrm>
          </p:grpSpPr>
          <p:sp>
            <p:nvSpPr>
              <p:cNvPr id="759" name=""/>
              <p:cNvSpPr/>
              <p:nvPr/>
            </p:nvSpPr>
            <p:spPr>
              <a:xfrm flipH="1">
                <a:off x="4264920" y="137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 flipV="1">
                <a:off x="4264200" y="180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"/>
          <p:cNvGrpSpPr/>
          <p:nvPr/>
        </p:nvGrpSpPr>
        <p:grpSpPr>
          <a:xfrm>
            <a:off x="5102640" y="939240"/>
            <a:ext cx="1219680" cy="850680"/>
            <a:chOff x="5102640" y="939240"/>
            <a:chExt cx="1219680" cy="850680"/>
          </a:xfrm>
        </p:grpSpPr>
        <p:sp>
          <p:nvSpPr>
            <p:cNvPr id="762" name=""/>
            <p:cNvSpPr/>
            <p:nvPr/>
          </p:nvSpPr>
          <p:spPr>
            <a:xfrm>
              <a:off x="5465160" y="93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54360" y="178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5943600" y="943920"/>
              <a:ext cx="378720" cy="841320"/>
              <a:chOff x="5943600" y="943920"/>
              <a:chExt cx="378720" cy="841320"/>
            </a:xfrm>
          </p:grpSpPr>
          <p:sp>
            <p:nvSpPr>
              <p:cNvPr id="765" name=""/>
              <p:cNvSpPr/>
              <p:nvPr/>
            </p:nvSpPr>
            <p:spPr>
              <a:xfrm>
                <a:off x="5943600" y="94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5944320" y="136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5102640" y="948240"/>
              <a:ext cx="378720" cy="841320"/>
              <a:chOff x="5102640" y="948240"/>
              <a:chExt cx="378720" cy="841320"/>
            </a:xfrm>
          </p:grpSpPr>
          <p:sp>
            <p:nvSpPr>
              <p:cNvPr id="768" name=""/>
              <p:cNvSpPr/>
              <p:nvPr/>
            </p:nvSpPr>
            <p:spPr>
              <a:xfrm flipH="1">
                <a:off x="5103360" y="94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>
                <a:off x="5102640" y="136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Terminated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4697280" y="2438280"/>
            <a:ext cx="1365480" cy="763560"/>
            <a:chOff x="4697280" y="2438280"/>
            <a:chExt cx="1365480" cy="763560"/>
          </a:xfrm>
        </p:grpSpPr>
        <p:graphicFrame>
          <p:nvGraphicFramePr>
            <p:cNvPr id="1819" name=""/>
            <p:cNvGraphicFramePr/>
            <p:nvPr/>
          </p:nvGraphicFramePr>
          <p:xfrm>
            <a:off x="4697280" y="2438280"/>
            <a:ext cx="136548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7280" y="2438280"/>
                      <a:ext cx="136548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1" name=""/>
            <p:cNvSpPr/>
            <p:nvPr/>
          </p:nvSpPr>
          <p:spPr>
            <a:xfrm>
              <a:off x="5002200" y="2666880"/>
              <a:ext cx="669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3782880" y="2603520"/>
            <a:ext cx="696960" cy="444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297480" y="266688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297480" y="167652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364520" y="1676520"/>
            <a:ext cx="609480" cy="3045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381880" y="365760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211880" y="365760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068880" y="365760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364520" y="266688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8355600" y="3743640"/>
            <a:ext cx="609120" cy="606960"/>
            <a:chOff x="8355600" y="3743640"/>
            <a:chExt cx="609120" cy="606960"/>
          </a:xfrm>
        </p:grpSpPr>
        <p:sp>
          <p:nvSpPr>
            <p:cNvPr id="1831" name=""/>
            <p:cNvSpPr/>
            <p:nvPr/>
          </p:nvSpPr>
          <p:spPr>
            <a:xfrm rot="5400000">
              <a:off x="8356680" y="374256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rot="5400000">
              <a:off x="8429760" y="381708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rot="5400000">
              <a:off x="8504640" y="389052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7288200" y="4952880"/>
            <a:ext cx="4636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5" name=""/>
          <p:cNvCxnSpPr>
            <a:endCxn id="1822" idx="3"/>
          </p:cNvCxnSpPr>
          <p:nvPr/>
        </p:nvCxnSpPr>
        <p:spPr>
          <a:xfrm flipH="1">
            <a:off x="4479480" y="2820600"/>
            <a:ext cx="218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36" name=""/>
          <p:cNvCxnSpPr>
            <a:endCxn id="1823" idx="1"/>
          </p:cNvCxnSpPr>
          <p:nvPr/>
        </p:nvCxnSpPr>
        <p:spPr>
          <a:xfrm>
            <a:off x="6062760" y="2820600"/>
            <a:ext cx="2354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7" name=""/>
          <p:cNvCxnSpPr>
            <a:stCxn id="1829" idx="2"/>
            <a:endCxn id="1828" idx="0"/>
          </p:cNvCxnSpPr>
          <p:nvPr/>
        </p:nvCxnSpPr>
        <p:spPr>
          <a:xfrm flipH="1">
            <a:off x="6346080" y="2984400"/>
            <a:ext cx="1323000" cy="673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838" name=""/>
          <p:cNvCxnSpPr>
            <a:stCxn id="1829" idx="2"/>
            <a:endCxn id="1826" idx="0"/>
          </p:cNvCxnSpPr>
          <p:nvPr/>
        </p:nvCxnSpPr>
        <p:spPr>
          <a:xfrm>
            <a:off x="7669080" y="2984400"/>
            <a:ext cx="991440" cy="673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839" name=""/>
          <p:cNvCxnSpPr>
            <a:stCxn id="1829" idx="2"/>
            <a:endCxn id="1827" idx="0"/>
          </p:cNvCxnSpPr>
          <p:nvPr/>
        </p:nvCxnSpPr>
        <p:spPr>
          <a:xfrm flipH="1">
            <a:off x="7489440" y="2984400"/>
            <a:ext cx="180000" cy="67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0" name=""/>
          <p:cNvCxnSpPr>
            <a:stCxn id="1825" idx="2"/>
            <a:endCxn id="1829" idx="0"/>
          </p:cNvCxnSpPr>
          <p:nvPr/>
        </p:nvCxnSpPr>
        <p:spPr>
          <a:xfrm>
            <a:off x="7668720" y="198072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841" name=""/>
          <p:cNvCxnSpPr>
            <a:stCxn id="1823" idx="3"/>
            <a:endCxn id="1829" idx="1"/>
          </p:cNvCxnSpPr>
          <p:nvPr/>
        </p:nvCxnSpPr>
        <p:spPr>
          <a:xfrm>
            <a:off x="6982920" y="2825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2" name=""/>
          <p:cNvCxnSpPr>
            <a:stCxn id="1823" idx="0"/>
            <a:endCxn id="1824" idx="2"/>
          </p:cNvCxnSpPr>
          <p:nvPr/>
        </p:nvCxnSpPr>
        <p:spPr>
          <a:xfrm flipV="1">
            <a:off x="6640200" y="1993680"/>
            <a:ext cx="108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843" name=""/>
          <p:cNvCxnSpPr>
            <a:stCxn id="1824" idx="3"/>
            <a:endCxn id="1825" idx="1"/>
          </p:cNvCxnSpPr>
          <p:nvPr/>
        </p:nvCxnSpPr>
        <p:spPr>
          <a:xfrm flipV="1">
            <a:off x="6982920" y="1828440"/>
            <a:ext cx="381960" cy="7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grpSp>
        <p:nvGrpSpPr>
          <p:cNvPr id="1844" name=""/>
          <p:cNvGrpSpPr/>
          <p:nvPr/>
        </p:nvGrpSpPr>
        <p:grpSpPr>
          <a:xfrm>
            <a:off x="7212600" y="3743640"/>
            <a:ext cx="609120" cy="606960"/>
            <a:chOff x="7212600" y="3743640"/>
            <a:chExt cx="609120" cy="606960"/>
          </a:xfrm>
        </p:grpSpPr>
        <p:sp>
          <p:nvSpPr>
            <p:cNvPr id="1845" name=""/>
            <p:cNvSpPr/>
            <p:nvPr/>
          </p:nvSpPr>
          <p:spPr>
            <a:xfrm rot="5400000">
              <a:off x="7213680" y="374256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5400000">
              <a:off x="7286760" y="381708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5400000">
              <a:off x="7361640" y="389052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6069600" y="3743640"/>
            <a:ext cx="609120" cy="606960"/>
            <a:chOff x="6069600" y="3743640"/>
            <a:chExt cx="609120" cy="606960"/>
          </a:xfrm>
        </p:grpSpPr>
        <p:sp>
          <p:nvSpPr>
            <p:cNvPr id="1849" name=""/>
            <p:cNvSpPr/>
            <p:nvPr/>
          </p:nvSpPr>
          <p:spPr>
            <a:xfrm rot="5400000">
              <a:off x="6070680" y="374256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5400000">
              <a:off x="6143760" y="381708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5400000">
              <a:off x="6218640" y="389052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52" name=""/>
          <p:cNvCxnSpPr>
            <a:stCxn id="1834" idx="0"/>
          </p:cNvCxnSpPr>
          <p:nvPr/>
        </p:nvCxnSpPr>
        <p:spPr>
          <a:xfrm flipV="1">
            <a:off x="7519680" y="4352040"/>
            <a:ext cx="1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3" name=""/>
          <p:cNvSpPr/>
          <p:nvPr/>
        </p:nvSpPr>
        <p:spPr>
          <a:xfrm>
            <a:off x="447048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99436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6375600" y="21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061400" y="1523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061400" y="1828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604200" y="21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98508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365960" y="198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670880" y="198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603840" y="3124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137360" y="4419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518240" y="4419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518240" y="3124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518240" y="3352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213320" y="3200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127720" y="3124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146640" y="3886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289640" y="3886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8432640" y="3886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28964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670520" y="2209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18240" y="4648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calling a GSM subscr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 forwarding call to G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 signal call setup to H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, 5: request MSRN from V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: forward respon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MSC to G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: forward call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 9: get current status of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 11: paging of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 13: MS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, 15: security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 17: set up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Originated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4876920" y="2819520"/>
            <a:ext cx="1365120" cy="763560"/>
            <a:chOff x="4876920" y="2819520"/>
            <a:chExt cx="1365120" cy="763560"/>
          </a:xfrm>
        </p:grpSpPr>
        <p:graphicFrame>
          <p:nvGraphicFramePr>
            <p:cNvPr id="1879" name=""/>
            <p:cNvGraphicFramePr/>
            <p:nvPr/>
          </p:nvGraphicFramePr>
          <p:xfrm>
            <a:off x="4876920" y="2819520"/>
            <a:ext cx="136512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819520"/>
                      <a:ext cx="136512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1" name=""/>
            <p:cNvSpPr/>
            <p:nvPr/>
          </p:nvSpPr>
          <p:spPr>
            <a:xfrm>
              <a:off x="5181480" y="304812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6477120" y="304812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7543800" y="20574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7543800" y="403848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543800" y="304812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477120" y="4038480"/>
            <a:ext cx="46332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7" name=""/>
          <p:cNvCxnSpPr>
            <a:endCxn id="1882" idx="1"/>
          </p:cNvCxnSpPr>
          <p:nvPr/>
        </p:nvCxnSpPr>
        <p:spPr>
          <a:xfrm>
            <a:off x="6241680" y="3201840"/>
            <a:ext cx="235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8" name=""/>
          <p:cNvCxnSpPr>
            <a:stCxn id="1885" idx="2"/>
            <a:endCxn id="1884" idx="0"/>
          </p:cNvCxnSpPr>
          <p:nvPr/>
        </p:nvCxnSpPr>
        <p:spPr>
          <a:xfrm>
            <a:off x="7848360" y="3365280"/>
            <a:ext cx="108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9" name=""/>
          <p:cNvCxnSpPr>
            <a:stCxn id="1883" idx="2"/>
            <a:endCxn id="1885" idx="0"/>
          </p:cNvCxnSpPr>
          <p:nvPr/>
        </p:nvCxnSpPr>
        <p:spPr>
          <a:xfrm>
            <a:off x="7848360" y="23619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890" name=""/>
          <p:cNvCxnSpPr>
            <a:stCxn id="1882" idx="3"/>
            <a:endCxn id="1885" idx="1"/>
          </p:cNvCxnSpPr>
          <p:nvPr/>
        </p:nvCxnSpPr>
        <p:spPr>
          <a:xfrm>
            <a:off x="7162920" y="3206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1" name=""/>
          <p:cNvCxnSpPr>
            <a:stCxn id="1886" idx="3"/>
            <a:endCxn id="1884" idx="1"/>
          </p:cNvCxnSpPr>
          <p:nvPr/>
        </p:nvCxnSpPr>
        <p:spPr>
          <a:xfrm>
            <a:off x="6940440" y="4196880"/>
            <a:ext cx="60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2" name=""/>
          <p:cNvSpPr/>
          <p:nvPr/>
        </p:nvSpPr>
        <p:spPr>
          <a:xfrm>
            <a:off x="7088400" y="388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4560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17400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16436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560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85016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85016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011720" y="419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17400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16436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: connectio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 4: securit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8: check resources (free circ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-10: set up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C/M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5" name=""/>
          <p:cNvGrpSpPr/>
          <p:nvPr/>
        </p:nvGrpSpPr>
        <p:grpSpPr>
          <a:xfrm>
            <a:off x="1601640" y="762120"/>
            <a:ext cx="5735520" cy="5270040"/>
            <a:chOff x="1601640" y="762120"/>
            <a:chExt cx="5735520" cy="5270040"/>
          </a:xfrm>
        </p:grpSpPr>
        <p:sp>
          <p:nvSpPr>
            <p:cNvPr id="1906" name=""/>
            <p:cNvSpPr/>
            <p:nvPr/>
          </p:nvSpPr>
          <p:spPr>
            <a:xfrm>
              <a:off x="3686400" y="762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828800" y="1058760"/>
              <a:ext cx="0" cy="49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601640" y="762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828800" y="13557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902240" y="105876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962520" y="1058760"/>
              <a:ext cx="0" cy="49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828800" y="16527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901520" y="135576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828800" y="1949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01160" y="165276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828800" y="2246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901880" y="1949400"/>
              <a:ext cx="15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828800" y="2543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899000" y="224640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828800" y="2840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898640" y="254340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28800" y="3137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901880" y="284040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828800" y="3434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901520" y="313740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828800" y="3731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904760" y="343440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828800" y="4028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902600" y="37310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828800" y="4325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901160" y="402804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828800" y="4621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900800" y="432648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828800" y="4918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04760" y="462168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828800" y="5216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904040" y="491868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828800" y="5512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900440" y="521604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28800" y="580968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99000" y="55126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10480" y="762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952880" y="1058760"/>
              <a:ext cx="0" cy="49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726080" y="7621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86600" y="1058760"/>
              <a:ext cx="0" cy="49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52880" y="16527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025600" y="135576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952880" y="1949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025240" y="165276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952880" y="2246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025240" y="1949400"/>
              <a:ext cx="139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952880" y="2543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023080" y="224640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52880" y="2840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022720" y="254340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952880" y="3137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026320" y="284040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952880" y="3434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025600" y="313740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952880" y="3731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28840" y="343440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952880" y="4028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027040" y="37310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952880" y="4325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025240" y="402804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952880" y="4621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024880" y="432648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952880" y="4918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028840" y="462168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952880" y="52160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028120" y="491868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952880" y="5512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024880" y="521604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52880" y="5809680"/>
              <a:ext cx="213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023440" y="55126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516760" y="7621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717880" y="7621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ypes of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4610160" y="43434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829480" y="43434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61016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829480" y="36576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39084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39084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1016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8294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718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8" name=""/>
          <p:cNvCxnSpPr>
            <a:stCxn id="1979" idx="3"/>
            <a:endCxn id="1980" idx="1"/>
          </p:cNvCxnSpPr>
          <p:nvPr/>
        </p:nvCxnSpPr>
        <p:spPr>
          <a:xfrm>
            <a:off x="5372280" y="453348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79" idx="0"/>
            <a:endCxn id="1981" idx="2"/>
          </p:cNvCxnSpPr>
          <p:nvPr/>
        </p:nvCxnSpPr>
        <p:spPr>
          <a:xfrm flipV="1">
            <a:off x="499068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79" idx="1"/>
            <a:endCxn id="1983" idx="2"/>
          </p:cNvCxnSpPr>
          <p:nvPr/>
        </p:nvCxnSpPr>
        <p:spPr>
          <a:xfrm rot="10800000">
            <a:off x="3771360" y="40377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3" idx="1"/>
            <a:endCxn id="1987" idx="2"/>
          </p:cNvCxnSpPr>
          <p:nvPr/>
        </p:nvCxnSpPr>
        <p:spPr>
          <a:xfrm rot="10800000">
            <a:off x="2552040" y="33519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2" name=""/>
          <p:cNvCxnSpPr>
            <a:stCxn id="1983" idx="0"/>
            <a:endCxn id="1984" idx="2"/>
          </p:cNvCxnSpPr>
          <p:nvPr/>
        </p:nvCxnSpPr>
        <p:spPr>
          <a:xfrm flipV="1">
            <a:off x="377172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3" name=""/>
          <p:cNvCxnSpPr>
            <a:stCxn id="1981" idx="0"/>
            <a:endCxn id="1985" idx="2"/>
          </p:cNvCxnSpPr>
          <p:nvPr/>
        </p:nvCxnSpPr>
        <p:spPr>
          <a:xfrm flipV="1">
            <a:off x="499068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4" name=""/>
          <p:cNvCxnSpPr>
            <a:stCxn id="1982" idx="0"/>
            <a:endCxn id="1986" idx="2"/>
          </p:cNvCxnSpPr>
          <p:nvPr/>
        </p:nvCxnSpPr>
        <p:spPr>
          <a:xfrm flipV="1">
            <a:off x="621000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5" name=""/>
          <p:cNvCxnSpPr>
            <a:stCxn id="1980" idx="0"/>
            <a:endCxn id="1982" idx="2"/>
          </p:cNvCxnSpPr>
          <p:nvPr/>
        </p:nvCxnSpPr>
        <p:spPr>
          <a:xfrm flipV="1">
            <a:off x="621000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6" name=""/>
          <p:cNvCxnSpPr>
            <a:stCxn id="1980" idx="3"/>
          </p:cNvCxnSpPr>
          <p:nvPr/>
        </p:nvCxnSpPr>
        <p:spPr>
          <a:xfrm>
            <a:off x="6591240" y="4533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7" name=""/>
          <p:cNvSpPr/>
          <p:nvPr/>
        </p:nvSpPr>
        <p:spPr>
          <a:xfrm>
            <a:off x="19810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20040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41972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6386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1" name=""/>
          <p:cNvCxnSpPr>
            <a:stCxn id="1987" idx="0"/>
          </p:cNvCxnSpPr>
          <p:nvPr/>
        </p:nvCxnSpPr>
        <p:spPr>
          <a:xfrm flipH="1" flipV="1">
            <a:off x="25459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2" name=""/>
          <p:cNvCxnSpPr>
            <a:stCxn id="1984" idx="0"/>
          </p:cNvCxnSpPr>
          <p:nvPr/>
        </p:nvCxnSpPr>
        <p:spPr>
          <a:xfrm flipH="1" flipV="1">
            <a:off x="376524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3" name=""/>
          <p:cNvCxnSpPr>
            <a:stCxn id="1985" idx="0"/>
          </p:cNvCxnSpPr>
          <p:nvPr/>
        </p:nvCxnSpPr>
        <p:spPr>
          <a:xfrm flipH="1" flipV="1">
            <a:off x="4984200" y="2250720"/>
            <a:ext cx="684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4" name=""/>
          <p:cNvCxnSpPr>
            <a:stCxn id="1986" idx="0"/>
          </p:cNvCxnSpPr>
          <p:nvPr/>
        </p:nvCxnSpPr>
        <p:spPr>
          <a:xfrm flipH="1" flipV="1">
            <a:off x="62035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5" name=""/>
          <p:cNvSpPr/>
          <p:nvPr/>
        </p:nvSpPr>
        <p:spPr>
          <a:xfrm>
            <a:off x="22096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2900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64832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8672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9" name=""/>
          <p:cNvCxnSpPr>
            <a:stCxn id="2005" idx="0"/>
            <a:endCxn id="2006" idx="0"/>
          </p:cNvCxnSpPr>
          <p:nvPr/>
        </p:nvCxnSpPr>
        <p:spPr>
          <a:xfrm flipH="1" rot="16200000">
            <a:off x="3009240" y="1219680"/>
            <a:ext cx="216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10" name=""/>
          <p:cNvCxnSpPr>
            <a:stCxn id="2005" idx="0"/>
            <a:endCxn id="2007" idx="0"/>
          </p:cNvCxnSpPr>
          <p:nvPr/>
        </p:nvCxnSpPr>
        <p:spPr>
          <a:xfrm flipH="1" rot="16200000">
            <a:off x="3618720" y="610200"/>
            <a:ext cx="2160" cy="2439000"/>
          </a:xfrm>
          <a:prstGeom prst="curvedConnector5">
            <a:avLst>
              <a:gd name="adj1" fmla="val -22100000"/>
              <a:gd name="adj2" fmla="val 50000"/>
              <a:gd name="adj3" fmla="val -22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11" name=""/>
          <p:cNvCxnSpPr>
            <a:stCxn id="2005" idx="0"/>
            <a:endCxn id="2008" idx="0"/>
          </p:cNvCxnSpPr>
          <p:nvPr/>
        </p:nvCxnSpPr>
        <p:spPr>
          <a:xfrm flipH="1" rot="16200000">
            <a:off x="4228560" y="360"/>
            <a:ext cx="2160" cy="3658320"/>
          </a:xfrm>
          <a:prstGeom prst="curvedConnector5">
            <a:avLst>
              <a:gd name="adj1" fmla="val -29100000"/>
              <a:gd name="adj2" fmla="val 49995"/>
              <a:gd name="adj3" fmla="val -29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12" name=""/>
          <p:cNvCxnSpPr>
            <a:stCxn id="2005" idx="0"/>
            <a:endCxn id="2005" idx="2"/>
          </p:cNvCxnSpPr>
          <p:nvPr/>
        </p:nvCxnSpPr>
        <p:spPr>
          <a:xfrm rot="5400000">
            <a:off x="2209320" y="1827720"/>
            <a:ext cx="191160" cy="191520"/>
          </a:xfrm>
          <a:prstGeom prst="curvedConnector5">
            <a:avLst>
              <a:gd name="adj1" fmla="val -120000"/>
              <a:gd name="adj2" fmla="val 109981"/>
              <a:gd name="adj3" fmla="val -12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1906560" y="129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5067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726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94540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22860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64008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765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7913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286000" y="4800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81952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48640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5" name=""/>
          <p:cNvCxnSpPr>
            <a:stCxn id="2023" idx="6"/>
            <a:endCxn id="2024" idx="2"/>
          </p:cNvCxnSpPr>
          <p:nvPr/>
        </p:nvCxnSpPr>
        <p:spPr>
          <a:xfrm>
            <a:off x="3200400" y="4533480"/>
            <a:ext cx="2286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26" name=""/>
          <p:cNvSpPr/>
          <p:nvPr/>
        </p:nvSpPr>
        <p:spPr>
          <a:xfrm>
            <a:off x="243828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251460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4952880" y="3809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956120" y="380988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_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438280" y="2514600"/>
            <a:ext cx="358164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2590920" y="2514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9528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216600" y="48006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355720" y="4800600"/>
            <a:ext cx="79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22860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4008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11680" y="373392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914400" y="40384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959840" y="1170000"/>
            <a:ext cx="6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039360" y="1170000"/>
            <a:ext cx="73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914400" y="43434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6576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284200" y="144792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28600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314160" y="1170000"/>
            <a:ext cx="68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292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96440" y="403848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789800" y="11430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9144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06320" y="11700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914400" y="190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912600" y="137160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895480" y="205740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6576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732840" y="228600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772400" y="14479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7421760" y="1170000"/>
            <a:ext cx="717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029200" y="2666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104080" y="23623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638680" y="274320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40080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397560" y="297180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400800" y="3581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319440" y="32767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025960" y="33526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6576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733200" y="34290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28600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361600" y="350532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91440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990000" y="358128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40080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476040" y="434340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502920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104440" y="44197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65760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655440" y="449568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28600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283840" y="457200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28600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283480" y="48769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657600" y="5257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655080" y="49528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n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/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M (Subscriber Identity Module): secret PIN (personal identification numb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twork: challenge response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 and signaling encrypted on the wireless link (after successful authenti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ry identity TMS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mporary Mobile Subscriber Ident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ly assigned at each new location update (L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ed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algorithms specified in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3 for authentication (“secret”, open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5 for encryption (standardiz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8 for key generation (“secret”, open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7010280" y="3352680"/>
            <a:ext cx="1752840" cy="18288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ret”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 and A8 available via th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providers can use stronger mechani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-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0" name=""/>
          <p:cNvGrpSpPr/>
          <p:nvPr/>
        </p:nvGrpSpPr>
        <p:grpSpPr>
          <a:xfrm>
            <a:off x="6188040" y="1096920"/>
            <a:ext cx="405000" cy="487440"/>
            <a:chOff x="6188040" y="1096920"/>
            <a:chExt cx="405000" cy="487440"/>
          </a:xfrm>
        </p:grpSpPr>
        <p:sp>
          <p:nvSpPr>
            <p:cNvPr id="2091" name=""/>
            <p:cNvSpPr/>
            <p:nvPr/>
          </p:nvSpPr>
          <p:spPr>
            <a:xfrm>
              <a:off x="6188040" y="109692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2" name=""/>
            <p:cNvGrpSpPr/>
            <p:nvPr/>
          </p:nvGrpSpPr>
          <p:grpSpPr>
            <a:xfrm>
              <a:off x="6216480" y="1230480"/>
              <a:ext cx="339840" cy="110880"/>
              <a:chOff x="6216480" y="1230480"/>
              <a:chExt cx="339840" cy="110880"/>
            </a:xfrm>
          </p:grpSpPr>
          <p:sp>
            <p:nvSpPr>
              <p:cNvPr id="2093" name=""/>
              <p:cNvSpPr/>
              <p:nvPr/>
            </p:nvSpPr>
            <p:spPr>
              <a:xfrm>
                <a:off x="6518160" y="1322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216480" y="12952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275520" y="12351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259680" y="123048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7" name=""/>
            <p:cNvGrpSpPr/>
            <p:nvPr/>
          </p:nvGrpSpPr>
          <p:grpSpPr>
            <a:xfrm>
              <a:off x="6253200" y="1208160"/>
              <a:ext cx="233280" cy="225360"/>
              <a:chOff x="6253200" y="1208160"/>
              <a:chExt cx="233280" cy="225360"/>
            </a:xfrm>
          </p:grpSpPr>
          <p:sp>
            <p:nvSpPr>
              <p:cNvPr id="2098" name=""/>
              <p:cNvSpPr/>
              <p:nvPr/>
            </p:nvSpPr>
            <p:spPr>
              <a:xfrm>
                <a:off x="6269040" y="124920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253200" y="130644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307200" y="120816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1" name=""/>
          <p:cNvGrpSpPr/>
          <p:nvPr/>
        </p:nvGrpSpPr>
        <p:grpSpPr>
          <a:xfrm>
            <a:off x="6311880" y="954000"/>
            <a:ext cx="344520" cy="681120"/>
            <a:chOff x="6311880" y="954000"/>
            <a:chExt cx="344520" cy="681120"/>
          </a:xfrm>
        </p:grpSpPr>
        <p:sp>
          <p:nvSpPr>
            <p:cNvPr id="2102" name=""/>
            <p:cNvSpPr/>
            <p:nvPr/>
          </p:nvSpPr>
          <p:spPr>
            <a:xfrm>
              <a:off x="6335640" y="1441440"/>
              <a:ext cx="314280" cy="15552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445080" y="1525680"/>
              <a:ext cx="211320" cy="10944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311880" y="954000"/>
              <a:ext cx="303120" cy="60804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432480" y="965160"/>
              <a:ext cx="190440" cy="27000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334200" y="1146240"/>
              <a:ext cx="249120" cy="35244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7" name=""/>
            <p:cNvGrpSpPr/>
            <p:nvPr/>
          </p:nvGrpSpPr>
          <p:grpSpPr>
            <a:xfrm>
              <a:off x="6473880" y="1022400"/>
              <a:ext cx="128520" cy="147600"/>
              <a:chOff x="6473880" y="1022400"/>
              <a:chExt cx="128520" cy="147600"/>
            </a:xfrm>
          </p:grpSpPr>
          <p:sp>
            <p:nvSpPr>
              <p:cNvPr id="2108" name=""/>
              <p:cNvSpPr/>
              <p:nvPr/>
            </p:nvSpPr>
            <p:spPr>
              <a:xfrm>
                <a:off x="6473880" y="1022400"/>
                <a:ext cx="128520" cy="14760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9" name=""/>
              <p:cNvGrpSpPr/>
              <p:nvPr/>
            </p:nvGrpSpPr>
            <p:grpSpPr>
              <a:xfrm>
                <a:off x="6505560" y="1047600"/>
                <a:ext cx="69840" cy="96840"/>
                <a:chOff x="6505560" y="1047600"/>
                <a:chExt cx="69840" cy="9684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6537240" y="1090440"/>
                  <a:ext cx="6480" cy="8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6561000" y="11016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505560" y="11174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529320" y="112716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6554880" y="1136520"/>
                  <a:ext cx="61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6519960" y="11016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543720" y="111276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518160" y="104760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543720" y="10573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567480" y="10684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510240" y="10825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526080" y="10684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551640" y="107784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3" name=""/>
            <p:cNvGrpSpPr/>
            <p:nvPr/>
          </p:nvGrpSpPr>
          <p:grpSpPr>
            <a:xfrm>
              <a:off x="6373800" y="1198440"/>
              <a:ext cx="168120" cy="274680"/>
              <a:chOff x="6373800" y="1198440"/>
              <a:chExt cx="168120" cy="274680"/>
            </a:xfrm>
          </p:grpSpPr>
          <p:sp>
            <p:nvSpPr>
              <p:cNvPr id="2124" name=""/>
              <p:cNvSpPr/>
              <p:nvPr/>
            </p:nvSpPr>
            <p:spPr>
              <a:xfrm>
                <a:off x="6458040" y="14335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424560" y="1198440"/>
                <a:ext cx="3348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465960" y="12160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507000" y="12351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413400" y="123984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456240" y="12556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497640" y="127476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402240" y="12780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445080" y="129528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486480" y="13143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392880" y="1319040"/>
                <a:ext cx="3348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435720" y="133524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475320" y="135396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383160" y="1359000"/>
                <a:ext cx="352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424560" y="13762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465960" y="13939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373800" y="139860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416640" y="14144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2" name=""/>
          <p:cNvGrpSpPr/>
          <p:nvPr/>
        </p:nvGrpSpPr>
        <p:grpSpPr>
          <a:xfrm>
            <a:off x="6208560" y="1096920"/>
            <a:ext cx="198720" cy="227160"/>
            <a:chOff x="6208560" y="1096920"/>
            <a:chExt cx="198720" cy="227160"/>
          </a:xfrm>
        </p:grpSpPr>
        <p:grpSp>
          <p:nvGrpSpPr>
            <p:cNvPr id="2143" name=""/>
            <p:cNvGrpSpPr/>
            <p:nvPr/>
          </p:nvGrpSpPr>
          <p:grpSpPr>
            <a:xfrm>
              <a:off x="6272280" y="1168560"/>
              <a:ext cx="96840" cy="102960"/>
              <a:chOff x="6272280" y="1168560"/>
              <a:chExt cx="96840" cy="102960"/>
            </a:xfrm>
          </p:grpSpPr>
          <p:sp>
            <p:nvSpPr>
              <p:cNvPr id="2144" name=""/>
              <p:cNvSpPr/>
              <p:nvPr/>
            </p:nvSpPr>
            <p:spPr>
              <a:xfrm>
                <a:off x="6272280" y="116856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272280" y="116856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6323040" y="1122480"/>
              <a:ext cx="71280" cy="81000"/>
              <a:chOff x="6323040" y="1122480"/>
              <a:chExt cx="71280" cy="81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6323040" y="112248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323040" y="112248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9" name=""/>
            <p:cNvGrpSpPr/>
            <p:nvPr/>
          </p:nvGrpSpPr>
          <p:grpSpPr>
            <a:xfrm>
              <a:off x="6208560" y="1235160"/>
              <a:ext cx="152640" cy="88920"/>
              <a:chOff x="6208560" y="1235160"/>
              <a:chExt cx="152640" cy="88920"/>
            </a:xfrm>
          </p:grpSpPr>
          <p:sp>
            <p:nvSpPr>
              <p:cNvPr id="2150" name=""/>
              <p:cNvSpPr/>
              <p:nvPr/>
            </p:nvSpPr>
            <p:spPr>
              <a:xfrm>
                <a:off x="6208560" y="123516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208560" y="123516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2" name=""/>
            <p:cNvSpPr/>
            <p:nvPr/>
          </p:nvSpPr>
          <p:spPr>
            <a:xfrm>
              <a:off x="6323040" y="1096920"/>
              <a:ext cx="84240" cy="5400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3" name=""/>
          <p:cNvSpPr/>
          <p:nvPr/>
        </p:nvSpPr>
        <p:spPr>
          <a:xfrm>
            <a:off x="2482920" y="114300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2843280" y="1068480"/>
            <a:ext cx="183960" cy="493200"/>
            <a:chOff x="2843280" y="1068480"/>
            <a:chExt cx="183960" cy="493200"/>
          </a:xfrm>
        </p:grpSpPr>
        <p:grpSp>
          <p:nvGrpSpPr>
            <p:cNvPr id="2155" name=""/>
            <p:cNvGrpSpPr/>
            <p:nvPr/>
          </p:nvGrpSpPr>
          <p:grpSpPr>
            <a:xfrm>
              <a:off x="2846520" y="1238400"/>
              <a:ext cx="180720" cy="323280"/>
              <a:chOff x="2846520" y="1238400"/>
              <a:chExt cx="180720" cy="323280"/>
            </a:xfrm>
          </p:grpSpPr>
          <p:grpSp>
            <p:nvGrpSpPr>
              <p:cNvPr id="2156" name=""/>
              <p:cNvGrpSpPr/>
              <p:nvPr/>
            </p:nvGrpSpPr>
            <p:grpSpPr>
              <a:xfrm>
                <a:off x="2846520" y="1247760"/>
                <a:ext cx="115920" cy="311040"/>
                <a:chOff x="2846520" y="1247760"/>
                <a:chExt cx="115920" cy="311040"/>
              </a:xfrm>
            </p:grpSpPr>
            <p:sp>
              <p:nvSpPr>
                <p:cNvPr id="2157" name=""/>
                <p:cNvSpPr/>
                <p:nvPr/>
              </p:nvSpPr>
              <p:spPr>
                <a:xfrm>
                  <a:off x="2892600" y="124776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V="1">
                  <a:off x="2879640" y="1250640"/>
                  <a:ext cx="5256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2878200" y="131616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V="1">
                  <a:off x="2846520" y="1452240"/>
                  <a:ext cx="10620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2860560" y="1454040"/>
                  <a:ext cx="10188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V="1">
                  <a:off x="2859120" y="131580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2894040" y="124776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4" name=""/>
              <p:cNvSpPr/>
              <p:nvPr/>
            </p:nvSpPr>
            <p:spPr>
              <a:xfrm flipV="1">
                <a:off x="2960640" y="143316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943360" y="1319040"/>
                <a:ext cx="6012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2943360" y="1239840"/>
                <a:ext cx="1404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2935440" y="1238400"/>
                <a:ext cx="2520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936880" y="1247760"/>
                <a:ext cx="3816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2954160" y="1306440"/>
                <a:ext cx="1620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955960" y="1454040"/>
                <a:ext cx="7128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1" name=""/>
            <p:cNvGrpSpPr/>
            <p:nvPr/>
          </p:nvGrpSpPr>
          <p:grpSpPr>
            <a:xfrm>
              <a:off x="2843280" y="1084320"/>
              <a:ext cx="177840" cy="474480"/>
              <a:chOff x="2843280" y="1084320"/>
              <a:chExt cx="177840" cy="474480"/>
            </a:xfrm>
          </p:grpSpPr>
          <p:sp>
            <p:nvSpPr>
              <p:cNvPr id="2172" name=""/>
              <p:cNvSpPr/>
              <p:nvPr/>
            </p:nvSpPr>
            <p:spPr>
              <a:xfrm flipV="1">
                <a:off x="2843280" y="108432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916360" y="1098720"/>
                <a:ext cx="4428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2960640" y="1519200"/>
                <a:ext cx="6048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924280" y="109368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844720" y="1555920"/>
                <a:ext cx="117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7" name=""/>
            <p:cNvSpPr/>
            <p:nvPr/>
          </p:nvSpPr>
          <p:spPr>
            <a:xfrm>
              <a:off x="2897280" y="106848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2884320" y="764640"/>
            <a:ext cx="812520" cy="721080"/>
            <a:chOff x="2884320" y="764640"/>
            <a:chExt cx="812520" cy="721080"/>
          </a:xfrm>
        </p:grpSpPr>
        <p:grpSp>
          <p:nvGrpSpPr>
            <p:cNvPr id="2179" name=""/>
            <p:cNvGrpSpPr/>
            <p:nvPr/>
          </p:nvGrpSpPr>
          <p:grpSpPr>
            <a:xfrm>
              <a:off x="3165120" y="764640"/>
              <a:ext cx="531720" cy="721080"/>
              <a:chOff x="3165120" y="764640"/>
              <a:chExt cx="531720" cy="721080"/>
            </a:xfrm>
          </p:grpSpPr>
          <p:sp>
            <p:nvSpPr>
              <p:cNvPr id="2180" name=""/>
              <p:cNvSpPr/>
              <p:nvPr/>
            </p:nvSpPr>
            <p:spPr>
              <a:xfrm>
                <a:off x="3259440" y="764640"/>
                <a:ext cx="43740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227760" y="810000"/>
                <a:ext cx="37692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165120" y="863640"/>
                <a:ext cx="35244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3" name=""/>
            <p:cNvGrpSpPr/>
            <p:nvPr/>
          </p:nvGrpSpPr>
          <p:grpSpPr>
            <a:xfrm>
              <a:off x="2989080" y="898560"/>
              <a:ext cx="447480" cy="479520"/>
              <a:chOff x="2989080" y="898560"/>
              <a:chExt cx="447480" cy="479520"/>
            </a:xfrm>
          </p:grpSpPr>
          <p:sp>
            <p:nvSpPr>
              <p:cNvPr id="2184" name=""/>
              <p:cNvSpPr/>
              <p:nvPr/>
            </p:nvSpPr>
            <p:spPr>
              <a:xfrm>
                <a:off x="3069000" y="898560"/>
                <a:ext cx="36756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041280" y="928440"/>
                <a:ext cx="32076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989080" y="965520"/>
                <a:ext cx="29844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2951640" y="996120"/>
              <a:ext cx="26892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914560" y="101556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884320" y="104904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907000" y="1080360"/>
              <a:ext cx="11988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1" name=""/>
          <p:cNvSpPr/>
          <p:nvPr/>
        </p:nvSpPr>
        <p:spPr>
          <a:xfrm>
            <a:off x="1676520" y="45720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676520" y="2362320"/>
            <a:ext cx="2057400" cy="167616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209680" y="3352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438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2667960" y="2438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214000" y="243828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170028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89728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270504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906560" y="403848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486400" y="2362320"/>
            <a:ext cx="2057400" cy="31240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124080"/>
              <a:gd name="textAreaBottom" fmla="*/ 3023640 h 3124080"/>
            </a:gdLst>
            <a:ahLst/>
            <a:rect l="textAreaLeft" t="textAreaTop" r="textAreaRight" b="textAreaBottom"/>
            <a:pathLst>
              <a:path w="21600" h="32797">
                <a:moveTo>
                  <a:pt x="3600" y="0"/>
                </a:moveTo>
                <a:arcTo wR="3600" hR="3600" stAng="16200000" swAng="-5400000"/>
                <a:lnTo>
                  <a:pt x="0" y="29197"/>
                </a:lnTo>
                <a:arcTo wR="3600" hR="3600" stAng="10800000" swAng="-5400000"/>
                <a:lnTo>
                  <a:pt x="18000" y="32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6019920" y="33526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624852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792040" y="2438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633720" y="243828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51052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70752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51528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717160" y="403848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  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35268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905120" y="4800600"/>
            <a:ext cx="1638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=? 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172560" y="49212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3580920" y="5073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252320" y="22701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267440" y="47689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268880" y="502920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2211120" y="18288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50680" y="17524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839520" y="29718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95160" y="4876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622280" y="37339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139040" y="5715000"/>
            <a:ext cx="573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ndividual subscriber authentication 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ES: signed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 - key generation and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6188040" y="1096920"/>
            <a:ext cx="405000" cy="487440"/>
            <a:chOff x="6188040" y="1096920"/>
            <a:chExt cx="405000" cy="487440"/>
          </a:xfrm>
        </p:grpSpPr>
        <p:sp>
          <p:nvSpPr>
            <p:cNvPr id="2227" name=""/>
            <p:cNvSpPr/>
            <p:nvPr/>
          </p:nvSpPr>
          <p:spPr>
            <a:xfrm>
              <a:off x="6188040" y="109692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8" name=""/>
            <p:cNvGrpSpPr/>
            <p:nvPr/>
          </p:nvGrpSpPr>
          <p:grpSpPr>
            <a:xfrm>
              <a:off x="6216480" y="1230480"/>
              <a:ext cx="339840" cy="110880"/>
              <a:chOff x="6216480" y="1230480"/>
              <a:chExt cx="339840" cy="110880"/>
            </a:xfrm>
          </p:grpSpPr>
          <p:sp>
            <p:nvSpPr>
              <p:cNvPr id="2229" name=""/>
              <p:cNvSpPr/>
              <p:nvPr/>
            </p:nvSpPr>
            <p:spPr>
              <a:xfrm>
                <a:off x="6518160" y="1322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216480" y="12952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275520" y="12351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259680" y="123048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253200" y="1208160"/>
              <a:ext cx="233280" cy="225360"/>
              <a:chOff x="6253200" y="1208160"/>
              <a:chExt cx="233280" cy="225360"/>
            </a:xfrm>
          </p:grpSpPr>
          <p:sp>
            <p:nvSpPr>
              <p:cNvPr id="2234" name=""/>
              <p:cNvSpPr/>
              <p:nvPr/>
            </p:nvSpPr>
            <p:spPr>
              <a:xfrm>
                <a:off x="6269040" y="124920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253200" y="130644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307200" y="120816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7" name=""/>
          <p:cNvGrpSpPr/>
          <p:nvPr/>
        </p:nvGrpSpPr>
        <p:grpSpPr>
          <a:xfrm>
            <a:off x="6311880" y="954000"/>
            <a:ext cx="344520" cy="681120"/>
            <a:chOff x="6311880" y="954000"/>
            <a:chExt cx="344520" cy="681120"/>
          </a:xfrm>
        </p:grpSpPr>
        <p:sp>
          <p:nvSpPr>
            <p:cNvPr id="2238" name=""/>
            <p:cNvSpPr/>
            <p:nvPr/>
          </p:nvSpPr>
          <p:spPr>
            <a:xfrm>
              <a:off x="6335640" y="1441440"/>
              <a:ext cx="314280" cy="15552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445080" y="1525680"/>
              <a:ext cx="211320" cy="10944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11880" y="954000"/>
              <a:ext cx="303120" cy="60804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432480" y="965160"/>
              <a:ext cx="190440" cy="27000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34200" y="1146240"/>
              <a:ext cx="249120" cy="35244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3" name=""/>
            <p:cNvGrpSpPr/>
            <p:nvPr/>
          </p:nvGrpSpPr>
          <p:grpSpPr>
            <a:xfrm>
              <a:off x="6473880" y="1022400"/>
              <a:ext cx="128520" cy="147600"/>
              <a:chOff x="6473880" y="1022400"/>
              <a:chExt cx="128520" cy="147600"/>
            </a:xfrm>
          </p:grpSpPr>
          <p:sp>
            <p:nvSpPr>
              <p:cNvPr id="2244" name=""/>
              <p:cNvSpPr/>
              <p:nvPr/>
            </p:nvSpPr>
            <p:spPr>
              <a:xfrm>
                <a:off x="6473880" y="1022400"/>
                <a:ext cx="128520" cy="14760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5" name=""/>
              <p:cNvGrpSpPr/>
              <p:nvPr/>
            </p:nvGrpSpPr>
            <p:grpSpPr>
              <a:xfrm>
                <a:off x="6505560" y="1047600"/>
                <a:ext cx="69840" cy="96840"/>
                <a:chOff x="6505560" y="1047600"/>
                <a:chExt cx="69840" cy="96840"/>
              </a:xfrm>
            </p:grpSpPr>
            <p:sp>
              <p:nvSpPr>
                <p:cNvPr id="2246" name=""/>
                <p:cNvSpPr/>
                <p:nvPr/>
              </p:nvSpPr>
              <p:spPr>
                <a:xfrm>
                  <a:off x="6537240" y="1090440"/>
                  <a:ext cx="6480" cy="8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>
                  <a:off x="6561000" y="11016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>
                  <a:off x="6505560" y="11174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6529320" y="112716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>
                  <a:off x="6554880" y="1136520"/>
                  <a:ext cx="61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6519960" y="11016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6543720" y="111276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6518160" y="104760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6543720" y="10573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6567480" y="10684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6510240" y="10825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6526080" y="10684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6551640" y="107784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9" name=""/>
            <p:cNvGrpSpPr/>
            <p:nvPr/>
          </p:nvGrpSpPr>
          <p:grpSpPr>
            <a:xfrm>
              <a:off x="6373800" y="1198440"/>
              <a:ext cx="168120" cy="274680"/>
              <a:chOff x="6373800" y="1198440"/>
              <a:chExt cx="168120" cy="274680"/>
            </a:xfrm>
          </p:grpSpPr>
          <p:sp>
            <p:nvSpPr>
              <p:cNvPr id="2260" name=""/>
              <p:cNvSpPr/>
              <p:nvPr/>
            </p:nvSpPr>
            <p:spPr>
              <a:xfrm>
                <a:off x="6458040" y="14335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424560" y="1198440"/>
                <a:ext cx="3348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465960" y="12160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507000" y="12351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413400" y="123984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456240" y="12556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497640" y="127476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402240" y="12780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445080" y="129528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486480" y="13143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392880" y="1319040"/>
                <a:ext cx="3348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435720" y="133524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475320" y="135396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383160" y="1359000"/>
                <a:ext cx="352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424560" y="13762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465960" y="13939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373800" y="139860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416640" y="14144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8" name=""/>
          <p:cNvGrpSpPr/>
          <p:nvPr/>
        </p:nvGrpSpPr>
        <p:grpSpPr>
          <a:xfrm>
            <a:off x="6208560" y="1096920"/>
            <a:ext cx="198720" cy="227160"/>
            <a:chOff x="6208560" y="1096920"/>
            <a:chExt cx="198720" cy="227160"/>
          </a:xfrm>
        </p:grpSpPr>
        <p:grpSp>
          <p:nvGrpSpPr>
            <p:cNvPr id="2279" name=""/>
            <p:cNvGrpSpPr/>
            <p:nvPr/>
          </p:nvGrpSpPr>
          <p:grpSpPr>
            <a:xfrm>
              <a:off x="6272280" y="1168560"/>
              <a:ext cx="96840" cy="102960"/>
              <a:chOff x="6272280" y="1168560"/>
              <a:chExt cx="96840" cy="102960"/>
            </a:xfrm>
          </p:grpSpPr>
          <p:sp>
            <p:nvSpPr>
              <p:cNvPr id="2280" name=""/>
              <p:cNvSpPr/>
              <p:nvPr/>
            </p:nvSpPr>
            <p:spPr>
              <a:xfrm>
                <a:off x="6272280" y="116856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272280" y="116856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6323040" y="1122480"/>
              <a:ext cx="71280" cy="81000"/>
              <a:chOff x="6323040" y="1122480"/>
              <a:chExt cx="71280" cy="81000"/>
            </a:xfrm>
          </p:grpSpPr>
          <p:sp>
            <p:nvSpPr>
              <p:cNvPr id="2283" name=""/>
              <p:cNvSpPr/>
              <p:nvPr/>
            </p:nvSpPr>
            <p:spPr>
              <a:xfrm>
                <a:off x="6323040" y="112248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323040" y="112248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6208560" y="1235160"/>
              <a:ext cx="152640" cy="88920"/>
              <a:chOff x="6208560" y="1235160"/>
              <a:chExt cx="152640" cy="88920"/>
            </a:xfrm>
          </p:grpSpPr>
          <p:sp>
            <p:nvSpPr>
              <p:cNvPr id="2286" name=""/>
              <p:cNvSpPr/>
              <p:nvPr/>
            </p:nvSpPr>
            <p:spPr>
              <a:xfrm>
                <a:off x="6208560" y="123516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208560" y="123516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6323040" y="1096920"/>
              <a:ext cx="84240" cy="5400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>
            <a:off x="2209680" y="114300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2570040" y="1068480"/>
            <a:ext cx="184320" cy="493200"/>
            <a:chOff x="2570040" y="1068480"/>
            <a:chExt cx="184320" cy="493200"/>
          </a:xfrm>
        </p:grpSpPr>
        <p:grpSp>
          <p:nvGrpSpPr>
            <p:cNvPr id="2291" name=""/>
            <p:cNvGrpSpPr/>
            <p:nvPr/>
          </p:nvGrpSpPr>
          <p:grpSpPr>
            <a:xfrm>
              <a:off x="2573280" y="1238400"/>
              <a:ext cx="181080" cy="323280"/>
              <a:chOff x="2573280" y="1238400"/>
              <a:chExt cx="181080" cy="323280"/>
            </a:xfrm>
          </p:grpSpPr>
          <p:grpSp>
            <p:nvGrpSpPr>
              <p:cNvPr id="2292" name=""/>
              <p:cNvGrpSpPr/>
              <p:nvPr/>
            </p:nvGrpSpPr>
            <p:grpSpPr>
              <a:xfrm>
                <a:off x="2573280" y="1247760"/>
                <a:ext cx="115920" cy="311040"/>
                <a:chOff x="2573280" y="1247760"/>
                <a:chExt cx="115920" cy="31104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2619360" y="124776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flipV="1">
                  <a:off x="2606760" y="1250640"/>
                  <a:ext cx="5220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604960" y="131616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V="1">
                  <a:off x="2573280" y="1452240"/>
                  <a:ext cx="10656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2587680" y="1454040"/>
                  <a:ext cx="10152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flipV="1">
                  <a:off x="2585880" y="131580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2620800" y="124776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0" name=""/>
              <p:cNvSpPr/>
              <p:nvPr/>
            </p:nvSpPr>
            <p:spPr>
              <a:xfrm flipV="1">
                <a:off x="2687760" y="143316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670120" y="1319040"/>
                <a:ext cx="6048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V="1">
                <a:off x="2670120" y="1239840"/>
                <a:ext cx="1440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V="1">
                <a:off x="2662200" y="1238400"/>
                <a:ext cx="2556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664000" y="1247760"/>
                <a:ext cx="3780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V="1">
                <a:off x="2681280" y="1306440"/>
                <a:ext cx="1584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682720" y="1454040"/>
                <a:ext cx="7164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2570040" y="1084320"/>
              <a:ext cx="177840" cy="474480"/>
              <a:chOff x="2570040" y="1084320"/>
              <a:chExt cx="177840" cy="474480"/>
            </a:xfrm>
          </p:grpSpPr>
          <p:sp>
            <p:nvSpPr>
              <p:cNvPr id="2308" name=""/>
              <p:cNvSpPr/>
              <p:nvPr/>
            </p:nvSpPr>
            <p:spPr>
              <a:xfrm flipV="1">
                <a:off x="2570040" y="108432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2643120" y="1098720"/>
                <a:ext cx="4464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2687760" y="1519200"/>
                <a:ext cx="6012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2651040" y="109368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2571840" y="1555920"/>
                <a:ext cx="117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2624040" y="106848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2611440" y="764640"/>
            <a:ext cx="812520" cy="721080"/>
            <a:chOff x="2611440" y="764640"/>
            <a:chExt cx="812520" cy="721080"/>
          </a:xfrm>
        </p:grpSpPr>
        <p:grpSp>
          <p:nvGrpSpPr>
            <p:cNvPr id="2315" name=""/>
            <p:cNvGrpSpPr/>
            <p:nvPr/>
          </p:nvGrpSpPr>
          <p:grpSpPr>
            <a:xfrm>
              <a:off x="2892600" y="764640"/>
              <a:ext cx="531360" cy="721080"/>
              <a:chOff x="2892600" y="764640"/>
              <a:chExt cx="531360" cy="721080"/>
            </a:xfrm>
          </p:grpSpPr>
          <p:sp>
            <p:nvSpPr>
              <p:cNvPr id="2316" name=""/>
              <p:cNvSpPr/>
              <p:nvPr/>
            </p:nvSpPr>
            <p:spPr>
              <a:xfrm>
                <a:off x="2985840" y="764640"/>
                <a:ext cx="43812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954160" y="810000"/>
                <a:ext cx="37764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892600" y="863640"/>
                <a:ext cx="35172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9" name=""/>
            <p:cNvGrpSpPr/>
            <p:nvPr/>
          </p:nvGrpSpPr>
          <p:grpSpPr>
            <a:xfrm>
              <a:off x="2716920" y="898560"/>
              <a:ext cx="446760" cy="479520"/>
              <a:chOff x="2716920" y="898560"/>
              <a:chExt cx="446760" cy="479520"/>
            </a:xfrm>
          </p:grpSpPr>
          <p:sp>
            <p:nvSpPr>
              <p:cNvPr id="2320" name=""/>
              <p:cNvSpPr/>
              <p:nvPr/>
            </p:nvSpPr>
            <p:spPr>
              <a:xfrm>
                <a:off x="2795400" y="898560"/>
                <a:ext cx="36828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769120" y="928440"/>
                <a:ext cx="31968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716920" y="965520"/>
                <a:ext cx="29736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3" name=""/>
            <p:cNvSpPr/>
            <p:nvPr/>
          </p:nvSpPr>
          <p:spPr>
            <a:xfrm>
              <a:off x="2678040" y="996120"/>
              <a:ext cx="26964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641680" y="101556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11440" y="104904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633400" y="1080360"/>
              <a:ext cx="12060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1676520" y="4952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1676520" y="2362320"/>
            <a:ext cx="2057400" cy="167616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209680" y="3352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971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438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2667960" y="2438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214000" y="243828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70028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89728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4004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752480" y="4143240"/>
            <a:ext cx="914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486400" y="2362320"/>
            <a:ext cx="2057400" cy="198108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019920" y="33526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7816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24852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5792040" y="2438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633720" y="243828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51052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707520" y="28954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35268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172560" y="49212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252320" y="227016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040280" y="495288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712160" y="17971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 (B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869440" y="175248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with 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865080" y="2803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95160" y="50734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7622280" y="28036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486400" y="4952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981760" y="541980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486400" y="4343400"/>
            <a:ext cx="806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21036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171880" y="541980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3276720" y="5533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276720" y="57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773840" y="5181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669040" y="49528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259092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6402960" y="49528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4008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10560" y="411480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rvices in GSM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mission standardized with only 9.6 k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coding allows 14,4 k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nough for Internet and multimedia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CSD (High-Speed Circuit Switched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standard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dling of several time-slots to get hig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UR (Air Interface User Ra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57.6 kbit/s using 4 slots, 14.4 ea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: ready to use, constant quality,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: channels blocked for voice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0" name=""/>
          <p:cNvGraphicFramePr/>
          <p:nvPr/>
        </p:nvGraphicFramePr>
        <p:xfrm>
          <a:off x="1523880" y="4114800"/>
          <a:ext cx="6526440" cy="20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114800"/>
                    <a:ext cx="6526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in Cell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Probability (Grade Of Service)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lang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s arrival rate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lls average duration (service time: 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33560" y="1509840"/>
                <a:ext cx="33066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O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λT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λT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rvices in GSM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free slots only if data packets ready to se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115 kbit/s using 8 slots temporari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ation 1998, introduced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: one step towards 3G, mor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: more investment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N (GPRS Support Nodes): GGSN and S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 (Gateway G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working unit between GPRS and PDN (Packet Data Netwo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 (Serving G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the MS (location, billing, secur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 (GPRS 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dd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RS quality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5" name=""/>
          <p:cNvGraphicFramePr/>
          <p:nvPr/>
        </p:nvGraphicFramePr>
        <p:xfrm>
          <a:off x="793800" y="1319040"/>
          <a:ext cx="7669080" cy="201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319040"/>
                    <a:ext cx="76690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7" name=""/>
          <p:cNvGraphicFramePr/>
          <p:nvPr/>
        </p:nvGraphicFramePr>
        <p:xfrm>
          <a:off x="609480" y="3581280"/>
          <a:ext cx="7923240" cy="1905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79232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RS architecture an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0" name=""/>
          <p:cNvGrpSpPr/>
          <p:nvPr/>
        </p:nvGrpSpPr>
        <p:grpSpPr>
          <a:xfrm>
            <a:off x="1447920" y="1295280"/>
            <a:ext cx="6381360" cy="4168440"/>
            <a:chOff x="1447920" y="1295280"/>
            <a:chExt cx="6381360" cy="4168440"/>
          </a:xfrm>
        </p:grpSpPr>
        <p:sp>
          <p:nvSpPr>
            <p:cNvPr id="2381" name=""/>
            <p:cNvSpPr/>
            <p:nvPr/>
          </p:nvSpPr>
          <p:spPr>
            <a:xfrm>
              <a:off x="1447920" y="2630520"/>
              <a:ext cx="484920" cy="48564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rot="10800000">
              <a:off x="1932840" y="2752200"/>
              <a:ext cx="727920" cy="24264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782440" y="2630520"/>
              <a:ext cx="60624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694480" y="2630520"/>
              <a:ext cx="60624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GS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38640" y="2630520"/>
              <a:ext cx="60624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GS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389040" y="4330800"/>
              <a:ext cx="60696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87" name=""/>
            <p:cNvCxnSpPr>
              <a:stCxn id="2383" idx="3"/>
              <a:endCxn id="2385" idx="1"/>
            </p:cNvCxnSpPr>
            <p:nvPr/>
          </p:nvCxnSpPr>
          <p:spPr>
            <a:xfrm>
              <a:off x="3389040" y="2812680"/>
              <a:ext cx="850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8" name=""/>
            <p:cNvCxnSpPr>
              <a:stCxn id="2384" idx="1"/>
              <a:endCxn id="2385" idx="3"/>
            </p:cNvCxnSpPr>
            <p:nvPr/>
          </p:nvCxnSpPr>
          <p:spPr>
            <a:xfrm flipH="1">
              <a:off x="4844520" y="2812680"/>
              <a:ext cx="850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89" name=""/>
            <p:cNvSpPr/>
            <p:nvPr/>
          </p:nvSpPr>
          <p:spPr>
            <a:xfrm flipV="1">
              <a:off x="2296800" y="2387520"/>
              <a:ext cx="0" cy="12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211480" y="3553920"/>
              <a:ext cx="395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116960" y="4937760"/>
              <a:ext cx="649800" cy="52596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66560" y="4087440"/>
              <a:ext cx="606240" cy="84996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L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539800" y="4937760"/>
              <a:ext cx="649440" cy="5234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94" name=""/>
            <p:cNvCxnSpPr>
              <a:stCxn id="2386" idx="1"/>
              <a:endCxn id="2393" idx="1"/>
            </p:cNvCxnSpPr>
            <p:nvPr/>
          </p:nvCxnSpPr>
          <p:spPr>
            <a:xfrm flipH="1">
              <a:off x="2865600" y="4512600"/>
              <a:ext cx="523440" cy="4255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395" name=""/>
            <p:cNvSpPr/>
            <p:nvPr/>
          </p:nvSpPr>
          <p:spPr>
            <a:xfrm>
              <a:off x="7273800" y="258300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96" name=""/>
            <p:cNvCxnSpPr>
              <a:stCxn id="2384" idx="3"/>
              <a:endCxn id="2395" idx="1"/>
            </p:cNvCxnSpPr>
            <p:nvPr/>
          </p:nvCxnSpPr>
          <p:spPr>
            <a:xfrm>
              <a:off x="6300720" y="2812680"/>
              <a:ext cx="971640" cy="13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97" name=""/>
            <p:cNvCxnSpPr>
              <a:stCxn id="2385" idx="2"/>
              <a:endCxn id="2392" idx="2"/>
            </p:cNvCxnSpPr>
            <p:nvPr/>
          </p:nvCxnSpPr>
          <p:spPr>
            <a:xfrm>
              <a:off x="4541760" y="2994840"/>
              <a:ext cx="425520" cy="1518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398" name=""/>
            <p:cNvCxnSpPr>
              <a:stCxn id="2392" idx="4"/>
              <a:endCxn id="2384" idx="2"/>
            </p:cNvCxnSpPr>
            <p:nvPr/>
          </p:nvCxnSpPr>
          <p:spPr>
            <a:xfrm flipV="1">
              <a:off x="5573160" y="2994480"/>
              <a:ext cx="425520" cy="1518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399" name=""/>
            <p:cNvCxnSpPr>
              <a:stCxn id="2385" idx="2"/>
              <a:endCxn id="2386" idx="3"/>
            </p:cNvCxnSpPr>
            <p:nvPr/>
          </p:nvCxnSpPr>
          <p:spPr>
            <a:xfrm flipH="1">
              <a:off x="3995640" y="2994840"/>
              <a:ext cx="546480" cy="1518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400" name=""/>
            <p:cNvSpPr/>
            <p:nvPr/>
          </p:nvSpPr>
          <p:spPr>
            <a:xfrm flipV="1">
              <a:off x="3753000" y="2387520"/>
              <a:ext cx="0" cy="12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688200" y="355392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5300280" y="2387520"/>
              <a:ext cx="0" cy="12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234040" y="355392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6756480" y="2387520"/>
              <a:ext cx="0" cy="1214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727680" y="3553920"/>
              <a:ext cx="34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6" name=""/>
            <p:cNvCxnSpPr>
              <a:stCxn id="2383" idx="2"/>
              <a:endCxn id="2386" idx="1"/>
            </p:cNvCxnSpPr>
            <p:nvPr/>
          </p:nvCxnSpPr>
          <p:spPr>
            <a:xfrm>
              <a:off x="3085560" y="2994840"/>
              <a:ext cx="303840" cy="1518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2407" name=""/>
            <p:cNvCxnSpPr>
              <a:stCxn id="2385" idx="2"/>
              <a:endCxn id="2391" idx="1"/>
            </p:cNvCxnSpPr>
            <p:nvPr/>
          </p:nvCxnSpPr>
          <p:spPr>
            <a:xfrm flipH="1">
              <a:off x="4442400" y="2994840"/>
              <a:ext cx="99000" cy="19432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2408" name=""/>
            <p:cNvSpPr/>
            <p:nvPr/>
          </p:nvSpPr>
          <p:spPr>
            <a:xfrm>
              <a:off x="4238640" y="1295280"/>
              <a:ext cx="606240" cy="36396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GS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9" name=""/>
            <p:cNvCxnSpPr>
              <a:stCxn id="2408" idx="2"/>
              <a:endCxn id="2385" idx="0"/>
            </p:cNvCxnSpPr>
            <p:nvPr/>
          </p:nvCxnSpPr>
          <p:spPr>
            <a:xfrm>
              <a:off x="4541400" y="1658880"/>
              <a:ext cx="1080" cy="971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10" name=""/>
            <p:cNvSpPr/>
            <p:nvPr/>
          </p:nvSpPr>
          <p:spPr>
            <a:xfrm>
              <a:off x="3996000" y="2023560"/>
              <a:ext cx="121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234040" y="173268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RS protocol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143000" y="1752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14300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/X.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14300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70572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143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143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438280" y="365760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4382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276720" y="365760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438280" y="3276720"/>
            <a:ext cx="838440" cy="3808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LC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flipH="1">
            <a:off x="3276720" y="3276720"/>
            <a:ext cx="838080" cy="3808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flipV="1">
            <a:off x="2438280" y="3276720"/>
            <a:ext cx="1676520" cy="38088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5" name=""/>
          <p:cNvCxnSpPr>
            <a:stCxn id="2418" idx="2"/>
            <a:endCxn id="2420" idx="2"/>
          </p:cNvCxnSpPr>
          <p:nvPr/>
        </p:nvCxnSpPr>
        <p:spPr>
          <a:xfrm flipH="1" rot="16200000">
            <a:off x="2208240" y="3772440"/>
            <a:ext cx="2160" cy="12963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26" name=""/>
          <p:cNvSpPr/>
          <p:nvPr/>
        </p:nvSpPr>
        <p:spPr>
          <a:xfrm>
            <a:off x="670572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/X.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572000" y="365760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8" name=""/>
          <p:cNvCxnSpPr>
            <a:stCxn id="2421" idx="2"/>
            <a:endCxn id="2427" idx="2"/>
          </p:cNvCxnSpPr>
          <p:nvPr/>
        </p:nvCxnSpPr>
        <p:spPr>
          <a:xfrm flipH="1" rot="16200000">
            <a:off x="434268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29" name=""/>
          <p:cNvSpPr/>
          <p:nvPr/>
        </p:nvSpPr>
        <p:spPr>
          <a:xfrm flipV="1">
            <a:off x="2209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434340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991880" y="13716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123440" y="13716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333120" y="137160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410080" y="3657600"/>
            <a:ext cx="83844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1/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647712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705720" y="365760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1/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7" name=""/>
          <p:cNvCxnSpPr>
            <a:stCxn id="2434" idx="2"/>
            <a:endCxn id="2436" idx="2"/>
          </p:cNvCxnSpPr>
          <p:nvPr/>
        </p:nvCxnSpPr>
        <p:spPr>
          <a:xfrm flipH="1" rot="16200000">
            <a:off x="647640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38" name=""/>
          <p:cNvSpPr/>
          <p:nvPr/>
        </p:nvSpPr>
        <p:spPr>
          <a:xfrm>
            <a:off x="1357200" y="12794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048840" y="1295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107320" y="12952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708600" y="12952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70572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P/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777800" y="1371600"/>
            <a:ext cx="36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7924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14300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143000" y="3276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572000" y="3276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G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410080" y="327672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705720" y="3276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57200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410080" y="2895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P/T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572000" y="2514600"/>
            <a:ext cx="838080" cy="3808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D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5409360" y="2514600"/>
            <a:ext cx="838440" cy="3808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4572000" y="2514600"/>
            <a:ext cx="1676520" cy="38088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-95 (CdmaOne): [TIA/EIA IS-9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128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95: standard for the radio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-41: standard for the network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f 800MHz and 1900MHz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S-CDMA technology (1.2288 Mchips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link (downlink): ½ convolutional code, interleaved, 64 chips spreading sequence (Walsh-Hadamard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channel (code 0), synchronization channel (code 32), 7 paging channels, upto 63 traffic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link (uplink): 1/3 convolutional code, interleaved, 6 bits are mapped into a Walsh-Hadamard sequence, spreading using a User-BaseStation specific code (with perio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 power control (open-loop, fast closed lo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spl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oring: 3 sectoring (1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6 sec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966320" y="2763720"/>
            <a:ext cx="4623120" cy="2873880"/>
            <a:chOff x="1966320" y="2763720"/>
            <a:chExt cx="4623120" cy="2873880"/>
          </a:xfrm>
        </p:grpSpPr>
        <p:grpSp>
          <p:nvGrpSpPr>
            <p:cNvPr id="776" name=""/>
            <p:cNvGrpSpPr/>
            <p:nvPr/>
          </p:nvGrpSpPr>
          <p:grpSpPr>
            <a:xfrm>
              <a:off x="3073320" y="5107680"/>
              <a:ext cx="777960" cy="518040"/>
              <a:chOff x="3073320" y="5107680"/>
              <a:chExt cx="777960" cy="518040"/>
            </a:xfrm>
          </p:grpSpPr>
          <p:sp>
            <p:nvSpPr>
              <p:cNvPr id="777" name=""/>
              <p:cNvSpPr/>
              <p:nvPr/>
            </p:nvSpPr>
            <p:spPr>
              <a:xfrm>
                <a:off x="3301200" y="51076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294360" y="56257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3620520" y="5110920"/>
                <a:ext cx="230760" cy="511560"/>
                <a:chOff x="3620520" y="5110920"/>
                <a:chExt cx="230760" cy="51156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3620520" y="5110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3620880" y="5367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3073320" y="5113440"/>
                <a:ext cx="230760" cy="511560"/>
                <a:chOff x="3073320" y="5113440"/>
                <a:chExt cx="230760" cy="511560"/>
              </a:xfrm>
            </p:grpSpPr>
            <p:sp>
              <p:nvSpPr>
                <p:cNvPr id="783" name=""/>
                <p:cNvSpPr/>
                <p:nvPr/>
              </p:nvSpPr>
              <p:spPr>
                <a:xfrm flipH="1">
                  <a:off x="3073680" y="51134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flipV="1">
                  <a:off x="3073320" y="5369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5" name=""/>
            <p:cNvGrpSpPr/>
            <p:nvPr/>
          </p:nvGrpSpPr>
          <p:grpSpPr>
            <a:xfrm>
              <a:off x="3619440" y="4845240"/>
              <a:ext cx="777240" cy="517680"/>
              <a:chOff x="3619440" y="4845240"/>
              <a:chExt cx="777240" cy="517680"/>
            </a:xfrm>
          </p:grpSpPr>
          <p:sp>
            <p:nvSpPr>
              <p:cNvPr id="786" name=""/>
              <p:cNvSpPr/>
              <p:nvPr/>
            </p:nvSpPr>
            <p:spPr>
              <a:xfrm>
                <a:off x="3846960" y="48452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840120" y="53629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4166280" y="4848480"/>
                <a:ext cx="230400" cy="511200"/>
                <a:chOff x="4166280" y="4848480"/>
                <a:chExt cx="230400" cy="5112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166280" y="48484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V="1">
                  <a:off x="4166640" y="51044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3619440" y="4851000"/>
                <a:ext cx="230400" cy="511200"/>
                <a:chOff x="3619440" y="4851000"/>
                <a:chExt cx="230400" cy="511200"/>
              </a:xfrm>
            </p:grpSpPr>
            <p:sp>
              <p:nvSpPr>
                <p:cNvPr id="792" name=""/>
                <p:cNvSpPr/>
                <p:nvPr/>
              </p:nvSpPr>
              <p:spPr>
                <a:xfrm flipH="1">
                  <a:off x="3619800" y="48510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flipV="1">
                  <a:off x="3619440" y="51069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4" name=""/>
            <p:cNvGrpSpPr/>
            <p:nvPr/>
          </p:nvGrpSpPr>
          <p:grpSpPr>
            <a:xfrm>
              <a:off x="3070080" y="4591800"/>
              <a:ext cx="777960" cy="518040"/>
              <a:chOff x="3070080" y="4591800"/>
              <a:chExt cx="777960" cy="518040"/>
            </a:xfrm>
          </p:grpSpPr>
          <p:sp>
            <p:nvSpPr>
              <p:cNvPr id="795" name=""/>
              <p:cNvSpPr/>
              <p:nvPr/>
            </p:nvSpPr>
            <p:spPr>
              <a:xfrm>
                <a:off x="3297960" y="4591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291120" y="51098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3617280" y="4595040"/>
                <a:ext cx="230760" cy="511560"/>
                <a:chOff x="3617280" y="4595040"/>
                <a:chExt cx="230760" cy="5115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3617280" y="45950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V="1">
                  <a:off x="3617640" y="48513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070080" y="4597560"/>
                <a:ext cx="230760" cy="511560"/>
                <a:chOff x="3070080" y="4597560"/>
                <a:chExt cx="230760" cy="511560"/>
              </a:xfrm>
            </p:grpSpPr>
            <p:sp>
              <p:nvSpPr>
                <p:cNvPr id="801" name=""/>
                <p:cNvSpPr/>
                <p:nvPr/>
              </p:nvSpPr>
              <p:spPr>
                <a:xfrm flipH="1">
                  <a:off x="3070440" y="45975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 flipV="1">
                  <a:off x="3070080" y="48538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"/>
            <p:cNvGrpSpPr/>
            <p:nvPr/>
          </p:nvGrpSpPr>
          <p:grpSpPr>
            <a:xfrm>
              <a:off x="3616200" y="4329000"/>
              <a:ext cx="777240" cy="517680"/>
              <a:chOff x="3616200" y="4329000"/>
              <a:chExt cx="777240" cy="517680"/>
            </a:xfrm>
          </p:grpSpPr>
          <p:sp>
            <p:nvSpPr>
              <p:cNvPr id="804" name=""/>
              <p:cNvSpPr/>
              <p:nvPr/>
            </p:nvSpPr>
            <p:spPr>
              <a:xfrm>
                <a:off x="3843720" y="43290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836880" y="48466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4163040" y="4332240"/>
                <a:ext cx="230400" cy="511200"/>
                <a:chOff x="4163040" y="4332240"/>
                <a:chExt cx="230400" cy="5112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163040" y="43322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4163400" y="45882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3616200" y="4334760"/>
                <a:ext cx="230400" cy="511200"/>
                <a:chOff x="3616200" y="4334760"/>
                <a:chExt cx="230400" cy="511200"/>
              </a:xfrm>
            </p:grpSpPr>
            <p:sp>
              <p:nvSpPr>
                <p:cNvPr id="810" name=""/>
                <p:cNvSpPr/>
                <p:nvPr/>
              </p:nvSpPr>
              <p:spPr>
                <a:xfrm flipH="1">
                  <a:off x="3616560" y="43347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flipV="1">
                  <a:off x="3616200" y="45907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2" name=""/>
            <p:cNvGrpSpPr/>
            <p:nvPr/>
          </p:nvGrpSpPr>
          <p:grpSpPr>
            <a:xfrm>
              <a:off x="1975680" y="5119560"/>
              <a:ext cx="777960" cy="518040"/>
              <a:chOff x="1975680" y="5119560"/>
              <a:chExt cx="777960" cy="518040"/>
            </a:xfrm>
          </p:grpSpPr>
          <p:sp>
            <p:nvSpPr>
              <p:cNvPr id="813" name=""/>
              <p:cNvSpPr/>
              <p:nvPr/>
            </p:nvSpPr>
            <p:spPr>
              <a:xfrm>
                <a:off x="2203560" y="5119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196720" y="56376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2522880" y="5122800"/>
                <a:ext cx="230760" cy="511560"/>
                <a:chOff x="2522880" y="5122800"/>
                <a:chExt cx="230760" cy="51156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2522880" y="5122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V="1">
                  <a:off x="2523240" y="5379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1975680" y="5125320"/>
                <a:ext cx="230760" cy="511560"/>
                <a:chOff x="1975680" y="5125320"/>
                <a:chExt cx="230760" cy="511560"/>
              </a:xfrm>
            </p:grpSpPr>
            <p:sp>
              <p:nvSpPr>
                <p:cNvPr id="819" name=""/>
                <p:cNvSpPr/>
                <p:nvPr/>
              </p:nvSpPr>
              <p:spPr>
                <a:xfrm flipH="1">
                  <a:off x="1976040" y="5125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flipV="1">
                  <a:off x="1975680" y="53816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1" name=""/>
            <p:cNvGrpSpPr/>
            <p:nvPr/>
          </p:nvGrpSpPr>
          <p:grpSpPr>
            <a:xfrm>
              <a:off x="2521080" y="4856400"/>
              <a:ext cx="777960" cy="518040"/>
              <a:chOff x="2521080" y="4856400"/>
              <a:chExt cx="777960" cy="518040"/>
            </a:xfrm>
          </p:grpSpPr>
          <p:sp>
            <p:nvSpPr>
              <p:cNvPr id="822" name=""/>
              <p:cNvSpPr/>
              <p:nvPr/>
            </p:nvSpPr>
            <p:spPr>
              <a:xfrm>
                <a:off x="2748960" y="48564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742120" y="53744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3068280" y="4859640"/>
                <a:ext cx="230760" cy="511560"/>
                <a:chOff x="3068280" y="4859640"/>
                <a:chExt cx="230760" cy="5115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3068280" y="48596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V="1">
                  <a:off x="3068640" y="5115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2521080" y="4862160"/>
                <a:ext cx="230760" cy="511560"/>
                <a:chOff x="2521080" y="4862160"/>
                <a:chExt cx="230760" cy="511560"/>
              </a:xfrm>
            </p:grpSpPr>
            <p:sp>
              <p:nvSpPr>
                <p:cNvPr id="828" name=""/>
                <p:cNvSpPr/>
                <p:nvPr/>
              </p:nvSpPr>
              <p:spPr>
                <a:xfrm flipH="1">
                  <a:off x="2521440" y="48621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>
                  <a:off x="2521080" y="5118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"/>
            <p:cNvGrpSpPr/>
            <p:nvPr/>
          </p:nvGrpSpPr>
          <p:grpSpPr>
            <a:xfrm>
              <a:off x="1972440" y="4603320"/>
              <a:ext cx="777960" cy="518040"/>
              <a:chOff x="1972440" y="4603320"/>
              <a:chExt cx="777960" cy="518040"/>
            </a:xfrm>
          </p:grpSpPr>
          <p:sp>
            <p:nvSpPr>
              <p:cNvPr id="831" name=""/>
              <p:cNvSpPr/>
              <p:nvPr/>
            </p:nvSpPr>
            <p:spPr>
              <a:xfrm>
                <a:off x="2200320" y="4603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193480" y="51213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2519640" y="4606560"/>
                <a:ext cx="230760" cy="511560"/>
                <a:chOff x="2519640" y="4606560"/>
                <a:chExt cx="230760" cy="51156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2519640" y="46065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V="1">
                  <a:off x="2520000" y="48628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1972440" y="4609080"/>
                <a:ext cx="230760" cy="511560"/>
                <a:chOff x="1972440" y="4609080"/>
                <a:chExt cx="230760" cy="511560"/>
              </a:xfrm>
            </p:grpSpPr>
            <p:sp>
              <p:nvSpPr>
                <p:cNvPr id="837" name=""/>
                <p:cNvSpPr/>
                <p:nvPr/>
              </p:nvSpPr>
              <p:spPr>
                <a:xfrm flipH="1">
                  <a:off x="1972800" y="4609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flipV="1">
                  <a:off x="1972440" y="48654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9" name=""/>
            <p:cNvGrpSpPr/>
            <p:nvPr/>
          </p:nvGrpSpPr>
          <p:grpSpPr>
            <a:xfrm>
              <a:off x="2518560" y="4340520"/>
              <a:ext cx="777240" cy="517680"/>
              <a:chOff x="2518560" y="4340520"/>
              <a:chExt cx="777240" cy="517680"/>
            </a:xfrm>
          </p:grpSpPr>
          <p:sp>
            <p:nvSpPr>
              <p:cNvPr id="840" name=""/>
              <p:cNvSpPr/>
              <p:nvPr/>
            </p:nvSpPr>
            <p:spPr>
              <a:xfrm>
                <a:off x="2746080" y="43405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739240" y="48582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3065400" y="4343760"/>
                <a:ext cx="230400" cy="511200"/>
                <a:chOff x="3065400" y="4343760"/>
                <a:chExt cx="230400" cy="51120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3065400" y="43437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V="1">
                  <a:off x="3065760" y="45997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2518560" y="4346280"/>
                <a:ext cx="230400" cy="511200"/>
                <a:chOff x="2518560" y="4346280"/>
                <a:chExt cx="230400" cy="511200"/>
              </a:xfrm>
            </p:grpSpPr>
            <p:sp>
              <p:nvSpPr>
                <p:cNvPr id="846" name=""/>
                <p:cNvSpPr/>
                <p:nvPr/>
              </p:nvSpPr>
              <p:spPr>
                <a:xfrm flipH="1">
                  <a:off x="2518920" y="43462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flipV="1">
                  <a:off x="2518560" y="46022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"/>
            <p:cNvGrpSpPr/>
            <p:nvPr/>
          </p:nvGrpSpPr>
          <p:grpSpPr>
            <a:xfrm>
              <a:off x="3070440" y="4078800"/>
              <a:ext cx="777240" cy="517680"/>
              <a:chOff x="3070440" y="4078800"/>
              <a:chExt cx="777240" cy="517680"/>
            </a:xfrm>
          </p:grpSpPr>
          <p:sp>
            <p:nvSpPr>
              <p:cNvPr id="849" name=""/>
              <p:cNvSpPr/>
              <p:nvPr/>
            </p:nvSpPr>
            <p:spPr>
              <a:xfrm>
                <a:off x="3297960" y="4078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291120" y="45964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3617280" y="4082040"/>
                <a:ext cx="230400" cy="511200"/>
                <a:chOff x="3617280" y="4082040"/>
                <a:chExt cx="230400" cy="5112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3617280" y="40820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V="1">
                  <a:off x="3617640" y="43380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3070440" y="4084560"/>
                <a:ext cx="230400" cy="511200"/>
                <a:chOff x="3070440" y="4084560"/>
                <a:chExt cx="230400" cy="511200"/>
              </a:xfrm>
            </p:grpSpPr>
            <p:sp>
              <p:nvSpPr>
                <p:cNvPr id="855" name=""/>
                <p:cNvSpPr/>
                <p:nvPr/>
              </p:nvSpPr>
              <p:spPr>
                <a:xfrm flipH="1">
                  <a:off x="3070800" y="40845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 flipV="1">
                  <a:off x="3070440" y="43405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"/>
            <p:cNvGrpSpPr/>
            <p:nvPr/>
          </p:nvGrpSpPr>
          <p:grpSpPr>
            <a:xfrm>
              <a:off x="3615840" y="3816000"/>
              <a:ext cx="777960" cy="518040"/>
              <a:chOff x="3615840" y="3816000"/>
              <a:chExt cx="777960" cy="518040"/>
            </a:xfrm>
          </p:grpSpPr>
          <p:sp>
            <p:nvSpPr>
              <p:cNvPr id="858" name=""/>
              <p:cNvSpPr/>
              <p:nvPr/>
            </p:nvSpPr>
            <p:spPr>
              <a:xfrm>
                <a:off x="3843720" y="38160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836880" y="43340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"/>
              <p:cNvGrpSpPr/>
              <p:nvPr/>
            </p:nvGrpSpPr>
            <p:grpSpPr>
              <a:xfrm>
                <a:off x="4163040" y="3819240"/>
                <a:ext cx="230760" cy="511560"/>
                <a:chOff x="4163040" y="3819240"/>
                <a:chExt cx="230760" cy="51156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163040" y="3819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4163400" y="40755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3615840" y="3821760"/>
                <a:ext cx="230760" cy="511560"/>
                <a:chOff x="3615840" y="3821760"/>
                <a:chExt cx="230760" cy="511560"/>
              </a:xfrm>
            </p:grpSpPr>
            <p:sp>
              <p:nvSpPr>
                <p:cNvPr id="864" name=""/>
                <p:cNvSpPr/>
                <p:nvPr/>
              </p:nvSpPr>
              <p:spPr>
                <a:xfrm flipH="1">
                  <a:off x="3616200" y="3821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3615840" y="4078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6" name=""/>
            <p:cNvGrpSpPr/>
            <p:nvPr/>
          </p:nvGrpSpPr>
          <p:grpSpPr>
            <a:xfrm>
              <a:off x="3067200" y="3562560"/>
              <a:ext cx="777960" cy="518040"/>
              <a:chOff x="3067200" y="3562560"/>
              <a:chExt cx="777960" cy="518040"/>
            </a:xfrm>
          </p:grpSpPr>
          <p:sp>
            <p:nvSpPr>
              <p:cNvPr id="867" name=""/>
              <p:cNvSpPr/>
              <p:nvPr/>
            </p:nvSpPr>
            <p:spPr>
              <a:xfrm>
                <a:off x="3295080" y="3562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288240" y="40806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3614400" y="3565800"/>
                <a:ext cx="230760" cy="511560"/>
                <a:chOff x="3614400" y="3565800"/>
                <a:chExt cx="230760" cy="51156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3614400" y="3565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3614760" y="3822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3067200" y="3568320"/>
                <a:ext cx="230760" cy="511560"/>
                <a:chOff x="3067200" y="3568320"/>
                <a:chExt cx="230760" cy="511560"/>
              </a:xfrm>
            </p:grpSpPr>
            <p:sp>
              <p:nvSpPr>
                <p:cNvPr id="873" name=""/>
                <p:cNvSpPr/>
                <p:nvPr/>
              </p:nvSpPr>
              <p:spPr>
                <a:xfrm flipH="1">
                  <a:off x="3067560" y="3568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flipV="1">
                  <a:off x="3067200" y="38246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5" name=""/>
            <p:cNvGrpSpPr/>
            <p:nvPr/>
          </p:nvGrpSpPr>
          <p:grpSpPr>
            <a:xfrm>
              <a:off x="3612960" y="3299760"/>
              <a:ext cx="777960" cy="518040"/>
              <a:chOff x="3612960" y="3299760"/>
              <a:chExt cx="777960" cy="518040"/>
            </a:xfrm>
          </p:grpSpPr>
          <p:sp>
            <p:nvSpPr>
              <p:cNvPr id="876" name=""/>
              <p:cNvSpPr/>
              <p:nvPr/>
            </p:nvSpPr>
            <p:spPr>
              <a:xfrm>
                <a:off x="3840840" y="3299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834000" y="3817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"/>
              <p:cNvGrpSpPr/>
              <p:nvPr/>
            </p:nvGrpSpPr>
            <p:grpSpPr>
              <a:xfrm>
                <a:off x="4160160" y="3303000"/>
                <a:ext cx="230760" cy="511560"/>
                <a:chOff x="4160160" y="3303000"/>
                <a:chExt cx="230760" cy="51156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4160160" y="33030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4160520" y="3559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3612960" y="3305520"/>
                <a:ext cx="230760" cy="511560"/>
                <a:chOff x="3612960" y="3305520"/>
                <a:chExt cx="230760" cy="511560"/>
              </a:xfrm>
            </p:grpSpPr>
            <p:sp>
              <p:nvSpPr>
                <p:cNvPr id="882" name=""/>
                <p:cNvSpPr/>
                <p:nvPr/>
              </p:nvSpPr>
              <p:spPr>
                <a:xfrm flipH="1">
                  <a:off x="3613320" y="33055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flipV="1">
                  <a:off x="3612960" y="35618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"/>
            <p:cNvGrpSpPr/>
            <p:nvPr/>
          </p:nvGrpSpPr>
          <p:grpSpPr>
            <a:xfrm>
              <a:off x="1972800" y="4090320"/>
              <a:ext cx="777240" cy="517680"/>
              <a:chOff x="1972800" y="4090320"/>
              <a:chExt cx="777240" cy="517680"/>
            </a:xfrm>
          </p:grpSpPr>
          <p:sp>
            <p:nvSpPr>
              <p:cNvPr id="885" name=""/>
              <p:cNvSpPr/>
              <p:nvPr/>
            </p:nvSpPr>
            <p:spPr>
              <a:xfrm>
                <a:off x="2200320" y="4090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193480" y="46080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2519640" y="4093560"/>
                <a:ext cx="230400" cy="511200"/>
                <a:chOff x="2519640" y="4093560"/>
                <a:chExt cx="230400" cy="51120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2519640" y="40935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2520000" y="43495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1972800" y="4096080"/>
                <a:ext cx="230400" cy="511200"/>
                <a:chOff x="1972800" y="4096080"/>
                <a:chExt cx="230400" cy="511200"/>
              </a:xfrm>
            </p:grpSpPr>
            <p:sp>
              <p:nvSpPr>
                <p:cNvPr id="891" name=""/>
                <p:cNvSpPr/>
                <p:nvPr/>
              </p:nvSpPr>
              <p:spPr>
                <a:xfrm flipH="1">
                  <a:off x="1973160" y="40960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>
                  <a:off x="1972800" y="43520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3" name=""/>
            <p:cNvGrpSpPr/>
            <p:nvPr/>
          </p:nvGrpSpPr>
          <p:grpSpPr>
            <a:xfrm>
              <a:off x="2518200" y="3827520"/>
              <a:ext cx="777960" cy="518040"/>
              <a:chOff x="2518200" y="3827520"/>
              <a:chExt cx="777960" cy="518040"/>
            </a:xfrm>
          </p:grpSpPr>
          <p:sp>
            <p:nvSpPr>
              <p:cNvPr id="894" name=""/>
              <p:cNvSpPr/>
              <p:nvPr/>
            </p:nvSpPr>
            <p:spPr>
              <a:xfrm>
                <a:off x="2746080" y="38275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739240" y="4345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065400" y="3830760"/>
                <a:ext cx="230760" cy="511560"/>
                <a:chOff x="3065400" y="3830760"/>
                <a:chExt cx="230760" cy="5115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065400" y="3830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V="1">
                  <a:off x="3065760" y="4087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2518200" y="3833280"/>
                <a:ext cx="230760" cy="511560"/>
                <a:chOff x="2518200" y="3833280"/>
                <a:chExt cx="230760" cy="511560"/>
              </a:xfrm>
            </p:grpSpPr>
            <p:sp>
              <p:nvSpPr>
                <p:cNvPr id="900" name=""/>
                <p:cNvSpPr/>
                <p:nvPr/>
              </p:nvSpPr>
              <p:spPr>
                <a:xfrm flipH="1">
                  <a:off x="2518560" y="3833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 flipV="1">
                  <a:off x="2518200" y="4089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2" name=""/>
            <p:cNvGrpSpPr/>
            <p:nvPr/>
          </p:nvGrpSpPr>
          <p:grpSpPr>
            <a:xfrm>
              <a:off x="1969560" y="3574440"/>
              <a:ext cx="777240" cy="517680"/>
              <a:chOff x="1969560" y="3574440"/>
              <a:chExt cx="777240" cy="517680"/>
            </a:xfrm>
          </p:grpSpPr>
          <p:sp>
            <p:nvSpPr>
              <p:cNvPr id="903" name=""/>
              <p:cNvSpPr/>
              <p:nvPr/>
            </p:nvSpPr>
            <p:spPr>
              <a:xfrm>
                <a:off x="2197080" y="35744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190240" y="40921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2516400" y="3577680"/>
                <a:ext cx="230400" cy="511200"/>
                <a:chOff x="2516400" y="3577680"/>
                <a:chExt cx="230400" cy="51120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2516400" y="35776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2516760" y="38336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1969560" y="3580200"/>
                <a:ext cx="230400" cy="511200"/>
                <a:chOff x="1969560" y="3580200"/>
                <a:chExt cx="230400" cy="511200"/>
              </a:xfrm>
            </p:grpSpPr>
            <p:sp>
              <p:nvSpPr>
                <p:cNvPr id="909" name=""/>
                <p:cNvSpPr/>
                <p:nvPr/>
              </p:nvSpPr>
              <p:spPr>
                <a:xfrm flipH="1">
                  <a:off x="1969920" y="35802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flipV="1">
                  <a:off x="1969560" y="38361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2514960" y="3311280"/>
              <a:ext cx="777960" cy="518040"/>
              <a:chOff x="2514960" y="3311280"/>
              <a:chExt cx="777960" cy="518040"/>
            </a:xfrm>
          </p:grpSpPr>
          <p:sp>
            <p:nvSpPr>
              <p:cNvPr id="912" name=""/>
              <p:cNvSpPr/>
              <p:nvPr/>
            </p:nvSpPr>
            <p:spPr>
              <a:xfrm>
                <a:off x="2742840" y="3311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736000" y="3829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4" name=""/>
              <p:cNvGrpSpPr/>
              <p:nvPr/>
            </p:nvGrpSpPr>
            <p:grpSpPr>
              <a:xfrm>
                <a:off x="3062160" y="3314520"/>
                <a:ext cx="230760" cy="511560"/>
                <a:chOff x="3062160" y="3314520"/>
                <a:chExt cx="230760" cy="5115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3062160" y="33145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3062520" y="35708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2514960" y="3317040"/>
                <a:ext cx="230760" cy="511560"/>
                <a:chOff x="2514960" y="3317040"/>
                <a:chExt cx="230760" cy="511560"/>
              </a:xfrm>
            </p:grpSpPr>
            <p:sp>
              <p:nvSpPr>
                <p:cNvPr id="918" name=""/>
                <p:cNvSpPr/>
                <p:nvPr/>
              </p:nvSpPr>
              <p:spPr>
                <a:xfrm flipH="1">
                  <a:off x="2515320" y="33170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flipV="1">
                  <a:off x="2514960" y="35733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5265720" y="5087520"/>
              <a:ext cx="777960" cy="518040"/>
              <a:chOff x="5265720" y="5087520"/>
              <a:chExt cx="777960" cy="518040"/>
            </a:xfrm>
          </p:grpSpPr>
          <p:sp>
            <p:nvSpPr>
              <p:cNvPr id="921" name=""/>
              <p:cNvSpPr/>
              <p:nvPr/>
            </p:nvSpPr>
            <p:spPr>
              <a:xfrm>
                <a:off x="5493600" y="50875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486760" y="5605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3" name=""/>
              <p:cNvGrpSpPr/>
              <p:nvPr/>
            </p:nvGrpSpPr>
            <p:grpSpPr>
              <a:xfrm>
                <a:off x="5812920" y="5090760"/>
                <a:ext cx="230760" cy="511560"/>
                <a:chOff x="5812920" y="5090760"/>
                <a:chExt cx="230760" cy="51156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5812920" y="5090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V="1">
                  <a:off x="5813280" y="5347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6" name=""/>
              <p:cNvGrpSpPr/>
              <p:nvPr/>
            </p:nvGrpSpPr>
            <p:grpSpPr>
              <a:xfrm>
                <a:off x="5265720" y="5093280"/>
                <a:ext cx="230760" cy="511560"/>
                <a:chOff x="5265720" y="5093280"/>
                <a:chExt cx="230760" cy="511560"/>
              </a:xfrm>
            </p:grpSpPr>
            <p:sp>
              <p:nvSpPr>
                <p:cNvPr id="927" name=""/>
                <p:cNvSpPr/>
                <p:nvPr/>
              </p:nvSpPr>
              <p:spPr>
                <a:xfrm flipH="1">
                  <a:off x="5266080" y="5093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 flipV="1">
                  <a:off x="5265720" y="5349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9" name=""/>
            <p:cNvGrpSpPr/>
            <p:nvPr/>
          </p:nvGrpSpPr>
          <p:grpSpPr>
            <a:xfrm>
              <a:off x="5811480" y="4824720"/>
              <a:ext cx="777960" cy="518040"/>
              <a:chOff x="5811480" y="4824720"/>
              <a:chExt cx="777960" cy="518040"/>
            </a:xfrm>
          </p:grpSpPr>
          <p:sp>
            <p:nvSpPr>
              <p:cNvPr id="930" name=""/>
              <p:cNvSpPr/>
              <p:nvPr/>
            </p:nvSpPr>
            <p:spPr>
              <a:xfrm>
                <a:off x="6039360" y="48247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032520" y="5342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2" name=""/>
              <p:cNvGrpSpPr/>
              <p:nvPr/>
            </p:nvGrpSpPr>
            <p:grpSpPr>
              <a:xfrm>
                <a:off x="6358680" y="4827960"/>
                <a:ext cx="230760" cy="511560"/>
                <a:chOff x="6358680" y="4827960"/>
                <a:chExt cx="230760" cy="51156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6358680" y="4827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V="1">
                  <a:off x="6359040" y="5084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5811480" y="4830480"/>
                <a:ext cx="230760" cy="511560"/>
                <a:chOff x="5811480" y="4830480"/>
                <a:chExt cx="230760" cy="511560"/>
              </a:xfrm>
            </p:grpSpPr>
            <p:sp>
              <p:nvSpPr>
                <p:cNvPr id="936" name=""/>
                <p:cNvSpPr/>
                <p:nvPr/>
              </p:nvSpPr>
              <p:spPr>
                <a:xfrm flipH="1">
                  <a:off x="5811840" y="4830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flipV="1">
                  <a:off x="5811480" y="5086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8" name=""/>
            <p:cNvGrpSpPr/>
            <p:nvPr/>
          </p:nvGrpSpPr>
          <p:grpSpPr>
            <a:xfrm>
              <a:off x="5263200" y="4571640"/>
              <a:ext cx="777240" cy="517680"/>
              <a:chOff x="5263200" y="4571640"/>
              <a:chExt cx="777240" cy="517680"/>
            </a:xfrm>
          </p:grpSpPr>
          <p:sp>
            <p:nvSpPr>
              <p:cNvPr id="939" name=""/>
              <p:cNvSpPr/>
              <p:nvPr/>
            </p:nvSpPr>
            <p:spPr>
              <a:xfrm>
                <a:off x="5490720" y="45716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483880" y="5089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5810040" y="4574880"/>
                <a:ext cx="230400" cy="511200"/>
                <a:chOff x="5810040" y="4574880"/>
                <a:chExt cx="230400" cy="51120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810040" y="45748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V="1">
                  <a:off x="5810400" y="48308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5263200" y="4577400"/>
                <a:ext cx="230400" cy="511200"/>
                <a:chOff x="5263200" y="4577400"/>
                <a:chExt cx="230400" cy="511200"/>
              </a:xfrm>
            </p:grpSpPr>
            <p:sp>
              <p:nvSpPr>
                <p:cNvPr id="945" name=""/>
                <p:cNvSpPr/>
                <p:nvPr/>
              </p:nvSpPr>
              <p:spPr>
                <a:xfrm flipH="1">
                  <a:off x="5263560" y="45774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flipV="1">
                  <a:off x="5263200" y="48333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7" name=""/>
            <p:cNvGrpSpPr/>
            <p:nvPr/>
          </p:nvGrpSpPr>
          <p:grpSpPr>
            <a:xfrm>
              <a:off x="5808240" y="4308840"/>
              <a:ext cx="777960" cy="518040"/>
              <a:chOff x="5808240" y="4308840"/>
              <a:chExt cx="777960" cy="518040"/>
            </a:xfrm>
          </p:grpSpPr>
          <p:sp>
            <p:nvSpPr>
              <p:cNvPr id="948" name=""/>
              <p:cNvSpPr/>
              <p:nvPr/>
            </p:nvSpPr>
            <p:spPr>
              <a:xfrm>
                <a:off x="6036120" y="43088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29280" y="48268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6355440" y="4312080"/>
                <a:ext cx="230760" cy="511560"/>
                <a:chOff x="6355440" y="4312080"/>
                <a:chExt cx="230760" cy="51156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6355440" y="43120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6355800" y="45684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5808240" y="4314600"/>
                <a:ext cx="230760" cy="511560"/>
                <a:chOff x="5808240" y="4314600"/>
                <a:chExt cx="230760" cy="511560"/>
              </a:xfrm>
            </p:grpSpPr>
            <p:sp>
              <p:nvSpPr>
                <p:cNvPr id="954" name=""/>
                <p:cNvSpPr/>
                <p:nvPr/>
              </p:nvSpPr>
              <p:spPr>
                <a:xfrm flipH="1">
                  <a:off x="5808600" y="4314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flipV="1">
                  <a:off x="5808240" y="4570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6" name=""/>
            <p:cNvGrpSpPr/>
            <p:nvPr/>
          </p:nvGrpSpPr>
          <p:grpSpPr>
            <a:xfrm>
              <a:off x="4168080" y="5099040"/>
              <a:ext cx="777960" cy="518040"/>
              <a:chOff x="4168080" y="5099040"/>
              <a:chExt cx="777960" cy="518040"/>
            </a:xfrm>
          </p:grpSpPr>
          <p:sp>
            <p:nvSpPr>
              <p:cNvPr id="957" name=""/>
              <p:cNvSpPr/>
              <p:nvPr/>
            </p:nvSpPr>
            <p:spPr>
              <a:xfrm>
                <a:off x="4395960" y="50990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89120" y="56170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9" name=""/>
              <p:cNvGrpSpPr/>
              <p:nvPr/>
            </p:nvGrpSpPr>
            <p:grpSpPr>
              <a:xfrm>
                <a:off x="4715280" y="5102280"/>
                <a:ext cx="230760" cy="511560"/>
                <a:chOff x="4715280" y="5102280"/>
                <a:chExt cx="230760" cy="51156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4715280" y="5102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4715640" y="5358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4168080" y="5104800"/>
                <a:ext cx="230760" cy="511560"/>
                <a:chOff x="4168080" y="5104800"/>
                <a:chExt cx="230760" cy="511560"/>
              </a:xfrm>
            </p:grpSpPr>
            <p:sp>
              <p:nvSpPr>
                <p:cNvPr id="963" name=""/>
                <p:cNvSpPr/>
                <p:nvPr/>
              </p:nvSpPr>
              <p:spPr>
                <a:xfrm flipH="1">
                  <a:off x="4168440" y="5104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flipV="1">
                  <a:off x="4168080" y="5361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5" name=""/>
            <p:cNvGrpSpPr/>
            <p:nvPr/>
          </p:nvGrpSpPr>
          <p:grpSpPr>
            <a:xfrm>
              <a:off x="4713840" y="4836240"/>
              <a:ext cx="777960" cy="518040"/>
              <a:chOff x="4713840" y="4836240"/>
              <a:chExt cx="777960" cy="518040"/>
            </a:xfrm>
          </p:grpSpPr>
          <p:sp>
            <p:nvSpPr>
              <p:cNvPr id="966" name=""/>
              <p:cNvSpPr/>
              <p:nvPr/>
            </p:nvSpPr>
            <p:spPr>
              <a:xfrm>
                <a:off x="4941720" y="48362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934880" y="5354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8" name=""/>
              <p:cNvGrpSpPr/>
              <p:nvPr/>
            </p:nvGrpSpPr>
            <p:grpSpPr>
              <a:xfrm>
                <a:off x="5261040" y="4839480"/>
                <a:ext cx="230760" cy="511560"/>
                <a:chOff x="5261040" y="4839480"/>
                <a:chExt cx="230760" cy="51156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5261040" y="4839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V="1">
                  <a:off x="5261400" y="5095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4713840" y="4842000"/>
                <a:ext cx="230760" cy="511560"/>
                <a:chOff x="4713840" y="4842000"/>
                <a:chExt cx="230760" cy="511560"/>
              </a:xfrm>
            </p:grpSpPr>
            <p:sp>
              <p:nvSpPr>
                <p:cNvPr id="972" name=""/>
                <p:cNvSpPr/>
                <p:nvPr/>
              </p:nvSpPr>
              <p:spPr>
                <a:xfrm flipH="1">
                  <a:off x="4714200" y="48420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>
                  <a:off x="4713840" y="5098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4" name=""/>
            <p:cNvGrpSpPr/>
            <p:nvPr/>
          </p:nvGrpSpPr>
          <p:grpSpPr>
            <a:xfrm>
              <a:off x="4165200" y="4583160"/>
              <a:ext cx="777240" cy="517680"/>
              <a:chOff x="4165200" y="4583160"/>
              <a:chExt cx="777240" cy="517680"/>
            </a:xfrm>
          </p:grpSpPr>
          <p:sp>
            <p:nvSpPr>
              <p:cNvPr id="975" name=""/>
              <p:cNvSpPr/>
              <p:nvPr/>
            </p:nvSpPr>
            <p:spPr>
              <a:xfrm>
                <a:off x="4392720" y="45831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385880" y="51008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4712040" y="4586400"/>
                <a:ext cx="230400" cy="511200"/>
                <a:chOff x="4712040" y="4586400"/>
                <a:chExt cx="230400" cy="51120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712040" y="45864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V="1">
                  <a:off x="4712400" y="48423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4165200" y="4588920"/>
                <a:ext cx="230400" cy="511200"/>
                <a:chOff x="4165200" y="4588920"/>
                <a:chExt cx="230400" cy="511200"/>
              </a:xfrm>
            </p:grpSpPr>
            <p:sp>
              <p:nvSpPr>
                <p:cNvPr id="981" name=""/>
                <p:cNvSpPr/>
                <p:nvPr/>
              </p:nvSpPr>
              <p:spPr>
                <a:xfrm flipH="1">
                  <a:off x="4165560" y="45889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flipV="1">
                  <a:off x="4165200" y="48448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3" name=""/>
            <p:cNvGrpSpPr/>
            <p:nvPr/>
          </p:nvGrpSpPr>
          <p:grpSpPr>
            <a:xfrm>
              <a:off x="4710600" y="4320360"/>
              <a:ext cx="777960" cy="518040"/>
              <a:chOff x="4710600" y="4320360"/>
              <a:chExt cx="777960" cy="518040"/>
            </a:xfrm>
          </p:grpSpPr>
          <p:sp>
            <p:nvSpPr>
              <p:cNvPr id="984" name=""/>
              <p:cNvSpPr/>
              <p:nvPr/>
            </p:nvSpPr>
            <p:spPr>
              <a:xfrm>
                <a:off x="4938480" y="43203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931640" y="48384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6" name=""/>
              <p:cNvGrpSpPr/>
              <p:nvPr/>
            </p:nvGrpSpPr>
            <p:grpSpPr>
              <a:xfrm>
                <a:off x="5257800" y="4323600"/>
                <a:ext cx="230760" cy="511560"/>
                <a:chOff x="5257800" y="4323600"/>
                <a:chExt cx="230760" cy="51156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5257800" y="4323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5258160" y="4579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4710600" y="4326120"/>
                <a:ext cx="230760" cy="511560"/>
                <a:chOff x="4710600" y="4326120"/>
                <a:chExt cx="230760" cy="51156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710960" y="4326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flipV="1">
                  <a:off x="4710600" y="45824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2" name=""/>
            <p:cNvGrpSpPr/>
            <p:nvPr/>
          </p:nvGrpSpPr>
          <p:grpSpPr>
            <a:xfrm>
              <a:off x="5262840" y="4058280"/>
              <a:ext cx="777960" cy="518040"/>
              <a:chOff x="5262840" y="4058280"/>
              <a:chExt cx="777960" cy="518040"/>
            </a:xfrm>
          </p:grpSpPr>
          <p:sp>
            <p:nvSpPr>
              <p:cNvPr id="993" name=""/>
              <p:cNvSpPr/>
              <p:nvPr/>
            </p:nvSpPr>
            <p:spPr>
              <a:xfrm>
                <a:off x="5490720" y="4058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483880" y="45763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5" name=""/>
              <p:cNvGrpSpPr/>
              <p:nvPr/>
            </p:nvGrpSpPr>
            <p:grpSpPr>
              <a:xfrm>
                <a:off x="5810040" y="4061520"/>
                <a:ext cx="230760" cy="511560"/>
                <a:chOff x="5810040" y="4061520"/>
                <a:chExt cx="230760" cy="51156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810040" y="40615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5810400" y="43178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262840" y="4064040"/>
                <a:ext cx="230760" cy="511560"/>
                <a:chOff x="5262840" y="4064040"/>
                <a:chExt cx="230760" cy="511560"/>
              </a:xfrm>
            </p:grpSpPr>
            <p:sp>
              <p:nvSpPr>
                <p:cNvPr id="999" name=""/>
                <p:cNvSpPr/>
                <p:nvPr/>
              </p:nvSpPr>
              <p:spPr>
                <a:xfrm flipH="1">
                  <a:off x="5263200" y="40640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 flipV="1">
                  <a:off x="5262840" y="43203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1" name=""/>
            <p:cNvGrpSpPr/>
            <p:nvPr/>
          </p:nvGrpSpPr>
          <p:grpSpPr>
            <a:xfrm>
              <a:off x="5808600" y="3795840"/>
              <a:ext cx="777240" cy="517680"/>
              <a:chOff x="5808600" y="3795840"/>
              <a:chExt cx="777240" cy="517680"/>
            </a:xfrm>
          </p:grpSpPr>
          <p:sp>
            <p:nvSpPr>
              <p:cNvPr id="1002" name=""/>
              <p:cNvSpPr/>
              <p:nvPr/>
            </p:nvSpPr>
            <p:spPr>
              <a:xfrm>
                <a:off x="6036120" y="37958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029280" y="43135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4" name=""/>
              <p:cNvGrpSpPr/>
              <p:nvPr/>
            </p:nvGrpSpPr>
            <p:grpSpPr>
              <a:xfrm>
                <a:off x="6355440" y="3799080"/>
                <a:ext cx="230400" cy="511200"/>
                <a:chOff x="6355440" y="3799080"/>
                <a:chExt cx="230400" cy="51120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6355440" y="37990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355800" y="40550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5808600" y="3801600"/>
                <a:ext cx="230400" cy="511200"/>
                <a:chOff x="5808600" y="3801600"/>
                <a:chExt cx="230400" cy="511200"/>
              </a:xfrm>
            </p:grpSpPr>
            <p:sp>
              <p:nvSpPr>
                <p:cNvPr id="1008" name=""/>
                <p:cNvSpPr/>
                <p:nvPr/>
              </p:nvSpPr>
              <p:spPr>
                <a:xfrm flipH="1">
                  <a:off x="5808960" y="38016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 flipV="1">
                  <a:off x="5808600" y="40575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0" name=""/>
            <p:cNvGrpSpPr/>
            <p:nvPr/>
          </p:nvGrpSpPr>
          <p:grpSpPr>
            <a:xfrm>
              <a:off x="5259600" y="3542400"/>
              <a:ext cx="777960" cy="518040"/>
              <a:chOff x="5259600" y="3542400"/>
              <a:chExt cx="777960" cy="518040"/>
            </a:xfrm>
          </p:grpSpPr>
          <p:sp>
            <p:nvSpPr>
              <p:cNvPr id="1011" name=""/>
              <p:cNvSpPr/>
              <p:nvPr/>
            </p:nvSpPr>
            <p:spPr>
              <a:xfrm>
                <a:off x="5487480" y="35424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480640" y="40604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"/>
              <p:cNvGrpSpPr/>
              <p:nvPr/>
            </p:nvGrpSpPr>
            <p:grpSpPr>
              <a:xfrm>
                <a:off x="5806800" y="3545640"/>
                <a:ext cx="230760" cy="511560"/>
                <a:chOff x="5806800" y="3545640"/>
                <a:chExt cx="230760" cy="51156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5806800" y="35456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5807160" y="3801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5259600" y="3548160"/>
                <a:ext cx="230760" cy="511560"/>
                <a:chOff x="5259600" y="3548160"/>
                <a:chExt cx="230760" cy="511560"/>
              </a:xfrm>
            </p:grpSpPr>
            <p:sp>
              <p:nvSpPr>
                <p:cNvPr id="1017" name=""/>
                <p:cNvSpPr/>
                <p:nvPr/>
              </p:nvSpPr>
              <p:spPr>
                <a:xfrm flipH="1">
                  <a:off x="5259960" y="35481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 flipV="1">
                  <a:off x="5259600" y="3804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9" name=""/>
            <p:cNvGrpSpPr/>
            <p:nvPr/>
          </p:nvGrpSpPr>
          <p:grpSpPr>
            <a:xfrm>
              <a:off x="5805720" y="3279600"/>
              <a:ext cx="777240" cy="517680"/>
              <a:chOff x="5805720" y="3279600"/>
              <a:chExt cx="777240" cy="517680"/>
            </a:xfrm>
          </p:grpSpPr>
          <p:sp>
            <p:nvSpPr>
              <p:cNvPr id="1020" name=""/>
              <p:cNvSpPr/>
              <p:nvPr/>
            </p:nvSpPr>
            <p:spPr>
              <a:xfrm>
                <a:off x="6033240" y="32796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026400" y="3797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352560" y="3282840"/>
                <a:ext cx="230400" cy="511200"/>
                <a:chOff x="6352560" y="3282840"/>
                <a:chExt cx="230400" cy="51120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352560" y="32828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6352920" y="35388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5" name=""/>
              <p:cNvGrpSpPr/>
              <p:nvPr/>
            </p:nvGrpSpPr>
            <p:grpSpPr>
              <a:xfrm>
                <a:off x="5805720" y="3285360"/>
                <a:ext cx="230400" cy="511200"/>
                <a:chOff x="5805720" y="3285360"/>
                <a:chExt cx="230400" cy="511200"/>
              </a:xfrm>
            </p:grpSpPr>
            <p:sp>
              <p:nvSpPr>
                <p:cNvPr id="1026" name=""/>
                <p:cNvSpPr/>
                <p:nvPr/>
              </p:nvSpPr>
              <p:spPr>
                <a:xfrm flipH="1">
                  <a:off x="5806080" y="32853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H="1" flipV="1">
                  <a:off x="5805720" y="35413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8" name=""/>
            <p:cNvGrpSpPr/>
            <p:nvPr/>
          </p:nvGrpSpPr>
          <p:grpSpPr>
            <a:xfrm>
              <a:off x="4164840" y="4070160"/>
              <a:ext cx="777960" cy="518040"/>
              <a:chOff x="4164840" y="4070160"/>
              <a:chExt cx="777960" cy="518040"/>
            </a:xfrm>
          </p:grpSpPr>
          <p:sp>
            <p:nvSpPr>
              <p:cNvPr id="1029" name=""/>
              <p:cNvSpPr/>
              <p:nvPr/>
            </p:nvSpPr>
            <p:spPr>
              <a:xfrm>
                <a:off x="4392720" y="40701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385880" y="45882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4712040" y="4073400"/>
                <a:ext cx="230760" cy="511560"/>
                <a:chOff x="4712040" y="4073400"/>
                <a:chExt cx="230760" cy="51156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4712040" y="40734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V="1">
                  <a:off x="4712400" y="43297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4164840" y="4075920"/>
                <a:ext cx="230760" cy="511560"/>
                <a:chOff x="4164840" y="4075920"/>
                <a:chExt cx="230760" cy="511560"/>
              </a:xfrm>
            </p:grpSpPr>
            <p:sp>
              <p:nvSpPr>
                <p:cNvPr id="1035" name=""/>
                <p:cNvSpPr/>
                <p:nvPr/>
              </p:nvSpPr>
              <p:spPr>
                <a:xfrm flipH="1">
                  <a:off x="4165200" y="4075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H="1" flipV="1">
                  <a:off x="4164840" y="4332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7" name=""/>
            <p:cNvGrpSpPr/>
            <p:nvPr/>
          </p:nvGrpSpPr>
          <p:grpSpPr>
            <a:xfrm>
              <a:off x="4710960" y="3807360"/>
              <a:ext cx="777240" cy="517680"/>
              <a:chOff x="4710960" y="3807360"/>
              <a:chExt cx="777240" cy="517680"/>
            </a:xfrm>
          </p:grpSpPr>
          <p:sp>
            <p:nvSpPr>
              <p:cNvPr id="1038" name=""/>
              <p:cNvSpPr/>
              <p:nvPr/>
            </p:nvSpPr>
            <p:spPr>
              <a:xfrm>
                <a:off x="4938480" y="38073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931640" y="43250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5257800" y="3810600"/>
                <a:ext cx="230400" cy="511200"/>
                <a:chOff x="5257800" y="3810600"/>
                <a:chExt cx="230400" cy="51120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5257800" y="38106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V="1">
                  <a:off x="5258160" y="40665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4710960" y="3813120"/>
                <a:ext cx="230400" cy="511200"/>
                <a:chOff x="4710960" y="3813120"/>
                <a:chExt cx="230400" cy="511200"/>
              </a:xfrm>
            </p:grpSpPr>
            <p:sp>
              <p:nvSpPr>
                <p:cNvPr id="1044" name=""/>
                <p:cNvSpPr/>
                <p:nvPr/>
              </p:nvSpPr>
              <p:spPr>
                <a:xfrm flipH="1">
                  <a:off x="4711320" y="38131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 flipV="1">
                  <a:off x="4710960" y="40690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6" name=""/>
            <p:cNvGrpSpPr/>
            <p:nvPr/>
          </p:nvGrpSpPr>
          <p:grpSpPr>
            <a:xfrm>
              <a:off x="4161960" y="3553920"/>
              <a:ext cx="777960" cy="518040"/>
              <a:chOff x="4161960" y="3553920"/>
              <a:chExt cx="777960" cy="518040"/>
            </a:xfrm>
          </p:grpSpPr>
          <p:sp>
            <p:nvSpPr>
              <p:cNvPr id="1047" name=""/>
              <p:cNvSpPr/>
              <p:nvPr/>
            </p:nvSpPr>
            <p:spPr>
              <a:xfrm>
                <a:off x="4389840" y="35539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383000" y="40719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9" name=""/>
              <p:cNvGrpSpPr/>
              <p:nvPr/>
            </p:nvGrpSpPr>
            <p:grpSpPr>
              <a:xfrm>
                <a:off x="4709160" y="3557160"/>
                <a:ext cx="230760" cy="511560"/>
                <a:chOff x="4709160" y="3557160"/>
                <a:chExt cx="230760" cy="51156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4709160" y="35571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V="1">
                  <a:off x="4709520" y="3813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4161960" y="3559680"/>
                <a:ext cx="230760" cy="511560"/>
                <a:chOff x="4161960" y="3559680"/>
                <a:chExt cx="230760" cy="511560"/>
              </a:xfrm>
            </p:grpSpPr>
            <p:sp>
              <p:nvSpPr>
                <p:cNvPr id="1053" name=""/>
                <p:cNvSpPr/>
                <p:nvPr/>
              </p:nvSpPr>
              <p:spPr>
                <a:xfrm flipH="1">
                  <a:off x="4162320" y="35596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 flipV="1">
                  <a:off x="4161960" y="38160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5" name=""/>
            <p:cNvGrpSpPr/>
            <p:nvPr/>
          </p:nvGrpSpPr>
          <p:grpSpPr>
            <a:xfrm>
              <a:off x="4708080" y="3291120"/>
              <a:ext cx="777240" cy="517680"/>
              <a:chOff x="4708080" y="3291120"/>
              <a:chExt cx="777240" cy="51768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35600" y="32911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28760" y="3808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5254920" y="3294360"/>
                <a:ext cx="230400" cy="511200"/>
                <a:chOff x="5254920" y="3294360"/>
                <a:chExt cx="230400" cy="5112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5254920" y="32943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 flipV="1">
                  <a:off x="5255280" y="35503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4708080" y="3296880"/>
                <a:ext cx="230400" cy="511200"/>
                <a:chOff x="4708080" y="3296880"/>
                <a:chExt cx="230400" cy="511200"/>
              </a:xfrm>
            </p:grpSpPr>
            <p:sp>
              <p:nvSpPr>
                <p:cNvPr id="1062" name=""/>
                <p:cNvSpPr/>
                <p:nvPr/>
              </p:nvSpPr>
              <p:spPr>
                <a:xfrm flipH="1">
                  <a:off x="4708440" y="32968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 flipV="1">
                  <a:off x="4708080" y="35528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4" name=""/>
            <p:cNvGrpSpPr/>
            <p:nvPr/>
          </p:nvGrpSpPr>
          <p:grpSpPr>
            <a:xfrm>
              <a:off x="3063960" y="3046680"/>
              <a:ext cx="777960" cy="518040"/>
              <a:chOff x="3063960" y="3046680"/>
              <a:chExt cx="777960" cy="518040"/>
            </a:xfrm>
          </p:grpSpPr>
          <p:sp>
            <p:nvSpPr>
              <p:cNvPr id="1065" name=""/>
              <p:cNvSpPr/>
              <p:nvPr/>
            </p:nvSpPr>
            <p:spPr>
              <a:xfrm>
                <a:off x="3291840" y="30466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285000" y="35647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7" name=""/>
              <p:cNvGrpSpPr/>
              <p:nvPr/>
            </p:nvGrpSpPr>
            <p:grpSpPr>
              <a:xfrm>
                <a:off x="3611160" y="3049920"/>
                <a:ext cx="230760" cy="511560"/>
                <a:chOff x="3611160" y="3049920"/>
                <a:chExt cx="230760" cy="5115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611160" y="3049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V="1">
                  <a:off x="3611520" y="3306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3063960" y="3052440"/>
                <a:ext cx="230760" cy="511560"/>
                <a:chOff x="3063960" y="3052440"/>
                <a:chExt cx="230760" cy="511560"/>
              </a:xfrm>
            </p:grpSpPr>
            <p:sp>
              <p:nvSpPr>
                <p:cNvPr id="1071" name=""/>
                <p:cNvSpPr/>
                <p:nvPr/>
              </p:nvSpPr>
              <p:spPr>
                <a:xfrm flipH="1">
                  <a:off x="3064320" y="30524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>
                  <a:off x="3063960" y="3308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"/>
            <p:cNvGrpSpPr/>
            <p:nvPr/>
          </p:nvGrpSpPr>
          <p:grpSpPr>
            <a:xfrm>
              <a:off x="3610080" y="2783880"/>
              <a:ext cx="777240" cy="517680"/>
              <a:chOff x="3610080" y="2783880"/>
              <a:chExt cx="777240" cy="517680"/>
            </a:xfrm>
          </p:grpSpPr>
          <p:sp>
            <p:nvSpPr>
              <p:cNvPr id="1074" name=""/>
              <p:cNvSpPr/>
              <p:nvPr/>
            </p:nvSpPr>
            <p:spPr>
              <a:xfrm>
                <a:off x="3837600" y="27838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830760" y="33015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6" name=""/>
              <p:cNvGrpSpPr/>
              <p:nvPr/>
            </p:nvGrpSpPr>
            <p:grpSpPr>
              <a:xfrm>
                <a:off x="4156920" y="2787120"/>
                <a:ext cx="230400" cy="511200"/>
                <a:chOff x="4156920" y="2787120"/>
                <a:chExt cx="230400" cy="5112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156920" y="27871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4157280" y="304308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610080" y="2789640"/>
                <a:ext cx="230400" cy="511200"/>
                <a:chOff x="3610080" y="2789640"/>
                <a:chExt cx="230400" cy="511200"/>
              </a:xfrm>
            </p:grpSpPr>
            <p:sp>
              <p:nvSpPr>
                <p:cNvPr id="1080" name=""/>
                <p:cNvSpPr/>
                <p:nvPr/>
              </p:nvSpPr>
              <p:spPr>
                <a:xfrm flipH="1">
                  <a:off x="3610440" y="27896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flipV="1">
                  <a:off x="3610080" y="30456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2" name=""/>
            <p:cNvGrpSpPr/>
            <p:nvPr/>
          </p:nvGrpSpPr>
          <p:grpSpPr>
            <a:xfrm>
              <a:off x="1966320" y="3058200"/>
              <a:ext cx="777960" cy="518040"/>
              <a:chOff x="1966320" y="3058200"/>
              <a:chExt cx="777960" cy="518040"/>
            </a:xfrm>
          </p:grpSpPr>
          <p:sp>
            <p:nvSpPr>
              <p:cNvPr id="1083" name=""/>
              <p:cNvSpPr/>
              <p:nvPr/>
            </p:nvSpPr>
            <p:spPr>
              <a:xfrm>
                <a:off x="2194200" y="30582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187360" y="35762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5" name=""/>
              <p:cNvGrpSpPr/>
              <p:nvPr/>
            </p:nvGrpSpPr>
            <p:grpSpPr>
              <a:xfrm>
                <a:off x="2513520" y="3061440"/>
                <a:ext cx="230760" cy="511560"/>
                <a:chOff x="2513520" y="3061440"/>
                <a:chExt cx="230760" cy="5115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2513520" y="30614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2513880" y="33177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1966320" y="3063960"/>
                <a:ext cx="230760" cy="511560"/>
                <a:chOff x="1966320" y="3063960"/>
                <a:chExt cx="230760" cy="511560"/>
              </a:xfrm>
            </p:grpSpPr>
            <p:sp>
              <p:nvSpPr>
                <p:cNvPr id="1089" name=""/>
                <p:cNvSpPr/>
                <p:nvPr/>
              </p:nvSpPr>
              <p:spPr>
                <a:xfrm flipH="1">
                  <a:off x="1966680" y="3063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 flipV="1">
                  <a:off x="1966320" y="3320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1" name=""/>
            <p:cNvGrpSpPr/>
            <p:nvPr/>
          </p:nvGrpSpPr>
          <p:grpSpPr>
            <a:xfrm>
              <a:off x="2512440" y="2795400"/>
              <a:ext cx="777240" cy="517680"/>
              <a:chOff x="2512440" y="2795400"/>
              <a:chExt cx="777240" cy="517680"/>
            </a:xfrm>
          </p:grpSpPr>
          <p:sp>
            <p:nvSpPr>
              <p:cNvPr id="1092" name=""/>
              <p:cNvSpPr/>
              <p:nvPr/>
            </p:nvSpPr>
            <p:spPr>
              <a:xfrm>
                <a:off x="2739960" y="27954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33120" y="33130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3059280" y="2798640"/>
                <a:ext cx="230400" cy="511200"/>
                <a:chOff x="3059280" y="2798640"/>
                <a:chExt cx="230400" cy="51120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059280" y="279864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3059640" y="305460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2512440" y="2801160"/>
                <a:ext cx="230400" cy="511200"/>
                <a:chOff x="2512440" y="2801160"/>
                <a:chExt cx="230400" cy="511200"/>
              </a:xfrm>
            </p:grpSpPr>
            <p:sp>
              <p:nvSpPr>
                <p:cNvPr id="1098" name=""/>
                <p:cNvSpPr/>
                <p:nvPr/>
              </p:nvSpPr>
              <p:spPr>
                <a:xfrm flipH="1">
                  <a:off x="2512800" y="280116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H="1" flipV="1">
                  <a:off x="2512440" y="3057120"/>
                  <a:ext cx="23004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0" name=""/>
            <p:cNvGrpSpPr/>
            <p:nvPr/>
          </p:nvGrpSpPr>
          <p:grpSpPr>
            <a:xfrm>
              <a:off x="5256360" y="3026160"/>
              <a:ext cx="777960" cy="518040"/>
              <a:chOff x="5256360" y="3026160"/>
              <a:chExt cx="777960" cy="518040"/>
            </a:xfrm>
          </p:grpSpPr>
          <p:sp>
            <p:nvSpPr>
              <p:cNvPr id="1101" name=""/>
              <p:cNvSpPr/>
              <p:nvPr/>
            </p:nvSpPr>
            <p:spPr>
              <a:xfrm>
                <a:off x="5484240" y="30261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477400" y="35442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3" name=""/>
              <p:cNvGrpSpPr/>
              <p:nvPr/>
            </p:nvGrpSpPr>
            <p:grpSpPr>
              <a:xfrm>
                <a:off x="5803560" y="3029400"/>
                <a:ext cx="230760" cy="511560"/>
                <a:chOff x="5803560" y="3029400"/>
                <a:chExt cx="230760" cy="5115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5803560" y="30294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V="1">
                  <a:off x="5803920" y="32857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56360" y="3031920"/>
                <a:ext cx="230760" cy="511560"/>
                <a:chOff x="5256360" y="3031920"/>
                <a:chExt cx="230760" cy="511560"/>
              </a:xfrm>
            </p:grpSpPr>
            <p:sp>
              <p:nvSpPr>
                <p:cNvPr id="1107" name=""/>
                <p:cNvSpPr/>
                <p:nvPr/>
              </p:nvSpPr>
              <p:spPr>
                <a:xfrm flipH="1">
                  <a:off x="5256720" y="30319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flipH="1" flipV="1">
                  <a:off x="5256360" y="328824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9" name=""/>
            <p:cNvGrpSpPr/>
            <p:nvPr/>
          </p:nvGrpSpPr>
          <p:grpSpPr>
            <a:xfrm>
              <a:off x="5802120" y="2763720"/>
              <a:ext cx="777960" cy="518040"/>
              <a:chOff x="5802120" y="2763720"/>
              <a:chExt cx="777960" cy="518040"/>
            </a:xfrm>
          </p:grpSpPr>
          <p:sp>
            <p:nvSpPr>
              <p:cNvPr id="1110" name=""/>
              <p:cNvSpPr/>
              <p:nvPr/>
            </p:nvSpPr>
            <p:spPr>
              <a:xfrm>
                <a:off x="6030000" y="276372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023160" y="3281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6349320" y="2766960"/>
                <a:ext cx="230760" cy="511560"/>
                <a:chOff x="6349320" y="2766960"/>
                <a:chExt cx="230760" cy="5115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349320" y="276696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6349680" y="3023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02120" y="2769480"/>
                <a:ext cx="230760" cy="511560"/>
                <a:chOff x="5802120" y="2769480"/>
                <a:chExt cx="230760" cy="511560"/>
              </a:xfrm>
            </p:grpSpPr>
            <p:sp>
              <p:nvSpPr>
                <p:cNvPr id="1116" name=""/>
                <p:cNvSpPr/>
                <p:nvPr/>
              </p:nvSpPr>
              <p:spPr>
                <a:xfrm flipH="1">
                  <a:off x="5802480" y="2769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 flipV="1">
                  <a:off x="5802120" y="3025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"/>
            <p:cNvGrpSpPr/>
            <p:nvPr/>
          </p:nvGrpSpPr>
          <p:grpSpPr>
            <a:xfrm>
              <a:off x="4158720" y="3038040"/>
              <a:ext cx="777960" cy="518040"/>
              <a:chOff x="4158720" y="3038040"/>
              <a:chExt cx="777960" cy="518040"/>
            </a:xfrm>
          </p:grpSpPr>
          <p:sp>
            <p:nvSpPr>
              <p:cNvPr id="1119" name=""/>
              <p:cNvSpPr/>
              <p:nvPr/>
            </p:nvSpPr>
            <p:spPr>
              <a:xfrm>
                <a:off x="4386600" y="30380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79760" y="35560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4705920" y="3041280"/>
                <a:ext cx="230760" cy="511560"/>
                <a:chOff x="4705920" y="3041280"/>
                <a:chExt cx="230760" cy="5115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4705920" y="30412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flipV="1">
                  <a:off x="4706280" y="32976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4158720" y="3043800"/>
                <a:ext cx="230760" cy="511560"/>
                <a:chOff x="4158720" y="3043800"/>
                <a:chExt cx="230760" cy="511560"/>
              </a:xfrm>
            </p:grpSpPr>
            <p:sp>
              <p:nvSpPr>
                <p:cNvPr id="1125" name=""/>
                <p:cNvSpPr/>
                <p:nvPr/>
              </p:nvSpPr>
              <p:spPr>
                <a:xfrm flipH="1">
                  <a:off x="4159080" y="3043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 flipV="1">
                  <a:off x="4158720" y="33001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7" name=""/>
            <p:cNvGrpSpPr/>
            <p:nvPr/>
          </p:nvGrpSpPr>
          <p:grpSpPr>
            <a:xfrm>
              <a:off x="4704480" y="2775240"/>
              <a:ext cx="777960" cy="518040"/>
              <a:chOff x="4704480" y="2775240"/>
              <a:chExt cx="777960" cy="518040"/>
            </a:xfrm>
          </p:grpSpPr>
          <p:sp>
            <p:nvSpPr>
              <p:cNvPr id="1128" name=""/>
              <p:cNvSpPr/>
              <p:nvPr/>
            </p:nvSpPr>
            <p:spPr>
              <a:xfrm>
                <a:off x="4932360" y="277524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925520" y="329328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5251680" y="2778480"/>
                <a:ext cx="230760" cy="511560"/>
                <a:chOff x="5251680" y="2778480"/>
                <a:chExt cx="230760" cy="5115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5251680" y="277848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V="1">
                  <a:off x="5252040" y="30348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4704480" y="2781000"/>
                <a:ext cx="230760" cy="511560"/>
                <a:chOff x="4704480" y="2781000"/>
                <a:chExt cx="230760" cy="511560"/>
              </a:xfrm>
            </p:grpSpPr>
            <p:sp>
              <p:nvSpPr>
                <p:cNvPr id="1134" name=""/>
                <p:cNvSpPr/>
                <p:nvPr/>
              </p:nvSpPr>
              <p:spPr>
                <a:xfrm flipH="1">
                  <a:off x="4704840" y="278100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 flipV="1">
                  <a:off x="4704480" y="3037320"/>
                  <a:ext cx="230400" cy="25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rly: Groupe Spéciale Mobile (founded 19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: Global System for Mobil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many providers all over the world use GSM (more than 130 countries in America, Asia, Africa, Europe, Austr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million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haracteristics of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, wireless communication; support for voice and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o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access, chip-card enables use of access points of different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number, the network handles loc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requency efficiency, smaller cells, more customer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transmission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udio quality and reliability for wireless, uninterrupted phone calls at higher speeds (e.g., from cars, tra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fun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, authentication via chip-card and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 of G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perfect system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d-to-end encryption of us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ull ISDN bandwidth of 64 kbit/s to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magnetic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use of private data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ming profiles acce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mplexity of the system (over 5000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: Mobil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o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types of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 connections, data connections, short messag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service options (combination of basic servi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servic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ma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362320" y="4267080"/>
            <a:ext cx="1371600" cy="11430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SM-PL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191120" y="4267080"/>
            <a:ext cx="1371600" cy="11430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PSTN, ISD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019920" y="4267080"/>
            <a:ext cx="1371600" cy="11430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ource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80880" y="4572000"/>
            <a:ext cx="53352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229600" y="4572000"/>
            <a:ext cx="53352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16600" y="388620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arer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910680" y="553068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l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685800" y="5257440"/>
            <a:ext cx="7772040" cy="305280"/>
            <a:chOff x="685800" y="5257440"/>
            <a:chExt cx="7772040" cy="305280"/>
          </a:xfrm>
        </p:grpSpPr>
        <p:sp>
          <p:nvSpPr>
            <p:cNvPr id="1152" name=""/>
            <p:cNvSpPr/>
            <p:nvPr/>
          </p:nvSpPr>
          <p:spPr>
            <a:xfrm>
              <a:off x="685800" y="5562720"/>
              <a:ext cx="77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685800" y="5257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8457840" y="5257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1143000" y="4191480"/>
            <a:ext cx="6629400" cy="380880"/>
            <a:chOff x="1143000" y="4191480"/>
            <a:chExt cx="6629400" cy="380880"/>
          </a:xfrm>
        </p:grpSpPr>
        <p:sp>
          <p:nvSpPr>
            <p:cNvPr id="1156" name=""/>
            <p:cNvSpPr/>
            <p:nvPr/>
          </p:nvSpPr>
          <p:spPr>
            <a:xfrm>
              <a:off x="1143000" y="419148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143000" y="41918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772400" y="41918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5238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7724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64000" y="49528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,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318800" y="49528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, S, 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915920" y="495288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765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5" name=""/>
          <p:cNvCxnSpPr>
            <a:stCxn id="1144" idx="3"/>
            <a:endCxn id="1145" idx="1"/>
          </p:cNvCxnSpPr>
          <p:nvPr/>
        </p:nvCxnSpPr>
        <p:spPr>
          <a:xfrm>
            <a:off x="3733920" y="4838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6" name=""/>
          <p:cNvCxnSpPr>
            <a:stCxn id="1145" idx="3"/>
            <a:endCxn id="1146" idx="1"/>
          </p:cNvCxnSpPr>
          <p:nvPr/>
        </p:nvCxnSpPr>
        <p:spPr>
          <a:xfrm>
            <a:off x="5562720" y="4838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7" name=""/>
          <p:cNvCxnSpPr>
            <a:stCxn id="1146" idx="3"/>
            <a:endCxn id="1148" idx="1"/>
          </p:cNvCxnSpPr>
          <p:nvPr/>
        </p:nvCxnSpPr>
        <p:spPr>
          <a:xfrm>
            <a:off x="7391520" y="483840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8" name=""/>
          <p:cNvCxnSpPr>
            <a:stCxn id="1147" idx="3"/>
            <a:endCxn id="1169" idx="1"/>
          </p:cNvCxnSpPr>
          <p:nvPr/>
        </p:nvCxnSpPr>
        <p:spPr>
          <a:xfrm>
            <a:off x="914400" y="4838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9" name=""/>
          <p:cNvSpPr/>
          <p:nvPr/>
        </p:nvSpPr>
        <p:spPr>
          <a:xfrm>
            <a:off x="1371600" y="4572000"/>
            <a:ext cx="53352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0" name=""/>
          <p:cNvCxnSpPr>
            <a:stCxn id="1144" idx="1"/>
            <a:endCxn id="1169" idx="3"/>
          </p:cNvCxnSpPr>
          <p:nvPr/>
        </p:nvCxnSpPr>
        <p:spPr>
          <a:xfrm flipH="1">
            <a:off x="1904760" y="4838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1" name=""/>
          <p:cNvSpPr/>
          <p:nvPr/>
        </p:nvSpPr>
        <p:spPr>
          <a:xfrm>
            <a:off x="21337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1430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920" y="4114800"/>
            <a:ext cx="1676160" cy="1295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58640" y="41148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5:44:45Z</dcterms:created>
  <dc:creator>Jochen H. Schiller</dc:creator>
  <dc:description/>
  <dc:language>en-US</dc:language>
  <cp:lastModifiedBy>Guevara Noubir</cp:lastModifiedBy>
  <cp:lastPrinted>1999-03-24T10:36:53Z</cp:lastPrinted>
  <dcterms:modified xsi:type="dcterms:W3CDTF">2001-05-21T16:42:36Z</dcterms:modified>
  <cp:revision>166</cp:revision>
  <dc:subject>Wireless Telecommunication Systems</dc:subject>
  <dc:title>Mobile Communications</dc:title>
</cp:coreProperties>
</file>