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85800"/>
            <a:ext cx="807696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095880"/>
            <a:ext cx="807696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6, </a:t>
            </a:r>
            <a:fld id="{3ED90909-F7F1-4DAD-BB48-602D662A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Networ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Protocols/Mobile 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2819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429000"/>
            <a:ext cx="37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-hoc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640" y="5699160"/>
            <a:ext cx="51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apted from J. Schiller, “Mobile Communicat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05740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5740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05740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05740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276720" y="198108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.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4495680" y="19810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495680" y="17524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057400" y="42670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057400" y="44956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05740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495680" y="380988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276720" y="380988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20574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44956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5715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6934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4336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0225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2781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1288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4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5991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7164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3355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276720" y="175248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057400" y="28954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057400" y="26668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057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05740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9343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102920" y="3184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057400" y="403848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0574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9343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118760" y="4800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4495680" y="4038480"/>
            <a:ext cx="1218960" cy="228600"/>
            <a:chOff x="4495680" y="4038480"/>
            <a:chExt cx="1218960" cy="228600"/>
          </a:xfrm>
        </p:grpSpPr>
        <p:sp>
          <p:nvSpPr>
            <p:cNvPr id="1942" name=""/>
            <p:cNvSpPr/>
            <p:nvPr/>
          </p:nvSpPr>
          <p:spPr>
            <a:xfrm>
              <a:off x="44956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66956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84380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0180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922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36652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54076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9" name=""/>
          <p:cNvSpPr/>
          <p:nvPr/>
        </p:nvSpPr>
        <p:spPr>
          <a:xfrm>
            <a:off x="5715000" y="40384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51680" y="5394240"/>
            <a:ext cx="47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MP-Type = 0; Code = 0/16; Extension Type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000760" y="32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061240" y="1224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371640" y="1239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5303880" y="1544760"/>
            <a:ext cx="1311120" cy="2036160"/>
            <a:chOff x="5303880" y="1544760"/>
            <a:chExt cx="1311120" cy="2036160"/>
          </a:xfrm>
        </p:grpSpPr>
        <p:sp>
          <p:nvSpPr>
            <p:cNvPr id="1956" name=""/>
            <p:cNvSpPr/>
            <p:nvPr/>
          </p:nvSpPr>
          <p:spPr>
            <a:xfrm>
              <a:off x="5303880" y="154476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615000" y="1553400"/>
              <a:ext cx="0" cy="20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 rot="1147200">
            <a:off x="5457960" y="14745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303880" y="177336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flipH="1" rot="20452800">
            <a:off x="5454000" y="243792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5299200" y="2733840"/>
            <a:ext cx="131112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128960" y="43290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189440" y="11890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500200" y="1204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432080" y="150984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74320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03848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795120" y="1204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rot="1147200">
            <a:off x="1586160" y="1439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432080" y="173844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 rot="1147200">
            <a:off x="2877120" y="2042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741760" y="2341440"/>
            <a:ext cx="129852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H="1" rot="20452800">
            <a:off x="2877480" y="29570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2738160" y="3246480"/>
            <a:ext cx="1305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 rot="20452800">
            <a:off x="1581840" y="356688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1426680" y="3862440"/>
            <a:ext cx="13114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registr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205740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2057400" y="19810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05740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495680" y="17524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20574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4956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5715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6934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04336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0225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278160" y="1447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1288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44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5991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164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5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191120" y="17524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057400" y="2666880"/>
            <a:ext cx="4876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05740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057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13120" y="32004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3276720" y="1752480"/>
            <a:ext cx="914040" cy="228600"/>
            <a:chOff x="3276720" y="1752480"/>
            <a:chExt cx="914040" cy="228600"/>
          </a:xfrm>
        </p:grpSpPr>
        <p:sp>
          <p:nvSpPr>
            <p:cNvPr id="2002" name=""/>
            <p:cNvSpPr/>
            <p:nvPr/>
          </p:nvSpPr>
          <p:spPr>
            <a:xfrm>
              <a:off x="32767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4293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58056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33560" y="1752480"/>
              <a:ext cx="153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8869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0395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8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20560" y="4403880"/>
            <a:ext cx="23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 packet on port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352680" y="190512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5105520" y="190512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352680" y="2666880"/>
            <a:ext cx="350532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828800" y="2666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858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828800" y="3352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3352680" y="335268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105520" y="335268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828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of one packet into another as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Pv6 in IPv4 (6Bone), Multicast in Unicast (Mb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: e.g. IP-in-IP-encapsulation, minimal encapsulation or GRE (Generic Record Encaps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in-IP-encapsulation (mandatory in RFC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between HA and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P-in-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057400" y="51055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057400" y="48769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57400" y="46483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057400" y="441972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276720" y="46483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495680" y="46483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495680" y="4419720"/>
            <a:ext cx="5335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029200" y="4419720"/>
            <a:ext cx="19051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276720" y="41911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057400" y="4191120"/>
            <a:ext cx="6094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666880" y="4191120"/>
            <a:ext cx="6098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057400" y="53341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ncapsulation (optional) [RFC20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petition of identical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TL, IHL, version, 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pplicable for unfragmented packets, no space left for fragm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n. enc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057400" y="44197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2057400" y="46483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al sender IP add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S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3276720" y="419112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057400" y="41911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057400" y="48769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505320" y="4191120"/>
            <a:ext cx="9903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Routing Encapsulation [RFC 17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4495680" y="1066680"/>
            <a:ext cx="4191120" cy="1524240"/>
            <a:chOff x="4495680" y="1066680"/>
            <a:chExt cx="4191120" cy="1524240"/>
          </a:xfrm>
        </p:grpSpPr>
        <p:sp>
          <p:nvSpPr>
            <p:cNvPr id="2072" name=""/>
            <p:cNvSpPr/>
            <p:nvPr/>
          </p:nvSpPr>
          <p:spPr>
            <a:xfrm>
              <a:off x="6654240" y="106668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80080" y="106668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765400" y="2239200"/>
              <a:ext cx="292104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495680" y="223920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65424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68680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495680" y="165276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765400" y="1652760"/>
              <a:ext cx="888840" cy="351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80080" y="165276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49568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68680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654240" y="165276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04920" y="2743200"/>
            <a:ext cx="4038480" cy="3200040"/>
            <a:chOff x="304920" y="2743200"/>
            <a:chExt cx="4038480" cy="3200040"/>
          </a:xfrm>
        </p:grpSpPr>
        <p:sp>
          <p:nvSpPr>
            <p:cNvPr id="2085" name=""/>
            <p:cNvSpPr/>
            <p:nvPr/>
          </p:nvSpPr>
          <p:spPr>
            <a:xfrm>
              <a:off x="304920" y="348156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-of address C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4920" y="329688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492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04920" y="292752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31436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324160" y="3112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324160" y="2927520"/>
              <a:ext cx="441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765880" y="2927520"/>
              <a:ext cx="157716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324160" y="2743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314360" y="2743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0492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0964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04920" y="532800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M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4920" y="514332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92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4920" y="477396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31436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y. 4 pro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324160" y="495864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324160" y="4773960"/>
              <a:ext cx="441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765880" y="4773960"/>
              <a:ext cx="157716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324160" y="458928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314360" y="458928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0492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80964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04920" y="5512680"/>
              <a:ext cx="4038480" cy="430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/ ...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04920" y="4404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4920" y="422028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quence number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4920" y="4035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32416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492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sum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324160" y="366624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356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314360" y="3666240"/>
              <a:ext cx="6310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9454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04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30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56920" y="3666240"/>
              <a:ext cx="126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8328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0964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packet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sends all packets via H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atency and networ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learns the current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tunneling to this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forms a sender about the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on-the-fly during the change can b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A informs old FA to avoid packet loss, old FA now forwards remaining packets to new 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also enables the old FA to release resources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foreign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9907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3915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90920" y="1143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590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191120" y="1143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579132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87240" y="762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363400" y="762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979080" y="762120"/>
            <a:ext cx="59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508360" y="762120"/>
            <a:ext cx="65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7164720" y="762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469640" y="5638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990720" y="12952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450080" y="10666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99072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990720" y="1905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144800" y="1371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05840" y="167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990720" y="22860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973960" y="2133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191120" y="24382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488560" y="22096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09480" y="2743200"/>
            <a:ext cx="7239240" cy="0"/>
          </a:xfrm>
          <a:prstGeom prst="line">
            <a:avLst/>
          </a:prstGeom>
          <a:ln w="57240">
            <a:solidFill>
              <a:srgbClr val="e80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7697520" y="243828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chan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4191120" y="35049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5791320" y="3124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021720" y="28954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497480" y="32767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191120" y="3809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106240" y="358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990720" y="396252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4640" y="3733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91120" y="41148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791320" y="4191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650120" y="3886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326640" y="3962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2590920" y="43430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744640" y="4114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990720" y="48006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990720" y="51055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144800" y="4572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905840" y="4876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990720" y="5410080"/>
            <a:ext cx="4800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2973960" y="5257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791320" y="5638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250320" y="5410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2590920" y="32004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897280" y="2971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tunneling (RFC 23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2179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0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1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2" name=""/>
          <p:cNvCxnSpPr>
            <a:stCxn id="2183" idx="0"/>
            <a:endCxn id="2181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4" name=""/>
          <p:cNvCxnSpPr>
            <a:stCxn id="2185" idx="3"/>
            <a:endCxn id="2181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6" name=""/>
          <p:cNvCxnSpPr>
            <a:stCxn id="2181" idx="3"/>
            <a:endCxn id="2187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88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1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2192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5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2196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2199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3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344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4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2545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5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2756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57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0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1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614520" y="27432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574160" y="4419720"/>
            <a:ext cx="34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N sends to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A tunnels packets to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A forwards the packet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(standard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for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IP destination address, network prefix (e.g. 129.13.42) determines physical 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physical subnet implies change of IP address to have a topological correct address (standard IP) or needs special entries in the rou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routes to end-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all routing table entries to forward packets to the righ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cale with the number of mobile hosts and frequent changes in the location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IP-add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host IP address depending on the curr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impossible to find a mobile system, DNS updates take too mu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s break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with reverse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ccept often only “topological correct“ addresses (firewal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cket from the MN encapsulated by the FA is now topological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more multicast and TTL problems solved (TTL in the home network correct, but MN is to far away from the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tunneling does not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verse tunnel can be abused to circumvent security mechanisms (tunnel hija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of data paths, i.e. packets will be forwarded through the tunnel via the HA to a sender (double triangular rou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standard is backwards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ensions can be implemented easily and cooperate with current implementations without these exten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and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 was developed for IPv4, but IPv6 simplifies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integrated and not an add-on, authentication of registr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 can be assigned via auto-configuration (DHCPv6 is one candidate), every node has address auto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a separate FA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s perform router advertisement which can be used instead of the special agent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can signal a sender directly the COA, sending via HA not needed in this case (automatic path optim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“ hand-over, i.e. without packet loss, between two subnets i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sends the new COA to its ol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ld router encapsulates all incoming packets for the MN and forwards them to the new 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is always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with FA problematic, for the FA typically belongs to another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tocol for key management and key distribution has been standardized i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and export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mobile IP cannot be used together with firewalls, special set-ups are needed (such as reverse tunne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 reservations in case of R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makes it hard to give a flow of packets a special treatment needed for the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, firewalls, QoS etc. are topics of current research and discuss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equirements (Security Architecture for the Internet Protocol, RFC 1825, RFC 1826, RFC 18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hanges to data between sender and receiver can be detected by th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dress is really the address of the sender and all data received is really data sent by this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nder and receiver can read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cannot deny sen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raffic and user profiles should not b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Pro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s can detect replay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"/>
          <p:cNvGrpSpPr/>
          <p:nvPr/>
        </p:nvGrpSpPr>
        <p:grpSpPr>
          <a:xfrm>
            <a:off x="1523880" y="5257800"/>
            <a:ext cx="2895840" cy="276480"/>
            <a:chOff x="1523880" y="5257800"/>
            <a:chExt cx="2895840" cy="276480"/>
          </a:xfrm>
        </p:grpSpPr>
        <p:sp>
          <p:nvSpPr>
            <p:cNvPr id="2789" name=""/>
            <p:cNvSpPr/>
            <p:nvPr/>
          </p:nvSpPr>
          <p:spPr>
            <a:xfrm>
              <a:off x="1523880" y="54100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44520" y="5257800"/>
              <a:ext cx="1108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not 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4495680" y="5257800"/>
            <a:ext cx="3276720" cy="276480"/>
            <a:chOff x="4495680" y="5257800"/>
            <a:chExt cx="3276720" cy="276480"/>
          </a:xfrm>
        </p:grpSpPr>
        <p:sp>
          <p:nvSpPr>
            <p:cNvPr id="2792" name=""/>
            <p:cNvSpPr/>
            <p:nvPr/>
          </p:nvSpPr>
          <p:spPr>
            <a:xfrm>
              <a:off x="44956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0280" y="5257800"/>
              <a:ext cx="852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or more partners have to negotiate security mechanisms to setup a security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ll partners choose the same parameter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headers have been defined for securing IP pack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-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arantees integrity and authenticity of IP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symmetric encryption schemes are used, some non-repudiation level can also b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Security 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confidentiality between communic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6" name=""/>
          <p:cNvGrpSpPr/>
          <p:nvPr/>
        </p:nvGrpSpPr>
        <p:grpSpPr>
          <a:xfrm>
            <a:off x="1523880" y="3886200"/>
            <a:ext cx="6248520" cy="380880"/>
            <a:chOff x="1523880" y="3886200"/>
            <a:chExt cx="6248520" cy="380880"/>
          </a:xfrm>
        </p:grpSpPr>
        <p:sp>
          <p:nvSpPr>
            <p:cNvPr id="2797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fication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56272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/TCP-Pa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562720" y="3886200"/>
              <a:ext cx="22096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DP/TCP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3" name=""/>
          <p:cNvSpPr/>
          <p:nvPr/>
        </p:nvSpPr>
        <p:spPr>
          <a:xfrm>
            <a:off x="3124080" y="5486400"/>
            <a:ext cx="24386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523880" y="5486400"/>
            <a:ext cx="16002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562720" y="5486400"/>
            <a:ext cx="22096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cryp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Security Association for regis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for the mobile host (MH), home agent (HA), and foreign agent (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of the IP security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authentication of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 replays o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tamps: 32 bit time stamps + 32 bit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ces: 32 bit random number (MH) + 32 bit random number (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4948920" y="380988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871520" y="342900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433240" y="327672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182880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4267080" y="3429000"/>
            <a:ext cx="60984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670572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4382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243828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48769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88160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133720" y="3124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133720" y="2895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495680" y="2895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32960" y="388620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406680" y="2971800"/>
            <a:ext cx="192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91840" y="2743200"/>
            <a:ext cx="190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F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4856040" y="2743200"/>
            <a:ext cx="187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distributes session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has a security association with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host registers a new binding at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answers with a new session key for foreign agent and mobil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3200400" y="2209680"/>
            <a:ext cx="60948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952880" y="22096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981080" y="35812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2590920" y="281916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 flipH="1">
            <a:off x="2590560" y="2819520"/>
            <a:ext cx="106668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3809880" y="2362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3390480" y="3108240"/>
            <a:ext cx="19562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F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M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: Dynamic Host Configuration Protocol [RFC 213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 of installation and maintenance of networked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s systems with all necessary information, such as IP address, DNS server address, domain name, subnet mask, default rout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automatic integration of systems into an Intranet or the Internet, can be used to acquire a COA for Mobil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sends via a MAC broadcast a request to the DHCP server (might be via a DHCP re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762120" y="548640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4267080" y="46483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352680" y="5486400"/>
            <a:ext cx="13716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449568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477120" y="495288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7086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4876920" y="4952880"/>
            <a:ext cx="1143000" cy="4572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5486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098720" y="5029200"/>
            <a:ext cx="175248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067400" y="464832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5638680" y="4495680"/>
            <a:ext cx="175284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39400" y="41148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- protoco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68580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0574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 flipV="1">
            <a:off x="20574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 flipV="1">
            <a:off x="20574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41911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 flipV="1">
            <a:off x="4191120" y="464796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flipV="1">
            <a:off x="419112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6400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64008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64008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191120" y="52578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 flipH="1">
            <a:off x="4191120" y="39625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191120" y="33526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H="1">
            <a:off x="2057040" y="33526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057400" y="2057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4191120" y="20574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 flipH="1">
            <a:off x="2057040" y="14479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191120" y="1447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rot="5344200">
            <a:off x="564480" y="311724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16960" y="91440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t 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213440" y="837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6539040" y="914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611520" y="106632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3290400" y="259056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of re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3040920" y="304776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2965680" y="457164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 comp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809520" y="50288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6403320" y="35812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6402600" y="533376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40368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24712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224316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21040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616280" y="4190760"/>
            <a:ext cx="11728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4457160" y="5333760"/>
            <a:ext cx="169236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445680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445320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42044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38376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1981080" y="4800240"/>
            <a:ext cx="152640" cy="228600"/>
            <a:chOff x="1981080" y="4800240"/>
            <a:chExt cx="152640" cy="228600"/>
          </a:xfrm>
        </p:grpSpPr>
        <p:sp>
          <p:nvSpPr>
            <p:cNvPr id="2893" name=""/>
            <p:cNvSpPr/>
            <p:nvPr/>
          </p:nvSpPr>
          <p:spPr>
            <a:xfrm flipV="1">
              <a:off x="19810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19810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5" name=""/>
          <p:cNvGrpSpPr/>
          <p:nvPr/>
        </p:nvGrpSpPr>
        <p:grpSpPr>
          <a:xfrm>
            <a:off x="4114800" y="4800240"/>
            <a:ext cx="152280" cy="228600"/>
            <a:chOff x="4114800" y="4800240"/>
            <a:chExt cx="152280" cy="228600"/>
          </a:xfrm>
        </p:grpSpPr>
        <p:sp>
          <p:nvSpPr>
            <p:cNvPr id="2896" name=""/>
            <p:cNvSpPr/>
            <p:nvPr/>
          </p:nvSpPr>
          <p:spPr>
            <a:xfrm flipV="1">
              <a:off x="4114800" y="4800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4114800" y="4876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8" name=""/>
          <p:cNvGrpSpPr/>
          <p:nvPr/>
        </p:nvGrpSpPr>
        <p:grpSpPr>
          <a:xfrm>
            <a:off x="6324480" y="4800240"/>
            <a:ext cx="152640" cy="228600"/>
            <a:chOff x="6324480" y="4800240"/>
            <a:chExt cx="152640" cy="228600"/>
          </a:xfrm>
        </p:grpSpPr>
        <p:sp>
          <p:nvSpPr>
            <p:cNvPr id="2899" name=""/>
            <p:cNvSpPr/>
            <p:nvPr/>
          </p:nvSpPr>
          <p:spPr>
            <a:xfrm flipV="1">
              <a:off x="63244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63244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ervers can be configured for DHCP, coordination not yet standardized (i.e., manual config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of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es have to be requested periodically, simplified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routers, subnet mask, NTP (network time protocol) timeserver, SLP (service location protocol) director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 (domain nam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uthentication of DHCP information specified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aft-ietf-dhc-authentication-16.txt:200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obile IP (RFC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keep their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tion of communication after interruption of lin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connection to the fixed network can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the same layer 2 protocols a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s to current end-systems and router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can communicate with fix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of all registration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ittle additional messages to the mobile system required (connection typically via a low bandwidth radio li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-wide support of a large number of mobile systems in the whol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Mobile IP needs a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Agent/Foreign Agent in the fixe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, routing etc. are not designed for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re is no infrastruct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areas, ad-hoc meetings, disaste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can also be an argument against an infrastruct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opic: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fault router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node should be able to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3201480" y="5714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497120" y="5714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5640480" y="5714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8" name=""/>
          <p:cNvGrpSpPr/>
          <p:nvPr/>
        </p:nvGrpSpPr>
        <p:grpSpPr>
          <a:xfrm>
            <a:off x="3048120" y="4343400"/>
            <a:ext cx="3200400" cy="761760"/>
            <a:chOff x="3048120" y="4343400"/>
            <a:chExt cx="3200400" cy="761760"/>
          </a:xfrm>
        </p:grpSpPr>
        <p:sp>
          <p:nvSpPr>
            <p:cNvPr id="2909" name=""/>
            <p:cNvSpPr/>
            <p:nvPr/>
          </p:nvSpPr>
          <p:spPr>
            <a:xfrm>
              <a:off x="365760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27672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04812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96252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31172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4191120" y="4343400"/>
            <a:ext cx="3200400" cy="761760"/>
            <a:chOff x="4191120" y="4343400"/>
            <a:chExt cx="3200400" cy="761760"/>
          </a:xfrm>
        </p:grpSpPr>
        <p:sp>
          <p:nvSpPr>
            <p:cNvPr id="2915" name=""/>
            <p:cNvSpPr/>
            <p:nvPr/>
          </p:nvSpPr>
          <p:spPr>
            <a:xfrm>
              <a:off x="480060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41972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19112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10552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545472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1828800" y="4343400"/>
            <a:ext cx="3200400" cy="761760"/>
            <a:chOff x="1828800" y="4343400"/>
            <a:chExt cx="3200400" cy="761760"/>
          </a:xfrm>
        </p:grpSpPr>
        <p:sp>
          <p:nvSpPr>
            <p:cNvPr id="2921" name=""/>
            <p:cNvSpPr/>
            <p:nvPr/>
          </p:nvSpPr>
          <p:spPr>
            <a:xfrm>
              <a:off x="243828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05740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82880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74320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09240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6" name=""/>
          <p:cNvSpPr/>
          <p:nvPr/>
        </p:nvSpPr>
        <p:spPr>
          <a:xfrm>
            <a:off x="3429000" y="4114800"/>
            <a:ext cx="1295280" cy="60948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96" y="144"/>
                  <a:pt x="192" y="0"/>
                  <a:pt x="288" y="0"/>
                </a:cubicBezTo>
                <a:cubicBezTo>
                  <a:pt x="384" y="0"/>
                  <a:pt x="528" y="240"/>
                  <a:pt x="57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4724280" y="4114800"/>
            <a:ext cx="1143000" cy="60948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96" y="144"/>
                  <a:pt x="192" y="0"/>
                  <a:pt x="288" y="0"/>
                </a:cubicBezTo>
                <a:cubicBezTo>
                  <a:pt x="384" y="0"/>
                  <a:pt x="528" y="240"/>
                  <a:pt x="57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8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6120" cy="990720"/>
          </a:xfrm>
          <a:prstGeom prst="rect">
            <a:avLst/>
          </a:prstGeom>
          <a:ln w="0">
            <a:noFill/>
          </a:ln>
        </p:spPr>
      </p:pic>
      <p:pic>
        <p:nvPicPr>
          <p:cNvPr id="2929" name="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276480" cy="990720"/>
          </a:xfrm>
          <a:prstGeom prst="rect">
            <a:avLst/>
          </a:prstGeom>
          <a:ln w="0">
            <a:noFill/>
          </a:ln>
        </p:spPr>
      </p:pic>
      <p:pic>
        <p:nvPicPr>
          <p:cNvPr id="2930" name="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276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examples for an ad-ho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914400" y="22096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523880" y="3429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2590920" y="24382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2895480" y="3581280"/>
            <a:ext cx="38124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3657600" y="27432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7" name=""/>
          <p:cNvCxnSpPr>
            <a:stCxn id="2932" idx="6"/>
            <a:endCxn id="2934" idx="2"/>
          </p:cNvCxnSpPr>
          <p:nvPr/>
        </p:nvCxnSpPr>
        <p:spPr>
          <a:xfrm>
            <a:off x="1294920" y="2400120"/>
            <a:ext cx="1296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8" name=""/>
          <p:cNvCxnSpPr>
            <a:stCxn id="2933" idx="7"/>
            <a:endCxn id="2934" idx="3"/>
          </p:cNvCxnSpPr>
          <p:nvPr/>
        </p:nvCxnSpPr>
        <p:spPr>
          <a:xfrm flipV="1">
            <a:off x="1849320" y="2763360"/>
            <a:ext cx="7977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9" name=""/>
          <p:cNvCxnSpPr>
            <a:stCxn id="2935" idx="1"/>
            <a:endCxn id="2933" idx="6"/>
          </p:cNvCxnSpPr>
          <p:nvPr/>
        </p:nvCxnSpPr>
        <p:spPr>
          <a:xfrm flipH="1" flipV="1">
            <a:off x="1904760" y="3618720"/>
            <a:ext cx="104688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0" name=""/>
          <p:cNvCxnSpPr>
            <a:stCxn id="2933" idx="5"/>
            <a:endCxn id="2935" idx="2"/>
          </p:cNvCxnSpPr>
          <p:nvPr/>
        </p:nvCxnSpPr>
        <p:spPr>
          <a:xfrm>
            <a:off x="1849320" y="3754080"/>
            <a:ext cx="104688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1" name=""/>
          <p:cNvCxnSpPr>
            <a:stCxn id="2933" idx="0"/>
            <a:endCxn id="2932" idx="5"/>
          </p:cNvCxnSpPr>
          <p:nvPr/>
        </p:nvCxnSpPr>
        <p:spPr>
          <a:xfrm flipH="1" flipV="1">
            <a:off x="1239120" y="2534400"/>
            <a:ext cx="4755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2" name=""/>
          <p:cNvCxnSpPr>
            <a:stCxn id="2932" idx="4"/>
            <a:endCxn id="2933" idx="1"/>
          </p:cNvCxnSpPr>
          <p:nvPr/>
        </p:nvCxnSpPr>
        <p:spPr>
          <a:xfrm>
            <a:off x="1104480" y="2590920"/>
            <a:ext cx="475560" cy="89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3" name=""/>
          <p:cNvCxnSpPr>
            <a:stCxn id="2934" idx="6"/>
            <a:endCxn id="2936" idx="1"/>
          </p:cNvCxnSpPr>
          <p:nvPr/>
        </p:nvCxnSpPr>
        <p:spPr>
          <a:xfrm>
            <a:off x="2971440" y="2628720"/>
            <a:ext cx="741960" cy="17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4" name=""/>
          <p:cNvCxnSpPr>
            <a:stCxn id="2936" idx="3"/>
            <a:endCxn id="2935" idx="7"/>
          </p:cNvCxnSpPr>
          <p:nvPr/>
        </p:nvCxnSpPr>
        <p:spPr>
          <a:xfrm flipH="1">
            <a:off x="3220200" y="3068280"/>
            <a:ext cx="492840" cy="56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5" name=""/>
          <p:cNvCxnSpPr>
            <a:stCxn id="2935" idx="6"/>
            <a:endCxn id="2936" idx="4"/>
          </p:cNvCxnSpPr>
          <p:nvPr/>
        </p:nvCxnSpPr>
        <p:spPr>
          <a:xfrm flipV="1">
            <a:off x="3276360" y="3124080"/>
            <a:ext cx="5720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6" name=""/>
          <p:cNvCxnSpPr>
            <a:stCxn id="2934" idx="4"/>
            <a:endCxn id="2935" idx="0"/>
          </p:cNvCxnSpPr>
          <p:nvPr/>
        </p:nvCxnSpPr>
        <p:spPr>
          <a:xfrm>
            <a:off x="2781000" y="2819520"/>
            <a:ext cx="3056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7" name="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5181480" y="3429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6172200" y="26668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6684840" y="356076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7391520" y="25146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2" name=""/>
          <p:cNvCxnSpPr>
            <a:stCxn id="2947" idx="6"/>
            <a:endCxn id="2949" idx="2"/>
          </p:cNvCxnSpPr>
          <p:nvPr/>
        </p:nvCxnSpPr>
        <p:spPr>
          <a:xfrm>
            <a:off x="5562360" y="24760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3" name=""/>
          <p:cNvCxnSpPr>
            <a:stCxn id="2948" idx="7"/>
            <a:endCxn id="2949" idx="3"/>
          </p:cNvCxnSpPr>
          <p:nvPr/>
        </p:nvCxnSpPr>
        <p:spPr>
          <a:xfrm flipV="1">
            <a:off x="5506920" y="2991600"/>
            <a:ext cx="7214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4" name=""/>
          <p:cNvCxnSpPr>
            <a:stCxn id="2950" idx="1"/>
            <a:endCxn id="2948" idx="6"/>
          </p:cNvCxnSpPr>
          <p:nvPr/>
        </p:nvCxnSpPr>
        <p:spPr>
          <a:xfrm flipH="1">
            <a:off x="5562360" y="3615840"/>
            <a:ext cx="1178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5" name=""/>
          <p:cNvCxnSpPr>
            <a:stCxn id="2948" idx="5"/>
            <a:endCxn id="2950" idx="2"/>
          </p:cNvCxnSpPr>
          <p:nvPr/>
        </p:nvCxnSpPr>
        <p:spPr>
          <a:xfrm flipV="1">
            <a:off x="5506920" y="3750480"/>
            <a:ext cx="117864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6" name=""/>
          <p:cNvCxnSpPr>
            <a:stCxn id="2947" idx="4"/>
            <a:endCxn id="2948" idx="1"/>
          </p:cNvCxnSpPr>
          <p:nvPr/>
        </p:nvCxnSpPr>
        <p:spPr>
          <a:xfrm flipH="1">
            <a:off x="5236560" y="2666520"/>
            <a:ext cx="13572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7" name=""/>
          <p:cNvCxnSpPr>
            <a:stCxn id="2949" idx="7"/>
            <a:endCxn id="2951" idx="1"/>
          </p:cNvCxnSpPr>
          <p:nvPr/>
        </p:nvCxnSpPr>
        <p:spPr>
          <a:xfrm flipV="1">
            <a:off x="6497280" y="2569680"/>
            <a:ext cx="9500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8" name=""/>
          <p:cNvCxnSpPr>
            <a:stCxn id="2951" idx="3"/>
            <a:endCxn id="2950" idx="7"/>
          </p:cNvCxnSpPr>
          <p:nvPr/>
        </p:nvCxnSpPr>
        <p:spPr>
          <a:xfrm flipH="1">
            <a:off x="7009560" y="2840040"/>
            <a:ext cx="437400" cy="77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9" name=""/>
          <p:cNvCxnSpPr>
            <a:stCxn id="2950" idx="6"/>
            <a:endCxn id="2951" idx="4"/>
          </p:cNvCxnSpPr>
          <p:nvPr/>
        </p:nvCxnSpPr>
        <p:spPr>
          <a:xfrm flipV="1">
            <a:off x="7065720" y="2894760"/>
            <a:ext cx="51660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0" name=""/>
          <p:cNvCxnSpPr>
            <a:stCxn id="2949" idx="4"/>
            <a:endCxn id="2950" idx="0"/>
          </p:cNvCxnSpPr>
          <p:nvPr/>
        </p:nvCxnSpPr>
        <p:spPr>
          <a:xfrm>
            <a:off x="6362280" y="3048120"/>
            <a:ext cx="5137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1" name=""/>
          <p:cNvCxnSpPr>
            <a:stCxn id="2949" idx="1"/>
            <a:endCxn id="2947" idx="7"/>
          </p:cNvCxnSpPr>
          <p:nvPr/>
        </p:nvCxnSpPr>
        <p:spPr>
          <a:xfrm flipH="1" flipV="1">
            <a:off x="5506560" y="2340720"/>
            <a:ext cx="721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2" name=""/>
          <p:cNvCxnSpPr>
            <a:stCxn id="2951" idx="2"/>
            <a:endCxn id="2949" idx="6"/>
          </p:cNvCxnSpPr>
          <p:nvPr/>
        </p:nvCxnSpPr>
        <p:spPr>
          <a:xfrm flipH="1">
            <a:off x="6552360" y="270504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3" name=""/>
          <p:cNvCxnSpPr/>
          <p:nvPr/>
        </p:nvCxnSpPr>
        <p:spPr>
          <a:xfrm>
            <a:off x="3216240" y="428256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4" name=""/>
          <p:cNvCxnSpPr/>
          <p:nvPr/>
        </p:nvCxnSpPr>
        <p:spPr>
          <a:xfrm>
            <a:off x="3216240" y="45111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5" name=""/>
          <p:cNvSpPr/>
          <p:nvPr/>
        </p:nvSpPr>
        <p:spPr>
          <a:xfrm>
            <a:off x="3886200" y="4114800"/>
            <a:ext cx="101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609200" y="4191120"/>
            <a:ext cx="91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=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5647680" y="4191120"/>
            <a:ext cx="91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=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xchange of messages with all physical neighbors that contain information about who can be reached at wha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the shortest path if several path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notification of all routers about the current state of all physica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get a complete picture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A packet radio network (1973), DV-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7.5s exchange of routing tables including link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ing of tables also by reception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problems solved with limited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traditional 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of the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changes of connections, connection quality, 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performance of mob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updates of routing tables need energy without contributing to the transmission of user data, sleep modes difficult to re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bandwidth of the system is reduced even more due to the exchange of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can be asymmetric, i.e., they can have a direction dependent transmission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s have been designed for fixed networks with infrequent changes and typically assume symmetric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DV (Destination Sequenced Distance V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Protocols: DS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-Sequenced Distance Vec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de maintains a routing table li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est, next-hop, metric, SeqNum&gt;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avored route is changed if a new route with higher SeqNum is received, or if the new route has equal SeqNum and lower 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send advertisement with evenly increased Seq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node detects a broken link he sends an advertisement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ric and SeqNum=PrevSeqNu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ing fluct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ctuations are due to out-of-order arrival of route adverti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solution: maintain a settling time estimation for ro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 with a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tric are advertised without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 &lt;draft-ietf-manet-dsr-05.txt:200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routing into discovering a path and maintaining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if a path for sending packets to a certain destination is needed and no path is current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hile the path is in use, one has to make sure that it can be used contin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iodic updates nee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 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et with destination address and uniqu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tation receives a broadcast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station is the receiver (i.e., has the correct destination address) then return the packet to the sender (path was collected in the packet)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ute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acket has already been received earlier (identified via ID) then discard the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, append own address and broadcast pac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receives packet with the current path (address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broadcasting if maximum diameter of the network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ing of address lists (i.e. paths) from passing packets (overhea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s can use the cached information for path discovery (own paths or paths for other ho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ending a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a layer 2 acknowledgement (if applic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 into the medium to detect if other stations forward the packet (if poss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 explicit acknowled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tation encounters problems it can inform the sender of a packet or look-up a new path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"/>
          <p:cNvSpPr/>
          <p:nvPr/>
        </p:nvSpPr>
        <p:spPr>
          <a:xfrm rot="2360400">
            <a:off x="990360" y="3048120"/>
            <a:ext cx="4267080" cy="20574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4572000" y="2819520"/>
            <a:ext cx="175248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905120" y="2895480"/>
            <a:ext cx="1523880" cy="15242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3124080" y="3962520"/>
            <a:ext cx="152424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ustering of ad-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057400" y="38098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2514600" y="36576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286000" y="33526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666880" y="4114800"/>
            <a:ext cx="15264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1" name=""/>
          <p:cNvCxnSpPr>
            <a:stCxn id="2985" idx="6"/>
            <a:endCxn id="2986" idx="3"/>
          </p:cNvCxnSpPr>
          <p:nvPr/>
        </p:nvCxnSpPr>
        <p:spPr>
          <a:xfrm flipV="1">
            <a:off x="2209320" y="3787200"/>
            <a:ext cx="3279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2" name=""/>
          <p:cNvCxnSpPr>
            <a:stCxn id="2985" idx="0"/>
            <a:endCxn id="2987" idx="3"/>
          </p:cNvCxnSpPr>
          <p:nvPr/>
        </p:nvCxnSpPr>
        <p:spPr>
          <a:xfrm flipV="1">
            <a:off x="2133360" y="348264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3" name=""/>
          <p:cNvCxnSpPr>
            <a:stCxn id="2986" idx="7"/>
            <a:endCxn id="2988" idx="3"/>
          </p:cNvCxnSpPr>
          <p:nvPr/>
        </p:nvCxnSpPr>
        <p:spPr>
          <a:xfrm flipV="1">
            <a:off x="2644920" y="3330360"/>
            <a:ext cx="27324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4" name=""/>
          <p:cNvCxnSpPr>
            <a:stCxn id="2987" idx="5"/>
            <a:endCxn id="2986" idx="1"/>
          </p:cNvCxnSpPr>
          <p:nvPr/>
        </p:nvCxnSpPr>
        <p:spPr>
          <a:xfrm>
            <a:off x="2415960" y="3482640"/>
            <a:ext cx="1213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5" name=""/>
          <p:cNvCxnSpPr>
            <a:stCxn id="2987" idx="6"/>
            <a:endCxn id="2988" idx="2"/>
          </p:cNvCxnSpPr>
          <p:nvPr/>
        </p:nvCxnSpPr>
        <p:spPr>
          <a:xfrm flipV="1">
            <a:off x="2438280" y="327600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6" name=""/>
          <p:cNvCxnSpPr>
            <a:stCxn id="2990" idx="1"/>
            <a:endCxn id="2986" idx="4"/>
          </p:cNvCxnSpPr>
          <p:nvPr/>
        </p:nvCxnSpPr>
        <p:spPr>
          <a:xfrm flipH="1" flipV="1">
            <a:off x="2590200" y="3809160"/>
            <a:ext cx="9900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7" name=""/>
          <p:cNvCxnSpPr>
            <a:stCxn id="2989" idx="0"/>
            <a:endCxn id="2988" idx="5"/>
          </p:cNvCxnSpPr>
          <p:nvPr/>
        </p:nvCxnSpPr>
        <p:spPr>
          <a:xfrm flipH="1" flipV="1">
            <a:off x="3025080" y="3330360"/>
            <a:ext cx="99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8" name=""/>
          <p:cNvCxnSpPr>
            <a:stCxn id="2989" idx="3"/>
            <a:endCxn id="2990" idx="7"/>
          </p:cNvCxnSpPr>
          <p:nvPr/>
        </p:nvCxnSpPr>
        <p:spPr>
          <a:xfrm flipH="1">
            <a:off x="2797200" y="3863520"/>
            <a:ext cx="27324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99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5334120" y="36576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4876920" y="3276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5334120" y="30481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5943600" y="3276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5" name=""/>
          <p:cNvCxnSpPr>
            <a:stCxn id="2999" idx="0"/>
            <a:endCxn id="3001" idx="3"/>
          </p:cNvCxnSpPr>
          <p:nvPr/>
        </p:nvCxnSpPr>
        <p:spPr>
          <a:xfrm flipV="1">
            <a:off x="4800240" y="3406320"/>
            <a:ext cx="99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6" name=""/>
          <p:cNvCxnSpPr>
            <a:stCxn id="3000" idx="7"/>
            <a:endCxn id="3002" idx="3"/>
          </p:cNvCxnSpPr>
          <p:nvPr/>
        </p:nvCxnSpPr>
        <p:spPr>
          <a:xfrm flipH="1" flipV="1">
            <a:off x="5355720" y="3177720"/>
            <a:ext cx="10872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7" name=""/>
          <p:cNvCxnSpPr>
            <a:stCxn id="3001" idx="5"/>
            <a:endCxn id="3000" idx="1"/>
          </p:cNvCxnSpPr>
          <p:nvPr/>
        </p:nvCxnSpPr>
        <p:spPr>
          <a:xfrm>
            <a:off x="5006880" y="3406320"/>
            <a:ext cx="34992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8" name=""/>
          <p:cNvCxnSpPr>
            <a:stCxn id="3001" idx="6"/>
            <a:endCxn id="3002" idx="2"/>
          </p:cNvCxnSpPr>
          <p:nvPr/>
        </p:nvCxnSpPr>
        <p:spPr>
          <a:xfrm flipV="1">
            <a:off x="5028840" y="312336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9" name=""/>
          <p:cNvCxnSpPr>
            <a:stCxn id="3004" idx="1"/>
            <a:endCxn id="3000" idx="6"/>
          </p:cNvCxnSpPr>
          <p:nvPr/>
        </p:nvCxnSpPr>
        <p:spPr>
          <a:xfrm flipH="1" flipV="1">
            <a:off x="5486040" y="3733200"/>
            <a:ext cx="480240" cy="2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0" name=""/>
          <p:cNvCxnSpPr>
            <a:stCxn id="3003" idx="0"/>
            <a:endCxn id="3002" idx="5"/>
          </p:cNvCxnSpPr>
          <p:nvPr/>
        </p:nvCxnSpPr>
        <p:spPr>
          <a:xfrm flipH="1" flipV="1">
            <a:off x="5463720" y="3177720"/>
            <a:ext cx="55656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1" name=""/>
          <p:cNvCxnSpPr>
            <a:stCxn id="3003" idx="3"/>
            <a:endCxn id="3004" idx="0"/>
          </p:cNvCxnSpPr>
          <p:nvPr/>
        </p:nvCxnSpPr>
        <p:spPr>
          <a:xfrm>
            <a:off x="5965920" y="3406320"/>
            <a:ext cx="547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2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3733920" y="46483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276720" y="44956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3657600" y="41148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4191120" y="4419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8" name=""/>
          <p:cNvCxnSpPr>
            <a:stCxn id="3012" idx="6"/>
            <a:endCxn id="3013" idx="3"/>
          </p:cNvCxnSpPr>
          <p:nvPr/>
        </p:nvCxnSpPr>
        <p:spPr>
          <a:xfrm flipV="1">
            <a:off x="3580920" y="4777560"/>
            <a:ext cx="1753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9" name=""/>
          <p:cNvCxnSpPr>
            <a:stCxn id="3012" idx="0"/>
            <a:endCxn id="3014" idx="5"/>
          </p:cNvCxnSpPr>
          <p:nvPr/>
        </p:nvCxnSpPr>
        <p:spPr>
          <a:xfrm flipH="1" flipV="1">
            <a:off x="3406320" y="4625640"/>
            <a:ext cx="993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0" name=""/>
          <p:cNvCxnSpPr>
            <a:stCxn id="3013" idx="7"/>
            <a:endCxn id="3015" idx="3"/>
          </p:cNvCxnSpPr>
          <p:nvPr/>
        </p:nvCxnSpPr>
        <p:spPr>
          <a:xfrm flipH="1" flipV="1">
            <a:off x="3679200" y="4244400"/>
            <a:ext cx="18468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1" name=""/>
          <p:cNvCxnSpPr>
            <a:stCxn id="3016" idx="2"/>
            <a:endCxn id="3013" idx="6"/>
          </p:cNvCxnSpPr>
          <p:nvPr/>
        </p:nvCxnSpPr>
        <p:spPr>
          <a:xfrm flipH="1">
            <a:off x="3885480" y="449532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2" name=""/>
          <p:cNvCxnSpPr>
            <a:stCxn id="3014" idx="6"/>
            <a:endCxn id="3015" idx="2"/>
          </p:cNvCxnSpPr>
          <p:nvPr/>
        </p:nvCxnSpPr>
        <p:spPr>
          <a:xfrm flipV="1">
            <a:off x="3428640" y="419076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3" name=""/>
          <p:cNvCxnSpPr>
            <a:stCxn id="3016" idx="0"/>
            <a:endCxn id="3015" idx="5"/>
          </p:cNvCxnSpPr>
          <p:nvPr/>
        </p:nvCxnSpPr>
        <p:spPr>
          <a:xfrm flipH="1" flipV="1">
            <a:off x="3787200" y="4244400"/>
            <a:ext cx="4798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4" name=""/>
          <p:cNvCxnSpPr>
            <a:stCxn id="3016" idx="4"/>
            <a:endCxn id="3017" idx="0"/>
          </p:cNvCxnSpPr>
          <p:nvPr/>
        </p:nvCxnSpPr>
        <p:spPr>
          <a:xfrm>
            <a:off x="4267080" y="4571640"/>
            <a:ext cx="76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25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6" name=""/>
          <p:cNvCxnSpPr>
            <a:stCxn id="3025" idx="1"/>
            <a:endCxn id="3013" idx="4"/>
          </p:cNvCxnSpPr>
          <p:nvPr/>
        </p:nvCxnSpPr>
        <p:spPr>
          <a:xfrm flipH="1" flipV="1">
            <a:off x="3809160" y="480024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7" name=""/>
          <p:cNvCxnSpPr>
            <a:stCxn id="2988" idx="6"/>
            <a:endCxn id="3015" idx="0"/>
          </p:cNvCxnSpPr>
          <p:nvPr/>
        </p:nvCxnSpPr>
        <p:spPr>
          <a:xfrm>
            <a:off x="3047760" y="3276720"/>
            <a:ext cx="686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28" name=""/>
          <p:cNvSpPr/>
          <p:nvPr/>
        </p:nvSpPr>
        <p:spPr>
          <a:xfrm>
            <a:off x="3962520" y="2209680"/>
            <a:ext cx="228600" cy="228600"/>
          </a:xfrm>
          <a:prstGeom prst="ellipse">
            <a:avLst/>
          </a:prstGeom>
          <a:solidFill>
            <a:srgbClr val="e30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3886200" y="1447920"/>
            <a:ext cx="1219320" cy="5331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0" name=""/>
          <p:cNvCxnSpPr>
            <a:stCxn id="3028" idx="7"/>
            <a:endCxn id="3029" idx="4"/>
          </p:cNvCxnSpPr>
          <p:nvPr/>
        </p:nvCxnSpPr>
        <p:spPr>
          <a:xfrm flipV="1">
            <a:off x="4157280" y="1980720"/>
            <a:ext cx="3387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1" name=""/>
          <p:cNvCxnSpPr>
            <a:stCxn id="2988" idx="7"/>
            <a:endCxn id="3028" idx="3"/>
          </p:cNvCxnSpPr>
          <p:nvPr/>
        </p:nvCxnSpPr>
        <p:spPr>
          <a:xfrm flipV="1">
            <a:off x="3025800" y="2404440"/>
            <a:ext cx="97056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2" name=""/>
          <p:cNvCxnSpPr>
            <a:stCxn id="3028" idx="5"/>
            <a:endCxn id="3002" idx="0"/>
          </p:cNvCxnSpPr>
          <p:nvPr/>
        </p:nvCxnSpPr>
        <p:spPr>
          <a:xfrm>
            <a:off x="4157280" y="2405160"/>
            <a:ext cx="1253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3" name=""/>
          <p:cNvSpPr/>
          <p:nvPr/>
        </p:nvSpPr>
        <p:spPr>
          <a:xfrm>
            <a:off x="1294560" y="523080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5258520" y="4697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5" name=""/>
          <p:cNvCxnSpPr>
            <a:stCxn id="3034" idx="0"/>
            <a:endCxn id="2981" idx="4"/>
          </p:cNvCxnSpPr>
          <p:nvPr/>
        </p:nvCxnSpPr>
        <p:spPr>
          <a:xfrm flipH="1" flipV="1">
            <a:off x="5447520" y="4342680"/>
            <a:ext cx="12636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6" name=""/>
          <p:cNvCxnSpPr>
            <a:stCxn id="3034" idx="1"/>
            <a:endCxn id="2983" idx="6"/>
          </p:cNvCxnSpPr>
          <p:nvPr/>
        </p:nvCxnSpPr>
        <p:spPr>
          <a:xfrm flipH="1" flipV="1">
            <a:off x="4647600" y="4723560"/>
            <a:ext cx="61020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7" name=""/>
          <p:cNvCxnSpPr>
            <a:stCxn id="3033" idx="0"/>
            <a:endCxn id="2980" idx="4"/>
          </p:cNvCxnSpPr>
          <p:nvPr/>
        </p:nvCxnSpPr>
        <p:spPr>
          <a:xfrm flipV="1">
            <a:off x="1822320" y="4871160"/>
            <a:ext cx="6501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"/>
          <p:cNvSpPr/>
          <p:nvPr/>
        </p:nvSpPr>
        <p:spPr>
          <a:xfrm rot="3663000">
            <a:off x="5600160" y="3543120"/>
            <a:ext cx="380880" cy="762120"/>
          </a:xfrm>
          <a:prstGeom prst="upDownArrow">
            <a:avLst>
              <a:gd name="adj1" fmla="val 50000"/>
              <a:gd name="adj2" fmla="val 3983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rot="1747200">
            <a:off x="3390840" y="3262320"/>
            <a:ext cx="381240" cy="843120"/>
          </a:xfrm>
          <a:prstGeom prst="upDownArrow">
            <a:avLst>
              <a:gd name="adj1" fmla="val 38880"/>
              <a:gd name="adj2" fmla="val 6372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rot="18572400">
            <a:off x="4325760" y="3072960"/>
            <a:ext cx="381240" cy="1279440"/>
          </a:xfrm>
          <a:prstGeom prst="upDownArrow">
            <a:avLst>
              <a:gd name="adj1" fmla="val 50000"/>
              <a:gd name="adj2" fmla="val 6680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 rot="17997600">
            <a:off x="6716880" y="3484080"/>
            <a:ext cx="381240" cy="914400"/>
          </a:xfrm>
          <a:prstGeom prst="upDownArrow">
            <a:avLst>
              <a:gd name="adj1" fmla="val 50000"/>
              <a:gd name="adj2" fmla="val 4774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rot="5400000">
            <a:off x="7086240" y="609480"/>
            <a:ext cx="381240" cy="1752480"/>
          </a:xfrm>
          <a:prstGeom prst="upDownArrow">
            <a:avLst>
              <a:gd name="adj1" fmla="val 50000"/>
              <a:gd name="adj2" fmla="val 9151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erence-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based on assumptions about interference between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1143000" y="281952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3124080" y="40384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3505320" y="28195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6019920" y="32767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3200400" y="18288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315200" y="24382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7162920" y="403848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4952880" y="40384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4495680" y="510552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295280" y="42670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6095880" y="5029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971800" y="52578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8" name=""/>
          <p:cNvCxnSpPr>
            <a:stCxn id="3045" idx="6"/>
            <a:endCxn id="3047" idx="2"/>
          </p:cNvCxnSpPr>
          <p:nvPr/>
        </p:nvCxnSpPr>
        <p:spPr>
          <a:xfrm>
            <a:off x="1676520" y="308592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059" name=""/>
          <p:cNvGrpSpPr/>
          <p:nvPr/>
        </p:nvGrpSpPr>
        <p:grpSpPr>
          <a:xfrm>
            <a:off x="917640" y="5486400"/>
            <a:ext cx="2244240" cy="580680"/>
            <a:chOff x="917640" y="5486400"/>
            <a:chExt cx="2244240" cy="580680"/>
          </a:xfrm>
        </p:grpSpPr>
        <p:sp>
          <p:nvSpPr>
            <p:cNvPr id="3060" name=""/>
            <p:cNvSpPr/>
            <p:nvPr/>
          </p:nvSpPr>
          <p:spPr>
            <a:xfrm>
              <a:off x="990360" y="56390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917640" y="5486400"/>
              <a:ext cx="22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.e. within radio ran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2" name=""/>
          <p:cNvCxnSpPr>
            <a:stCxn id="3049" idx="4"/>
            <a:endCxn id="3047" idx="1"/>
          </p:cNvCxnSpPr>
          <p:nvPr/>
        </p:nvCxnSpPr>
        <p:spPr>
          <a:xfrm>
            <a:off x="3467160" y="2362320"/>
            <a:ext cx="1166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3" name=""/>
          <p:cNvCxnSpPr>
            <a:stCxn id="3047" idx="7"/>
            <a:endCxn id="3050" idx="3"/>
          </p:cNvCxnSpPr>
          <p:nvPr/>
        </p:nvCxnSpPr>
        <p:spPr>
          <a:xfrm flipV="1">
            <a:off x="3960720" y="2436120"/>
            <a:ext cx="152784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4" name=""/>
          <p:cNvCxnSpPr>
            <a:stCxn id="3047" idx="6"/>
            <a:endCxn id="3048" idx="2"/>
          </p:cNvCxnSpPr>
          <p:nvPr/>
        </p:nvCxnSpPr>
        <p:spPr>
          <a:xfrm>
            <a:off x="4038480" y="3086280"/>
            <a:ext cx="198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5" name=""/>
          <p:cNvCxnSpPr>
            <a:stCxn id="3050" idx="6"/>
            <a:endCxn id="3051" idx="1"/>
          </p:cNvCxnSpPr>
          <p:nvPr/>
        </p:nvCxnSpPr>
        <p:spPr>
          <a:xfrm>
            <a:off x="5943600" y="2247480"/>
            <a:ext cx="145008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6" name=""/>
          <p:cNvCxnSpPr>
            <a:stCxn id="3049" idx="6"/>
            <a:endCxn id="3050" idx="2"/>
          </p:cNvCxnSpPr>
          <p:nvPr/>
        </p:nvCxnSpPr>
        <p:spPr>
          <a:xfrm>
            <a:off x="3733920" y="209520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7" name=""/>
          <p:cNvCxnSpPr>
            <a:stCxn id="3055" idx="6"/>
            <a:endCxn id="3046" idx="2"/>
          </p:cNvCxnSpPr>
          <p:nvPr/>
        </p:nvCxnSpPr>
        <p:spPr>
          <a:xfrm flipV="1">
            <a:off x="1828800" y="43045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8" name=""/>
          <p:cNvCxnSpPr>
            <a:stCxn id="3055" idx="5"/>
            <a:endCxn id="3057" idx="1"/>
          </p:cNvCxnSpPr>
          <p:nvPr/>
        </p:nvCxnSpPr>
        <p:spPr>
          <a:xfrm>
            <a:off x="1750680" y="4722840"/>
            <a:ext cx="129924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9" name=""/>
          <p:cNvCxnSpPr>
            <a:stCxn id="3057" idx="6"/>
            <a:endCxn id="3054" idx="2"/>
          </p:cNvCxnSpPr>
          <p:nvPr/>
        </p:nvCxnSpPr>
        <p:spPr>
          <a:xfrm flipV="1">
            <a:off x="3504960" y="5371560"/>
            <a:ext cx="99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0" name=""/>
          <p:cNvCxnSpPr>
            <a:stCxn id="3046" idx="6"/>
            <a:endCxn id="3053" idx="2"/>
          </p:cNvCxnSpPr>
          <p:nvPr/>
        </p:nvCxnSpPr>
        <p:spPr>
          <a:xfrm>
            <a:off x="3657600" y="4304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1" name=""/>
          <p:cNvCxnSpPr>
            <a:stCxn id="3054" idx="6"/>
            <a:endCxn id="3056" idx="2"/>
          </p:cNvCxnSpPr>
          <p:nvPr/>
        </p:nvCxnSpPr>
        <p:spPr>
          <a:xfrm flipV="1">
            <a:off x="5028840" y="529596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2" name=""/>
          <p:cNvCxnSpPr>
            <a:stCxn id="3053" idx="6"/>
            <a:endCxn id="3052" idx="2"/>
          </p:cNvCxnSpPr>
          <p:nvPr/>
        </p:nvCxnSpPr>
        <p:spPr>
          <a:xfrm>
            <a:off x="5486040" y="430488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3" name=""/>
          <p:cNvCxnSpPr>
            <a:stCxn id="3045" idx="7"/>
            <a:endCxn id="3049" idx="2"/>
          </p:cNvCxnSpPr>
          <p:nvPr/>
        </p:nvCxnSpPr>
        <p:spPr>
          <a:xfrm flipV="1">
            <a:off x="1598400" y="2094840"/>
            <a:ext cx="160236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4" name=""/>
          <p:cNvCxnSpPr>
            <a:stCxn id="3056" idx="7"/>
            <a:endCxn id="3052" idx="3"/>
          </p:cNvCxnSpPr>
          <p:nvPr/>
        </p:nvCxnSpPr>
        <p:spPr>
          <a:xfrm flipV="1">
            <a:off x="6551640" y="4493880"/>
            <a:ext cx="68976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5" name=""/>
          <p:cNvCxnSpPr>
            <a:stCxn id="3046" idx="0"/>
            <a:endCxn id="3047" idx="4"/>
          </p:cNvCxnSpPr>
          <p:nvPr/>
        </p:nvCxnSpPr>
        <p:spPr>
          <a:xfrm flipV="1">
            <a:off x="3390480" y="3351960"/>
            <a:ext cx="381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6" name=""/>
          <p:cNvCxnSpPr>
            <a:stCxn id="3047" idx="5"/>
            <a:endCxn id="3053" idx="1"/>
          </p:cNvCxnSpPr>
          <p:nvPr/>
        </p:nvCxnSpPr>
        <p:spPr>
          <a:xfrm>
            <a:off x="3960720" y="3274560"/>
            <a:ext cx="1070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7" name=""/>
          <p:cNvCxnSpPr>
            <a:stCxn id="3053" idx="7"/>
            <a:endCxn id="3048" idx="3"/>
          </p:cNvCxnSpPr>
          <p:nvPr/>
        </p:nvCxnSpPr>
        <p:spPr>
          <a:xfrm flipV="1">
            <a:off x="5408640" y="3731400"/>
            <a:ext cx="68976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8" name=""/>
          <p:cNvCxnSpPr>
            <a:stCxn id="3048" idx="5"/>
            <a:endCxn id="3052" idx="1"/>
          </p:cNvCxnSpPr>
          <p:nvPr/>
        </p:nvCxnSpPr>
        <p:spPr>
          <a:xfrm>
            <a:off x="6475320" y="3731760"/>
            <a:ext cx="76608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9" name=""/>
          <p:cNvCxnSpPr>
            <a:stCxn id="3057" idx="0"/>
            <a:endCxn id="3046" idx="4"/>
          </p:cNvCxnSpPr>
          <p:nvPr/>
        </p:nvCxnSpPr>
        <p:spPr>
          <a:xfrm flipV="1">
            <a:off x="3238200" y="4571280"/>
            <a:ext cx="153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0" name=""/>
          <p:cNvCxnSpPr>
            <a:stCxn id="3053" idx="3"/>
            <a:endCxn id="3054" idx="0"/>
          </p:cNvCxnSpPr>
          <p:nvPr/>
        </p:nvCxnSpPr>
        <p:spPr>
          <a:xfrm flipH="1">
            <a:off x="4761720" y="4494240"/>
            <a:ext cx="26892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1" name=""/>
          <p:cNvCxnSpPr>
            <a:stCxn id="3055" idx="0"/>
            <a:endCxn id="3045" idx="4"/>
          </p:cNvCxnSpPr>
          <p:nvPr/>
        </p:nvCxnSpPr>
        <p:spPr>
          <a:xfrm flipH="1" flipV="1">
            <a:off x="1409040" y="3352320"/>
            <a:ext cx="1530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2" name=""/>
          <p:cNvCxnSpPr>
            <a:stCxn id="3053" idx="5"/>
            <a:endCxn id="3056" idx="1"/>
          </p:cNvCxnSpPr>
          <p:nvPr/>
        </p:nvCxnSpPr>
        <p:spPr>
          <a:xfrm>
            <a:off x="5408280" y="4494240"/>
            <a:ext cx="76572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3" name=""/>
          <p:cNvCxnSpPr>
            <a:stCxn id="3050" idx="5"/>
            <a:endCxn id="3048" idx="0"/>
          </p:cNvCxnSpPr>
          <p:nvPr/>
        </p:nvCxnSpPr>
        <p:spPr>
          <a:xfrm>
            <a:off x="5865480" y="2436480"/>
            <a:ext cx="4215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84" name=""/>
          <p:cNvSpPr/>
          <p:nvPr/>
        </p:nvSpPr>
        <p:spPr>
          <a:xfrm>
            <a:off x="1523880" y="2695680"/>
            <a:ext cx="5854680" cy="730080"/>
          </a:xfrm>
          <a:custGeom>
            <a:avLst/>
            <a:gdLst/>
            <a:ahLst/>
            <a:rect l="l" t="t" r="r" b="b"/>
            <a:pathLst>
              <a:path w="3688" h="460">
                <a:moveTo>
                  <a:pt x="0" y="174"/>
                </a:moveTo>
                <a:cubicBezTo>
                  <a:pt x="225" y="168"/>
                  <a:pt x="854" y="91"/>
                  <a:pt x="1352" y="135"/>
                </a:cubicBezTo>
                <a:cubicBezTo>
                  <a:pt x="1850" y="179"/>
                  <a:pt x="2597" y="460"/>
                  <a:pt x="2986" y="437"/>
                </a:cubicBezTo>
                <a:cubicBezTo>
                  <a:pt x="3375" y="414"/>
                  <a:pt x="3542" y="91"/>
                  <a:pt x="36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676520" y="4191120"/>
            <a:ext cx="5638680" cy="266760"/>
          </a:xfrm>
          <a:custGeom>
            <a:avLst/>
            <a:gdLst/>
            <a:ahLst/>
            <a:rect l="l" t="t" r="r" b="b"/>
            <a:pathLst>
              <a:path w="3552" h="168">
                <a:moveTo>
                  <a:pt x="0" y="168"/>
                </a:moveTo>
                <a:cubicBezTo>
                  <a:pt x="364" y="108"/>
                  <a:pt x="728" y="48"/>
                  <a:pt x="1104" y="24"/>
                </a:cubicBezTo>
                <a:cubicBezTo>
                  <a:pt x="1480" y="0"/>
                  <a:pt x="1848" y="24"/>
                  <a:pt x="2256" y="24"/>
                </a:cubicBezTo>
                <a:cubicBezTo>
                  <a:pt x="2664" y="24"/>
                  <a:pt x="3108" y="24"/>
                  <a:pt x="3552" y="2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1600200" y="4495680"/>
            <a:ext cx="5791320" cy="1270080"/>
          </a:xfrm>
          <a:custGeom>
            <a:avLst/>
            <a:gdLst/>
            <a:ahLst/>
            <a:rect l="l" t="t" r="r" b="b"/>
            <a:pathLst>
              <a:path w="3648" h="800">
                <a:moveTo>
                  <a:pt x="0" y="144"/>
                </a:moveTo>
                <a:cubicBezTo>
                  <a:pt x="336" y="392"/>
                  <a:pt x="672" y="640"/>
                  <a:pt x="1008" y="720"/>
                </a:cubicBezTo>
                <a:cubicBezTo>
                  <a:pt x="1344" y="800"/>
                  <a:pt x="1680" y="648"/>
                  <a:pt x="2016" y="624"/>
                </a:cubicBezTo>
                <a:cubicBezTo>
                  <a:pt x="2352" y="600"/>
                  <a:pt x="2752" y="680"/>
                  <a:pt x="3024" y="576"/>
                </a:cubicBezTo>
                <a:cubicBezTo>
                  <a:pt x="3296" y="472"/>
                  <a:pt x="3472" y="236"/>
                  <a:pt x="3648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1447920" y="1960560"/>
            <a:ext cx="6108480" cy="897120"/>
          </a:xfrm>
          <a:custGeom>
            <a:avLst/>
            <a:gdLst/>
            <a:ahLst/>
            <a:rect l="l" t="t" r="r" b="b"/>
            <a:pathLst>
              <a:path w="3848" h="565">
                <a:moveTo>
                  <a:pt x="0" y="565"/>
                </a:moveTo>
                <a:cubicBezTo>
                  <a:pt x="184" y="361"/>
                  <a:pt x="370" y="170"/>
                  <a:pt x="720" y="85"/>
                </a:cubicBezTo>
                <a:cubicBezTo>
                  <a:pt x="1070" y="0"/>
                  <a:pt x="1635" y="47"/>
                  <a:pt x="2099" y="56"/>
                </a:cubicBezTo>
                <a:cubicBezTo>
                  <a:pt x="2563" y="65"/>
                  <a:pt x="3211" y="94"/>
                  <a:pt x="3502" y="138"/>
                </a:cubicBezTo>
                <a:cubicBezTo>
                  <a:pt x="3793" y="182"/>
                  <a:pt x="3776" y="283"/>
                  <a:pt x="3848" y="32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8" name=""/>
          <p:cNvCxnSpPr>
            <a:stCxn id="3051" idx="3"/>
            <a:endCxn id="3048" idx="6"/>
          </p:cNvCxnSpPr>
          <p:nvPr/>
        </p:nvCxnSpPr>
        <p:spPr>
          <a:xfrm flipH="1">
            <a:off x="6552360" y="2894040"/>
            <a:ext cx="84060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(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(node) that can change the point of connec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network without changing its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(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home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the location of the MN, tunnels IP datagrams to the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(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current foreign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s the tunneled datagrams to the MN, typically also the default router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-of Address (C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of the current tunnel end-point for the MN (at FA or 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location of the MN from an IP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hosen, e.g., via 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t Node (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467480" y="914400"/>
            <a:ext cx="1218960" cy="1423800"/>
            <a:chOff x="7467480" y="914400"/>
            <a:chExt cx="1218960" cy="14238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7467480" y="137160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7924320" y="91440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for interference 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Interference Routing (L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the number of stations that can receive 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-Min Residual Capacity Routing (MMR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a probability function of successful transmissions and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Resistance Routing (L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interference, jamming and other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 is very simple to implement, only information from direct neighbors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240320" y="289548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5" idx="0"/>
            <a:endCxn id="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7" idx="3"/>
            <a:endCxn id="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3" idx="3"/>
            <a:endCxn id="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46840" y="4114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131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8000" y="2438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21120" y="57150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4520" y="289548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0040" y="34290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hysical 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3680" y="4495680"/>
            <a:ext cx="249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urrent physical networ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to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5" idx="0"/>
            <a:endCxn id="6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7" idx="3"/>
            <a:endCxn id="6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63" idx="3"/>
            <a:endCxn id="6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6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6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8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0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21120" y="5715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18800" y="350532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621560" y="28195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18800" y="4343400"/>
            <a:ext cx="437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 of M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tercepts packet (proxy AR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A tunnels packet to COA, here F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A forwards the pack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o the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from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1266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9" name=""/>
          <p:cNvCxnSpPr>
            <a:stCxn id="1270" idx="0"/>
            <a:endCxn id="1268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72" idx="3"/>
            <a:endCxn id="1268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3" name=""/>
          <p:cNvCxnSpPr>
            <a:stCxn id="1268" idx="3"/>
            <a:endCxn id="1274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5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1279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1283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1286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1431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632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8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31880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92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651200" y="4572000"/>
            <a:ext cx="36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of the receiver as usua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A works as default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905120" y="1447920"/>
            <a:ext cx="6095880" cy="3962160"/>
          </a:xfrm>
          <a:custGeom>
            <a:avLst/>
            <a:gdLst/>
            <a:ahLst/>
            <a:rect l="l" t="t" r="r" b="b"/>
            <a:pathLst>
              <a:path w="3840" h="2496">
                <a:moveTo>
                  <a:pt x="3840" y="384"/>
                </a:moveTo>
                <a:cubicBezTo>
                  <a:pt x="3476" y="192"/>
                  <a:pt x="3112" y="0"/>
                  <a:pt x="2928" y="0"/>
                </a:cubicBezTo>
                <a:cubicBezTo>
                  <a:pt x="2744" y="0"/>
                  <a:pt x="2736" y="264"/>
                  <a:pt x="2736" y="384"/>
                </a:cubicBezTo>
                <a:cubicBezTo>
                  <a:pt x="2736" y="504"/>
                  <a:pt x="2928" y="640"/>
                  <a:pt x="2928" y="720"/>
                </a:cubicBezTo>
                <a:cubicBezTo>
                  <a:pt x="2928" y="800"/>
                  <a:pt x="2776" y="728"/>
                  <a:pt x="2736" y="864"/>
                </a:cubicBezTo>
                <a:cubicBezTo>
                  <a:pt x="2696" y="1000"/>
                  <a:pt x="2816" y="1528"/>
                  <a:pt x="2688" y="1536"/>
                </a:cubicBezTo>
                <a:cubicBezTo>
                  <a:pt x="2560" y="1544"/>
                  <a:pt x="2192" y="960"/>
                  <a:pt x="1968" y="912"/>
                </a:cubicBezTo>
                <a:cubicBezTo>
                  <a:pt x="1744" y="864"/>
                  <a:pt x="1464" y="1032"/>
                  <a:pt x="1344" y="1248"/>
                </a:cubicBezTo>
                <a:cubicBezTo>
                  <a:pt x="1224" y="1464"/>
                  <a:pt x="1376" y="2024"/>
                  <a:pt x="1248" y="2208"/>
                </a:cubicBezTo>
                <a:cubicBezTo>
                  <a:pt x="1120" y="2392"/>
                  <a:pt x="704" y="2312"/>
                  <a:pt x="576" y="2352"/>
                </a:cubicBezTo>
                <a:cubicBezTo>
                  <a:pt x="448" y="2392"/>
                  <a:pt x="576" y="2424"/>
                  <a:pt x="480" y="2448"/>
                </a:cubicBezTo>
                <a:cubicBezTo>
                  <a:pt x="384" y="2472"/>
                  <a:pt x="192" y="2484"/>
                  <a:pt x="0" y="24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47920" y="53341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362320" y="388620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29200" y="380988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48120" y="4343400"/>
            <a:ext cx="19810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53341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7" name=""/>
          <p:cNvCxnSpPr>
            <a:stCxn id="1866" idx="3"/>
            <a:endCxn id="1865" idx="3"/>
          </p:cNvCxnSpPr>
          <p:nvPr/>
        </p:nvCxnSpPr>
        <p:spPr>
          <a:xfrm flipV="1">
            <a:off x="2971440" y="4993560"/>
            <a:ext cx="3675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63" idx="3"/>
            <a:endCxn id="1865" idx="1"/>
          </p:cNvCxnSpPr>
          <p:nvPr/>
        </p:nvCxnSpPr>
        <p:spPr>
          <a:xfrm>
            <a:off x="2971440" y="4152960"/>
            <a:ext cx="3675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65" idx="7"/>
            <a:endCxn id="1864" idx="1"/>
          </p:cNvCxnSpPr>
          <p:nvPr/>
        </p:nvCxnSpPr>
        <p:spPr>
          <a:xfrm flipV="1">
            <a:off x="4738320" y="4076280"/>
            <a:ext cx="29124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0" name=""/>
          <p:cNvCxnSpPr>
            <a:stCxn id="1862" idx="6"/>
            <a:endCxn id="1866" idx="1"/>
          </p:cNvCxnSpPr>
          <p:nvPr/>
        </p:nvCxnSpPr>
        <p:spPr>
          <a:xfrm>
            <a:off x="1980720" y="5600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1" name=""/>
          <p:cNvCxnSpPr>
            <a:stCxn id="1864" idx="3"/>
            <a:endCxn id="1872" idx="2"/>
          </p:cNvCxnSpPr>
          <p:nvPr/>
        </p:nvCxnSpPr>
        <p:spPr>
          <a:xfrm>
            <a:off x="5638680" y="407628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3" name=""/>
          <p:cNvSpPr/>
          <p:nvPr/>
        </p:nvSpPr>
        <p:spPr>
          <a:xfrm>
            <a:off x="2044800" y="4332240"/>
            <a:ext cx="1272960" cy="1165320"/>
          </a:xfrm>
          <a:custGeom>
            <a:avLst/>
            <a:gdLst/>
            <a:ahLst/>
            <a:rect l="l" t="t" r="r" b="b"/>
            <a:pathLst>
              <a:path w="802" h="734">
                <a:moveTo>
                  <a:pt x="0" y="703"/>
                </a:moveTo>
                <a:cubicBezTo>
                  <a:pt x="85" y="696"/>
                  <a:pt x="381" y="734"/>
                  <a:pt x="512" y="663"/>
                </a:cubicBezTo>
                <a:cubicBezTo>
                  <a:pt x="643" y="592"/>
                  <a:pt x="766" y="389"/>
                  <a:pt x="784" y="279"/>
                </a:cubicBezTo>
                <a:cubicBezTo>
                  <a:pt x="802" y="169"/>
                  <a:pt x="654" y="58"/>
                  <a:pt x="62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058480" y="5178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016080" y="4038480"/>
            <a:ext cx="1936800" cy="581040"/>
          </a:xfrm>
          <a:custGeom>
            <a:avLst/>
            <a:gdLst/>
            <a:ahLst/>
            <a:rect l="l" t="t" r="r" b="b"/>
            <a:pathLst>
              <a:path w="1220" h="366">
                <a:moveTo>
                  <a:pt x="0" y="24"/>
                </a:moveTo>
                <a:cubicBezTo>
                  <a:pt x="64" y="71"/>
                  <a:pt x="241" y="252"/>
                  <a:pt x="385" y="301"/>
                </a:cubicBezTo>
                <a:cubicBezTo>
                  <a:pt x="529" y="350"/>
                  <a:pt x="722" y="366"/>
                  <a:pt x="861" y="316"/>
                </a:cubicBezTo>
                <a:cubicBezTo>
                  <a:pt x="1000" y="266"/>
                  <a:pt x="1145" y="66"/>
                  <a:pt x="122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7150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201480" y="4011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716080" y="3706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43000" y="388620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172200" y="38098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019920" y="3581280"/>
            <a:ext cx="1295280" cy="1524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9" idx="6"/>
            <a:endCxn id="1863" idx="1"/>
          </p:cNvCxnSpPr>
          <p:nvPr/>
        </p:nvCxnSpPr>
        <p:spPr>
          <a:xfrm>
            <a:off x="2209680" y="41526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2" name=""/>
          <p:cNvSpPr/>
          <p:nvPr/>
        </p:nvSpPr>
        <p:spPr>
          <a:xfrm>
            <a:off x="2006640" y="4216320"/>
            <a:ext cx="4127400" cy="1638360"/>
          </a:xfrm>
          <a:custGeom>
            <a:avLst/>
            <a:gdLst/>
            <a:ahLst/>
            <a:rect l="l" t="t" r="r" b="b"/>
            <a:pathLst>
              <a:path w="2600" h="1032">
                <a:moveTo>
                  <a:pt x="2600" y="0"/>
                </a:moveTo>
                <a:cubicBezTo>
                  <a:pt x="2503" y="12"/>
                  <a:pt x="2180" y="8"/>
                  <a:pt x="2024" y="72"/>
                </a:cubicBezTo>
                <a:cubicBezTo>
                  <a:pt x="1868" y="136"/>
                  <a:pt x="1837" y="317"/>
                  <a:pt x="1664" y="384"/>
                </a:cubicBezTo>
                <a:cubicBezTo>
                  <a:pt x="1491" y="451"/>
                  <a:pt x="1151" y="379"/>
                  <a:pt x="984" y="472"/>
                </a:cubicBezTo>
                <a:cubicBezTo>
                  <a:pt x="817" y="565"/>
                  <a:pt x="828" y="856"/>
                  <a:pt x="664" y="944"/>
                </a:cubicBezTo>
                <a:cubicBezTo>
                  <a:pt x="500" y="1032"/>
                  <a:pt x="138" y="988"/>
                  <a:pt x="0" y="10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16080" y="4187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523880" y="2743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438280" y="129528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05520" y="12193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24080" y="1752480"/>
            <a:ext cx="198144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438280" y="274320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9" name=""/>
          <p:cNvCxnSpPr>
            <a:stCxn id="1888" idx="3"/>
            <a:endCxn id="1887" idx="3"/>
          </p:cNvCxnSpPr>
          <p:nvPr/>
        </p:nvCxnSpPr>
        <p:spPr>
          <a:xfrm flipV="1">
            <a:off x="3048120" y="2402640"/>
            <a:ext cx="3672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0" name=""/>
          <p:cNvCxnSpPr>
            <a:stCxn id="1885" idx="3"/>
            <a:endCxn id="1887" idx="1"/>
          </p:cNvCxnSpPr>
          <p:nvPr/>
        </p:nvCxnSpPr>
        <p:spPr>
          <a:xfrm>
            <a:off x="3048120" y="1562040"/>
            <a:ext cx="3672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1" name=""/>
          <p:cNvCxnSpPr>
            <a:stCxn id="1887" idx="7"/>
            <a:endCxn id="1886" idx="1"/>
          </p:cNvCxnSpPr>
          <p:nvPr/>
        </p:nvCxnSpPr>
        <p:spPr>
          <a:xfrm flipV="1">
            <a:off x="4814640" y="1485360"/>
            <a:ext cx="29124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4" idx="6"/>
            <a:endCxn id="1888" idx="1"/>
          </p:cNvCxnSpPr>
          <p:nvPr/>
        </p:nvCxnSpPr>
        <p:spPr>
          <a:xfrm>
            <a:off x="2057400" y="30096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6" idx="3"/>
            <a:endCxn id="1894" idx="2"/>
          </p:cNvCxnSpPr>
          <p:nvPr/>
        </p:nvCxnSpPr>
        <p:spPr>
          <a:xfrm>
            <a:off x="5715000" y="1485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5" name=""/>
          <p:cNvSpPr/>
          <p:nvPr/>
        </p:nvSpPr>
        <p:spPr>
          <a:xfrm>
            <a:off x="1219320" y="129528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248520" y="12193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095880" y="990720"/>
            <a:ext cx="1295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7" name=""/>
          <p:cNvCxnSpPr>
            <a:stCxn id="1895" idx="6"/>
            <a:endCxn id="1885" idx="1"/>
          </p:cNvCxnSpPr>
          <p:nvPr/>
        </p:nvCxnSpPr>
        <p:spPr>
          <a:xfrm>
            <a:off x="2285640" y="15616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8" name=""/>
          <p:cNvSpPr/>
          <p:nvPr/>
        </p:nvSpPr>
        <p:spPr>
          <a:xfrm>
            <a:off x="3048120" y="1428840"/>
            <a:ext cx="2031840" cy="507960"/>
          </a:xfrm>
          <a:custGeom>
            <a:avLst/>
            <a:gdLst/>
            <a:ahLst/>
            <a:rect l="l" t="t" r="r" b="b"/>
            <a:pathLst>
              <a:path w="1280" h="320">
                <a:moveTo>
                  <a:pt x="0" y="12"/>
                </a:moveTo>
                <a:cubicBezTo>
                  <a:pt x="56" y="53"/>
                  <a:pt x="173" y="217"/>
                  <a:pt x="334" y="261"/>
                </a:cubicBezTo>
                <a:cubicBezTo>
                  <a:pt x="495" y="305"/>
                  <a:pt x="806" y="320"/>
                  <a:pt x="964" y="277"/>
                </a:cubicBezTo>
                <a:cubicBezTo>
                  <a:pt x="1122" y="234"/>
                  <a:pt x="1214" y="58"/>
                  <a:pt x="128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344840" y="9144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0" name=""/>
          <p:cNvCxnSpPr>
            <a:stCxn id="1899" idx="2"/>
            <a:endCxn id="1898" idx="0"/>
          </p:cNvCxnSpPr>
          <p:nvPr/>
        </p:nvCxnSpPr>
        <p:spPr>
          <a:xfrm>
            <a:off x="4600440" y="1189080"/>
            <a:ext cx="51840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nd FA periodically send advertisement messages into their physical sub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listens to these messages and detects, if it is in the home or a foreign network (standard case for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reads a COA from the FA advertisemen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always limited lifetim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signals COA to the HA via the FA, HA acknowledges via F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ctions have to be secured by authent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dvertises the IP address of the MN (as for fixed systems), i.e. standard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s adjust their entries, these are stable for a longer time (HA responsible for a MN over a longer period of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to the MN are sent to the H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changes in COA/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5:44:45Z</dcterms:created>
  <dc:creator>Jochen H. Schiller</dc:creator>
  <dc:description/>
  <cp:keywords>mobile IP communication network protocol</cp:keywords>
  <dc:language>en-US</dc:language>
  <cp:lastModifiedBy>Guevara Noubir</cp:lastModifiedBy>
  <cp:lastPrinted>1999-03-21T16:49:40Z</cp:lastPrinted>
  <dcterms:modified xsi:type="dcterms:W3CDTF">2001-05-14T19:18:27Z</dcterms:modified>
  <cp:revision>111</cp:revision>
  <dc:subject>Network Protocols/Mobile IP</dc:subject>
  <dc:title>Mobile Communications</dc:title>
</cp:coreProperties>
</file>