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2527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89000" y="523800"/>
            <a:ext cx="3492360" cy="26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52527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CC26E86-E947-4F78-A90D-7787A9CFA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r error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for Puc = 10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if errors are not happening in bursts: if always 2 bits i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ay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 BER and understand how the BER varies =&gt; fa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wired network we try to understand the reasons for 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take an IEEE802.11 card you can always monitor the SNR from the config soft. You don’t have that for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ed-Solomon Codes are a special case of BCH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multip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130 for form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leaver transform non awgn into aw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ma^2 = 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7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3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1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7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3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2001, COM3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3, </a:t>
            </a:r>
            <a:fld id="{F9D43FF3-AECC-4EEE-B77F-6816127C9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Network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sical Layer: Modulation, F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vara Noub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ubir@ccs.neu.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ror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in techniq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Error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c Repeat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ations: Hybrid ARQ I and Hybrid ARQ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Q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&amp;Wait, GoBackN, Selective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codes, convolutiona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ock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bits (word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wor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atic versus non-syst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versus Non-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cod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detection, error correction, erasure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build codes with high error correction capabil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ming code, BCH codes, RS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mming Distance for Block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mming distance between two code words is the number of places where they di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mming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Block code is the minimum distance between two code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Det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Corr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odeSpheres" descr=""/>
          <p:cNvPicPr/>
          <p:nvPr/>
        </p:nvPicPr>
        <p:blipFill>
          <a:blip r:embed="rId1"/>
          <a:stretch/>
        </p:blipFill>
        <p:spPr>
          <a:xfrm>
            <a:off x="4533840" y="3556080"/>
            <a:ext cx="339084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90800" y="4883040"/>
                <a:ext cx="6602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ding 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ding gain is the amount of additional SNR that would be required to provide the same BER performance for an uncode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code is capable of correcting 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rr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BER of the channel without coding, then the probability that a bit is in error using coding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271600" y="5111640"/>
                <a:ext cx="35164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of Binary Block Code (7,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two different code words are different on at least three different coordinates. This code has Hamming distance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00200" y="2057400"/>
          <a:ext cx="6626160" cy="322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66261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280" y="5105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the last 4 bits of the code word are the same as th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a systematic 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other 3 bits are redundancy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ear Bl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lock code of leng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de words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ne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c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s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de words form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dimensional subspace of the vector space of a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uples over the field GF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l Meaning: linear combinations of codewords are also code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inear code is completely specifi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dependent codeword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generator matr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coder needs only to store the matri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Linear code (7,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cod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 1 0 1)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997360" y="4179960"/>
                <a:ext cx="296532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ity-Check Matrix (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 matri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early independent rows), there exists a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it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linearly independent rows)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ity check matr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: any vector in the row spa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rthogonal to any row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ny vector that is orthogonal to all the row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 the row spa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binations of the row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 a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-dimensional subspace. It is the null spa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,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de genera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t is called the dual spa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no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 w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678040" y="3403440"/>
                <a:ext cx="27939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G</m:t>
                    </m:r>
                    <m:r>
                      <m:t xml:space="preserve">⇔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H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stematic Co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40472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ear block code is called systemati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de words can be divided into two pa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ssage pa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), an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dundancy checking 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atic code generator matrix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k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H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20840" y="2718000"/>
            <a:ext cx="1600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undant Checking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21040" y="2716200"/>
            <a:ext cx="1600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           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08920" y="327600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-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g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4120" y="327600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g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866960" y="3935520"/>
                <a:ext cx="5653080" cy="23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eqArr>
                                        <m:e>
                                          <m:sSub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,0</m:t>
                                              </m:r>
                                            </m:sub>
                                          </m:sSub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>
                                      <m:eqAr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>
                                      <m:eqAr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/>
                                    <m:e>
                                      <m:eqArr>
                                        <m:e>
                                          <m:sSub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</m:t>
                                              </m:r>
                                              <m:r>
                                                <m:t xml:space="preserve">,</m:t>
                                              </m:r>
                                              <m:r>
                                                <m:t xml:space="preserve">n</m:t>
                                              </m:r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groupChr>
                          </m:e>
                          <m:lim>
                            <m:r>
                              <m:t xml:space="preserve">P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arity matrix</m:t>
                            </m:r>
                          </m:lim>
                        </m:limLow>
                        <m:r>
                          <m:t xml:space="preserve">|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x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dentity matrix</m:t>
                            </m:r>
                          </m:lim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mming Codes (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, 2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s of Hamming cod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e length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information bits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parity check bits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um distance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ror-correcting capability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-1)/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ity check matrix of a Hamming cod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the identity matrix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sists of 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columns which are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tuples of weight 2 or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83000" y="4813200"/>
                <a:ext cx="3352680" cy="13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nimum Distance of Block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nimum dist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block code is the minimum distance between any two code wo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in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, 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.t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, w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in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+ 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.t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, w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in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.t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(beca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vector sub-sp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Minimum Distance of Hamming Co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cture foc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tion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Error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ing the 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Error Cor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utional 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yclic Block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linear c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yclic 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every cyclic shift of a code vector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lso a cod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words can be represented as polynomials of deg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For a cyclic code all codewords are multiple of some polynomia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modul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ivi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called the generator polynom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ming codes, Golay Codes, BCH codes, RS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H codes were independently discovered by Hocquenghem (1959) and by Bose and Chaudhuri (196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ed-Solomon codes (non-binary BCH codes) were independently introduced by Reed-Solo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stematic Cyclic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nomial repres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C is also viewed as a polynom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ansmitted frame can be represent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203560" y="1535040"/>
                <a:ext cx="23684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830240" y="2498760"/>
                <a:ext cx="4923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828800" y="3471840"/>
                <a:ext cx="48276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20640" y="4637160"/>
                <a:ext cx="758664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stematic Cyclic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C is the remainder of dividing the information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y a generator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div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149640" y="3048120"/>
                <a:ext cx="2793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mainder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yclic Block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54476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yclic Hamming code of length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2 is generated by a primitive polynom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f deg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mming code (31, 2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ay Co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ic code (23, 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istanc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 polynomials: eith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492200" y="5529240"/>
                <a:ext cx="3772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se Chaudhuri and Hocquenghem (BCH)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960" y="1504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y positive integ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2)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&lt;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there exists a BCH co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 length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ity bits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um distance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tor polynomial is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owest-degree polynomi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GF(2) such tha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its roots.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the primitive root of unity in the extension field GF(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a BCH code is capable of correct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enerator polynomial 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LCM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(becaus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i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conjugates), th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LCM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…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any minimal polynomial has deg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less, then degre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- 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, t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primitive polynomial and we have a Hamming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olutional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473720" y="3456000"/>
            <a:ext cx="3809880" cy="1447920"/>
            <a:chOff x="4473720" y="3456000"/>
            <a:chExt cx="3809880" cy="1447920"/>
          </a:xfrm>
        </p:grpSpPr>
        <p:sp>
          <p:nvSpPr>
            <p:cNvPr id="129" name=""/>
            <p:cNvSpPr/>
            <p:nvPr/>
          </p:nvSpPr>
          <p:spPr>
            <a:xfrm>
              <a:off x="4854600" y="398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1320" y="398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31120" y="4675320"/>
              <a:ext cx="228600" cy="22860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31120" y="3456000"/>
              <a:ext cx="228600" cy="22860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132" idx="4"/>
              <a:endCxn id="131" idx="0"/>
            </p:cNvCxnSpPr>
            <p:nvPr/>
          </p:nvCxnSpPr>
          <p:spPr>
            <a:xfrm>
              <a:off x="6644880" y="3684600"/>
              <a:ext cx="1080" cy="99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4473720" y="4218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35480" y="4218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021360" y="3670200"/>
              <a:ext cx="55728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65560" y="4827600"/>
              <a:ext cx="14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46840" y="4383000"/>
              <a:ext cx="144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72200" y="421812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047920" y="3608280"/>
              <a:ext cx="111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8520" y="3608280"/>
              <a:ext cx="145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02720" y="4218120"/>
              <a:ext cx="7596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59720" y="3608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59720" y="4827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78680" y="4294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6988320" y="3684240"/>
              <a:ext cx="9144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488600"/>
            <a:ext cx="8558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, k,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volutional cod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s 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outputs 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 and 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gister depth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/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binary convolutional enc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2, k = 1, K = 3. Rate 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, Tree, Trel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 decision vs. Hard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terbi Algorithm, sequential decoding, feedback de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61280" y="401004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3080" y="380880"/>
            <a:ext cx="847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resentations of Convolutional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Cod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registers + input =&gt; state diagram (finite stat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738520" y="3300480"/>
            <a:ext cx="6313320" cy="1896840"/>
            <a:chOff x="2738520" y="3300480"/>
            <a:chExt cx="6313320" cy="1896840"/>
          </a:xfrm>
        </p:grpSpPr>
        <p:grpSp>
          <p:nvGrpSpPr>
            <p:cNvPr id="152" name=""/>
            <p:cNvGrpSpPr/>
            <p:nvPr/>
          </p:nvGrpSpPr>
          <p:grpSpPr>
            <a:xfrm>
              <a:off x="2743200" y="3301920"/>
              <a:ext cx="6303960" cy="1893960"/>
              <a:chOff x="2743200" y="3301920"/>
              <a:chExt cx="6303960" cy="189396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2743200" y="3301920"/>
                <a:ext cx="1260360" cy="210240"/>
                <a:chOff x="2743200" y="3301920"/>
                <a:chExt cx="1260360" cy="210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811600" y="330192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put bit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743200" y="330192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003560" y="3301920"/>
                <a:ext cx="1260720" cy="210240"/>
                <a:chOff x="4003560" y="3301920"/>
                <a:chExt cx="1260720" cy="2102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071960" y="330192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gister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003560" y="330192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264280" y="3301920"/>
                <a:ext cx="1260360" cy="210240"/>
                <a:chOff x="5264280" y="3301920"/>
                <a:chExt cx="1260360" cy="2102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332320" y="330192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te at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264280" y="330192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524640" y="3301920"/>
                <a:ext cx="1260360" cy="210240"/>
                <a:chOff x="6524640" y="3301920"/>
                <a:chExt cx="1260360" cy="210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593040" y="330192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te at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</a:t>
                  </a:r>
                  <a:r>
                    <a:rPr b="0" i="1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524640" y="330192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785000" y="3301920"/>
                <a:ext cx="1262160" cy="210240"/>
                <a:chOff x="7785000" y="3301920"/>
                <a:chExt cx="1262160" cy="210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853400" y="330192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utpu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785000" y="330192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743200" y="3512160"/>
                <a:ext cx="1260360" cy="210240"/>
                <a:chOff x="2743200" y="3512160"/>
                <a:chExt cx="1260360" cy="2102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811600" y="351216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743200" y="351216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4003560" y="3512160"/>
                <a:ext cx="1260720" cy="210240"/>
                <a:chOff x="4003560" y="3512160"/>
                <a:chExt cx="1260720" cy="2102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4071960" y="351216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003560" y="351216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264280" y="3512160"/>
                <a:ext cx="1260360" cy="210240"/>
                <a:chOff x="5264280" y="3512160"/>
                <a:chExt cx="1260360" cy="2102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2320" y="351216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264280" y="351216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524640" y="3512160"/>
                <a:ext cx="1260360" cy="210240"/>
                <a:chOff x="6524640" y="3512160"/>
                <a:chExt cx="1260360" cy="210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593040" y="351216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524640" y="351216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7785000" y="3512160"/>
                <a:ext cx="1262160" cy="210240"/>
                <a:chOff x="7785000" y="3512160"/>
                <a:chExt cx="1262160" cy="210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853400" y="351216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785000" y="351216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743200" y="3722760"/>
                <a:ext cx="1260360" cy="210240"/>
                <a:chOff x="2743200" y="3722760"/>
                <a:chExt cx="1260360" cy="2102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811600" y="372276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743200" y="372276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003560" y="3722760"/>
                <a:ext cx="1260720" cy="210240"/>
                <a:chOff x="4003560" y="3722760"/>
                <a:chExt cx="1260720" cy="2102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071960" y="372276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03560" y="372276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264280" y="3722760"/>
                <a:ext cx="1260360" cy="210240"/>
                <a:chOff x="5264280" y="3722760"/>
                <a:chExt cx="1260360" cy="2102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332320" y="372276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264280" y="372276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524640" y="3722760"/>
                <a:ext cx="1260360" cy="210240"/>
                <a:chOff x="6524640" y="3722760"/>
                <a:chExt cx="1260360" cy="210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593040" y="372276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524640" y="372276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785000" y="3722760"/>
                <a:ext cx="1262160" cy="210240"/>
                <a:chOff x="7785000" y="3722760"/>
                <a:chExt cx="1262160" cy="2102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853400" y="372276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785000" y="372276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743200" y="3933000"/>
                <a:ext cx="1260360" cy="210240"/>
                <a:chOff x="2743200" y="3933000"/>
                <a:chExt cx="1260360" cy="2102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811600" y="39330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39330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003560" y="3933000"/>
                <a:ext cx="1260720" cy="210240"/>
                <a:chOff x="4003560" y="3933000"/>
                <a:chExt cx="1260720" cy="2102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071960" y="39330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003560" y="393300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264280" y="3933000"/>
                <a:ext cx="1260360" cy="210240"/>
                <a:chOff x="5264280" y="3933000"/>
                <a:chExt cx="1260360" cy="2102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332320" y="39330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264280" y="39330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524640" y="3933000"/>
                <a:ext cx="1260360" cy="210240"/>
                <a:chOff x="6524640" y="3933000"/>
                <a:chExt cx="1260360" cy="2102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593040" y="39330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524640" y="39330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7785000" y="3933000"/>
                <a:ext cx="1262160" cy="210240"/>
                <a:chOff x="7785000" y="3933000"/>
                <a:chExt cx="1262160" cy="2102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853400" y="393300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785000" y="393300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2743200" y="4143600"/>
                <a:ext cx="1260360" cy="210240"/>
                <a:chOff x="2743200" y="4143600"/>
                <a:chExt cx="1260360" cy="2102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2811600" y="41436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743200" y="41436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003560" y="4143600"/>
                <a:ext cx="1260720" cy="210240"/>
                <a:chOff x="4003560" y="4143600"/>
                <a:chExt cx="1260720" cy="2102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071960" y="41436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003560" y="414360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264280" y="4143600"/>
                <a:ext cx="1260360" cy="210240"/>
                <a:chOff x="5264280" y="4143600"/>
                <a:chExt cx="1260360" cy="2102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332320" y="41436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264280" y="41436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524640" y="4143600"/>
                <a:ext cx="1260360" cy="210240"/>
                <a:chOff x="6524640" y="4143600"/>
                <a:chExt cx="1260360" cy="2102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593040" y="41436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524640" y="41436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7785000" y="4143600"/>
                <a:ext cx="1262160" cy="210240"/>
                <a:chOff x="7785000" y="4143600"/>
                <a:chExt cx="1262160" cy="2102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853400" y="414360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85000" y="414360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743200" y="4354200"/>
                <a:ext cx="1260360" cy="210240"/>
                <a:chOff x="2743200" y="4354200"/>
                <a:chExt cx="1260360" cy="2102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811600" y="43542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743200" y="43542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4003560" y="4354200"/>
                <a:ext cx="1260720" cy="210240"/>
                <a:chOff x="4003560" y="4354200"/>
                <a:chExt cx="1260720" cy="2102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071960" y="43542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003560" y="435420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5264280" y="4354200"/>
                <a:ext cx="1260360" cy="210240"/>
                <a:chOff x="5264280" y="4354200"/>
                <a:chExt cx="1260360" cy="2102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332320" y="43542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264280" y="43542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6524640" y="4354200"/>
                <a:ext cx="1260360" cy="210240"/>
                <a:chOff x="6524640" y="4354200"/>
                <a:chExt cx="1260360" cy="2102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593040" y="435420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524640" y="435420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7785000" y="4354200"/>
                <a:ext cx="1262160" cy="210240"/>
                <a:chOff x="7785000" y="4354200"/>
                <a:chExt cx="1262160" cy="2102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853400" y="435420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785000" y="435420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743200" y="4564440"/>
                <a:ext cx="1260360" cy="210240"/>
                <a:chOff x="2743200" y="4564440"/>
                <a:chExt cx="1260360" cy="2102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811600" y="45644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743200" y="45644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003560" y="4564440"/>
                <a:ext cx="1260720" cy="210240"/>
                <a:chOff x="4003560" y="4564440"/>
                <a:chExt cx="1260720" cy="2102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071960" y="45644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003560" y="456444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264280" y="4564440"/>
                <a:ext cx="1260360" cy="210240"/>
                <a:chOff x="5264280" y="4564440"/>
                <a:chExt cx="1260360" cy="2102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332320" y="45644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264280" y="45644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524640" y="4564440"/>
                <a:ext cx="1260360" cy="210240"/>
                <a:chOff x="6524640" y="4564440"/>
                <a:chExt cx="1260360" cy="2102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93040" y="45644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524640" y="45644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785000" y="4564440"/>
                <a:ext cx="1262160" cy="210240"/>
                <a:chOff x="7785000" y="4564440"/>
                <a:chExt cx="1262160" cy="2102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853400" y="456444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785000" y="456444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743200" y="4775040"/>
                <a:ext cx="1260360" cy="210240"/>
                <a:chOff x="2743200" y="4775040"/>
                <a:chExt cx="1260360" cy="210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811600" y="47750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743200" y="47750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003560" y="4775040"/>
                <a:ext cx="1260720" cy="210240"/>
                <a:chOff x="4003560" y="4775040"/>
                <a:chExt cx="1260720" cy="210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071960" y="47750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003560" y="477504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264280" y="4775040"/>
                <a:ext cx="1260360" cy="210240"/>
                <a:chOff x="5264280" y="4775040"/>
                <a:chExt cx="1260360" cy="2102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332320" y="47750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264280" y="47750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524640" y="4775040"/>
                <a:ext cx="1260360" cy="210240"/>
                <a:chOff x="6524640" y="4775040"/>
                <a:chExt cx="1260360" cy="210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593040" y="47750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524640" y="47750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785000" y="4775040"/>
                <a:ext cx="1262160" cy="210240"/>
                <a:chOff x="7785000" y="4775040"/>
                <a:chExt cx="1262160" cy="2102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7853400" y="477504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785000" y="477504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743200" y="4985640"/>
                <a:ext cx="1260360" cy="210240"/>
                <a:chOff x="2743200" y="4985640"/>
                <a:chExt cx="1260360" cy="2102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811600" y="49856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743200" y="49856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003560" y="4985640"/>
                <a:ext cx="1260720" cy="210240"/>
                <a:chOff x="4003560" y="4985640"/>
                <a:chExt cx="1260720" cy="2102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071960" y="49856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003560" y="4985640"/>
                  <a:ext cx="126072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264280" y="4985640"/>
                <a:ext cx="1260360" cy="210240"/>
                <a:chOff x="5264280" y="4985640"/>
                <a:chExt cx="1260360" cy="2102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332320" y="49856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264280" y="49856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524640" y="4985640"/>
                <a:ext cx="1260360" cy="210240"/>
                <a:chOff x="6524640" y="4985640"/>
                <a:chExt cx="1260360" cy="2102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593040" y="4985640"/>
                  <a:ext cx="112392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24640" y="4985640"/>
                  <a:ext cx="12603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7785000" y="4985640"/>
                <a:ext cx="1262160" cy="210240"/>
                <a:chOff x="7785000" y="4985640"/>
                <a:chExt cx="1262160" cy="2102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853400" y="4985640"/>
                  <a:ext cx="1125360" cy="21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785000" y="4985640"/>
                  <a:ext cx="1262160" cy="21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8" name=""/>
            <p:cNvSpPr/>
            <p:nvPr/>
          </p:nvSpPr>
          <p:spPr>
            <a:xfrm>
              <a:off x="2738520" y="3300480"/>
              <a:ext cx="6313320" cy="1896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38400" y="2581200"/>
            <a:ext cx="2307960" cy="3387240"/>
            <a:chOff x="338400" y="2581200"/>
            <a:chExt cx="2307960" cy="3387240"/>
          </a:xfrm>
        </p:grpSpPr>
        <p:sp>
          <p:nvSpPr>
            <p:cNvPr id="290" name=""/>
            <p:cNvSpPr/>
            <p:nvPr/>
          </p:nvSpPr>
          <p:spPr>
            <a:xfrm>
              <a:off x="1222560" y="3016080"/>
              <a:ext cx="546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35160" y="4440240"/>
              <a:ext cx="546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00240" y="3668760"/>
              <a:ext cx="546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3080" y="3809880"/>
              <a:ext cx="5461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1520" y="3589200"/>
              <a:ext cx="1471680" cy="200160"/>
            </a:xfrm>
            <a:custGeom>
              <a:avLst/>
              <a:gdLst/>
              <a:ahLst/>
              <a:rect l="l" t="t" r="r" b="b"/>
              <a:pathLst>
                <a:path w="927" h="126">
                  <a:moveTo>
                    <a:pt x="927" y="81"/>
                  </a:moveTo>
                  <a:cubicBezTo>
                    <a:pt x="798" y="40"/>
                    <a:pt x="670" y="0"/>
                    <a:pt x="516" y="7"/>
                  </a:cubicBezTo>
                  <a:cubicBezTo>
                    <a:pt x="362" y="14"/>
                    <a:pt x="181" y="70"/>
                    <a:pt x="0" y="1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4800" y="4216320"/>
              <a:ext cx="630360" cy="488880"/>
            </a:xfrm>
            <a:custGeom>
              <a:avLst/>
              <a:gdLst/>
              <a:ahLst/>
              <a:rect l="l" t="t" r="r" b="b"/>
              <a:pathLst>
                <a:path w="397" h="308">
                  <a:moveTo>
                    <a:pt x="0" y="0"/>
                  </a:moveTo>
                  <a:cubicBezTo>
                    <a:pt x="8" y="107"/>
                    <a:pt x="17" y="214"/>
                    <a:pt x="83" y="261"/>
                  </a:cubicBezTo>
                  <a:cubicBezTo>
                    <a:pt x="149" y="308"/>
                    <a:pt x="273" y="296"/>
                    <a:pt x="397" y="2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9760" y="3181320"/>
              <a:ext cx="712800" cy="630360"/>
            </a:xfrm>
            <a:custGeom>
              <a:avLst/>
              <a:gdLst/>
              <a:ahLst/>
              <a:rect l="l" t="t" r="r" b="b"/>
              <a:pathLst>
                <a:path w="449" h="397">
                  <a:moveTo>
                    <a:pt x="449" y="31"/>
                  </a:moveTo>
                  <a:cubicBezTo>
                    <a:pt x="337" y="15"/>
                    <a:pt x="225" y="0"/>
                    <a:pt x="150" y="61"/>
                  </a:cubicBezTo>
                  <a:cubicBezTo>
                    <a:pt x="75" y="122"/>
                    <a:pt x="37" y="259"/>
                    <a:pt x="0" y="3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90640" y="3930480"/>
              <a:ext cx="1222560" cy="154080"/>
            </a:xfrm>
            <a:custGeom>
              <a:avLst/>
              <a:gdLst/>
              <a:ahLst/>
              <a:rect l="l" t="t" r="r" b="b"/>
              <a:pathLst>
                <a:path w="770" h="97">
                  <a:moveTo>
                    <a:pt x="0" y="97"/>
                  </a:moveTo>
                  <a:cubicBezTo>
                    <a:pt x="0" y="97"/>
                    <a:pt x="385" y="48"/>
                    <a:pt x="77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68680" y="3170160"/>
              <a:ext cx="579240" cy="485640"/>
            </a:xfrm>
            <a:custGeom>
              <a:avLst/>
              <a:gdLst/>
              <a:ahLst/>
              <a:rect l="l" t="t" r="r" b="b"/>
              <a:pathLst>
                <a:path w="365" h="306">
                  <a:moveTo>
                    <a:pt x="352" y="306"/>
                  </a:moveTo>
                  <a:cubicBezTo>
                    <a:pt x="358" y="234"/>
                    <a:pt x="365" y="163"/>
                    <a:pt x="307" y="112"/>
                  </a:cubicBezTo>
                  <a:cubicBezTo>
                    <a:pt x="249" y="61"/>
                    <a:pt x="124" y="3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81280" y="4073400"/>
              <a:ext cx="652320" cy="606600"/>
            </a:xfrm>
            <a:custGeom>
              <a:avLst/>
              <a:gdLst/>
              <a:ahLst/>
              <a:rect l="l" t="t" r="r" b="b"/>
              <a:pathLst>
                <a:path w="411" h="382">
                  <a:moveTo>
                    <a:pt x="0" y="366"/>
                  </a:moveTo>
                  <a:cubicBezTo>
                    <a:pt x="126" y="374"/>
                    <a:pt x="253" y="382"/>
                    <a:pt x="321" y="321"/>
                  </a:cubicBezTo>
                  <a:cubicBezTo>
                    <a:pt x="389" y="260"/>
                    <a:pt x="400" y="130"/>
                    <a:pt x="41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78080" y="2609640"/>
              <a:ext cx="380880" cy="406440"/>
            </a:xfrm>
            <a:custGeom>
              <a:avLst/>
              <a:gdLst/>
              <a:ahLst/>
              <a:rect l="l" t="t" r="r" b="b"/>
              <a:pathLst>
                <a:path w="240" h="256">
                  <a:moveTo>
                    <a:pt x="134" y="256"/>
                  </a:moveTo>
                  <a:cubicBezTo>
                    <a:pt x="186" y="228"/>
                    <a:pt x="238" y="200"/>
                    <a:pt x="239" y="159"/>
                  </a:cubicBezTo>
                  <a:cubicBezTo>
                    <a:pt x="240" y="118"/>
                    <a:pt x="179" y="18"/>
                    <a:pt x="142" y="9"/>
                  </a:cubicBezTo>
                  <a:cubicBezTo>
                    <a:pt x="105" y="0"/>
                    <a:pt x="28" y="65"/>
                    <a:pt x="14" y="106"/>
                  </a:cubicBezTo>
                  <a:cubicBezTo>
                    <a:pt x="0" y="147"/>
                    <a:pt x="29" y="201"/>
                    <a:pt x="59" y="2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1352520" y="4852080"/>
              <a:ext cx="381240" cy="406440"/>
            </a:xfrm>
            <a:custGeom>
              <a:avLst/>
              <a:gdLst/>
              <a:ahLst/>
              <a:rect l="l" t="t" r="r" b="b"/>
              <a:pathLst>
                <a:path w="240" h="256">
                  <a:moveTo>
                    <a:pt x="134" y="256"/>
                  </a:moveTo>
                  <a:cubicBezTo>
                    <a:pt x="186" y="228"/>
                    <a:pt x="238" y="200"/>
                    <a:pt x="239" y="159"/>
                  </a:cubicBezTo>
                  <a:cubicBezTo>
                    <a:pt x="240" y="118"/>
                    <a:pt x="179" y="18"/>
                    <a:pt x="142" y="9"/>
                  </a:cubicBezTo>
                  <a:cubicBezTo>
                    <a:pt x="105" y="0"/>
                    <a:pt x="28" y="65"/>
                    <a:pt x="14" y="106"/>
                  </a:cubicBezTo>
                  <a:cubicBezTo>
                    <a:pt x="0" y="147"/>
                    <a:pt x="29" y="201"/>
                    <a:pt x="59" y="2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00160" y="25812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8400" y="3232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67200" y="3076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39840" y="35161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0080" y="4432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13200" y="4522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35160" y="51354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50920" y="3959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403200" y="5387760"/>
              <a:ext cx="1348560" cy="580680"/>
              <a:chOff x="403200" y="5387760"/>
              <a:chExt cx="1348560" cy="580680"/>
            </a:xfrm>
          </p:grpSpPr>
          <p:sp>
            <p:nvSpPr>
              <p:cNvPr id="311" name=""/>
              <p:cNvSpPr/>
              <p:nvPr/>
            </p:nvSpPr>
            <p:spPr>
              <a:xfrm>
                <a:off x="403200" y="5568840"/>
                <a:ext cx="34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11120" y="5832360"/>
                <a:ext cx="34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24400" y="5387760"/>
                <a:ext cx="927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put = 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put =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7200" y="380880"/>
            <a:ext cx="8661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resentations of Convolutional C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llis represen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66960" y="288288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65280" y="28814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3720" y="3424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62040" y="3422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63720" y="39686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62040" y="39672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60480" y="45100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58800" y="45086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16" idx="6"/>
            <a:endCxn id="317" idx="2"/>
          </p:cNvCxnSpPr>
          <p:nvPr/>
        </p:nvCxnSpPr>
        <p:spPr>
          <a:xfrm flipV="1">
            <a:off x="1055520" y="292500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6" idx="4"/>
            <a:endCxn id="319" idx="1"/>
          </p:cNvCxnSpPr>
          <p:nvPr/>
        </p:nvCxnSpPr>
        <p:spPr>
          <a:xfrm>
            <a:off x="1010880" y="297180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26" name=""/>
          <p:cNvSpPr/>
          <p:nvPr/>
        </p:nvSpPr>
        <p:spPr>
          <a:xfrm>
            <a:off x="2208240" y="28908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6560" y="2889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05000" y="34322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03680" y="34304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05000" y="3976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03680" y="3975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01760" y="45180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00440" y="4516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26" idx="6"/>
            <a:endCxn id="327" idx="2"/>
          </p:cNvCxnSpPr>
          <p:nvPr/>
        </p:nvCxnSpPr>
        <p:spPr>
          <a:xfrm flipV="1">
            <a:off x="2296800" y="29329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326" idx="4"/>
            <a:endCxn id="329" idx="1"/>
          </p:cNvCxnSpPr>
          <p:nvPr/>
        </p:nvCxnSpPr>
        <p:spPr>
          <a:xfrm>
            <a:off x="2252520" y="2979720"/>
            <a:ext cx="56448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6" name=""/>
          <p:cNvCxnSpPr>
            <a:stCxn id="317" idx="6"/>
            <a:endCxn id="326" idx="2"/>
          </p:cNvCxnSpPr>
          <p:nvPr/>
        </p:nvCxnSpPr>
        <p:spPr>
          <a:xfrm>
            <a:off x="165384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stCxn id="317" idx="5"/>
            <a:endCxn id="328" idx="1"/>
          </p:cNvCxnSpPr>
          <p:nvPr/>
        </p:nvCxnSpPr>
        <p:spPr>
          <a:xfrm>
            <a:off x="1641600" y="2957400"/>
            <a:ext cx="57636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8" name=""/>
          <p:cNvCxnSpPr>
            <a:stCxn id="319" idx="5"/>
            <a:endCxn id="330" idx="1"/>
          </p:cNvCxnSpPr>
          <p:nvPr/>
        </p:nvCxnSpPr>
        <p:spPr>
          <a:xfrm>
            <a:off x="1638000" y="3498480"/>
            <a:ext cx="57996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9" name=""/>
          <p:cNvCxnSpPr>
            <a:stCxn id="319" idx="5"/>
            <a:endCxn id="332" idx="1"/>
          </p:cNvCxnSpPr>
          <p:nvPr/>
        </p:nvCxnSpPr>
        <p:spPr>
          <a:xfrm>
            <a:off x="1638000" y="3498840"/>
            <a:ext cx="577080" cy="1032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40" name=""/>
          <p:cNvCxnSpPr>
            <a:stCxn id="328" idx="5"/>
            <a:endCxn id="331" idx="2"/>
          </p:cNvCxnSpPr>
          <p:nvPr/>
        </p:nvCxnSpPr>
        <p:spPr>
          <a:xfrm>
            <a:off x="228096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28" idx="5"/>
            <a:endCxn id="333" idx="1"/>
          </p:cNvCxnSpPr>
          <p:nvPr/>
        </p:nvCxnSpPr>
        <p:spPr>
          <a:xfrm>
            <a:off x="228096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42" name=""/>
          <p:cNvCxnSpPr>
            <a:stCxn id="330" idx="7"/>
            <a:endCxn id="327" idx="3"/>
          </p:cNvCxnSpPr>
          <p:nvPr/>
        </p:nvCxnSpPr>
        <p:spPr>
          <a:xfrm flipV="1">
            <a:off x="228096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2" idx="6"/>
            <a:endCxn id="331" idx="3"/>
          </p:cNvCxnSpPr>
          <p:nvPr/>
        </p:nvCxnSpPr>
        <p:spPr>
          <a:xfrm flipV="1">
            <a:off x="2290680" y="40510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2" idx="6"/>
            <a:endCxn id="333" idx="2"/>
          </p:cNvCxnSpPr>
          <p:nvPr/>
        </p:nvCxnSpPr>
        <p:spPr>
          <a:xfrm flipV="1">
            <a:off x="2290680" y="45601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45" name=""/>
          <p:cNvCxnSpPr>
            <a:stCxn id="330" idx="6"/>
            <a:endCxn id="329" idx="2"/>
          </p:cNvCxnSpPr>
          <p:nvPr/>
        </p:nvCxnSpPr>
        <p:spPr>
          <a:xfrm flipV="1">
            <a:off x="229392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46" name=""/>
          <p:cNvSpPr/>
          <p:nvPr/>
        </p:nvSpPr>
        <p:spPr>
          <a:xfrm>
            <a:off x="2811600" y="28782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09920" y="287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08360" y="341964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06680" y="34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08360" y="3963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06680" y="3962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05120" y="4505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03440" y="4503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46" idx="6"/>
            <a:endCxn id="347" idx="2"/>
          </p:cNvCxnSpPr>
          <p:nvPr/>
        </p:nvCxnSpPr>
        <p:spPr>
          <a:xfrm flipV="1">
            <a:off x="290016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6" idx="4"/>
            <a:endCxn id="349" idx="1"/>
          </p:cNvCxnSpPr>
          <p:nvPr/>
        </p:nvCxnSpPr>
        <p:spPr>
          <a:xfrm>
            <a:off x="285588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56" name=""/>
          <p:cNvCxnSpPr>
            <a:stCxn id="348" idx="5"/>
            <a:endCxn id="351" idx="2"/>
          </p:cNvCxnSpPr>
          <p:nvPr/>
        </p:nvCxnSpPr>
        <p:spPr>
          <a:xfrm>
            <a:off x="28839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7" name=""/>
          <p:cNvCxnSpPr>
            <a:stCxn id="348" idx="5"/>
            <a:endCxn id="353" idx="1"/>
          </p:cNvCxnSpPr>
          <p:nvPr/>
        </p:nvCxnSpPr>
        <p:spPr>
          <a:xfrm>
            <a:off x="2884320" y="3495600"/>
            <a:ext cx="53280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58" name=""/>
          <p:cNvCxnSpPr>
            <a:stCxn id="350" idx="7"/>
            <a:endCxn id="347" idx="3"/>
          </p:cNvCxnSpPr>
          <p:nvPr/>
        </p:nvCxnSpPr>
        <p:spPr>
          <a:xfrm flipV="1">
            <a:off x="28839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"/>
          <p:cNvCxnSpPr>
            <a:stCxn id="352" idx="6"/>
            <a:endCxn id="351" idx="3"/>
          </p:cNvCxnSpPr>
          <p:nvPr/>
        </p:nvCxnSpPr>
        <p:spPr>
          <a:xfrm flipV="1">
            <a:off x="289404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2" idx="6"/>
            <a:endCxn id="353" idx="2"/>
          </p:cNvCxnSpPr>
          <p:nvPr/>
        </p:nvCxnSpPr>
        <p:spPr>
          <a:xfrm flipV="1">
            <a:off x="2893680" y="45478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61" name=""/>
          <p:cNvCxnSpPr>
            <a:stCxn id="350" idx="6"/>
            <a:endCxn id="349" idx="2"/>
          </p:cNvCxnSpPr>
          <p:nvPr/>
        </p:nvCxnSpPr>
        <p:spPr>
          <a:xfrm flipV="1">
            <a:off x="28969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62" name=""/>
          <p:cNvSpPr/>
          <p:nvPr/>
        </p:nvSpPr>
        <p:spPr>
          <a:xfrm>
            <a:off x="3416400" y="28782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14720" y="287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13160" y="341964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11480" y="34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13160" y="3963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11480" y="3962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09920" y="4505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08600" y="450360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2" idx="6"/>
            <a:endCxn id="363" idx="2"/>
          </p:cNvCxnSpPr>
          <p:nvPr/>
        </p:nvCxnSpPr>
        <p:spPr>
          <a:xfrm flipV="1">
            <a:off x="350496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2" idx="4"/>
            <a:endCxn id="365" idx="1"/>
          </p:cNvCxnSpPr>
          <p:nvPr/>
        </p:nvCxnSpPr>
        <p:spPr>
          <a:xfrm>
            <a:off x="346068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2" name=""/>
          <p:cNvCxnSpPr>
            <a:stCxn id="364" idx="5"/>
            <a:endCxn id="367" idx="2"/>
          </p:cNvCxnSpPr>
          <p:nvPr/>
        </p:nvCxnSpPr>
        <p:spPr>
          <a:xfrm>
            <a:off x="3489480" y="349560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64" idx="5"/>
            <a:endCxn id="369" idx="1"/>
          </p:cNvCxnSpPr>
          <p:nvPr/>
        </p:nvCxnSpPr>
        <p:spPr>
          <a:xfrm>
            <a:off x="348912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4" name=""/>
          <p:cNvCxnSpPr>
            <a:stCxn id="366" idx="7"/>
            <a:endCxn id="363" idx="3"/>
          </p:cNvCxnSpPr>
          <p:nvPr/>
        </p:nvCxnSpPr>
        <p:spPr>
          <a:xfrm flipV="1">
            <a:off x="3489480" y="2952360"/>
            <a:ext cx="53856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8" idx="6"/>
            <a:endCxn id="367" idx="3"/>
          </p:cNvCxnSpPr>
          <p:nvPr/>
        </p:nvCxnSpPr>
        <p:spPr>
          <a:xfrm flipV="1">
            <a:off x="349884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68" idx="6"/>
            <a:endCxn id="369" idx="2"/>
          </p:cNvCxnSpPr>
          <p:nvPr/>
        </p:nvCxnSpPr>
        <p:spPr>
          <a:xfrm flipV="1">
            <a:off x="349884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7" name=""/>
          <p:cNvCxnSpPr>
            <a:stCxn id="366" idx="6"/>
            <a:endCxn id="365" idx="2"/>
          </p:cNvCxnSpPr>
          <p:nvPr/>
        </p:nvCxnSpPr>
        <p:spPr>
          <a:xfrm flipV="1">
            <a:off x="35017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78" name=""/>
          <p:cNvSpPr/>
          <p:nvPr/>
        </p:nvSpPr>
        <p:spPr>
          <a:xfrm>
            <a:off x="4008600" y="287820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06920" y="287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05360" y="341964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03680" y="34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05360" y="3963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03680" y="3962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02120" y="4505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00440" y="4503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78" idx="6"/>
            <a:endCxn id="379" idx="2"/>
          </p:cNvCxnSpPr>
          <p:nvPr/>
        </p:nvCxnSpPr>
        <p:spPr>
          <a:xfrm flipV="1">
            <a:off x="40971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78" idx="4"/>
            <a:endCxn id="381" idx="1"/>
          </p:cNvCxnSpPr>
          <p:nvPr/>
        </p:nvCxnSpPr>
        <p:spPr>
          <a:xfrm>
            <a:off x="40525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88" name=""/>
          <p:cNvCxnSpPr>
            <a:stCxn id="380" idx="5"/>
            <a:endCxn id="383" idx="2"/>
          </p:cNvCxnSpPr>
          <p:nvPr/>
        </p:nvCxnSpPr>
        <p:spPr>
          <a:xfrm>
            <a:off x="40809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80" idx="5"/>
            <a:endCxn id="385" idx="1"/>
          </p:cNvCxnSpPr>
          <p:nvPr/>
        </p:nvCxnSpPr>
        <p:spPr>
          <a:xfrm>
            <a:off x="4081320" y="3495600"/>
            <a:ext cx="53280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90" name=""/>
          <p:cNvCxnSpPr>
            <a:stCxn id="382" idx="7"/>
            <a:endCxn id="379" idx="3"/>
          </p:cNvCxnSpPr>
          <p:nvPr/>
        </p:nvCxnSpPr>
        <p:spPr>
          <a:xfrm flipV="1">
            <a:off x="40809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4" idx="6"/>
            <a:endCxn id="383" idx="3"/>
          </p:cNvCxnSpPr>
          <p:nvPr/>
        </p:nvCxnSpPr>
        <p:spPr>
          <a:xfrm flipV="1">
            <a:off x="4090680" y="403812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"/>
          <p:cNvCxnSpPr>
            <a:stCxn id="384" idx="6"/>
            <a:endCxn id="385" idx="2"/>
          </p:cNvCxnSpPr>
          <p:nvPr/>
        </p:nvCxnSpPr>
        <p:spPr>
          <a:xfrm flipV="1">
            <a:off x="4090680" y="45478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93" name=""/>
          <p:cNvCxnSpPr>
            <a:stCxn id="382" idx="6"/>
            <a:endCxn id="381" idx="2"/>
          </p:cNvCxnSpPr>
          <p:nvPr/>
        </p:nvCxnSpPr>
        <p:spPr>
          <a:xfrm flipV="1">
            <a:off x="40939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94" name=""/>
          <p:cNvSpPr/>
          <p:nvPr/>
        </p:nvSpPr>
        <p:spPr>
          <a:xfrm>
            <a:off x="4614840" y="287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13520" y="287496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11600" y="34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10280" y="341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11600" y="3962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210280" y="3960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08360" y="4503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07040" y="45021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4" idx="6"/>
            <a:endCxn id="395" idx="2"/>
          </p:cNvCxnSpPr>
          <p:nvPr/>
        </p:nvCxnSpPr>
        <p:spPr>
          <a:xfrm flipV="1">
            <a:off x="470376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3" name=""/>
          <p:cNvCxnSpPr>
            <a:stCxn id="394" idx="4"/>
            <a:endCxn id="397" idx="1"/>
          </p:cNvCxnSpPr>
          <p:nvPr/>
        </p:nvCxnSpPr>
        <p:spPr>
          <a:xfrm>
            <a:off x="465912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04" name=""/>
          <p:cNvCxnSpPr>
            <a:stCxn id="396" idx="5"/>
            <a:endCxn id="399" idx="2"/>
          </p:cNvCxnSpPr>
          <p:nvPr/>
        </p:nvCxnSpPr>
        <p:spPr>
          <a:xfrm>
            <a:off x="468756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5" name=""/>
          <p:cNvCxnSpPr>
            <a:stCxn id="396" idx="5"/>
            <a:endCxn id="401" idx="1"/>
          </p:cNvCxnSpPr>
          <p:nvPr/>
        </p:nvCxnSpPr>
        <p:spPr>
          <a:xfrm>
            <a:off x="4687560" y="349380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06" name=""/>
          <p:cNvCxnSpPr>
            <a:stCxn id="398" idx="7"/>
            <a:endCxn id="395" idx="3"/>
          </p:cNvCxnSpPr>
          <p:nvPr/>
        </p:nvCxnSpPr>
        <p:spPr>
          <a:xfrm flipV="1">
            <a:off x="468756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7" name=""/>
          <p:cNvCxnSpPr>
            <a:stCxn id="400" idx="6"/>
            <a:endCxn id="399" idx="3"/>
          </p:cNvCxnSpPr>
          <p:nvPr/>
        </p:nvCxnSpPr>
        <p:spPr>
          <a:xfrm flipV="1">
            <a:off x="4697280" y="40366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8" name=""/>
          <p:cNvCxnSpPr>
            <a:stCxn id="400" idx="6"/>
            <a:endCxn id="401" idx="2"/>
          </p:cNvCxnSpPr>
          <p:nvPr/>
        </p:nvCxnSpPr>
        <p:spPr>
          <a:xfrm flipV="1">
            <a:off x="4697280" y="45457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09" name=""/>
          <p:cNvCxnSpPr>
            <a:stCxn id="398" idx="6"/>
            <a:endCxn id="397" idx="2"/>
          </p:cNvCxnSpPr>
          <p:nvPr/>
        </p:nvCxnSpPr>
        <p:spPr>
          <a:xfrm flipV="1">
            <a:off x="4700520" y="34603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10" name=""/>
          <p:cNvSpPr/>
          <p:nvPr/>
        </p:nvSpPr>
        <p:spPr>
          <a:xfrm>
            <a:off x="111240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2032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647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726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694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7917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31732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06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742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0624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552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6340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5548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6656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871360" y="2687760"/>
            <a:ext cx="592560" cy="2100960"/>
            <a:chOff x="2871360" y="2687760"/>
            <a:chExt cx="592560" cy="2100960"/>
          </a:xfrm>
        </p:grpSpPr>
        <p:sp>
          <p:nvSpPr>
            <p:cNvPr id="425" name=""/>
            <p:cNvSpPr/>
            <p:nvPr/>
          </p:nvSpPr>
          <p:spPr>
            <a:xfrm>
              <a:off x="29217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854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790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106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600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678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599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7136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479400" y="2684520"/>
            <a:ext cx="592560" cy="2100960"/>
            <a:chOff x="3479400" y="2684520"/>
            <a:chExt cx="592560" cy="2100960"/>
          </a:xfrm>
        </p:grpSpPr>
        <p:sp>
          <p:nvSpPr>
            <p:cNvPr id="434" name=""/>
            <p:cNvSpPr/>
            <p:nvPr/>
          </p:nvSpPr>
          <p:spPr>
            <a:xfrm>
              <a:off x="35298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934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871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87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680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758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679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7940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076280" y="2692440"/>
            <a:ext cx="592560" cy="2100960"/>
            <a:chOff x="4076280" y="2692440"/>
            <a:chExt cx="592560" cy="2100960"/>
          </a:xfrm>
        </p:grpSpPr>
        <p:sp>
          <p:nvSpPr>
            <p:cNvPr id="443" name=""/>
            <p:cNvSpPr/>
            <p:nvPr/>
          </p:nvSpPr>
          <p:spPr>
            <a:xfrm>
              <a:off x="41266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903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840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156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49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727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648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7628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4684320" y="2689200"/>
            <a:ext cx="592560" cy="2100960"/>
            <a:chOff x="4684320" y="2689200"/>
            <a:chExt cx="592560" cy="2100960"/>
          </a:xfrm>
        </p:grpSpPr>
        <p:sp>
          <p:nvSpPr>
            <p:cNvPr id="452" name=""/>
            <p:cNvSpPr/>
            <p:nvPr/>
          </p:nvSpPr>
          <p:spPr>
            <a:xfrm>
              <a:off x="4734720" y="268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98360" y="2963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92040" y="3695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23640" y="3924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72960" y="3481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80800" y="328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72880" y="445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84320" y="4219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5226120" y="2873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22880" y="3414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22880" y="3959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19640" y="4500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34040" y="2873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832360" y="2871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230800" y="3414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29480" y="341316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30800" y="3959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29480" y="395748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27560" y="4500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26240" y="44989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4" idx="6"/>
            <a:endCxn id="465" idx="2"/>
          </p:cNvCxnSpPr>
          <p:nvPr/>
        </p:nvCxnSpPr>
        <p:spPr>
          <a:xfrm flipV="1">
            <a:off x="5322600" y="29160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4" idx="4"/>
            <a:endCxn id="467" idx="1"/>
          </p:cNvCxnSpPr>
          <p:nvPr/>
        </p:nvCxnSpPr>
        <p:spPr>
          <a:xfrm>
            <a:off x="5278320" y="29620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4" name=""/>
          <p:cNvCxnSpPr>
            <a:stCxn id="466" idx="5"/>
            <a:endCxn id="469" idx="2"/>
          </p:cNvCxnSpPr>
          <p:nvPr/>
        </p:nvCxnSpPr>
        <p:spPr>
          <a:xfrm>
            <a:off x="530676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66" idx="5"/>
            <a:endCxn id="471" idx="1"/>
          </p:cNvCxnSpPr>
          <p:nvPr/>
        </p:nvCxnSpPr>
        <p:spPr>
          <a:xfrm>
            <a:off x="530676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6" name=""/>
          <p:cNvCxnSpPr>
            <a:stCxn id="468" idx="7"/>
            <a:endCxn id="465" idx="3"/>
          </p:cNvCxnSpPr>
          <p:nvPr/>
        </p:nvCxnSpPr>
        <p:spPr>
          <a:xfrm flipV="1">
            <a:off x="530676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0" idx="6"/>
            <a:endCxn id="469" idx="3"/>
          </p:cNvCxnSpPr>
          <p:nvPr/>
        </p:nvCxnSpPr>
        <p:spPr>
          <a:xfrm flipV="1">
            <a:off x="5316480" y="40334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0" idx="6"/>
            <a:endCxn id="471" idx="2"/>
          </p:cNvCxnSpPr>
          <p:nvPr/>
        </p:nvCxnSpPr>
        <p:spPr>
          <a:xfrm flipV="1">
            <a:off x="5316480" y="45432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9" name=""/>
          <p:cNvCxnSpPr>
            <a:stCxn id="468" idx="6"/>
            <a:endCxn id="467" idx="2"/>
          </p:cNvCxnSpPr>
          <p:nvPr/>
        </p:nvCxnSpPr>
        <p:spPr>
          <a:xfrm flipV="1">
            <a:off x="531972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480" name=""/>
          <p:cNvGrpSpPr/>
          <p:nvPr/>
        </p:nvGrpSpPr>
        <p:grpSpPr>
          <a:xfrm>
            <a:off x="5303160" y="2685960"/>
            <a:ext cx="592920" cy="2100960"/>
            <a:chOff x="5303160" y="2685960"/>
            <a:chExt cx="592920" cy="2100960"/>
          </a:xfrm>
        </p:grpSpPr>
        <p:sp>
          <p:nvSpPr>
            <p:cNvPr id="481" name=""/>
            <p:cNvSpPr/>
            <p:nvPr/>
          </p:nvSpPr>
          <p:spPr>
            <a:xfrm>
              <a:off x="53539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175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112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4428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921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000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920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031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410160" y="2871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07280" y="34131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07280" y="3957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404040" y="44989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endCxn id="489" idx="2"/>
          </p:cNvCxnSpPr>
          <p:nvPr/>
        </p:nvCxnSpPr>
        <p:spPr>
          <a:xfrm flipV="1">
            <a:off x="5900400" y="29160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endCxn id="490" idx="1"/>
          </p:cNvCxnSpPr>
          <p:nvPr/>
        </p:nvCxnSpPr>
        <p:spPr>
          <a:xfrm>
            <a:off x="5856120" y="29620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95" name=""/>
          <p:cNvCxnSpPr>
            <a:endCxn id="491" idx="2"/>
          </p:cNvCxnSpPr>
          <p:nvPr/>
        </p:nvCxnSpPr>
        <p:spPr>
          <a:xfrm>
            <a:off x="588456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endCxn id="492" idx="1"/>
          </p:cNvCxnSpPr>
          <p:nvPr/>
        </p:nvCxnSpPr>
        <p:spPr>
          <a:xfrm>
            <a:off x="588456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97" name=""/>
          <p:cNvCxnSpPr>
            <a:endCxn id="489" idx="3"/>
          </p:cNvCxnSpPr>
          <p:nvPr/>
        </p:nvCxnSpPr>
        <p:spPr>
          <a:xfrm flipV="1">
            <a:off x="588456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endCxn id="491" idx="3"/>
          </p:cNvCxnSpPr>
          <p:nvPr/>
        </p:nvCxnSpPr>
        <p:spPr>
          <a:xfrm flipV="1">
            <a:off x="5894280" y="40334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endCxn id="492" idx="2"/>
          </p:cNvCxnSpPr>
          <p:nvPr/>
        </p:nvCxnSpPr>
        <p:spPr>
          <a:xfrm flipV="1">
            <a:off x="5894280" y="45432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00" name=""/>
          <p:cNvCxnSpPr>
            <a:endCxn id="490" idx="2"/>
          </p:cNvCxnSpPr>
          <p:nvPr/>
        </p:nvCxnSpPr>
        <p:spPr>
          <a:xfrm flipV="1">
            <a:off x="589752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501" name=""/>
          <p:cNvGrpSpPr/>
          <p:nvPr/>
        </p:nvGrpSpPr>
        <p:grpSpPr>
          <a:xfrm>
            <a:off x="5881320" y="2685960"/>
            <a:ext cx="592560" cy="2100960"/>
            <a:chOff x="5881320" y="2685960"/>
            <a:chExt cx="592560" cy="2100960"/>
          </a:xfrm>
        </p:grpSpPr>
        <p:sp>
          <p:nvSpPr>
            <p:cNvPr id="502" name=""/>
            <p:cNvSpPr/>
            <p:nvPr/>
          </p:nvSpPr>
          <p:spPr>
            <a:xfrm>
              <a:off x="59317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953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890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206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699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778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698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8132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6423120" y="2870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19880" y="3411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19880" y="39560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416640" y="4497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431040" y="2870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029360" y="2868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27800" y="3411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26120" y="34099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27800" y="39560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26120" y="3954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24560" y="4497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23240" y="44956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14" idx="6"/>
            <a:endCxn id="515" idx="2"/>
          </p:cNvCxnSpPr>
          <p:nvPr/>
        </p:nvCxnSpPr>
        <p:spPr>
          <a:xfrm flipV="1">
            <a:off x="6519600" y="291276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3" name=""/>
          <p:cNvCxnSpPr>
            <a:stCxn id="514" idx="4"/>
            <a:endCxn id="517" idx="1"/>
          </p:cNvCxnSpPr>
          <p:nvPr/>
        </p:nvCxnSpPr>
        <p:spPr>
          <a:xfrm>
            <a:off x="6475320" y="295884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24" name=""/>
          <p:cNvCxnSpPr>
            <a:stCxn id="516" idx="5"/>
            <a:endCxn id="519" idx="2"/>
          </p:cNvCxnSpPr>
          <p:nvPr/>
        </p:nvCxnSpPr>
        <p:spPr>
          <a:xfrm>
            <a:off x="6504120" y="348768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5" name=""/>
          <p:cNvCxnSpPr>
            <a:stCxn id="516" idx="5"/>
            <a:endCxn id="521" idx="1"/>
          </p:cNvCxnSpPr>
          <p:nvPr/>
        </p:nvCxnSpPr>
        <p:spPr>
          <a:xfrm>
            <a:off x="650376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26" name=""/>
          <p:cNvCxnSpPr>
            <a:stCxn id="518" idx="7"/>
            <a:endCxn id="515" idx="3"/>
          </p:cNvCxnSpPr>
          <p:nvPr/>
        </p:nvCxnSpPr>
        <p:spPr>
          <a:xfrm flipV="1">
            <a:off x="650376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520" idx="6"/>
            <a:endCxn id="519" idx="3"/>
          </p:cNvCxnSpPr>
          <p:nvPr/>
        </p:nvCxnSpPr>
        <p:spPr>
          <a:xfrm flipV="1">
            <a:off x="651348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20" idx="6"/>
            <a:endCxn id="521" idx="2"/>
          </p:cNvCxnSpPr>
          <p:nvPr/>
        </p:nvCxnSpPr>
        <p:spPr>
          <a:xfrm flipV="1">
            <a:off x="651348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29" name=""/>
          <p:cNvCxnSpPr>
            <a:stCxn id="518" idx="6"/>
            <a:endCxn id="517" idx="2"/>
          </p:cNvCxnSpPr>
          <p:nvPr/>
        </p:nvCxnSpPr>
        <p:spPr>
          <a:xfrm flipV="1">
            <a:off x="6516360" y="345420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530" name=""/>
          <p:cNvGrpSpPr/>
          <p:nvPr/>
        </p:nvGrpSpPr>
        <p:grpSpPr>
          <a:xfrm>
            <a:off x="6500160" y="2682720"/>
            <a:ext cx="592920" cy="2100960"/>
            <a:chOff x="6500160" y="2682720"/>
            <a:chExt cx="592920" cy="2100960"/>
          </a:xfrm>
        </p:grpSpPr>
        <p:sp>
          <p:nvSpPr>
            <p:cNvPr id="531" name=""/>
            <p:cNvSpPr/>
            <p:nvPr/>
          </p:nvSpPr>
          <p:spPr>
            <a:xfrm>
              <a:off x="655092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1456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0824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3984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8916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9700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8908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01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7634160" y="2860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31280" y="340200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31280" y="394668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28040" y="44877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endCxn id="539" idx="2"/>
          </p:cNvCxnSpPr>
          <p:nvPr/>
        </p:nvCxnSpPr>
        <p:spPr>
          <a:xfrm flipV="1">
            <a:off x="7124400" y="29048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endCxn id="540" idx="1"/>
          </p:cNvCxnSpPr>
          <p:nvPr/>
        </p:nvCxnSpPr>
        <p:spPr>
          <a:xfrm>
            <a:off x="7080120" y="295092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45" name=""/>
          <p:cNvCxnSpPr>
            <a:endCxn id="541" idx="2"/>
          </p:cNvCxnSpPr>
          <p:nvPr/>
        </p:nvCxnSpPr>
        <p:spPr>
          <a:xfrm>
            <a:off x="710856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endCxn id="542" idx="1"/>
          </p:cNvCxnSpPr>
          <p:nvPr/>
        </p:nvCxnSpPr>
        <p:spPr>
          <a:xfrm>
            <a:off x="710856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47" name=""/>
          <p:cNvCxnSpPr>
            <a:endCxn id="539" idx="3"/>
          </p:cNvCxnSpPr>
          <p:nvPr/>
        </p:nvCxnSpPr>
        <p:spPr>
          <a:xfrm flipV="1">
            <a:off x="710856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endCxn id="541" idx="3"/>
          </p:cNvCxnSpPr>
          <p:nvPr/>
        </p:nvCxnSpPr>
        <p:spPr>
          <a:xfrm flipV="1">
            <a:off x="7118280" y="40222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endCxn id="542" idx="2"/>
          </p:cNvCxnSpPr>
          <p:nvPr/>
        </p:nvCxnSpPr>
        <p:spPr>
          <a:xfrm flipV="1">
            <a:off x="7118280" y="45320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50" name=""/>
          <p:cNvCxnSpPr>
            <a:endCxn id="540" idx="2"/>
          </p:cNvCxnSpPr>
          <p:nvPr/>
        </p:nvCxnSpPr>
        <p:spPr>
          <a:xfrm flipV="1">
            <a:off x="712152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551" name=""/>
          <p:cNvGrpSpPr/>
          <p:nvPr/>
        </p:nvGrpSpPr>
        <p:grpSpPr>
          <a:xfrm>
            <a:off x="7105320" y="2674800"/>
            <a:ext cx="592560" cy="2100960"/>
            <a:chOff x="7105320" y="2674800"/>
            <a:chExt cx="592560" cy="2100960"/>
          </a:xfrm>
        </p:grpSpPr>
        <p:sp>
          <p:nvSpPr>
            <p:cNvPr id="552" name=""/>
            <p:cNvSpPr/>
            <p:nvPr/>
          </p:nvSpPr>
          <p:spPr>
            <a:xfrm>
              <a:off x="7155720" y="2674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19360" y="2949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13040" y="3681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244640" y="3909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93960" y="3466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01800" y="326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93880" y="443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05320" y="4205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7647120" y="2859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43880" y="3400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43880" y="39448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40640" y="4486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55040" y="2859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253360" y="285768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51800" y="3400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250120" y="33987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51800" y="39448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250120" y="39434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48560" y="4486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247240" y="448452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64" idx="6"/>
            <a:endCxn id="565" idx="2"/>
          </p:cNvCxnSpPr>
          <p:nvPr/>
        </p:nvCxnSpPr>
        <p:spPr>
          <a:xfrm flipV="1">
            <a:off x="774360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3" name=""/>
          <p:cNvCxnSpPr>
            <a:stCxn id="564" idx="4"/>
            <a:endCxn id="567" idx="1"/>
          </p:cNvCxnSpPr>
          <p:nvPr/>
        </p:nvCxnSpPr>
        <p:spPr>
          <a:xfrm>
            <a:off x="769932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74" name=""/>
          <p:cNvCxnSpPr>
            <a:stCxn id="566" idx="5"/>
            <a:endCxn id="569" idx="2"/>
          </p:cNvCxnSpPr>
          <p:nvPr/>
        </p:nvCxnSpPr>
        <p:spPr>
          <a:xfrm>
            <a:off x="7728120" y="347652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5" name=""/>
          <p:cNvCxnSpPr>
            <a:stCxn id="566" idx="5"/>
            <a:endCxn id="571" idx="1"/>
          </p:cNvCxnSpPr>
          <p:nvPr/>
        </p:nvCxnSpPr>
        <p:spPr>
          <a:xfrm>
            <a:off x="772776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76" name=""/>
          <p:cNvCxnSpPr>
            <a:stCxn id="568" idx="7"/>
            <a:endCxn id="565" idx="3"/>
          </p:cNvCxnSpPr>
          <p:nvPr/>
        </p:nvCxnSpPr>
        <p:spPr>
          <a:xfrm flipV="1">
            <a:off x="7728120" y="2933280"/>
            <a:ext cx="53856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70" idx="6"/>
            <a:endCxn id="569" idx="3"/>
          </p:cNvCxnSpPr>
          <p:nvPr/>
        </p:nvCxnSpPr>
        <p:spPr>
          <a:xfrm flipV="1">
            <a:off x="773748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8" name=""/>
          <p:cNvCxnSpPr>
            <a:stCxn id="570" idx="6"/>
            <a:endCxn id="571" idx="2"/>
          </p:cNvCxnSpPr>
          <p:nvPr/>
        </p:nvCxnSpPr>
        <p:spPr>
          <a:xfrm flipV="1">
            <a:off x="773748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79" name=""/>
          <p:cNvCxnSpPr>
            <a:stCxn id="568" idx="6"/>
            <a:endCxn id="567" idx="2"/>
          </p:cNvCxnSpPr>
          <p:nvPr/>
        </p:nvCxnSpPr>
        <p:spPr>
          <a:xfrm flipV="1">
            <a:off x="7740360" y="344304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7724160" y="2671920"/>
            <a:ext cx="592920" cy="2100960"/>
            <a:chOff x="7724160" y="2671920"/>
            <a:chExt cx="592920" cy="2100960"/>
          </a:xfrm>
        </p:grpSpPr>
        <p:sp>
          <p:nvSpPr>
            <p:cNvPr id="581" name=""/>
            <p:cNvSpPr/>
            <p:nvPr/>
          </p:nvSpPr>
          <p:spPr>
            <a:xfrm>
              <a:off x="777492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73856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3224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6384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91316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2100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1308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7241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22716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terbi Decoding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9160" y="1600200"/>
            <a:ext cx="886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s a measure of similarity (distance) between the received signal and all potential trellis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ate keeps only one “more likely”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st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 the distance/weight of the branches leading 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only the be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ll surviving paths 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ss through some st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tim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-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n commit to 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-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terbi Deco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51920" y="5038560"/>
            <a:ext cx="8534520" cy="9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1101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6"/>
            <a:endCxn id="595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3" name=""/>
          <p:cNvCxnSpPr>
            <a:stCxn id="594" idx="4"/>
            <a:endCxn id="597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604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"/>
          <p:cNvCxnSpPr>
            <a:stCxn id="604" idx="6"/>
            <a:endCxn id="605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604" idx="4"/>
            <a:endCxn id="607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14" name=""/>
          <p:cNvCxnSpPr>
            <a:stCxn id="595" idx="6"/>
            <a:endCxn id="604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595" idx="5"/>
            <a:endCxn id="606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16" name=""/>
          <p:cNvCxnSpPr>
            <a:stCxn id="597" idx="5"/>
            <a:endCxn id="608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597" idx="5"/>
            <a:endCxn id="610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18" name=""/>
          <p:cNvCxnSpPr>
            <a:stCxn id="606" idx="5"/>
            <a:endCxn id="609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606" idx="5"/>
            <a:endCxn id="611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20" name=""/>
          <p:cNvCxnSpPr>
            <a:stCxn id="608" idx="7"/>
            <a:endCxn id="605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610" idx="6"/>
            <a:endCxn id="609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610" idx="6"/>
            <a:endCxn id="611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23" name=""/>
          <p:cNvCxnSpPr>
            <a:stCxn id="608" idx="6"/>
            <a:endCxn id="607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624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4" idx="6"/>
            <a:endCxn id="625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24" idx="4"/>
            <a:endCxn id="627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34" name=""/>
          <p:cNvCxnSpPr>
            <a:stCxn id="626" idx="5"/>
            <a:endCxn id="629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5" name=""/>
          <p:cNvCxnSpPr>
            <a:stCxn id="626" idx="5"/>
            <a:endCxn id="631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36" name=""/>
          <p:cNvCxnSpPr>
            <a:stCxn id="628" idx="7"/>
            <a:endCxn id="625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7" name=""/>
          <p:cNvCxnSpPr>
            <a:stCxn id="630" idx="6"/>
            <a:endCxn id="629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8" name=""/>
          <p:cNvCxnSpPr>
            <a:stCxn id="630" idx="6"/>
            <a:endCxn id="631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39" name=""/>
          <p:cNvCxnSpPr>
            <a:stCxn id="628" idx="6"/>
            <a:endCxn id="627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640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"/>
          <p:cNvCxnSpPr>
            <a:stCxn id="640" idx="6"/>
            <a:endCxn id="641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>
            <a:stCxn id="640" idx="4"/>
            <a:endCxn id="643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50" name=""/>
          <p:cNvCxnSpPr>
            <a:stCxn id="642" idx="5"/>
            <a:endCxn id="645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42" idx="5"/>
            <a:endCxn id="647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52" name=""/>
          <p:cNvCxnSpPr>
            <a:stCxn id="644" idx="7"/>
            <a:endCxn id="641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6" idx="6"/>
            <a:endCxn id="645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46" idx="6"/>
            <a:endCxn id="647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55" name=""/>
          <p:cNvCxnSpPr>
            <a:stCxn id="644" idx="6"/>
            <a:endCxn id="643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656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56" idx="6"/>
            <a:endCxn id="657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5" name=""/>
          <p:cNvCxnSpPr>
            <a:stCxn id="656" idx="4"/>
            <a:endCxn id="659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66" name=""/>
          <p:cNvCxnSpPr>
            <a:stCxn id="658" idx="5"/>
            <a:endCxn id="661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7" name=""/>
          <p:cNvCxnSpPr>
            <a:stCxn id="658" idx="5"/>
            <a:endCxn id="663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68" name=""/>
          <p:cNvCxnSpPr>
            <a:stCxn id="660" idx="7"/>
            <a:endCxn id="657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62" idx="6"/>
            <a:endCxn id="661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62" idx="6"/>
            <a:endCxn id="663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71" name=""/>
          <p:cNvCxnSpPr>
            <a:stCxn id="660" idx="6"/>
            <a:endCxn id="659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672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0" name=""/>
          <p:cNvCxnSpPr>
            <a:stCxn id="672" idx="6"/>
            <a:endCxn id="673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1" name=""/>
          <p:cNvCxnSpPr>
            <a:stCxn id="672" idx="4"/>
            <a:endCxn id="675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82" name=""/>
          <p:cNvCxnSpPr>
            <a:stCxn id="674" idx="5"/>
            <a:endCxn id="677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3" name=""/>
          <p:cNvCxnSpPr>
            <a:stCxn id="674" idx="5"/>
            <a:endCxn id="679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84" name=""/>
          <p:cNvCxnSpPr>
            <a:stCxn id="676" idx="7"/>
            <a:endCxn id="673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5" name=""/>
          <p:cNvCxnSpPr>
            <a:stCxn id="678" idx="6"/>
            <a:endCxn id="677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6" name=""/>
          <p:cNvCxnSpPr>
            <a:stCxn id="678" idx="6"/>
            <a:endCxn id="679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87" name=""/>
          <p:cNvCxnSpPr>
            <a:stCxn id="676" idx="6"/>
            <a:endCxn id="675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688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703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3534840" y="2684520"/>
            <a:ext cx="592920" cy="2100960"/>
            <a:chOff x="3534840" y="2684520"/>
            <a:chExt cx="592920" cy="2100960"/>
          </a:xfrm>
        </p:grpSpPr>
        <p:sp>
          <p:nvSpPr>
            <p:cNvPr id="712" name=""/>
            <p:cNvSpPr/>
            <p:nvPr/>
          </p:nvSpPr>
          <p:spPr>
            <a:xfrm>
              <a:off x="35856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5492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7429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745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238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6316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237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3484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131720" y="2692440"/>
            <a:ext cx="592920" cy="2100960"/>
            <a:chOff x="4131720" y="2692440"/>
            <a:chExt cx="592920" cy="2100960"/>
          </a:xfrm>
        </p:grpSpPr>
        <p:sp>
          <p:nvSpPr>
            <p:cNvPr id="721" name=""/>
            <p:cNvSpPr/>
            <p:nvPr/>
          </p:nvSpPr>
          <p:spPr>
            <a:xfrm>
              <a:off x="41824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1461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3398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2714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207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285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206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3172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739760" y="2689200"/>
            <a:ext cx="592920" cy="2100960"/>
            <a:chOff x="4739760" y="2689200"/>
            <a:chExt cx="592920" cy="2100960"/>
          </a:xfrm>
        </p:grpSpPr>
        <p:sp>
          <p:nvSpPr>
            <p:cNvPr id="730" name=""/>
            <p:cNvSpPr/>
            <p:nvPr/>
          </p:nvSpPr>
          <p:spPr>
            <a:xfrm>
              <a:off x="4790520" y="268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754160" y="2963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47840" y="3695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79440" y="3924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28760" y="3481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36600" y="328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28680" y="445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39760" y="4219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0" name=""/>
          <p:cNvCxnSpPr>
            <a:stCxn id="742" idx="6"/>
            <a:endCxn id="743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1" name=""/>
          <p:cNvCxnSpPr>
            <a:stCxn id="742" idx="4"/>
            <a:endCxn id="745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52" name=""/>
          <p:cNvCxnSpPr>
            <a:stCxn id="744" idx="5"/>
            <a:endCxn id="747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3" name=""/>
          <p:cNvCxnSpPr>
            <a:stCxn id="744" idx="5"/>
            <a:endCxn id="749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54" name=""/>
          <p:cNvCxnSpPr>
            <a:stCxn id="746" idx="7"/>
            <a:endCxn id="743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5" name=""/>
          <p:cNvCxnSpPr>
            <a:stCxn id="748" idx="6"/>
            <a:endCxn id="747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6" name=""/>
          <p:cNvCxnSpPr>
            <a:stCxn id="748" idx="6"/>
            <a:endCxn id="749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57" name=""/>
          <p:cNvCxnSpPr>
            <a:stCxn id="746" idx="6"/>
            <a:endCxn id="745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58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759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1" name=""/>
          <p:cNvCxnSpPr>
            <a:endCxn id="767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2" name=""/>
          <p:cNvCxnSpPr>
            <a:endCxn id="768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73" name=""/>
          <p:cNvCxnSpPr>
            <a:endCxn id="769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endCxn id="770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75" name=""/>
          <p:cNvCxnSpPr>
            <a:endCxn id="767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6" name=""/>
          <p:cNvCxnSpPr>
            <a:endCxn id="769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7" name=""/>
          <p:cNvCxnSpPr>
            <a:endCxn id="770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78" name=""/>
          <p:cNvCxnSpPr>
            <a:endCxn id="768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79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780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0" name=""/>
          <p:cNvCxnSpPr>
            <a:stCxn id="792" idx="6"/>
            <a:endCxn id="793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1" name=""/>
          <p:cNvCxnSpPr>
            <a:stCxn id="792" idx="4"/>
            <a:endCxn id="795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02" name=""/>
          <p:cNvCxnSpPr>
            <a:stCxn id="794" idx="5"/>
            <a:endCxn id="797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3" name=""/>
          <p:cNvCxnSpPr>
            <a:stCxn id="794" idx="5"/>
            <a:endCxn id="799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04" name=""/>
          <p:cNvCxnSpPr>
            <a:stCxn id="796" idx="7"/>
            <a:endCxn id="793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798" idx="6"/>
            <a:endCxn id="797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798" idx="6"/>
            <a:endCxn id="799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07" name=""/>
          <p:cNvCxnSpPr>
            <a:stCxn id="796" idx="6"/>
            <a:endCxn id="795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808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809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1" name=""/>
          <p:cNvCxnSpPr>
            <a:endCxn id="817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2" name=""/>
          <p:cNvCxnSpPr>
            <a:endCxn id="818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23" name=""/>
          <p:cNvCxnSpPr>
            <a:endCxn id="819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4" name=""/>
          <p:cNvCxnSpPr>
            <a:endCxn id="820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25" name=""/>
          <p:cNvCxnSpPr>
            <a:endCxn id="817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endCxn id="819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7" name=""/>
          <p:cNvCxnSpPr>
            <a:endCxn id="820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28" name=""/>
          <p:cNvCxnSpPr>
            <a:endCxn id="818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829" name=""/>
          <p:cNvGrpSpPr/>
          <p:nvPr/>
        </p:nvGrpSpPr>
        <p:grpSpPr>
          <a:xfrm>
            <a:off x="7160760" y="2674800"/>
            <a:ext cx="592560" cy="2100960"/>
            <a:chOff x="7160760" y="2674800"/>
            <a:chExt cx="592560" cy="2100960"/>
          </a:xfrm>
        </p:grpSpPr>
        <p:sp>
          <p:nvSpPr>
            <p:cNvPr id="830" name=""/>
            <p:cNvSpPr/>
            <p:nvPr/>
          </p:nvSpPr>
          <p:spPr>
            <a:xfrm>
              <a:off x="7211160" y="2674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74800" y="2949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68480" y="3681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00080" y="3909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49400" y="3466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57240" y="326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49320" y="443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60760" y="4205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42" idx="6"/>
            <a:endCxn id="843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1" name=""/>
          <p:cNvCxnSpPr>
            <a:stCxn id="842" idx="4"/>
            <a:endCxn id="845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52" name=""/>
          <p:cNvCxnSpPr>
            <a:stCxn id="844" idx="5"/>
            <a:endCxn id="847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3" name=""/>
          <p:cNvCxnSpPr>
            <a:stCxn id="844" idx="5"/>
            <a:endCxn id="849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54" name=""/>
          <p:cNvCxnSpPr>
            <a:stCxn id="846" idx="7"/>
            <a:endCxn id="843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5" name=""/>
          <p:cNvCxnSpPr>
            <a:stCxn id="848" idx="6"/>
            <a:endCxn id="847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6" name=""/>
          <p:cNvCxnSpPr>
            <a:stCxn id="848" idx="6"/>
            <a:endCxn id="849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57" name=""/>
          <p:cNvCxnSpPr>
            <a:stCxn id="846" idx="6"/>
            <a:endCxn id="845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858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859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154160" y="1865160"/>
            <a:ext cx="69818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   01   01    01    01    01    00    01    01   00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1     0      1      1      0      1      1      0     1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0320" y="1600200"/>
            <a:ext cx="867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odu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a digital sequence of information bits into an analog signal suitable for transmission over the communication medium (chan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during which the amplitude, frequency, or the phase of a carrier changes in accordance with the information to be trans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ation associates 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to a signa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chosen amo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band transmission versus carrier modulation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band: signal within [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(e.g., c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 modulation: signal within 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modulation sche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tude modulation, Phase modulation, Frequency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1920" y="1544400"/>
            <a:ext cx="85345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on: multi-path generates Inter-Symbol Interference (I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qualizer is a filter that inverts the effect of the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 uses training sequences to estimate the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leav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on: in some channels errors occur in bursts and channel coding is only efficient when errors are randomly distrib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transforms a burst of errors into randomly distributed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: bit level, fram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backs: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: matrix bit-interleaving. Bits enter on the rows and are output  column by 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Techniques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156636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tech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-divers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diversity: transmit at different moments (separated by channel coherence time: inverse of the Doppler frequency). Generally combined with ARQ and F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back: may reduce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 divers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multiple antennas separated by 0.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/or 0.8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~3dB g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back: requires equipment to process multiple input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arization: orthogonally polarized signals are uncor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polarization achieves 6-10dB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divers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frequencies separated by a value higher than the coherence bandwidth (=&gt; frequency hopping sche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rt anten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read Spectrum Tech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1920" y="1477440"/>
            <a:ext cx="85345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 of radio transmiss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dependent fading can wipe out narrow band signals for duration of the interference; multi-path fading; eavesdropping; collisions; time impr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: spread the narrow band signal into a broad band signal using a speci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ion against narrow band interfe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ection against narrowband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de effe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existence of several signals without dynamic coordination (CDMA); “tap-proof”, fine time resolution (GPS); clock recovery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ques: Direct Sequence, Frequency Hopping, (Time Hopp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219320" y="442764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1219320" y="3284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95280" y="3719520"/>
            <a:ext cx="2286000" cy="708120"/>
          </a:xfrm>
          <a:custGeom>
            <a:avLst/>
            <a:gdLst/>
            <a:ahLst/>
            <a:rect l="l" t="t" r="r" b="b"/>
            <a:pathLst>
              <a:path w="1440" h="446">
                <a:moveTo>
                  <a:pt x="0" y="446"/>
                </a:moveTo>
                <a:cubicBezTo>
                  <a:pt x="5" y="420"/>
                  <a:pt x="14" y="306"/>
                  <a:pt x="30" y="290"/>
                </a:cubicBezTo>
                <a:cubicBezTo>
                  <a:pt x="46" y="274"/>
                  <a:pt x="72" y="380"/>
                  <a:pt x="96" y="350"/>
                </a:cubicBezTo>
                <a:cubicBezTo>
                  <a:pt x="120" y="320"/>
                  <a:pt x="78" y="166"/>
                  <a:pt x="174" y="110"/>
                </a:cubicBezTo>
                <a:cubicBezTo>
                  <a:pt x="270" y="54"/>
                  <a:pt x="545" y="28"/>
                  <a:pt x="672" y="14"/>
                </a:cubicBezTo>
                <a:cubicBezTo>
                  <a:pt x="799" y="0"/>
                  <a:pt x="840" y="10"/>
                  <a:pt x="936" y="26"/>
                </a:cubicBezTo>
                <a:cubicBezTo>
                  <a:pt x="1032" y="42"/>
                  <a:pt x="1179" y="56"/>
                  <a:pt x="1248" y="110"/>
                </a:cubicBezTo>
                <a:cubicBezTo>
                  <a:pt x="1317" y="164"/>
                  <a:pt x="1325" y="321"/>
                  <a:pt x="1350" y="350"/>
                </a:cubicBezTo>
                <a:cubicBezTo>
                  <a:pt x="1375" y="379"/>
                  <a:pt x="1383" y="268"/>
                  <a:pt x="1398" y="284"/>
                </a:cubicBezTo>
                <a:cubicBezTo>
                  <a:pt x="1413" y="300"/>
                  <a:pt x="1431" y="412"/>
                  <a:pt x="1440" y="446"/>
                </a:cubicBez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362320" y="3360600"/>
            <a:ext cx="228600" cy="1067040"/>
          </a:xfrm>
          <a:custGeom>
            <a:avLst/>
            <a:gdLst/>
            <a:ahLst/>
            <a:rect l="l" t="t" r="r" b="b"/>
            <a:pathLst>
              <a:path w="144" h="672">
                <a:moveTo>
                  <a:pt x="0" y="672"/>
                </a:moveTo>
                <a:cubicBezTo>
                  <a:pt x="12" y="336"/>
                  <a:pt x="24" y="0"/>
                  <a:pt x="48" y="0"/>
                </a:cubicBezTo>
                <a:cubicBezTo>
                  <a:pt x="72" y="0"/>
                  <a:pt x="108" y="336"/>
                  <a:pt x="144" y="672"/>
                </a:cubicBezTo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181480" y="4427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5181480" y="3284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81480" y="4276800"/>
            <a:ext cx="2362320" cy="150840"/>
          </a:xfrm>
          <a:custGeom>
            <a:avLst/>
            <a:gdLst/>
            <a:ahLst/>
            <a:rect l="l" t="t" r="r" b="b"/>
            <a:pathLst>
              <a:path w="1488" h="95">
                <a:moveTo>
                  <a:pt x="0" y="95"/>
                </a:moveTo>
                <a:cubicBezTo>
                  <a:pt x="23" y="90"/>
                  <a:pt x="10" y="80"/>
                  <a:pt x="138" y="65"/>
                </a:cubicBezTo>
                <a:cubicBezTo>
                  <a:pt x="266" y="50"/>
                  <a:pt x="594" y="10"/>
                  <a:pt x="768" y="5"/>
                </a:cubicBezTo>
                <a:cubicBezTo>
                  <a:pt x="942" y="0"/>
                  <a:pt x="1062" y="20"/>
                  <a:pt x="1182" y="35"/>
                </a:cubicBezTo>
                <a:cubicBezTo>
                  <a:pt x="1302" y="50"/>
                  <a:pt x="1424" y="83"/>
                  <a:pt x="1488" y="95"/>
                </a:cubicBezTo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172200" y="3817800"/>
            <a:ext cx="533520" cy="60984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0" y="384"/>
                </a:moveTo>
                <a:cubicBezTo>
                  <a:pt x="10" y="330"/>
                  <a:pt x="18" y="115"/>
                  <a:pt x="60" y="60"/>
                </a:cubicBezTo>
                <a:cubicBezTo>
                  <a:pt x="102" y="5"/>
                  <a:pt x="206" y="0"/>
                  <a:pt x="252" y="54"/>
                </a:cubicBezTo>
                <a:cubicBezTo>
                  <a:pt x="298" y="108"/>
                  <a:pt x="319" y="315"/>
                  <a:pt x="336" y="384"/>
                </a:cubicBez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4800" y="36655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83320" y="3817800"/>
            <a:ext cx="11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217160" y="32083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895480" y="3208320"/>
            <a:ext cx="120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ead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401160" y="313200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315200" y="3589200"/>
            <a:ext cx="131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9" name=""/>
          <p:cNvCxnSpPr>
            <a:stCxn id="878" idx="0"/>
            <a:endCxn id="885" idx="3"/>
          </p:cNvCxnSpPr>
          <p:nvPr/>
        </p:nvCxnSpPr>
        <p:spPr>
          <a:xfrm flipH="1">
            <a:off x="2337840" y="3360240"/>
            <a:ext cx="10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0" name=""/>
          <p:cNvCxnSpPr>
            <a:stCxn id="877" idx="0"/>
            <a:endCxn id="886" idx="1"/>
          </p:cNvCxnSpPr>
          <p:nvPr/>
        </p:nvCxnSpPr>
        <p:spPr>
          <a:xfrm flipV="1">
            <a:off x="2781000" y="3466800"/>
            <a:ext cx="11484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7" idx="1"/>
            <a:endCxn id="882" idx="0"/>
          </p:cNvCxnSpPr>
          <p:nvPr/>
        </p:nvCxnSpPr>
        <p:spPr>
          <a:xfrm flipH="1">
            <a:off x="6267600" y="3284640"/>
            <a:ext cx="133560" cy="629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2" name=""/>
          <p:cNvCxnSpPr>
            <a:stCxn id="888" idx="1"/>
            <a:endCxn id="881" idx="0"/>
          </p:cNvCxnSpPr>
          <p:nvPr/>
        </p:nvCxnSpPr>
        <p:spPr>
          <a:xfrm flipH="1">
            <a:off x="7057800" y="3847680"/>
            <a:ext cx="25776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3658680" y="4427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4880" y="4427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4240" y="320832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96400" y="320832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258840" y="380880"/>
            <a:ext cx="819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ffects of Spreading and Inter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506600" y="3957480"/>
            <a:ext cx="1290600" cy="8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967040" y="3686040"/>
            <a:ext cx="369720" cy="27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207120" y="3686040"/>
            <a:ext cx="368280" cy="271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207120" y="3957480"/>
            <a:ext cx="368280" cy="8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207120" y="4046400"/>
            <a:ext cx="36828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087800" y="3686040"/>
            <a:ext cx="368280" cy="271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625920" y="3957480"/>
            <a:ext cx="1290600" cy="8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625920" y="4046400"/>
            <a:ext cx="1290600" cy="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06600" y="4046400"/>
            <a:ext cx="1290600" cy="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67040" y="2422440"/>
            <a:ext cx="369720" cy="452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322280" y="2874960"/>
            <a:ext cx="165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2151000" y="2242800"/>
            <a:ext cx="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883160" y="2103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656800" y="2825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03040" y="2644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625920" y="2784600"/>
            <a:ext cx="1290600" cy="90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441600" y="2874960"/>
            <a:ext cx="165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4272120" y="2242800"/>
            <a:ext cx="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002480" y="21034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776120" y="28242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181320" y="264492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854080" y="30956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322280" y="4137120"/>
            <a:ext cx="165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2151000" y="3504960"/>
            <a:ext cx="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883160" y="33656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656800" y="40845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020600" y="390672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441600" y="4137120"/>
            <a:ext cx="165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272120" y="3504960"/>
            <a:ext cx="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002480" y="33656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776120" y="40845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129840" y="39067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44000" y="426888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562720" y="4137120"/>
            <a:ext cx="165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6391440" y="3504960"/>
            <a:ext cx="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897240" y="40863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290200" y="390672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76960" y="2424240"/>
            <a:ext cx="185760" cy="18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76960" y="2604960"/>
            <a:ext cx="185760" cy="181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376960" y="2786040"/>
            <a:ext cx="185760" cy="1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57320" y="2286000"/>
            <a:ext cx="211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r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roadband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rrowband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126480" y="33228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3080" y="380880"/>
            <a:ext cx="8604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reading and Frequency Selective F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315000" y="1712880"/>
            <a:ext cx="7812000" cy="4417200"/>
            <a:chOff x="315000" y="1712880"/>
            <a:chExt cx="7812000" cy="4417200"/>
          </a:xfrm>
        </p:grpSpPr>
        <p:sp>
          <p:nvSpPr>
            <p:cNvPr id="942" name=""/>
            <p:cNvSpPr/>
            <p:nvPr/>
          </p:nvSpPr>
          <p:spPr>
            <a:xfrm>
              <a:off x="1272600" y="3162600"/>
              <a:ext cx="31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1272600" y="1731240"/>
              <a:ext cx="0" cy="143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416400" y="3143880"/>
              <a:ext cx="96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83400" y="1712880"/>
              <a:ext cx="805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390680" y="2252520"/>
              <a:ext cx="234000" cy="9100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60120" y="2121840"/>
              <a:ext cx="234000" cy="10407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29920" y="2511720"/>
              <a:ext cx="234000" cy="65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799720" y="2903400"/>
              <a:ext cx="234000" cy="2592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69520" y="2252520"/>
              <a:ext cx="234000" cy="9100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38960" y="2252520"/>
              <a:ext cx="234000" cy="9100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72600" y="1904760"/>
              <a:ext cx="2818440" cy="1085040"/>
            </a:xfrm>
            <a:custGeom>
              <a:avLst/>
              <a:gdLst/>
              <a:ahLst/>
              <a:rect l="l" t="t" r="r" b="b"/>
              <a:pathLst>
                <a:path w="1152" h="400">
                  <a:moveTo>
                    <a:pt x="0" y="32"/>
                  </a:moveTo>
                  <a:cubicBezTo>
                    <a:pt x="44" y="80"/>
                    <a:pt x="88" y="128"/>
                    <a:pt x="144" y="128"/>
                  </a:cubicBezTo>
                  <a:cubicBezTo>
                    <a:pt x="200" y="128"/>
                    <a:pt x="288" y="48"/>
                    <a:pt x="336" y="32"/>
                  </a:cubicBezTo>
                  <a:cubicBezTo>
                    <a:pt x="384" y="16"/>
                    <a:pt x="400" y="0"/>
                    <a:pt x="432" y="32"/>
                  </a:cubicBezTo>
                  <a:cubicBezTo>
                    <a:pt x="464" y="64"/>
                    <a:pt x="495" y="164"/>
                    <a:pt x="528" y="224"/>
                  </a:cubicBezTo>
                  <a:cubicBezTo>
                    <a:pt x="561" y="284"/>
                    <a:pt x="598" y="400"/>
                    <a:pt x="630" y="392"/>
                  </a:cubicBezTo>
                  <a:cubicBezTo>
                    <a:pt x="662" y="384"/>
                    <a:pt x="697" y="212"/>
                    <a:pt x="720" y="176"/>
                  </a:cubicBezTo>
                  <a:cubicBezTo>
                    <a:pt x="743" y="140"/>
                    <a:pt x="736" y="192"/>
                    <a:pt x="768" y="176"/>
                  </a:cubicBezTo>
                  <a:cubicBezTo>
                    <a:pt x="800" y="160"/>
                    <a:pt x="872" y="104"/>
                    <a:pt x="912" y="80"/>
                  </a:cubicBezTo>
                  <a:cubicBezTo>
                    <a:pt x="952" y="56"/>
                    <a:pt x="968" y="16"/>
                    <a:pt x="1008" y="32"/>
                  </a:cubicBezTo>
                  <a:cubicBezTo>
                    <a:pt x="1048" y="48"/>
                    <a:pt x="1100" y="112"/>
                    <a:pt x="1152" y="1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16200000">
              <a:off x="1911960" y="3110760"/>
              <a:ext cx="130320" cy="234000"/>
            </a:xfrm>
            <a:custGeom>
              <a:avLst/>
              <a:gdLst>
                <a:gd name="textAreaLeft" fmla="*/ 83160 w 130320"/>
                <a:gd name="textAreaRight" fmla="*/ 130680 w 130320"/>
                <a:gd name="textAreaTop" fmla="*/ 5760 h 234000"/>
                <a:gd name="textAreaBottom" fmla="*/ 22824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16200000">
              <a:off x="3086640" y="3110040"/>
              <a:ext cx="130320" cy="235440"/>
            </a:xfrm>
            <a:custGeom>
              <a:avLst/>
              <a:gdLst>
                <a:gd name="textAreaLeft" fmla="*/ 83160 w 130320"/>
                <a:gd name="textAreaRight" fmla="*/ 130680 w 130320"/>
                <a:gd name="textAreaTop" fmla="*/ 6120 h 235440"/>
                <a:gd name="textAreaBottom" fmla="*/ 229320 h 2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7960" y="3379680"/>
              <a:ext cx="117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arrow band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115360" y="337968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uard 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57" name=""/>
            <p:cNvCxnSpPr>
              <a:stCxn id="955" idx="0"/>
              <a:endCxn id="953" idx="1"/>
            </p:cNvCxnSpPr>
            <p:nvPr/>
          </p:nvCxnSpPr>
          <p:spPr>
            <a:xfrm flipV="1">
              <a:off x="1411920" y="3294360"/>
              <a:ext cx="566280" cy="8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0"/>
              <a:endCxn id="954" idx="1"/>
            </p:cNvCxnSpPr>
            <p:nvPr/>
          </p:nvCxnSpPr>
          <p:spPr>
            <a:xfrm flipV="1">
              <a:off x="2494080" y="3290040"/>
              <a:ext cx="654840" cy="131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59" name=""/>
            <p:cNvGrpSpPr/>
            <p:nvPr/>
          </p:nvGrpSpPr>
          <p:grpSpPr>
            <a:xfrm>
              <a:off x="315000" y="3953880"/>
              <a:ext cx="4245120" cy="2176200"/>
              <a:chOff x="315000" y="3953880"/>
              <a:chExt cx="4245120" cy="2176200"/>
            </a:xfrm>
          </p:grpSpPr>
          <p:sp>
            <p:nvSpPr>
              <p:cNvPr id="960" name=""/>
              <p:cNvSpPr/>
              <p:nvPr/>
            </p:nvSpPr>
            <p:spPr>
              <a:xfrm>
                <a:off x="1981800" y="4251600"/>
                <a:ext cx="2578320" cy="51048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864440" y="4379400"/>
                <a:ext cx="2579040" cy="50976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747080" y="4506480"/>
                <a:ext cx="2579040" cy="51048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630080" y="4634280"/>
                <a:ext cx="2578320" cy="51048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512720" y="4762440"/>
                <a:ext cx="2579040" cy="50976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278360" y="5400360"/>
                <a:ext cx="310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1278360" y="3996000"/>
                <a:ext cx="0" cy="140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416040" y="5381640"/>
                <a:ext cx="96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15000" y="3953880"/>
                <a:ext cx="805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channel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qua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395360" y="4889520"/>
                <a:ext cx="2579040" cy="51048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16200000">
                <a:off x="2557440" y="4238280"/>
                <a:ext cx="254880" cy="2579040"/>
              </a:xfrm>
              <a:custGeom>
                <a:avLst/>
                <a:gdLst>
                  <a:gd name="textAreaLeft" fmla="*/ 162720 w 254880"/>
                  <a:gd name="textAreaRight" fmla="*/ 255240 w 254880"/>
                  <a:gd name="textAreaTop" fmla="*/ 66960 h 2579040"/>
                  <a:gd name="textAreaBottom" fmla="*/ 2512080 h 257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038240" y="5609880"/>
                <a:ext cx="915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pread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spectr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72" name=""/>
              <p:cNvCxnSpPr>
                <a:stCxn id="971" idx="3"/>
                <a:endCxn id="970" idx="1"/>
              </p:cNvCxnSpPr>
              <p:nvPr/>
            </p:nvCxnSpPr>
            <p:spPr>
              <a:xfrm flipV="1">
                <a:off x="1952280" y="5652000"/>
                <a:ext cx="730080" cy="204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73" name=""/>
              <p:cNvSpPr/>
              <p:nvPr/>
            </p:nvSpPr>
            <p:spPr>
              <a:xfrm>
                <a:off x="1278360" y="4123800"/>
                <a:ext cx="2813400" cy="1063440"/>
              </a:xfrm>
              <a:custGeom>
                <a:avLst/>
                <a:gdLst/>
                <a:ahLst/>
                <a:rect l="l" t="t" r="r" b="b"/>
                <a:pathLst>
                  <a:path w="1152" h="400">
                    <a:moveTo>
                      <a:pt x="0" y="32"/>
                    </a:moveTo>
                    <a:cubicBezTo>
                      <a:pt x="44" y="80"/>
                      <a:pt x="88" y="128"/>
                      <a:pt x="144" y="128"/>
                    </a:cubicBezTo>
                    <a:cubicBezTo>
                      <a:pt x="200" y="128"/>
                      <a:pt x="288" y="48"/>
                      <a:pt x="336" y="32"/>
                    </a:cubicBezTo>
                    <a:cubicBezTo>
                      <a:pt x="384" y="16"/>
                      <a:pt x="400" y="0"/>
                      <a:pt x="432" y="32"/>
                    </a:cubicBezTo>
                    <a:cubicBezTo>
                      <a:pt x="464" y="64"/>
                      <a:pt x="495" y="164"/>
                      <a:pt x="528" y="224"/>
                    </a:cubicBezTo>
                    <a:cubicBezTo>
                      <a:pt x="561" y="284"/>
                      <a:pt x="598" y="400"/>
                      <a:pt x="630" y="392"/>
                    </a:cubicBezTo>
                    <a:cubicBezTo>
                      <a:pt x="662" y="384"/>
                      <a:pt x="697" y="212"/>
                      <a:pt x="720" y="176"/>
                    </a:cubicBezTo>
                    <a:cubicBezTo>
                      <a:pt x="743" y="140"/>
                      <a:pt x="736" y="192"/>
                      <a:pt x="768" y="176"/>
                    </a:cubicBezTo>
                    <a:cubicBezTo>
                      <a:pt x="800" y="160"/>
                      <a:pt x="872" y="104"/>
                      <a:pt x="912" y="80"/>
                    </a:cubicBezTo>
                    <a:cubicBezTo>
                      <a:pt x="952" y="56"/>
                      <a:pt x="968" y="16"/>
                      <a:pt x="1008" y="32"/>
                    </a:cubicBezTo>
                    <a:cubicBezTo>
                      <a:pt x="1048" y="48"/>
                      <a:pt x="1100" y="112"/>
                      <a:pt x="1152" y="17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5271840" y="2217960"/>
              <a:ext cx="235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rrowband chan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271480" y="4260240"/>
              <a:ext cx="28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read spectrum chan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SSS (Direct Sequence Spread Spectru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63440" y="1538280"/>
            <a:ext cx="8447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OR of the signal with pseudo-random number (chipping sequ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chips per bit (e.g., 128) result in higher bandwidth of the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 Barker code: 11100010010(IEEE802.11), Hadamard, Kazami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s frequency selectiv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ellular networ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 stations can use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e frequency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ral base stations c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ct and recover the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ft hand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se power control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5182920" y="2486160"/>
            <a:ext cx="3391200" cy="3843360"/>
            <a:chOff x="5182920" y="2486160"/>
            <a:chExt cx="3391200" cy="3843360"/>
          </a:xfrm>
        </p:grpSpPr>
        <p:sp>
          <p:nvSpPr>
            <p:cNvPr id="979" name=""/>
            <p:cNvSpPr/>
            <p:nvPr/>
          </p:nvSpPr>
          <p:spPr>
            <a:xfrm flipV="1">
              <a:off x="5257800" y="3823560"/>
              <a:ext cx="0" cy="52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257800" y="43441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5257800" y="2783520"/>
              <a:ext cx="0" cy="51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257800" y="330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5257800" y="4790160"/>
              <a:ext cx="0" cy="51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257800" y="53100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602480" y="294264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r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619040" y="3898080"/>
              <a:ext cx="95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ipp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19400" y="4790160"/>
              <a:ext cx="85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ul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640120" y="330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707160" y="330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8292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8784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79276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94504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40224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70716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5944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01172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33556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64012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24996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55452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6436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24480" y="2857320"/>
              <a:ext cx="1067040" cy="445680"/>
            </a:xfrm>
            <a:custGeom>
              <a:avLst/>
              <a:gdLst/>
              <a:ahLst/>
              <a:rect l="l" t="t" r="r" b="b"/>
              <a:pathLst>
                <a:path w="672" h="288">
                  <a:moveTo>
                    <a:pt x="0" y="288"/>
                  </a:moveTo>
                  <a:lnTo>
                    <a:pt x="0" y="0"/>
                  </a:lnTo>
                  <a:lnTo>
                    <a:pt x="672" y="0"/>
                  </a:lnTo>
                  <a:lnTo>
                    <a:pt x="6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097320" y="4344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774200" y="330336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18292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8784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79276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4504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40224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70716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85944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1172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3556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64012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24996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55452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16436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097320" y="5310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850160" y="441828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42640" y="248616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794920" y="3600720"/>
              <a:ext cx="282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43600" y="2634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257800" y="2634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410080" y="3898080"/>
              <a:ext cx="1981440" cy="445680"/>
            </a:xfrm>
            <a:custGeom>
              <a:avLst/>
              <a:gdLst/>
              <a:ahLst/>
              <a:rect l="l" t="t" r="r" b="b"/>
              <a:pathLst>
                <a:path w="1248" h="288">
                  <a:moveTo>
                    <a:pt x="0" y="28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288"/>
                  </a:lnTo>
                  <a:lnTo>
                    <a:pt x="288" y="288"/>
                  </a:lnTo>
                  <a:lnTo>
                    <a:pt x="288" y="0"/>
                  </a:lnTo>
                  <a:lnTo>
                    <a:pt x="384" y="0"/>
                  </a:lnTo>
                  <a:lnTo>
                    <a:pt x="384" y="288"/>
                  </a:lnTo>
                  <a:lnTo>
                    <a:pt x="480" y="288"/>
                  </a:lnTo>
                  <a:lnTo>
                    <a:pt x="480" y="0"/>
                  </a:lnTo>
                  <a:lnTo>
                    <a:pt x="576" y="0"/>
                  </a:lnTo>
                  <a:lnTo>
                    <a:pt x="576" y="288"/>
                  </a:lnTo>
                  <a:lnTo>
                    <a:pt x="672" y="288"/>
                  </a:lnTo>
                  <a:lnTo>
                    <a:pt x="672" y="0"/>
                  </a:lnTo>
                  <a:lnTo>
                    <a:pt x="864" y="0"/>
                  </a:lnTo>
                  <a:lnTo>
                    <a:pt x="864" y="288"/>
                  </a:lnTo>
                  <a:lnTo>
                    <a:pt x="960" y="288"/>
                  </a:lnTo>
                  <a:lnTo>
                    <a:pt x="960" y="0"/>
                  </a:lnTo>
                  <a:lnTo>
                    <a:pt x="1056" y="0"/>
                  </a:lnTo>
                  <a:lnTo>
                    <a:pt x="1056" y="288"/>
                  </a:lnTo>
                  <a:lnTo>
                    <a:pt x="1152" y="288"/>
                  </a:lnTo>
                  <a:lnTo>
                    <a:pt x="1152" y="0"/>
                  </a:lnTo>
                  <a:lnTo>
                    <a:pt x="1248" y="0"/>
                  </a:lnTo>
                  <a:lnTo>
                    <a:pt x="1248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410080" y="4864320"/>
              <a:ext cx="1828800" cy="445680"/>
            </a:xfrm>
            <a:custGeom>
              <a:avLst/>
              <a:gdLst/>
              <a:ahLst/>
              <a:rect l="l" t="t" r="r" b="b"/>
              <a:pathLst>
                <a:path w="1152" h="288">
                  <a:moveTo>
                    <a:pt x="0" y="28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288"/>
                  </a:lnTo>
                  <a:lnTo>
                    <a:pt x="288" y="288"/>
                  </a:lnTo>
                  <a:lnTo>
                    <a:pt x="288" y="0"/>
                  </a:lnTo>
                  <a:lnTo>
                    <a:pt x="384" y="0"/>
                  </a:lnTo>
                  <a:lnTo>
                    <a:pt x="384" y="288"/>
                  </a:lnTo>
                  <a:lnTo>
                    <a:pt x="480" y="288"/>
                  </a:lnTo>
                  <a:lnTo>
                    <a:pt x="480" y="0"/>
                  </a:lnTo>
                  <a:lnTo>
                    <a:pt x="672" y="0"/>
                  </a:lnTo>
                  <a:lnTo>
                    <a:pt x="672" y="288"/>
                  </a:lnTo>
                  <a:lnTo>
                    <a:pt x="864" y="288"/>
                  </a:lnTo>
                  <a:lnTo>
                    <a:pt x="864" y="0"/>
                  </a:lnTo>
                  <a:lnTo>
                    <a:pt x="960" y="0"/>
                  </a:lnTo>
                  <a:lnTo>
                    <a:pt x="960" y="288"/>
                  </a:lnTo>
                  <a:lnTo>
                    <a:pt x="1056" y="288"/>
                  </a:lnTo>
                  <a:lnTo>
                    <a:pt x="1056" y="0"/>
                  </a:lnTo>
                  <a:lnTo>
                    <a:pt x="1152" y="0"/>
                  </a:lnTo>
                  <a:lnTo>
                    <a:pt x="115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22200" y="5681880"/>
              <a:ext cx="1402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 bit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 chip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3790800" y="4199040"/>
            <a:ext cx="205740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63440" y="380880"/>
            <a:ext cx="87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SSS (Direct Sequence Spread Spectru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571840" y="206532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1" name=""/>
          <p:cNvCxnSpPr>
            <a:endCxn id="1030" idx="1"/>
          </p:cNvCxnSpPr>
          <p:nvPr/>
        </p:nvCxnSpPr>
        <p:spPr>
          <a:xfrm>
            <a:off x="1504800" y="229356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2" name=""/>
          <p:cNvSpPr/>
          <p:nvPr/>
        </p:nvSpPr>
        <p:spPr>
          <a:xfrm>
            <a:off x="1579320" y="19130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endCxn id="1030" idx="2"/>
          </p:cNvCxnSpPr>
          <p:nvPr/>
        </p:nvCxnSpPr>
        <p:spPr>
          <a:xfrm flipV="1">
            <a:off x="2800080" y="252180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4" name=""/>
          <p:cNvSpPr/>
          <p:nvPr/>
        </p:nvSpPr>
        <p:spPr>
          <a:xfrm>
            <a:off x="1884960" y="2598840"/>
            <a:ext cx="95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019400" y="2065320"/>
            <a:ext cx="9144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6" name=""/>
          <p:cNvCxnSpPr>
            <a:stCxn id="1030" idx="3"/>
            <a:endCxn id="1035" idx="1"/>
          </p:cNvCxnSpPr>
          <p:nvPr/>
        </p:nvCxnSpPr>
        <p:spPr>
          <a:xfrm>
            <a:off x="3028680" y="2293560"/>
            <a:ext cx="99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7" name=""/>
          <p:cNvSpPr/>
          <p:nvPr/>
        </p:nvSpPr>
        <p:spPr>
          <a:xfrm>
            <a:off x="3714480" y="2598840"/>
            <a:ext cx="68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endCxn id="1035" idx="2"/>
          </p:cNvCxnSpPr>
          <p:nvPr/>
        </p:nvCxnSpPr>
        <p:spPr>
          <a:xfrm flipV="1">
            <a:off x="4476240" y="252180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9" name=""/>
          <p:cNvSpPr/>
          <p:nvPr/>
        </p:nvSpPr>
        <p:spPr>
          <a:xfrm>
            <a:off x="3103920" y="1531800"/>
            <a:ext cx="91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0" name=""/>
          <p:cNvCxnSpPr>
            <a:stCxn id="1035" idx="3"/>
            <a:endCxn id="1041" idx="3"/>
          </p:cNvCxnSpPr>
          <p:nvPr/>
        </p:nvCxnSpPr>
        <p:spPr>
          <a:xfrm flipV="1">
            <a:off x="4933800" y="2018520"/>
            <a:ext cx="891360" cy="275400"/>
          </a:xfrm>
          <a:prstGeom prst="bentConnector3">
            <a:avLst>
              <a:gd name="adj1" fmla="val 10210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1" name=""/>
          <p:cNvSpPr/>
          <p:nvPr/>
        </p:nvSpPr>
        <p:spPr>
          <a:xfrm>
            <a:off x="5009400" y="1760400"/>
            <a:ext cx="81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027960" y="320832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038320" y="4732200"/>
            <a:ext cx="121932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d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4" name=""/>
          <p:cNvCxnSpPr>
            <a:stCxn id="1045" idx="1"/>
            <a:endCxn id="1043" idx="1"/>
          </p:cNvCxnSpPr>
          <p:nvPr/>
        </p:nvCxnSpPr>
        <p:spPr>
          <a:xfrm>
            <a:off x="1123920" y="4686480"/>
            <a:ext cx="915120" cy="275040"/>
          </a:xfrm>
          <a:prstGeom prst="bentConnector3">
            <a:avLst>
              <a:gd name="adj1" fmla="val 1692"/>
            </a:avLst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045" name=""/>
          <p:cNvSpPr/>
          <p:nvPr/>
        </p:nvSpPr>
        <p:spPr>
          <a:xfrm>
            <a:off x="1123200" y="442764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>
            <a:endCxn id="1043" idx="2"/>
          </p:cNvCxnSpPr>
          <p:nvPr/>
        </p:nvCxnSpPr>
        <p:spPr>
          <a:xfrm flipV="1">
            <a:off x="2647440" y="518904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7" name=""/>
          <p:cNvSpPr/>
          <p:nvPr/>
        </p:nvSpPr>
        <p:spPr>
          <a:xfrm>
            <a:off x="1809360" y="5265720"/>
            <a:ext cx="68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43440" y="4732200"/>
            <a:ext cx="4572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9" name=""/>
          <p:cNvCxnSpPr>
            <a:stCxn id="1043" idx="3"/>
            <a:endCxn id="1048" idx="1"/>
          </p:cNvCxnSpPr>
          <p:nvPr/>
        </p:nvCxnSpPr>
        <p:spPr>
          <a:xfrm>
            <a:off x="3257280" y="49604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3180240" y="5265720"/>
            <a:ext cx="95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1" name=""/>
          <p:cNvCxnSpPr>
            <a:endCxn id="1048" idx="2"/>
          </p:cNvCxnSpPr>
          <p:nvPr/>
        </p:nvCxnSpPr>
        <p:spPr>
          <a:xfrm flipV="1">
            <a:off x="4171680" y="518904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2" name=""/>
          <p:cNvSpPr/>
          <p:nvPr/>
        </p:nvSpPr>
        <p:spPr>
          <a:xfrm>
            <a:off x="3257640" y="4199040"/>
            <a:ext cx="82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p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723400" y="58752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57840" y="4732200"/>
            <a:ext cx="9144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5" name=""/>
          <p:cNvCxnSpPr>
            <a:stCxn id="1048" idx="3"/>
            <a:endCxn id="1054" idx="1"/>
          </p:cNvCxnSpPr>
          <p:nvPr/>
        </p:nvCxnSpPr>
        <p:spPr>
          <a:xfrm>
            <a:off x="4400640" y="4960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6" name=""/>
          <p:cNvSpPr/>
          <p:nvPr/>
        </p:nvSpPr>
        <p:spPr>
          <a:xfrm>
            <a:off x="4170600" y="435132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229440" y="4732200"/>
            <a:ext cx="76176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8" name=""/>
          <p:cNvCxnSpPr>
            <a:stCxn id="1057" idx="3"/>
          </p:cNvCxnSpPr>
          <p:nvPr/>
        </p:nvCxnSpPr>
        <p:spPr>
          <a:xfrm>
            <a:off x="6991200" y="4960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9" name=""/>
          <p:cNvSpPr/>
          <p:nvPr/>
        </p:nvSpPr>
        <p:spPr>
          <a:xfrm>
            <a:off x="6991560" y="457992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0" name=""/>
          <p:cNvCxnSpPr>
            <a:stCxn id="1054" idx="3"/>
            <a:endCxn id="1057" idx="1"/>
          </p:cNvCxnSpPr>
          <p:nvPr/>
        </p:nvCxnSpPr>
        <p:spPr>
          <a:xfrm>
            <a:off x="5772240" y="4960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1" name=""/>
          <p:cNvSpPr/>
          <p:nvPr/>
        </p:nvSpPr>
        <p:spPr>
          <a:xfrm>
            <a:off x="5619600" y="4199040"/>
            <a:ext cx="8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383000" y="390528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HSS (Frequency Hopping Spread Spectrum)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 changes of carrier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 of frequency changes determined via pseudo random number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 Hopping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ral frequencies per user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 Hopping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ral user bits per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selective fading and interference limited to short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 only small portion of spectrum at any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as robust as DS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r to de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75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HSS (Frequency Hopping Spread Spectru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457920" y="1689120"/>
            <a:ext cx="7066440" cy="4471920"/>
            <a:chOff x="457920" y="1689120"/>
            <a:chExt cx="7066440" cy="4471920"/>
          </a:xfrm>
        </p:grpSpPr>
        <p:sp>
          <p:nvSpPr>
            <p:cNvPr id="1067" name=""/>
            <p:cNvSpPr/>
            <p:nvPr/>
          </p:nvSpPr>
          <p:spPr>
            <a:xfrm flipV="1">
              <a:off x="749520" y="2884680"/>
              <a:ext cx="0" cy="11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49520" y="4010040"/>
              <a:ext cx="570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749520" y="1900080"/>
              <a:ext cx="0" cy="5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49520" y="2462400"/>
              <a:ext cx="570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450120" y="211104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r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449040" y="3165840"/>
              <a:ext cx="1075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p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3 bits/ho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49040" y="4572360"/>
              <a:ext cx="1075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a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p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3 hops/bi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189800" y="24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212560" y="24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846080" y="2040480"/>
              <a:ext cx="1096560" cy="421920"/>
            </a:xfrm>
            <a:custGeom>
              <a:avLst/>
              <a:gdLst/>
              <a:ahLst/>
              <a:rect l="l" t="t" r="r" b="b"/>
              <a:pathLst>
                <a:path w="672" h="288">
                  <a:moveTo>
                    <a:pt x="0" y="288"/>
                  </a:moveTo>
                  <a:lnTo>
                    <a:pt x="0" y="0"/>
                  </a:lnTo>
                  <a:lnTo>
                    <a:pt x="672" y="0"/>
                  </a:lnTo>
                  <a:lnTo>
                    <a:pt x="6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15800" y="168912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504160" y="182952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846080" y="182952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039560" y="2040480"/>
              <a:ext cx="2193120" cy="421920"/>
            </a:xfrm>
            <a:custGeom>
              <a:avLst/>
              <a:gdLst/>
              <a:ahLst/>
              <a:rect l="l" t="t" r="r" b="b"/>
              <a:pathLst>
                <a:path w="672" h="288">
                  <a:moveTo>
                    <a:pt x="0" y="288"/>
                  </a:moveTo>
                  <a:lnTo>
                    <a:pt x="0" y="0"/>
                  </a:lnTo>
                  <a:lnTo>
                    <a:pt x="672" y="0"/>
                  </a:lnTo>
                  <a:lnTo>
                    <a:pt x="6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82200" y="24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479840" y="24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576400" y="24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233760" y="246240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57920" y="274392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1160" y="365832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1160" y="337680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1160" y="309564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846080" y="1759320"/>
              <a:ext cx="0" cy="379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943000" y="1759320"/>
              <a:ext cx="0" cy="379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39560" y="1759320"/>
              <a:ext cx="0" cy="379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136120" y="1759320"/>
              <a:ext cx="0" cy="379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233760" y="401004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15800" y="288468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504160" y="3025440"/>
              <a:ext cx="15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49520" y="3025440"/>
              <a:ext cx="138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49520" y="4291200"/>
              <a:ext cx="0" cy="11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9520" y="5416560"/>
              <a:ext cx="570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57920" y="415044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1160" y="506484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1160" y="478224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1160" y="450252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233760" y="541656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23120" y="408024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46080" y="436140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49520" y="3588120"/>
              <a:ext cx="109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49520" y="4924440"/>
              <a:ext cx="555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49520" y="4642920"/>
              <a:ext cx="555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49520" y="5205600"/>
              <a:ext cx="555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9520" y="527580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114920" y="471348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480320" y="499464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46080" y="457236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211840" y="513540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77240" y="48538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943000" y="471348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308400" y="499464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73800" y="4713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039560" y="513540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404960" y="485388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770360" y="513540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36120" y="457236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867280" y="48538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501880" y="513540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49520" y="3517560"/>
              <a:ext cx="555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49520" y="3236400"/>
              <a:ext cx="555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49520" y="3799080"/>
              <a:ext cx="5556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846080" y="3447360"/>
              <a:ext cx="109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943000" y="3588120"/>
              <a:ext cx="109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039560" y="3165840"/>
              <a:ext cx="109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136120" y="3165840"/>
              <a:ext cx="109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292480" y="5790240"/>
              <a:ext cx="3148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 bit perio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 dwell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718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HSS (Frequency Hopping Spread Spectru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523880" y="1490760"/>
            <a:ext cx="5666760" cy="4771800"/>
            <a:chOff x="1523880" y="1490760"/>
            <a:chExt cx="5666760" cy="4771800"/>
          </a:xfrm>
        </p:grpSpPr>
        <p:sp>
          <p:nvSpPr>
            <p:cNvPr id="1135" name=""/>
            <p:cNvSpPr/>
            <p:nvPr/>
          </p:nvSpPr>
          <p:spPr>
            <a:xfrm>
              <a:off x="2590920" y="2023920"/>
              <a:ext cx="990360" cy="4572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u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6" name=""/>
            <p:cNvCxnSpPr>
              <a:endCxn id="1135" idx="1"/>
            </p:cNvCxnSpPr>
            <p:nvPr/>
          </p:nvCxnSpPr>
          <p:spPr>
            <a:xfrm>
              <a:off x="1523880" y="2252160"/>
              <a:ext cx="1067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7" name=""/>
            <p:cNvSpPr/>
            <p:nvPr/>
          </p:nvSpPr>
          <p:spPr>
            <a:xfrm>
              <a:off x="1674720" y="187164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r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867280" y="2862360"/>
              <a:ext cx="952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p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419720" y="2023920"/>
              <a:ext cx="914400" cy="4572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u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0" name=""/>
            <p:cNvCxnSpPr>
              <a:stCxn id="1135" idx="3"/>
              <a:endCxn id="1139" idx="1"/>
            </p:cNvCxnSpPr>
            <p:nvPr/>
          </p:nvCxnSpPr>
          <p:spPr>
            <a:xfrm>
              <a:off x="3580920" y="2252160"/>
              <a:ext cx="839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1" name=""/>
            <p:cNvCxnSpPr>
              <a:stCxn id="1142" idx="0"/>
              <a:endCxn id="1139" idx="2"/>
            </p:cNvCxnSpPr>
            <p:nvPr/>
          </p:nvCxnSpPr>
          <p:spPr>
            <a:xfrm flipV="1">
              <a:off x="4876560" y="2480400"/>
              <a:ext cx="10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3" name=""/>
            <p:cNvSpPr/>
            <p:nvPr/>
          </p:nvSpPr>
          <p:spPr>
            <a:xfrm>
              <a:off x="3504600" y="1566720"/>
              <a:ext cx="1121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rrow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4" name=""/>
            <p:cNvCxnSpPr>
              <a:stCxn id="1139" idx="3"/>
              <a:endCxn id="1145" idx="3"/>
            </p:cNvCxnSpPr>
            <p:nvPr/>
          </p:nvCxnSpPr>
          <p:spPr>
            <a:xfrm flipV="1">
              <a:off x="5334120" y="1855440"/>
              <a:ext cx="891360" cy="397440"/>
            </a:xfrm>
            <a:prstGeom prst="bentConnector3">
              <a:avLst>
                <a:gd name="adj1" fmla="val 100686"/>
              </a:avLst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45" name=""/>
            <p:cNvSpPr/>
            <p:nvPr/>
          </p:nvSpPr>
          <p:spPr>
            <a:xfrm>
              <a:off x="5409360" y="1490760"/>
              <a:ext cx="816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r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589840" y="324324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mit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7" name=""/>
            <p:cNvCxnSpPr>
              <a:stCxn id="1148" idx="1"/>
              <a:endCxn id="1149" idx="1"/>
            </p:cNvCxnSpPr>
            <p:nvPr/>
          </p:nvCxnSpPr>
          <p:spPr>
            <a:xfrm>
              <a:off x="2133720" y="4644000"/>
              <a:ext cx="762480" cy="275400"/>
            </a:xfrm>
            <a:prstGeom prst="bentConnector3">
              <a:avLst>
                <a:gd name="adj1" fmla="val 2078"/>
              </a:avLst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</p:cxnSp>
        <p:sp>
          <p:nvSpPr>
            <p:cNvPr id="1148" name=""/>
            <p:cNvSpPr/>
            <p:nvPr/>
          </p:nvSpPr>
          <p:spPr>
            <a:xfrm>
              <a:off x="2133000" y="4386240"/>
              <a:ext cx="85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ei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0" name=""/>
            <p:cNvCxnSpPr>
              <a:stCxn id="1149" idx="3"/>
              <a:endCxn id="1151" idx="1"/>
            </p:cNvCxnSpPr>
            <p:nvPr/>
          </p:nvCxnSpPr>
          <p:spPr>
            <a:xfrm>
              <a:off x="3962160" y="4919400"/>
              <a:ext cx="610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2" name=""/>
            <p:cNvSpPr/>
            <p:nvPr/>
          </p:nvSpPr>
          <p:spPr>
            <a:xfrm>
              <a:off x="6324120" y="5910120"/>
              <a:ext cx="86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72000" y="4691160"/>
              <a:ext cx="1219320" cy="4572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modu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3" name=""/>
            <p:cNvCxnSpPr>
              <a:stCxn id="1151" idx="3"/>
            </p:cNvCxnSpPr>
            <p:nvPr/>
          </p:nvCxnSpPr>
          <p:spPr>
            <a:xfrm>
              <a:off x="5791320" y="491940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4" name=""/>
            <p:cNvSpPr/>
            <p:nvPr/>
          </p:nvSpPr>
          <p:spPr>
            <a:xfrm>
              <a:off x="5791320" y="4538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43400" y="2862360"/>
              <a:ext cx="1066680" cy="5331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nthesi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5" name=""/>
            <p:cNvCxnSpPr>
              <a:stCxn id="1138" idx="1"/>
              <a:endCxn id="1142" idx="3"/>
            </p:cNvCxnSpPr>
            <p:nvPr/>
          </p:nvCxnSpPr>
          <p:spPr>
            <a:xfrm flipH="1">
              <a:off x="5409720" y="3120480"/>
              <a:ext cx="457920" cy="9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6" name=""/>
            <p:cNvSpPr/>
            <p:nvPr/>
          </p:nvSpPr>
          <p:spPr>
            <a:xfrm>
              <a:off x="1600200" y="5529240"/>
              <a:ext cx="952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p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95480" y="4691160"/>
              <a:ext cx="1067040" cy="4572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modul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7" name=""/>
            <p:cNvCxnSpPr>
              <a:stCxn id="1158" idx="0"/>
              <a:endCxn id="1149" idx="2"/>
            </p:cNvCxnSpPr>
            <p:nvPr/>
          </p:nvCxnSpPr>
          <p:spPr>
            <a:xfrm flipV="1">
              <a:off x="3428640" y="5148000"/>
              <a:ext cx="10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8" name=""/>
            <p:cNvSpPr/>
            <p:nvPr/>
          </p:nvSpPr>
          <p:spPr>
            <a:xfrm>
              <a:off x="2895480" y="5529240"/>
              <a:ext cx="1067040" cy="5335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nthesi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9" name=""/>
            <p:cNvCxnSpPr>
              <a:stCxn id="1156" idx="3"/>
              <a:endCxn id="1158" idx="1"/>
            </p:cNvCxnSpPr>
            <p:nvPr/>
          </p:nvCxnSpPr>
          <p:spPr>
            <a:xfrm>
              <a:off x="2552760" y="5788080"/>
              <a:ext cx="343440" cy="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0" name=""/>
            <p:cNvSpPr/>
            <p:nvPr/>
          </p:nvSpPr>
          <p:spPr>
            <a:xfrm>
              <a:off x="3809160" y="4157640"/>
              <a:ext cx="1121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rrow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ier Trans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represented as a superposition of complex sinusoids of weigh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Fourier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orthogonal =&gt; can be used to independently modulate 2 sequences of symbols =&gt; I (In-phase) and Q (Quadrature phase)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335480" y="2709720"/>
                <a:ext cx="26985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sup>
                        </m:sSup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411800" y="3548160"/>
                <a:ext cx="26240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sup>
                        </m:sSup>
                        <m:r>
                          <m:t xml:space="preserve">df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ation Sche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49976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digital modulation sche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tude modu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-Off Keying (OOK): simplest modulation scheme (AM): carrier amplitude is 1 or 0 depending on the value of the information to be transmit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lse Amplitude Modulation (PAM): u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plitu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-Shift Keying  (FSK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FSK: use two different tones (frequencies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U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ransmit a 0 information bit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transmit an information bit equal t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FSK: generalized t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ies to transmi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s simultaneous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-Shift Keying (PSK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SK: use two signals shifted by 180 degrees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PSK: use signals with different phases and amplitudes: QPSK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ulation Sche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Shift Key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Shift Key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 Shift Key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 Phase Key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216320" y="1468440"/>
                <a:ext cx="307836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i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216320" y="2762280"/>
                <a:ext cx="2475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187880" y="3932280"/>
                <a:ext cx="25574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237200" y="5048280"/>
                <a:ext cx="28494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oosing the Modulation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ness of the power spectrum density: minimize interference on adjacent channels (60-80d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performance in terms of 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elope properties: constant envelope to avoid problems caused by non-linear ampl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itive White Gaussian No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previously seen, noise has several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al noise source is the motion of electrons in amplifiers and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statistics were determined using quantum mechan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flat for all frequencies up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generally call it: Additive White Gaussian Noise (AW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probability density function (pdf) (zero mean noise voltag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168640" y="5388120"/>
                <a:ext cx="27144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t Error Rate [Sklar1988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 for coherently detected BP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 for coherently detected BF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198520" y="2014560"/>
                <a:ext cx="384192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738440" y="4352760"/>
                <a:ext cx="373680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3:54:47Z</dcterms:created>
  <dc:creator>TestUser</dc:creator>
  <dc:description/>
  <dc:language>en-US</dc:language>
  <cp:lastModifiedBy>Guevara Noubir</cp:lastModifiedBy>
  <dcterms:modified xsi:type="dcterms:W3CDTF">2002-01-25T13:55:02Z</dcterms:modified>
  <cp:revision>991</cp:revision>
  <dc:subject/>
  <dc:title>Computer Networks: Theory, Modeling, and Analysis</dc:title>
</cp:coreProperties>
</file>