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270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52527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889000" y="523800"/>
            <a:ext cx="3492360" cy="26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52527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FA7AA55-DA6B-4B41-8CDA-74DBBAFE7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ce: A transmitter produces 50W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 in dBm: 47dBm, in dBW: 17dB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 at 100m: -24.5dBm, at 10km: -64.5dBm? (40dB differe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actice values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computed from measur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 in Tokyo area by Okum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se models use 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s on building height, number of 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F single floor, MF: multiple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 BER and understand how the BER varies =&gt; fa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wired network we try to understand the reasons for con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take an IEEE802.11 card you can always monitor the SNR from the config soft. You don’t have that for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c/f =&gt; 10Km, 1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f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Maxwell electro-magnetic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10cm for 3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ttering used in rad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on a valley/highway/cells is not very usef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of radiated power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iller Dipo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ed antenn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orized antenn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use dBi or d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: i0, L, the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electric field you can get the power density =&gt; voltage applied to your antenna =&gt; received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s is the intrinsic impedence of free space = 120pi = 3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.3 (Vant, R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ce: find the far field distance for an antenna with maximum dimension 1m at f=900MHz =&gt; 6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7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3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1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7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3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2001, COM35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ure 2, </a:t>
            </a:r>
            <a:fld id="{0DD5376A-A466-45C9-B4A0-8184AC1A1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4479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Network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dio Propa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vara Noub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e Space L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space loss = Path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 (dB) = 10 log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reference measure is available at dista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ar-field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dB loss every time the distance is dou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 valu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-2GHz are 1m for indoor and 100m-1Km for out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287960" y="1936800"/>
                <a:ext cx="16491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πd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195640" y="3524400"/>
                <a:ext cx="41446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B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  <m:r>
                              <m:t xml:space="preserve">W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736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factors in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olute signal level, external noise, internal noise (tx/rx eq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capacity depends on Signal Noise Ratio S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HF (upto 30MH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oise in the propagation medium predom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VHF (from 30MHz - abov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 and Rx noise (amplification at receiver) predomin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s of external noise: galactic, atmospheric,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ssive load induces no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 k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k = 1.38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emperature (290K), B: bandwi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n anten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k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ise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lactic: from sun and stars (15MHz to 100MH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ospheric due to lightening (significant for frequencies below 20MH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 made noise: power lines, industrial equipment and machinery, fluorescent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dio Propa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scale path loss + small-scale f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scale path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door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 di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into account terrain profile (e.g., mountains, hills, large building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oor propagation (inside build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es covered are much smaller and the environment is more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ing interest due to PCS and W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ified as line-of-sight (LOS) or obstructed (O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-scale fading: multi-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Loss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-distance path loss model: average path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-normal shadowing (signal level at a specific distance have Gaussian distrib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79440" y="2111400"/>
                <a:ext cx="34941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" name=""/>
          <p:cNvGrpSpPr/>
          <p:nvPr/>
        </p:nvGrpSpPr>
        <p:grpSpPr>
          <a:xfrm>
            <a:off x="3870360" y="2135160"/>
            <a:ext cx="4074840" cy="2125800"/>
            <a:chOff x="3870360" y="2135160"/>
            <a:chExt cx="4074840" cy="2125800"/>
          </a:xfrm>
        </p:grpSpPr>
        <p:grpSp>
          <p:nvGrpSpPr>
            <p:cNvPr id="86" name=""/>
            <p:cNvGrpSpPr/>
            <p:nvPr/>
          </p:nvGrpSpPr>
          <p:grpSpPr>
            <a:xfrm>
              <a:off x="3875400" y="2137320"/>
              <a:ext cx="4063320" cy="2121120"/>
              <a:chOff x="3875400" y="2137320"/>
              <a:chExt cx="4063320" cy="21211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875400" y="2137320"/>
                <a:ext cx="2126520" cy="302760"/>
                <a:chOff x="3875400" y="2137320"/>
                <a:chExt cx="2126520" cy="3027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875400" y="213732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" name=""/>
                <p:cNvGrpSpPr/>
                <p:nvPr/>
              </p:nvGrpSpPr>
              <p:grpSpPr>
                <a:xfrm>
                  <a:off x="3875400" y="2137320"/>
                  <a:ext cx="2126160" cy="302760"/>
                  <a:chOff x="3875400" y="2137320"/>
                  <a:chExt cx="2126160" cy="3027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3953880" y="213732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Environmen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3875400" y="213732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" name=""/>
              <p:cNvGrpSpPr/>
              <p:nvPr/>
            </p:nvGrpSpPr>
            <p:grpSpPr>
              <a:xfrm>
                <a:off x="6002280" y="2137320"/>
                <a:ext cx="1936440" cy="302760"/>
                <a:chOff x="6002280" y="2137320"/>
                <a:chExt cx="1936440" cy="3027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6080760" y="213732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th Loss Exponent 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002280" y="213732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3875400" y="2440080"/>
                <a:ext cx="2126520" cy="302760"/>
                <a:chOff x="3875400" y="2440080"/>
                <a:chExt cx="2126520" cy="3027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875400" y="244008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" name=""/>
                <p:cNvGrpSpPr/>
                <p:nvPr/>
              </p:nvGrpSpPr>
              <p:grpSpPr>
                <a:xfrm>
                  <a:off x="3875400" y="2440080"/>
                  <a:ext cx="2126160" cy="302760"/>
                  <a:chOff x="3875400" y="2440080"/>
                  <a:chExt cx="2126160" cy="30276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3953880" y="244008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Free spac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3875400" y="244008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" name=""/>
              <p:cNvGrpSpPr/>
              <p:nvPr/>
            </p:nvGrpSpPr>
            <p:grpSpPr>
              <a:xfrm>
                <a:off x="6002280" y="2440080"/>
                <a:ext cx="1936440" cy="302760"/>
                <a:chOff x="6002280" y="2440080"/>
                <a:chExt cx="1936440" cy="3027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080760" y="244008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002280" y="244008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3875400" y="2743200"/>
                <a:ext cx="2126520" cy="302760"/>
                <a:chOff x="3875400" y="2743200"/>
                <a:chExt cx="2126520" cy="3027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3875400" y="274320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" name=""/>
                <p:cNvGrpSpPr/>
                <p:nvPr/>
              </p:nvGrpSpPr>
              <p:grpSpPr>
                <a:xfrm>
                  <a:off x="3875400" y="2743200"/>
                  <a:ext cx="2126160" cy="302760"/>
                  <a:chOff x="3875400" y="2743200"/>
                  <a:chExt cx="2126160" cy="30276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3953880" y="274320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Urban area PC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875400" y="274320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6002280" y="2743200"/>
                <a:ext cx="1936440" cy="302760"/>
                <a:chOff x="6002280" y="2743200"/>
                <a:chExt cx="1936440" cy="302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6080760" y="274320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7 to 3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002280" y="274320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875400" y="3046320"/>
                <a:ext cx="2126520" cy="302760"/>
                <a:chOff x="3875400" y="3046320"/>
                <a:chExt cx="2126520" cy="302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875400" y="304632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3875400" y="3046320"/>
                  <a:ext cx="2126160" cy="302760"/>
                  <a:chOff x="3875400" y="3046320"/>
                  <a:chExt cx="2126160" cy="3027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953880" y="304632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hadowed urban PC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875400" y="304632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" name=""/>
              <p:cNvGrpSpPr/>
              <p:nvPr/>
            </p:nvGrpSpPr>
            <p:grpSpPr>
              <a:xfrm>
                <a:off x="6002280" y="3046320"/>
                <a:ext cx="1936440" cy="302760"/>
                <a:chOff x="6002280" y="3046320"/>
                <a:chExt cx="1936440" cy="3027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6080760" y="304632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to 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002280" y="304632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875400" y="3349440"/>
                <a:ext cx="2126520" cy="303120"/>
                <a:chOff x="3875400" y="3349440"/>
                <a:chExt cx="2126520" cy="3031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875400" y="3349440"/>
                  <a:ext cx="2126520" cy="30312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3875400" y="3349440"/>
                  <a:ext cx="2126160" cy="303120"/>
                  <a:chOff x="3875400" y="3349440"/>
                  <a:chExt cx="2126160" cy="3031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3953880" y="3349440"/>
                    <a:ext cx="1968840" cy="30312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n building LO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3875400" y="3349440"/>
                    <a:ext cx="2126160" cy="30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4" name=""/>
              <p:cNvGrpSpPr/>
              <p:nvPr/>
            </p:nvGrpSpPr>
            <p:grpSpPr>
              <a:xfrm>
                <a:off x="6002280" y="3349440"/>
                <a:ext cx="1936440" cy="303120"/>
                <a:chOff x="6002280" y="3349440"/>
                <a:chExt cx="1936440" cy="303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080760" y="3349440"/>
                  <a:ext cx="17794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6 to 1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002280" y="3349440"/>
                  <a:ext cx="19364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875400" y="3652560"/>
                <a:ext cx="2126520" cy="302760"/>
                <a:chOff x="3875400" y="3652560"/>
                <a:chExt cx="2126520" cy="3027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875400" y="365256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3875400" y="3652560"/>
                  <a:ext cx="2126160" cy="302760"/>
                  <a:chOff x="3875400" y="3652560"/>
                  <a:chExt cx="2126160" cy="30276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3953880" y="365256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bstructed in buildin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875400" y="365256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2" name=""/>
              <p:cNvGrpSpPr/>
              <p:nvPr/>
            </p:nvGrpSpPr>
            <p:grpSpPr>
              <a:xfrm>
                <a:off x="6002280" y="3652560"/>
                <a:ext cx="1936440" cy="302760"/>
                <a:chOff x="6002280" y="3652560"/>
                <a:chExt cx="1936440" cy="3027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080760" y="365256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 to 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002280" y="365256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3875400" y="3955680"/>
                <a:ext cx="2126520" cy="302760"/>
                <a:chOff x="3875400" y="3955680"/>
                <a:chExt cx="2126520" cy="3027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875400" y="395568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7" name=""/>
                <p:cNvGrpSpPr/>
                <p:nvPr/>
              </p:nvGrpSpPr>
              <p:grpSpPr>
                <a:xfrm>
                  <a:off x="3875400" y="3955680"/>
                  <a:ext cx="2126160" cy="302760"/>
                  <a:chOff x="3875400" y="3955680"/>
                  <a:chExt cx="2126160" cy="30276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3953880" y="395568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bstructed in factori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3875400" y="395568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0" name=""/>
              <p:cNvGrpSpPr/>
              <p:nvPr/>
            </p:nvGrpSpPr>
            <p:grpSpPr>
              <a:xfrm>
                <a:off x="6002280" y="3955680"/>
                <a:ext cx="1936440" cy="302760"/>
                <a:chOff x="6002280" y="3955680"/>
                <a:chExt cx="1936440" cy="3027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080760" y="395568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to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002280" y="395568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" name=""/>
            <p:cNvSpPr/>
            <p:nvPr/>
          </p:nvSpPr>
          <p:spPr>
            <a:xfrm>
              <a:off x="3870360" y="2135160"/>
              <a:ext cx="4074840" cy="2125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15920" y="5487840"/>
                <a:ext cx="40878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494240" y="5473800"/>
                <a:ext cx="302400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Loss Models of Outdo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umura-Hata empirical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150MHz to 1500 MHz. For urban ar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freq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BS heigh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obile heigh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BS-MS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small to medium sized c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large c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uburban ar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rural are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41360" y="2365200"/>
                <a:ext cx="84326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500120" y="3530520"/>
                <a:ext cx="5330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278000" y="4181400"/>
                <a:ext cx="62992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300</m:t>
                          </m:r>
                          <m:r>
                            <m:rPr>
                              <m:lit/>
                              <m:nor/>
                            </m:rPr>
                            <m:t xml:space="preserve">MHz</m:t>
                          </m:r>
                        </m:e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9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0</m:t>
                          </m:r>
                          <m:r>
                            <m:rPr>
                              <m:lit/>
                              <m:nor/>
                            </m:rPr>
                            <m:t xml:space="preserve">MHz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286000" y="4952880"/>
                <a:ext cx="31273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514680" y="5700600"/>
                <a:ext cx="50529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Path Loss Mode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-COST Extension of Okumura-Hata to PCS (f&gt;1500MHz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dB (medium and suburban), 3dB (metropolit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fish and Bertoni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s effect of diffraction on roof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82440" y="2476440"/>
                <a:ext cx="87724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d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Loss Models for Indo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807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tion losses (same floor with soft of hard parti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s estimation of path loss for each material at working 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tion losses between flo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s estimates of 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icsson Multiple breakpoint mode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reakpoints, range of path-loss: [P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-distance path lo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(dB) = PL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10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pend on surrounding environment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is a normal random variable with standard deviation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enuation factor model (average path lo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(dB) = PL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10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FAF (dB) = PL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10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M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ings penetration: depends on building height, number of window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 tracing using Geographical Information System (GIS) 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5840" y="369720"/>
            <a:ext cx="806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mall Scale Fading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path fa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reflections from various objects: multiple path =&gt; multiple phase shif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strength may vary by as much as 30-40dB in hostile environments when the receiver moves by only a frac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eff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change in signal strength over a small travel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frequency modulation due to varying Doppler shifts on different multi-path 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dispersion (echoes) caused by multipath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mall Scale Fading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ath propagation: multiple version of the signal with different shifts that may add or sub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of the mobile: the relative speed between the mobile and BS results in random frequency modulation due to different incidence angles of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of surrounding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bandwidth of the signal versus channel bandwidth (coherence bandwid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term fading x short-term fadi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cture foc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propagation and anten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is it important to learn about propagation and physical layer issu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ding Stat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ppler shif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angle between the radio wave propagation axis and the mobile traj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crossing rate (LC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number of times per second that the signal envelope crosses the level in a positive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R and level crossing duration are important for estimating fading rate and duration =&gt; designing error control c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pecified level)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m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 Doppler shif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fade dura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398600" y="4881600"/>
                <a:ext cx="2496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rad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ρ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476520" y="5091120"/>
                <a:ext cx="15512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t Error R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Error Rate (BER): rate of bit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ng the BER is very important: it determines the packet loss (Frame Error Rate: 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Error Rate is a function of the received energy per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ng path loss statistics allows to estimate the 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nnon’s Theorem (AWGN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hannel with a given SNR has maximum capacity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og (1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N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exist a coding scheme that allows to achieve the channel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ib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736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cibel Un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unit describing transmission gain (loss) and relative pow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i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B) = 10 log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bels above or below 1W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BW) = 10 log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bels above or below 1Milliwat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Bm) = 10log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1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1mW =&gt; P(dBm) =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P(dBW)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10mW =&gt; P(dBm) = 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P(dBW)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sics of Radio-waves Propa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wave propag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waves: electromagnetic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al energy: electrical field (E) and magnetic field 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and H are sinusoidal functions of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ignal is attenuated and affected by the 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n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 the link between the guided part and the free space: couple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pos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ssion: efficiently transform the electrical signal into radiated electromagnetic wave (radio/microwa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ption: efficiently accept the received radiated energy and convert it to an electrical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agation Me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wa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30KHz to 300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ag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wave: travels in contact with the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OfSight (LOS), Reflection, diffraction, scattering (buildings, hills, veget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inant propagation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pospheric wave: refraction (bending) in the lower 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ospheric: reflection on the ionosphere (upto 4000k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ysical Propagation Mech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ceived power is a combination of three physics mechanism [Rappaport96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lection: Occurs when a radio wave propagating in one medium impinges upon another medium: partial reflection + partial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medium is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duc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ll incident energy is refl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medium is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electr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partial reflection and partial transmission in the second med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raction: Occurs when the radio path is obstructed with a surface that has sharp irregularities (edg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s: knife-edge and multiple knife-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ttering: Occurs when the medium consists of small objects (vs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lected energy 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oug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urfaces is spread out (diffused) in all 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urface is rough if: protuberance &gt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8 sin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ten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tical reference antenna (isotropic radiato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int in space radiating with equal power in all di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with equal power are located on a sphere with the antenna in the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antennas exhibit directive eff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: omnidirectional (dipole) or directional (pencil b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t antenn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pole (or Hertzian dipole) of leng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4 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 antennas may be more usefu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ver a highway, valley, satellite 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tenna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density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nna Gain (in dB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wrDirection/AllRadiatedPw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physical antenna effective aper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Isotropic Radiated Power: comp. to ref. 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IR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Radiated Power: comp. to half-wave 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P = EIRP – 2.15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powe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003480" y="5219640"/>
                <a:ext cx="18050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 antenna vs. directed ant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-field (Fraunhofer regio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 beyond the far-field distanc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&gt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largest physical linear dimension of the ant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pole (in far-fiel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dens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recei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516480" y="3094200"/>
                <a:ext cx="3273120" cy="15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d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782800" y="4525920"/>
                <a:ext cx="56260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RP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η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W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803680" y="5367240"/>
                <a:ext cx="38718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n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t</m:t>
                            </m:r>
                          </m:sub>
                        </m:sSub>
                      </m:den>
                    </m:f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3:54:47Z</dcterms:created>
  <dc:creator>TestUser</dc:creator>
  <dc:description/>
  <dc:language>en-US</dc:language>
  <cp:lastModifiedBy>Guevara Noubir</cp:lastModifiedBy>
  <dcterms:modified xsi:type="dcterms:W3CDTF">2001-04-27T21:35:32Z</dcterms:modified>
  <cp:revision>830</cp:revision>
  <dc:subject/>
  <dc:title>Computer Networks: Theory, Modeling, and Analysis</dc:title>
</cp:coreProperties>
</file>