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8EAF3D-226A-468E-A2C6-A55C4E2D9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from 15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1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48AC31B0-0E6D-4419-8A55-3164C1F6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3" name=""/>
          <p:cNvCxnSpPr>
            <a:stCxn id="2425" idx="2"/>
            <a:endCxn id="2426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6" idx="2"/>
            <a:endCxn id="2429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20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28" idx="2"/>
            <a:endCxn id="2429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27" idx="2"/>
            <a:endCxn id="2428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24" idx="2"/>
            <a:endCxn id="2420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30" idx="2"/>
            <a:endCxn id="2420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0" name=""/>
          <p:cNvCxnSpPr>
            <a:stCxn id="2423" idx="2"/>
            <a:endCxn id="2420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1" name=""/>
          <p:cNvCxnSpPr>
            <a:stCxn id="2419" idx="3"/>
            <a:endCxn id="2420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2" name=""/>
          <p:cNvCxnSpPr>
            <a:stCxn id="2422" idx="2"/>
            <a:endCxn id="2430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3" name=""/>
          <p:cNvCxnSpPr>
            <a:stCxn id="2444" idx="2"/>
            <a:endCxn id="2418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5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2" name=""/>
          <p:cNvCxnSpPr>
            <a:stCxn id="2448" idx="2"/>
            <a:endCxn id="2444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51" idx="2"/>
            <a:endCxn id="2446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4" name=""/>
          <p:cNvCxnSpPr>
            <a:stCxn id="2446" idx="2"/>
            <a:endCxn id="2420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56" idx="2"/>
            <a:endCxn id="2420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47" idx="2"/>
            <a:endCxn id="2420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6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8" name=""/>
          <p:cNvCxnSpPr>
            <a:stCxn id="2449" idx="2"/>
            <a:endCxn id="2450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9" name=""/>
          <p:cNvCxnSpPr>
            <a:stCxn id="2421" idx="2"/>
            <a:endCxn id="2425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0" name=""/>
          <p:cNvCxnSpPr>
            <a:stCxn id="2450" idx="2"/>
            <a:endCxn id="2421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1" name=""/>
          <p:cNvCxnSpPr>
            <a:stCxn id="2418" idx="2"/>
            <a:endCxn id="2419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3" name="WirelessCommunicationSystem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894280" cy="4203720"/>
          </a:xfrm>
          <a:prstGeom prst="rect">
            <a:avLst/>
          </a:prstGeom>
          <a:ln w="0">
            <a:noFill/>
          </a:ln>
        </p:spPr>
      </p:pic>
      <p:sp>
        <p:nvSpPr>
          <p:cNvPr id="2464" name=""/>
          <p:cNvSpPr/>
          <p:nvPr/>
        </p:nvSpPr>
        <p:spPr>
          <a:xfrm>
            <a:off x="1222200" y="3848040"/>
            <a:ext cx="5112000" cy="1317600"/>
          </a:xfrm>
          <a:custGeom>
            <a:avLst/>
            <a:gdLst/>
            <a:ahLst/>
            <a:rect l="l" t="t" r="r" b="b"/>
            <a:pathLst>
              <a:path w="3220" h="830">
                <a:moveTo>
                  <a:pt x="3202" y="830"/>
                </a:moveTo>
                <a:cubicBezTo>
                  <a:pt x="3165" y="786"/>
                  <a:pt x="3220" y="696"/>
                  <a:pt x="2978" y="576"/>
                </a:cubicBezTo>
                <a:cubicBezTo>
                  <a:pt x="2752" y="415"/>
                  <a:pt x="2248" y="202"/>
                  <a:pt x="1751" y="112"/>
                </a:cubicBezTo>
                <a:cubicBezTo>
                  <a:pt x="1254" y="22"/>
                  <a:pt x="365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103560" y="396252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T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MA2000,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400M subscribers (Europe, Asia, 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ons: HSCSD,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IS-54/IS-136/DAMPS, GSM (TDMA) or IS-95 (C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ble of Wireless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5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ministrativ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arch oriented course (not necessarily theoret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s of 4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list of email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z: 4*5% =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term: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: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%: literature survey/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%: implementation/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%: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grades are individual: you should show your contribution to the pro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group ASAP and choose your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 with me this week to start working on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 an email anytime to schedule a meeting (even the same 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 may drop the class? (so that I can accept more stud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2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9" name=""/>
          <p:cNvCxnSpPr>
            <a:stCxn id="2490" idx="2"/>
            <a:endCxn id="2491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0" name=""/>
          <p:cNvCxnSpPr>
            <a:stCxn id="2491" idx="2"/>
            <a:endCxn id="2492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1" name=""/>
          <p:cNvCxnSpPr>
            <a:stCxn id="2492" idx="2"/>
            <a:endCxn id="2493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2" name=""/>
          <p:cNvCxnSpPr>
            <a:stCxn id="2496" idx="0"/>
            <a:endCxn id="2495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3" name=""/>
          <p:cNvCxnSpPr>
            <a:stCxn id="2497" idx="0"/>
            <a:endCxn id="2496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4" name=""/>
          <p:cNvCxnSpPr>
            <a:stCxn id="2498" idx="0"/>
            <a:endCxn id="2497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5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6" name=""/>
          <p:cNvCxnSpPr>
            <a:stCxn id="2507" idx="1"/>
            <a:endCxn id="2493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8" name=""/>
          <p:cNvCxnSpPr>
            <a:stCxn id="2493" idx="2"/>
            <a:endCxn id="2505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9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10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3" name=""/>
          <p:cNvCxnSpPr>
            <a:stCxn id="2505" idx="3"/>
            <a:endCxn id="2511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4" name=""/>
          <p:cNvCxnSpPr>
            <a:stCxn id="2515" idx="2"/>
            <a:endCxn id="2490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5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7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8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21" name=""/>
          <p:cNvCxnSpPr>
            <a:stCxn id="2494" idx="1"/>
            <a:endCxn id="2519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494" idx="0"/>
            <a:endCxn id="2498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495" idx="0"/>
            <a:endCxn id="2516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5" name=""/>
          <p:cNvCxnSpPr>
            <a:stCxn id="2495" idx="0"/>
            <a:endCxn id="2523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7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6" name=""/>
          <p:cNvCxnSpPr>
            <a:stCxn id="2527" idx="3"/>
            <a:endCxn id="2498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7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8" name=""/>
          <p:cNvCxnSpPr>
            <a:stCxn id="2529" idx="2"/>
            <a:endCxn id="2490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9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60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2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63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6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8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9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72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75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7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8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0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81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84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6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7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9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90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2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93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5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6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601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6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0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11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6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7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8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7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0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0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41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3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44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6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7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9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50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2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53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5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6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8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9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1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62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65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7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8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0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71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74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6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7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82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7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92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7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8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9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8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1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a low data-rate wireless gateway (based on uCLinux boards and RF Monolithics 915MHz transceivers). Requires knowledge of linux and basic HW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of routing protocols of wireless multi-hop ad-hoc networks using ns2 environment (e.g., DSDV, DSR, AOD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lular systems radio resource management: analysis and simulation of radio resource management algorithms for wireless cellular communication systems (Dynamic Channel Assign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lular systems radio resource management: Base-Stations 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ment of a simple environment for simulating wireless signals propagation and nodes 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and simulation of adaptive algorithms to improve IEEE802.11 WL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and simulation of the performance of Bluetooth scatter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/multicast protocols of wireless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of power consumption in low-power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icient routing and medium access control schemes for 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Protocols for the 3rd generation of wireless cellular 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yptographically enforced fairness in wireless multi-hop ad-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-existence issues of Bluetooth and IEEE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), CdmaOne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future: WCDMA (UMTS = 3GPP), Cdma2000 (=3GP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echnology - physical layer: (from the antenna to the base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 layer: Mobile-IP, Ad Hoc (DSDV, DSR, AODV, T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resource management in cellula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3: 1 billion wireless subscribers (source Erics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62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63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82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9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5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  <a:endCxn id="118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9" name=""/>
            <p:cNvCxnSpPr>
              <a:endCxn id="118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2" name=""/>
            <p:cNvCxnSpPr>
              <a:endCxn id="123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4" name=""/>
            <p:cNvCxnSpPr>
              <a:stCxn id="125" idx="0"/>
              <a:endCxn id="126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7" name=""/>
            <p:cNvCxnSpPr>
              <a:stCxn id="128" idx="0"/>
              <a:endCxn id="129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30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8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7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8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4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23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9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8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7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10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5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40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5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70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5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7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9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4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9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4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4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9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4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9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4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9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4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9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5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90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5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700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5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10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5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20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5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30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5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40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5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1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52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82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7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9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40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5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1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82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5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1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6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3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4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8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3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8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3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8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3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4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3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4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8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8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4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5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9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4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9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50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7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8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9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3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4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5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6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0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71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5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6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0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81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5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6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0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91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5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6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0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701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5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6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0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11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5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6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7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20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21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22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6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7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1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32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6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7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1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42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3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4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6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7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8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9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3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4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8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9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3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4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8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9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3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4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8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9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3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4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8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9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3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4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8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9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0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4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5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9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10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4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5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9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20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4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5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6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7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8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9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33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4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5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9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40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9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50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4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5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9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70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4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5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9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4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5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6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0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5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6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3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4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5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7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8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2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53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0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6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3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4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5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6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1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92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3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4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6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2000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2001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5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6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7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9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0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1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12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6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7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0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30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3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8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43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6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6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9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3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7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4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5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1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102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8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9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5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6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2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53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4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71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7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9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6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2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23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4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41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7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8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5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GSM-SubscribersFeb01" descr=""/>
          <p:cNvPicPr/>
          <p:nvPr/>
        </p:nvPicPr>
        <p:blipFill>
          <a:blip r:embed="rId1"/>
          <a:stretch/>
        </p:blipFill>
        <p:spPr>
          <a:xfrm>
            <a:off x="0" y="153180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93" name="GSM-SubscribersDec00" descr=""/>
          <p:cNvPicPr/>
          <p:nvPr/>
        </p:nvPicPr>
        <p:blipFill>
          <a:blip r:embed="rId2"/>
          <a:stretch/>
        </p:blipFill>
        <p:spPr>
          <a:xfrm>
            <a:off x="4800600" y="1652760"/>
            <a:ext cx="3809880" cy="2498400"/>
          </a:xfrm>
          <a:prstGeom prst="rect">
            <a:avLst/>
          </a:prstGeom>
          <a:ln w="0">
            <a:noFill/>
          </a:ln>
        </p:spPr>
      </p:pic>
      <p:sp>
        <p:nvSpPr>
          <p:cNvPr id="2294" name=""/>
          <p:cNvSpPr/>
          <p:nvPr/>
        </p:nvSpPr>
        <p:spPr>
          <a:xfrm>
            <a:off x="365400" y="4925880"/>
            <a:ext cx="636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563800" y="4038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94120" y="426708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44280" y="3159000"/>
            <a:ext cx="8902440" cy="2039760"/>
            <a:chOff x="44280" y="3159000"/>
            <a:chExt cx="8902440" cy="2039760"/>
          </a:xfrm>
        </p:grpSpPr>
        <p:sp>
          <p:nvSpPr>
            <p:cNvPr id="2300" name=""/>
            <p:cNvSpPr/>
            <p:nvPr/>
          </p:nvSpPr>
          <p:spPr>
            <a:xfrm>
              <a:off x="44280" y="396972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58280" y="379656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742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293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51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66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191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8415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069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353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58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802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808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905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29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57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21500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78960" y="396972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68400" y="396972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840920" y="396972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10488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9200" y="396972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503480" y="489168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8280" y="459108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742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293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51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66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191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8415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069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353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58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802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6808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905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29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57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820800" y="481968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826280" y="4819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411640" y="481968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981880" y="4819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5766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69520" y="48196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294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4252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360840" y="48196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519040" y="481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8" name=""/>
            <p:cNvCxnSpPr>
              <a:stCxn id="2332" idx="0"/>
              <a:endCxn id="2334" idx="0"/>
            </p:cNvCxnSpPr>
            <p:nvPr/>
          </p:nvCxnSpPr>
          <p:spPr>
            <a:xfrm>
              <a:off x="457920" y="479664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9" name=""/>
            <p:cNvCxnSpPr>
              <a:stCxn id="2334" idx="1"/>
              <a:endCxn id="2325" idx="0"/>
            </p:cNvCxnSpPr>
            <p:nvPr/>
          </p:nvCxnSpPr>
          <p:spPr>
            <a:xfrm>
              <a:off x="168048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25" idx="1"/>
              <a:endCxn id="2335" idx="0"/>
            </p:cNvCxnSpPr>
            <p:nvPr/>
          </p:nvCxnSpPr>
          <p:spPr>
            <a:xfrm>
              <a:off x="2293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35" idx="1"/>
              <a:endCxn id="2326" idx="0"/>
            </p:cNvCxnSpPr>
            <p:nvPr/>
          </p:nvCxnSpPr>
          <p:spPr>
            <a:xfrm>
              <a:off x="290520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6" idx="1"/>
              <a:endCxn id="2336" idx="0"/>
            </p:cNvCxnSpPr>
            <p:nvPr/>
          </p:nvCxnSpPr>
          <p:spPr>
            <a:xfrm>
              <a:off x="3517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3" name=""/>
            <p:cNvCxnSpPr>
              <a:stCxn id="2336" idx="1"/>
              <a:endCxn id="2324" idx="0"/>
            </p:cNvCxnSpPr>
            <p:nvPr/>
          </p:nvCxnSpPr>
          <p:spPr>
            <a:xfrm>
              <a:off x="412884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4" name=""/>
            <p:cNvCxnSpPr>
              <a:stCxn id="2324" idx="1"/>
              <a:endCxn id="2331" idx="0"/>
            </p:cNvCxnSpPr>
            <p:nvPr/>
          </p:nvCxnSpPr>
          <p:spPr>
            <a:xfrm>
              <a:off x="474228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5" name=""/>
            <p:cNvCxnSpPr>
              <a:stCxn id="2331" idx="1"/>
              <a:endCxn id="2327" idx="0"/>
            </p:cNvCxnSpPr>
            <p:nvPr/>
          </p:nvCxnSpPr>
          <p:spPr>
            <a:xfrm>
              <a:off x="535356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6" name=""/>
            <p:cNvCxnSpPr>
              <a:stCxn id="2327" idx="1"/>
              <a:endCxn id="2357" idx="0"/>
            </p:cNvCxnSpPr>
            <p:nvPr/>
          </p:nvCxnSpPr>
          <p:spPr>
            <a:xfrm>
              <a:off x="5966640" y="479664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8" name=""/>
            <p:cNvSpPr/>
            <p:nvPr/>
          </p:nvSpPr>
          <p:spPr>
            <a:xfrm>
              <a:off x="8180280" y="467532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843680" y="46540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0" name=""/>
            <p:cNvCxnSpPr>
              <a:stCxn id="2359" idx="1"/>
              <a:endCxn id="2358" idx="0"/>
            </p:cNvCxnSpPr>
            <p:nvPr/>
          </p:nvCxnSpPr>
          <p:spPr>
            <a:xfrm>
              <a:off x="7843320" y="479808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1" name=""/>
            <p:cNvCxnSpPr>
              <a:endCxn id="2358" idx="1"/>
            </p:cNvCxnSpPr>
            <p:nvPr/>
          </p:nvCxnSpPr>
          <p:spPr>
            <a:xfrm flipH="1" flipV="1">
              <a:off x="8181360" y="479808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2" name=""/>
            <p:cNvCxnSpPr>
              <a:stCxn id="2310" idx="0"/>
            </p:cNvCxnSpPr>
            <p:nvPr/>
          </p:nvCxnSpPr>
          <p:spPr>
            <a:xfrm>
              <a:off x="458280" y="359172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3" name=""/>
            <p:cNvSpPr/>
            <p:nvPr/>
          </p:nvSpPr>
          <p:spPr>
            <a:xfrm>
              <a:off x="106956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2920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5" name=""/>
            <p:cNvCxnSpPr>
              <a:stCxn id="2363" idx="0"/>
            </p:cNvCxnSpPr>
            <p:nvPr/>
          </p:nvCxnSpPr>
          <p:spPr>
            <a:xfrm>
              <a:off x="1069200" y="344736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6" name=""/>
            <p:cNvCxnSpPr/>
            <p:nvPr/>
          </p:nvCxnSpPr>
          <p:spPr>
            <a:xfrm>
              <a:off x="7668720" y="359172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7" name=""/>
            <p:cNvSpPr/>
            <p:nvPr/>
          </p:nvSpPr>
          <p:spPr>
            <a:xfrm>
              <a:off x="7085160" y="323244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933560" y="315900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7080" y="315900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0" name=""/>
            <p:cNvCxnSpPr>
              <a:stCxn id="2306" idx="0"/>
              <a:endCxn id="2328" idx="0"/>
            </p:cNvCxnSpPr>
            <p:nvPr/>
          </p:nvCxnSpPr>
          <p:spPr>
            <a:xfrm>
              <a:off x="7190640" y="400248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71" name=""/>
            <p:cNvSpPr/>
            <p:nvPr/>
          </p:nvSpPr>
          <p:spPr>
            <a:xfrm flipH="1">
              <a:off x="147960" y="47926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127080" y="35920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1-04-12T19:23:39Z</dcterms:modified>
  <cp:revision>724</cp:revision>
  <dc:subject/>
  <dc:title>Computer Networks: Theory, Modeling, and Analysis</dc:title>
</cp:coreProperties>
</file>