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2B31-5028-40E4-993B-8C01400C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A12-F567-4374-B12D-4D2EC853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88B-78FA-4E4C-9797-B5A014B6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140-5593-42E4-8185-17C0499A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7D8-9E1C-47BB-8398-543A0563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1A0-10C7-4DD1-BC50-AC81D751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E6D-6004-432E-8DA7-A0DFE8F7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2A0-0E40-43E7-ABBA-7685EC7A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A77-0731-4D25-AB2C-C7F41BC4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6A3-6692-402A-B524-7F3C2313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31A-172A-4116-84F8-F55D2E26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888-DD0B-49E3-9246-17A2A68C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7519-6A76-45A3-A2D6-61A01546B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an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fe Programming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er School on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Oregon, Jun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&amp;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ert Harper’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rogramming Languages: Theory and Practic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-2.cs.cmu.edu/~rwh/plboo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jamin Pierce’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ypes and Programming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le at your local book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notes, study materials and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rew Myers:  http://www.cs.cornell.edu/courses/cs611/2000f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Walker:  http://www.cs.princeton.edu/courses/archive/fall03/cs510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xpression evaluates to at most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Determinacy of val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e there exists at most one v such that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duction on the length of the evaluation sequence using determina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ck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very irreducible expression is a val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if 7 then 1 else 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re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true+fals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re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true 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re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expression is not a value but doesn’t reduce, its meaning is ill-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thing can happen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ression e that is not a value, but for which there exists no e’ such that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is said to b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stuck states are reachable from well-typed programs.  ie: evaluation of well-typed programs is well-def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ternative Formulation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rational Seman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given a “small-step” operationa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ople like “big-step” operationa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choice is a “context-based” “small-step” operationa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base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void multiple search rules in the small-step semantics, we can define the set of “computational contexts” in which an instruction rule can be invo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s E ::= [ ] | o(v,...,E,e,...) |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if E then e1 else e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E e | v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base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expression e that can take a step can be factored into two pa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E[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is a “redex” – the left-hand side of an instruc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::=  o(v,...,v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f true then e1 else e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f false then e1 else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(fun f(x:t1):t2 = e)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base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, we just need one rule to implement all of the search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is makes the specification of the OS and proofs about it much more con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39960" y="3790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650040" y="336852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[e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e’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Dynamic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efine the operational semantics of MinML using a judgment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is determin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can get stuck...if expressions are not well-ty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nd  ML ar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ype saf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ongly ty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and C++ are often described a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akly ty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this mean?  What do strong type systems do for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ype system predicts at compile time the behavior of a program at run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|-- e : int → int predicts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e will evaluate to a function value that requires an integer argument and returns an integer result, or does not term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e will not get stuck during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safety is a matter of coherence between the static and dynamic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ic semantics makes predictions about the execution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semantics must comply with those predi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ly typed languages always make valid predi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ly typed languages get it wrong part of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y make valid predictions, strongly typed languages guarantee that certain errors never occu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ds of errors vary depending upon the predictions made by the typ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ML predicts the shapes of values (Is it a boolean? a function? an integer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ML guarantees integers aren’t applied to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ng that a program is well-typed mean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ving a 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out its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ype checker is therefore a theorem pro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computability theorems limit the strength of theorems that a mechanical type checker can pr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checkers are alway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serv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- a strong type system will rule out some good programs as well as all of the bad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amentally there is a tension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ressivenes of the type system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iculty of proving that a program is well-ty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in lies the art of type system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mmon misconce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systems are only useful for checking simple decidabl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werful type systems have been created to check for termination of programs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that a type checker can do can also be done at run-time (perhaps at some small co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ype systems prove properties for all runs of a program, not just the current run.  This has many ramifications.  See Francois’ lectures for one 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zation of 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herence of the static and dynamic semantics is neatly summarized by two relate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ser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well-typed program remains well-typed during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g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ll-typed programs do not get stuck.  If an expression is well-typed then it is either a value or there is a well-defined next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zation of 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ser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|-- e : t and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’ then |-- e’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g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|-- e : t then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is a value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exists e’ such that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 we hav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afe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|-- e : t and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e’ then e’ is not stu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zation of Typ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ype of a closed value determines its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nonical Forms Lem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If |-- v : t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 = int then v = n for some integer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 = bool then v = true or v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 = t1 → t2 then v = fun f (x : t1) : t2 = e for some f, x, and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by induction on typing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 If |-- e : int and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v then v = n for some integer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 (Preserv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|-- e : t and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 then |-- e’ :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The proof is by induction on eval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operational rule we assume that the theorem holds for the premises; we show it is true for the concl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48280" y="3124080"/>
            <a:ext cx="19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= 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n1, n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63760" y="3540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342320" y="32767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n1,n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uctive defin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y a central role in the study of programm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specify the following aspects of a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syntax (via CF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syntax (via CF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semantics (via typing r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semantics (via evaluation r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in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 lem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48280" y="3124080"/>
            <a:ext cx="19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= 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n1, n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63760" y="3540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42320" y="32767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n1,n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in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 lem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n : in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typing rule for 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48280" y="3124080"/>
            <a:ext cx="19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= 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n1, n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63760" y="3540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42320" y="32767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n1,n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ppl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0640" y="313992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= fun f (x : t1) : t2 =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v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v/f] [v1/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16040" y="3556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3712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v v1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ppl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v : t1→ t2;  |-- v1 : t1; t = 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20640" y="313992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= fun f (x : t1) : t2 =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v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v/f] [v1/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16040" y="3556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3712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v v1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ppl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v : t1→ t2;  |-- v1 : t1; t = 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: t1→ t2, x:t1|-- e : t2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20640" y="313992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= fun f (x : t1) : t2 =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v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v/f] [v1/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16040" y="3556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3712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v v1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ppl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v : t1→ t2;  |-- v1 : t1; t = 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: t1→ t2, x:t1|-- e : t2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 [v/f][v1/x] : 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substit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20640" y="313992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= fun f (x : t1) : t2 =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v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v/f] [v1/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16040" y="3556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37120" y="3276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v v1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 search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33720" y="32767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44160" y="30830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e1’,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1112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 search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1 : in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33720" y="32767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44160" y="30830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e1’,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1112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 search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1 : in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1’ : in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33720" y="32767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44160" y="30830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e1’,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1112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 search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1 : in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1’ : in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- e2 : int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33720" y="32767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44160" y="30830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e1’,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31112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ductive definition 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judg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e: asser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t of 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eriving these jud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ment is 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 n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n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cc(n) n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addition search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’ : int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ind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2 : int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in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’, e2) : int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typing rule for 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33720" y="32767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44160" y="30830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e1’,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1112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ight the proof have fai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if some instruction is mis-defined.  e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ation fails.  The result of an equality test is not a bool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23880" y="3352680"/>
            <a:ext cx="208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 =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m, 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14600" y="37688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06960" y="3387600"/>
            <a:ext cx="208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  ≠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m, 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97320" y="380376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829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34520" y="453060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: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=(e1,e2)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11560" y="49719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at if an instruction is undefined, this does not disturb preserv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14840" y="3352680"/>
            <a:ext cx="21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 =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m, 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81440" y="37688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829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34520" y="453060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: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=(e1,e2)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11560" y="49719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 (Progr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|-- e : t then either e is a value or there exists e’ such that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is by induction on ty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This case does not apply since we are considering closed values (G is the empty contex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42640" y="308916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x : G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integ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Immediate (n is a value).  Similar reasoning for all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40840" y="308916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n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312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10640" y="327672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1460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e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1’, or  (2)  e1 = v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by in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312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0640" y="327672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e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1’, or  (2)  e1 = v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by in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(e1,e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(e1’,e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by search rule, if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76520" y="312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0640" y="327672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2)  e1 = 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’, or  (4)  e2 = 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ind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v1,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v1,e2’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search rule, i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76520" y="281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10640" y="297180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514600" y="3352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 rules are normal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J and J1,..., Jn are judgements.  (For axioms, n = 0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43560" y="286056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2)  e1 = 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4)  e2 = 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0640" y="274320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14600" y="3124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2)  e1 = 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4)  e2 = 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 = n1 for some integer n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canonical for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 = n2 for some integer n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canonical for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76520" y="281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10640" y="274320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14600" y="3124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add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2)  e1 = 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(4)  e2 = 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’ve taken care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 = n1 for some integer n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canonical for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 = n2 for some integer n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canonical for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n1,n2) = n where n is sum of n1 and n2   (by instruction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676520" y="251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10640" y="266688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e1 : int  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600" y="3048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s for if statements and function application are simi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nduction hypothesis to generate multiple cases involving search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anonical forms lemma to show that the instruction rules can be applied proper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ould the proof have fai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perational rule was o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714840" y="3352680"/>
            <a:ext cx="21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 =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m, 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81440" y="37688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829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34520" y="453060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: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=(e1,e2)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11560" y="49719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th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dd (immutable)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::= [e0,...,ek] | sub ea 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th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dd (immutable)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::= [e0,...,ek] | sub ea 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84080" y="3200400"/>
            <a:ext cx="56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v0,...,vj,e1,e2...,ek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[v0,...,vj,e1’,e2...,ek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752480" y="362268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77120" y="4267080"/>
            <a:ext cx="28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e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 ea e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ub ea’ 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4440" y="4689360"/>
            <a:ext cx="27273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02280" y="426708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ei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 va e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ub va ei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325680" y="4689360"/>
            <a:ext cx="27273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376320" y="428292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 &lt;= n &lt;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 [v0,..,vk] n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v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400800" y="46990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th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dd (immutable)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::= [e0,...,ek] | sub ea 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84080" y="3200400"/>
            <a:ext cx="56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v0,...,vj,e1,e2...,ek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v0,...,vj,e1’,e2...,ek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52480" y="362268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77120" y="4267080"/>
            <a:ext cx="28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ea e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 ea’ 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4440" y="4689360"/>
            <a:ext cx="27273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02280" y="426708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i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va e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 va ei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25680" y="4689360"/>
            <a:ext cx="27273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75600" y="42829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&lt;= n &lt;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[v0,..,vk]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400800" y="46990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46800" y="5508720"/>
            <a:ext cx="391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 |-- ea : t array     G |-- ei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 |-- sub ea ei :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643280" y="5924520"/>
            <a:ext cx="376740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0840" y="550224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 |-- e0 : t  ...    G |-- ek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 |-- [e0,...,ek] : t arr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04800" y="5918040"/>
            <a:ext cx="328140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th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anguage still sa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ation still holds: execution of each instruction preserves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 f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|-- sub [17,25,44] 9 :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|-- sub [17,25,44] 9 : in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??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th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recover safe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en the type system to rule out the offending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e dynamic semantics to avoid “getting stuck” when we do an array sub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rules for deriving n nat are usually writt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505320"/>
            <a:ext cx="17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06760" y="392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440" y="3505320"/>
            <a:ext cx="21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n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64160" y="392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en the type system by keeping track of array lengths and the values of integ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t ::= ... | t array(a) | int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anges over arithmetic expressions that describe array lengths and specific integer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:  out-of-bounds errors detected at compile-time; facilitates debugging; no run-time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 complex; limits type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dynamic semantics to avoid “getting stuck” when we do an array subscr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rules to check for out-of-b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well-defined error transitions that are different from undefined stuck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mic raising an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e statement of safety to take error transitions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o operational seman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operations yield “error” exception in well-defined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rules propagate errors once they a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47760" y="352116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&lt; 0  or n &gt;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[v0,..,vk]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21120" y="3962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01720" y="5121360"/>
            <a:ext cx="22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8320" y="5543640"/>
            <a:ext cx="211788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26400" y="510552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v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181480" y="5562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78080" y="621360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imilarly with all other search ru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to statement of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eser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If  |-- e : t and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’ ≠ error then |-- e’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g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If |-- e : t then either e is a valu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ck st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e is stuck if e is not a value, not error and there is no e’ such that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If |-- e : t and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then e’ is not st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ly-typed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s like C and C++ are weakly typ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do not have a strong enough type system to ensure array accesses are in bounds at compil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do not check for array out-of-bounds at run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unsa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ly-typed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ng secure software in C and C++ is extremely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ckers break into C and C++ systems consta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costing us &gt; $20 billion dollars per year and looks like it’s doubling every ye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are they doing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50% of attacks exploit buffer overruns, format string attacks, “double-free” attacks, none of which can happen in safe langu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ngle most effective defence against these hacks is to develop software infrastructure in safe langu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safety express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h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tatic and dynamic seman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rence is elegantly expressed as the conjunction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eser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g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ype safety fails programs might ge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ehave in undefined and unpredictable w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s to security vulner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safety problem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ngthening the type system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dynamic checks to the operational seman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ype safety proof tells us whether we have a sound language design and where to fix probl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of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udgment J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riv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n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there is a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J1, ..., Jn are deri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30800" y="435924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44840" y="47750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7120" y="2971800"/>
            <a:ext cx="9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1160" y="338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of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determine whether a judgment is derivable by working back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jud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(succ(zero)) 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rivable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6840" y="502920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zero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succ(zero)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30640" y="5140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5720" y="5521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44840" y="58262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49760" y="484200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der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ie: a pro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334120"/>
            <a:ext cx="5335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21000" y="56358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2880" y="5334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2560" y="49528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z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0000" y="4114800"/>
            <a:ext cx="16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867280" y="472428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120" y="5029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set of rules defining the judgment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ing that t is a binary t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the following is a valid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(empty, node(empty, empty))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08400" y="365760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98800" y="327672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tree      t2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(t1, t2)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2000" y="3692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16440" y="3692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inition, every derivabl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consequence of some ru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se premises are deri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, the rules are a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haus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ption of the derivable jud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ike an ML datatype definition is an exhaustive description of all the objects in the type being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State of Aff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security flaws cost our economy $10-$30 billion/year* 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2760" y="601992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some unverified statistics I have read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how tha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 derivable judgment has a property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is enough to show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ru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J1, ..., Jn have the property P, then J has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principal of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ule in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3560" y="33526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768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Natural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ules f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 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prove that the propert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s of 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 n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rule in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tha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 holds of z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ing that P holds of n, show that P holds of succ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just ordinary mathematical induction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2590920"/>
            <a:ext cx="17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8160" y="300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5840" y="2590920"/>
            <a:ext cx="21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n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35560" y="300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we can prove that every binar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e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 propert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showing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has property 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1 has property P and t2 has property P, then node(t1, t2) has property 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ight be called tree in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following equ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ty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de(t1, t2)) = 1 +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1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2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i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very binary tree t there exists a unique integer n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) =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he above equations define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prove the claim by rule in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 is derivable by the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n = 0 is determined by the first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mpty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unique?  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51400" y="33526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45000" y="3387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 is derivable by th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e may assume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 a unique n1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1) = n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 a unique n2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2) = n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there exists a unique n, nam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+max(n1, n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=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48000" y="260676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tree      t2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(t1, t2)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65640" y="30225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wfully pedantic, but it is useful to see the details at least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obviou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a tree has a well-defined he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induction justified the existence of 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trick for studying programming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9% of the time, if you need to prove a fact, you will prove it by induc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ome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ard part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ing up your basic language definitions in the first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ing out what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ome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nduct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 in P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be looking at inductive definitions that deter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emantics (ty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semantics (evalu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roperties of programs and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State of Aff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security flaws cost our economy $10-$30 billion/year* 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 and Moore’s law appl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st of software security failures is doubling every year.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760" y="601992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some unverified statistics I have read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crete synt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program i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harac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’ ‘3’ ‘+’ ‘2’ ‘)’ ‘*’ ‘7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tract synt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program i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ing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utationally relev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tion of the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31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9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888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135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0828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962520" y="5410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5410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276720" y="58672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58672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rete syntax of a program contains many elements necessary for par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miters for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precedence of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stract syntax of a program is much simpler; it does not contain thes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ence is given directly by the tre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ing was a hard problem solved in the ‘7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parsing is solved, we can work with simple abstract syntax rather than complex concrete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theless, we need a notation for writing down abstract syntax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e write (3 + 2) * 7, you should visualize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87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72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660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608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5564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0952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23720" y="6095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6095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In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lly, 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ccessor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decessor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ithmetic expressions are defined by the judgment e e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f statement (if e1 then e2 else e3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359712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39783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63920" y="361332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3994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5040" y="5273640"/>
            <a:ext cx="35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exp      e2 exp      e3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1 then e2 else e3 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57308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03848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68640" y="405432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68640" y="4435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3320" y="3978360"/>
            <a:ext cx="35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exp      e2 exp      e3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1 then e2 else e3 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4197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02880" y="52736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0504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37960" y="52736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74012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4280" y="5273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97520" y="5715000"/>
            <a:ext cx="166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, an if statement, a zero, a successor, a predecessor or a 0 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7040" y="5273640"/>
            <a:ext cx="12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654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every bit of syntax by inductive definitions can be lengthy and ted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definitions are an especially simple form of inductive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in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pred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very convenient abbreviation: B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in B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true | false 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837720" y="259056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3040" y="4156200"/>
            <a:ext cx="295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a new le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reek symbol/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present any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et of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572000" y="3200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3880" y="4156200"/>
            <a:ext cx="231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inductive ru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019560" y="3047760"/>
            <a:ext cx="1447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23040" y="4232160"/>
            <a:ext cx="138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er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y “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::= true |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120" y="468936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wo inductively defined judg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99680" y="5222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b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7140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05280" y="5486400"/>
            <a:ext cx="14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bool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07440" y="592776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960" y="5638680"/>
            <a:ext cx="68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rule is an inclusion of booleans in expre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::= true |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640" y="4984920"/>
            <a:ext cx="76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ta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tand for classes of objects, programs, and other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ust not be confused with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gra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State of Aff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8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5%* of all CERT advisories represent problems that cryptography can’t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0%* of recent software security problems are due to buffer overflow in languages like C and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that can be fixed with modern programming language technology (Java, ML, Modula, C#, Haskell, Scheme, 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many more of the remaining 35-55% may be addressed by programming language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1680" y="6324480"/>
            <a:ext cx="79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more unverified stats; I’ve heard the numbers are even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Functions defined ov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2600" y="1828800"/>
            <a:ext cx="89773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(true) = {true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false) = {fals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0) = {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(succ e) = constants(pred e) = constants(iszero e) = constant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if e1 then e2 else e3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=1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nstants 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2200" y="4191120"/>
            <a:ext cx="68086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true) = 1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false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0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succ e) = size(pred e) = size(iszero e) = size e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if e1 then e2 else e3) = 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=1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ize ei)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v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v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ule induction on the rules for “e ex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monly calle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uction on the structure of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“structural indu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al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P is a predicate on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in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xpression e, we assume P(e’) holds for each subexpression e’ of e and go on to prove P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we know P(e) for all expression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you study the theory of safe and secure programming languages, you’ll use this idea for the rest of your lif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to the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duction on the structure of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0, true, false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succ e’, pred e’, iszero e’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(if e1 then e2 else e3)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552720" y="3962520"/>
            <a:ext cx="114300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47200" y="3124080"/>
            <a:ext cx="109656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4952880"/>
            <a:ext cx="228600" cy="152424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72040" y="4952880"/>
            <a:ext cx="122472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0, true, fal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constants e | = |{e}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(by def of consta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                  (simple calcu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size 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(by def of 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7086600" y="5714640"/>
            <a:ext cx="38088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2080" y="6086520"/>
            <a:ext cx="16423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us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286000" y="5714640"/>
            <a:ext cx="3808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5520" y="6086520"/>
            <a:ext cx="15217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43400" y="2590920"/>
            <a:ext cx="220968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34080" y="2124000"/>
            <a:ext cx="13510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-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086600" y="3048120"/>
            <a:ext cx="763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733920"/>
            <a:ext cx="38862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3733920"/>
            <a:ext cx="38862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pred e’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= |constants e’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 of const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’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size 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def of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3733920"/>
            <a:ext cx="28195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733920"/>
            <a:ext cx="46483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(if e1 then e2 else e3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= |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s ei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def of const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constants ei| (property of 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ize ei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IH on each 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size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def of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3733920"/>
            <a:ext cx="2819520" cy="2133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3733920"/>
            <a:ext cx="5562720" cy="2133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ases are similar. 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929120" y="3733920"/>
            <a:ext cx="609840" cy="1218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45840" y="5146560"/>
            <a:ext cx="31842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e Latin to show off 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09680" y="3733920"/>
            <a:ext cx="152640" cy="1218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3200" y="5105520"/>
            <a:ext cx="28278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had better be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of is an easily-checked justification of a judgment (ie: a theor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people have different ideas about what “easily-checked”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formal a proof, the more “easily-check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tudying language safety and security, we often have a pretty high bar because hackers can often exploit even the tiniest flaw in our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State of Aff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York Times (1998):  The security flaw reported this week in Email programs written by two highly-respected software companies points to an industry-wide problem – the danger of programming languages whose greatest strength is also their greatest weak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modern programming languages like the Java language developed by Sun Microsystems, have built-in safeguards that prevent programmers from making many common types of errors that could result in security loop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amp; Static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ML, The E. Coli of PL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ll study MinML, a tiny fragment of 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s and bool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 enough to be Turing complete, but bare enough to support a thorough mathematical analysis of its proper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Syntax of Min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inML are inductively defined by thes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::= int | bool |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Syntax of Min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inML are inductively defined by thes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::= x | n | true | false | o(e,...,e) | if e then e else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fun f (x:t):t = e | 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ranges over a set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ranges over the integers ...,-2,-1,0,1,2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ranges over operators +,-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I’ll write operators infix:  2+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ding an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xpres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un f (x:t1) : t2 = 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expres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use standard conventions involving bound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ons differing only in names of bound variables are indistinguish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un f (x:int) : int = x + 3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fun g (z:int) : int = z +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pick variables f and x to avoid clashes with other variables in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 Variables and Substit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that are not bound are calle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y is free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 f (x:t1) : t2 = f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pture-avoiding substit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[e’/x] replaces all free occurrences of x with e’ in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fun f (x:t1) : t2 = f y)[3/y] = (fun f (x:t1) : t2 = 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e bound variables during substitution to avoid “capturing” fre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fun f (x:t1) : t2 = f y)[x/y] = (fun f (z:t1) : t2 = f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ic semantics, or type system, imposes context-sensitive restrictions on the formation of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es well-typed from ill-typed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typed programs have well-defined behavior;  ill-typed programs have ill-defin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can’t say what your program does, you certainly can’t say whether it is secure or no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yping judgment, or typing assertion, is a tripl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 |-- e :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ype contex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ssigns types to a set of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pres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ose free variables are given b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yp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expres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Assig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ly, a type assignment is a finite functio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 : Variables → Typ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rit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,x: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he functio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’(y) = 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’(y) = G(y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 ≠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has whatever type G assigns to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stants have the evident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2360" y="32004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x : G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560" y="50292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5105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0880" y="579132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true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24240" y="5867280"/>
            <a:ext cx="17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59920" y="579132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false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13280" y="5867280"/>
            <a:ext cx="18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urity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rn Programming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programming language designers have to contribute to secu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programming languag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, modules and interfaces for 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access control mechanisms:  stack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analysis of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type checking: client code respects system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control code can’t be circumv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type/model/proof check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integrity, confidentiality, general safety and liveness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mitive operations have the expected typ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25760" y="342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77320" y="350532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: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+(e1,e2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14600" y="489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66160" y="496872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: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2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=(e1,e2)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5410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54360" y="39625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“branches” of a conditional must have the same typ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vely, the type checker can’t predict the outcome of the test (in general) so we must insist that both results have the same type.  Otherwise, we could not assign a unique type to the condit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3800" y="3063960"/>
            <a:ext cx="49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 : bool     G |-- e1 : t     G |-- e2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if e then e1 else e2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49560" y="347976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may only be applied to arguments in their dom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type of the co-domain (range) of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88400" y="3352680"/>
            <a:ext cx="38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: t2→ t     G |-- e2 :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1 e2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82720" y="37688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checking recursiv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tacitly assume that {f,x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m(G) = {}.  This is always possible by our conventions on binding op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1680" y="3048120"/>
            <a:ext cx="434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,f: t1 → t2, x:t1 |-- e :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fun f (x:t1) : t2 = e : t1 → t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78160" y="3463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checking a recursive function is tricky!  We assume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has the specified domain and range type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 has the specified domain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hen check that the body has the range type under these assum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ssumptions are consistent, the function is type correct, otherwis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l-Typed and Ill-Type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pression e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ll-ty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contex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there exists a typ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 |-- e :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 |-- e :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ll-ty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ontex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following expression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The expression e has type int → 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e this, we must show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} |-- e : int → i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5760" y="2895480"/>
            <a:ext cx="37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 f (n:int) : in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=0 then 1 else n * f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0400" y="3720960"/>
            <a:ext cx="806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} |-- fun f (n:int):int = if n = 0 then 1 else n*f(n-1) : int →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0400" y="3720960"/>
            <a:ext cx="806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if n = 0 then 1 else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} |-- fun f (n:int):int = if n = 0 then 1 else n*f(n-1) : int →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5245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0040" y="606096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G = f : int → int, n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7240" y="3720960"/>
            <a:ext cx="807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=0 : bool              G |-- 1 : int            G |--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if n = 0 then 1 else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} |-- fun f (n:int):int = if n = 0 then 1 else n*f(n-1) : int →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4863960"/>
            <a:ext cx="74674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5245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urity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rn Programming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ve programming language designers done for us late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secure byte code languages &amp; platforms for distribution of untrusted mobil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VM and C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of-Carrying Code &amp; Typed Assembly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ng program errors at run-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: buffer overrun detection; making C 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program analysis for security 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flow, buffer-overruns, format string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hecking, model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7240" y="3720960"/>
            <a:ext cx="807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 : int    G |-- 0 : int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=0 : bool              G |-- 1 : int            G |--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if n = 0 then 1 else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} |-- fun f (n:int):int = if n = 0 then 1 else n*f(n-1) : int →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" y="4559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4863960"/>
            <a:ext cx="74674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5245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4559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4178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4178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6520" y="3720960"/>
            <a:ext cx="865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 : int    G |-- 0 : int                           G |-- n : int      Derivatio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=0 : bool              G |-- 1 : int            G |--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if n = 0 then 1 else n*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} |-- fun f (n:int):int = if n = 0 then 1 else n*f(n-1) : int →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4559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4863960"/>
            <a:ext cx="74674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5245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4559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4178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178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4120" y="41781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45594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25146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on D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7360" y="1905120"/>
            <a:ext cx="53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n : int    G |-- 1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f : int → int           G |-- n-1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f(n-1)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23623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2743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89512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1981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1981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 goodness that’s over!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cise typing rules tell us when a program is well-typed and when it is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ype checker is a program that deci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there a deriva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 |-- e :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the typing 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the type checker find typing proof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fact: the typing rules a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yntax-dir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- there is one rule per expression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the checker can invert the typing rules and work backwards toward the proof, just as we did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expression is a function, the only possible proof is one that applies the function typing rules.  So we work backwards from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xpression has at most one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termine whether or not G |-- e : t, 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unique type t’ (if any) of e in 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’ with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Static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tic semantics of MinML is specified by an inductive definition of typing judgmen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 |-- e :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of the type system may be proved b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uction on typing deriv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In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 |-- x : t, then G(x) =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 |-- n : t, then t = 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 |-- true : t, then t = bool, (similarly for fal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 |-- if e then e1 else e2 : t, then G |-- e : bool, G |-- e1 : t and G |-- e2 :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By induction on the typ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on on 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that some property P(G, e, t) holds whenever G |-- e : t, it’s enough to show the property holds for the conclusion of each rule given that it holds for the premi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G, x, G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G, n,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G, true, bool) and P(G, false, bo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(G, e, bool), P(G, e1, t) and P(G, e2, t) then P(G, if e then e1 else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imilarly for functions and applicat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Weakenin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 |-- e : t and G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, then G’ |-- e :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by induction on ty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vely, “junk” in the context doesn’t matte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Substitutio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, x:t |-- e’ : t’ and G |-- e : t, t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 |-- e’[e/x] : t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l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ations key to recent adva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s for giving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ecise defin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programming language constr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precise definitions, we can’t say what programs do let alone whether or not they are 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s for designing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nguage fea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the features may cause programs to abort (stop) but do not lead to completely random, undefined program behavior that might allow an attacker to take over a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s for proving usefu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perties of all pro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itten in a 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ain kinds of errors can’t happen in any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Substitutio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, x:t |-- e’ : t’ and G |-- e : t, t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 |-- e’[e/x] : t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17360" y="583236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, x:t |-- e’ : 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8672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-720" y="44956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, x:t |-- x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33000" y="44956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, x:t |-- x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5105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59040" y="5105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14800" y="52578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49640" y="58323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’[e/x] : 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58672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449568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86560" y="449568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|-- e :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6800" y="5105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40880" y="5105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how a program exec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three different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nota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ompile into a language with a well understoo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xiom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Given some preconditions P, state the (logical) properties Q that hold after execution of a stat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P} e {Q}   Hoare log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ra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Define execution directly by rewriting the program step-by-st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concentrate on the operation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emantics of Min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ment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ition relation re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pression e steps to e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ition consists of execution of a single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determine which instruction to execute n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o transitions fro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::= x | n | true | false | fun f (x : t1) : t2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osed 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ude all values except variables (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we defin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itiv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inML.  These are the atomic transi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operation on numbers (+,-,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al branch when the test is either true or fa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a recursive function to an argument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 of two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ity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77080" y="2666880"/>
            <a:ext cx="19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= 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n1, n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92560" y="30830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56120" y="4994280"/>
            <a:ext cx="23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1 =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n1, n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22360" y="54100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07240" y="5029200"/>
            <a:ext cx="24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1 ≠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n1, n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73840" y="5486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bran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50040" y="30067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ue then e1 else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65880" y="4648320"/>
            <a:ext cx="35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e1 else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47242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1952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a recursiv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substitute the entire function expression for f in 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3640" y="286056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= fun f (x : t1) : t2 =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v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v/f] [v1/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9040" y="3276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, we specify the next instruction to execute by a set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arch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rules specify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rder of eval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MinML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to-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-to-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l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s for defining all kinds of languages, logics an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ML (PC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al semantics &amp;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ment: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y of these slides come from lectures by Robert Harper (CMU) and ideas for the intro came from Martin Ab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choose a left-to-right evaluation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57120" y="30830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e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e1’, 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73680" y="422604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v1, e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v1, e2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39920" y="4648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onditionals we evaluate the instruction inside the test expre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00880" y="3429000"/>
            <a:ext cx="524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 then e1 else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e’ then e1 else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73240" y="38512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are evaluated left-to-right: first the function then the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55280" y="335268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21160" y="377496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6360" y="4743360"/>
            <a:ext cx="20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1 e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21160" y="516564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step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* e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ductively defined by the follow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 if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= e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= e’ for some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40320" y="36576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28800" y="3774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61000" y="3368520"/>
            <a:ext cx="23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e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00600" y="3832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 is th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ts eval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substituted 3 for n and v for f in the body of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21240" y="2590920"/>
            <a:ext cx="56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 f (n:int) :int = if n=0 then 1 else n*f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86080" y="3921120"/>
            <a:ext cx="43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3=0 then 1 else 3*v(3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06080" y="6019920"/>
            <a:ext cx="69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v = fun f (n:int) :int = if n=0 then 1 else n*f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81160" y="2057400"/>
            <a:ext cx="509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3=0 then 1 else 3*v(3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1 else 3*v(3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v (3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v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(if 2=0 then 1 else 2*v(2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(2*(1*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(2*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on on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e that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 implies P(e, e’) for some property P, it suffices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e, e’) for each instruction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P holds for each premise of a search rule, show that it holds for the conclusion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on on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how that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 implies Q(e, e’) it suffices to s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(e, e)   (Q is reflex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’ and Q(e’, e’’) then Q(e, e’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this involves proving some property P of single-step evaluation by in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Values Irreduci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e such that v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spection of th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struction rule has a value on the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arch rule has a value on the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mma (Determina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e there exists at most one e’ such that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duction on the structure of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use irreducibility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applic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1120" y="548640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6640" y="5908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86440" y="5486400"/>
            <a:ext cx="20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 e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1 e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51240" y="5908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5440" y="548640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= fun f (x : t1) : t2 =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v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[v/f] [v1/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15000" y="59436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19:46Z</dcterms:created>
  <dc:creator>Daniel Hutta</dc:creator>
  <dc:description/>
  <dc:language>en-US</dc:language>
  <cp:lastModifiedBy>CS</cp:lastModifiedBy>
  <dcterms:modified xsi:type="dcterms:W3CDTF">2004-06-19T17:16:55Z</dcterms:modified>
  <cp:revision>171</cp:revision>
  <dc:subject/>
  <dc:title>Inductive Definitions</dc:title>
</cp:coreProperties>
</file>