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5331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7304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8840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06452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ocomo-kansai.co.jp/text/products/foma/sh2101v/image/body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rot="16200000">
            <a:off x="5448240" y="3162240"/>
            <a:ext cx="6858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Lectures 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Proof-Carrying Code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ter Lee</a:t>
            </a:r>
            <a:br>
              <a:rPr sz="36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5028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Lecture 3 (of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June 21-22, 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University of Oreg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3066120" y="641340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2004 Summer School on Software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442880" y="2057400"/>
            <a:ext cx="534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float  :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exp -&gt;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instof : exp -&gt;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exp -&gt; exp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dd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jfloat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' jfloat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(fadd E E') jfloa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C:exp} {D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jextends C D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(jinstof C)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(jinstof D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2240" y="1523880"/>
            <a:ext cx="64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Syntax and rules for the Java typ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typing rules in the TC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1625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seems unfortunate to have Java types here, since we are proving properties of x86 machine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o say about this shortly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291600" y="2057400"/>
            <a:ext cx="754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idx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I:exp} {LEN:exp} {SIZE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below I LEN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arridx (add (imul I SIZE) 8) SIZE L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Array4: {M:exp} {A:exp} {T:exp} {OFF:exp} {E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A (jarray T)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M mem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nonnull A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size T 4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arridx OFF 4 (sel4 M (add A 4))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T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safewr4 (add A OFF) 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5960" y="1523880"/>
            <a:ext cx="70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Rules describing the layout of data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22840" y="522936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This “sel4” means the result of reading 4 bytes from heap M at address A+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029200" y="4876920"/>
            <a:ext cx="1752480" cy="45720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iling model rules in the TC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1625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even more unfortunate to have rules that are specific to a single compiler he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ugh it does tend to lead to compact proo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o say about this shortly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637280" y="2725560"/>
            <a:ext cx="370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lt0_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(csubnlt 0 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lt1_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(csubnlt 1 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lt2_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(csubnlt 2 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lt3_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(csubnlt 3 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lt4_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(csubnlt 4 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1640" y="1523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Quick ha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195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Inevitably, “unclean” things are sometimes put into the specific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we know that it is righ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-783" t="30031" r="0" b="-543"/>
          <a:stretch/>
        </p:blipFill>
        <p:spPr>
          <a:xfrm>
            <a:off x="685800" y="1278000"/>
            <a:ext cx="773424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 to our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78480" y="1860480"/>
            <a:ext cx="694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Bcop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bcopy(int[] sr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l = src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=0; i&lt;l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st[i] = src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optimized loop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79680" y="1447920"/>
            <a:ext cx="65358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1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(%ebx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ax, %e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17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0, 12(%eb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(%ebx, %edx, 4), %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0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(%ebp), %e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(%edi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ax, %e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si, 8(%edi, %edx,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di, 12(%eb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9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N_INV(ANN_DOM_LOOP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LF_(/\ (of rm mem ) (of loc1 (jarray jint) ))%_LF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B(EBP,EBX,ECX,ESP,FTOP,LOC4,LOC3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ecx, %e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11240" y="175248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Bounds check on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10160" y="365760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Bounds check on d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560" y="640080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Note: L24 raises the ArrayIndex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ck Sl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89000"/>
              </a:lnSpc>
              <a:spcBef>
                <a:spcPts val="24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procedure will want to use the stack for local stora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24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raises a serious problem because a lot of information is lost by VCGen (such as the value) when data is stored into memo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24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void this problem by assuming that procedures use up to 256 words of stack as regist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optimized code is ea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197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28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e saw previously in the sample progra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n the absence of optimizations, proving the safety of array accesses is relatively ea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28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ed, in this case it is reasonable for VCgen to verify the safety of the array ac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rge Nec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nk Pfe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arl Cr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hong Sha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b Harp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ized target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71600" y="1498680"/>
            <a:ext cx="38383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N_LOCALS(_bcopy__6arrays5BcopyAIAI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globl _bcopy__6arrays5BcopyAI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bcopy__6arrays5BcopyAIA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0, 4(%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sp), %e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bx), %e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cx, %e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2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or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x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0, 8(%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(%esp), 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ax), %e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0120" y="1424160"/>
            <a:ext cx="429552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N_LOOP(INV =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subneq ebx 0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subneq eax 0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subb edx ecx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f rm mem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REG = (EDI,EDX,EFLAGS,FFLAGS,RM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i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(%ebx, %edx, 4), %e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i, 8(%eax, %edx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cx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1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_Jv_ThrowBadArray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N_UNRE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_Jv_ThrowNull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N_UNRE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ized target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00" y="1498680"/>
            <a:ext cx="38383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ANN_LOCALS(_bcopy__6arrays5BcopyAIAI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globl _bcopy__6arrays5BcopyAI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bcopy__6arrays5BcopyAIA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0, 4(%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sp), %e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bx), %e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cx, %e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2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or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x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0, 8(%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(%esp), 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(%eax), %e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40120" y="1424160"/>
            <a:ext cx="429552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ANN_LOOP(INV =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(csubneq ebx 0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(csubneq eax 0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(csubb edx ecx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(of rm mem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         </a:t>
            </a: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MODREG = (EDI,EDX,EFLAGS,FFLAGS,RM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i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(%ebx, %edx, 4), %e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i, 8(%eax, %edx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cx, %e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1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_Jv_ThrowBadArray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ANN_UNRE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_Jv_ThrowNull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90015"/>
                </a:solidFill>
                <a:latin typeface="Courier New"/>
              </a:rPr>
              <a:t>ANN_UNRE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680" y="513720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VCGen requires annotations in order to simplify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ized loop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825480" y="1981080"/>
            <a:ext cx="635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N_LOOP(INV =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subneq ebx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subneq eax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subb edx ecx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f rm mem)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REG = (EDI,EDX,EFLAGS,FFLAGS,RM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(%ebx, %edx, 4), 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, 8(%eax, %edx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295280"/>
            <a:ext cx="33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Essential facts about live variables, used by the compiler to eliminate bounds-checks in the loop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95680" y="2590920"/>
            <a:ext cx="533520" cy="15228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p invari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an see that the compiler “proves” facts such 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&lt; r’ (unsign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a small number of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iler deposits facts about the live variables in the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 eval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16256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contrast to the previous lecture, VCgen is actually performed via a forward sc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slightly simplifies the handling of bran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CGen Process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7760" y="1143000"/>
            <a:ext cx="4143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copy__6arrays5BcopyA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l  $0, s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L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 src, %eb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 4(%ebx), %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l %ecx, %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 L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l  %edx,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l  $0, d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L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 dst, 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 4(%eax), %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7: ANN_LOOP(INV =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5200" y="1147680"/>
            <a:ext cx="4905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0 = (type src_1 (jarray jin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1 = (type dst_1 (jarray jin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2 = (type rm_1 m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3 = (csubneq src_1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bx := src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cx := (sel4 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(add src_1 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4 = (csubgt (sel4 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(add src_1 4))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d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5 = (csubneq dst_1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ax := dst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si := (sel4 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(add dst_1 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CGen Proces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-74520" y="1405080"/>
            <a:ext cx="475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7: ANN_LOOP(INV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ubneq ebx 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ubneq eax 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ubb edx ecx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f rm mem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REG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D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LAGS,FFLAGS,R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l  %esi,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e  L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 8(%ebx,%edx,4), %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l %edi, 8(%eax,%edx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6080" y="1405080"/>
            <a:ext cx="444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6 = (csubb 0 (sel4 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(add src_1 4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di := edi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dx := edx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m := rm_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A7 = (csubb edx_1 (se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rm_2 (add dst_1 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Courier New"/>
              </a:rPr>
              <a:t>!!Verify!! (saferd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b61"/>
                </a:solidFill>
                <a:latin typeface="Courier New"/>
              </a:rPr>
              <a:t>(add src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b61"/>
                </a:solidFill>
                <a:latin typeface="Courier New"/>
              </a:rPr>
              <a:t>(add (imul edx_1 4) 8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er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65720" y="1219320"/>
            <a:ext cx="66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er is asked to verify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360" y="182880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Courier New"/>
              </a:rPr>
              <a:t>(saferd4 (add src_1 (add (imul edx_1 4) 8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120" y="220968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3040" y="2743200"/>
            <a:ext cx="8044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0 = (type src_1 (jarray ji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1 = (type dst_1 (jarray ji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2 = (type rm_1 m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3 = (csubneq src_1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4 = (csubgt (sel4 rm_1 (add src_1 4))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5 = (csubneq dst_1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6 = (csubb 0 (sel4 rm_1 (add src_1 4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A7 = (csubb edx_1 (sel4 rm_2 (add dst_1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6386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er looks in the PCC for a proof of this V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er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219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ddition to the assumptions, the proof may use axioms and proof rules defined by the host,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8640" y="3108240"/>
            <a:ext cx="803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szint : pf (size jint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rdArray4: {M:exp} {A:exp} {T:exp} {OFF:exp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type A (jarray T))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type M mem)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nonnull A)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size T 4)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arridx OFF 4 (sel4 M (add A 4)))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790015"/>
                </a:solidFill>
                <a:latin typeface="Courier New"/>
              </a:rPr>
              <a:t>pf (saferd4 (add A OFF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er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roof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360" y="228600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Courier New"/>
              </a:rPr>
              <a:t>(saferd4 (add src_1 (add (imul edx_1 4) 8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9257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Java specification looks like this (excerp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480" y="42829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Courier New"/>
              </a:rPr>
              <a:t>(rdArray4 A0 A2 (sub0chk A3)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6b61"/>
                </a:solidFill>
                <a:latin typeface="Courier New"/>
              </a:rPr>
              <a:t>(aidxi 4 (below1 A7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proof can be easily validated via LF type che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sterday w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d a certification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a VC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necessitated the use of (untrusted) loop invariant anno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ed a simple pro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ly discussed LF as a representation language for predicates and proo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Proof excerp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LF represent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493640" y="1447920"/>
            <a:ext cx="597204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N_PROOF(_6arrays6Bcopy1_MbcopyAIA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LF_(andi (impi [H_1 : pf (of _p22  (jarray jint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2 : pf (of _p23  (jarray jint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3 : pf (of _p21  mem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4 : pf (ceq (sub _p23 0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5 : pf (cneq (sub _p23 0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rd4 (arrLen H_2 (nullcsubne H_5)) szi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nullcsubne H_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H_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H_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0 : pf (nonnull _p23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1 : pf (of _p64  mem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2 : pf (of _p65  (jarray jint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3 : pf (cnlt (sub _p49 (sel4 _p21 (add _p23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H_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5 : pf (clt (sub _p49 (sel4 _p21 (add _p23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rd4 (arrLen H_2 H_10) szi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7 : pf (cnb (sub _p49 (sel4 _p64 (add _p23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18 : pf (cb (sub _p49 (sel4 _p64 (add _p23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rd4 (arrElem H_2 H_11 H_10 szint (ultcsubb H_18)) szi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20 : pf (ceq (sub _p65 0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21 : pf (cneq (sub _p65 0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rd4 (arrLen H_12 (nullcsubne H_21)) szi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23 : pf (cnb (sub _p49 (sel4 _p64 (add _p65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impi [H_24 : pf (cb (sub _p49 (sel4 _p64 (add _p65 4)))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wr4 (arrElem H_12 H_11 (nullcsubne H_21) szint (ultcsubb H_24)) sz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jintany (sel4 _p64 (add _p23 (add (mul _p49 4) 8)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H_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(ofamem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ndi H_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uei)%_L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43400" y="2819520"/>
            <a:ext cx="37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0015"/>
                </a:solidFill>
                <a:latin typeface="Verdana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, in re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971800"/>
            <a:ext cx="1676160" cy="1447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42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45" idx="1"/>
          </p:cNvCxnSpPr>
          <p:nvPr/>
        </p:nvCxnSpPr>
        <p:spPr>
          <a:xfrm flipV="1" rot="10800000">
            <a:off x="1218600" y="2246760"/>
            <a:ext cx="6096600" cy="1258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5" idx="2"/>
            <a:endCxn id="140" idx="3"/>
          </p:cNvCxnSpPr>
          <p:nvPr/>
        </p:nvCxnSpPr>
        <p:spPr>
          <a:xfrm rot="5400000">
            <a:off x="6575400" y="2499120"/>
            <a:ext cx="1173960" cy="1220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endCxn id="142" idx="1"/>
          </p:cNvCxnSpPr>
          <p:nvPr/>
        </p:nvCxnSpPr>
        <p:spPr>
          <a:xfrm>
            <a:off x="1218960" y="3885840"/>
            <a:ext cx="10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505320"/>
            <a:ext cx="914400" cy="38088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0" idx="1"/>
            <a:endCxn id="148" idx="3"/>
          </p:cNvCxnSpPr>
          <p:nvPr/>
        </p:nvCxnSpPr>
        <p:spPr>
          <a:xfrm flipH="1">
            <a:off x="4494960" y="3695400"/>
            <a:ext cx="381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8" idx="1"/>
            <a:endCxn id="151" idx="3"/>
          </p:cNvCxnSpPr>
          <p:nvPr/>
        </p:nvCxnSpPr>
        <p:spPr>
          <a:xfrm flipH="1">
            <a:off x="1485720" y="3695400"/>
            <a:ext cx="2095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952560" y="3505320"/>
            <a:ext cx="533520" cy="38088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14600"/>
            <a:ext cx="144792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gen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2438280"/>
            <a:ext cx="914400" cy="68580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362320"/>
            <a:ext cx="1447920" cy="759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gen+ in Special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1066680"/>
            <a:ext cx="35053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e VCGen (12,3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bolic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ister fil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-flow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jump, bcond, call, loop hand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-frame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ic obj. file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895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86 (33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ing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-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ling (FT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7440" y="3352680"/>
            <a:ext cx="2847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M (11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160" y="2819520"/>
            <a:ext cx="27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 Alpha (12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59520" y="3962520"/>
            <a:ext cx="2855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68k (25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040" y="1143000"/>
            <a:ext cx="1937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FF (7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390760"/>
            <a:ext cx="198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F (6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197160"/>
            <a:ext cx="221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PE (7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15000">
            <a:off x="1719360" y="4394880"/>
            <a:ext cx="29314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(380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class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ing and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ot. parsing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23400">
            <a:off x="3444120" y="4546440"/>
            <a:ext cx="2702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rect call (27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755000">
            <a:off x="4557960" y="449604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rect jump (350 L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97320" y="576252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: (x86+Java) = 20,000 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720" y="5943600"/>
            <a:ext cx="1157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C co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-783" t="30031" r="0" b="-543"/>
          <a:stretch/>
        </p:blipFill>
        <p:spPr>
          <a:xfrm>
            <a:off x="-304920" y="46080"/>
            <a:ext cx="97538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ality of scaling 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pecialJ, the proofs and annotations are OK, but the VCgen+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, nontrivial C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hine-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iler-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-language 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-policy 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1050840" cy="342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2590920"/>
            <a:ext cx="22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商品イメージ"/>
          <p:cNvPicPr/>
          <p:nvPr/>
        </p:nvPicPr>
        <p:blipFill>
          <a:blip r:embed="rId4"/>
          <a:stretch/>
        </p:blipFill>
        <p:spPr>
          <a:xfrm>
            <a:off x="5562720" y="1143000"/>
            <a:ext cx="3371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ystems design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162560" cy="35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e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poli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mechan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possible approach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se some kind of </a:t>
            </a:r>
            <a:r>
              <a:rPr b="0" i="1" lang="en-US" sz="2800" spc="-1" strike="noStrike">
                <a:solidFill>
                  <a:srgbClr val="0000ff"/>
                </a:solidFill>
                <a:latin typeface="Verdana"/>
              </a:rPr>
              <a:t>universal enforcement mecha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ical elements of a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Untrus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9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is not compromised if these f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9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89000"/>
              </a:lnSpc>
              <a:spcBef>
                <a:spcPts val="90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 compilers and pro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rus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9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sure safety, thes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r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9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89000"/>
              </a:lnSpc>
              <a:spcBef>
                <a:spcPts val="90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er (type checker, VCgen, proof check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89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time libr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89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ouble with tru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83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curit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rusted element might be wr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not clear how much we can do about th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minimize our contribution, but must still trust the operating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 has more bugs than any certified cod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ing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971440"/>
            <a:ext cx="7543800" cy="32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ay we continue by describing how to obtain the annotated programs via certifying compi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ouble with trust, cont’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Extensibilit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one is stuck with the trusted el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changed by develop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trusted element is unsuitable to a developer, too b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hieving exte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71600"/>
            <a:ext cx="86198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Main ai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one should be able to target ou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 to support multiple developers, languages, appl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9000"/>
              </a:lnSpc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89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ingle type or proof system is suitable for every purpose.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ot yet anyway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9000"/>
              </a:lnSpc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trust the type/proof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ndational Certified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“Foundational” CC, we trust on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61760" indent="-3960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afety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6680" indent="-335160">
              <a:lnSpc>
                <a:spcPct val="89000"/>
              </a:lnSpc>
              <a:spcBef>
                <a:spcPts val="90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 terms of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chine architec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1760" indent="-3960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of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6680" indent="-335160">
              <a:lnSpc>
                <a:spcPct val="89000"/>
              </a:lnSpc>
              <a:spcBef>
                <a:spcPts val="90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howing compliance with the safety polic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1760" indent="-3960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on-verifier compon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runtime library, hardware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us, anyone can target FCC, provided they can construct the required proo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ndational P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eliminate VCGen by using a </a:t>
            </a:r>
            <a:r>
              <a:rPr b="0" i="1" lang="en-US" sz="2800" spc="-1" strike="noStrike">
                <a:solidFill>
                  <a:srgbClr val="0000ff"/>
                </a:solidFill>
                <a:latin typeface="Verdana"/>
              </a:rPr>
              <a:t>global invaria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states, 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Inv(</a:t>
            </a:r>
            <a:r>
              <a:rPr b="0" i="1" lang="en-US" sz="28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, the proof must sho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7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Inv(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i="1" lang="en-US" sz="2400" spc="-1" strike="noStrike" baseline="-25000">
                <a:solidFill>
                  <a:srgbClr val="0054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7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:State. Inv(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54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 Inv(Step(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7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:State. Inv(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54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 SP(</a:t>
            </a:r>
            <a:r>
              <a:rPr b="0" i="1" lang="en-US" sz="24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54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“Foundational PCC”, by Appel and Felty, we trust only the safety policy and the proofchecker, not the VC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“foundational”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mid, Shao, et al. [’02] define the global invariant to be a syntactic well-formedness condition on machine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ary, et al. [’03] apply similar ideas in the development of TA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rnard and Lee [’02] use temporal logic specifications as a basis for a foundational PCC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right safety polic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16256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ever the host’s administrator wants it to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in practice the question is not always easy to answer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right safety polic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possibilit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must be semantically equivalent to the source program [Pnueli, Rinard, …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typed in a target language with a sound type system [Morrisett, Crary, …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s a logical specification (perhaps given in a Hoare logic) [Necula, Lee, …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ty in Special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iled output of SpecialJ is designed to link with the Java Virtual Mach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3124440" cy="1752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3581280"/>
            <a:ext cx="12970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ck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8680" y="3809880"/>
            <a:ext cx="15174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C 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1640" y="5705640"/>
            <a:ext cx="59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Is it “safe” for this binary to “spoof” sta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200" idx="3"/>
            <a:endCxn id="199" idx="3"/>
          </p:cNvCxnSpPr>
          <p:nvPr/>
        </p:nvCxnSpPr>
        <p:spPr>
          <a:xfrm flipV="1">
            <a:off x="7502400" y="4282200"/>
            <a:ext cx="194400" cy="1652040"/>
          </a:xfrm>
          <a:prstGeom prst="curvedConnector5">
            <a:avLst>
              <a:gd name="adj1" fmla="val 217996"/>
              <a:gd name="adj2" fmla="val 50000"/>
              <a:gd name="adj3" fmla="val 217996"/>
            </a:avLst>
          </a:prstGeom>
          <a:ln w="25560">
            <a:solidFill>
              <a:srgbClr val="790015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057400" y="4191120"/>
            <a:ext cx="12970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T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42880" y="2057400"/>
            <a:ext cx="534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float  :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exp -&gt;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instof : exp -&gt;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exp -&gt; exp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dd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jfloat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' jfloat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(fadd E E') jfloa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C:exp} {D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jextends C D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(jinstof C)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of E (jinstof D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2240" y="1523880"/>
            <a:ext cx="64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Syntax and rules for the Java typ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exibility in safety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ry safety seems to be adequate for many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even this much is tricky to spec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ing an LF signature + VCgen, or else rules for a type system, only “indirectly” specifies the safety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xample of certifying compi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978480" y="1860480"/>
            <a:ext cx="694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Bcop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bcopy(int[] sr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l = src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=0; i&lt;l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st[i] = src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language for safety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ar-tim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order temporal logic [Manna/Pnueli 80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ime with CPU c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Verdana"/>
              </a:rPr>
              <a:t>An attractive policy no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ise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c &lt;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ll-understood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express variety of securit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ing type saf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oral logic PCC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Bernard &amp; Lee 0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de safety policy (i.e., transition relation for safe execution) formally in temporal logic (following [Pnueli 77]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 directly that the program satisfies the safety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de the PCC certificate as a logic program from the combination of safety policy and pro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L-P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icate is encoded as a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logic progr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in LF) that, when executed, generates a pro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ertificate extracts its own V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ificate specializes the VCgen, logic, and annotations to the give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act that the certificate does its job correctly can be validated syntact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gineering tradeof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162560" cy="35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ertificates in foundational systems prove “more”, and hence there is likely to be greater over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gineering tradeoffs in TL-P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Explicit security policies, easier to trust, change, and maint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No VC generator, much less C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No built-in flow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But: Proof checking is much s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checking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prototype in naïve in several ways, and should impr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so represents one end of the spectru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re a “sweet spot”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023840" y="5867280"/>
            <a:ext cx="5791320" cy="0"/>
          </a:xfrm>
          <a:prstGeom prst="line">
            <a:avLst/>
          </a:prstGeom>
          <a:ln w="12600">
            <a:solidFill>
              <a:srgbClr val="18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23840" y="5638680"/>
            <a:ext cx="0" cy="457200"/>
          </a:xfrm>
          <a:prstGeom prst="line">
            <a:avLst/>
          </a:prstGeom>
          <a:ln w="12600">
            <a:solidFill>
              <a:srgbClr val="18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15160" y="5638680"/>
            <a:ext cx="0" cy="457200"/>
          </a:xfrm>
          <a:prstGeom prst="line">
            <a:avLst/>
          </a:prstGeom>
          <a:ln w="12600">
            <a:solidFill>
              <a:srgbClr val="18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8920" y="60199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400"/>
                </a:solidFill>
                <a:latin typeface="Times New Roman"/>
              </a:rPr>
              <a:t>Necula/Lee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00240" y="59436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400"/>
                </a:solidFill>
                <a:latin typeface="Times New Roman"/>
              </a:rPr>
              <a:t>Bernard/Lee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24440" y="5638680"/>
            <a:ext cx="0" cy="457200"/>
          </a:xfrm>
          <a:prstGeom prst="line">
            <a:avLst/>
          </a:prstGeom>
          <a:ln w="12600">
            <a:solidFill>
              <a:srgbClr val="18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urrent ques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ce we use SpecialJ for our experiments, the certificates provide only type safe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, in principle, can now enforce properties in temporal-log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nerate the certifica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CC shows promise as a practical code certification techn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significant engineering hurdles remain, howe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ts of interesting future research dir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4000" y="2743200"/>
            <a:ext cx="38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790015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672480" y="2189160"/>
            <a:ext cx="7678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\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(exp -&gt; pred)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P -&gt; pf Q -&gt; pf (/\ P Q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(/\ P Q) -&gt; pf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(/\ P Q) -&gt; pf 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760" y="140328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Standard syntax and rules for first-order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3208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Type of valid proofs, indexed by predic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520" y="3809880"/>
            <a:ext cx="1371600" cy="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8108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Syntax of predic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2438280"/>
            <a:ext cx="609840" cy="15264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61722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Inferenc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86200" y="5410080"/>
            <a:ext cx="1371600" cy="99072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3580920" y="2362320"/>
            <a:ext cx="1752840" cy="1098360"/>
          </a:xfrm>
          <a:prstGeom prst="line">
            <a:avLst/>
          </a:prstGeom>
          <a:ln w="255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" y="2265480"/>
            <a:ext cx="836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exp -&gt; exp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exp -&gt; exp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q_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 pf (csubeq  E E')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csuble  E E'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dist+: {E:exp} {E':exp} {D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= (mod (+ E E') D) (mod (+ (mod E D) E') D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sy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 pf (=  E E') -&gt; pf (=  E' 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gt;sy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 pf (&lt;&gt; E E') -&gt; pf (&lt;&gt; E' 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E:exp} {E':exp} {E'':exp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 (= E E') -&gt; pf (= E' E'') -&gt; pf (= E E''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rp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851400" y="1523880"/>
            <a:ext cx="68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yntax and rules for arithmetic and 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0574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csuble” means </a:t>
            </a:r>
            <a:r>
              <a:rPr b="1" lang="en-US" sz="2400" spc="-1" strike="noStrike">
                <a:solidFill>
                  <a:srgbClr val="790015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 in the x86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 for arithme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that we avoid the need for a sophisticated decision procedure for a fragment of integer arithme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uitively, the prover only needs to be as “smart” as the compil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ithme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also that the “safety critical” arithmetic (i.e., array-element address computations) generated by typical compilers is simple and highly structu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multiplications only by 2, 4, or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man programmers, on the other hand, may require much more sophisticated theorem prov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0:32Z</dcterms:created>
  <dc:creator>Peter Lee</dc:creator>
  <dc:description/>
  <cp:keywords/>
  <dc:language>en-US</dc:language>
  <cp:lastModifiedBy>Peter Lee</cp:lastModifiedBy>
  <cp:lastPrinted>1999-01-11T22:39:52Z</cp:lastPrinted>
  <dcterms:modified xsi:type="dcterms:W3CDTF">2004-06-22T21:30:01Z</dcterms:modified>
  <cp:revision>284</cp:revision>
  <dc:subject/>
  <dc:title>Mobility, Security, and Proof-Carrying Code</dc:title>
</cp:coreProperties>
</file>