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5331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73040" indent="-1576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54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88400" indent="-1576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06452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 rot="16200000">
            <a:off x="5448240" y="3162240"/>
            <a:ext cx="6858000" cy="53352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Lectures on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Proof-Carrying Code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ter Lee</a:t>
            </a:r>
            <a:br>
              <a:rPr sz="36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5028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Lecture 2 (of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June 21-22, 20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University of Oreg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3066120" y="641340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2004 Summer School on Software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ce we will usually have the postcondition (true,0) for the last statement in the program, we can define a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cg(S, (P,i)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P’,i’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.e., given a statement and its postcondition, generate the weakest precond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Cgen (easy par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547200" y="1676520"/>
            <a:ext cx="825768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skip, (P,e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(P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(P,e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vcg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vcg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(P,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x:=e’, (P,e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([e’/x]P, [e’/x]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if b then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ls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(P,e)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b?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b?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re 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= vcg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(P,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 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= vcg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(P,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use e’, (P,e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(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’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’ + (e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? e :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acquire e’, (P,e)) = (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’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, e-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384560" y="2971800"/>
            <a:ext cx="182664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1680" y="431316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5720" y="3276720"/>
            <a:ext cx="25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2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2+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000" y="5867280"/>
            <a:ext cx="6665040" cy="78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g(use e’, (P,e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(P 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’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e’ + (e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? e: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g(acquire e’, (P,e)) = (P 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’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e-e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4760" y="2438280"/>
            <a:ext cx="37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2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3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2+0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3733920"/>
            <a:ext cx="2286000" cy="83808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1440" y="528"/>
                </a:moveTo>
                <a:cubicBezTo>
                  <a:pt x="1128" y="380"/>
                  <a:pt x="816" y="232"/>
                  <a:pt x="576" y="144"/>
                </a:cubicBezTo>
                <a:cubicBezTo>
                  <a:pt x="336" y="56"/>
                  <a:pt x="168" y="28"/>
                  <a:pt x="0" y="0"/>
                </a:cubicBezTo>
              </a:path>
            </a:pathLst>
          </a:custGeom>
          <a:noFill/>
          <a:ln w="25560">
            <a:solidFill>
              <a:srgbClr val="79001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327480"/>
            <a:ext cx="2552760" cy="203040"/>
          </a:xfrm>
          <a:custGeom>
            <a:avLst/>
            <a:gdLst/>
            <a:ahLst/>
            <a:rect l="l" t="t" r="r" b="b"/>
            <a:pathLst>
              <a:path w="1608" h="128">
                <a:moveTo>
                  <a:pt x="1488" y="112"/>
                </a:moveTo>
                <a:cubicBezTo>
                  <a:pt x="1548" y="120"/>
                  <a:pt x="1608" y="128"/>
                  <a:pt x="1440" y="112"/>
                </a:cubicBezTo>
                <a:cubicBezTo>
                  <a:pt x="1272" y="96"/>
                  <a:pt x="720" y="32"/>
                  <a:pt x="480" y="16"/>
                </a:cubicBezTo>
                <a:cubicBezTo>
                  <a:pt x="240" y="0"/>
                  <a:pt x="120" y="8"/>
                  <a:pt x="0" y="16"/>
                </a:cubicBezTo>
              </a:path>
            </a:pathLst>
          </a:custGeom>
          <a:noFill/>
          <a:ln w="25560">
            <a:solidFill>
              <a:srgbClr val="79001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666880"/>
            <a:ext cx="1828800" cy="343080"/>
          </a:xfrm>
          <a:custGeom>
            <a:avLst/>
            <a:gdLst/>
            <a:ahLst/>
            <a:rect l="l" t="t" r="r" b="b"/>
            <a:pathLst>
              <a:path w="1152" h="216">
                <a:moveTo>
                  <a:pt x="1152" y="0"/>
                </a:moveTo>
                <a:cubicBezTo>
                  <a:pt x="904" y="8"/>
                  <a:pt x="656" y="16"/>
                  <a:pt x="480" y="48"/>
                </a:cubicBezTo>
                <a:cubicBezTo>
                  <a:pt x="304" y="80"/>
                  <a:pt x="176" y="168"/>
                  <a:pt x="96" y="192"/>
                </a:cubicBezTo>
                <a:cubicBezTo>
                  <a:pt x="16" y="216"/>
                  <a:pt x="8" y="204"/>
                  <a:pt x="0" y="192"/>
                </a:cubicBezTo>
              </a:path>
            </a:pathLst>
          </a:custGeom>
          <a:noFill/>
          <a:ln w="25560">
            <a:solidFill>
              <a:srgbClr val="79001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70360" y="2604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: (true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77560" y="380988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st: (true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4200" y="1569960"/>
            <a:ext cx="32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Prove: Pre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(true,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003680" y="2971800"/>
            <a:ext cx="1826640" cy="157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9720" y="4419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1120" y="3809880"/>
            <a:ext cx="25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1+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3400" y="2743200"/>
            <a:ext cx="49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2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3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2+1+0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22800" y="3276720"/>
            <a:ext cx="37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2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2+1+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2000" y="5867280"/>
            <a:ext cx="6665040" cy="78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g(use e’, (P,e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(P 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’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e’ + (e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? e: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g(acquire e’, (P,e)) = (P 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’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e-e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384200" y="1752480"/>
            <a:ext cx="2375280" cy="268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 u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u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3280" y="5410080"/>
            <a:ext cx="50727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g(if b then s1 else s2, (P,e)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? P1:P2, b? e1: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re (P1,e1) = vcg(s1,(P,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  (P2,e2) = vcg(s2,(P,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60440" y="4419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9760" y="36576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4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1120" y="31240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4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0840" y="25909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5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35680" y="20574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b?true:true, b?9: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6280" y="144792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9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(b?9:8) -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384200" y="1752480"/>
            <a:ext cx="2375280" cy="268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 u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u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3280" y="5410080"/>
            <a:ext cx="50727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g(if b then s1 else s2, (P,e)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? P1:P2, b? e1: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re (P1,e1) = vcg(s1,(P,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  (P2,e2) = vcg(s2,(P,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0440" y="4419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9760" y="36576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4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1120" y="31240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4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50840" y="25909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5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35680" y="20574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b?true:true, b?9: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6280" y="144792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8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(b?9:8) -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81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ps cause an obvious problem for the computation of weakest pre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97880" y="2971800"/>
            <a:ext cx="3106800" cy="324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i&lt;n) 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455920"/>
            <a:ext cx="2517840" cy="325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nipping up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124080" cy="68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mple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784080" y="3533760"/>
            <a:ext cx="685800" cy="914400"/>
          </a:xfrm>
          <a:prstGeom prst="flowChartDecision">
            <a:avLst/>
          </a:prstGeom>
          <a:solidFill>
            <a:srgbClr val="005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9880" y="2695680"/>
            <a:ext cx="533160" cy="304560"/>
          </a:xfrm>
          <a:prstGeom prst="flowChartAlternateProcess">
            <a:avLst/>
          </a:prstGeom>
          <a:solidFill>
            <a:srgbClr val="005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3838680"/>
            <a:ext cx="533160" cy="304560"/>
          </a:xfrm>
          <a:prstGeom prst="flowChartAlternateProcess">
            <a:avLst/>
          </a:prstGeom>
          <a:solidFill>
            <a:srgbClr val="005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9880" y="4981680"/>
            <a:ext cx="533160" cy="304560"/>
          </a:xfrm>
          <a:prstGeom prst="flowChartAlternateProcess">
            <a:avLst/>
          </a:prstGeom>
          <a:solidFill>
            <a:srgbClr val="005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31840" y="3000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1840" y="4448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9880" y="3998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343240" y="33015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31480" y="3301920"/>
            <a:ext cx="121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9600" y="3271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05520" y="2452680"/>
            <a:ext cx="2106720" cy="1604880"/>
            <a:chOff x="6005520" y="2452680"/>
            <a:chExt cx="2106720" cy="1604880"/>
          </a:xfrm>
        </p:grpSpPr>
        <p:sp>
          <p:nvSpPr>
            <p:cNvPr id="128" name=""/>
            <p:cNvSpPr/>
            <p:nvPr/>
          </p:nvSpPr>
          <p:spPr>
            <a:xfrm>
              <a:off x="6005520" y="2470320"/>
              <a:ext cx="2106720" cy="1587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2760" y="2927520"/>
              <a:ext cx="685800" cy="914400"/>
            </a:xfrm>
            <a:prstGeom prst="flowChartDecision">
              <a:avLst/>
            </a:prstGeom>
            <a:solidFill>
              <a:srgbClr val="005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8040" y="3232080"/>
              <a:ext cx="533520" cy="304920"/>
            </a:xfrm>
            <a:prstGeom prst="flowChartAlternateProcess">
              <a:avLst/>
            </a:prstGeom>
            <a:solidFill>
              <a:srgbClr val="005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8560" y="3392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621560" y="2680920"/>
              <a:ext cx="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933960" y="2681280"/>
              <a:ext cx="68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07320" y="281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960" y="24526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304280" y="2619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30720" y="1893960"/>
            <a:ext cx="1384200" cy="2163600"/>
            <a:chOff x="4230720" y="1893960"/>
            <a:chExt cx="1384200" cy="2163600"/>
          </a:xfrm>
        </p:grpSpPr>
        <p:sp>
          <p:nvSpPr>
            <p:cNvPr id="138" name=""/>
            <p:cNvSpPr/>
            <p:nvPr/>
          </p:nvSpPr>
          <p:spPr>
            <a:xfrm>
              <a:off x="4230720" y="1893960"/>
              <a:ext cx="1384200" cy="2163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41680" y="2971800"/>
              <a:ext cx="685800" cy="914400"/>
            </a:xfrm>
            <a:prstGeom prst="flowChartDecision">
              <a:avLst/>
            </a:prstGeom>
            <a:solidFill>
              <a:srgbClr val="005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7480" y="2133720"/>
              <a:ext cx="533160" cy="304560"/>
            </a:xfrm>
            <a:prstGeom prst="flowChartAlternateProcess">
              <a:avLst/>
            </a:prstGeom>
            <a:solidFill>
              <a:srgbClr val="005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8944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43480" y="2819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75920" y="2057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338120" y="48290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5120" y="137160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73720" y="4238640"/>
            <a:ext cx="1752480" cy="1947960"/>
            <a:chOff x="5373720" y="4238640"/>
            <a:chExt cx="1752480" cy="1947960"/>
          </a:xfrm>
        </p:grpSpPr>
        <p:sp>
          <p:nvSpPr>
            <p:cNvPr id="147" name=""/>
            <p:cNvSpPr/>
            <p:nvPr/>
          </p:nvSpPr>
          <p:spPr>
            <a:xfrm>
              <a:off x="5373720" y="4238640"/>
              <a:ext cx="1752480" cy="1947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4400" y="5686560"/>
              <a:ext cx="533520" cy="304560"/>
            </a:xfrm>
            <a:prstGeom prst="flowChartAlternateProcess">
              <a:avLst/>
            </a:prstGeom>
            <a:solidFill>
              <a:srgbClr val="005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6360" y="51530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43920" y="42386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2640" y="55339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38960" y="4343400"/>
              <a:ext cx="685800" cy="914400"/>
            </a:xfrm>
            <a:prstGeom prst="flowChartDecision">
              <a:avLst/>
            </a:prstGeom>
            <a:solidFill>
              <a:srgbClr val="005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038480" y="1371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oken into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p invari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thus require that the programmer or compiler insert invariants to cut the loo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370960" y="2971800"/>
            <a:ext cx="3193560" cy="324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i&lt;n) 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ith (i</a:t>
            </a:r>
            <a:r>
              <a:rPr b="1" lang="en-US" sz="2400" spc="-1" strike="noStrike">
                <a:solidFill>
                  <a:srgbClr val="0000ff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, n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8680" y="62038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An annotated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97720" y="4419720"/>
            <a:ext cx="22989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: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gen for loo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513720" y="2457360"/>
            <a:ext cx="7223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cg(while b do s with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, (P,e)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.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’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P’,e’) = vcg(s,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the variables modified 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loose 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ified code is an old idea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Butler Lampson’s 1974 paper: An open operating system for a single-user machine.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perating Systems Proceedings of an International Sympos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LNCS 16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847080" y="1676520"/>
            <a:ext cx="3193560" cy="435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i&lt;n) 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with (i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,n-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85720" y="5791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true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52578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i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, n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90960" y="47242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i+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, n-(i+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92480" y="41911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i+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n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8040" y="2666880"/>
            <a:ext cx="383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i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i.i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cond(i&lt;n,i+1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n-i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-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-i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23240" y="213372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0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·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i. …, n-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10640" y="152388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(… \and n</a:t>
            </a:r>
            <a:r>
              <a:rPr b="1" lang="en-US" sz="2400" spc="-1" strike="noStrike">
                <a:solidFill>
                  <a:srgbClr val="790015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790015"/>
                </a:solidFill>
                <a:latin typeface="Comic Sans MS"/>
              </a:rPr>
              <a:t>0, n-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r easy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257480" y="1676520"/>
            <a:ext cx="6895440" cy="3934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Sta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cquire 1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1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ith (i</a:t>
            </a:r>
            <a:r>
              <a:rPr b="1" lang="en-US" sz="36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0000, 10000-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61240" y="6095880"/>
            <a:ext cx="63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Typical loop invariant for “standard for loo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r hopeless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41400" y="2514600"/>
            <a:ext cx="5392800" cy="283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Dyna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read() !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cquir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ith (true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4400" y="609588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Typical loop invariant for “Java-style check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r interesting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757160" y="1523880"/>
            <a:ext cx="5392800" cy="448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 := read(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cquire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ith (i</a:t>
            </a:r>
            <a:r>
              <a:rPr b="1" lang="en-US" sz="36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, N-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so intere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414080" y="1828800"/>
            <a:ext cx="6490080" cy="448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Also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read() !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cquire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ith (i</a:t>
            </a:r>
            <a:r>
              <a:rPr b="1" lang="en-US" sz="36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00, 100-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otating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are these annotations to be insert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grammer could do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iler could start with code that has every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mmediately preceded by 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then have a code-motion optimization problem to sol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Gen’s Complex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complica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4920" indent="-2214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dealing with machine code, then VCGen must parse machine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4920" indent="-2214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ing the assumptions and current context in a memory-efficient manner is not eas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that Sun’s kVM does verification in a single pass and only 8KB RAM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 Explo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3520" y="1905120"/>
            <a:ext cx="2819160" cy="3886200"/>
            <a:chOff x="533520" y="1905120"/>
            <a:chExt cx="2819160" cy="3886200"/>
          </a:xfrm>
        </p:grpSpPr>
        <p:sp>
          <p:nvSpPr>
            <p:cNvPr id="186" name=""/>
            <p:cNvSpPr/>
            <p:nvPr/>
          </p:nvSpPr>
          <p:spPr>
            <a:xfrm>
              <a:off x="1447920" y="1905120"/>
              <a:ext cx="9903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==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3581280"/>
              <a:ext cx="9903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==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920" y="5486400"/>
              <a:ext cx="9903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(a,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2743200"/>
              <a:ext cx="9903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:=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2743200"/>
              <a:ext cx="9903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 :=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4495680"/>
              <a:ext cx="9903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:=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4495680"/>
              <a:ext cx="9903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 :=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86" idx="2"/>
              <a:endCxn id="189" idx="0"/>
            </p:cNvCxnSpPr>
            <p:nvPr/>
          </p:nvCxnSpPr>
          <p:spPr>
            <a:xfrm flipH="1">
              <a:off x="1028520" y="2222280"/>
              <a:ext cx="915120" cy="508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6" idx="2"/>
              <a:endCxn id="190" idx="0"/>
            </p:cNvCxnSpPr>
            <p:nvPr/>
          </p:nvCxnSpPr>
          <p:spPr>
            <a:xfrm>
              <a:off x="1943280" y="2222280"/>
              <a:ext cx="915120" cy="508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89" idx="2"/>
              <a:endCxn id="187" idx="0"/>
            </p:cNvCxnSpPr>
            <p:nvPr/>
          </p:nvCxnSpPr>
          <p:spPr>
            <a:xfrm>
              <a:off x="1028880" y="3060360"/>
              <a:ext cx="915120" cy="508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90" idx="2"/>
              <a:endCxn id="187" idx="0"/>
            </p:cNvCxnSpPr>
            <p:nvPr/>
          </p:nvCxnSpPr>
          <p:spPr>
            <a:xfrm flipH="1">
              <a:off x="1942920" y="3060360"/>
              <a:ext cx="915120" cy="508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7" idx="2"/>
              <a:endCxn id="191" idx="0"/>
            </p:cNvCxnSpPr>
            <p:nvPr/>
          </p:nvCxnSpPr>
          <p:spPr>
            <a:xfrm flipH="1">
              <a:off x="1028520" y="3898440"/>
              <a:ext cx="915120" cy="58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7" idx="2"/>
              <a:endCxn id="192" idx="0"/>
            </p:cNvCxnSpPr>
            <p:nvPr/>
          </p:nvCxnSpPr>
          <p:spPr>
            <a:xfrm>
              <a:off x="1943280" y="3898440"/>
              <a:ext cx="915120" cy="58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91" idx="2"/>
              <a:endCxn id="188" idx="0"/>
            </p:cNvCxnSpPr>
            <p:nvPr/>
          </p:nvCxnSpPr>
          <p:spPr>
            <a:xfrm>
              <a:off x="1028880" y="4812840"/>
              <a:ext cx="915120" cy="661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2" idx="2"/>
              <a:endCxn id="188" idx="0"/>
            </p:cNvCxnSpPr>
            <p:nvPr/>
          </p:nvCxnSpPr>
          <p:spPr>
            <a:xfrm flipH="1">
              <a:off x="1942920" y="4812840"/>
              <a:ext cx="915120" cy="661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1" name=""/>
          <p:cNvSpPr/>
          <p:nvPr/>
        </p:nvSpPr>
        <p:spPr>
          <a:xfrm>
            <a:off x="3835080" y="2233440"/>
            <a:ext cx="446940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=b  =&gt; (x=c  =&gt; sa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y,c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&gt;c =&gt; sa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x,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&lt;&gt;b =&gt; (a=x  =&gt; sa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y,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&lt;&gt;x =&gt; sa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,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880" y="5197320"/>
            <a:ext cx="43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nential growth in siz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C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 Explo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905120"/>
            <a:ext cx="99036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=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809880"/>
            <a:ext cx="9903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=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486400"/>
            <a:ext cx="9903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(a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2743200"/>
            <a:ext cx="9903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743200"/>
            <a:ext cx="9903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495680"/>
            <a:ext cx="9903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4495680"/>
            <a:ext cx="9903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:=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4" idx="2"/>
            <a:endCxn id="207" idx="0"/>
          </p:cNvCxnSpPr>
          <p:nvPr/>
        </p:nvCxnSpPr>
        <p:spPr>
          <a:xfrm flipH="1">
            <a:off x="1028520" y="2222280"/>
            <a:ext cx="915120" cy="508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4" idx="2"/>
            <a:endCxn id="208" idx="0"/>
          </p:cNvCxnSpPr>
          <p:nvPr/>
        </p:nvCxnSpPr>
        <p:spPr>
          <a:xfrm>
            <a:off x="1943280" y="2222280"/>
            <a:ext cx="915120" cy="508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7" idx="2"/>
            <a:endCxn id="214" idx="0"/>
          </p:cNvCxnSpPr>
          <p:nvPr/>
        </p:nvCxnSpPr>
        <p:spPr>
          <a:xfrm>
            <a:off x="1028520" y="3060720"/>
            <a:ext cx="952920" cy="35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8" idx="2"/>
            <a:endCxn id="214" idx="0"/>
          </p:cNvCxnSpPr>
          <p:nvPr/>
        </p:nvCxnSpPr>
        <p:spPr>
          <a:xfrm flipH="1">
            <a:off x="1980360" y="3060720"/>
            <a:ext cx="877320" cy="35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9" idx="0"/>
          </p:cNvCxnSpPr>
          <p:nvPr/>
        </p:nvCxnSpPr>
        <p:spPr>
          <a:xfrm flipH="1">
            <a:off x="1028520" y="4127400"/>
            <a:ext cx="915120" cy="35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10" idx="0"/>
          </p:cNvCxnSpPr>
          <p:nvPr/>
        </p:nvCxnSpPr>
        <p:spPr>
          <a:xfrm>
            <a:off x="1943280" y="4127400"/>
            <a:ext cx="915120" cy="35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9" idx="2"/>
            <a:endCxn id="206" idx="0"/>
          </p:cNvCxnSpPr>
          <p:nvPr/>
        </p:nvCxnSpPr>
        <p:spPr>
          <a:xfrm>
            <a:off x="1028880" y="4812840"/>
            <a:ext cx="915120" cy="66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2"/>
            <a:endCxn id="206" idx="0"/>
          </p:cNvCxnSpPr>
          <p:nvPr/>
        </p:nvCxnSpPr>
        <p:spPr>
          <a:xfrm flipH="1">
            <a:off x="1942920" y="4812840"/>
            <a:ext cx="915120" cy="66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914400" y="3429000"/>
            <a:ext cx="2133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: P(a,b,c,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35080" y="2233440"/>
            <a:ext cx="477432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=b  =&gt; P(x,b,c,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&lt;&gt;b =&gt; P(a,b,x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’,c’. P(a’,b,c’,x) 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’=c’  =&gt; sa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y,c’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’&lt;&gt;c’ =&gt; sa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’,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50292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Growth can usuall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controlled by careful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Verdana"/>
              </a:rPr>
              <a:t>of just the right “join-point” invari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89840" y="2971800"/>
            <a:ext cx="572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0015"/>
                </a:solidFill>
                <a:latin typeface="Verdana"/>
              </a:rPr>
              <a:t>Proving th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 Grande Su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8280" y="1300320"/>
          <a:ext cx="895032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300320"/>
                    <a:ext cx="89503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73280" y="29718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ng predic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that left-hand side of implications is restricted to anno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cg() respects this, as long as loop invariants are restricted to anno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078920" y="3809880"/>
            <a:ext cx="274104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::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? P :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78400" y="3510000"/>
            <a:ext cx="22989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: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48240" y="4890960"/>
            <a:ext cx="219240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: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 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89120" y="571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48400" y="42814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6360" y="649116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boolean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mple pr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can thus use a simple prover with functiona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e(annotation,pred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re prove(A,P) is true iff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, A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holds for all values of the variables introduced b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mple pr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378360" y="2138400"/>
            <a:ext cx="877608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ve(A,b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t(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ve(A,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prove(A,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ove(A,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ve(A,b?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prove(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,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ve(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,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ve(A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prove(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ve(A,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.P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prove(A,[a/i]P) (a fr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n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ndness is stated in terms of a formal operational semantic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sentially, it states that i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cg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lds, then all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atements succ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2880" y="2971800"/>
            <a:ext cx="512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0015"/>
                </a:solidFill>
                <a:latin typeface="Verdana"/>
              </a:rPr>
              <a:t>Logical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ical framewo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dinburgh Logical Framework (LF) is a language for specifying logic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848720" cy="1235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62120" y="4724280"/>
            <a:ext cx="7619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F is a lambda calculus with dependent types, and a powerful language for writing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formal proof system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dinburgh Logical Framework language, or LF, provides an expressive language for proofs-as-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rthermore, it use of dependent types allows, among other things, the axioms and rules of inference to be specified as we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fenning’s 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68600" y="4267080"/>
            <a:ext cx="438696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\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(exp -&gt; pred)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37160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researchers have developed logic programming languages based on these princi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special interest, as it is based on LF, is Pfenning’s Elf language an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4330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This small example defines the abstract syntax of a small language of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f ex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for 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343400" cy="390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8920" y="2571840"/>
            <a:ext cx="39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written in Elf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65320" y="3297240"/>
            <a:ext cx="55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l([a:pred] all([b:pre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&gt; (/\ a b) (/\ b a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6200" y="4648320"/>
            <a:ext cx="438696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\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pred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(exp -&gt; pred) -&gt; p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 rules in 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types allow us to define the proof rules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225360" y="2971800"/>
            <a:ext cx="8776080" cy="33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red -&gt;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pf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:pred} {Q:pred} pf P -&gt; pf Q -&gt; pf (/\ P Q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:pred} {Q:pred} pf (/\ P Q) -&gt; pf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:pred} {Q:pred} pf (/\ P Q) -&gt; pf 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1:pred} {P2:pred} (pf P1 -&gt; pf P2) -&gt; pf (=&gt; P1 P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{P1:exp -&gt; pred} ({X:exp} pf (P1 X)) -&gt; pf (all P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exp -&gt; 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 Grande Benchmark Su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90720" y="1676520"/>
          <a:ext cx="71611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1611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1440" y="297180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s in 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in turns allows us to have easy-to-validate proo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1303920" y="3514680"/>
            <a:ext cx="6947280" cy="265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mpi (/\ a b) (/\ b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[ab:pf(/\ a b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ndi b a (ander a b 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ndel a b ab))))…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([a:exp] all([b:ex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&gt; (/\ a b) (/\ b a)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F as the internal l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1371600"/>
            <a:ext cx="3353040" cy="525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371600"/>
            <a:ext cx="3048120" cy="3733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4076640"/>
            <a:ext cx="2590920" cy="457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523880"/>
            <a:ext cx="2590920" cy="2057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190512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65760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72280" y="5486400"/>
            <a:ext cx="2209680" cy="9907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3276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50292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4004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415296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3680" y="4680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10320" y="6248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5022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LF is the language of the blu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97480" y="2967120"/>
            <a:ext cx="1474920" cy="264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447920" y="3100320"/>
            <a:ext cx="1952640" cy="2386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369120" y="2895480"/>
            <a:ext cx="1860480" cy="2743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4280" y="1523880"/>
            <a:ext cx="2286000" cy="1295640"/>
          </a:xfrm>
          <a:prstGeom prst="wedgeRoundRectCallout">
            <a:avLst>
              <a:gd name="adj1" fmla="val 46736"/>
              <a:gd name="adj2" fmla="val 8639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</a:t>
            </a: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ruction is danger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369120" y="2895480"/>
            <a:ext cx="1860480" cy="2743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733920" y="1219320"/>
            <a:ext cx="3809880" cy="1600200"/>
          </a:xfrm>
          <a:prstGeom prst="wedgeRoundRectCallout">
            <a:avLst>
              <a:gd name="adj1" fmla="val 34041"/>
              <a:gd name="adj2" fmla="val 794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am convinced it is safe to execute only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([a:exp] (all([b:exp] (=&gt; (/\ a b) (/\ b a)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4600" y="6858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A verificatio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914400"/>
            <a:ext cx="1828800" cy="1295280"/>
          </a:xfrm>
          <a:custGeom>
            <a:avLst/>
            <a:gdLst/>
            <a:ahLst/>
            <a:rect l="l" t="t" r="r" b="b"/>
            <a:pathLst>
              <a:path w="1152" h="816">
                <a:moveTo>
                  <a:pt x="864" y="0"/>
                </a:moveTo>
                <a:cubicBezTo>
                  <a:pt x="1008" y="148"/>
                  <a:pt x="1152" y="296"/>
                  <a:pt x="1008" y="432"/>
                </a:cubicBezTo>
                <a:cubicBezTo>
                  <a:pt x="864" y="568"/>
                  <a:pt x="432" y="692"/>
                  <a:pt x="0" y="816"/>
                </a:cubicBezTo>
              </a:path>
            </a:pathLst>
          </a:custGeom>
          <a:noFill/>
          <a:ln w="25560">
            <a:solidFill>
              <a:srgbClr val="79001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12720" y="2362320"/>
            <a:ext cx="1078200" cy="3276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369120" y="2895480"/>
            <a:ext cx="1860480" cy="2743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990720"/>
            <a:ext cx="5791320" cy="1371600"/>
          </a:xfrm>
          <a:prstGeom prst="wedgeRoundRectCallout">
            <a:avLst>
              <a:gd name="adj1" fmla="val -27328"/>
              <a:gd name="adj2" fmla="val 79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mpi (/\ a b) (/\ b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[ab:pf(/\ a b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ndi b a (ander a b a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ndel a b ab))))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2249640" y="2514600"/>
            <a:ext cx="493560" cy="579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287440" y="24685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819520" cy="2639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512720" y="2362320"/>
            <a:ext cx="1078200" cy="3276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657600" y="1371600"/>
            <a:ext cx="3429000" cy="1600200"/>
          </a:xfrm>
          <a:prstGeom prst="wedgeRoundRectCallout">
            <a:avLst>
              <a:gd name="adj1" fmla="val 43657"/>
              <a:gd name="adj2" fmla="val 6686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proof typechecks.  I believe you because I believe in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2249640" y="2514600"/>
            <a:ext cx="493560" cy="579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287440" y="24685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 to our case stu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377000" y="2209680"/>
            <a:ext cx="6490080" cy="33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Also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read() !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2144160" y="2514600"/>
            <a:ext cx="4569840" cy="265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 ::=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 :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f e then s el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while e d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s 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us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cquir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ing a VC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define a verification-condition generator for our language, we start by defining the language of predic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1078920" y="3886200"/>
            <a:ext cx="274104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::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? P :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78400" y="3267000"/>
            <a:ext cx="22989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: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48240" y="4648320"/>
            <a:ext cx="219240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: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 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9120" y="5791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48400" y="40384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36360" y="62485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boolean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kest pre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Cgen we define is a simple variant of Dijkstra’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akest precondition calcul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makes use of generalized predicates of the form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,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P,e) is true if P is true and at least e units of the resource are current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are tri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Cgen’s job is to compute, for each statement S in the program, the Hoare tr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’,e’) S (P,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means, rough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,e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lds prior to execut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t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executed and it terminates, t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’,e’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lds afterw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0:32Z</dcterms:created>
  <dc:creator>Peter Lee</dc:creator>
  <dc:description/>
  <cp:keywords/>
  <dc:language>en-US</dc:language>
  <cp:lastModifiedBy>Peter Lee</cp:lastModifiedBy>
  <cp:lastPrinted>1999-01-11T22:39:52Z</cp:lastPrinted>
  <dcterms:modified xsi:type="dcterms:W3CDTF">2004-06-22T21:29:22Z</dcterms:modified>
  <cp:revision>261</cp:revision>
  <dc:subject/>
  <dc:title>Mobility, Security, and Proof-Carrying Code</dc:title>
</cp:coreProperties>
</file>