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25.wmf" ContentType="image/x-wmf"/>
  <Override PartName="/ppt/media/image2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"/>
          <p:cNvSpPr/>
          <p:nvPr/>
        </p:nvSpPr>
        <p:spPr>
          <a:xfrm>
            <a:off x="2766600" y="8710560"/>
            <a:ext cx="1323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78C21E0E-7DC6-493C-94B8-9C0945995B37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52000" y="690480"/>
            <a:ext cx="45579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June 4, 199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999   Mars polar lander    Mars climate observ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03452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53316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73040" indent="-1576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54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788400" indent="-1576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06452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37988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37988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379880" indent="-11808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docomo-kansai.co.jp/text/products/foma/sh2101v/image/body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sa.int/esa/ariane/anime/launch.m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rot="16200000">
            <a:off x="5448240" y="3162240"/>
            <a:ext cx="6858000" cy="53352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Lectures on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Proof-Carrying Code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ter Lee</a:t>
            </a:r>
            <a:br>
              <a:rPr sz="36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38280" y="5028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9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Lecture 1 (of 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9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June 21-22, 200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9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University of Oreg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3066120" y="6413400"/>
            <a:ext cx="49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2004 Summer School on Software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motive analo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5807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If the automobile had followed the same development as the computer, a Rolls-Royce would today cost $100, get a million miles per gallon, a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xplode once a year killing everyone inside.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Robert Cring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rs in the Real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s at Merce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d to buy back 2000 copies of the latest E-Class sedan, due to problems with computing and telecommunications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.D.Power initial quality rankings have dropped to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even below Chevrolet!) in 200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005400"/>
              </a:buClr>
              <a:buSzPct val="59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ard member Jurgen Hubbert says this is directly related to the effort to be a “technology lead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00080" y="4610160"/>
            <a:ext cx="7143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105084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2590920"/>
            <a:ext cx="225108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商品イメージ"/>
          <p:cNvPicPr/>
          <p:nvPr/>
        </p:nvPicPr>
        <p:blipFill>
          <a:blip r:embed="rId4"/>
          <a:stretch/>
        </p:blipFill>
        <p:spPr>
          <a:xfrm>
            <a:off x="5562720" y="1143000"/>
            <a:ext cx="3371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391520" cy="428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2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failures are due to simple problems “in the detail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2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reuse is necessary but peril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2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able/mobile code is essent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2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 matters a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ess depends fundamentally on our ability to </a:t>
            </a:r>
            <a:r>
              <a:rPr b="0" i="1" lang="en-US" sz="3200" spc="-1" strike="noStrike">
                <a:solidFill>
                  <a:srgbClr val="790015"/>
                </a:solidFill>
                <a:latin typeface="Verdana"/>
              </a:rPr>
              <a:t>reason about progr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79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The opportunities are grea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28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Who will provide the technology for systems that work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bout these le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in topic is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proof-carrying cod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an example of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certified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won’t be possible to go through all aspects in complete deta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I hope to provide background to make it easier to get started with resear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43040" y="2819520"/>
            <a:ext cx="57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90015"/>
                </a:solidFill>
                <a:latin typeface="Verdana"/>
              </a:rPr>
              <a:t>The Code Safety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de Safety Probl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3100320"/>
            <a:ext cx="2379600" cy="2386080"/>
            <a:chOff x="1447920" y="3100320"/>
            <a:chExt cx="2379600" cy="238608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447920" y="3100320"/>
              <a:ext cx="195264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048120" y="3252600"/>
              <a:ext cx="779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2362320" y="1752480"/>
            <a:ext cx="2209680" cy="1219320"/>
          </a:xfrm>
          <a:prstGeom prst="wedgeRoundRectCallout">
            <a:avLst>
              <a:gd name="adj1" fmla="val -45472"/>
              <a:gd name="adj2" fmla="val 6744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ase install and execut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324480" y="2819520"/>
            <a:ext cx="2819520" cy="26398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6172200" y="2743200"/>
            <a:ext cx="2971800" cy="2895480"/>
            <a:chOff x="6172200" y="2743200"/>
            <a:chExt cx="2971800" cy="2895480"/>
          </a:xfrm>
        </p:grpSpPr>
        <p:sp>
          <p:nvSpPr>
            <p:cNvPr id="88" name=""/>
            <p:cNvSpPr/>
            <p:nvPr/>
          </p:nvSpPr>
          <p:spPr>
            <a:xfrm>
              <a:off x="6172200" y="2743200"/>
              <a:ext cx="2971800" cy="28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7162920" y="2971800"/>
              <a:ext cx="1098360" cy="26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95440" y="2803680"/>
            <a:ext cx="78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90015"/>
                </a:solidFill>
                <a:latin typeface="Verdana"/>
              </a:rPr>
              <a:t>“</a:t>
            </a:r>
            <a:r>
              <a:rPr b="0" i="1" lang="en-US" sz="4000" spc="-1" strike="noStrike">
                <a:solidFill>
                  <a:srgbClr val="790015"/>
                </a:solidFill>
                <a:latin typeface="Verdana"/>
              </a:rPr>
              <a:t>Applets, Not Craple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01440" y="3519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 Luca Cardelli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981080" y="2209680"/>
            <a:ext cx="5639040" cy="398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45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you have ‘process’ without ‘inspiration,’ all you end up with is well-documented crap.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79000"/>
              </a:lnSpc>
              <a:spcBef>
                <a:spcPts val="45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r. John C. Sommerer, CTO, Johns Hopkins Advanced Physics La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Ariane 5 Laun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52840" y="152280"/>
            <a:ext cx="4586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de Safe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4952880"/>
            <a:ext cx="1066320" cy="799920"/>
            <a:chOff x="685800" y="4952880"/>
            <a:chExt cx="1066320" cy="799920"/>
          </a:xfrm>
        </p:grpSpPr>
        <p:sp>
          <p:nvSpPr>
            <p:cNvPr id="96" name=""/>
            <p:cNvSpPr/>
            <p:nvPr/>
          </p:nvSpPr>
          <p:spPr>
            <a:xfrm>
              <a:off x="685800" y="4952880"/>
              <a:ext cx="1066320" cy="799920"/>
            </a:xfrm>
            <a:prstGeom prst="flowChartInputOutpu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3280" y="5182560"/>
              <a:ext cx="7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1"/>
            <a:endCxn id="96" idx="1"/>
          </p:cNvCxnSpPr>
          <p:nvPr/>
        </p:nvCxnSpPr>
        <p:spPr>
          <a:xfrm flipV="1" rot="10800000">
            <a:off x="1218600" y="2247480"/>
            <a:ext cx="6096600" cy="2705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7315200" y="1905120"/>
            <a:ext cx="914400" cy="68580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3440" y="61722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178080" y="2521800"/>
            <a:ext cx="4594680" cy="2281320"/>
            <a:chOff x="3178080" y="2521800"/>
            <a:chExt cx="4594680" cy="2281320"/>
          </a:xfrm>
        </p:grpSpPr>
        <p:sp>
          <p:nvSpPr>
            <p:cNvPr id="102" name=""/>
            <p:cNvSpPr/>
            <p:nvPr/>
          </p:nvSpPr>
          <p:spPr>
            <a:xfrm>
              <a:off x="3178080" y="4343400"/>
              <a:ext cx="31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Is this safe to execut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2" idx="3"/>
              <a:endCxn id="99" idx="2"/>
            </p:cNvCxnSpPr>
            <p:nvPr/>
          </p:nvCxnSpPr>
          <p:spPr>
            <a:xfrm flipV="1">
              <a:off x="6656400" y="2521800"/>
              <a:ext cx="1116720" cy="2050200"/>
            </a:xfrm>
            <a:prstGeom prst="curvedConnector2">
              <a:avLst/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roach 1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st the code produ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5800" y="4952880"/>
            <a:ext cx="1066320" cy="799920"/>
            <a:chOff x="685800" y="4952880"/>
            <a:chExt cx="1066320" cy="799920"/>
          </a:xfrm>
        </p:grpSpPr>
        <p:sp>
          <p:nvSpPr>
            <p:cNvPr id="107" name=""/>
            <p:cNvSpPr/>
            <p:nvPr/>
          </p:nvSpPr>
          <p:spPr>
            <a:xfrm>
              <a:off x="685800" y="4952880"/>
              <a:ext cx="1066320" cy="799920"/>
            </a:xfrm>
            <a:prstGeom prst="flowChartInputOutpu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3280" y="5182560"/>
              <a:ext cx="7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9" name=""/>
          <p:cNvCxnSpPr>
            <a:stCxn id="110" idx="1"/>
            <a:endCxn id="107" idx="1"/>
          </p:cNvCxnSpPr>
          <p:nvPr/>
        </p:nvCxnSpPr>
        <p:spPr>
          <a:xfrm flipV="1" rot="10800000">
            <a:off x="1218600" y="2247480"/>
            <a:ext cx="6096600" cy="2705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315200" y="1905120"/>
            <a:ext cx="914400" cy="68580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3440" y="61722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2438280"/>
            <a:ext cx="914400" cy="53352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4572000"/>
            <a:ext cx="160020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8120" y="609588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 3rd 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0800" y="4114080"/>
            <a:ext cx="592200" cy="368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60880" y="5180760"/>
            <a:ext cx="592200" cy="368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88880" y="4280760"/>
            <a:ext cx="592200" cy="368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23000" y="5180760"/>
            <a:ext cx="592200" cy="368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5486400"/>
            <a:ext cx="3733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90920" y="2666880"/>
            <a:ext cx="4724640" cy="1191240"/>
            <a:chOff x="2590920" y="2666880"/>
            <a:chExt cx="4724640" cy="1191240"/>
          </a:xfrm>
        </p:grpSpPr>
        <p:sp>
          <p:nvSpPr>
            <p:cNvPr id="121" name=""/>
            <p:cNvSpPr/>
            <p:nvPr/>
          </p:nvSpPr>
          <p:spPr>
            <a:xfrm>
              <a:off x="2590920" y="2666880"/>
              <a:ext cx="3733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Trust is based on personal authority, not program 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21" idx="3"/>
              <a:endCxn id="112" idx="1"/>
            </p:cNvCxnSpPr>
            <p:nvPr/>
          </p:nvCxnSpPr>
          <p:spPr>
            <a:xfrm flipV="1">
              <a:off x="6324480" y="2704680"/>
              <a:ext cx="991440" cy="556560"/>
            </a:xfrm>
            <a:prstGeom prst="curvedConnector5">
              <a:avLst>
                <a:gd name="adj1" fmla="val 49981"/>
                <a:gd name="adj2" fmla="val 49967"/>
                <a:gd name="adj3" fmla="val 49981"/>
              </a:avLst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  <p:grpSp>
        <p:nvGrpSpPr>
          <p:cNvPr id="123" name=""/>
          <p:cNvGrpSpPr/>
          <p:nvPr/>
        </p:nvGrpSpPr>
        <p:grpSpPr>
          <a:xfrm>
            <a:off x="2514600" y="4191120"/>
            <a:ext cx="3048120" cy="1143000"/>
            <a:chOff x="2514600" y="4191120"/>
            <a:chExt cx="3048120" cy="1143000"/>
          </a:xfrm>
        </p:grpSpPr>
        <p:sp>
          <p:nvSpPr>
            <p:cNvPr id="124" name=""/>
            <p:cNvSpPr/>
            <p:nvPr/>
          </p:nvSpPr>
          <p:spPr>
            <a:xfrm>
              <a:off x="2514600" y="4191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Scaling problem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4" idx="2"/>
            </p:cNvCxnSpPr>
            <p:nvPr/>
          </p:nvCxnSpPr>
          <p:spPr>
            <a:xfrm flipH="1" rot="16200000">
              <a:off x="3733560" y="4952880"/>
              <a:ext cx="686520" cy="766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</p:spTree>
  </p:cSld>
  <p:transition>
    <p:split dir="out" orient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roach 2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by-sit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5800" y="4952880"/>
            <a:ext cx="1066320" cy="799920"/>
            <a:chOff x="685800" y="4952880"/>
            <a:chExt cx="1066320" cy="799920"/>
          </a:xfrm>
        </p:grpSpPr>
        <p:sp>
          <p:nvSpPr>
            <p:cNvPr id="129" name=""/>
            <p:cNvSpPr/>
            <p:nvPr/>
          </p:nvSpPr>
          <p:spPr>
            <a:xfrm>
              <a:off x="685800" y="4952880"/>
              <a:ext cx="1066320" cy="799920"/>
            </a:xfrm>
            <a:prstGeom prst="flowChartInputOutpu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3280" y="5182560"/>
              <a:ext cx="7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1" name=""/>
          <p:cNvCxnSpPr>
            <a:stCxn id="132" idx="1"/>
            <a:endCxn id="129" idx="1"/>
          </p:cNvCxnSpPr>
          <p:nvPr/>
        </p:nvCxnSpPr>
        <p:spPr>
          <a:xfrm flipV="1" rot="10800000">
            <a:off x="1218600" y="2247480"/>
            <a:ext cx="6096600" cy="2705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7315200" y="1905120"/>
            <a:ext cx="914400" cy="68580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440" y="61722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114800"/>
            <a:ext cx="1219320" cy="6094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ecution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0" y="2819520"/>
            <a:ext cx="2439000" cy="1600200"/>
            <a:chOff x="1904400" y="2819520"/>
            <a:chExt cx="2439000" cy="1600200"/>
          </a:xfrm>
        </p:grpSpPr>
        <p:sp>
          <p:nvSpPr>
            <p:cNvPr id="136" name=""/>
            <p:cNvSpPr/>
            <p:nvPr/>
          </p:nvSpPr>
          <p:spPr>
            <a:xfrm>
              <a:off x="2590920" y="2819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2"/>
              <a:endCxn id="134" idx="3"/>
            </p:cNvCxnSpPr>
            <p:nvPr/>
          </p:nvCxnSpPr>
          <p:spPr>
            <a:xfrm rot="5400000">
              <a:off x="2113920" y="3066840"/>
              <a:ext cx="1143720" cy="1562760"/>
            </a:xfrm>
            <a:prstGeom prst="curvedConnector2">
              <a:avLst/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2498760" y="5775480"/>
            <a:ext cx="611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0015"/>
                </a:solidFill>
                <a:latin typeface="Verdana"/>
              </a:rPr>
              <a:t>E.g., Software Fault Isolation [Wahbe &amp; Lucco], Inline Reference Monitors [Schneid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roach 3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4952880"/>
            <a:ext cx="1066320" cy="799920"/>
            <a:chOff x="685800" y="4952880"/>
            <a:chExt cx="1066320" cy="799920"/>
          </a:xfrm>
        </p:grpSpPr>
        <p:sp>
          <p:nvSpPr>
            <p:cNvPr id="142" name=""/>
            <p:cNvSpPr/>
            <p:nvPr/>
          </p:nvSpPr>
          <p:spPr>
            <a:xfrm>
              <a:off x="685800" y="4952880"/>
              <a:ext cx="1066320" cy="799920"/>
            </a:xfrm>
            <a:prstGeom prst="flowChartInputOutpu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3280" y="5182560"/>
              <a:ext cx="7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4" name=""/>
          <p:cNvCxnSpPr>
            <a:stCxn id="145" idx="1"/>
            <a:endCxn id="142" idx="1"/>
          </p:cNvCxnSpPr>
          <p:nvPr/>
        </p:nvCxnSpPr>
        <p:spPr>
          <a:xfrm flipV="1" rot="10800000">
            <a:off x="1218600" y="2247480"/>
            <a:ext cx="6096600" cy="2705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15200" y="1905120"/>
            <a:ext cx="914400" cy="68580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3440" y="61722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114800"/>
            <a:ext cx="1219320" cy="6094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/ J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04760" y="4419000"/>
            <a:ext cx="3886560" cy="1359360"/>
            <a:chOff x="1904760" y="4419000"/>
            <a:chExt cx="3886560" cy="1359360"/>
          </a:xfrm>
        </p:grpSpPr>
        <p:sp>
          <p:nvSpPr>
            <p:cNvPr id="149" name=""/>
            <p:cNvSpPr/>
            <p:nvPr/>
          </p:nvSpPr>
          <p:spPr>
            <a:xfrm>
              <a:off x="3276720" y="49528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Expensive and/or bi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1"/>
              <a:endCxn id="147" idx="3"/>
            </p:cNvCxnSpPr>
            <p:nvPr/>
          </p:nvCxnSpPr>
          <p:spPr>
            <a:xfrm rot="10800000">
              <a:off x="1904400" y="4419000"/>
              <a:ext cx="1372320" cy="945000"/>
            </a:xfrm>
            <a:prstGeom prst="curvedConnector5">
              <a:avLst>
                <a:gd name="adj1" fmla="val 49986"/>
                <a:gd name="adj2" fmla="val 50000"/>
                <a:gd name="adj3" fmla="val 49986"/>
              </a:avLst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  <p:grpSp>
        <p:nvGrpSpPr>
          <p:cNvPr id="151" name=""/>
          <p:cNvGrpSpPr/>
          <p:nvPr/>
        </p:nvGrpSpPr>
        <p:grpSpPr>
          <a:xfrm>
            <a:off x="4267080" y="2522160"/>
            <a:ext cx="3505680" cy="2189520"/>
            <a:chOff x="4267080" y="2522160"/>
            <a:chExt cx="3505680" cy="2189520"/>
          </a:xfrm>
        </p:grpSpPr>
        <p:sp>
          <p:nvSpPr>
            <p:cNvPr id="152" name=""/>
            <p:cNvSpPr/>
            <p:nvPr/>
          </p:nvSpPr>
          <p:spPr>
            <a:xfrm>
              <a:off x="4267080" y="388620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Limited in expressive 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52" idx="3"/>
              <a:endCxn id="145" idx="2"/>
            </p:cNvCxnSpPr>
            <p:nvPr/>
          </p:nvCxnSpPr>
          <p:spPr>
            <a:xfrm flipV="1">
              <a:off x="7238880" y="2522160"/>
              <a:ext cx="534240" cy="1775520"/>
            </a:xfrm>
            <a:prstGeom prst="curvedConnector2">
              <a:avLst/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  <p:sp>
        <p:nvSpPr>
          <p:cNvPr id="154" name=""/>
          <p:cNvSpPr/>
          <p:nvPr/>
        </p:nvSpPr>
        <p:spPr>
          <a:xfrm>
            <a:off x="685800" y="3505320"/>
            <a:ext cx="1219320" cy="45720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2" idx="1"/>
            <a:endCxn id="154" idx="3"/>
          </p:cNvCxnSpPr>
          <p:nvPr/>
        </p:nvCxnSpPr>
        <p:spPr>
          <a:xfrm rot="10800000">
            <a:off x="1904400" y="3733200"/>
            <a:ext cx="2362680" cy="5641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790015"/>
            </a:solidFill>
            <a:miter/>
            <a:tailEnd len="med" type="triangle" w="med"/>
          </a:ln>
        </p:spPr>
      </p:cxnSp>
    </p:spTree>
  </p:cSld>
  <p:transition>
    <p:pull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33520" y="1905120"/>
            <a:ext cx="5181480" cy="4267080"/>
            <a:chOff x="533520" y="1905120"/>
            <a:chExt cx="5181480" cy="4267080"/>
          </a:xfrm>
        </p:grpSpPr>
        <p:sp>
          <p:nvSpPr>
            <p:cNvPr id="158" name=""/>
            <p:cNvSpPr/>
            <p:nvPr/>
          </p:nvSpPr>
          <p:spPr>
            <a:xfrm>
              <a:off x="533520" y="1905120"/>
              <a:ext cx="5181480" cy="4267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9880" y="2971800"/>
              <a:ext cx="1676520" cy="1447920"/>
            </a:xfrm>
            <a:prstGeom prst="flowChartProcess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or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roach 4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l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4952880"/>
            <a:ext cx="1066320" cy="799920"/>
            <a:chOff x="685800" y="4952880"/>
            <a:chExt cx="1066320" cy="799920"/>
          </a:xfrm>
        </p:grpSpPr>
        <p:sp>
          <p:nvSpPr>
            <p:cNvPr id="162" name=""/>
            <p:cNvSpPr/>
            <p:nvPr/>
          </p:nvSpPr>
          <p:spPr>
            <a:xfrm>
              <a:off x="685800" y="4952880"/>
              <a:ext cx="1066320" cy="799920"/>
            </a:xfrm>
            <a:prstGeom prst="flowChartInputOutpu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3280" y="5182560"/>
              <a:ext cx="7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315200" y="1905120"/>
            <a:ext cx="914400" cy="68580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2"/>
            <a:endCxn id="159" idx="3"/>
          </p:cNvCxnSpPr>
          <p:nvPr/>
        </p:nvCxnSpPr>
        <p:spPr>
          <a:xfrm rot="5400000">
            <a:off x="6042240" y="1965960"/>
            <a:ext cx="1173960" cy="2286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6" name=""/>
          <p:cNvGrpSpPr/>
          <p:nvPr/>
        </p:nvGrpSpPr>
        <p:grpSpPr>
          <a:xfrm>
            <a:off x="1028880" y="2246760"/>
            <a:ext cx="6285960" cy="2706120"/>
            <a:chOff x="1028880" y="2246760"/>
            <a:chExt cx="6285960" cy="2706120"/>
          </a:xfrm>
        </p:grpSpPr>
        <p:grpSp>
          <p:nvGrpSpPr>
            <p:cNvPr id="167" name=""/>
            <p:cNvGrpSpPr/>
            <p:nvPr/>
          </p:nvGrpSpPr>
          <p:grpSpPr>
            <a:xfrm>
              <a:off x="1028880" y="2246760"/>
              <a:ext cx="6285960" cy="1639440"/>
              <a:chOff x="1028880" y="2246760"/>
              <a:chExt cx="6285960" cy="1639440"/>
            </a:xfrm>
          </p:grpSpPr>
          <p:cxnSp>
            <p:nvCxnSpPr>
              <p:cNvPr id="168" name=""/>
              <p:cNvCxnSpPr>
                <a:stCxn id="159" idx="1"/>
                <a:endCxn id="169" idx="3"/>
              </p:cNvCxnSpPr>
              <p:nvPr/>
            </p:nvCxnSpPr>
            <p:spPr>
              <a:xfrm rot="10800000">
                <a:off x="1313640" y="3695040"/>
                <a:ext cx="2496240" cy="1080"/>
              </a:xfrm>
              <a:prstGeom prst="bentConnector2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9" name=""/>
              <p:cNvSpPr/>
              <p:nvPr/>
            </p:nvSpPr>
            <p:spPr>
              <a:xfrm>
                <a:off x="1028880" y="3505320"/>
                <a:ext cx="380880" cy="380880"/>
              </a:xfrm>
              <a:prstGeom prst="flowChartMerg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0" name=""/>
              <p:cNvCxnSpPr>
                <a:stCxn id="164" idx="1"/>
                <a:endCxn id="169" idx="0"/>
              </p:cNvCxnSpPr>
              <p:nvPr/>
            </p:nvCxnSpPr>
            <p:spPr>
              <a:xfrm flipV="1" rot="10800000">
                <a:off x="1218600" y="2246760"/>
                <a:ext cx="6096600" cy="1258200"/>
              </a:xfrm>
              <a:prstGeom prst="bentConnector2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71" name=""/>
            <p:cNvCxnSpPr>
              <a:stCxn id="169" idx="2"/>
              <a:endCxn id="162" idx="1"/>
            </p:cNvCxnSpPr>
            <p:nvPr/>
          </p:nvCxnSpPr>
          <p:spPr>
            <a:xfrm>
              <a:off x="1218960" y="3885840"/>
              <a:ext cx="1080" cy="1067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4647960" y="4419000"/>
            <a:ext cx="3391200" cy="1328760"/>
            <a:chOff x="4647960" y="4419000"/>
            <a:chExt cx="3391200" cy="1328760"/>
          </a:xfrm>
        </p:grpSpPr>
        <p:sp>
          <p:nvSpPr>
            <p:cNvPr id="173" name=""/>
            <p:cNvSpPr/>
            <p:nvPr/>
          </p:nvSpPr>
          <p:spPr>
            <a:xfrm>
              <a:off x="6019920" y="4724280"/>
              <a:ext cx="20192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Flexible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powerfu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3" idx="1"/>
              <a:endCxn id="159" idx="2"/>
            </p:cNvCxnSpPr>
            <p:nvPr/>
          </p:nvCxnSpPr>
          <p:spPr>
            <a:xfrm rot="10800000">
              <a:off x="4647600" y="4419000"/>
              <a:ext cx="1372320" cy="764280"/>
            </a:xfrm>
            <a:prstGeom prst="curvedConnector2">
              <a:avLst/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  <p:sp>
        <p:nvSpPr>
          <p:cNvPr id="175" name=""/>
          <p:cNvSpPr/>
          <p:nvPr/>
        </p:nvSpPr>
        <p:spPr>
          <a:xfrm>
            <a:off x="523440" y="61722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8560" y="5548320"/>
            <a:ext cx="2367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But reall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really har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must be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905120"/>
            <a:ext cx="5181480" cy="426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key idea: Checkable certific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971800"/>
            <a:ext cx="1676520" cy="1447920"/>
          </a:xfrm>
          <a:prstGeom prst="flowChartProcess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85800" y="4952880"/>
            <a:ext cx="1066320" cy="799920"/>
            <a:chOff x="685800" y="4952880"/>
            <a:chExt cx="1066320" cy="799920"/>
          </a:xfrm>
        </p:grpSpPr>
        <p:sp>
          <p:nvSpPr>
            <p:cNvPr id="181" name=""/>
            <p:cNvSpPr/>
            <p:nvPr/>
          </p:nvSpPr>
          <p:spPr>
            <a:xfrm>
              <a:off x="685800" y="4952880"/>
              <a:ext cx="1066320" cy="799920"/>
            </a:xfrm>
            <a:prstGeom prst="flowChartInputOutpu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3280" y="5182560"/>
              <a:ext cx="7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1"/>
            <a:endCxn id="185" idx="0"/>
          </p:cNvCxnSpPr>
          <p:nvPr/>
        </p:nvCxnSpPr>
        <p:spPr>
          <a:xfrm flipV="1" rot="10800000">
            <a:off x="1218600" y="2246760"/>
            <a:ext cx="6096600" cy="1258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4" idx="2"/>
            <a:endCxn id="179" idx="3"/>
          </p:cNvCxnSpPr>
          <p:nvPr/>
        </p:nvCxnSpPr>
        <p:spPr>
          <a:xfrm rot="5400000">
            <a:off x="6042240" y="1965960"/>
            <a:ext cx="1173960" cy="2286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5" idx="2"/>
            <a:endCxn id="181" idx="1"/>
          </p:cNvCxnSpPr>
          <p:nvPr/>
        </p:nvCxnSpPr>
        <p:spPr>
          <a:xfrm>
            <a:off x="1218960" y="3885840"/>
            <a:ext cx="10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952560" y="3505320"/>
            <a:ext cx="533520" cy="380880"/>
          </a:xfrm>
          <a:prstGeom prst="flowChartProcess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hec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1905120"/>
            <a:ext cx="914400" cy="68580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3505320"/>
            <a:ext cx="914400" cy="380880"/>
          </a:xfrm>
          <a:prstGeom prst="flowChartPunchedTap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79" idx="1"/>
            <a:endCxn id="188" idx="3"/>
          </p:cNvCxnSpPr>
          <p:nvPr/>
        </p:nvCxnSpPr>
        <p:spPr>
          <a:xfrm flipH="1">
            <a:off x="3123360" y="3695400"/>
            <a:ext cx="686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8" idx="1"/>
            <a:endCxn id="185" idx="3"/>
          </p:cNvCxnSpPr>
          <p:nvPr/>
        </p:nvCxnSpPr>
        <p:spPr>
          <a:xfrm flipH="1">
            <a:off x="1485720" y="3695400"/>
            <a:ext cx="724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523440" y="61722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key idea: Checkable certific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2971800"/>
            <a:ext cx="1676160" cy="1447920"/>
          </a:xfrm>
          <a:prstGeom prst="flowChart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85800" y="4952880"/>
            <a:ext cx="1066320" cy="799920"/>
            <a:chOff x="685800" y="4952880"/>
            <a:chExt cx="1066320" cy="799920"/>
          </a:xfrm>
        </p:grpSpPr>
        <p:sp>
          <p:nvSpPr>
            <p:cNvPr id="196" name=""/>
            <p:cNvSpPr/>
            <p:nvPr/>
          </p:nvSpPr>
          <p:spPr>
            <a:xfrm>
              <a:off x="685800" y="4952880"/>
              <a:ext cx="1066320" cy="799920"/>
            </a:xfrm>
            <a:prstGeom prst="flowChartInputOutpu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63280" y="5182560"/>
              <a:ext cx="7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8" name=""/>
          <p:cNvCxnSpPr>
            <a:stCxn id="199" idx="1"/>
          </p:cNvCxnSpPr>
          <p:nvPr/>
        </p:nvCxnSpPr>
        <p:spPr>
          <a:xfrm flipV="1" rot="10800000">
            <a:off x="1218600" y="2246760"/>
            <a:ext cx="6096600" cy="1258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9" idx="2"/>
            <a:endCxn id="194" idx="3"/>
          </p:cNvCxnSpPr>
          <p:nvPr/>
        </p:nvCxnSpPr>
        <p:spPr>
          <a:xfrm rot="5400000">
            <a:off x="6575400" y="2499120"/>
            <a:ext cx="1173960" cy="12200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endCxn id="196" idx="1"/>
          </p:cNvCxnSpPr>
          <p:nvPr/>
        </p:nvCxnSpPr>
        <p:spPr>
          <a:xfrm>
            <a:off x="1218960" y="3885840"/>
            <a:ext cx="10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315200" y="1905120"/>
            <a:ext cx="914400" cy="68580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3505320"/>
            <a:ext cx="914400" cy="38088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4" idx="1"/>
            <a:endCxn id="202" idx="3"/>
          </p:cNvCxnSpPr>
          <p:nvPr/>
        </p:nvCxnSpPr>
        <p:spPr>
          <a:xfrm flipH="1">
            <a:off x="4494960" y="3695400"/>
            <a:ext cx="381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2" idx="1"/>
            <a:endCxn id="205" idx="3"/>
          </p:cNvCxnSpPr>
          <p:nvPr/>
        </p:nvCxnSpPr>
        <p:spPr>
          <a:xfrm flipH="1">
            <a:off x="1485720" y="3695400"/>
            <a:ext cx="2095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952560" y="3505320"/>
            <a:ext cx="533520" cy="380880"/>
          </a:xfrm>
          <a:prstGeom prst="flowChartProcess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hec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of-Carrying Cod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Necula &amp; Lee, OSDI’96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57200" y="1942920"/>
            <a:ext cx="8381880" cy="4491360"/>
            <a:chOff x="457200" y="1942920"/>
            <a:chExt cx="8381880" cy="449136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457200" y="2095560"/>
              <a:ext cx="8381880" cy="41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flipV="1">
              <a:off x="4419720" y="194292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648320" y="194292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19720" y="62182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3000" y="62182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901880" y="2133720"/>
            <a:ext cx="4281480" cy="4190760"/>
          </a:xfrm>
          <a:custGeom>
            <a:avLst/>
            <a:gdLst/>
            <a:ahLst/>
            <a:rect l="l" t="t" r="r" b="b"/>
            <a:pathLst>
              <a:path w="2697" h="2641">
                <a:moveTo>
                  <a:pt x="1688" y="0"/>
                </a:moveTo>
                <a:lnTo>
                  <a:pt x="1688" y="70"/>
                </a:lnTo>
                <a:lnTo>
                  <a:pt x="1544" y="70"/>
                </a:lnTo>
                <a:lnTo>
                  <a:pt x="1544" y="165"/>
                </a:lnTo>
                <a:lnTo>
                  <a:pt x="1352" y="165"/>
                </a:lnTo>
                <a:lnTo>
                  <a:pt x="1352" y="70"/>
                </a:lnTo>
                <a:lnTo>
                  <a:pt x="1112" y="70"/>
                </a:lnTo>
                <a:lnTo>
                  <a:pt x="1112" y="165"/>
                </a:lnTo>
                <a:lnTo>
                  <a:pt x="536" y="165"/>
                </a:lnTo>
                <a:lnTo>
                  <a:pt x="536" y="70"/>
                </a:lnTo>
                <a:lnTo>
                  <a:pt x="344" y="70"/>
                </a:lnTo>
                <a:lnTo>
                  <a:pt x="344" y="165"/>
                </a:lnTo>
                <a:lnTo>
                  <a:pt x="233" y="163"/>
                </a:lnTo>
                <a:lnTo>
                  <a:pt x="233" y="399"/>
                </a:lnTo>
                <a:lnTo>
                  <a:pt x="104" y="402"/>
                </a:lnTo>
                <a:lnTo>
                  <a:pt x="104" y="733"/>
                </a:lnTo>
                <a:lnTo>
                  <a:pt x="0" y="733"/>
                </a:lnTo>
                <a:lnTo>
                  <a:pt x="0" y="837"/>
                </a:lnTo>
                <a:lnTo>
                  <a:pt x="105" y="837"/>
                </a:lnTo>
                <a:lnTo>
                  <a:pt x="104" y="970"/>
                </a:lnTo>
                <a:lnTo>
                  <a:pt x="440" y="970"/>
                </a:lnTo>
                <a:lnTo>
                  <a:pt x="440" y="1065"/>
                </a:lnTo>
                <a:lnTo>
                  <a:pt x="344" y="1065"/>
                </a:lnTo>
                <a:lnTo>
                  <a:pt x="345" y="1177"/>
                </a:lnTo>
                <a:lnTo>
                  <a:pt x="443" y="1177"/>
                </a:lnTo>
                <a:lnTo>
                  <a:pt x="440" y="1396"/>
                </a:lnTo>
                <a:lnTo>
                  <a:pt x="344" y="1396"/>
                </a:lnTo>
                <a:lnTo>
                  <a:pt x="344" y="1491"/>
                </a:lnTo>
                <a:lnTo>
                  <a:pt x="440" y="1491"/>
                </a:lnTo>
                <a:lnTo>
                  <a:pt x="440" y="1633"/>
                </a:lnTo>
                <a:lnTo>
                  <a:pt x="560" y="1633"/>
                </a:lnTo>
                <a:lnTo>
                  <a:pt x="563" y="1962"/>
                </a:lnTo>
                <a:lnTo>
                  <a:pt x="680" y="1965"/>
                </a:lnTo>
                <a:lnTo>
                  <a:pt x="680" y="2059"/>
                </a:lnTo>
                <a:lnTo>
                  <a:pt x="1112" y="2059"/>
                </a:lnTo>
                <a:lnTo>
                  <a:pt x="1112" y="1965"/>
                </a:lnTo>
                <a:lnTo>
                  <a:pt x="1208" y="1965"/>
                </a:lnTo>
                <a:lnTo>
                  <a:pt x="1208" y="1728"/>
                </a:lnTo>
                <a:lnTo>
                  <a:pt x="1352" y="1728"/>
                </a:lnTo>
                <a:lnTo>
                  <a:pt x="1350" y="1186"/>
                </a:lnTo>
                <a:lnTo>
                  <a:pt x="1906" y="1186"/>
                </a:lnTo>
                <a:lnTo>
                  <a:pt x="1906" y="970"/>
                </a:lnTo>
                <a:lnTo>
                  <a:pt x="2024" y="970"/>
                </a:lnTo>
                <a:lnTo>
                  <a:pt x="2024" y="875"/>
                </a:lnTo>
                <a:lnTo>
                  <a:pt x="2126" y="875"/>
                </a:lnTo>
                <a:lnTo>
                  <a:pt x="2123" y="1082"/>
                </a:lnTo>
                <a:lnTo>
                  <a:pt x="2251" y="1082"/>
                </a:lnTo>
                <a:lnTo>
                  <a:pt x="2251" y="1186"/>
                </a:lnTo>
                <a:lnTo>
                  <a:pt x="2453" y="1186"/>
                </a:lnTo>
                <a:lnTo>
                  <a:pt x="2456" y="1491"/>
                </a:lnTo>
                <a:lnTo>
                  <a:pt x="2696" y="1491"/>
                </a:lnTo>
                <a:lnTo>
                  <a:pt x="2696" y="1633"/>
                </a:lnTo>
                <a:lnTo>
                  <a:pt x="2576" y="1633"/>
                </a:lnTo>
                <a:lnTo>
                  <a:pt x="2573" y="1822"/>
                </a:lnTo>
                <a:lnTo>
                  <a:pt x="2360" y="1823"/>
                </a:lnTo>
                <a:lnTo>
                  <a:pt x="2360" y="2059"/>
                </a:lnTo>
                <a:lnTo>
                  <a:pt x="2236" y="2058"/>
                </a:lnTo>
                <a:lnTo>
                  <a:pt x="2236" y="2295"/>
                </a:lnTo>
                <a:lnTo>
                  <a:pt x="2120" y="2296"/>
                </a:lnTo>
                <a:lnTo>
                  <a:pt x="2120" y="2154"/>
                </a:lnTo>
                <a:lnTo>
                  <a:pt x="1910" y="2154"/>
                </a:lnTo>
                <a:lnTo>
                  <a:pt x="1910" y="1965"/>
                </a:lnTo>
                <a:lnTo>
                  <a:pt x="1784" y="1965"/>
                </a:lnTo>
                <a:lnTo>
                  <a:pt x="1784" y="1728"/>
                </a:lnTo>
                <a:lnTo>
                  <a:pt x="1544" y="1728"/>
                </a:lnTo>
                <a:lnTo>
                  <a:pt x="1544" y="1823"/>
                </a:lnTo>
                <a:lnTo>
                  <a:pt x="1352" y="1823"/>
                </a:lnTo>
                <a:lnTo>
                  <a:pt x="1352" y="1965"/>
                </a:lnTo>
                <a:lnTo>
                  <a:pt x="1448" y="1965"/>
                </a:lnTo>
                <a:lnTo>
                  <a:pt x="1448" y="2059"/>
                </a:lnTo>
                <a:lnTo>
                  <a:pt x="1544" y="2059"/>
                </a:lnTo>
                <a:lnTo>
                  <a:pt x="1545" y="2169"/>
                </a:lnTo>
                <a:lnTo>
                  <a:pt x="1448" y="2169"/>
                </a:lnTo>
                <a:lnTo>
                  <a:pt x="1448" y="2296"/>
                </a:lnTo>
                <a:lnTo>
                  <a:pt x="1688" y="2296"/>
                </a:lnTo>
                <a:lnTo>
                  <a:pt x="1688" y="2640"/>
                </a:lnTo>
              </a:path>
            </a:pathLst>
          </a:custGeom>
          <a:noFill/>
          <a:ln cap="rnd" w="50760">
            <a:solidFill>
              <a:srgbClr val="79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75080" y="1600200"/>
            <a:ext cx="304920" cy="304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68960" y="6477120"/>
            <a:ext cx="304560" cy="304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71600" y="280368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90015"/>
                </a:solidFill>
                <a:latin typeface="Verdana"/>
              </a:rPr>
              <a:t>Five Frequently Asked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3124080"/>
            <a:ext cx="7162560" cy="30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ow are the proofs represented and check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495680" cy="343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14800" y="2990880"/>
            <a:ext cx="4724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al proo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“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x is a proof of predicate P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” as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x:P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1425960" y="5113440"/>
            <a:ext cx="473148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9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90015"/>
                </a:solidFill>
                <a:latin typeface="Verdana"/>
              </a:rPr>
              <a:t>What do proofs look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 inference 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we have a proof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a proof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gether constitute a proof of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P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905120" y="3321000"/>
            <a:ext cx="4952880" cy="946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5800" y="5072040"/>
            <a:ext cx="816300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19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, in ASCI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9000"/>
              </a:lnSpc>
              <a:spcBef>
                <a:spcPts val="2001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Given x:P, y:Q then (x,y):P*Q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inference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we have a proof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 If we can then obtain a proof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n we have a proof of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P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Give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[x:P] b:Q then                    fn (x:P) =&gt; b : P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Q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iven x:P*Q then fst(x):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iven y:P*Q then snd(y):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ypes and proo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, for exampl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28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fn (x:P*Q) =&gt; (snd(x), fst(x)) 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: P*Q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 Q*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79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90015"/>
                </a:solidFill>
                <a:latin typeface="Verdana"/>
              </a:rPr>
              <a:t>This is an ML program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90015"/>
                </a:solidFill>
                <a:latin typeface="Verdana"/>
              </a:rPr>
              <a:t>Also, typechecking provides a “smart” blackboard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y-Howard Isomorph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logical framework language, predicates can be represented as types and proofs as programs (i.e., expression term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rthermore, under certain conditions </a:t>
            </a:r>
            <a:r>
              <a:rPr b="1" i="1" lang="en-US" sz="3200" spc="-1" strike="noStrike">
                <a:solidFill>
                  <a:srgbClr val="0000ff"/>
                </a:solidFill>
                <a:latin typeface="Verdana"/>
              </a:rPr>
              <a:t>typechecking is sufficient to ensure the validity of the proof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77640" y="2178000"/>
            <a:ext cx="45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i="1" lang="en-US" sz="3600" spc="-1" strike="noStrike">
                <a:solidFill>
                  <a:srgbClr val="0000ff"/>
                </a:solidFill>
                <a:latin typeface="Verdana"/>
              </a:rPr>
              <a:t>Proofs as Program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3920" y="36259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i="1" lang="en-US" sz="3600" spc="-1" strike="noStrike">
                <a:solidFill>
                  <a:srgbClr val="0000ff"/>
                </a:solidFill>
                <a:latin typeface="Verdana"/>
              </a:rPr>
              <a:t>Propositions as Typ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54380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dinburgh Logical Framework language, or LF, provides an expressive language for proofs-as-progr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rthermore, its use of dependent types allows, among other things, the axioms and rules of inference to be specified as we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acle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7200" y="1942920"/>
            <a:ext cx="8381880" cy="4491360"/>
            <a:chOff x="457200" y="1942920"/>
            <a:chExt cx="8381880" cy="44913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457200" y="2095560"/>
              <a:ext cx="8381880" cy="41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flipV="1">
              <a:off x="4419720" y="194292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648320" y="194292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62182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53000" y="62182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901880" y="2133720"/>
            <a:ext cx="4281480" cy="4190760"/>
          </a:xfrm>
          <a:custGeom>
            <a:avLst/>
            <a:gdLst/>
            <a:ahLst/>
            <a:rect l="l" t="t" r="r" b="b"/>
            <a:pathLst>
              <a:path w="2697" h="2641">
                <a:moveTo>
                  <a:pt x="1688" y="0"/>
                </a:moveTo>
                <a:lnTo>
                  <a:pt x="1688" y="70"/>
                </a:lnTo>
                <a:lnTo>
                  <a:pt x="1544" y="70"/>
                </a:lnTo>
                <a:lnTo>
                  <a:pt x="1544" y="165"/>
                </a:lnTo>
                <a:lnTo>
                  <a:pt x="1352" y="165"/>
                </a:lnTo>
                <a:lnTo>
                  <a:pt x="1352" y="70"/>
                </a:lnTo>
                <a:lnTo>
                  <a:pt x="1112" y="70"/>
                </a:lnTo>
                <a:lnTo>
                  <a:pt x="1112" y="165"/>
                </a:lnTo>
                <a:lnTo>
                  <a:pt x="536" y="165"/>
                </a:lnTo>
                <a:lnTo>
                  <a:pt x="536" y="70"/>
                </a:lnTo>
                <a:lnTo>
                  <a:pt x="344" y="70"/>
                </a:lnTo>
                <a:lnTo>
                  <a:pt x="344" y="165"/>
                </a:lnTo>
                <a:lnTo>
                  <a:pt x="233" y="163"/>
                </a:lnTo>
                <a:lnTo>
                  <a:pt x="233" y="399"/>
                </a:lnTo>
                <a:lnTo>
                  <a:pt x="104" y="402"/>
                </a:lnTo>
                <a:lnTo>
                  <a:pt x="104" y="733"/>
                </a:lnTo>
                <a:lnTo>
                  <a:pt x="0" y="733"/>
                </a:lnTo>
                <a:lnTo>
                  <a:pt x="0" y="837"/>
                </a:lnTo>
                <a:lnTo>
                  <a:pt x="105" y="837"/>
                </a:lnTo>
                <a:lnTo>
                  <a:pt x="104" y="970"/>
                </a:lnTo>
                <a:lnTo>
                  <a:pt x="440" y="970"/>
                </a:lnTo>
                <a:lnTo>
                  <a:pt x="440" y="1065"/>
                </a:lnTo>
                <a:lnTo>
                  <a:pt x="344" y="1065"/>
                </a:lnTo>
                <a:lnTo>
                  <a:pt x="345" y="1177"/>
                </a:lnTo>
                <a:lnTo>
                  <a:pt x="443" y="1177"/>
                </a:lnTo>
                <a:lnTo>
                  <a:pt x="440" y="1396"/>
                </a:lnTo>
                <a:lnTo>
                  <a:pt x="344" y="1396"/>
                </a:lnTo>
                <a:lnTo>
                  <a:pt x="344" y="1491"/>
                </a:lnTo>
                <a:lnTo>
                  <a:pt x="440" y="1491"/>
                </a:lnTo>
                <a:lnTo>
                  <a:pt x="440" y="1633"/>
                </a:lnTo>
                <a:lnTo>
                  <a:pt x="560" y="1633"/>
                </a:lnTo>
                <a:lnTo>
                  <a:pt x="563" y="1962"/>
                </a:lnTo>
                <a:lnTo>
                  <a:pt x="680" y="1965"/>
                </a:lnTo>
                <a:lnTo>
                  <a:pt x="680" y="2059"/>
                </a:lnTo>
                <a:lnTo>
                  <a:pt x="1112" y="2059"/>
                </a:lnTo>
                <a:lnTo>
                  <a:pt x="1112" y="1965"/>
                </a:lnTo>
                <a:lnTo>
                  <a:pt x="1208" y="1965"/>
                </a:lnTo>
                <a:lnTo>
                  <a:pt x="1208" y="1728"/>
                </a:lnTo>
                <a:lnTo>
                  <a:pt x="1352" y="1728"/>
                </a:lnTo>
                <a:lnTo>
                  <a:pt x="1350" y="1186"/>
                </a:lnTo>
                <a:lnTo>
                  <a:pt x="1906" y="1186"/>
                </a:lnTo>
                <a:lnTo>
                  <a:pt x="1906" y="970"/>
                </a:lnTo>
                <a:lnTo>
                  <a:pt x="2024" y="970"/>
                </a:lnTo>
                <a:lnTo>
                  <a:pt x="2024" y="875"/>
                </a:lnTo>
                <a:lnTo>
                  <a:pt x="2126" y="875"/>
                </a:lnTo>
                <a:lnTo>
                  <a:pt x="2123" y="1082"/>
                </a:lnTo>
                <a:lnTo>
                  <a:pt x="2251" y="1082"/>
                </a:lnTo>
                <a:lnTo>
                  <a:pt x="2251" y="1186"/>
                </a:lnTo>
                <a:lnTo>
                  <a:pt x="2453" y="1186"/>
                </a:lnTo>
                <a:lnTo>
                  <a:pt x="2456" y="1491"/>
                </a:lnTo>
                <a:lnTo>
                  <a:pt x="2696" y="1491"/>
                </a:lnTo>
                <a:lnTo>
                  <a:pt x="2696" y="1633"/>
                </a:lnTo>
                <a:lnTo>
                  <a:pt x="2576" y="1633"/>
                </a:lnTo>
                <a:lnTo>
                  <a:pt x="2573" y="1822"/>
                </a:lnTo>
                <a:lnTo>
                  <a:pt x="2360" y="1823"/>
                </a:lnTo>
                <a:lnTo>
                  <a:pt x="2360" y="2059"/>
                </a:lnTo>
                <a:lnTo>
                  <a:pt x="2236" y="2058"/>
                </a:lnTo>
                <a:lnTo>
                  <a:pt x="2236" y="2295"/>
                </a:lnTo>
                <a:lnTo>
                  <a:pt x="2120" y="2296"/>
                </a:lnTo>
                <a:lnTo>
                  <a:pt x="2120" y="2154"/>
                </a:lnTo>
                <a:lnTo>
                  <a:pt x="1910" y="2154"/>
                </a:lnTo>
                <a:lnTo>
                  <a:pt x="1910" y="1965"/>
                </a:lnTo>
                <a:lnTo>
                  <a:pt x="1784" y="1965"/>
                </a:lnTo>
                <a:lnTo>
                  <a:pt x="1784" y="1728"/>
                </a:lnTo>
                <a:lnTo>
                  <a:pt x="1544" y="1728"/>
                </a:lnTo>
                <a:lnTo>
                  <a:pt x="1544" y="1823"/>
                </a:lnTo>
                <a:lnTo>
                  <a:pt x="1352" y="1823"/>
                </a:lnTo>
                <a:lnTo>
                  <a:pt x="1352" y="1965"/>
                </a:lnTo>
                <a:lnTo>
                  <a:pt x="1448" y="1965"/>
                </a:lnTo>
                <a:lnTo>
                  <a:pt x="1448" y="2059"/>
                </a:lnTo>
                <a:lnTo>
                  <a:pt x="1544" y="2059"/>
                </a:lnTo>
                <a:lnTo>
                  <a:pt x="1545" y="2169"/>
                </a:lnTo>
                <a:lnTo>
                  <a:pt x="1448" y="2169"/>
                </a:lnTo>
                <a:lnTo>
                  <a:pt x="1448" y="2296"/>
                </a:lnTo>
                <a:lnTo>
                  <a:pt x="1688" y="2296"/>
                </a:lnTo>
                <a:lnTo>
                  <a:pt x="1688" y="2640"/>
                </a:lnTo>
              </a:path>
            </a:pathLst>
          </a:custGeom>
          <a:noFill/>
          <a:ln cap="rnd" w="50760">
            <a:solidFill>
              <a:srgbClr val="79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75080" y="1600200"/>
            <a:ext cx="304920" cy="304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68960" y="6477120"/>
            <a:ext cx="304560" cy="304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44480" y="63244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lrrllrrllrlrlrllrlrrllrrl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619760" cy="30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ow well does this work in practic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cula-Lee experi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2971800"/>
            <a:ext cx="1676160" cy="1447920"/>
          </a:xfrm>
          <a:prstGeom prst="flowChart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85800" y="4952880"/>
            <a:ext cx="1066320" cy="799920"/>
            <a:chOff x="685800" y="4952880"/>
            <a:chExt cx="1066320" cy="799920"/>
          </a:xfrm>
        </p:grpSpPr>
        <p:sp>
          <p:nvSpPr>
            <p:cNvPr id="253" name=""/>
            <p:cNvSpPr/>
            <p:nvPr/>
          </p:nvSpPr>
          <p:spPr>
            <a:xfrm>
              <a:off x="685800" y="4952880"/>
              <a:ext cx="1066320" cy="799920"/>
            </a:xfrm>
            <a:prstGeom prst="flowChartInputOutpu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3280" y="5182560"/>
              <a:ext cx="7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5" name=""/>
          <p:cNvCxnSpPr>
            <a:stCxn id="256" idx="1"/>
          </p:cNvCxnSpPr>
          <p:nvPr/>
        </p:nvCxnSpPr>
        <p:spPr>
          <a:xfrm flipV="1" rot="10800000">
            <a:off x="1218600" y="2246760"/>
            <a:ext cx="6096600" cy="1258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56" idx="2"/>
            <a:endCxn id="251" idx="3"/>
          </p:cNvCxnSpPr>
          <p:nvPr/>
        </p:nvCxnSpPr>
        <p:spPr>
          <a:xfrm rot="5400000">
            <a:off x="6575400" y="2499120"/>
            <a:ext cx="1173960" cy="12200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endCxn id="253" idx="1"/>
          </p:cNvCxnSpPr>
          <p:nvPr/>
        </p:nvCxnSpPr>
        <p:spPr>
          <a:xfrm>
            <a:off x="1218960" y="3885840"/>
            <a:ext cx="10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7315200" y="1905120"/>
            <a:ext cx="914400" cy="68580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3505320"/>
            <a:ext cx="914400" cy="38088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1" idx="1"/>
            <a:endCxn id="259" idx="3"/>
          </p:cNvCxnSpPr>
          <p:nvPr/>
        </p:nvCxnSpPr>
        <p:spPr>
          <a:xfrm flipH="1">
            <a:off x="4494960" y="3695400"/>
            <a:ext cx="381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9" idx="1"/>
            <a:endCxn id="262" idx="3"/>
          </p:cNvCxnSpPr>
          <p:nvPr/>
        </p:nvCxnSpPr>
        <p:spPr>
          <a:xfrm flipH="1">
            <a:off x="1485720" y="3695400"/>
            <a:ext cx="2095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3" name=""/>
          <p:cNvGrpSpPr/>
          <p:nvPr/>
        </p:nvGrpSpPr>
        <p:grpSpPr>
          <a:xfrm>
            <a:off x="1485720" y="3695400"/>
            <a:ext cx="3353760" cy="2738160"/>
            <a:chOff x="1485720" y="3695400"/>
            <a:chExt cx="3353760" cy="2738160"/>
          </a:xfrm>
        </p:grpSpPr>
        <p:sp>
          <p:nvSpPr>
            <p:cNvPr id="264" name=""/>
            <p:cNvSpPr/>
            <p:nvPr/>
          </p:nvSpPr>
          <p:spPr>
            <a:xfrm>
              <a:off x="2732400" y="5410080"/>
              <a:ext cx="210708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Si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small (&lt;52KB)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and fa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4" idx="1"/>
              <a:endCxn id="262" idx="3"/>
            </p:cNvCxnSpPr>
            <p:nvPr/>
          </p:nvCxnSpPr>
          <p:spPr>
            <a:xfrm rot="10800000">
              <a:off x="1485360" y="3695040"/>
              <a:ext cx="1028880" cy="2218320"/>
            </a:xfrm>
            <a:prstGeom prst="curvedConnector5">
              <a:avLst>
                <a:gd name="adj1" fmla="val 49982"/>
                <a:gd name="adj2" fmla="val 49991"/>
                <a:gd name="adj3" fmla="val 49982"/>
              </a:avLst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5714640" y="4419360"/>
            <a:ext cx="3207600" cy="1564920"/>
            <a:chOff x="5714640" y="4419360"/>
            <a:chExt cx="3207600" cy="1564920"/>
          </a:xfrm>
        </p:grpSpPr>
        <p:sp>
          <p:nvSpPr>
            <p:cNvPr id="267" name=""/>
            <p:cNvSpPr/>
            <p:nvPr/>
          </p:nvSpPr>
          <p:spPr>
            <a:xfrm>
              <a:off x="5853600" y="5334120"/>
              <a:ext cx="306864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No longer need 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trust this compon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67" idx="0"/>
              <a:endCxn id="251" idx="2"/>
            </p:cNvCxnSpPr>
            <p:nvPr/>
          </p:nvCxnSpPr>
          <p:spPr>
            <a:xfrm flipV="1" rot="16200000">
              <a:off x="6021000" y="4112640"/>
              <a:ext cx="915120" cy="1527840"/>
            </a:xfrm>
            <a:prstGeom prst="curvedConnector5">
              <a:avLst>
                <a:gd name="adj1" fmla="val 49980"/>
                <a:gd name="adj2" fmla="val 49988"/>
                <a:gd name="adj3" fmla="val 49980"/>
              </a:avLst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  <p:sp>
        <p:nvSpPr>
          <p:cNvPr id="262" name=""/>
          <p:cNvSpPr/>
          <p:nvPr/>
        </p:nvSpPr>
        <p:spPr>
          <a:xfrm>
            <a:off x="952560" y="3505320"/>
            <a:ext cx="533520" cy="380880"/>
          </a:xfrm>
          <a:prstGeom prst="flowChartProcess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hec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362320" y="1447920"/>
            <a:ext cx="4557600" cy="2095560"/>
            <a:chOff x="2362320" y="1447920"/>
            <a:chExt cx="4557600" cy="2095560"/>
          </a:xfrm>
        </p:grpSpPr>
        <p:sp>
          <p:nvSpPr>
            <p:cNvPr id="270" name=""/>
            <p:cNvSpPr/>
            <p:nvPr/>
          </p:nvSpPr>
          <p:spPr>
            <a:xfrm>
              <a:off x="2362320" y="1447920"/>
              <a:ext cx="45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Reasonable in size (0-10%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70" idx="2"/>
              <a:endCxn id="259" idx="0"/>
            </p:cNvCxnSpPr>
            <p:nvPr/>
          </p:nvCxnSpPr>
          <p:spPr>
            <a:xfrm rot="5400000">
              <a:off x="3520800" y="2422440"/>
              <a:ext cx="1639080" cy="603720"/>
            </a:xfrm>
            <a:prstGeom prst="curvedConnector5">
              <a:avLst>
                <a:gd name="adj1" fmla="val 48835"/>
                <a:gd name="adj2" fmla="val 50000"/>
                <a:gd name="adj3" fmla="val 48835"/>
              </a:avLst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200400"/>
            <a:ext cx="8076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crew member mistakenly entered a zero into the data field of an application, the computer system proceeded to divide another quantity by that zero.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 operation caused a buffer overflow, in which data leaked from a temporary storage space in memory, and the error eventually brought down the ship's propulsion syste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result: </a:t>
            </a:r>
            <a:r>
              <a:rPr b="1" i="1" lang="en-US" sz="2800" spc="-1" strike="noStrike">
                <a:solidFill>
                  <a:srgbClr val="790015"/>
                </a:solidFill>
                <a:latin typeface="Times New Roman"/>
              </a:rPr>
              <a:t>the USS Yorktown was dead in the water for more than two 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ypto test suite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35000" y="1300320"/>
          <a:ext cx="8810640" cy="49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300320"/>
                    <a:ext cx="881064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773280" y="29718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16256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ren’t the properties we’re trying to prove undecideab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ow on earth can we hope to generate the proof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generate the proof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ng theorems about real programs is indeed h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useful safety properties of low-level programs are undecid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orem-proving systems are unfamiliar to programmers and hard to use even for expe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ol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ivilized programming languages can provide “safety for fre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formed/well-type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af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79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Ide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rrange for the compiler to “explain” why the target code it generates preserves the safety properties of the source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rtifying Compiler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Necula &amp; Lee, PLDI’98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29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ui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iler “knows” why each translation step is semantics-preser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have it generate a proof that safety is pre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6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This is the planned topic for tomorrow’s l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rtifying compi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1600200"/>
            <a:ext cx="1676520" cy="1447920"/>
          </a:xfrm>
          <a:prstGeom prst="flowChart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85800" y="4952880"/>
            <a:ext cx="1066320" cy="799920"/>
            <a:chOff x="685800" y="4952880"/>
            <a:chExt cx="1066320" cy="799920"/>
          </a:xfrm>
        </p:grpSpPr>
        <p:sp>
          <p:nvSpPr>
            <p:cNvPr id="288" name=""/>
            <p:cNvSpPr/>
            <p:nvPr/>
          </p:nvSpPr>
          <p:spPr>
            <a:xfrm>
              <a:off x="685800" y="4952880"/>
              <a:ext cx="1066320" cy="799920"/>
            </a:xfrm>
            <a:prstGeom prst="flowChartInputOutpu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3280" y="5182560"/>
              <a:ext cx="7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036600" y="3047760"/>
            <a:ext cx="5941440" cy="2883240"/>
            <a:chOff x="3036600" y="3047760"/>
            <a:chExt cx="5941440" cy="2883240"/>
          </a:xfrm>
        </p:grpSpPr>
        <p:sp>
          <p:nvSpPr>
            <p:cNvPr id="291" name=""/>
            <p:cNvSpPr/>
            <p:nvPr/>
          </p:nvSpPr>
          <p:spPr>
            <a:xfrm>
              <a:off x="3373200" y="5105520"/>
              <a:ext cx="4617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90015"/>
                  </a:solidFill>
                  <a:latin typeface="Verdana"/>
                </a:rPr>
                <a:t>Looks and smells like a compil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36600" y="5562720"/>
              <a:ext cx="59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 spjc foo.java bar.class baz.c -ljdk1.2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3" name=""/>
            <p:cNvCxnSpPr>
              <a:stCxn id="291" idx="3"/>
              <a:endCxn id="286" idx="2"/>
            </p:cNvCxnSpPr>
            <p:nvPr/>
          </p:nvCxnSpPr>
          <p:spPr>
            <a:xfrm flipH="1" flipV="1">
              <a:off x="5943240" y="3047760"/>
              <a:ext cx="2372400" cy="2196000"/>
            </a:xfrm>
            <a:prstGeom prst="curvedConnector5">
              <a:avLst>
                <a:gd name="adj1" fmla="val -9637"/>
                <a:gd name="adj2" fmla="val 26561"/>
                <a:gd name="adj3" fmla="val -9637"/>
              </a:avLst>
            </a:prstGeom>
            <a:ln w="25560">
              <a:solidFill>
                <a:srgbClr val="790015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1212840" y="1828800"/>
            <a:ext cx="7397640" cy="3124080"/>
            <a:chOff x="1212840" y="1828800"/>
            <a:chExt cx="7397640" cy="3124080"/>
          </a:xfrm>
        </p:grpSpPr>
        <p:cxnSp>
          <p:nvCxnSpPr>
            <p:cNvPr id="295" name=""/>
            <p:cNvCxnSpPr/>
            <p:nvPr/>
          </p:nvCxnSpPr>
          <p:spPr>
            <a:xfrm flipV="1" rot="10800000">
              <a:off x="3199680" y="2323080"/>
              <a:ext cx="2439000" cy="762840"/>
            </a:xfrm>
            <a:prstGeom prst="bentConnector3">
              <a:avLst>
                <a:gd name="adj1" fmla="val 8637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6" idx="1"/>
              <a:endCxn id="297" idx="3"/>
            </p:cNvCxnSpPr>
            <p:nvPr/>
          </p:nvCxnSpPr>
          <p:spPr>
            <a:xfrm flipH="1">
              <a:off x="3199680" y="2323800"/>
              <a:ext cx="24390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/>
            <p:nvPr/>
          </p:nvCxnSpPr>
          <p:spPr>
            <a:xfrm>
              <a:off x="1218960" y="3809520"/>
              <a:ext cx="1080" cy="1143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7696080" y="1828800"/>
              <a:ext cx="914400" cy="990720"/>
            </a:xfrm>
            <a:prstGeom prst="flowChartPunchedTap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9" idx="1"/>
              <a:endCxn id="286" idx="3"/>
            </p:cNvCxnSpPr>
            <p:nvPr/>
          </p:nvCxnSpPr>
          <p:spPr>
            <a:xfrm flipH="1">
              <a:off x="7314840" y="2323800"/>
              <a:ext cx="3816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/>
            <p:nvPr/>
          </p:nvCxnSpPr>
          <p:spPr>
            <a:xfrm flipV="1" rot="10800000">
              <a:off x="1218600" y="2323080"/>
              <a:ext cx="2286720" cy="1181880"/>
            </a:xfrm>
            <a:prstGeom prst="bentConnector3">
              <a:avLst>
                <a:gd name="adj1" fmla="val 100267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/>
            <p:nvPr/>
          </p:nvCxnSpPr>
          <p:spPr>
            <a:xfrm flipV="1" rot="10800000">
              <a:off x="1485360" y="3085200"/>
              <a:ext cx="2019960" cy="610200"/>
            </a:xfrm>
            <a:prstGeom prst="bentConnector3">
              <a:avLst>
                <a:gd name="adj1" fmla="val 86631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3" name=""/>
            <p:cNvSpPr/>
            <p:nvPr/>
          </p:nvSpPr>
          <p:spPr>
            <a:xfrm>
              <a:off x="2286000" y="2895480"/>
              <a:ext cx="914400" cy="381240"/>
            </a:xfrm>
            <a:prstGeom prst="flowChartPunchedTap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ro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86000" y="1828800"/>
              <a:ext cx="914400" cy="990720"/>
            </a:xfrm>
            <a:prstGeom prst="flowChartPunchedTap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809880" y="1600200"/>
            <a:ext cx="1676520" cy="1447920"/>
          </a:xfrm>
          <a:prstGeom prst="flowChart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52560" y="3505320"/>
            <a:ext cx="533520" cy="380880"/>
          </a:xfrm>
          <a:prstGeom prst="flowChartProcess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hec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89000"/>
              </a:lnSpc>
              <a:spcBef>
                <a:spcPts val="32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va is a worthwhile subject of researc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32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ever, it contains many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outrageou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mostly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inexcusab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 erro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32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researchers, we should not forget that we have already done much better, and must continue to do better in the futu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391160" cy="398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Just what, exactly, are we proving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hat are the limi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nd isn’t static checking inherently less powerful than dynamic checking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the states of the target mach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5400"/>
                </a:solidFill>
                <a:latin typeface="Verdana"/>
              </a:rPr>
              <a:t> = (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>
                <a:solidFill>
                  <a:srgbClr val="0054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54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5400"/>
                </a:solidFill>
                <a:latin typeface="Verdana"/>
              </a:rPr>
              <a:t>pc</a:t>
            </a:r>
            <a:r>
              <a:rPr b="0" lang="en-US" sz="2800" spc="-1" strike="noStrike">
                <a:solidFill>
                  <a:srgbClr val="0054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119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a transition function 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Step(</a:t>
            </a:r>
            <a:r>
              <a:rPr b="0" i="1" lang="en-US" sz="32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also the safe machine states via the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safety policy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SP(</a:t>
            </a:r>
            <a:r>
              <a:rPr b="0" i="1" lang="en-US" sz="32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1469160" y="34606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gister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3657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gram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0920" y="32004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288"/>
                </a:moveTo>
                <a:cubicBezTo>
                  <a:pt x="56" y="264"/>
                  <a:pt x="112" y="240"/>
                  <a:pt x="144" y="192"/>
                </a:cubicBezTo>
                <a:cubicBezTo>
                  <a:pt x="176" y="144"/>
                  <a:pt x="184" y="72"/>
                  <a:pt x="19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14880" y="3200400"/>
            <a:ext cx="787320" cy="927000"/>
          </a:xfrm>
          <a:custGeom>
            <a:avLst/>
            <a:gdLst/>
            <a:ahLst/>
            <a:rect l="l" t="t" r="r" b="b"/>
            <a:pathLst>
              <a:path w="496" h="584">
                <a:moveTo>
                  <a:pt x="312" y="576"/>
                </a:moveTo>
                <a:cubicBezTo>
                  <a:pt x="404" y="580"/>
                  <a:pt x="496" y="584"/>
                  <a:pt x="456" y="528"/>
                </a:cubicBezTo>
                <a:cubicBezTo>
                  <a:pt x="416" y="472"/>
                  <a:pt x="144" y="328"/>
                  <a:pt x="72" y="240"/>
                </a:cubicBezTo>
                <a:cubicBezTo>
                  <a:pt x="0" y="152"/>
                  <a:pt x="12" y="76"/>
                  <a:pt x="2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3276720"/>
            <a:ext cx="762120" cy="76176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480" y="480"/>
                </a:moveTo>
                <a:cubicBezTo>
                  <a:pt x="376" y="448"/>
                  <a:pt x="272" y="416"/>
                  <a:pt x="192" y="336"/>
                </a:cubicBezTo>
                <a:cubicBezTo>
                  <a:pt x="112" y="256"/>
                  <a:pt x="56" y="12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mantics, cont’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n we have the following predicate for safe execu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Safe(</a:t>
            </a:r>
            <a:r>
              <a:rPr b="0" i="1" lang="en-US" sz="32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) = </a:t>
            </a:r>
            <a:r>
              <a:rPr b="0" lang="en-US" sz="3200" spc="-1" strike="noStrike">
                <a:solidFill>
                  <a:srgbClr val="005400"/>
                </a:solidFill>
                <a:latin typeface="Symbol"/>
                <a:ea typeface="Symbol"/>
              </a:rPr>
              <a:t></a:t>
            </a:r>
            <a:r>
              <a:rPr b="0" i="1" lang="en-US" sz="3200" spc="-1" strike="noStrike">
                <a:solidFill>
                  <a:srgbClr val="0054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:Nat. SP(Step</a:t>
            </a:r>
            <a:r>
              <a:rPr b="0" i="1" lang="en-US" sz="3200" spc="-1" strike="noStrike" baseline="30000">
                <a:solidFill>
                  <a:srgbClr val="0054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(</a:t>
            </a:r>
            <a:r>
              <a:rPr b="0" i="1" lang="en-US" sz="32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proof-carrying co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PCC = (</a:t>
            </a:r>
            <a:r>
              <a:rPr b="0" i="1" lang="en-US" sz="32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3200" spc="-1" strike="noStrike" baseline="-25000">
                <a:solidFill>
                  <a:srgbClr val="0054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:State, P:Safe(</a:t>
            </a:r>
            <a:r>
              <a:rPr b="0" i="1" lang="en-US" sz="3200" spc="-1" strike="noStrike">
                <a:solidFill>
                  <a:srgbClr val="005400"/>
                </a:solidFill>
                <a:latin typeface="Verdana"/>
              </a:rPr>
              <a:t>S</a:t>
            </a:r>
            <a:r>
              <a:rPr b="0" lang="en-US" sz="3200" spc="-1" strike="noStrike" baseline="-25000">
                <a:solidFill>
                  <a:srgbClr val="0054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5400"/>
                </a:solidFill>
                <a:latin typeface="Verdana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3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5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ording to CERT, buffer overflow attacks are the #1 exploit for network security attack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043880" y="533412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http://www.cert.org/summarie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Interpre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790015"/>
                </a:solidFill>
                <a:latin typeface="Verdana"/>
              </a:rPr>
              <a:t>reference interpreter (RI)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a standard interpreter extended with instrumentation to check the safety of each instruction before it is executed, and abort execution if anything unsafe is about to happ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other words, an RI is capable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only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fe execu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Interpreter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’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ference interpreter is never actually implemen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oint will be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to prove that execution of the code on the RI never aborts, and thus execution on the real hardware will be identical to execution on the R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 for y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162560" cy="367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that we require the code to execute no more tha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ru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such a safety property enforceable by an R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 for y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162560" cy="344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we require the code to terminate eventually.  Is such a safety property enforceable by an R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can’t be enforc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962000"/>
            <a:ext cx="8153280" cy="451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l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afety properties 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i="1" lang="en-US" sz="3200" spc="-1" strike="noStrike">
                <a:solidFill>
                  <a:srgbClr val="790015"/>
                </a:solidFill>
                <a:latin typeface="Verdana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0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 bad thing will happen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24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Liveness properties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i="1" lang="en-US" sz="3200" spc="-1" strike="noStrike">
                <a:solidFill>
                  <a:srgbClr val="790015"/>
                </a:solidFill>
                <a:latin typeface="Verdana"/>
              </a:rPr>
              <a:t>Not y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0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 good thing will eventually happen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023240" y="1447560"/>
            <a:ext cx="1511280" cy="1651320"/>
            <a:chOff x="7023240" y="1447560"/>
            <a:chExt cx="1511280" cy="1651320"/>
          </a:xfrm>
        </p:grpSpPr>
        <p:sp>
          <p:nvSpPr>
            <p:cNvPr id="331" name=""/>
            <p:cNvSpPr/>
            <p:nvPr/>
          </p:nvSpPr>
          <p:spPr>
            <a:xfrm>
              <a:off x="7023240" y="2197080"/>
              <a:ext cx="228600" cy="228600"/>
            </a:xfrm>
            <a:prstGeom prst="flowChartConnector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80440" y="1892160"/>
              <a:ext cx="228600" cy="228600"/>
            </a:xfrm>
            <a:prstGeom prst="flowChartConnector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80440" y="2502000"/>
              <a:ext cx="228600" cy="228600"/>
            </a:xfrm>
            <a:prstGeom prst="flowChartConnector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13960" y="1587600"/>
              <a:ext cx="228600" cy="228600"/>
            </a:xfrm>
            <a:prstGeom prst="flowChartConnector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13960" y="2197080"/>
              <a:ext cx="228600" cy="228600"/>
            </a:xfrm>
            <a:prstGeom prst="flowChartConnector">
              <a:avLst/>
            </a:pr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13960" y="2806560"/>
              <a:ext cx="228600" cy="228600"/>
            </a:xfrm>
            <a:prstGeom prst="flowChartConnector">
              <a:avLst/>
            </a:pr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1" idx="7"/>
              <a:endCxn id="332" idx="3"/>
            </p:cNvCxnSpPr>
            <p:nvPr/>
          </p:nvCxnSpPr>
          <p:spPr>
            <a:xfrm flipV="1">
              <a:off x="7218720" y="2086920"/>
              <a:ext cx="295560" cy="14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"/>
            <p:cNvCxnSpPr>
              <a:stCxn id="332" idx="7"/>
              <a:endCxn id="334" idx="3"/>
            </p:cNvCxnSpPr>
            <p:nvPr/>
          </p:nvCxnSpPr>
          <p:spPr>
            <a:xfrm flipV="1">
              <a:off x="7675920" y="1782000"/>
              <a:ext cx="372240" cy="14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"/>
            <p:cNvCxnSpPr>
              <a:stCxn id="331" idx="5"/>
              <a:endCxn id="333" idx="1"/>
            </p:cNvCxnSpPr>
            <p:nvPr/>
          </p:nvCxnSpPr>
          <p:spPr>
            <a:xfrm>
              <a:off x="7218720" y="2391840"/>
              <a:ext cx="295560" cy="14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"/>
            <p:cNvCxnSpPr>
              <a:stCxn id="333" idx="5"/>
              <a:endCxn id="336" idx="1"/>
            </p:cNvCxnSpPr>
            <p:nvPr/>
          </p:nvCxnSpPr>
          <p:spPr>
            <a:xfrm>
              <a:off x="7675920" y="2696760"/>
              <a:ext cx="372240" cy="14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"/>
            <p:cNvCxnSpPr>
              <a:stCxn id="333" idx="7"/>
              <a:endCxn id="335" idx="2"/>
            </p:cNvCxnSpPr>
            <p:nvPr/>
          </p:nvCxnSpPr>
          <p:spPr>
            <a:xfrm flipV="1">
              <a:off x="7675560" y="2310840"/>
              <a:ext cx="338760" cy="224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"/>
            <p:cNvCxnSpPr>
              <a:stCxn id="332" idx="5"/>
              <a:endCxn id="335" idx="1"/>
            </p:cNvCxnSpPr>
            <p:nvPr/>
          </p:nvCxnSpPr>
          <p:spPr>
            <a:xfrm>
              <a:off x="7675920" y="2087280"/>
              <a:ext cx="372240" cy="14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"/>
            <p:cNvCxnSpPr>
              <a:stCxn id="334" idx="7"/>
            </p:cNvCxnSpPr>
            <p:nvPr/>
          </p:nvCxnSpPr>
          <p:spPr>
            <a:xfrm flipV="1">
              <a:off x="8209080" y="1447560"/>
              <a:ext cx="262800" cy="173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"/>
            <p:cNvCxnSpPr>
              <a:stCxn id="335" idx="6"/>
            </p:cNvCxnSpPr>
            <p:nvPr/>
          </p:nvCxnSpPr>
          <p:spPr>
            <a:xfrm>
              <a:off x="8242200" y="2311200"/>
              <a:ext cx="292680" cy="38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"/>
            <p:cNvCxnSpPr>
              <a:stCxn id="336" idx="5"/>
            </p:cNvCxnSpPr>
            <p:nvPr/>
          </p:nvCxnSpPr>
          <p:spPr>
            <a:xfrm>
              <a:off x="8209080" y="3001680"/>
              <a:ext cx="262800" cy="9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ic vs dynamic chec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CC provides a basis for static enforcement of safety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ever, PCC is not just for static chec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CC can be used, for example, to verify that necessary dynamic checks are carried out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162560" cy="344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ven if the proof is valid, how do we know that it is a safety proof of the given progra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447920" y="3100320"/>
            <a:ext cx="2379600" cy="2386080"/>
            <a:chOff x="1447920" y="3100320"/>
            <a:chExt cx="2379600" cy="23860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1447920" y="3100320"/>
              <a:ext cx="195264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3048120" y="3252600"/>
              <a:ext cx="77940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6445080" y="2895480"/>
            <a:ext cx="1098720" cy="26672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362320" y="1752480"/>
            <a:ext cx="2209680" cy="1219320"/>
          </a:xfrm>
          <a:prstGeom prst="wedgeRoundRectCallout">
            <a:avLst>
              <a:gd name="adj1" fmla="val -45472"/>
              <a:gd name="adj2" fmla="val 6744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ase install and execut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4120" y="1600200"/>
            <a:ext cx="3429000" cy="1295280"/>
          </a:xfrm>
          <a:prstGeom prst="wedgeRoundRectCallout">
            <a:avLst>
              <a:gd name="adj1" fmla="val 6666"/>
              <a:gd name="adj2" fmla="val 67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, but let me quickly look over the instruction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297480" y="2967120"/>
            <a:ext cx="1474920" cy="2646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447920" y="3100320"/>
            <a:ext cx="1952640" cy="2386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6369120" y="2895480"/>
            <a:ext cx="1860480" cy="2743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724280" y="1523880"/>
            <a:ext cx="2286000" cy="1295640"/>
          </a:xfrm>
          <a:prstGeom prst="wedgeRoundRectCallout">
            <a:avLst>
              <a:gd name="adj1" fmla="val 46736"/>
              <a:gd name="adj2" fmla="val 8639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</a:t>
            </a:r>
            <a:r>
              <a:rPr b="1" lang="en-US" sz="2400" spc="-1" strike="noStrike">
                <a:solidFill>
                  <a:srgbClr val="790015"/>
                </a:solidFill>
                <a:latin typeface="Courier New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truction is dangero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15000" y="3733920"/>
            <a:ext cx="457200" cy="7596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2286000"/>
            <a:ext cx="1695240" cy="2028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57600" y="25146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1280" y="762120"/>
            <a:ext cx="1406520" cy="70380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uffer overflow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56960" y="27432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8480" y="167652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98600" y="27432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369120" y="2895480"/>
            <a:ext cx="186048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724280" y="1523880"/>
            <a:ext cx="2362320" cy="1295640"/>
          </a:xfrm>
          <a:prstGeom prst="wedgeRoundRectCallout">
            <a:avLst>
              <a:gd name="adj1" fmla="val 43615"/>
              <a:gd name="adj2" fmla="val 8639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prove that it is always sa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15000" y="3733920"/>
            <a:ext cx="457200" cy="7596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512720" y="2362320"/>
            <a:ext cx="1078200" cy="3276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369120" y="2895480"/>
            <a:ext cx="1860480" cy="2743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724280" y="1523880"/>
            <a:ext cx="2362320" cy="1295640"/>
          </a:xfrm>
          <a:prstGeom prst="wedgeRoundRectCallout">
            <a:avLst>
              <a:gd name="adj1" fmla="val 43615"/>
              <a:gd name="adj2" fmla="val 8639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prove that it is always sa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3733920"/>
            <a:ext cx="457200" cy="7596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1219320"/>
            <a:ext cx="4038480" cy="1143000"/>
          </a:xfrm>
          <a:prstGeom prst="wedgeRoundRectCallout">
            <a:avLst>
              <a:gd name="adj1" fmla="val -17490"/>
              <a:gd name="adj2" fmla="val 8597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!  Here’s the proof I got from my certifying Java compil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2249640" y="2514600"/>
            <a:ext cx="493560" cy="5796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287440" y="24685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819520" cy="26398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512720" y="2362320"/>
            <a:ext cx="107820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038480" y="1371600"/>
            <a:ext cx="3048120" cy="1600200"/>
          </a:xfrm>
          <a:prstGeom prst="wedgeRoundRectCallout">
            <a:avLst>
              <a:gd name="adj1" fmla="val 42865"/>
              <a:gd name="adj2" fmla="val 66865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proof checks out.  I believe you because I believe in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3733920"/>
            <a:ext cx="457200" cy="7596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2249640" y="2514600"/>
            <a:ext cx="493560" cy="5796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287440" y="24685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8200" y="620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49600" y="6203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afety poli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a method f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ing the dangerous instructions,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500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ing logical predicates whose validity implies that the instruction is safe to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actice, we will also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tions (pre/post-conditions) for each required entry point in the code, as well as the trusted AP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52880" y="1371600"/>
            <a:ext cx="3353040" cy="5257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371600"/>
            <a:ext cx="3048120" cy="3733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gh-level archit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076640"/>
            <a:ext cx="2590920" cy="4572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1523880"/>
            <a:ext cx="2590920" cy="20574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1905120"/>
            <a:ext cx="2590920" cy="1295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3657600"/>
            <a:ext cx="2590920" cy="1295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2280" y="5486400"/>
            <a:ext cx="2209680" cy="99072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24480" y="32767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50292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24004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09880" y="415296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3680" y="46800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10320" y="6248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952880" y="1371600"/>
            <a:ext cx="3353040" cy="5257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1371600"/>
            <a:ext cx="3048120" cy="3733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gh-level archit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4076640"/>
            <a:ext cx="2590920" cy="4572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1523880"/>
            <a:ext cx="2590920" cy="20574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81480" y="1905120"/>
            <a:ext cx="2590920" cy="1295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81480" y="3657600"/>
            <a:ext cx="2590920" cy="1295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72280" y="5486400"/>
            <a:ext cx="2209680" cy="99072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324480" y="32767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24480" y="50292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9880" y="24004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9880" y="415296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3680" y="46800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510320" y="6248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C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162560" cy="38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job of identifying dangerous instructions and generating predicates for them is performed via an old metho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Verdana"/>
              </a:rPr>
              <a:t>verification-condition gen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919240" y="2819520"/>
            <a:ext cx="33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0015"/>
                </a:solidFill>
                <a:latin typeface="Verdana"/>
              </a:rPr>
              <a:t>A Case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ase stu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case study, let us consider the problem of verifying that programs do not use more than a specified amount of some resour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848520" y="2895480"/>
            <a:ext cx="4569840" cy="3751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 ::=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i :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if e then s els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while e d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s 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us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 ::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i | 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e + e | e – e |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913360" y="3429000"/>
            <a:ext cx="315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Denotes the use of n pieces of the resource, where e evaluates t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97360" y="4800600"/>
            <a:ext cx="6222960" cy="800280"/>
          </a:xfrm>
          <a:custGeom>
            <a:avLst/>
            <a:gdLst/>
            <a:ahLst/>
            <a:rect l="l" t="t" r="r" b="b"/>
            <a:pathLst>
              <a:path w="3920" h="504">
                <a:moveTo>
                  <a:pt x="3360" y="0"/>
                </a:moveTo>
                <a:cubicBezTo>
                  <a:pt x="3640" y="104"/>
                  <a:pt x="3920" y="208"/>
                  <a:pt x="3552" y="288"/>
                </a:cubicBezTo>
                <a:cubicBezTo>
                  <a:pt x="3184" y="368"/>
                  <a:pt x="1744" y="504"/>
                  <a:pt x="1152" y="480"/>
                </a:cubicBezTo>
                <a:cubicBezTo>
                  <a:pt x="560" y="456"/>
                  <a:pt x="280" y="300"/>
                  <a:pt x="0" y="144"/>
                </a:cubicBezTo>
              </a:path>
            </a:pathLst>
          </a:custGeom>
          <a:noFill/>
          <a:ln w="25560">
            <a:solidFill>
              <a:srgbClr val="790015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e study, cont’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 normal circumstances, one would implement the statemen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7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such a way that every time it is executed, a run-time check is performed in order to determine whether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ieces of the resource are available (assuming e evaluates to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48040" y="0"/>
            <a:ext cx="512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e study, cont’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ever, this stinks because many times we should be able to infer that there are definitely available resourc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1307520" y="3962520"/>
            <a:ext cx="255816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 use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use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9880" y="33526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If somehow we know that there are </a:t>
            </a:r>
            <a:r>
              <a:rPr b="0" i="1" lang="en-US" sz="2400" spc="-1" strike="noStrike">
                <a:solidFill>
                  <a:srgbClr val="790015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9 available 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5273640"/>
            <a:ext cx="44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…</a:t>
            </a: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then certainly there is no need to check any of these us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2480" y="4076640"/>
            <a:ext cx="6489720" cy="851040"/>
          </a:xfrm>
          <a:custGeom>
            <a:avLst/>
            <a:gdLst/>
            <a:ahLst/>
            <a:rect l="l" t="t" r="r" b="b"/>
            <a:pathLst>
              <a:path w="4088" h="536">
                <a:moveTo>
                  <a:pt x="3504" y="24"/>
                </a:moveTo>
                <a:cubicBezTo>
                  <a:pt x="3796" y="104"/>
                  <a:pt x="4088" y="184"/>
                  <a:pt x="3792" y="264"/>
                </a:cubicBezTo>
                <a:cubicBezTo>
                  <a:pt x="3496" y="344"/>
                  <a:pt x="2256" y="536"/>
                  <a:pt x="1728" y="504"/>
                </a:cubicBezTo>
                <a:cubicBezTo>
                  <a:pt x="1200" y="472"/>
                  <a:pt x="912" y="144"/>
                  <a:pt x="624" y="72"/>
                </a:cubicBezTo>
                <a:cubicBezTo>
                  <a:pt x="336" y="0"/>
                  <a:pt x="168" y="36"/>
                  <a:pt x="0" y="72"/>
                </a:cubicBezTo>
              </a:path>
            </a:pathLst>
          </a:custGeom>
          <a:noFill/>
          <a:ln w="25560">
            <a:solidFill>
              <a:srgbClr val="790015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easy (well, probably) c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1985400" y="2209680"/>
            <a:ext cx="4844160" cy="283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rogram Sta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i &lt; 1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i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7800" y="5181480"/>
            <a:ext cx="315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We ought to be able to prove statically whether the uses are 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hopeless c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1757160" y="2755800"/>
            <a:ext cx="539280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rogram Dyna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read() !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interesting c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757160" y="1523880"/>
            <a:ext cx="5392800" cy="33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rogram Inte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N := read(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i &lt;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i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181480"/>
            <a:ext cx="483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0015"/>
                </a:solidFill>
                <a:latin typeface="Verdana"/>
              </a:rPr>
              <a:t>In principle, with just a single dynamic check, static proof ought to b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so intere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1377000" y="2209680"/>
            <a:ext cx="6490080" cy="33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rogram AlsoInte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read() !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 i &lt;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 := i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re principle of PC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42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he cod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plementation of a safety-critical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ould be </a:t>
            </a: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separa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r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9000"/>
              </a:lnSpc>
              <a:spcBef>
                <a:spcPts val="1749"/>
              </a:spcBef>
              <a:buClr>
                <a:srgbClr val="0054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plementation of its safety che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arating use from ch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what we would like to do is to separate the safety check from the 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o this by introducing a new construct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cqu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cqui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s n amount of resource;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longer does any chec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4334760" y="2644920"/>
            <a:ext cx="4569840" cy="265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 ::=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i :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if e then s els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while e d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s 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us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acquir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aration permits opti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35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int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cqui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o allow the programmer (or compiler) to hoist and coalesce the che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1002960" y="2666880"/>
            <a:ext cx="2558160" cy="265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quire 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 use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use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11760" y="2590920"/>
            <a:ext cx="3838320" cy="3020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quire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i++ &lt; n) 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520" y="5823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be up to PCC to verify that each use is definitely safe to 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952880" y="1371600"/>
            <a:ext cx="3353040" cy="5257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1371600"/>
            <a:ext cx="3048120" cy="3733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gh-level archit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4076640"/>
            <a:ext cx="2590920" cy="4572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1523880"/>
            <a:ext cx="2590920" cy="20574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81480" y="1905120"/>
            <a:ext cx="2590920" cy="1295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81480" y="3657600"/>
            <a:ext cx="2590920" cy="1295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72280" y="5486400"/>
            <a:ext cx="2209680" cy="99072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24480" y="32767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324480" y="50292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24004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09880" y="415296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3680" y="46800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10320" y="6248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97080"/>
            <a:ext cx="91440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motive analo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5807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40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automobile had followed the same development as the computer, a Rolls-Royce would today cost $100, get a million miles per gallon, and 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22:10:32Z</dcterms:created>
  <dc:creator>Peter Lee</dc:creator>
  <dc:description/>
  <cp:keywords/>
  <dc:language>en-US</dc:language>
  <cp:lastModifiedBy>Peter Lee</cp:lastModifiedBy>
  <cp:lastPrinted>1999-01-11T22:39:52Z</cp:lastPrinted>
  <dcterms:modified xsi:type="dcterms:W3CDTF">2004-06-22T04:30:21Z</dcterms:modified>
  <cp:revision>261</cp:revision>
  <dc:subject/>
  <dc:title>Mobility, Security, and Proof-Carrying Code</dc:title>
</cp:coreProperties>
</file>