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3D5-57A0-4778-81E4-40446F80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92D-9614-4506-931C-3E0A2D8A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998-11F6-4D50-ACD0-08577BF6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F74-BB86-4B49-8EEA-DE5AD4B6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60D5-CD7B-4034-A218-3F742689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F6D1-52DC-46BB-9825-7AC3A279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A733-1E74-476D-88A8-43827BA6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7584-691D-42E9-BD00-67EDDBAE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0D05-7BB0-427B-8399-7C0FF116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0F27-39CD-4BBC-BA01-3439B8E1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944B-61FE-490D-AF5B-BFE1DD34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614-7AD5-427F-A84A-19228F83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1637-38C2-4D01-8B77-CBE138A4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7DF7-D3D3-43DB-A238-82C70897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662B-E8A8-4E08-876C-95BAED90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507F-D934-4810-8BA3-42B97A69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148C-C107-4D7A-87AC-9D46B1D4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B9A-F5CF-4274-997F-A618C042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DDF-20EC-4101-A296-C7CBBA7F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FA9-D5C2-4E4C-907D-DE5C45E3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550-78DA-4836-83F2-ADB2203D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ED8-EF6D-4251-A930-2129DCA8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212-0873-41A4-B237-01219C1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A53-305F-4FC7-AB53-F91127E3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B6E1-FF8F-4B34-A3E0-5E55BC686FE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019D-CBEE-4B2F-B201-58923751107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NTFS 5.0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2895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ffrey Rich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Luis Felipe Cabr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638680"/>
            <a:ext cx="4572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Microsoft Systems Jou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ed by Stylianos Papariz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Quot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k quota support is build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x quo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rning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min tools that allow administrator to see every user’s quota data visual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95480" y="228600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FT Master File Table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ilar to FAT*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File Allocation Table the File System that Microsoft uses in DOS, Windows 95/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tually 1KB entries for every fi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le or Directory Attribut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Descrip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Root, Allocation and Bit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rea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2133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amed and named data 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a .BMP file and its thumbn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ument and its updated vers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 disadvantage is backward compatibility with FAT, so floppy disks, cdroms don’t support this fe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ard Link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Link allows a file to have multiple path names within a singl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ne header file in many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 similar to UNIX since the POSIX subsystem requires it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You can’t make a hard link of a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le Stream Compre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FS can automatically compress all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breaks stream into compression units and then compresses every one of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Drawb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PU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 it is not the default option in NT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parse Strea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2840" y="25146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treams with holes i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 function to Compressed Str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implement a Fil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Encrypted Strea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on from “bad” gu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ually file shows up in a “dir” command but no one can actually see its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at least one recovery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 employee can’t lock the disk when he is fired from the compan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parse Poi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a piece of code to be executed when a directory is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an be up to 16KB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creating directory j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links for directories e.g. c:\cdrom points to the actual CD-ROM dr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02:44:58Z</dcterms:created>
  <dc:creator>Stelios Paparizos</dc:creator>
  <dc:description/>
  <dc:language>en-US</dc:language>
  <cp:lastModifiedBy>Stelios Paparizos</cp:lastModifiedBy>
  <dcterms:modified xsi:type="dcterms:W3CDTF">1999-12-06T15:54:23Z</dcterms:modified>
  <cp:revision>12</cp:revision>
  <dc:subject/>
  <dc:title>NTFS 5.0</dc:title>
</cp:coreProperties>
</file>